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844-DC68-43F1-A5BB-8D6AA14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6AD-DE60-418C-A413-5C756075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10F-98CA-48A8-9DA0-1E9D6739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051-D3F8-4564-930E-66444FA6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39C-BF04-4578-B9C3-AAEB23E2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C0A-9D86-4957-A56D-AB273C04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93C-5BF4-4B67-8A91-5C12C20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8E8-0B10-4D1C-950B-4153A4FF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FEF-F34C-4261-88FD-6C8F9612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99A-AF42-4B35-88AF-0CA2796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410-54B8-4D02-B239-749A50BA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DAC-A927-4C3B-ADF3-4E37A50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7B0C-812D-488F-B6B6-5569D95126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4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4.wmf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92280" y="0"/>
            <a:ext cx="6858000" cy="9944280"/>
            <a:chOff x="692280" y="0"/>
            <a:chExt cx="6858000" cy="9944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692280" y="0"/>
              <a:ext cx="6858000" cy="994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1024200" y="571320"/>
              <a:ext cx="6210000" cy="8994240"/>
              <a:chOff x="1024200" y="571320"/>
              <a:chExt cx="6210000" cy="89942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3899880" y="571320"/>
                <a:ext cx="3334320" cy="8994240"/>
                <a:chOff x="3899880" y="571320"/>
                <a:chExt cx="3334320" cy="899424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6580440" y="57132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إ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580440" y="121896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ب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580440" y="186660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6580440" y="251460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ث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6580440" y="3162960"/>
                  <a:ext cx="653760" cy="554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ج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6580440" y="3810600"/>
                  <a:ext cx="653760" cy="554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ح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6580440" y="445860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خ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5003280" y="75636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99880" y="57132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899880" y="121896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899880" y="186660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99880" y="251460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899880" y="3162960"/>
                  <a:ext cx="969120" cy="554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899880" y="3810600"/>
                  <a:ext cx="969120" cy="554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899880" y="445860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99880" y="510624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899880" y="575424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899880" y="6401880"/>
                  <a:ext cx="96912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580440" y="510624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د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80440" y="575424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ذ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580440" y="6401880"/>
                  <a:ext cx="65376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ر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003280" y="131148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003280" y="1959840"/>
                  <a:ext cx="1261440" cy="276840"/>
                </a:xfrm>
                <a:prstGeom prst="leftArrow">
                  <a:avLst>
                    <a:gd name="adj1" fmla="val 50000"/>
                    <a:gd name="adj2" fmla="val 113914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03280" y="260748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003280" y="325548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003280" y="390312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003280" y="464328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03280" y="5291640"/>
                  <a:ext cx="1261440" cy="276840"/>
                </a:xfrm>
                <a:prstGeom prst="leftArrow">
                  <a:avLst>
                    <a:gd name="adj1" fmla="val 50000"/>
                    <a:gd name="adj2" fmla="val 113914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003280" y="593964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003280" y="6587280"/>
                  <a:ext cx="1261440" cy="277560"/>
                </a:xfrm>
                <a:prstGeom prst="leftArrow">
                  <a:avLst>
                    <a:gd name="adj1" fmla="val 50000"/>
                    <a:gd name="adj2" fmla="val 113619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3899880" y="7067520"/>
                  <a:ext cx="3318480" cy="2498040"/>
                  <a:chOff x="3899880" y="7067520"/>
                  <a:chExt cx="3318480" cy="24980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6568200" y="7067520"/>
                    <a:ext cx="65016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ز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ِ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568200" y="7715160"/>
                    <a:ext cx="65016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س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ِ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568200" y="8362800"/>
                    <a:ext cx="65016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ِ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568200" y="9010440"/>
                    <a:ext cx="65016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ص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ِ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998600" y="7252560"/>
                    <a:ext cx="1255320" cy="277560"/>
                  </a:xfrm>
                  <a:prstGeom prst="leftArrow">
                    <a:avLst>
                      <a:gd name="adj1" fmla="val 50000"/>
                      <a:gd name="adj2" fmla="val 113067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899880" y="7067520"/>
                    <a:ext cx="96408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899880" y="7715160"/>
                    <a:ext cx="96408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899880" y="8362800"/>
                    <a:ext cx="96408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3899880" y="9010440"/>
                    <a:ext cx="964080" cy="5551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4998600" y="7807320"/>
                    <a:ext cx="1255320" cy="277560"/>
                  </a:xfrm>
                  <a:prstGeom prst="leftArrow">
                    <a:avLst>
                      <a:gd name="adj1" fmla="val 50000"/>
                      <a:gd name="adj2" fmla="val 113067"/>
                    </a:avLst>
                  </a:pr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4998600" y="8455680"/>
                    <a:ext cx="1255320" cy="276840"/>
                  </a:xfrm>
                  <a:prstGeom prst="leftArrow">
                    <a:avLst>
                      <a:gd name="adj1" fmla="val 50000"/>
                      <a:gd name="adj2" fmla="val 113362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998600" y="9103680"/>
                    <a:ext cx="1255320" cy="277560"/>
                  </a:xfrm>
                  <a:prstGeom prst="leftArrow">
                    <a:avLst>
                      <a:gd name="adj1" fmla="val 50000"/>
                      <a:gd name="adj2" fmla="val 1130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1024200" y="1028520"/>
                <a:ext cx="2875680" cy="8458200"/>
                <a:chOff x="1024200" y="1028520"/>
                <a:chExt cx="2875680" cy="84582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134720" y="1028520"/>
                  <a:ext cx="2212200" cy="3200400"/>
                </a:xfrm>
                <a:prstGeom prst="cloudCallout">
                  <a:avLst>
                    <a:gd name="adj1" fmla="val -12111"/>
                    <a:gd name="adj2" fmla="val 8881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34720" y="1828440"/>
                  <a:ext cx="2212200" cy="205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وازن بين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كسرة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المد بالياء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24200" y="5600520"/>
                  <a:ext cx="2875680" cy="388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55" name=""/>
          <p:cNvSpPr/>
          <p:nvPr/>
        </p:nvSpPr>
        <p:spPr>
          <a:xfrm>
            <a:off x="331920" y="209520"/>
            <a:ext cx="6084720" cy="8197920"/>
          </a:xfrm>
          <a:custGeom>
            <a:avLst/>
            <a:gdLst>
              <a:gd name="textAreaLeft" fmla="*/ 297000 w 6084720"/>
              <a:gd name="textAreaRight" fmla="*/ 5787720 w 6084720"/>
              <a:gd name="textAreaTop" fmla="*/ 297000 h 8197920"/>
              <a:gd name="textAreaBottom" fmla="*/ 7900920 h 8197920"/>
            </a:gdLst>
            <a:ahLst/>
            <a:rect l="textAreaLeft" t="textAreaTop" r="textAreaRight" b="textAreaBottom"/>
            <a:pathLst>
              <a:path w="21600" h="29101">
                <a:moveTo>
                  <a:pt x="3600" y="0"/>
                </a:moveTo>
                <a:arcTo wR="3600" hR="3600" stAng="16200000" swAng="-5400000"/>
                <a:lnTo>
                  <a:pt x="0" y="25501"/>
                </a:lnTo>
                <a:arcTo wR="3600" hR="3600" stAng="10800000" swAng="-5400000"/>
                <a:lnTo>
                  <a:pt x="18000" y="291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111240" y="946080"/>
            <a:ext cx="6549840" cy="7776720"/>
            <a:chOff x="111240" y="946080"/>
            <a:chExt cx="6549840" cy="7776720"/>
          </a:xfrm>
        </p:grpSpPr>
        <p:pic>
          <p:nvPicPr>
            <p:cNvPr id="1557" name="" descr=""/>
            <p:cNvPicPr/>
            <p:nvPr/>
          </p:nvPicPr>
          <p:blipFill>
            <a:blip r:embed="rId2"/>
            <a:stretch/>
          </p:blipFill>
          <p:spPr>
            <a:xfrm>
              <a:off x="111240" y="6516000"/>
              <a:ext cx="1976760" cy="220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8" name=""/>
            <p:cNvGrpSpPr/>
            <p:nvPr/>
          </p:nvGrpSpPr>
          <p:grpSpPr>
            <a:xfrm>
              <a:off x="996120" y="946080"/>
              <a:ext cx="4108320" cy="6621120"/>
              <a:chOff x="996120" y="946080"/>
              <a:chExt cx="4108320" cy="6621120"/>
            </a:xfrm>
          </p:grpSpPr>
          <p:sp>
            <p:nvSpPr>
              <p:cNvPr id="1559" name=""/>
              <p:cNvSpPr/>
              <p:nvPr/>
            </p:nvSpPr>
            <p:spPr>
              <a:xfrm>
                <a:off x="4093200" y="609588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تي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208320" y="609588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4093200" y="683172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شمْ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208320" y="683172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ع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535640" y="101592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و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650760" y="100188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حـ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765880" y="100188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ب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35640" y="173772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صـ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650760" y="172368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765880" y="172368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ح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535640" y="241740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بـ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650760" y="241740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حـ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765880" y="241740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ر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535640" y="316692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فـ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650760" y="315288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ر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65880" y="315288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خ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535640" y="388872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صـ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650760" y="3888720"/>
                <a:ext cx="5529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ـدي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765880" y="388872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ق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535640" y="462456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ل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650760" y="462456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عـ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765880" y="462456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ب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535640" y="536004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ر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650760" y="536004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ي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765880" y="5360040"/>
                <a:ext cx="56880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ح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765880" y="946080"/>
                <a:ext cx="0" cy="504468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318840" y="946080"/>
                <a:ext cx="0" cy="5044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203720" y="946080"/>
                <a:ext cx="0" cy="50446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50760" y="946080"/>
                <a:ext cx="0" cy="50446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088960" y="946080"/>
                <a:ext cx="0" cy="504468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535640" y="946080"/>
                <a:ext cx="0" cy="50446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093200" y="6095880"/>
                <a:ext cx="0" cy="147132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208320" y="5990760"/>
                <a:ext cx="0" cy="1471320"/>
              </a:xfrm>
              <a:prstGeom prst="line">
                <a:avLst/>
              </a:prstGeom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996120" y="94608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996120" y="168156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996120" y="241740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996120" y="315288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996120" y="388872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996120" y="462456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996120" y="5360040"/>
                <a:ext cx="165924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49080" y="6095880"/>
                <a:ext cx="15483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549080" y="6831720"/>
                <a:ext cx="1548360" cy="52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200" spc="-1" strike="noStrike">
                    <a:solidFill>
                      <a:srgbClr val="000000"/>
                    </a:solidFill>
                    <a:latin typeface="Times New Roman"/>
                  </a:rPr>
                  <a:t>.........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4646520" y="5990760"/>
                <a:ext cx="0" cy="14713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61280" y="5990760"/>
                <a:ext cx="0" cy="147132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4646160" y="1996920"/>
              <a:ext cx="2014920" cy="6516000"/>
              <a:chOff x="4646160" y="1996920"/>
              <a:chExt cx="2014920" cy="6516000"/>
            </a:xfrm>
          </p:grpSpPr>
          <p:pic>
            <p:nvPicPr>
              <p:cNvPr id="16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6160" y="5044680"/>
                <a:ext cx="2014920" cy="3468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05" name=""/>
              <p:cNvGrpSpPr/>
              <p:nvPr/>
            </p:nvGrpSpPr>
            <p:grpSpPr>
              <a:xfrm>
                <a:off x="5199120" y="1996920"/>
                <a:ext cx="1327320" cy="2417040"/>
                <a:chOff x="5199120" y="1996920"/>
                <a:chExt cx="1327320" cy="241704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5199120" y="1996920"/>
                  <a:ext cx="1327320" cy="2417040"/>
                </a:xfrm>
                <a:prstGeom prst="wedgeEllipseCallout">
                  <a:avLst>
                    <a:gd name="adj1" fmla="val -16111"/>
                    <a:gd name="adj2" fmla="val 73236"/>
                  </a:avLst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199120" y="2522160"/>
                  <a:ext cx="1327320" cy="147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ركب من الحروف والمقاطع        كلمات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08" name="" descr=""/>
          <p:cNvPicPr/>
          <p:nvPr/>
        </p:nvPicPr>
        <p:blipFill>
          <a:blip r:embed="rId4"/>
          <a:stretch/>
        </p:blipFill>
        <p:spPr>
          <a:xfrm>
            <a:off x="5310360" y="104760"/>
            <a:ext cx="1176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36720" y="0"/>
              <a:ext cx="682128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0" y="651600"/>
              <a:ext cx="6601320" cy="8093160"/>
              <a:chOff x="0" y="651600"/>
              <a:chExt cx="6601320" cy="8093160"/>
            </a:xfrm>
          </p:grpSpPr>
          <p:sp>
            <p:nvSpPr>
              <p:cNvPr id="95" name=""/>
              <p:cNvSpPr/>
              <p:nvPr/>
            </p:nvSpPr>
            <p:spPr>
              <a:xfrm>
                <a:off x="235800" y="861840"/>
                <a:ext cx="6161400" cy="7882920"/>
              </a:xfrm>
              <a:custGeom>
                <a:avLst/>
                <a:gdLst>
                  <a:gd name="textAreaLeft" fmla="*/ 300600 w 6161400"/>
                  <a:gd name="textAreaRight" fmla="*/ 5860800 w 6161400"/>
                  <a:gd name="textAreaTop" fmla="*/ 300600 h 7882920"/>
                  <a:gd name="textAreaBottom" fmla="*/ 7582320 h 7882920"/>
                </a:gdLst>
                <a:ahLst/>
                <a:rect l="textAreaLeft" t="textAreaTop" r="textAreaRight" b="textAreaBottom"/>
                <a:pathLst>
                  <a:path w="21600" h="27635">
                    <a:moveTo>
                      <a:pt x="3600" y="0"/>
                    </a:moveTo>
                    <a:arcTo wR="3600" hR="3600" stAng="16200000" swAng="-5400000"/>
                    <a:lnTo>
                      <a:pt x="0" y="24035"/>
                    </a:lnTo>
                    <a:arcTo wR="3600" hR="3600" stAng="10800000" swAng="-5400000"/>
                    <a:lnTo>
                      <a:pt x="18000" y="276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090520" y="1436400"/>
                <a:ext cx="2986200" cy="6095880"/>
                <a:chOff x="2090520" y="1436400"/>
                <a:chExt cx="2986200" cy="60958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512600" y="1436400"/>
                  <a:ext cx="564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512600" y="187524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ب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512600" y="231444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512600" y="275364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ث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12600" y="319248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ج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512600" y="363168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ح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12600" y="407088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خ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090520" y="1436400"/>
                  <a:ext cx="8359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090520" y="187524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0520" y="231444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090520" y="275364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90520" y="319248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090520" y="363168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090520" y="407088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090520" y="451008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090520" y="4948920"/>
                  <a:ext cx="8359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090520" y="5387760"/>
                  <a:ext cx="8359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512600" y="451008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د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12600" y="494892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ذ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512600" y="5387760"/>
                  <a:ext cx="564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ر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501440" y="5838840"/>
                  <a:ext cx="5608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ز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01440" y="6278040"/>
                  <a:ext cx="5608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س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01440" y="6717240"/>
                  <a:ext cx="5608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ش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01440" y="7155720"/>
                  <a:ext cx="5608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ص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90520" y="5838840"/>
                  <a:ext cx="8316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090520" y="6278040"/>
                  <a:ext cx="831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090520" y="6717240"/>
                  <a:ext cx="831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090520" y="7155720"/>
                  <a:ext cx="8316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3080160" y="1541520"/>
                  <a:ext cx="1209960" cy="5990400"/>
                  <a:chOff x="3080160" y="1541520"/>
                  <a:chExt cx="1209960" cy="5990400"/>
                </a:xfrm>
              </p:grpSpPr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flipH="1">
                    <a:off x="3080160" y="154152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flipH="1">
                    <a:off x="3080160" y="196164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flipH="1">
                    <a:off x="3080160" y="238212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flipH="1">
                    <a:off x="3080160" y="280260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flipH="1">
                    <a:off x="3080160" y="322308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 flipH="1">
                    <a:off x="3080160" y="364356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flipH="1">
                    <a:off x="3080160" y="406368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flipH="1">
                    <a:off x="3080160" y="448416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flipH="1">
                    <a:off x="3080160" y="500976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flipH="1">
                    <a:off x="3080160" y="543024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flipH="1">
                    <a:off x="3080160" y="585072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flipH="1">
                    <a:off x="3080160" y="627120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flipH="1">
                    <a:off x="3080160" y="679680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flipH="1">
                    <a:off x="3080160" y="7216920"/>
                    <a:ext cx="120996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5061240" y="6481440"/>
                <a:ext cx="1540080" cy="2062800"/>
                <a:chOff x="5061240" y="6481440"/>
                <a:chExt cx="1540080" cy="2062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061240" y="6481440"/>
                  <a:ext cx="1540080" cy="206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 txBox="1"/>
                <p:nvPr/>
              </p:nvSpPr>
              <p:spPr>
                <a:xfrm rot="1021200">
                  <a:off x="5170680" y="7693200"/>
                  <a:ext cx="1209960" cy="315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فتحة 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0" y="4540320"/>
                <a:ext cx="1738440" cy="4151520"/>
                <a:chOff x="0" y="4540320"/>
                <a:chExt cx="1738440" cy="415152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0" y="4540320"/>
                  <a:ext cx="1738440" cy="415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 txBox="1"/>
                <p:nvPr/>
              </p:nvSpPr>
              <p:spPr>
                <a:xfrm>
                  <a:off x="550080" y="5065560"/>
                  <a:ext cx="1100160" cy="42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مد بالألف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1650240" y="651600"/>
                <a:ext cx="3410640" cy="44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وازن بين الفتحة والمد بالألف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"/>
            <p:cNvGrpSpPr/>
            <p:nvPr/>
          </p:nvGrpSpPr>
          <p:grpSpPr>
            <a:xfrm>
              <a:off x="110520" y="581400"/>
              <a:ext cx="6636600" cy="8093160"/>
              <a:chOff x="110520" y="581400"/>
              <a:chExt cx="6636600" cy="8093160"/>
            </a:xfrm>
          </p:grpSpPr>
          <p:sp>
            <p:nvSpPr>
              <p:cNvPr id="150" name=""/>
              <p:cNvSpPr/>
              <p:nvPr/>
            </p:nvSpPr>
            <p:spPr>
              <a:xfrm>
                <a:off x="347400" y="791640"/>
                <a:ext cx="6194160" cy="7882920"/>
              </a:xfrm>
              <a:custGeom>
                <a:avLst/>
                <a:gdLst>
                  <a:gd name="textAreaLeft" fmla="*/ 302040 w 6194160"/>
                  <a:gd name="textAreaRight" fmla="*/ 5892120 w 6194160"/>
                  <a:gd name="textAreaTop" fmla="*/ 302040 h 7882920"/>
                  <a:gd name="textAreaBottom" fmla="*/ 7580880 h 7882920"/>
                </a:gdLst>
                <a:ahLst/>
                <a:rect l="textAreaLeft" t="textAreaTop" r="textAreaRight" b="textAreaBottom"/>
                <a:pathLst>
                  <a:path w="21600" h="27489">
                    <a:moveTo>
                      <a:pt x="3600" y="0"/>
                    </a:moveTo>
                    <a:arcTo wR="3600" hR="3600" stAng="16200000" swAng="-5400000"/>
                    <a:lnTo>
                      <a:pt x="0" y="23889"/>
                    </a:lnTo>
                    <a:arcTo wR="3600" hR="3600" stAng="10800000" swAng="-5400000"/>
                    <a:lnTo>
                      <a:pt x="18000" y="2748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212200" y="1366200"/>
                <a:ext cx="3002400" cy="6095880"/>
                <a:chOff x="2212200" y="1366200"/>
                <a:chExt cx="3002400" cy="6095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647600" y="1366200"/>
                  <a:ext cx="5670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ض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47600" y="18050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ط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647600" y="22442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ظ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647600" y="26834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ع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647600" y="312228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غ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47600" y="356148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ف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647600" y="400068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12200" y="1366200"/>
                  <a:ext cx="8406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212200" y="18050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212200" y="22442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12200" y="26834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212200" y="312228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2200" y="356148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12200" y="400068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212200" y="443988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212200" y="487872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12200" y="5317560"/>
                  <a:ext cx="8406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647600" y="443988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ك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47600" y="487872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ل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47600" y="5317560"/>
                  <a:ext cx="5670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م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36440" y="5768640"/>
                  <a:ext cx="564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ن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636440" y="620784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ـ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636440" y="664704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636440" y="7085520"/>
                  <a:ext cx="564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ي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212200" y="5768640"/>
                  <a:ext cx="8362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12200" y="6207840"/>
                  <a:ext cx="836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212200" y="6647040"/>
                  <a:ext cx="836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12200" y="7085520"/>
                  <a:ext cx="8362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207240" y="1471320"/>
                  <a:ext cx="1216440" cy="5990400"/>
                  <a:chOff x="3207240" y="1471320"/>
                  <a:chExt cx="1216440" cy="5990400"/>
                </a:xfrm>
              </p:grpSpPr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flipH="1">
                    <a:off x="3207240" y="147132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flipH="1">
                    <a:off x="3207240" y="189144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flipH="1">
                    <a:off x="3207240" y="231192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flipH="1">
                    <a:off x="3207240" y="273240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flipH="1">
                    <a:off x="3207240" y="315288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 flipH="1">
                    <a:off x="3207240" y="357336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 flipH="1">
                    <a:off x="3207240" y="399348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 flipH="1">
                    <a:off x="3207240" y="441396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flipH="1">
                    <a:off x="3207240" y="493956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flipH="1">
                    <a:off x="3207240" y="536004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flipH="1">
                    <a:off x="3207240" y="578052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 flipH="1">
                    <a:off x="3207240" y="620100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 flipH="1">
                    <a:off x="3207240" y="672660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9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 flipH="1">
                    <a:off x="3207240" y="7146720"/>
                    <a:ext cx="1216440" cy="3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5198760" y="6411240"/>
                <a:ext cx="1548360" cy="2062800"/>
                <a:chOff x="5198760" y="6411240"/>
                <a:chExt cx="1548360" cy="2062800"/>
              </a:xfrm>
            </p:grpSpPr>
            <p:pic>
              <p:nvPicPr>
                <p:cNvPr id="19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198760" y="6411240"/>
                  <a:ext cx="1548360" cy="206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"/>
                <p:cNvSpPr txBox="1"/>
                <p:nvPr/>
              </p:nvSpPr>
              <p:spPr>
                <a:xfrm rot="1021200">
                  <a:off x="5308920" y="7623360"/>
                  <a:ext cx="1216440" cy="315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فتحة 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10520" y="4470120"/>
                <a:ext cx="1747800" cy="4151520"/>
                <a:chOff x="110520" y="4470120"/>
                <a:chExt cx="1747800" cy="4151520"/>
              </a:xfrm>
            </p:grpSpPr>
            <p:pic>
              <p:nvPicPr>
                <p:cNvPr id="19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10520" y="4470120"/>
                  <a:ext cx="1747800" cy="415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"/>
                <p:cNvSpPr txBox="1"/>
                <p:nvPr/>
              </p:nvSpPr>
              <p:spPr>
                <a:xfrm>
                  <a:off x="663480" y="4995360"/>
                  <a:ext cx="1106280" cy="42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مد بالألف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1769760" y="581400"/>
                <a:ext cx="3428640" cy="44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وازن بين الفتحة والمد بالألف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"/>
            <p:cNvGrpSpPr/>
            <p:nvPr/>
          </p:nvGrpSpPr>
          <p:grpSpPr>
            <a:xfrm>
              <a:off x="331560" y="686520"/>
              <a:ext cx="6210360" cy="8092800"/>
              <a:chOff x="331560" y="686520"/>
              <a:chExt cx="6210360" cy="80928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31560" y="686520"/>
                <a:ext cx="6210360" cy="8092800"/>
                <a:chOff x="331560" y="686520"/>
                <a:chExt cx="6210360" cy="8092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47400" y="896400"/>
                  <a:ext cx="6194520" cy="7882920"/>
                </a:xfrm>
                <a:custGeom>
                  <a:avLst/>
                  <a:gdLst>
                    <a:gd name="textAreaLeft" fmla="*/ 302400 w 6194520"/>
                    <a:gd name="textAreaRight" fmla="*/ 5892120 w 6194520"/>
                    <a:gd name="textAreaTop" fmla="*/ 302400 h 7882920"/>
                    <a:gd name="textAreaBottom" fmla="*/ 7580520 h 7882920"/>
                  </a:gdLst>
                  <a:ahLst/>
                  <a:rect l="textAreaLeft" t="textAreaTop" r="textAreaRight" b="textAreaBottom"/>
                  <a:pathLst>
                    <a:path w="21600" h="27487">
                      <a:moveTo>
                        <a:pt x="3600" y="0"/>
                      </a:moveTo>
                      <a:arcTo wR="3600" hR="3600" stAng="16200000" swAng="-5400000"/>
                      <a:lnTo>
                        <a:pt x="0" y="23887"/>
                      </a:lnTo>
                      <a:arcTo wR="3600" hR="3600" stAng="10800000" swAng="-5400000"/>
                      <a:lnTo>
                        <a:pt x="18000" y="274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69400" y="686520"/>
                  <a:ext cx="3429000" cy="4482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وازن بين الضمة والمد بالواو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3207240" y="2157840"/>
                  <a:ext cx="3002400" cy="6151680"/>
                  <a:chOff x="3207240" y="2157840"/>
                  <a:chExt cx="3002400" cy="6151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5642640" y="2157840"/>
                    <a:ext cx="5670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642640" y="259704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ب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642640" y="303588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ت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642640" y="347508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ث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642640" y="391428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ج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642640" y="43531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AE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ح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642640" y="47923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خ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207240" y="2157840"/>
                    <a:ext cx="8406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207240" y="259704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207240" y="303588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207240" y="347508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207240" y="391428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207240" y="43531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207240" y="47923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207240" y="52315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207240" y="56707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07240" y="6109200"/>
                    <a:ext cx="8406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5642640" y="52315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د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642640" y="56707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ذ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642640" y="6109200"/>
                    <a:ext cx="5670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رَ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631480" y="6560640"/>
                    <a:ext cx="56412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ز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631480" y="6999480"/>
                    <a:ext cx="56412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س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631480" y="7438680"/>
                    <a:ext cx="56412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631480" y="7877160"/>
                    <a:ext cx="56412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ص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207240" y="6560640"/>
                    <a:ext cx="83628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207240" y="6999480"/>
                    <a:ext cx="83628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207240" y="7438680"/>
                    <a:ext cx="83628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207240" y="7877160"/>
                    <a:ext cx="83628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203000" y="2213640"/>
                    <a:ext cx="1216440" cy="6095880"/>
                    <a:chOff x="4203000" y="2213640"/>
                    <a:chExt cx="1216440" cy="6095880"/>
                  </a:xfrm>
                </p:grpSpPr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4203000" y="2213640"/>
                      <a:ext cx="1216440" cy="332640"/>
                      <a:chOff x="4203000" y="2213640"/>
                      <a:chExt cx="1216440" cy="332640"/>
                    </a:xfrm>
                  </p:grpSpPr>
                  <p:sp>
                    <p:nvSpPr>
                      <p:cNvPr id="239" name=""/>
                      <p:cNvSpPr/>
                      <p:nvPr/>
                    </p:nvSpPr>
                    <p:spPr>
                      <a:xfrm rot="10800000">
                        <a:off x="4236120" y="225144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 rot="10800000">
                        <a:off x="4591440" y="244080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rot="10800000">
                        <a:off x="4844520" y="246204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545720" y="246276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386240" y="242676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203000" y="233388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347360" y="229644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478760" y="221364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685040" y="22586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24720" y="22813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 rot="10800000">
                        <a:off x="5016600" y="228096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5281920" y="228096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5365800" y="231408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5366880" y="239076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5149080" y="243936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4203000" y="2657160"/>
                      <a:ext cx="1216440" cy="331920"/>
                      <a:chOff x="4203000" y="2657160"/>
                      <a:chExt cx="1216440" cy="331920"/>
                    </a:xfrm>
                  </p:grpSpPr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236120" y="269496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591440" y="288360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 rot="10800000">
                        <a:off x="4844520" y="290520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545720" y="290556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386240" y="287028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203000" y="277704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347360" y="273960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478760" y="265716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685040" y="270216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24720" y="272484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rot="10800000">
                        <a:off x="5016600" y="272412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rot="10800000">
                        <a:off x="5281920" y="272412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rot="10800000">
                        <a:off x="5365800" y="275760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 rot="10800000">
                        <a:off x="5366880" y="283356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 rot="10800000">
                        <a:off x="5149080" y="288252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4203000" y="3099960"/>
                      <a:ext cx="1216440" cy="332640"/>
                      <a:chOff x="4203000" y="3099960"/>
                      <a:chExt cx="1216440" cy="332640"/>
                    </a:xfrm>
                  </p:grpSpPr>
                  <p:sp>
                    <p:nvSpPr>
                      <p:cNvPr id="271" name=""/>
                      <p:cNvSpPr/>
                      <p:nvPr/>
                    </p:nvSpPr>
                    <p:spPr>
                      <a:xfrm rot="10800000">
                        <a:off x="4236120" y="313776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 rot="10800000">
                        <a:off x="4591440" y="332712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 rot="10800000">
                        <a:off x="4844520" y="334836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0800000">
                        <a:off x="4545720" y="334908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 rot="10800000">
                        <a:off x="4386240" y="331308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 rot="10800000">
                        <a:off x="4203000" y="322020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 rot="10800000">
                        <a:off x="4347360" y="31827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10800000">
                        <a:off x="4478760" y="309996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 rot="10800000">
                        <a:off x="4685040" y="314496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 rot="10800000">
                        <a:off x="4824720" y="316764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rot="10800000">
                        <a:off x="5016600" y="31672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 rot="10800000">
                        <a:off x="5281920" y="316728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 rot="10800000">
                        <a:off x="5365800" y="320040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 rot="10800000">
                        <a:off x="5366880" y="327708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rot="10800000">
                        <a:off x="5149080" y="332568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4203000" y="3543840"/>
                      <a:ext cx="1216440" cy="331920"/>
                      <a:chOff x="4203000" y="3543840"/>
                      <a:chExt cx="1216440" cy="33192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rot="10800000">
                        <a:off x="4236120" y="358164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rot="10800000">
                        <a:off x="4591440" y="37702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 rot="10800000">
                        <a:off x="4844520" y="379188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 rot="10800000">
                        <a:off x="4545720" y="37922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 rot="10800000">
                        <a:off x="4386240" y="375696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rot="10800000">
                        <a:off x="4203000" y="366372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 rot="10800000">
                        <a:off x="4347360" y="36262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 rot="10800000">
                        <a:off x="4478760" y="354384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 rot="10800000">
                        <a:off x="4685040" y="35888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 rot="10800000">
                        <a:off x="4824720" y="36115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 rot="10800000">
                        <a:off x="5016600" y="36108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 rot="10800000">
                        <a:off x="5281920" y="361080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 rot="10800000">
                        <a:off x="5365800" y="364428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 rot="10800000">
                        <a:off x="5366880" y="37202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 rot="10800000">
                        <a:off x="5149080" y="376920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4203000" y="3986640"/>
                      <a:ext cx="1216440" cy="331920"/>
                      <a:chOff x="4203000" y="3986640"/>
                      <a:chExt cx="1216440" cy="33192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 rot="10800000">
                        <a:off x="4236120" y="402372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 rot="10800000">
                        <a:off x="4591440" y="42130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rot="10800000">
                        <a:off x="4844520" y="423432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 rot="10800000">
                        <a:off x="4545720" y="42350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 rot="10800000">
                        <a:off x="4386240" y="419904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 rot="10800000">
                        <a:off x="4203000" y="410652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 rot="10800000">
                        <a:off x="4347360" y="40690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 rot="10800000">
                        <a:off x="4478760" y="398664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rot="10800000">
                        <a:off x="4685040" y="403128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 rot="10800000">
                        <a:off x="4824720" y="405396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 rot="10800000">
                        <a:off x="5016600" y="40536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 rot="10800000">
                        <a:off x="5281920" y="405324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 rot="10800000">
                        <a:off x="5365800" y="408672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 rot="10800000">
                        <a:off x="5366880" y="41630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 rot="10800000">
                        <a:off x="5149080" y="421164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4203000" y="4430520"/>
                      <a:ext cx="1216440" cy="332640"/>
                      <a:chOff x="4203000" y="4430520"/>
                      <a:chExt cx="1216440" cy="332640"/>
                    </a:xfrm>
                  </p:grpSpPr>
                  <p:sp>
                    <p:nvSpPr>
                      <p:cNvPr id="319" name=""/>
                      <p:cNvSpPr/>
                      <p:nvPr/>
                    </p:nvSpPr>
                    <p:spPr>
                      <a:xfrm rot="10800000">
                        <a:off x="4236120" y="446832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 rot="10800000">
                        <a:off x="4591440" y="46576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 rot="10800000">
                        <a:off x="4844520" y="467892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 rot="10800000">
                        <a:off x="4545720" y="46796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 rot="10800000">
                        <a:off x="4386240" y="464364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 rot="10800000">
                        <a:off x="4203000" y="455076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 rot="10800000">
                        <a:off x="4347360" y="451332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 rot="10800000">
                        <a:off x="4478760" y="443052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 rot="10800000">
                        <a:off x="4685040" y="447552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 rot="10800000">
                        <a:off x="4824720" y="449820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 rot="10800000">
                        <a:off x="5016600" y="449784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 rot="10800000">
                        <a:off x="5281920" y="449784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 rot="10800000">
                        <a:off x="5365800" y="453096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 rot="10800000">
                        <a:off x="5366880" y="46076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 rot="10800000">
                        <a:off x="5149080" y="465624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4203000" y="4874040"/>
                      <a:ext cx="1216440" cy="331920"/>
                      <a:chOff x="4203000" y="4874040"/>
                      <a:chExt cx="1216440" cy="33192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 rot="10800000">
                        <a:off x="4236120" y="491184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rot="10800000">
                        <a:off x="4591440" y="51004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 rot="10800000">
                        <a:off x="4844520" y="512208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 rot="10800000">
                        <a:off x="4545720" y="51224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 rot="10800000">
                        <a:off x="4386240" y="508716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 rot="10800000">
                        <a:off x="4203000" y="499392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 rot="10800000">
                        <a:off x="4347360" y="49564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 rot="10800000">
                        <a:off x="4478760" y="487404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rot="10800000">
                        <a:off x="4685040" y="49190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 rot="10800000">
                        <a:off x="4824720" y="49417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 rot="10800000">
                        <a:off x="5016600" y="49410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 rot="10800000">
                        <a:off x="5281920" y="494100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 rot="10800000">
                        <a:off x="5365800" y="497448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 rot="10800000">
                        <a:off x="5366880" y="50504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 rot="10800000">
                        <a:off x="5149080" y="509940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0" name=""/>
                    <p:cNvGrpSpPr/>
                    <p:nvPr/>
                  </p:nvGrpSpPr>
                  <p:grpSpPr>
                    <a:xfrm>
                      <a:off x="4203000" y="5316840"/>
                      <a:ext cx="1216440" cy="332640"/>
                      <a:chOff x="4203000" y="5316840"/>
                      <a:chExt cx="1216440" cy="332640"/>
                    </a:xfrm>
                  </p:grpSpPr>
                  <p:sp>
                    <p:nvSpPr>
                      <p:cNvPr id="351" name=""/>
                      <p:cNvSpPr/>
                      <p:nvPr/>
                    </p:nvSpPr>
                    <p:spPr>
                      <a:xfrm rot="10800000">
                        <a:off x="4236120" y="535464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 rot="10800000">
                        <a:off x="4591440" y="554400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 rot="10800000">
                        <a:off x="4844520" y="556524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 rot="10800000">
                        <a:off x="4545720" y="556596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 rot="10800000">
                        <a:off x="4386240" y="552996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 rot="10800000">
                        <a:off x="4203000" y="543708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 rot="10800000">
                        <a:off x="4347360" y="539964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 rot="10800000">
                        <a:off x="4478760" y="531684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 rot="10800000">
                        <a:off x="4685040" y="53618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 rot="10800000">
                        <a:off x="4824720" y="53845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 rot="10800000">
                        <a:off x="5016600" y="538416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 rot="10800000">
                        <a:off x="5281920" y="538416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 rot="10800000">
                        <a:off x="5365800" y="541728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rot="10800000">
                        <a:off x="5366880" y="549396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 rot="10800000">
                        <a:off x="5149080" y="554256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6" name=""/>
                    <p:cNvGrpSpPr/>
                    <p:nvPr/>
                  </p:nvGrpSpPr>
                  <p:grpSpPr>
                    <a:xfrm>
                      <a:off x="4203000" y="5760720"/>
                      <a:ext cx="1216440" cy="331920"/>
                      <a:chOff x="4203000" y="5760720"/>
                      <a:chExt cx="1216440" cy="331920"/>
                    </a:xfrm>
                  </p:grpSpPr>
                  <p:sp>
                    <p:nvSpPr>
                      <p:cNvPr id="367" name=""/>
                      <p:cNvSpPr/>
                      <p:nvPr/>
                    </p:nvSpPr>
                    <p:spPr>
                      <a:xfrm rot="10800000">
                        <a:off x="4236120" y="579852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 rot="10800000">
                        <a:off x="4591440" y="59871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 rot="10800000">
                        <a:off x="4844520" y="600876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 rot="10800000">
                        <a:off x="4545720" y="60091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 rot="10800000">
                        <a:off x="4386240" y="597384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 rot="10800000">
                        <a:off x="4203000" y="588060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 rot="10800000">
                        <a:off x="4347360" y="58431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 rot="10800000">
                        <a:off x="4478760" y="576072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 rot="10800000">
                        <a:off x="4685040" y="580572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 rot="10800000">
                        <a:off x="4824720" y="582840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rot="10800000">
                        <a:off x="5016600" y="58276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 rot="10800000">
                        <a:off x="5281920" y="582768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 rot="10800000">
                        <a:off x="5365800" y="586116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 rot="10800000">
                        <a:off x="5366880" y="59371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 rot="10800000">
                        <a:off x="5149080" y="598608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2" name=""/>
                    <p:cNvGrpSpPr/>
                    <p:nvPr/>
                  </p:nvGrpSpPr>
                  <p:grpSpPr>
                    <a:xfrm>
                      <a:off x="4203000" y="6203520"/>
                      <a:ext cx="1216440" cy="331920"/>
                      <a:chOff x="4203000" y="6203520"/>
                      <a:chExt cx="1216440" cy="331920"/>
                    </a:xfrm>
                  </p:grpSpPr>
                  <p:sp>
                    <p:nvSpPr>
                      <p:cNvPr id="383" name=""/>
                      <p:cNvSpPr/>
                      <p:nvPr/>
                    </p:nvSpPr>
                    <p:spPr>
                      <a:xfrm rot="10800000">
                        <a:off x="4236120" y="624060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 rot="10800000">
                        <a:off x="4591440" y="64299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 rot="10800000">
                        <a:off x="4844520" y="645120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 rot="10800000">
                        <a:off x="4545720" y="64519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 rot="10800000">
                        <a:off x="4386240" y="641592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 rot="10800000">
                        <a:off x="4203000" y="632340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 rot="10800000">
                        <a:off x="4347360" y="62859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 rot="10800000">
                        <a:off x="4478760" y="620352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 rot="10800000">
                        <a:off x="4685040" y="624816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 rot="10800000">
                        <a:off x="4824720" y="627084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 rot="10800000">
                        <a:off x="5016600" y="62704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 rot="10800000">
                        <a:off x="5281920" y="627012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 rot="10800000">
                        <a:off x="5365800" y="630360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 rot="10800000">
                        <a:off x="5366880" y="63799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 rot="10800000">
                        <a:off x="5149080" y="642852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8" name=""/>
                    <p:cNvGrpSpPr/>
                    <p:nvPr/>
                  </p:nvGrpSpPr>
                  <p:grpSpPr>
                    <a:xfrm>
                      <a:off x="4203000" y="6647400"/>
                      <a:ext cx="1216440" cy="332640"/>
                      <a:chOff x="4203000" y="6647400"/>
                      <a:chExt cx="1216440" cy="332640"/>
                    </a:xfrm>
                  </p:grpSpPr>
                  <p:sp>
                    <p:nvSpPr>
                      <p:cNvPr id="399" name=""/>
                      <p:cNvSpPr/>
                      <p:nvPr/>
                    </p:nvSpPr>
                    <p:spPr>
                      <a:xfrm rot="10800000">
                        <a:off x="4236120" y="668520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 rot="10800000">
                        <a:off x="4591440" y="68745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 rot="10800000">
                        <a:off x="4844520" y="689580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 rot="10800000">
                        <a:off x="4545720" y="68965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 rot="10800000">
                        <a:off x="4386240" y="686052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 rot="10800000">
                        <a:off x="4203000" y="676764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rot="10800000">
                        <a:off x="4347360" y="673020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rot="10800000">
                        <a:off x="4478760" y="664740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rot="10800000">
                        <a:off x="4685040" y="669240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 rot="10800000">
                        <a:off x="4824720" y="671508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 rot="10800000">
                        <a:off x="5016600" y="671472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 rot="10800000">
                        <a:off x="5281920" y="671472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 rot="10800000">
                        <a:off x="5365800" y="674784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 rot="10800000">
                        <a:off x="5366880" y="68245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 rot="10800000">
                        <a:off x="5149080" y="687312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4" name=""/>
                    <p:cNvGrpSpPr/>
                    <p:nvPr/>
                  </p:nvGrpSpPr>
                  <p:grpSpPr>
                    <a:xfrm>
                      <a:off x="4203000" y="7090920"/>
                      <a:ext cx="1216440" cy="331920"/>
                      <a:chOff x="4203000" y="7090920"/>
                      <a:chExt cx="1216440" cy="331920"/>
                    </a:xfrm>
                  </p:grpSpPr>
                  <p:sp>
                    <p:nvSpPr>
                      <p:cNvPr id="415" name=""/>
                      <p:cNvSpPr/>
                      <p:nvPr/>
                    </p:nvSpPr>
                    <p:spPr>
                      <a:xfrm rot="10800000">
                        <a:off x="4236120" y="712872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 rot="10800000">
                        <a:off x="4591440" y="73173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 rot="10800000">
                        <a:off x="4844520" y="733896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 rot="10800000">
                        <a:off x="4545720" y="73393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 rot="10800000">
                        <a:off x="4386240" y="730404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 rot="10800000">
                        <a:off x="4203000" y="721080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 rot="10800000">
                        <a:off x="4347360" y="71733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 rot="10800000">
                        <a:off x="4478760" y="709092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 rot="10800000">
                        <a:off x="4685040" y="713592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 rot="10800000">
                        <a:off x="4824720" y="715860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 rot="10800000">
                        <a:off x="5016600" y="71578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 rot="10800000">
                        <a:off x="5281920" y="715788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 rot="10800000">
                        <a:off x="5365800" y="719136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 rot="10800000">
                        <a:off x="5366880" y="72673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 rot="10800000">
                        <a:off x="5149080" y="731628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0" name=""/>
                    <p:cNvGrpSpPr/>
                    <p:nvPr/>
                  </p:nvGrpSpPr>
                  <p:grpSpPr>
                    <a:xfrm>
                      <a:off x="4203000" y="7534080"/>
                      <a:ext cx="1216440" cy="332640"/>
                      <a:chOff x="4203000" y="7534080"/>
                      <a:chExt cx="1216440" cy="332640"/>
                    </a:xfrm>
                  </p:grpSpPr>
                  <p:sp>
                    <p:nvSpPr>
                      <p:cNvPr id="431" name=""/>
                      <p:cNvSpPr/>
                      <p:nvPr/>
                    </p:nvSpPr>
                    <p:spPr>
                      <a:xfrm rot="10800000">
                        <a:off x="4236120" y="757188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 rot="10800000">
                        <a:off x="4591440" y="776124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 rot="10800000">
                        <a:off x="4844520" y="778248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 rot="10800000">
                        <a:off x="4545720" y="778320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 rot="10800000">
                        <a:off x="4386240" y="774720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 rot="10800000">
                        <a:off x="4203000" y="765432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 rot="10800000">
                        <a:off x="4347360" y="76168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 rot="10800000">
                        <a:off x="4478760" y="753408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 rot="10800000">
                        <a:off x="4685040" y="757908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 rot="10800000">
                        <a:off x="4824720" y="760176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 rot="10800000">
                        <a:off x="5016600" y="76014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 rot="10800000">
                        <a:off x="5281920" y="760140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 rot="10800000">
                        <a:off x="5365800" y="763452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 rot="10800000">
                        <a:off x="5366880" y="771120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 rot="10800000">
                        <a:off x="5149080" y="775980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6" name=""/>
                    <p:cNvGrpSpPr/>
                    <p:nvPr/>
                  </p:nvGrpSpPr>
                  <p:grpSpPr>
                    <a:xfrm>
                      <a:off x="4203000" y="7977600"/>
                      <a:ext cx="1216440" cy="331920"/>
                      <a:chOff x="4203000" y="7977600"/>
                      <a:chExt cx="1216440" cy="331920"/>
                    </a:xfrm>
                  </p:grpSpPr>
                  <p:sp>
                    <p:nvSpPr>
                      <p:cNvPr id="447" name=""/>
                      <p:cNvSpPr/>
                      <p:nvPr/>
                    </p:nvSpPr>
                    <p:spPr>
                      <a:xfrm rot="10800000">
                        <a:off x="4236120" y="801540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 rot="10800000">
                        <a:off x="4591440" y="820404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 rot="10800000">
                        <a:off x="4844520" y="822564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 rot="10800000">
                        <a:off x="4545720" y="822600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 rot="10800000">
                        <a:off x="4386240" y="819072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 rot="10800000">
                        <a:off x="4203000" y="809748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 rot="10800000">
                        <a:off x="4347360" y="806004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 rot="10800000">
                        <a:off x="4478760" y="797760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 rot="10800000">
                        <a:off x="4685040" y="802260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 rot="10800000">
                        <a:off x="4824720" y="804528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 rot="10800000">
                        <a:off x="5016600" y="804456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 rot="10800000">
                        <a:off x="5281920" y="804456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 rot="10800000">
                        <a:off x="5365800" y="807804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 rot="10800000">
                        <a:off x="5366880" y="815400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 rot="10800000">
                        <a:off x="5149080" y="820296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pic>
              <p:nvPicPr>
                <p:cNvPr id="46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560" y="5626440"/>
                  <a:ext cx="2765520" cy="266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3" name=""/>
                <p:cNvSpPr txBox="1"/>
                <p:nvPr/>
              </p:nvSpPr>
              <p:spPr>
                <a:xfrm>
                  <a:off x="1216440" y="3418920"/>
                  <a:ext cx="995400" cy="403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ضمة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464" name=""/>
                <p:cNvSpPr txBox="1"/>
                <p:nvPr/>
              </p:nvSpPr>
              <p:spPr>
                <a:xfrm>
                  <a:off x="884520" y="4575240"/>
                  <a:ext cx="1536840" cy="50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مد بالواو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pic>
            <p:nvPicPr>
              <p:cNvPr id="4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7320" y="1106640"/>
                <a:ext cx="1443240" cy="220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8" name=""/>
            <p:cNvGrpSpPr/>
            <p:nvPr/>
          </p:nvGrpSpPr>
          <p:grpSpPr>
            <a:xfrm>
              <a:off x="331560" y="686520"/>
              <a:ext cx="6210360" cy="8092800"/>
              <a:chOff x="331560" y="686520"/>
              <a:chExt cx="6210360" cy="80928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31560" y="686520"/>
                <a:ext cx="6210360" cy="8092800"/>
                <a:chOff x="331560" y="686520"/>
                <a:chExt cx="6210360" cy="80928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47400" y="896400"/>
                  <a:ext cx="6194520" cy="7882920"/>
                </a:xfrm>
                <a:custGeom>
                  <a:avLst/>
                  <a:gdLst>
                    <a:gd name="textAreaLeft" fmla="*/ 302400 w 6194520"/>
                    <a:gd name="textAreaRight" fmla="*/ 5892120 w 6194520"/>
                    <a:gd name="textAreaTop" fmla="*/ 302400 h 7882920"/>
                    <a:gd name="textAreaBottom" fmla="*/ 7580520 h 7882920"/>
                  </a:gdLst>
                  <a:ahLst/>
                  <a:rect l="textAreaLeft" t="textAreaTop" r="textAreaRight" b="textAreaBottom"/>
                  <a:pathLst>
                    <a:path w="21600" h="27487">
                      <a:moveTo>
                        <a:pt x="3600" y="0"/>
                      </a:moveTo>
                      <a:arcTo wR="3600" hR="3600" stAng="16200000" swAng="-5400000"/>
                      <a:lnTo>
                        <a:pt x="0" y="23887"/>
                      </a:lnTo>
                      <a:arcTo wR="3600" hR="3600" stAng="10800000" swAng="-5400000"/>
                      <a:lnTo>
                        <a:pt x="18000" y="274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9400" y="686520"/>
                  <a:ext cx="3429000" cy="4482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وازن بين الضمة والمد بالواو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3207240" y="2157840"/>
                  <a:ext cx="3002400" cy="6151680"/>
                  <a:chOff x="3207240" y="2157840"/>
                  <a:chExt cx="3002400" cy="61516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5642640" y="2157840"/>
                    <a:ext cx="5670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ض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642640" y="259704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ط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642640" y="303588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ظ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642640" y="347508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ع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642640" y="391428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غ</a:t>
                    </a: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642640" y="43531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AE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ف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642640" y="47923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ق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207240" y="2157840"/>
                    <a:ext cx="8406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207240" y="259704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207240" y="303588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207240" y="347508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207240" y="391428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207240" y="43531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207240" y="47923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207240" y="52315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207240" y="5670720"/>
                    <a:ext cx="8406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207240" y="6109200"/>
                    <a:ext cx="8406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642640" y="52315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ك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5642640" y="5670720"/>
                    <a:ext cx="56700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ل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5642640" y="6109200"/>
                    <a:ext cx="56700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م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631480" y="6560640"/>
                    <a:ext cx="56412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ن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631480" y="6999480"/>
                    <a:ext cx="56412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هـ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631480" y="7438680"/>
                    <a:ext cx="56412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و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5631480" y="7877160"/>
                    <a:ext cx="56412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ي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207240" y="6560640"/>
                    <a:ext cx="83628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207240" y="6999480"/>
                    <a:ext cx="83628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207240" y="7438680"/>
                    <a:ext cx="836280" cy="37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207240" y="7877160"/>
                    <a:ext cx="836280" cy="37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4203000" y="2213640"/>
                    <a:ext cx="1216440" cy="6095880"/>
                    <a:chOff x="4203000" y="2213640"/>
                    <a:chExt cx="1216440" cy="6095880"/>
                  </a:xfrm>
                </p:grpSpPr>
                <p:grpSp>
                  <p:nvGrpSpPr>
                    <p:cNvPr id="502" name=""/>
                    <p:cNvGrpSpPr/>
                    <p:nvPr/>
                  </p:nvGrpSpPr>
                  <p:grpSpPr>
                    <a:xfrm>
                      <a:off x="4203000" y="2213640"/>
                      <a:ext cx="1216440" cy="332640"/>
                      <a:chOff x="4203000" y="2213640"/>
                      <a:chExt cx="1216440" cy="332640"/>
                    </a:xfrm>
                  </p:grpSpPr>
                  <p:sp>
                    <p:nvSpPr>
                      <p:cNvPr id="503" name=""/>
                      <p:cNvSpPr/>
                      <p:nvPr/>
                    </p:nvSpPr>
                    <p:spPr>
                      <a:xfrm rot="10800000">
                        <a:off x="4236120" y="225144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"/>
                      <p:cNvSpPr/>
                      <p:nvPr/>
                    </p:nvSpPr>
                    <p:spPr>
                      <a:xfrm rot="10800000">
                        <a:off x="4591440" y="244080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"/>
                      <p:cNvSpPr/>
                      <p:nvPr/>
                    </p:nvSpPr>
                    <p:spPr>
                      <a:xfrm rot="10800000">
                        <a:off x="4844520" y="246204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 rot="10800000">
                        <a:off x="4545720" y="246276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 rot="10800000">
                        <a:off x="4386240" y="242676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"/>
                      <p:cNvSpPr/>
                      <p:nvPr/>
                    </p:nvSpPr>
                    <p:spPr>
                      <a:xfrm rot="10800000">
                        <a:off x="4203000" y="233388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"/>
                      <p:cNvSpPr/>
                      <p:nvPr/>
                    </p:nvSpPr>
                    <p:spPr>
                      <a:xfrm rot="10800000">
                        <a:off x="4347360" y="229644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 rot="10800000">
                        <a:off x="4478760" y="221364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 rot="10800000">
                        <a:off x="4685040" y="22586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 rot="10800000">
                        <a:off x="4824720" y="22813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 rot="10800000">
                        <a:off x="5016600" y="228096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 rot="10800000">
                        <a:off x="5281920" y="228096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rot="10800000">
                        <a:off x="5365800" y="231408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 rot="10800000">
                        <a:off x="5366880" y="239076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 rot="10800000">
                        <a:off x="5149080" y="243936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"/>
                    <p:cNvGrpSpPr/>
                    <p:nvPr/>
                  </p:nvGrpSpPr>
                  <p:grpSpPr>
                    <a:xfrm>
                      <a:off x="4203000" y="2657160"/>
                      <a:ext cx="1216440" cy="331920"/>
                      <a:chOff x="4203000" y="2657160"/>
                      <a:chExt cx="1216440" cy="331920"/>
                    </a:xfrm>
                  </p:grpSpPr>
                  <p:sp>
                    <p:nvSpPr>
                      <p:cNvPr id="519" name=""/>
                      <p:cNvSpPr/>
                      <p:nvPr/>
                    </p:nvSpPr>
                    <p:spPr>
                      <a:xfrm rot="10800000">
                        <a:off x="4236120" y="269496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 rot="10800000">
                        <a:off x="4591440" y="288360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 rot="10800000">
                        <a:off x="4844520" y="290520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"/>
                      <p:cNvSpPr/>
                      <p:nvPr/>
                    </p:nvSpPr>
                    <p:spPr>
                      <a:xfrm rot="10800000">
                        <a:off x="4545720" y="290556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 rot="10800000">
                        <a:off x="4386240" y="287028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 rot="10800000">
                        <a:off x="4203000" y="277704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 rot="10800000">
                        <a:off x="4347360" y="273960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"/>
                      <p:cNvSpPr/>
                      <p:nvPr/>
                    </p:nvSpPr>
                    <p:spPr>
                      <a:xfrm rot="10800000">
                        <a:off x="4478760" y="265716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 rot="10800000">
                        <a:off x="4685040" y="270216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 rot="10800000">
                        <a:off x="4824720" y="272484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 rot="10800000">
                        <a:off x="5016600" y="272412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 rot="10800000">
                        <a:off x="5281920" y="272412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 rot="10800000">
                        <a:off x="5365800" y="275760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"/>
                      <p:cNvSpPr/>
                      <p:nvPr/>
                    </p:nvSpPr>
                    <p:spPr>
                      <a:xfrm rot="10800000">
                        <a:off x="5366880" y="283356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 rot="10800000">
                        <a:off x="5149080" y="288252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4" name=""/>
                    <p:cNvGrpSpPr/>
                    <p:nvPr/>
                  </p:nvGrpSpPr>
                  <p:grpSpPr>
                    <a:xfrm>
                      <a:off x="4203000" y="3099960"/>
                      <a:ext cx="1216440" cy="332640"/>
                      <a:chOff x="4203000" y="3099960"/>
                      <a:chExt cx="1216440" cy="332640"/>
                    </a:xfrm>
                  </p:grpSpPr>
                  <p:sp>
                    <p:nvSpPr>
                      <p:cNvPr id="535" name=""/>
                      <p:cNvSpPr/>
                      <p:nvPr/>
                    </p:nvSpPr>
                    <p:spPr>
                      <a:xfrm rot="10800000">
                        <a:off x="4236120" y="313776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"/>
                      <p:cNvSpPr/>
                      <p:nvPr/>
                    </p:nvSpPr>
                    <p:spPr>
                      <a:xfrm rot="10800000">
                        <a:off x="4591440" y="332712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rot="10800000">
                        <a:off x="4844520" y="334836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 rot="10800000">
                        <a:off x="4545720" y="334908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 rot="10800000">
                        <a:off x="4386240" y="331308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 rot="10800000">
                        <a:off x="4203000" y="322020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 rot="10800000">
                        <a:off x="4347360" y="31827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 rot="10800000">
                        <a:off x="4478760" y="309996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 rot="10800000">
                        <a:off x="4685040" y="314496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 rot="10800000">
                        <a:off x="4824720" y="316764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 rot="10800000">
                        <a:off x="5016600" y="31672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 rot="10800000">
                        <a:off x="5281920" y="316728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rot="10800000">
                        <a:off x="5365800" y="320040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rot="10800000">
                        <a:off x="5366880" y="327708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rot="10800000">
                        <a:off x="5149080" y="332568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0" name=""/>
                    <p:cNvGrpSpPr/>
                    <p:nvPr/>
                  </p:nvGrpSpPr>
                  <p:grpSpPr>
                    <a:xfrm>
                      <a:off x="4203000" y="3543840"/>
                      <a:ext cx="1216440" cy="331920"/>
                      <a:chOff x="4203000" y="3543840"/>
                      <a:chExt cx="1216440" cy="331920"/>
                    </a:xfrm>
                  </p:grpSpPr>
                  <p:sp>
                    <p:nvSpPr>
                      <p:cNvPr id="551" name=""/>
                      <p:cNvSpPr/>
                      <p:nvPr/>
                    </p:nvSpPr>
                    <p:spPr>
                      <a:xfrm rot="10800000">
                        <a:off x="4236120" y="358164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 rot="10800000">
                        <a:off x="4591440" y="37702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 rot="10800000">
                        <a:off x="4844520" y="379188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 rot="10800000">
                        <a:off x="4545720" y="37922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/>
                      <p:nvPr/>
                    </p:nvSpPr>
                    <p:spPr>
                      <a:xfrm rot="10800000">
                        <a:off x="4386240" y="375696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" name=""/>
                      <p:cNvSpPr/>
                      <p:nvPr/>
                    </p:nvSpPr>
                    <p:spPr>
                      <a:xfrm rot="10800000">
                        <a:off x="4203000" y="366372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7" name=""/>
                      <p:cNvSpPr/>
                      <p:nvPr/>
                    </p:nvSpPr>
                    <p:spPr>
                      <a:xfrm rot="10800000">
                        <a:off x="4347360" y="36262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8" name=""/>
                      <p:cNvSpPr/>
                      <p:nvPr/>
                    </p:nvSpPr>
                    <p:spPr>
                      <a:xfrm rot="10800000">
                        <a:off x="4478760" y="354384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 rot="10800000">
                        <a:off x="4685040" y="35888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 rot="10800000">
                        <a:off x="4824720" y="36115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"/>
                      <p:cNvSpPr/>
                      <p:nvPr/>
                    </p:nvSpPr>
                    <p:spPr>
                      <a:xfrm rot="10800000">
                        <a:off x="5016600" y="36108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"/>
                      <p:cNvSpPr/>
                      <p:nvPr/>
                    </p:nvSpPr>
                    <p:spPr>
                      <a:xfrm rot="10800000">
                        <a:off x="5281920" y="361080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 rot="10800000">
                        <a:off x="5365800" y="364428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4" name=""/>
                      <p:cNvSpPr/>
                      <p:nvPr/>
                    </p:nvSpPr>
                    <p:spPr>
                      <a:xfrm rot="10800000">
                        <a:off x="5366880" y="37202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"/>
                      <p:cNvSpPr/>
                      <p:nvPr/>
                    </p:nvSpPr>
                    <p:spPr>
                      <a:xfrm rot="10800000">
                        <a:off x="5149080" y="376920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6" name=""/>
                    <p:cNvGrpSpPr/>
                    <p:nvPr/>
                  </p:nvGrpSpPr>
                  <p:grpSpPr>
                    <a:xfrm>
                      <a:off x="4203000" y="3986640"/>
                      <a:ext cx="1216440" cy="331920"/>
                      <a:chOff x="4203000" y="3986640"/>
                      <a:chExt cx="1216440" cy="331920"/>
                    </a:xfrm>
                  </p:grpSpPr>
                  <p:sp>
                    <p:nvSpPr>
                      <p:cNvPr id="567" name=""/>
                      <p:cNvSpPr/>
                      <p:nvPr/>
                    </p:nvSpPr>
                    <p:spPr>
                      <a:xfrm rot="10800000">
                        <a:off x="4236120" y="402372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8" name=""/>
                      <p:cNvSpPr/>
                      <p:nvPr/>
                    </p:nvSpPr>
                    <p:spPr>
                      <a:xfrm rot="10800000">
                        <a:off x="4591440" y="42130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"/>
                      <p:cNvSpPr/>
                      <p:nvPr/>
                    </p:nvSpPr>
                    <p:spPr>
                      <a:xfrm rot="10800000">
                        <a:off x="4844520" y="423432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0" name=""/>
                      <p:cNvSpPr/>
                      <p:nvPr/>
                    </p:nvSpPr>
                    <p:spPr>
                      <a:xfrm rot="10800000">
                        <a:off x="4545720" y="42350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 rot="10800000">
                        <a:off x="4386240" y="419904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 rot="10800000">
                        <a:off x="4203000" y="410652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rot="10800000">
                        <a:off x="4347360" y="40690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rot="10800000">
                        <a:off x="4478760" y="398664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 rot="10800000">
                        <a:off x="4685040" y="403128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 rot="10800000">
                        <a:off x="4824720" y="405396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"/>
                      <p:cNvSpPr/>
                      <p:nvPr/>
                    </p:nvSpPr>
                    <p:spPr>
                      <a:xfrm rot="10800000">
                        <a:off x="5016600" y="40536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 rot="10800000">
                        <a:off x="5281920" y="405324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rot="10800000">
                        <a:off x="5365800" y="408672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 rot="10800000">
                        <a:off x="5366880" y="41630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 rot="10800000">
                        <a:off x="5149080" y="421164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"/>
                    <p:cNvGrpSpPr/>
                    <p:nvPr/>
                  </p:nvGrpSpPr>
                  <p:grpSpPr>
                    <a:xfrm>
                      <a:off x="4203000" y="4430520"/>
                      <a:ext cx="1216440" cy="332640"/>
                      <a:chOff x="4203000" y="4430520"/>
                      <a:chExt cx="1216440" cy="332640"/>
                    </a:xfrm>
                  </p:grpSpPr>
                  <p:sp>
                    <p:nvSpPr>
                      <p:cNvPr id="583" name=""/>
                      <p:cNvSpPr/>
                      <p:nvPr/>
                    </p:nvSpPr>
                    <p:spPr>
                      <a:xfrm rot="10800000">
                        <a:off x="4236120" y="446832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"/>
                      <p:cNvSpPr/>
                      <p:nvPr/>
                    </p:nvSpPr>
                    <p:spPr>
                      <a:xfrm rot="10800000">
                        <a:off x="4591440" y="46576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/>
                      <p:nvPr/>
                    </p:nvSpPr>
                    <p:spPr>
                      <a:xfrm rot="10800000">
                        <a:off x="4844520" y="467892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 rot="10800000">
                        <a:off x="4545720" y="46796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rot="10800000">
                        <a:off x="4386240" y="464364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 rot="10800000">
                        <a:off x="4203000" y="455076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 rot="10800000">
                        <a:off x="4347360" y="451332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 rot="10800000">
                        <a:off x="4478760" y="443052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 rot="10800000">
                        <a:off x="4685040" y="447552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"/>
                      <p:cNvSpPr/>
                      <p:nvPr/>
                    </p:nvSpPr>
                    <p:spPr>
                      <a:xfrm rot="10800000">
                        <a:off x="4824720" y="449820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 rot="10800000">
                        <a:off x="5016600" y="449784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 rot="10800000">
                        <a:off x="5281920" y="449784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 rot="10800000">
                        <a:off x="5365800" y="453096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 rot="10800000">
                        <a:off x="5366880" y="46076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 rot="10800000">
                        <a:off x="5149080" y="465624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4203000" y="4874040"/>
                      <a:ext cx="1216440" cy="331920"/>
                      <a:chOff x="4203000" y="4874040"/>
                      <a:chExt cx="1216440" cy="331920"/>
                    </a:xfrm>
                  </p:grpSpPr>
                  <p:sp>
                    <p:nvSpPr>
                      <p:cNvPr id="599" name=""/>
                      <p:cNvSpPr/>
                      <p:nvPr/>
                    </p:nvSpPr>
                    <p:spPr>
                      <a:xfrm rot="10800000">
                        <a:off x="4236120" y="491184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"/>
                      <p:cNvSpPr/>
                      <p:nvPr/>
                    </p:nvSpPr>
                    <p:spPr>
                      <a:xfrm rot="10800000">
                        <a:off x="4591440" y="510048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"/>
                      <p:cNvSpPr/>
                      <p:nvPr/>
                    </p:nvSpPr>
                    <p:spPr>
                      <a:xfrm rot="10800000">
                        <a:off x="4844520" y="512208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"/>
                      <p:cNvSpPr/>
                      <p:nvPr/>
                    </p:nvSpPr>
                    <p:spPr>
                      <a:xfrm rot="10800000">
                        <a:off x="4545720" y="512244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 rot="10800000">
                        <a:off x="4386240" y="508716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"/>
                      <p:cNvSpPr/>
                      <p:nvPr/>
                    </p:nvSpPr>
                    <p:spPr>
                      <a:xfrm rot="10800000">
                        <a:off x="4203000" y="499392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" name=""/>
                      <p:cNvSpPr/>
                      <p:nvPr/>
                    </p:nvSpPr>
                    <p:spPr>
                      <a:xfrm rot="10800000">
                        <a:off x="4347360" y="49564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"/>
                      <p:cNvSpPr/>
                      <p:nvPr/>
                    </p:nvSpPr>
                    <p:spPr>
                      <a:xfrm rot="10800000">
                        <a:off x="4478760" y="487404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"/>
                      <p:cNvSpPr/>
                      <p:nvPr/>
                    </p:nvSpPr>
                    <p:spPr>
                      <a:xfrm rot="10800000">
                        <a:off x="4685040" y="49190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" name=""/>
                      <p:cNvSpPr/>
                      <p:nvPr/>
                    </p:nvSpPr>
                    <p:spPr>
                      <a:xfrm rot="10800000">
                        <a:off x="4824720" y="49417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"/>
                      <p:cNvSpPr/>
                      <p:nvPr/>
                    </p:nvSpPr>
                    <p:spPr>
                      <a:xfrm rot="10800000">
                        <a:off x="5016600" y="49410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"/>
                      <p:cNvSpPr/>
                      <p:nvPr/>
                    </p:nvSpPr>
                    <p:spPr>
                      <a:xfrm rot="10800000">
                        <a:off x="5281920" y="494100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 rot="10800000">
                        <a:off x="5365800" y="497448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"/>
                      <p:cNvSpPr/>
                      <p:nvPr/>
                    </p:nvSpPr>
                    <p:spPr>
                      <a:xfrm rot="10800000">
                        <a:off x="5366880" y="505044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 rot="10800000">
                        <a:off x="5149080" y="509940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4" name=""/>
                    <p:cNvGrpSpPr/>
                    <p:nvPr/>
                  </p:nvGrpSpPr>
                  <p:grpSpPr>
                    <a:xfrm>
                      <a:off x="4203000" y="5316840"/>
                      <a:ext cx="1216440" cy="332640"/>
                      <a:chOff x="4203000" y="5316840"/>
                      <a:chExt cx="1216440" cy="332640"/>
                    </a:xfrm>
                  </p:grpSpPr>
                  <p:sp>
                    <p:nvSpPr>
                      <p:cNvPr id="615" name=""/>
                      <p:cNvSpPr/>
                      <p:nvPr/>
                    </p:nvSpPr>
                    <p:spPr>
                      <a:xfrm rot="10800000">
                        <a:off x="4236120" y="535464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"/>
                      <p:cNvSpPr/>
                      <p:nvPr/>
                    </p:nvSpPr>
                    <p:spPr>
                      <a:xfrm rot="10800000">
                        <a:off x="4591440" y="554400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"/>
                      <p:cNvSpPr/>
                      <p:nvPr/>
                    </p:nvSpPr>
                    <p:spPr>
                      <a:xfrm rot="10800000">
                        <a:off x="4844520" y="556524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"/>
                      <p:cNvSpPr/>
                      <p:nvPr/>
                    </p:nvSpPr>
                    <p:spPr>
                      <a:xfrm rot="10800000">
                        <a:off x="4545720" y="556596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"/>
                      <p:cNvSpPr/>
                      <p:nvPr/>
                    </p:nvSpPr>
                    <p:spPr>
                      <a:xfrm rot="10800000">
                        <a:off x="4386240" y="552996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"/>
                      <p:cNvSpPr/>
                      <p:nvPr/>
                    </p:nvSpPr>
                    <p:spPr>
                      <a:xfrm rot="10800000">
                        <a:off x="4203000" y="543708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"/>
                      <p:cNvSpPr/>
                      <p:nvPr/>
                    </p:nvSpPr>
                    <p:spPr>
                      <a:xfrm rot="10800000">
                        <a:off x="4347360" y="539964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"/>
                      <p:cNvSpPr/>
                      <p:nvPr/>
                    </p:nvSpPr>
                    <p:spPr>
                      <a:xfrm rot="10800000">
                        <a:off x="4478760" y="531684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"/>
                      <p:cNvSpPr/>
                      <p:nvPr/>
                    </p:nvSpPr>
                    <p:spPr>
                      <a:xfrm rot="10800000">
                        <a:off x="4685040" y="536184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"/>
                      <p:cNvSpPr/>
                      <p:nvPr/>
                    </p:nvSpPr>
                    <p:spPr>
                      <a:xfrm rot="10800000">
                        <a:off x="4824720" y="538452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"/>
                      <p:cNvSpPr/>
                      <p:nvPr/>
                    </p:nvSpPr>
                    <p:spPr>
                      <a:xfrm rot="10800000">
                        <a:off x="5016600" y="538416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"/>
                      <p:cNvSpPr/>
                      <p:nvPr/>
                    </p:nvSpPr>
                    <p:spPr>
                      <a:xfrm rot="10800000">
                        <a:off x="5281920" y="538416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"/>
                      <p:cNvSpPr/>
                      <p:nvPr/>
                    </p:nvSpPr>
                    <p:spPr>
                      <a:xfrm rot="10800000">
                        <a:off x="5365800" y="541728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"/>
                      <p:cNvSpPr/>
                      <p:nvPr/>
                    </p:nvSpPr>
                    <p:spPr>
                      <a:xfrm rot="10800000">
                        <a:off x="5366880" y="549396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"/>
                      <p:cNvSpPr/>
                      <p:nvPr/>
                    </p:nvSpPr>
                    <p:spPr>
                      <a:xfrm rot="10800000">
                        <a:off x="5149080" y="554256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0" name=""/>
                    <p:cNvGrpSpPr/>
                    <p:nvPr/>
                  </p:nvGrpSpPr>
                  <p:grpSpPr>
                    <a:xfrm>
                      <a:off x="4203000" y="5760720"/>
                      <a:ext cx="1216440" cy="331920"/>
                      <a:chOff x="4203000" y="5760720"/>
                      <a:chExt cx="1216440" cy="331920"/>
                    </a:xfrm>
                  </p:grpSpPr>
                  <p:sp>
                    <p:nvSpPr>
                      <p:cNvPr id="631" name=""/>
                      <p:cNvSpPr/>
                      <p:nvPr/>
                    </p:nvSpPr>
                    <p:spPr>
                      <a:xfrm rot="10800000">
                        <a:off x="4236120" y="579852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"/>
                      <p:cNvSpPr/>
                      <p:nvPr/>
                    </p:nvSpPr>
                    <p:spPr>
                      <a:xfrm rot="10800000">
                        <a:off x="4591440" y="59871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"/>
                      <p:cNvSpPr/>
                      <p:nvPr/>
                    </p:nvSpPr>
                    <p:spPr>
                      <a:xfrm rot="10800000">
                        <a:off x="4844520" y="600876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"/>
                      <p:cNvSpPr/>
                      <p:nvPr/>
                    </p:nvSpPr>
                    <p:spPr>
                      <a:xfrm rot="10800000">
                        <a:off x="4545720" y="60091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"/>
                      <p:cNvSpPr/>
                      <p:nvPr/>
                    </p:nvSpPr>
                    <p:spPr>
                      <a:xfrm rot="10800000">
                        <a:off x="4386240" y="597384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"/>
                      <p:cNvSpPr/>
                      <p:nvPr/>
                    </p:nvSpPr>
                    <p:spPr>
                      <a:xfrm rot="10800000">
                        <a:off x="4203000" y="588060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"/>
                      <p:cNvSpPr/>
                      <p:nvPr/>
                    </p:nvSpPr>
                    <p:spPr>
                      <a:xfrm rot="10800000">
                        <a:off x="4347360" y="58431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"/>
                      <p:cNvSpPr/>
                      <p:nvPr/>
                    </p:nvSpPr>
                    <p:spPr>
                      <a:xfrm rot="10800000">
                        <a:off x="4478760" y="576072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"/>
                      <p:cNvSpPr/>
                      <p:nvPr/>
                    </p:nvSpPr>
                    <p:spPr>
                      <a:xfrm rot="10800000">
                        <a:off x="4685040" y="580572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 rot="10800000">
                        <a:off x="4824720" y="582840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1" name=""/>
                      <p:cNvSpPr/>
                      <p:nvPr/>
                    </p:nvSpPr>
                    <p:spPr>
                      <a:xfrm rot="10800000">
                        <a:off x="5016600" y="58276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"/>
                      <p:cNvSpPr/>
                      <p:nvPr/>
                    </p:nvSpPr>
                    <p:spPr>
                      <a:xfrm rot="10800000">
                        <a:off x="5281920" y="582768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"/>
                      <p:cNvSpPr/>
                      <p:nvPr/>
                    </p:nvSpPr>
                    <p:spPr>
                      <a:xfrm rot="10800000">
                        <a:off x="5365800" y="586116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 rot="10800000">
                        <a:off x="5366880" y="59371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5" name=""/>
                      <p:cNvSpPr/>
                      <p:nvPr/>
                    </p:nvSpPr>
                    <p:spPr>
                      <a:xfrm rot="10800000">
                        <a:off x="5149080" y="598608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46" name=""/>
                    <p:cNvGrpSpPr/>
                    <p:nvPr/>
                  </p:nvGrpSpPr>
                  <p:grpSpPr>
                    <a:xfrm>
                      <a:off x="4203000" y="6203520"/>
                      <a:ext cx="1216440" cy="331920"/>
                      <a:chOff x="4203000" y="6203520"/>
                      <a:chExt cx="1216440" cy="331920"/>
                    </a:xfrm>
                  </p:grpSpPr>
                  <p:sp>
                    <p:nvSpPr>
                      <p:cNvPr id="647" name=""/>
                      <p:cNvSpPr/>
                      <p:nvPr/>
                    </p:nvSpPr>
                    <p:spPr>
                      <a:xfrm rot="10800000">
                        <a:off x="4236120" y="624060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8" name=""/>
                      <p:cNvSpPr/>
                      <p:nvPr/>
                    </p:nvSpPr>
                    <p:spPr>
                      <a:xfrm rot="10800000">
                        <a:off x="4591440" y="64299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9" name=""/>
                      <p:cNvSpPr/>
                      <p:nvPr/>
                    </p:nvSpPr>
                    <p:spPr>
                      <a:xfrm rot="10800000">
                        <a:off x="4844520" y="645120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 rot="10800000">
                        <a:off x="4545720" y="64519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1" name=""/>
                      <p:cNvSpPr/>
                      <p:nvPr/>
                    </p:nvSpPr>
                    <p:spPr>
                      <a:xfrm rot="10800000">
                        <a:off x="4386240" y="641592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 rot="10800000">
                        <a:off x="4203000" y="632340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 rot="10800000">
                        <a:off x="4347360" y="62859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 rot="10800000">
                        <a:off x="4478760" y="620352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 rot="10800000">
                        <a:off x="4685040" y="624816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 rot="10800000">
                        <a:off x="4824720" y="627084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 rot="10800000">
                        <a:off x="5016600" y="62704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 rot="10800000">
                        <a:off x="5281920" y="627012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 rot="10800000">
                        <a:off x="5365800" y="630360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0" name=""/>
                      <p:cNvSpPr/>
                      <p:nvPr/>
                    </p:nvSpPr>
                    <p:spPr>
                      <a:xfrm rot="10800000">
                        <a:off x="5366880" y="63799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1" name=""/>
                      <p:cNvSpPr/>
                      <p:nvPr/>
                    </p:nvSpPr>
                    <p:spPr>
                      <a:xfrm rot="10800000">
                        <a:off x="5149080" y="642852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62" name=""/>
                    <p:cNvGrpSpPr/>
                    <p:nvPr/>
                  </p:nvGrpSpPr>
                  <p:grpSpPr>
                    <a:xfrm>
                      <a:off x="4203000" y="6647400"/>
                      <a:ext cx="1216440" cy="332640"/>
                      <a:chOff x="4203000" y="6647400"/>
                      <a:chExt cx="1216440" cy="332640"/>
                    </a:xfrm>
                  </p:grpSpPr>
                  <p:sp>
                    <p:nvSpPr>
                      <p:cNvPr id="663" name=""/>
                      <p:cNvSpPr/>
                      <p:nvPr/>
                    </p:nvSpPr>
                    <p:spPr>
                      <a:xfrm rot="10800000">
                        <a:off x="4236120" y="668520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 rot="10800000">
                        <a:off x="4591440" y="68745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 rot="10800000">
                        <a:off x="4844520" y="689580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 rot="10800000">
                        <a:off x="4545720" y="68965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 rot="10800000">
                        <a:off x="4386240" y="686052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 rot="10800000">
                        <a:off x="4203000" y="676764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9" name=""/>
                      <p:cNvSpPr/>
                      <p:nvPr/>
                    </p:nvSpPr>
                    <p:spPr>
                      <a:xfrm rot="10800000">
                        <a:off x="4347360" y="673020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 rot="10800000">
                        <a:off x="4478760" y="664740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 rot="10800000">
                        <a:off x="4685040" y="669240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 rot="10800000">
                        <a:off x="4824720" y="671508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 rot="10800000">
                        <a:off x="5016600" y="671472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 rot="10800000">
                        <a:off x="5281920" y="671472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 rot="10800000">
                        <a:off x="5365800" y="674784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 rot="10800000">
                        <a:off x="5366880" y="68245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 rot="10800000">
                        <a:off x="5149080" y="687312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4203000" y="7090920"/>
                      <a:ext cx="1216440" cy="331920"/>
                      <a:chOff x="4203000" y="7090920"/>
                      <a:chExt cx="1216440" cy="33192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 rot="10800000">
                        <a:off x="4236120" y="712872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 rot="10800000">
                        <a:off x="4591440" y="731736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 rot="10800000">
                        <a:off x="4844520" y="733896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2" name=""/>
                      <p:cNvSpPr/>
                      <p:nvPr/>
                    </p:nvSpPr>
                    <p:spPr>
                      <a:xfrm rot="10800000">
                        <a:off x="4545720" y="733932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 rot="10800000">
                        <a:off x="4386240" y="730404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 rot="10800000">
                        <a:off x="4203000" y="721080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 rot="10800000">
                        <a:off x="4347360" y="717336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6" name=""/>
                      <p:cNvSpPr/>
                      <p:nvPr/>
                    </p:nvSpPr>
                    <p:spPr>
                      <a:xfrm rot="10800000">
                        <a:off x="4478760" y="709092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 rot="10800000">
                        <a:off x="4685040" y="713592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 rot="10800000">
                        <a:off x="4824720" y="715860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 rot="10800000">
                        <a:off x="5016600" y="715788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rot="10800000">
                        <a:off x="5281920" y="715788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 rot="10800000">
                        <a:off x="5365800" y="719136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 rot="10800000">
                        <a:off x="5366880" y="726732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 rot="10800000">
                        <a:off x="5149080" y="731628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4" name=""/>
                    <p:cNvGrpSpPr/>
                    <p:nvPr/>
                  </p:nvGrpSpPr>
                  <p:grpSpPr>
                    <a:xfrm>
                      <a:off x="4203000" y="7534080"/>
                      <a:ext cx="1216440" cy="332640"/>
                      <a:chOff x="4203000" y="7534080"/>
                      <a:chExt cx="1216440" cy="332640"/>
                    </a:xfrm>
                  </p:grpSpPr>
                  <p:sp>
                    <p:nvSpPr>
                      <p:cNvPr id="695" name=""/>
                      <p:cNvSpPr/>
                      <p:nvPr/>
                    </p:nvSpPr>
                    <p:spPr>
                      <a:xfrm rot="10800000">
                        <a:off x="4236120" y="7571880"/>
                        <a:ext cx="117972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 rot="10800000">
                        <a:off x="4591440" y="776124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 rot="10800000">
                        <a:off x="4844520" y="778248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 rot="10800000">
                        <a:off x="4545720" y="778320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 rot="10800000">
                        <a:off x="4386240" y="7747200"/>
                        <a:ext cx="1558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 rot="10800000">
                        <a:off x="4203000" y="7654320"/>
                        <a:ext cx="187200" cy="9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 rot="10800000">
                        <a:off x="4347360" y="761688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 rot="10800000">
                        <a:off x="4478760" y="7534080"/>
                        <a:ext cx="2581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 rot="10800000">
                        <a:off x="4685040" y="757908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 rot="10800000">
                        <a:off x="4824720" y="760176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"/>
                      <p:cNvSpPr/>
                      <p:nvPr/>
                    </p:nvSpPr>
                    <p:spPr>
                      <a:xfrm rot="10800000">
                        <a:off x="5016600" y="760140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 rot="10800000">
                        <a:off x="5281920" y="760140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 rot="10800000">
                        <a:off x="5365800" y="7634520"/>
                        <a:ext cx="532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 rot="10800000">
                        <a:off x="5366880" y="771120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9" name=""/>
                      <p:cNvSpPr/>
                      <p:nvPr/>
                    </p:nvSpPr>
                    <p:spPr>
                      <a:xfrm rot="10800000">
                        <a:off x="5149080" y="775980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0" name=""/>
                    <p:cNvGrpSpPr/>
                    <p:nvPr/>
                  </p:nvGrpSpPr>
                  <p:grpSpPr>
                    <a:xfrm>
                      <a:off x="4203000" y="7977600"/>
                      <a:ext cx="1216440" cy="331920"/>
                      <a:chOff x="4203000" y="7977600"/>
                      <a:chExt cx="1216440" cy="331920"/>
                    </a:xfrm>
                  </p:grpSpPr>
                  <p:sp>
                    <p:nvSpPr>
                      <p:cNvPr id="711" name=""/>
                      <p:cNvSpPr/>
                      <p:nvPr/>
                    </p:nvSpPr>
                    <p:spPr>
                      <a:xfrm rot="10800000">
                        <a:off x="4236120" y="8015400"/>
                        <a:ext cx="1179720" cy="23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75" h="11276">
                            <a:moveTo>
                              <a:pt x="720" y="1691"/>
                            </a:moveTo>
                            <a:lnTo>
                              <a:pt x="625" y="1639"/>
                            </a:lnTo>
                            <a:lnTo>
                              <a:pt x="547" y="1569"/>
                            </a:lnTo>
                            <a:lnTo>
                              <a:pt x="483" y="1487"/>
                            </a:lnTo>
                            <a:lnTo>
                              <a:pt x="441" y="1390"/>
                            </a:lnTo>
                            <a:lnTo>
                              <a:pt x="420" y="1287"/>
                            </a:lnTo>
                            <a:lnTo>
                              <a:pt x="423" y="1138"/>
                            </a:lnTo>
                            <a:lnTo>
                              <a:pt x="465" y="1021"/>
                            </a:lnTo>
                            <a:lnTo>
                              <a:pt x="519" y="937"/>
                            </a:lnTo>
                            <a:lnTo>
                              <a:pt x="564" y="889"/>
                            </a:lnTo>
                            <a:lnTo>
                              <a:pt x="554" y="895"/>
                            </a:lnTo>
                            <a:lnTo>
                              <a:pt x="543" y="904"/>
                            </a:lnTo>
                            <a:lnTo>
                              <a:pt x="525" y="917"/>
                            </a:lnTo>
                            <a:lnTo>
                              <a:pt x="441" y="972"/>
                            </a:lnTo>
                            <a:lnTo>
                              <a:pt x="377" y="1031"/>
                            </a:lnTo>
                            <a:lnTo>
                              <a:pt x="325" y="1096"/>
                            </a:lnTo>
                            <a:lnTo>
                              <a:pt x="283" y="1166"/>
                            </a:lnTo>
                            <a:lnTo>
                              <a:pt x="254" y="1238"/>
                            </a:lnTo>
                            <a:lnTo>
                              <a:pt x="236" y="1313"/>
                            </a:lnTo>
                            <a:lnTo>
                              <a:pt x="229" y="1384"/>
                            </a:lnTo>
                            <a:lnTo>
                              <a:pt x="236" y="1459"/>
                            </a:lnTo>
                            <a:lnTo>
                              <a:pt x="254" y="1530"/>
                            </a:lnTo>
                            <a:lnTo>
                              <a:pt x="275" y="1594"/>
                            </a:lnTo>
                            <a:lnTo>
                              <a:pt x="307" y="1659"/>
                            </a:lnTo>
                            <a:lnTo>
                              <a:pt x="342" y="1708"/>
                            </a:lnTo>
                            <a:lnTo>
                              <a:pt x="389" y="1757"/>
                            </a:lnTo>
                            <a:lnTo>
                              <a:pt x="441" y="1808"/>
                            </a:lnTo>
                            <a:lnTo>
                              <a:pt x="509" y="1851"/>
                            </a:lnTo>
                            <a:lnTo>
                              <a:pt x="572" y="1890"/>
                            </a:lnTo>
                            <a:lnTo>
                              <a:pt x="649" y="1915"/>
                            </a:lnTo>
                            <a:lnTo>
                              <a:pt x="738" y="1938"/>
                            </a:lnTo>
                            <a:lnTo>
                              <a:pt x="826" y="1941"/>
                            </a:lnTo>
                            <a:lnTo>
                              <a:pt x="922" y="1938"/>
                            </a:lnTo>
                            <a:lnTo>
                              <a:pt x="1020" y="1915"/>
                            </a:lnTo>
                            <a:lnTo>
                              <a:pt x="1130" y="1873"/>
                            </a:lnTo>
                            <a:lnTo>
                              <a:pt x="1183" y="1844"/>
                            </a:lnTo>
                            <a:lnTo>
                              <a:pt x="1236" y="1808"/>
                            </a:lnTo>
                            <a:lnTo>
                              <a:pt x="1282" y="1769"/>
                            </a:lnTo>
                            <a:lnTo>
                              <a:pt x="1282" y="1776"/>
                            </a:lnTo>
                            <a:lnTo>
                              <a:pt x="1278" y="1776"/>
                            </a:lnTo>
                            <a:lnTo>
                              <a:pt x="1290" y="1769"/>
                            </a:lnTo>
                            <a:lnTo>
                              <a:pt x="1306" y="1763"/>
                            </a:lnTo>
                            <a:lnTo>
                              <a:pt x="1324" y="1753"/>
                            </a:lnTo>
                            <a:lnTo>
                              <a:pt x="1395" y="1721"/>
                            </a:lnTo>
                            <a:lnTo>
                              <a:pt x="1480" y="1675"/>
                            </a:lnTo>
                            <a:lnTo>
                              <a:pt x="1571" y="1611"/>
                            </a:lnTo>
                            <a:lnTo>
                              <a:pt x="1674" y="1530"/>
                            </a:lnTo>
                            <a:lnTo>
                              <a:pt x="1579" y="1601"/>
                            </a:lnTo>
                            <a:lnTo>
                              <a:pt x="1480" y="1650"/>
                            </a:lnTo>
                            <a:lnTo>
                              <a:pt x="1366" y="1682"/>
                            </a:lnTo>
                            <a:lnTo>
                              <a:pt x="1246" y="1691"/>
                            </a:lnTo>
                            <a:lnTo>
                              <a:pt x="1378" y="1691"/>
                            </a:lnTo>
                            <a:lnTo>
                              <a:pt x="1498" y="1682"/>
                            </a:lnTo>
                            <a:lnTo>
                              <a:pt x="1607" y="1650"/>
                            </a:lnTo>
                            <a:lnTo>
                              <a:pt x="1709" y="1601"/>
                            </a:lnTo>
                            <a:lnTo>
                              <a:pt x="1805" y="1530"/>
                            </a:lnTo>
                            <a:lnTo>
                              <a:pt x="1787" y="1545"/>
                            </a:lnTo>
                            <a:lnTo>
                              <a:pt x="1773" y="1556"/>
                            </a:lnTo>
                            <a:lnTo>
                              <a:pt x="1770" y="1556"/>
                            </a:lnTo>
                            <a:lnTo>
                              <a:pt x="1780" y="1553"/>
                            </a:lnTo>
                            <a:lnTo>
                              <a:pt x="1797" y="1539"/>
                            </a:lnTo>
                            <a:lnTo>
                              <a:pt x="1823" y="1536"/>
                            </a:lnTo>
                            <a:lnTo>
                              <a:pt x="1875" y="1514"/>
                            </a:lnTo>
                            <a:lnTo>
                              <a:pt x="1947" y="1481"/>
                            </a:lnTo>
                            <a:lnTo>
                              <a:pt x="2017" y="1439"/>
                            </a:lnTo>
                            <a:lnTo>
                              <a:pt x="2095" y="1390"/>
                            </a:lnTo>
                            <a:lnTo>
                              <a:pt x="2173" y="1323"/>
                            </a:lnTo>
                            <a:lnTo>
                              <a:pt x="2243" y="1248"/>
                            </a:lnTo>
                            <a:lnTo>
                              <a:pt x="2300" y="1150"/>
                            </a:lnTo>
                            <a:lnTo>
                              <a:pt x="2254" y="1225"/>
                            </a:lnTo>
                            <a:lnTo>
                              <a:pt x="2201" y="1287"/>
                            </a:lnTo>
                            <a:lnTo>
                              <a:pt x="2130" y="1338"/>
                            </a:lnTo>
                            <a:lnTo>
                              <a:pt x="2059" y="1390"/>
                            </a:lnTo>
                            <a:lnTo>
                              <a:pt x="1981" y="1423"/>
                            </a:lnTo>
                            <a:lnTo>
                              <a:pt x="1893" y="1442"/>
                            </a:lnTo>
                            <a:lnTo>
                              <a:pt x="1805" y="1456"/>
                            </a:lnTo>
                            <a:lnTo>
                              <a:pt x="1716" y="1456"/>
                            </a:lnTo>
                            <a:lnTo>
                              <a:pt x="1625" y="1442"/>
                            </a:lnTo>
                            <a:lnTo>
                              <a:pt x="1537" y="1417"/>
                            </a:lnTo>
                            <a:lnTo>
                              <a:pt x="1455" y="1378"/>
                            </a:lnTo>
                            <a:lnTo>
                              <a:pt x="1384" y="1335"/>
                            </a:lnTo>
                            <a:lnTo>
                              <a:pt x="1317" y="1280"/>
                            </a:lnTo>
                            <a:lnTo>
                              <a:pt x="1264" y="1216"/>
                            </a:lnTo>
                            <a:lnTo>
                              <a:pt x="1218" y="1144"/>
                            </a:lnTo>
                            <a:lnTo>
                              <a:pt x="1187" y="1069"/>
                            </a:lnTo>
                            <a:lnTo>
                              <a:pt x="1169" y="989"/>
                            </a:lnTo>
                            <a:lnTo>
                              <a:pt x="1158" y="904"/>
                            </a:lnTo>
                            <a:lnTo>
                              <a:pt x="1158" y="1025"/>
                            </a:lnTo>
                            <a:lnTo>
                              <a:pt x="1169" y="927"/>
                            </a:lnTo>
                            <a:lnTo>
                              <a:pt x="1194" y="837"/>
                            </a:lnTo>
                            <a:lnTo>
                              <a:pt x="1239" y="749"/>
                            </a:lnTo>
                            <a:lnTo>
                              <a:pt x="1300" y="668"/>
                            </a:lnTo>
                            <a:lnTo>
                              <a:pt x="1246" y="732"/>
                            </a:lnTo>
                            <a:lnTo>
                              <a:pt x="1187" y="791"/>
                            </a:lnTo>
                            <a:lnTo>
                              <a:pt x="1134" y="856"/>
                            </a:lnTo>
                            <a:lnTo>
                              <a:pt x="1077" y="917"/>
                            </a:lnTo>
                            <a:lnTo>
                              <a:pt x="1020" y="983"/>
                            </a:lnTo>
                            <a:lnTo>
                              <a:pt x="964" y="1041"/>
                            </a:lnTo>
                            <a:lnTo>
                              <a:pt x="911" y="1105"/>
                            </a:lnTo>
                            <a:lnTo>
                              <a:pt x="859" y="1174"/>
                            </a:lnTo>
                            <a:lnTo>
                              <a:pt x="802" y="1238"/>
                            </a:lnTo>
                            <a:lnTo>
                              <a:pt x="745" y="1306"/>
                            </a:lnTo>
                            <a:lnTo>
                              <a:pt x="691" y="1374"/>
                            </a:lnTo>
                            <a:lnTo>
                              <a:pt x="639" y="1439"/>
                            </a:lnTo>
                            <a:lnTo>
                              <a:pt x="582" y="1507"/>
                            </a:lnTo>
                            <a:lnTo>
                              <a:pt x="537" y="1578"/>
                            </a:lnTo>
                            <a:lnTo>
                              <a:pt x="483" y="1650"/>
                            </a:lnTo>
                            <a:lnTo>
                              <a:pt x="431" y="1724"/>
                            </a:lnTo>
                            <a:lnTo>
                              <a:pt x="385" y="1796"/>
                            </a:lnTo>
                            <a:lnTo>
                              <a:pt x="335" y="1873"/>
                            </a:lnTo>
                            <a:lnTo>
                              <a:pt x="328" y="1883"/>
                            </a:lnTo>
                            <a:lnTo>
                              <a:pt x="325" y="1893"/>
                            </a:lnTo>
                            <a:lnTo>
                              <a:pt x="317" y="1899"/>
                            </a:lnTo>
                            <a:lnTo>
                              <a:pt x="325" y="1899"/>
                            </a:lnTo>
                            <a:lnTo>
                              <a:pt x="311" y="1915"/>
                            </a:lnTo>
                            <a:lnTo>
                              <a:pt x="293" y="1938"/>
                            </a:lnTo>
                            <a:lnTo>
                              <a:pt x="275" y="1957"/>
                            </a:lnTo>
                            <a:lnTo>
                              <a:pt x="236" y="2026"/>
                            </a:lnTo>
                            <a:lnTo>
                              <a:pt x="187" y="2094"/>
                            </a:lnTo>
                            <a:lnTo>
                              <a:pt x="141" y="2181"/>
                            </a:lnTo>
                            <a:lnTo>
                              <a:pt x="99" y="2278"/>
                            </a:lnTo>
                            <a:lnTo>
                              <a:pt x="73" y="2388"/>
                            </a:lnTo>
                            <a:lnTo>
                              <a:pt x="63" y="2501"/>
                            </a:lnTo>
                            <a:lnTo>
                              <a:pt x="73" y="2599"/>
                            </a:lnTo>
                            <a:lnTo>
                              <a:pt x="99" y="2686"/>
                            </a:lnTo>
                            <a:lnTo>
                              <a:pt x="141" y="2767"/>
                            </a:lnTo>
                            <a:lnTo>
                              <a:pt x="194" y="2849"/>
                            </a:lnTo>
                            <a:lnTo>
                              <a:pt x="265" y="2913"/>
                            </a:lnTo>
                            <a:lnTo>
                              <a:pt x="342" y="2968"/>
                            </a:lnTo>
                            <a:lnTo>
                              <a:pt x="438" y="3013"/>
                            </a:lnTo>
                            <a:lnTo>
                              <a:pt x="530" y="3040"/>
                            </a:lnTo>
                            <a:lnTo>
                              <a:pt x="632" y="3056"/>
                            </a:lnTo>
                            <a:lnTo>
                              <a:pt x="730" y="3049"/>
                            </a:lnTo>
                            <a:lnTo>
                              <a:pt x="833" y="3033"/>
                            </a:lnTo>
                            <a:lnTo>
                              <a:pt x="929" y="3001"/>
                            </a:lnTo>
                            <a:lnTo>
                              <a:pt x="1017" y="2952"/>
                            </a:lnTo>
                            <a:lnTo>
                              <a:pt x="1095" y="2894"/>
                            </a:lnTo>
                            <a:lnTo>
                              <a:pt x="1158" y="2839"/>
                            </a:lnTo>
                            <a:lnTo>
                              <a:pt x="1229" y="2777"/>
                            </a:lnTo>
                            <a:lnTo>
                              <a:pt x="1306" y="2725"/>
                            </a:lnTo>
                            <a:lnTo>
                              <a:pt x="1388" y="2670"/>
                            </a:lnTo>
                            <a:lnTo>
                              <a:pt x="1473" y="2615"/>
                            </a:lnTo>
                            <a:lnTo>
                              <a:pt x="1553" y="2560"/>
                            </a:lnTo>
                            <a:lnTo>
                              <a:pt x="1643" y="2512"/>
                            </a:lnTo>
                            <a:lnTo>
                              <a:pt x="1734" y="2460"/>
                            </a:lnTo>
                            <a:lnTo>
                              <a:pt x="1826" y="2404"/>
                            </a:lnTo>
                            <a:lnTo>
                              <a:pt x="1904" y="2360"/>
                            </a:lnTo>
                            <a:lnTo>
                              <a:pt x="1981" y="2317"/>
                            </a:lnTo>
                            <a:lnTo>
                              <a:pt x="2059" y="2269"/>
                            </a:lnTo>
                            <a:lnTo>
                              <a:pt x="2137" y="2227"/>
                            </a:lnTo>
                            <a:lnTo>
                              <a:pt x="2218" y="2178"/>
                            </a:lnTo>
                            <a:lnTo>
                              <a:pt x="2296" y="2126"/>
                            </a:lnTo>
                            <a:lnTo>
                              <a:pt x="2373" y="2078"/>
                            </a:lnTo>
                            <a:lnTo>
                              <a:pt x="2448" y="2026"/>
                            </a:lnTo>
                            <a:lnTo>
                              <a:pt x="2526" y="1970"/>
                            </a:lnTo>
                            <a:lnTo>
                              <a:pt x="2604" y="1909"/>
                            </a:lnTo>
                            <a:lnTo>
                              <a:pt x="2674" y="1851"/>
                            </a:lnTo>
                            <a:lnTo>
                              <a:pt x="2685" y="1844"/>
                            </a:lnTo>
                            <a:lnTo>
                              <a:pt x="2698" y="1835"/>
                            </a:lnTo>
                            <a:lnTo>
                              <a:pt x="2702" y="1827"/>
                            </a:lnTo>
                            <a:lnTo>
                              <a:pt x="2770" y="1779"/>
                            </a:lnTo>
                            <a:lnTo>
                              <a:pt x="2840" y="1737"/>
                            </a:lnTo>
                            <a:lnTo>
                              <a:pt x="2921" y="1691"/>
                            </a:lnTo>
                            <a:lnTo>
                              <a:pt x="3017" y="1656"/>
                            </a:lnTo>
                            <a:lnTo>
                              <a:pt x="3123" y="1624"/>
                            </a:lnTo>
                            <a:lnTo>
                              <a:pt x="3243" y="1591"/>
                            </a:lnTo>
                            <a:lnTo>
                              <a:pt x="3367" y="1562"/>
                            </a:lnTo>
                            <a:lnTo>
                              <a:pt x="3278" y="1575"/>
                            </a:lnTo>
                            <a:lnTo>
                              <a:pt x="3190" y="1575"/>
                            </a:lnTo>
                            <a:lnTo>
                              <a:pt x="3105" y="1556"/>
                            </a:lnTo>
                            <a:lnTo>
                              <a:pt x="3024" y="1536"/>
                            </a:lnTo>
                            <a:lnTo>
                              <a:pt x="2939" y="1497"/>
                            </a:lnTo>
                            <a:lnTo>
                              <a:pt x="2868" y="1456"/>
                            </a:lnTo>
                            <a:lnTo>
                              <a:pt x="2812" y="1400"/>
                            </a:lnTo>
                            <a:lnTo>
                              <a:pt x="2752" y="1335"/>
                            </a:lnTo>
                            <a:lnTo>
                              <a:pt x="2710" y="1265"/>
                            </a:lnTo>
                            <a:lnTo>
                              <a:pt x="2674" y="1190"/>
                            </a:lnTo>
                            <a:lnTo>
                              <a:pt x="2649" y="1105"/>
                            </a:lnTo>
                            <a:lnTo>
                              <a:pt x="2646" y="1031"/>
                            </a:lnTo>
                            <a:lnTo>
                              <a:pt x="2649" y="950"/>
                            </a:lnTo>
                            <a:lnTo>
                              <a:pt x="2667" y="872"/>
                            </a:lnTo>
                            <a:lnTo>
                              <a:pt x="2698" y="798"/>
                            </a:lnTo>
                            <a:lnTo>
                              <a:pt x="2737" y="726"/>
                            </a:lnTo>
                            <a:lnTo>
                              <a:pt x="2794" y="662"/>
                            </a:lnTo>
                            <a:lnTo>
                              <a:pt x="2858" y="603"/>
                            </a:lnTo>
                            <a:lnTo>
                              <a:pt x="2776" y="668"/>
                            </a:lnTo>
                            <a:lnTo>
                              <a:pt x="2702" y="726"/>
                            </a:lnTo>
                            <a:lnTo>
                              <a:pt x="2628" y="788"/>
                            </a:lnTo>
                            <a:lnTo>
                              <a:pt x="2557" y="846"/>
                            </a:lnTo>
                            <a:lnTo>
                              <a:pt x="2483" y="904"/>
                            </a:lnTo>
                            <a:lnTo>
                              <a:pt x="2420" y="966"/>
                            </a:lnTo>
                            <a:lnTo>
                              <a:pt x="2356" y="1025"/>
                            </a:lnTo>
                            <a:lnTo>
                              <a:pt x="2289" y="1080"/>
                            </a:lnTo>
                            <a:lnTo>
                              <a:pt x="2225" y="1138"/>
                            </a:lnTo>
                            <a:lnTo>
                              <a:pt x="2165" y="1193"/>
                            </a:lnTo>
                            <a:lnTo>
                              <a:pt x="2105" y="1254"/>
                            </a:lnTo>
                            <a:lnTo>
                              <a:pt x="2045" y="1306"/>
                            </a:lnTo>
                            <a:lnTo>
                              <a:pt x="1989" y="1362"/>
                            </a:lnTo>
                            <a:lnTo>
                              <a:pt x="1935" y="1423"/>
                            </a:lnTo>
                            <a:lnTo>
                              <a:pt x="1875" y="1475"/>
                            </a:lnTo>
                            <a:lnTo>
                              <a:pt x="1823" y="1530"/>
                            </a:lnTo>
                            <a:lnTo>
                              <a:pt x="1770" y="1591"/>
                            </a:lnTo>
                            <a:lnTo>
                              <a:pt x="1709" y="1643"/>
                            </a:lnTo>
                            <a:lnTo>
                              <a:pt x="1656" y="1705"/>
                            </a:lnTo>
                            <a:lnTo>
                              <a:pt x="1604" y="1757"/>
                            </a:lnTo>
                            <a:lnTo>
                              <a:pt x="1550" y="1812"/>
                            </a:lnTo>
                            <a:lnTo>
                              <a:pt x="1490" y="1873"/>
                            </a:lnTo>
                            <a:lnTo>
                              <a:pt x="1438" y="1932"/>
                            </a:lnTo>
                            <a:lnTo>
                              <a:pt x="1384" y="1993"/>
                            </a:lnTo>
                            <a:lnTo>
                              <a:pt x="1324" y="2051"/>
                            </a:lnTo>
                            <a:lnTo>
                              <a:pt x="1264" y="2116"/>
                            </a:lnTo>
                            <a:lnTo>
                              <a:pt x="1204" y="2178"/>
                            </a:lnTo>
                            <a:lnTo>
                              <a:pt x="1140" y="2242"/>
                            </a:lnTo>
                            <a:lnTo>
                              <a:pt x="1080" y="2307"/>
                            </a:lnTo>
                            <a:lnTo>
                              <a:pt x="1017" y="2372"/>
                            </a:lnTo>
                            <a:lnTo>
                              <a:pt x="950" y="2443"/>
                            </a:lnTo>
                            <a:lnTo>
                              <a:pt x="886" y="2509"/>
                            </a:lnTo>
                            <a:lnTo>
                              <a:pt x="823" y="2579"/>
                            </a:lnTo>
                            <a:lnTo>
                              <a:pt x="748" y="2648"/>
                            </a:lnTo>
                            <a:lnTo>
                              <a:pt x="678" y="2719"/>
                            </a:lnTo>
                            <a:lnTo>
                              <a:pt x="607" y="2800"/>
                            </a:lnTo>
                            <a:lnTo>
                              <a:pt x="554" y="2894"/>
                            </a:lnTo>
                            <a:lnTo>
                              <a:pt x="525" y="2991"/>
                            </a:lnTo>
                            <a:lnTo>
                              <a:pt x="512" y="3095"/>
                            </a:lnTo>
                            <a:lnTo>
                              <a:pt x="537" y="2958"/>
                            </a:lnTo>
                            <a:lnTo>
                              <a:pt x="579" y="2861"/>
                            </a:lnTo>
                            <a:lnTo>
                              <a:pt x="607" y="2816"/>
                            </a:lnTo>
                            <a:lnTo>
                              <a:pt x="603" y="2822"/>
                            </a:lnTo>
                            <a:lnTo>
                              <a:pt x="537" y="2910"/>
                            </a:lnTo>
                            <a:lnTo>
                              <a:pt x="491" y="2998"/>
                            </a:lnTo>
                            <a:lnTo>
                              <a:pt x="455" y="3082"/>
                            </a:lnTo>
                            <a:lnTo>
                              <a:pt x="438" y="3170"/>
                            </a:lnTo>
                            <a:lnTo>
                              <a:pt x="431" y="3247"/>
                            </a:lnTo>
                            <a:lnTo>
                              <a:pt x="441" y="3322"/>
                            </a:lnTo>
                            <a:lnTo>
                              <a:pt x="459" y="3393"/>
                            </a:lnTo>
                            <a:lnTo>
                              <a:pt x="483" y="3464"/>
                            </a:lnTo>
                            <a:lnTo>
                              <a:pt x="512" y="3522"/>
                            </a:lnTo>
                            <a:lnTo>
                              <a:pt x="547" y="3577"/>
                            </a:lnTo>
                            <a:lnTo>
                              <a:pt x="582" y="3626"/>
                            </a:lnTo>
                            <a:lnTo>
                              <a:pt x="625" y="3665"/>
                            </a:lnTo>
                            <a:lnTo>
                              <a:pt x="696" y="3717"/>
                            </a:lnTo>
                            <a:lnTo>
                              <a:pt x="781" y="3762"/>
                            </a:lnTo>
                            <a:lnTo>
                              <a:pt x="862" y="3795"/>
                            </a:lnTo>
                            <a:lnTo>
                              <a:pt x="950" y="3817"/>
                            </a:lnTo>
                            <a:lnTo>
                              <a:pt x="1042" y="3827"/>
                            </a:lnTo>
                            <a:lnTo>
                              <a:pt x="1130" y="3820"/>
                            </a:lnTo>
                            <a:lnTo>
                              <a:pt x="1218" y="3804"/>
                            </a:lnTo>
                            <a:lnTo>
                              <a:pt x="1306" y="3772"/>
                            </a:lnTo>
                            <a:lnTo>
                              <a:pt x="1388" y="3733"/>
                            </a:lnTo>
                            <a:lnTo>
                              <a:pt x="1405" y="3717"/>
                            </a:lnTo>
                            <a:lnTo>
                              <a:pt x="1413" y="3717"/>
                            </a:lnTo>
                            <a:lnTo>
                              <a:pt x="1420" y="3714"/>
                            </a:lnTo>
                            <a:lnTo>
                              <a:pt x="1353" y="3746"/>
                            </a:lnTo>
                            <a:lnTo>
                              <a:pt x="1278" y="3765"/>
                            </a:lnTo>
                            <a:lnTo>
                              <a:pt x="1194" y="3781"/>
                            </a:lnTo>
                            <a:lnTo>
                              <a:pt x="1112" y="3781"/>
                            </a:lnTo>
                            <a:lnTo>
                              <a:pt x="1020" y="3778"/>
                            </a:lnTo>
                            <a:lnTo>
                              <a:pt x="940" y="3756"/>
                            </a:lnTo>
                            <a:lnTo>
                              <a:pt x="851" y="3723"/>
                            </a:lnTo>
                            <a:lnTo>
                              <a:pt x="766" y="3674"/>
                            </a:lnTo>
                            <a:lnTo>
                              <a:pt x="691" y="3610"/>
                            </a:lnTo>
                            <a:lnTo>
                              <a:pt x="625" y="3538"/>
                            </a:lnTo>
                            <a:lnTo>
                              <a:pt x="582" y="3464"/>
                            </a:lnTo>
                            <a:lnTo>
                              <a:pt x="547" y="3380"/>
                            </a:lnTo>
                            <a:lnTo>
                              <a:pt x="530" y="3299"/>
                            </a:lnTo>
                            <a:lnTo>
                              <a:pt x="525" y="3218"/>
                            </a:lnTo>
                            <a:lnTo>
                              <a:pt x="537" y="3143"/>
                            </a:lnTo>
                            <a:lnTo>
                              <a:pt x="554" y="3065"/>
                            </a:lnTo>
                            <a:lnTo>
                              <a:pt x="582" y="2998"/>
                            </a:lnTo>
                            <a:lnTo>
                              <a:pt x="625" y="2929"/>
                            </a:lnTo>
                            <a:lnTo>
                              <a:pt x="564" y="3017"/>
                            </a:lnTo>
                            <a:lnTo>
                              <a:pt x="530" y="3104"/>
                            </a:lnTo>
                            <a:lnTo>
                              <a:pt x="509" y="3192"/>
                            </a:lnTo>
                            <a:lnTo>
                              <a:pt x="501" y="3273"/>
                            </a:lnTo>
                            <a:lnTo>
                              <a:pt x="509" y="3347"/>
                            </a:lnTo>
                            <a:lnTo>
                              <a:pt x="525" y="3425"/>
                            </a:lnTo>
                            <a:lnTo>
                              <a:pt x="547" y="3496"/>
                            </a:lnTo>
                            <a:lnTo>
                              <a:pt x="582" y="3555"/>
                            </a:lnTo>
                            <a:lnTo>
                              <a:pt x="625" y="3610"/>
                            </a:lnTo>
                            <a:lnTo>
                              <a:pt x="649" y="3642"/>
                            </a:lnTo>
                            <a:lnTo>
                              <a:pt x="685" y="3674"/>
                            </a:lnTo>
                            <a:lnTo>
                              <a:pt x="730" y="3714"/>
                            </a:lnTo>
                            <a:lnTo>
                              <a:pt x="791" y="3749"/>
                            </a:lnTo>
                            <a:lnTo>
                              <a:pt x="859" y="3781"/>
                            </a:lnTo>
                            <a:lnTo>
                              <a:pt x="940" y="3811"/>
                            </a:lnTo>
                            <a:lnTo>
                              <a:pt x="1028" y="3833"/>
                            </a:lnTo>
                            <a:lnTo>
                              <a:pt x="1134" y="3837"/>
                            </a:lnTo>
                            <a:lnTo>
                              <a:pt x="1246" y="3827"/>
                            </a:lnTo>
                            <a:lnTo>
                              <a:pt x="1371" y="3795"/>
                            </a:lnTo>
                            <a:lnTo>
                              <a:pt x="1402" y="3789"/>
                            </a:lnTo>
                            <a:lnTo>
                              <a:pt x="1423" y="3778"/>
                            </a:lnTo>
                            <a:lnTo>
                              <a:pt x="1448" y="3765"/>
                            </a:lnTo>
                            <a:lnTo>
                              <a:pt x="1543" y="3723"/>
                            </a:lnTo>
                            <a:lnTo>
                              <a:pt x="1631" y="3681"/>
                            </a:lnTo>
                            <a:lnTo>
                              <a:pt x="1721" y="3632"/>
                            </a:lnTo>
                            <a:lnTo>
                              <a:pt x="1805" y="3580"/>
                            </a:lnTo>
                            <a:lnTo>
                              <a:pt x="1886" y="3532"/>
                            </a:lnTo>
                            <a:lnTo>
                              <a:pt x="2006" y="3467"/>
                            </a:lnTo>
                            <a:lnTo>
                              <a:pt x="2116" y="3402"/>
                            </a:lnTo>
                            <a:lnTo>
                              <a:pt x="2225" y="3353"/>
                            </a:lnTo>
                            <a:lnTo>
                              <a:pt x="2218" y="3353"/>
                            </a:lnTo>
                            <a:lnTo>
                              <a:pt x="2218" y="3361"/>
                            </a:lnTo>
                            <a:lnTo>
                              <a:pt x="2211" y="3361"/>
                            </a:lnTo>
                            <a:lnTo>
                              <a:pt x="2300" y="3322"/>
                            </a:lnTo>
                            <a:lnTo>
                              <a:pt x="2391" y="3283"/>
                            </a:lnTo>
                            <a:lnTo>
                              <a:pt x="2480" y="3250"/>
                            </a:lnTo>
                            <a:lnTo>
                              <a:pt x="2568" y="3214"/>
                            </a:lnTo>
                            <a:lnTo>
                              <a:pt x="2656" y="3176"/>
                            </a:lnTo>
                            <a:lnTo>
                              <a:pt x="2744" y="3143"/>
                            </a:lnTo>
                            <a:lnTo>
                              <a:pt x="2833" y="3104"/>
                            </a:lnTo>
                            <a:lnTo>
                              <a:pt x="2911" y="3071"/>
                            </a:lnTo>
                            <a:lnTo>
                              <a:pt x="2988" y="3046"/>
                            </a:lnTo>
                            <a:lnTo>
                              <a:pt x="3069" y="3013"/>
                            </a:lnTo>
                            <a:lnTo>
                              <a:pt x="3147" y="2979"/>
                            </a:lnTo>
                            <a:lnTo>
                              <a:pt x="3225" y="2946"/>
                            </a:lnTo>
                            <a:lnTo>
                              <a:pt x="3303" y="2919"/>
                            </a:lnTo>
                            <a:lnTo>
                              <a:pt x="3377" y="2888"/>
                            </a:lnTo>
                            <a:lnTo>
                              <a:pt x="3461" y="2855"/>
                            </a:lnTo>
                            <a:lnTo>
                              <a:pt x="3539" y="2816"/>
                            </a:lnTo>
                            <a:lnTo>
                              <a:pt x="3614" y="2783"/>
                            </a:lnTo>
                            <a:lnTo>
                              <a:pt x="3692" y="2751"/>
                            </a:lnTo>
                            <a:lnTo>
                              <a:pt x="3777" y="2712"/>
                            </a:lnTo>
                            <a:lnTo>
                              <a:pt x="3850" y="2677"/>
                            </a:lnTo>
                            <a:lnTo>
                              <a:pt x="3928" y="2645"/>
                            </a:lnTo>
                            <a:lnTo>
                              <a:pt x="3999" y="2606"/>
                            </a:lnTo>
                            <a:lnTo>
                              <a:pt x="4076" y="2567"/>
                            </a:lnTo>
                            <a:lnTo>
                              <a:pt x="4154" y="2524"/>
                            </a:lnTo>
                            <a:lnTo>
                              <a:pt x="4232" y="2485"/>
                            </a:lnTo>
                            <a:lnTo>
                              <a:pt x="4302" y="2443"/>
                            </a:lnTo>
                            <a:lnTo>
                              <a:pt x="4380" y="2398"/>
                            </a:lnTo>
                            <a:lnTo>
                              <a:pt x="4455" y="2355"/>
                            </a:lnTo>
                            <a:lnTo>
                              <a:pt x="4528" y="2307"/>
                            </a:lnTo>
                            <a:lnTo>
                              <a:pt x="4600" y="2258"/>
                            </a:lnTo>
                            <a:lnTo>
                              <a:pt x="4673" y="2213"/>
                            </a:lnTo>
                            <a:lnTo>
                              <a:pt x="4748" y="2158"/>
                            </a:lnTo>
                            <a:lnTo>
                              <a:pt x="4818" y="2109"/>
                            </a:lnTo>
                            <a:lnTo>
                              <a:pt x="4889" y="2058"/>
                            </a:lnTo>
                            <a:lnTo>
                              <a:pt x="4953" y="2003"/>
                            </a:lnTo>
                            <a:lnTo>
                              <a:pt x="5023" y="1948"/>
                            </a:lnTo>
                            <a:lnTo>
                              <a:pt x="5091" y="1890"/>
                            </a:lnTo>
                            <a:lnTo>
                              <a:pt x="5161" y="1827"/>
                            </a:lnTo>
                            <a:lnTo>
                              <a:pt x="5066" y="1899"/>
                            </a:lnTo>
                            <a:lnTo>
                              <a:pt x="4967" y="1948"/>
                            </a:lnTo>
                            <a:lnTo>
                              <a:pt x="4854" y="1981"/>
                            </a:lnTo>
                            <a:lnTo>
                              <a:pt x="4733" y="1993"/>
                            </a:lnTo>
                            <a:lnTo>
                              <a:pt x="4865" y="1993"/>
                            </a:lnTo>
                            <a:lnTo>
                              <a:pt x="4985" y="1981"/>
                            </a:lnTo>
                            <a:lnTo>
                              <a:pt x="5091" y="1948"/>
                            </a:lnTo>
                            <a:lnTo>
                              <a:pt x="5197" y="1899"/>
                            </a:lnTo>
                            <a:lnTo>
                              <a:pt x="5292" y="1827"/>
                            </a:lnTo>
                            <a:lnTo>
                              <a:pt x="5330" y="1802"/>
                            </a:lnTo>
                            <a:lnTo>
                              <a:pt x="5398" y="1776"/>
                            </a:lnTo>
                            <a:lnTo>
                              <a:pt x="5462" y="1747"/>
                            </a:lnTo>
                            <a:lnTo>
                              <a:pt x="5497" y="1730"/>
                            </a:lnTo>
                            <a:lnTo>
                              <a:pt x="5546" y="1714"/>
                            </a:lnTo>
                            <a:lnTo>
                              <a:pt x="5585" y="1691"/>
                            </a:lnTo>
                            <a:lnTo>
                              <a:pt x="5497" y="1724"/>
                            </a:lnTo>
                            <a:lnTo>
                              <a:pt x="5408" y="1747"/>
                            </a:lnTo>
                            <a:lnTo>
                              <a:pt x="5314" y="1753"/>
                            </a:lnTo>
                            <a:lnTo>
                              <a:pt x="5224" y="1747"/>
                            </a:lnTo>
                            <a:lnTo>
                              <a:pt x="5143" y="1730"/>
                            </a:lnTo>
                            <a:lnTo>
                              <a:pt x="5055" y="1699"/>
                            </a:lnTo>
                            <a:lnTo>
                              <a:pt x="4977" y="1659"/>
                            </a:lnTo>
                            <a:lnTo>
                              <a:pt x="4907" y="1611"/>
                            </a:lnTo>
                            <a:lnTo>
                              <a:pt x="4847" y="1545"/>
                            </a:lnTo>
                            <a:lnTo>
                              <a:pt x="4793" y="1475"/>
                            </a:lnTo>
                            <a:lnTo>
                              <a:pt x="4751" y="1393"/>
                            </a:lnTo>
                            <a:lnTo>
                              <a:pt x="4723" y="1319"/>
                            </a:lnTo>
                            <a:lnTo>
                              <a:pt x="4709" y="1232"/>
                            </a:lnTo>
                            <a:lnTo>
                              <a:pt x="4715" y="1150"/>
                            </a:lnTo>
                            <a:lnTo>
                              <a:pt x="4730" y="1069"/>
                            </a:lnTo>
                            <a:lnTo>
                              <a:pt x="4759" y="992"/>
                            </a:lnTo>
                            <a:lnTo>
                              <a:pt x="4793" y="920"/>
                            </a:lnTo>
                            <a:lnTo>
                              <a:pt x="4847" y="853"/>
                            </a:lnTo>
                            <a:lnTo>
                              <a:pt x="4910" y="791"/>
                            </a:lnTo>
                            <a:lnTo>
                              <a:pt x="4985" y="735"/>
                            </a:lnTo>
                            <a:lnTo>
                              <a:pt x="4910" y="781"/>
                            </a:lnTo>
                            <a:lnTo>
                              <a:pt x="4836" y="829"/>
                            </a:lnTo>
                            <a:lnTo>
                              <a:pt x="4766" y="872"/>
                            </a:lnTo>
                            <a:lnTo>
                              <a:pt x="4691" y="917"/>
                            </a:lnTo>
                            <a:lnTo>
                              <a:pt x="4621" y="966"/>
                            </a:lnTo>
                            <a:lnTo>
                              <a:pt x="4549" y="1014"/>
                            </a:lnTo>
                            <a:lnTo>
                              <a:pt x="4479" y="1057"/>
                            </a:lnTo>
                            <a:lnTo>
                              <a:pt x="4409" y="1105"/>
                            </a:lnTo>
                            <a:lnTo>
                              <a:pt x="4338" y="1154"/>
                            </a:lnTo>
                            <a:lnTo>
                              <a:pt x="4268" y="1205"/>
                            </a:lnTo>
                            <a:lnTo>
                              <a:pt x="4196" y="1254"/>
                            </a:lnTo>
                            <a:lnTo>
                              <a:pt x="4130" y="1303"/>
                            </a:lnTo>
                            <a:lnTo>
                              <a:pt x="4058" y="1351"/>
                            </a:lnTo>
                            <a:lnTo>
                              <a:pt x="3988" y="1400"/>
                            </a:lnTo>
                            <a:lnTo>
                              <a:pt x="3925" y="1448"/>
                            </a:lnTo>
                            <a:lnTo>
                              <a:pt x="3858" y="1497"/>
                            </a:lnTo>
                            <a:lnTo>
                              <a:pt x="3794" y="1545"/>
                            </a:lnTo>
                            <a:lnTo>
                              <a:pt x="3723" y="1594"/>
                            </a:lnTo>
                            <a:lnTo>
                              <a:pt x="3656" y="1650"/>
                            </a:lnTo>
                            <a:lnTo>
                              <a:pt x="3593" y="1699"/>
                            </a:lnTo>
                            <a:lnTo>
                              <a:pt x="3521" y="1753"/>
                            </a:lnTo>
                            <a:lnTo>
                              <a:pt x="3461" y="1802"/>
                            </a:lnTo>
                            <a:lnTo>
                              <a:pt x="3391" y="1851"/>
                            </a:lnTo>
                            <a:lnTo>
                              <a:pt x="3324" y="1906"/>
                            </a:lnTo>
                            <a:lnTo>
                              <a:pt x="3261" y="1954"/>
                            </a:lnTo>
                            <a:lnTo>
                              <a:pt x="3201" y="2009"/>
                            </a:lnTo>
                            <a:lnTo>
                              <a:pt x="3137" y="2058"/>
                            </a:lnTo>
                            <a:lnTo>
                              <a:pt x="3069" y="2109"/>
                            </a:lnTo>
                            <a:lnTo>
                              <a:pt x="3006" y="2158"/>
                            </a:lnTo>
                            <a:lnTo>
                              <a:pt x="2939" y="2213"/>
                            </a:lnTo>
                            <a:lnTo>
                              <a:pt x="2882" y="2261"/>
                            </a:lnTo>
                            <a:lnTo>
                              <a:pt x="2815" y="2317"/>
                            </a:lnTo>
                            <a:lnTo>
                              <a:pt x="2752" y="2366"/>
                            </a:lnTo>
                            <a:lnTo>
                              <a:pt x="2692" y="2421"/>
                            </a:lnTo>
                            <a:lnTo>
                              <a:pt x="2628" y="2469"/>
                            </a:lnTo>
                            <a:lnTo>
                              <a:pt x="2561" y="2524"/>
                            </a:lnTo>
                            <a:lnTo>
                              <a:pt x="2501" y="2573"/>
                            </a:lnTo>
                            <a:lnTo>
                              <a:pt x="2437" y="2628"/>
                            </a:lnTo>
                            <a:lnTo>
                              <a:pt x="2373" y="2680"/>
                            </a:lnTo>
                            <a:lnTo>
                              <a:pt x="2306" y="2735"/>
                            </a:lnTo>
                            <a:lnTo>
                              <a:pt x="2236" y="2791"/>
                            </a:lnTo>
                            <a:lnTo>
                              <a:pt x="2176" y="2839"/>
                            </a:lnTo>
                            <a:lnTo>
                              <a:pt x="2105" y="2894"/>
                            </a:lnTo>
                            <a:lnTo>
                              <a:pt x="2041" y="2946"/>
                            </a:lnTo>
                            <a:lnTo>
                              <a:pt x="1974" y="3001"/>
                            </a:lnTo>
                            <a:lnTo>
                              <a:pt x="1911" y="3056"/>
                            </a:lnTo>
                            <a:lnTo>
                              <a:pt x="1840" y="3111"/>
                            </a:lnTo>
                            <a:lnTo>
                              <a:pt x="1773" y="3162"/>
                            </a:lnTo>
                            <a:lnTo>
                              <a:pt x="1709" y="3218"/>
                            </a:lnTo>
                            <a:lnTo>
                              <a:pt x="1639" y="3267"/>
                            </a:lnTo>
                            <a:lnTo>
                              <a:pt x="1571" y="3322"/>
                            </a:lnTo>
                            <a:lnTo>
                              <a:pt x="1501" y="3377"/>
                            </a:lnTo>
                            <a:lnTo>
                              <a:pt x="1438" y="3432"/>
                            </a:lnTo>
                            <a:lnTo>
                              <a:pt x="1366" y="3483"/>
                            </a:lnTo>
                            <a:lnTo>
                              <a:pt x="1296" y="3532"/>
                            </a:lnTo>
                            <a:lnTo>
                              <a:pt x="1229" y="3587"/>
                            </a:lnTo>
                            <a:lnTo>
                              <a:pt x="1158" y="3635"/>
                            </a:lnTo>
                            <a:lnTo>
                              <a:pt x="1088" y="3690"/>
                            </a:lnTo>
                            <a:lnTo>
                              <a:pt x="1017" y="3739"/>
                            </a:lnTo>
                            <a:lnTo>
                              <a:pt x="950" y="3789"/>
                            </a:lnTo>
                            <a:lnTo>
                              <a:pt x="880" y="3843"/>
                            </a:lnTo>
                            <a:lnTo>
                              <a:pt x="859" y="3859"/>
                            </a:lnTo>
                            <a:lnTo>
                              <a:pt x="841" y="3869"/>
                            </a:lnTo>
                            <a:lnTo>
                              <a:pt x="823" y="3886"/>
                            </a:lnTo>
                            <a:lnTo>
                              <a:pt x="727" y="3980"/>
                            </a:lnTo>
                            <a:lnTo>
                              <a:pt x="657" y="4060"/>
                            </a:lnTo>
                            <a:lnTo>
                              <a:pt x="589" y="4141"/>
                            </a:lnTo>
                            <a:lnTo>
                              <a:pt x="543" y="4219"/>
                            </a:lnTo>
                            <a:lnTo>
                              <a:pt x="501" y="4287"/>
                            </a:lnTo>
                            <a:lnTo>
                              <a:pt x="473" y="4365"/>
                            </a:lnTo>
                            <a:lnTo>
                              <a:pt x="449" y="4439"/>
                            </a:lnTo>
                            <a:lnTo>
                              <a:pt x="441" y="4452"/>
                            </a:lnTo>
                            <a:lnTo>
                              <a:pt x="438" y="4456"/>
                            </a:lnTo>
                            <a:lnTo>
                              <a:pt x="438" y="4469"/>
                            </a:lnTo>
                            <a:lnTo>
                              <a:pt x="438" y="4462"/>
                            </a:lnTo>
                            <a:lnTo>
                              <a:pt x="431" y="4472"/>
                            </a:lnTo>
                            <a:lnTo>
                              <a:pt x="420" y="4488"/>
                            </a:lnTo>
                            <a:lnTo>
                              <a:pt x="389" y="4527"/>
                            </a:lnTo>
                            <a:lnTo>
                              <a:pt x="335" y="4591"/>
                            </a:lnTo>
                            <a:lnTo>
                              <a:pt x="299" y="4669"/>
                            </a:lnTo>
                            <a:lnTo>
                              <a:pt x="272" y="4744"/>
                            </a:lnTo>
                            <a:lnTo>
                              <a:pt x="257" y="4821"/>
                            </a:lnTo>
                            <a:lnTo>
                              <a:pt x="257" y="4903"/>
                            </a:lnTo>
                            <a:lnTo>
                              <a:pt x="272" y="4984"/>
                            </a:lnTo>
                            <a:lnTo>
                              <a:pt x="293" y="5055"/>
                            </a:lnTo>
                            <a:lnTo>
                              <a:pt x="328" y="5127"/>
                            </a:lnTo>
                            <a:lnTo>
                              <a:pt x="377" y="5197"/>
                            </a:lnTo>
                            <a:lnTo>
                              <a:pt x="438" y="5262"/>
                            </a:lnTo>
                            <a:lnTo>
                              <a:pt x="509" y="5318"/>
                            </a:lnTo>
                            <a:lnTo>
                              <a:pt x="579" y="5353"/>
                            </a:lnTo>
                            <a:lnTo>
                              <a:pt x="660" y="5385"/>
                            </a:lnTo>
                            <a:lnTo>
                              <a:pt x="745" y="5409"/>
                            </a:lnTo>
                            <a:lnTo>
                              <a:pt x="833" y="5421"/>
                            </a:lnTo>
                            <a:lnTo>
                              <a:pt x="914" y="5415"/>
                            </a:lnTo>
                            <a:lnTo>
                              <a:pt x="1003" y="5401"/>
                            </a:lnTo>
                            <a:lnTo>
                              <a:pt x="1095" y="5376"/>
                            </a:lnTo>
                            <a:lnTo>
                              <a:pt x="1183" y="5343"/>
                            </a:lnTo>
                            <a:lnTo>
                              <a:pt x="1272" y="5304"/>
                            </a:lnTo>
                            <a:lnTo>
                              <a:pt x="1360" y="5272"/>
                            </a:lnTo>
                            <a:lnTo>
                              <a:pt x="1448" y="5236"/>
                            </a:lnTo>
                            <a:lnTo>
                              <a:pt x="1537" y="5200"/>
                            </a:lnTo>
                            <a:lnTo>
                              <a:pt x="1625" y="5168"/>
                            </a:lnTo>
                            <a:lnTo>
                              <a:pt x="1709" y="5133"/>
                            </a:lnTo>
                            <a:lnTo>
                              <a:pt x="1797" y="5100"/>
                            </a:lnTo>
                            <a:lnTo>
                              <a:pt x="1879" y="5067"/>
                            </a:lnTo>
                            <a:lnTo>
                              <a:pt x="1963" y="5029"/>
                            </a:lnTo>
                            <a:lnTo>
                              <a:pt x="2045" y="5000"/>
                            </a:lnTo>
                            <a:lnTo>
                              <a:pt x="2137" y="4961"/>
                            </a:lnTo>
                            <a:lnTo>
                              <a:pt x="2218" y="4928"/>
                            </a:lnTo>
                            <a:lnTo>
                              <a:pt x="2296" y="4896"/>
                            </a:lnTo>
                            <a:lnTo>
                              <a:pt x="2378" y="4857"/>
                            </a:lnTo>
                            <a:lnTo>
                              <a:pt x="2455" y="4825"/>
                            </a:lnTo>
                            <a:lnTo>
                              <a:pt x="2536" y="4785"/>
                            </a:lnTo>
                            <a:lnTo>
                              <a:pt x="2614" y="4754"/>
                            </a:lnTo>
                            <a:lnTo>
                              <a:pt x="2698" y="4718"/>
                            </a:lnTo>
                            <a:lnTo>
                              <a:pt x="2776" y="4685"/>
                            </a:lnTo>
                            <a:lnTo>
                              <a:pt x="2851" y="4647"/>
                            </a:lnTo>
                            <a:lnTo>
                              <a:pt x="2928" y="4614"/>
                            </a:lnTo>
                            <a:lnTo>
                              <a:pt x="3006" y="4575"/>
                            </a:lnTo>
                            <a:lnTo>
                              <a:pt x="3084" y="4543"/>
                            </a:lnTo>
                            <a:lnTo>
                              <a:pt x="3158" y="4505"/>
                            </a:lnTo>
                            <a:lnTo>
                              <a:pt x="3232" y="4472"/>
                            </a:lnTo>
                            <a:lnTo>
                              <a:pt x="3307" y="4436"/>
                            </a:lnTo>
                            <a:lnTo>
                              <a:pt x="3377" y="4397"/>
                            </a:lnTo>
                            <a:lnTo>
                              <a:pt x="3455" y="4365"/>
                            </a:lnTo>
                            <a:lnTo>
                              <a:pt x="3525" y="4326"/>
                            </a:lnTo>
                            <a:lnTo>
                              <a:pt x="3603" y="4287"/>
                            </a:lnTo>
                            <a:lnTo>
                              <a:pt x="3674" y="4251"/>
                            </a:lnTo>
                            <a:lnTo>
                              <a:pt x="3744" y="4212"/>
                            </a:lnTo>
                            <a:lnTo>
                              <a:pt x="3816" y="4180"/>
                            </a:lnTo>
                            <a:lnTo>
                              <a:pt x="3889" y="4141"/>
                            </a:lnTo>
                            <a:lnTo>
                              <a:pt x="3960" y="4102"/>
                            </a:lnTo>
                            <a:lnTo>
                              <a:pt x="4030" y="4066"/>
                            </a:lnTo>
                            <a:lnTo>
                              <a:pt x="4102" y="4028"/>
                            </a:lnTo>
                            <a:lnTo>
                              <a:pt x="4172" y="3989"/>
                            </a:lnTo>
                            <a:lnTo>
                              <a:pt x="4242" y="3950"/>
                            </a:lnTo>
                            <a:lnTo>
                              <a:pt x="4310" y="3914"/>
                            </a:lnTo>
                            <a:lnTo>
                              <a:pt x="4380" y="3875"/>
                            </a:lnTo>
                            <a:lnTo>
                              <a:pt x="4444" y="3833"/>
                            </a:lnTo>
                            <a:lnTo>
                              <a:pt x="4515" y="3795"/>
                            </a:lnTo>
                            <a:lnTo>
                              <a:pt x="4582" y="3756"/>
                            </a:lnTo>
                            <a:lnTo>
                              <a:pt x="4652" y="3717"/>
                            </a:lnTo>
                            <a:lnTo>
                              <a:pt x="4715" y="3674"/>
                            </a:lnTo>
                            <a:lnTo>
                              <a:pt x="4787" y="3635"/>
                            </a:lnTo>
                            <a:lnTo>
                              <a:pt x="4854" y="3593"/>
                            </a:lnTo>
                            <a:lnTo>
                              <a:pt x="4917" y="3555"/>
                            </a:lnTo>
                            <a:lnTo>
                              <a:pt x="4985" y="3513"/>
                            </a:lnTo>
                            <a:lnTo>
                              <a:pt x="5055" y="3474"/>
                            </a:lnTo>
                            <a:lnTo>
                              <a:pt x="5119" y="3432"/>
                            </a:lnTo>
                            <a:lnTo>
                              <a:pt x="5185" y="3386"/>
                            </a:lnTo>
                            <a:lnTo>
                              <a:pt x="5249" y="3347"/>
                            </a:lnTo>
                            <a:lnTo>
                              <a:pt x="5314" y="3305"/>
                            </a:lnTo>
                            <a:lnTo>
                              <a:pt x="5380" y="3263"/>
                            </a:lnTo>
                            <a:lnTo>
                              <a:pt x="5444" y="3218"/>
                            </a:lnTo>
                            <a:lnTo>
                              <a:pt x="5511" y="3176"/>
                            </a:lnTo>
                            <a:lnTo>
                              <a:pt x="5574" y="3131"/>
                            </a:lnTo>
                            <a:lnTo>
                              <a:pt x="5642" y="3088"/>
                            </a:lnTo>
                            <a:lnTo>
                              <a:pt x="5706" y="3046"/>
                            </a:lnTo>
                            <a:lnTo>
                              <a:pt x="5769" y="2998"/>
                            </a:lnTo>
                            <a:lnTo>
                              <a:pt x="5836" y="2952"/>
                            </a:lnTo>
                            <a:lnTo>
                              <a:pt x="5899" y="2910"/>
                            </a:lnTo>
                            <a:lnTo>
                              <a:pt x="5966" y="2861"/>
                            </a:lnTo>
                            <a:lnTo>
                              <a:pt x="6031" y="2816"/>
                            </a:lnTo>
                            <a:lnTo>
                              <a:pt x="6098" y="2767"/>
                            </a:lnTo>
                            <a:lnTo>
                              <a:pt x="6161" y="2719"/>
                            </a:lnTo>
                            <a:lnTo>
                              <a:pt x="6225" y="2677"/>
                            </a:lnTo>
                            <a:lnTo>
                              <a:pt x="6291" y="2628"/>
                            </a:lnTo>
                            <a:lnTo>
                              <a:pt x="6352" y="2579"/>
                            </a:lnTo>
                            <a:lnTo>
                              <a:pt x="6415" y="2528"/>
                            </a:lnTo>
                            <a:lnTo>
                              <a:pt x="6486" y="2479"/>
                            </a:lnTo>
                            <a:lnTo>
                              <a:pt x="6546" y="2427"/>
                            </a:lnTo>
                            <a:lnTo>
                              <a:pt x="6610" y="2379"/>
                            </a:lnTo>
                            <a:lnTo>
                              <a:pt x="6677" y="2327"/>
                            </a:lnTo>
                            <a:lnTo>
                              <a:pt x="6740" y="2278"/>
                            </a:lnTo>
                            <a:lnTo>
                              <a:pt x="6807" y="2227"/>
                            </a:lnTo>
                            <a:lnTo>
                              <a:pt x="6871" y="2172"/>
                            </a:lnTo>
                            <a:lnTo>
                              <a:pt x="6942" y="2123"/>
                            </a:lnTo>
                            <a:lnTo>
                              <a:pt x="7002" y="2067"/>
                            </a:lnTo>
                            <a:lnTo>
                              <a:pt x="7072" y="2012"/>
                            </a:lnTo>
                            <a:lnTo>
                              <a:pt x="7140" y="1957"/>
                            </a:lnTo>
                            <a:lnTo>
                              <a:pt x="7204" y="1906"/>
                            </a:lnTo>
                            <a:lnTo>
                              <a:pt x="7161" y="1938"/>
                            </a:lnTo>
                            <a:lnTo>
                              <a:pt x="7114" y="1964"/>
                            </a:lnTo>
                            <a:lnTo>
                              <a:pt x="7065" y="1993"/>
                            </a:lnTo>
                            <a:lnTo>
                              <a:pt x="7157" y="1948"/>
                            </a:lnTo>
                            <a:lnTo>
                              <a:pt x="7231" y="1906"/>
                            </a:lnTo>
                            <a:lnTo>
                              <a:pt x="7298" y="1867"/>
                            </a:lnTo>
                            <a:lnTo>
                              <a:pt x="7334" y="1844"/>
                            </a:lnTo>
                            <a:lnTo>
                              <a:pt x="7362" y="1827"/>
                            </a:lnTo>
                            <a:lnTo>
                              <a:pt x="7394" y="1812"/>
                            </a:lnTo>
                            <a:lnTo>
                              <a:pt x="7302" y="1844"/>
                            </a:lnTo>
                            <a:lnTo>
                              <a:pt x="7214" y="1867"/>
                            </a:lnTo>
                            <a:lnTo>
                              <a:pt x="7122" y="1873"/>
                            </a:lnTo>
                            <a:lnTo>
                              <a:pt x="7178" y="1873"/>
                            </a:lnTo>
                            <a:lnTo>
                              <a:pt x="7249" y="1867"/>
                            </a:lnTo>
                            <a:lnTo>
                              <a:pt x="7334" y="1857"/>
                            </a:lnTo>
                            <a:lnTo>
                              <a:pt x="7430" y="1827"/>
                            </a:lnTo>
                            <a:lnTo>
                              <a:pt x="7535" y="1793"/>
                            </a:lnTo>
                            <a:lnTo>
                              <a:pt x="7635" y="1730"/>
                            </a:lnTo>
                            <a:lnTo>
                              <a:pt x="7740" y="1650"/>
                            </a:lnTo>
                            <a:lnTo>
                              <a:pt x="7871" y="1530"/>
                            </a:lnTo>
                            <a:lnTo>
                              <a:pt x="7931" y="1472"/>
                            </a:lnTo>
                            <a:lnTo>
                              <a:pt x="7976" y="1400"/>
                            </a:lnTo>
                            <a:lnTo>
                              <a:pt x="8009" y="1329"/>
                            </a:lnTo>
                            <a:lnTo>
                              <a:pt x="8033" y="1257"/>
                            </a:lnTo>
                            <a:lnTo>
                              <a:pt x="8044" y="1177"/>
                            </a:lnTo>
                            <a:lnTo>
                              <a:pt x="8044" y="1102"/>
                            </a:lnTo>
                            <a:lnTo>
                              <a:pt x="8033" y="1025"/>
                            </a:lnTo>
                            <a:lnTo>
                              <a:pt x="8009" y="950"/>
                            </a:lnTo>
                            <a:lnTo>
                              <a:pt x="7976" y="878"/>
                            </a:lnTo>
                            <a:lnTo>
                              <a:pt x="7931" y="814"/>
                            </a:lnTo>
                            <a:lnTo>
                              <a:pt x="7871" y="749"/>
                            </a:lnTo>
                            <a:lnTo>
                              <a:pt x="7801" y="694"/>
                            </a:lnTo>
                            <a:lnTo>
                              <a:pt x="7729" y="655"/>
                            </a:lnTo>
                            <a:lnTo>
                              <a:pt x="7651" y="622"/>
                            </a:lnTo>
                            <a:lnTo>
                              <a:pt x="7571" y="603"/>
                            </a:lnTo>
                            <a:lnTo>
                              <a:pt x="7485" y="590"/>
                            </a:lnTo>
                            <a:lnTo>
                              <a:pt x="7404" y="590"/>
                            </a:lnTo>
                            <a:lnTo>
                              <a:pt x="7319" y="603"/>
                            </a:lnTo>
                            <a:lnTo>
                              <a:pt x="7238" y="622"/>
                            </a:lnTo>
                            <a:lnTo>
                              <a:pt x="7161" y="655"/>
                            </a:lnTo>
                            <a:lnTo>
                              <a:pt x="7083" y="694"/>
                            </a:lnTo>
                            <a:lnTo>
                              <a:pt x="7020" y="749"/>
                            </a:lnTo>
                            <a:lnTo>
                              <a:pt x="6825" y="927"/>
                            </a:lnTo>
                            <a:lnTo>
                              <a:pt x="6440" y="1287"/>
                            </a:lnTo>
                            <a:lnTo>
                              <a:pt x="6468" y="1257"/>
                            </a:lnTo>
                            <a:lnTo>
                              <a:pt x="6493" y="1238"/>
                            </a:lnTo>
                            <a:lnTo>
                              <a:pt x="6529" y="1216"/>
                            </a:lnTo>
                            <a:lnTo>
                              <a:pt x="6451" y="1265"/>
                            </a:lnTo>
                            <a:lnTo>
                              <a:pt x="6373" y="1313"/>
                            </a:lnTo>
                            <a:lnTo>
                              <a:pt x="6299" y="1362"/>
                            </a:lnTo>
                            <a:lnTo>
                              <a:pt x="6225" y="1410"/>
                            </a:lnTo>
                            <a:lnTo>
                              <a:pt x="6150" y="1456"/>
                            </a:lnTo>
                            <a:lnTo>
                              <a:pt x="6080" y="1504"/>
                            </a:lnTo>
                            <a:lnTo>
                              <a:pt x="6002" y="1553"/>
                            </a:lnTo>
                            <a:lnTo>
                              <a:pt x="5932" y="1601"/>
                            </a:lnTo>
                            <a:lnTo>
                              <a:pt x="5860" y="1650"/>
                            </a:lnTo>
                            <a:lnTo>
                              <a:pt x="5787" y="1699"/>
                            </a:lnTo>
                            <a:lnTo>
                              <a:pt x="5716" y="1747"/>
                            </a:lnTo>
                            <a:lnTo>
                              <a:pt x="5645" y="1796"/>
                            </a:lnTo>
                            <a:lnTo>
                              <a:pt x="5574" y="1851"/>
                            </a:lnTo>
                            <a:lnTo>
                              <a:pt x="5504" y="1899"/>
                            </a:lnTo>
                            <a:lnTo>
                              <a:pt x="5433" y="1948"/>
                            </a:lnTo>
                            <a:lnTo>
                              <a:pt x="5366" y="1996"/>
                            </a:lnTo>
                            <a:lnTo>
                              <a:pt x="5296" y="2045"/>
                            </a:lnTo>
                            <a:lnTo>
                              <a:pt x="5232" y="2100"/>
                            </a:lnTo>
                            <a:lnTo>
                              <a:pt x="5161" y="2148"/>
                            </a:lnTo>
                            <a:lnTo>
                              <a:pt x="5094" y="2197"/>
                            </a:lnTo>
                            <a:lnTo>
                              <a:pt x="5023" y="2252"/>
                            </a:lnTo>
                            <a:lnTo>
                              <a:pt x="4959" y="2301"/>
                            </a:lnTo>
                            <a:lnTo>
                              <a:pt x="4893" y="2349"/>
                            </a:lnTo>
                            <a:lnTo>
                              <a:pt x="4829" y="2404"/>
                            </a:lnTo>
                            <a:lnTo>
                              <a:pt x="4759" y="2453"/>
                            </a:lnTo>
                            <a:lnTo>
                              <a:pt x="4699" y="2509"/>
                            </a:lnTo>
                            <a:lnTo>
                              <a:pt x="4635" y="2557"/>
                            </a:lnTo>
                            <a:lnTo>
                              <a:pt x="4564" y="2612"/>
                            </a:lnTo>
                            <a:lnTo>
                              <a:pt x="4504" y="2661"/>
                            </a:lnTo>
                            <a:lnTo>
                              <a:pt x="4437" y="2709"/>
                            </a:lnTo>
                            <a:lnTo>
                              <a:pt x="4373" y="2761"/>
                            </a:lnTo>
                            <a:lnTo>
                              <a:pt x="4310" y="2816"/>
                            </a:lnTo>
                            <a:lnTo>
                              <a:pt x="4242" y="2864"/>
                            </a:lnTo>
                            <a:lnTo>
                              <a:pt x="4183" y="2919"/>
                            </a:lnTo>
                            <a:lnTo>
                              <a:pt x="4118" y="2968"/>
                            </a:lnTo>
                            <a:lnTo>
                              <a:pt x="4058" y="3023"/>
                            </a:lnTo>
                            <a:lnTo>
                              <a:pt x="3995" y="3071"/>
                            </a:lnTo>
                            <a:lnTo>
                              <a:pt x="3935" y="3127"/>
                            </a:lnTo>
                            <a:lnTo>
                              <a:pt x="3871" y="3179"/>
                            </a:lnTo>
                            <a:lnTo>
                              <a:pt x="3811" y="3231"/>
                            </a:lnTo>
                            <a:lnTo>
                              <a:pt x="3752" y="3283"/>
                            </a:lnTo>
                            <a:lnTo>
                              <a:pt x="3687" y="3331"/>
                            </a:lnTo>
                            <a:lnTo>
                              <a:pt x="3627" y="3386"/>
                            </a:lnTo>
                            <a:lnTo>
                              <a:pt x="3568" y="3435"/>
                            </a:lnTo>
                            <a:lnTo>
                              <a:pt x="3504" y="3490"/>
                            </a:lnTo>
                            <a:lnTo>
                              <a:pt x="3445" y="3545"/>
                            </a:lnTo>
                            <a:lnTo>
                              <a:pt x="3384" y="3593"/>
                            </a:lnTo>
                            <a:lnTo>
                              <a:pt x="3324" y="3649"/>
                            </a:lnTo>
                            <a:lnTo>
                              <a:pt x="3261" y="3701"/>
                            </a:lnTo>
                            <a:lnTo>
                              <a:pt x="3201" y="3749"/>
                            </a:lnTo>
                            <a:lnTo>
                              <a:pt x="3141" y="3804"/>
                            </a:lnTo>
                            <a:lnTo>
                              <a:pt x="3084" y="3853"/>
                            </a:lnTo>
                            <a:lnTo>
                              <a:pt x="3024" y="3908"/>
                            </a:lnTo>
                            <a:lnTo>
                              <a:pt x="2963" y="3956"/>
                            </a:lnTo>
                            <a:lnTo>
                              <a:pt x="2903" y="4011"/>
                            </a:lnTo>
                            <a:lnTo>
                              <a:pt x="2847" y="4060"/>
                            </a:lnTo>
                            <a:lnTo>
                              <a:pt x="2788" y="4115"/>
                            </a:lnTo>
                            <a:lnTo>
                              <a:pt x="2727" y="4167"/>
                            </a:lnTo>
                            <a:lnTo>
                              <a:pt x="2667" y="4223"/>
                            </a:lnTo>
                            <a:lnTo>
                              <a:pt x="2604" y="4277"/>
                            </a:lnTo>
                            <a:lnTo>
                              <a:pt x="2544" y="4332"/>
                            </a:lnTo>
                            <a:lnTo>
                              <a:pt x="2480" y="4384"/>
                            </a:lnTo>
                            <a:lnTo>
                              <a:pt x="2412" y="4439"/>
                            </a:lnTo>
                            <a:lnTo>
                              <a:pt x="2356" y="4494"/>
                            </a:lnTo>
                            <a:lnTo>
                              <a:pt x="2289" y="4549"/>
                            </a:lnTo>
                            <a:lnTo>
                              <a:pt x="2228" y="4602"/>
                            </a:lnTo>
                            <a:lnTo>
                              <a:pt x="2165" y="4657"/>
                            </a:lnTo>
                            <a:lnTo>
                              <a:pt x="2098" y="4712"/>
                            </a:lnTo>
                            <a:lnTo>
                              <a:pt x="2041" y="4766"/>
                            </a:lnTo>
                            <a:lnTo>
                              <a:pt x="1974" y="4821"/>
                            </a:lnTo>
                            <a:lnTo>
                              <a:pt x="1911" y="4879"/>
                            </a:lnTo>
                            <a:lnTo>
                              <a:pt x="1844" y="4935"/>
                            </a:lnTo>
                            <a:lnTo>
                              <a:pt x="1780" y="4987"/>
                            </a:lnTo>
                            <a:lnTo>
                              <a:pt x="1716" y="5039"/>
                            </a:lnTo>
                            <a:lnTo>
                              <a:pt x="1649" y="5094"/>
                            </a:lnTo>
                            <a:lnTo>
                              <a:pt x="1586" y="5149"/>
                            </a:lnTo>
                            <a:lnTo>
                              <a:pt x="1519" y="5200"/>
                            </a:lnTo>
                            <a:lnTo>
                              <a:pt x="1455" y="5255"/>
                            </a:lnTo>
                            <a:lnTo>
                              <a:pt x="1388" y="5318"/>
                            </a:lnTo>
                            <a:lnTo>
                              <a:pt x="1324" y="5369"/>
                            </a:lnTo>
                            <a:lnTo>
                              <a:pt x="1254" y="5424"/>
                            </a:lnTo>
                            <a:lnTo>
                              <a:pt x="1187" y="5479"/>
                            </a:lnTo>
                            <a:lnTo>
                              <a:pt x="1122" y="5534"/>
                            </a:lnTo>
                            <a:lnTo>
                              <a:pt x="1059" y="5586"/>
                            </a:lnTo>
                            <a:lnTo>
                              <a:pt x="985" y="5641"/>
                            </a:lnTo>
                            <a:lnTo>
                              <a:pt x="922" y="5697"/>
                            </a:lnTo>
                            <a:lnTo>
                              <a:pt x="851" y="5752"/>
                            </a:lnTo>
                            <a:lnTo>
                              <a:pt x="841" y="5761"/>
                            </a:lnTo>
                            <a:lnTo>
                              <a:pt x="833" y="5768"/>
                            </a:lnTo>
                            <a:lnTo>
                              <a:pt x="823" y="5777"/>
                            </a:lnTo>
                            <a:lnTo>
                              <a:pt x="826" y="5771"/>
                            </a:lnTo>
                            <a:lnTo>
                              <a:pt x="833" y="5768"/>
                            </a:lnTo>
                            <a:lnTo>
                              <a:pt x="816" y="5777"/>
                            </a:lnTo>
                            <a:lnTo>
                              <a:pt x="784" y="5794"/>
                            </a:lnTo>
                            <a:lnTo>
                              <a:pt x="763" y="5810"/>
                            </a:lnTo>
                            <a:lnTo>
                              <a:pt x="703" y="5843"/>
                            </a:lnTo>
                            <a:lnTo>
                              <a:pt x="642" y="5874"/>
                            </a:lnTo>
                            <a:lnTo>
                              <a:pt x="572" y="5920"/>
                            </a:lnTo>
                            <a:lnTo>
                              <a:pt x="509" y="5968"/>
                            </a:lnTo>
                            <a:lnTo>
                              <a:pt x="441" y="6026"/>
                            </a:lnTo>
                            <a:lnTo>
                              <a:pt x="377" y="6092"/>
                            </a:lnTo>
                            <a:lnTo>
                              <a:pt x="317" y="6169"/>
                            </a:lnTo>
                            <a:lnTo>
                              <a:pt x="265" y="6257"/>
                            </a:lnTo>
                            <a:lnTo>
                              <a:pt x="223" y="6347"/>
                            </a:lnTo>
                            <a:lnTo>
                              <a:pt x="201" y="6435"/>
                            </a:lnTo>
                            <a:lnTo>
                              <a:pt x="194" y="6523"/>
                            </a:lnTo>
                            <a:lnTo>
                              <a:pt x="201" y="6607"/>
                            </a:lnTo>
                            <a:lnTo>
                              <a:pt x="223" y="6691"/>
                            </a:lnTo>
                            <a:lnTo>
                              <a:pt x="257" y="6772"/>
                            </a:lnTo>
                            <a:lnTo>
                              <a:pt x="307" y="6847"/>
                            </a:lnTo>
                            <a:lnTo>
                              <a:pt x="371" y="6911"/>
                            </a:lnTo>
                            <a:lnTo>
                              <a:pt x="441" y="6973"/>
                            </a:lnTo>
                            <a:lnTo>
                              <a:pt x="525" y="7015"/>
                            </a:lnTo>
                            <a:lnTo>
                              <a:pt x="607" y="7048"/>
                            </a:lnTo>
                            <a:lnTo>
                              <a:pt x="703" y="7070"/>
                            </a:lnTo>
                            <a:lnTo>
                              <a:pt x="798" y="7077"/>
                            </a:lnTo>
                            <a:lnTo>
                              <a:pt x="893" y="7070"/>
                            </a:lnTo>
                            <a:lnTo>
                              <a:pt x="985" y="7048"/>
                            </a:lnTo>
                            <a:lnTo>
                              <a:pt x="1095" y="7008"/>
                            </a:lnTo>
                            <a:lnTo>
                              <a:pt x="1187" y="6966"/>
                            </a:lnTo>
                            <a:lnTo>
                              <a:pt x="1278" y="6924"/>
                            </a:lnTo>
                            <a:lnTo>
                              <a:pt x="1360" y="6875"/>
                            </a:lnTo>
                            <a:lnTo>
                              <a:pt x="1430" y="6820"/>
                            </a:lnTo>
                            <a:lnTo>
                              <a:pt x="1501" y="6772"/>
                            </a:lnTo>
                            <a:lnTo>
                              <a:pt x="1561" y="6717"/>
                            </a:lnTo>
                            <a:lnTo>
                              <a:pt x="1621" y="6668"/>
                            </a:lnTo>
                            <a:lnTo>
                              <a:pt x="1674" y="6620"/>
                            </a:lnTo>
                            <a:lnTo>
                              <a:pt x="1643" y="6642"/>
                            </a:lnTo>
                            <a:lnTo>
                              <a:pt x="1614" y="6668"/>
                            </a:lnTo>
                            <a:lnTo>
                              <a:pt x="1579" y="6684"/>
                            </a:lnTo>
                            <a:lnTo>
                              <a:pt x="1660" y="6642"/>
                            </a:lnTo>
                            <a:lnTo>
                              <a:pt x="1745" y="6597"/>
                            </a:lnTo>
                            <a:lnTo>
                              <a:pt x="1833" y="6555"/>
                            </a:lnTo>
                            <a:lnTo>
                              <a:pt x="1921" y="6516"/>
                            </a:lnTo>
                            <a:lnTo>
                              <a:pt x="2017" y="6474"/>
                            </a:lnTo>
                            <a:lnTo>
                              <a:pt x="2113" y="6435"/>
                            </a:lnTo>
                            <a:lnTo>
                              <a:pt x="2201" y="6396"/>
                            </a:lnTo>
                            <a:lnTo>
                              <a:pt x="2282" y="6357"/>
                            </a:lnTo>
                            <a:lnTo>
                              <a:pt x="2373" y="6322"/>
                            </a:lnTo>
                            <a:lnTo>
                              <a:pt x="2455" y="6283"/>
                            </a:lnTo>
                            <a:lnTo>
                              <a:pt x="2544" y="6241"/>
                            </a:lnTo>
                            <a:lnTo>
                              <a:pt x="2632" y="6195"/>
                            </a:lnTo>
                            <a:lnTo>
                              <a:pt x="2720" y="6147"/>
                            </a:lnTo>
                            <a:lnTo>
                              <a:pt x="2812" y="6092"/>
                            </a:lnTo>
                            <a:lnTo>
                              <a:pt x="2886" y="6050"/>
                            </a:lnTo>
                            <a:lnTo>
                              <a:pt x="2963" y="6001"/>
                            </a:lnTo>
                            <a:lnTo>
                              <a:pt x="3041" y="5956"/>
                            </a:lnTo>
                            <a:lnTo>
                              <a:pt x="3119" y="5913"/>
                            </a:lnTo>
                            <a:lnTo>
                              <a:pt x="3193" y="5865"/>
                            </a:lnTo>
                            <a:lnTo>
                              <a:pt x="3268" y="5823"/>
                            </a:lnTo>
                            <a:lnTo>
                              <a:pt x="3342" y="5777"/>
                            </a:lnTo>
                            <a:lnTo>
                              <a:pt x="3419" y="5735"/>
                            </a:lnTo>
                            <a:lnTo>
                              <a:pt x="3490" y="5689"/>
                            </a:lnTo>
                            <a:lnTo>
                              <a:pt x="3560" y="5641"/>
                            </a:lnTo>
                            <a:lnTo>
                              <a:pt x="3632" y="5603"/>
                            </a:lnTo>
                            <a:lnTo>
                              <a:pt x="3705" y="5554"/>
                            </a:lnTo>
                            <a:lnTo>
                              <a:pt x="3777" y="5512"/>
                            </a:lnTo>
                            <a:lnTo>
                              <a:pt x="3847" y="5470"/>
                            </a:lnTo>
                            <a:lnTo>
                              <a:pt x="3918" y="5424"/>
                            </a:lnTo>
                            <a:lnTo>
                              <a:pt x="3988" y="5382"/>
                            </a:lnTo>
                            <a:lnTo>
                              <a:pt x="4058" y="5337"/>
                            </a:lnTo>
                            <a:lnTo>
                              <a:pt x="4126" y="5294"/>
                            </a:lnTo>
                            <a:lnTo>
                              <a:pt x="4196" y="5252"/>
                            </a:lnTo>
                            <a:lnTo>
                              <a:pt x="4268" y="5207"/>
                            </a:lnTo>
                            <a:lnTo>
                              <a:pt x="4331" y="5165"/>
                            </a:lnTo>
                            <a:lnTo>
                              <a:pt x="4401" y="5119"/>
                            </a:lnTo>
                            <a:lnTo>
                              <a:pt x="4468" y="5078"/>
                            </a:lnTo>
                            <a:lnTo>
                              <a:pt x="4539" y="5036"/>
                            </a:lnTo>
                            <a:lnTo>
                              <a:pt x="4603" y="4993"/>
                            </a:lnTo>
                            <a:lnTo>
                              <a:pt x="4673" y="4951"/>
                            </a:lnTo>
                            <a:lnTo>
                              <a:pt x="4741" y="4903"/>
                            </a:lnTo>
                            <a:lnTo>
                              <a:pt x="4811" y="4857"/>
                            </a:lnTo>
                            <a:lnTo>
                              <a:pt x="4875" y="4815"/>
                            </a:lnTo>
                            <a:lnTo>
                              <a:pt x="4949" y="4766"/>
                            </a:lnTo>
                            <a:lnTo>
                              <a:pt x="5013" y="4721"/>
                            </a:lnTo>
                            <a:lnTo>
                              <a:pt x="5083" y="4672"/>
                            </a:lnTo>
                            <a:lnTo>
                              <a:pt x="5146" y="4624"/>
                            </a:lnTo>
                            <a:lnTo>
                              <a:pt x="5221" y="4575"/>
                            </a:lnTo>
                            <a:lnTo>
                              <a:pt x="5292" y="4527"/>
                            </a:lnTo>
                            <a:lnTo>
                              <a:pt x="5363" y="4478"/>
                            </a:lnTo>
                            <a:lnTo>
                              <a:pt x="5348" y="4488"/>
                            </a:lnTo>
                            <a:lnTo>
                              <a:pt x="5338" y="4494"/>
                            </a:lnTo>
                            <a:lnTo>
                              <a:pt x="5327" y="4500"/>
                            </a:lnTo>
                            <a:lnTo>
                              <a:pt x="5408" y="4452"/>
                            </a:lnTo>
                            <a:lnTo>
                              <a:pt x="5493" y="4397"/>
                            </a:lnTo>
                            <a:lnTo>
                              <a:pt x="5574" y="4342"/>
                            </a:lnTo>
                            <a:lnTo>
                              <a:pt x="5652" y="4287"/>
                            </a:lnTo>
                            <a:lnTo>
                              <a:pt x="5733" y="4235"/>
                            </a:lnTo>
                            <a:lnTo>
                              <a:pt x="5804" y="4180"/>
                            </a:lnTo>
                            <a:lnTo>
                              <a:pt x="5882" y="4125"/>
                            </a:lnTo>
                            <a:lnTo>
                              <a:pt x="5959" y="4069"/>
                            </a:lnTo>
                            <a:lnTo>
                              <a:pt x="6031" y="4018"/>
                            </a:lnTo>
                            <a:lnTo>
                              <a:pt x="6108" y="3963"/>
                            </a:lnTo>
                            <a:lnTo>
                              <a:pt x="6179" y="3908"/>
                            </a:lnTo>
                            <a:lnTo>
                              <a:pt x="6257" y="3853"/>
                            </a:lnTo>
                            <a:lnTo>
                              <a:pt x="6334" y="3795"/>
                            </a:lnTo>
                            <a:lnTo>
                              <a:pt x="6405" y="3739"/>
                            </a:lnTo>
                            <a:lnTo>
                              <a:pt x="6483" y="3684"/>
                            </a:lnTo>
                            <a:lnTo>
                              <a:pt x="6553" y="3632"/>
                            </a:lnTo>
                            <a:lnTo>
                              <a:pt x="6628" y="3580"/>
                            </a:lnTo>
                            <a:lnTo>
                              <a:pt x="6705" y="3529"/>
                            </a:lnTo>
                            <a:lnTo>
                              <a:pt x="6783" y="3480"/>
                            </a:lnTo>
                            <a:lnTo>
                              <a:pt x="6861" y="3425"/>
                            </a:lnTo>
                            <a:lnTo>
                              <a:pt x="6942" y="3377"/>
                            </a:lnTo>
                            <a:lnTo>
                              <a:pt x="6956" y="3370"/>
                            </a:lnTo>
                            <a:lnTo>
                              <a:pt x="6966" y="3361"/>
                            </a:lnTo>
                            <a:lnTo>
                              <a:pt x="6984" y="3347"/>
                            </a:lnTo>
                            <a:lnTo>
                              <a:pt x="7062" y="3283"/>
                            </a:lnTo>
                            <a:lnTo>
                              <a:pt x="7140" y="3218"/>
                            </a:lnTo>
                            <a:lnTo>
                              <a:pt x="7214" y="3153"/>
                            </a:lnTo>
                            <a:lnTo>
                              <a:pt x="7280" y="3088"/>
                            </a:lnTo>
                            <a:lnTo>
                              <a:pt x="7345" y="3023"/>
                            </a:lnTo>
                            <a:lnTo>
                              <a:pt x="7404" y="2958"/>
                            </a:lnTo>
                            <a:lnTo>
                              <a:pt x="7482" y="2877"/>
                            </a:lnTo>
                            <a:lnTo>
                              <a:pt x="7560" y="2806"/>
                            </a:lnTo>
                            <a:lnTo>
                              <a:pt x="7630" y="2742"/>
                            </a:lnTo>
                            <a:lnTo>
                              <a:pt x="7705" y="2686"/>
                            </a:lnTo>
                            <a:lnTo>
                              <a:pt x="7779" y="2645"/>
                            </a:lnTo>
                            <a:lnTo>
                              <a:pt x="7789" y="2637"/>
                            </a:lnTo>
                            <a:lnTo>
                              <a:pt x="7797" y="2637"/>
                            </a:lnTo>
                            <a:lnTo>
                              <a:pt x="7801" y="2631"/>
                            </a:lnTo>
                            <a:lnTo>
                              <a:pt x="7885" y="2589"/>
                            </a:lnTo>
                            <a:lnTo>
                              <a:pt x="7966" y="2543"/>
                            </a:lnTo>
                            <a:lnTo>
                              <a:pt x="8044" y="2495"/>
                            </a:lnTo>
                            <a:lnTo>
                              <a:pt x="8121" y="2453"/>
                            </a:lnTo>
                            <a:lnTo>
                              <a:pt x="8203" y="2404"/>
                            </a:lnTo>
                            <a:lnTo>
                              <a:pt x="8274" y="2355"/>
                            </a:lnTo>
                            <a:lnTo>
                              <a:pt x="8352" y="2307"/>
                            </a:lnTo>
                            <a:lnTo>
                              <a:pt x="8422" y="2258"/>
                            </a:lnTo>
                            <a:lnTo>
                              <a:pt x="8500" y="2203"/>
                            </a:lnTo>
                            <a:lnTo>
                              <a:pt x="8570" y="2155"/>
                            </a:lnTo>
                            <a:lnTo>
                              <a:pt x="8634" y="2100"/>
                            </a:lnTo>
                            <a:lnTo>
                              <a:pt x="8712" y="2045"/>
                            </a:lnTo>
                            <a:lnTo>
                              <a:pt x="8783" y="1996"/>
                            </a:lnTo>
                            <a:lnTo>
                              <a:pt x="8850" y="1941"/>
                            </a:lnTo>
                            <a:lnTo>
                              <a:pt x="8916" y="1890"/>
                            </a:lnTo>
                            <a:lnTo>
                              <a:pt x="8988" y="1835"/>
                            </a:lnTo>
                            <a:lnTo>
                              <a:pt x="9072" y="1769"/>
                            </a:lnTo>
                            <a:lnTo>
                              <a:pt x="9154" y="1708"/>
                            </a:lnTo>
                            <a:lnTo>
                              <a:pt x="9235" y="1643"/>
                            </a:lnTo>
                            <a:lnTo>
                              <a:pt x="9320" y="1585"/>
                            </a:lnTo>
                            <a:lnTo>
                              <a:pt x="9401" y="1520"/>
                            </a:lnTo>
                            <a:lnTo>
                              <a:pt x="9489" y="1459"/>
                            </a:lnTo>
                            <a:lnTo>
                              <a:pt x="9453" y="1481"/>
                            </a:lnTo>
                            <a:lnTo>
                              <a:pt x="9419" y="1504"/>
                            </a:lnTo>
                            <a:lnTo>
                              <a:pt x="9390" y="1520"/>
                            </a:lnTo>
                            <a:lnTo>
                              <a:pt x="9450" y="1487"/>
                            </a:lnTo>
                            <a:lnTo>
                              <a:pt x="9503" y="1459"/>
                            </a:lnTo>
                            <a:lnTo>
                              <a:pt x="9549" y="1432"/>
                            </a:lnTo>
                            <a:lnTo>
                              <a:pt x="9580" y="1417"/>
                            </a:lnTo>
                            <a:lnTo>
                              <a:pt x="9601" y="1400"/>
                            </a:lnTo>
                            <a:lnTo>
                              <a:pt x="9627" y="1390"/>
                            </a:lnTo>
                            <a:lnTo>
                              <a:pt x="9616" y="1393"/>
                            </a:lnTo>
                            <a:lnTo>
                              <a:pt x="9598" y="1393"/>
                            </a:lnTo>
                            <a:lnTo>
                              <a:pt x="9567" y="1400"/>
                            </a:lnTo>
                            <a:lnTo>
                              <a:pt x="9471" y="1390"/>
                            </a:lnTo>
                            <a:lnTo>
                              <a:pt x="9372" y="1368"/>
                            </a:lnTo>
                            <a:lnTo>
                              <a:pt x="9284" y="1329"/>
                            </a:lnTo>
                            <a:lnTo>
                              <a:pt x="9199" y="1287"/>
                            </a:lnTo>
                            <a:lnTo>
                              <a:pt x="9128" y="1222"/>
                            </a:lnTo>
                            <a:lnTo>
                              <a:pt x="9072" y="1150"/>
                            </a:lnTo>
                            <a:lnTo>
                              <a:pt x="9022" y="1069"/>
                            </a:lnTo>
                            <a:lnTo>
                              <a:pt x="8988" y="983"/>
                            </a:lnTo>
                            <a:lnTo>
                              <a:pt x="8970" y="895"/>
                            </a:lnTo>
                            <a:lnTo>
                              <a:pt x="8970" y="804"/>
                            </a:lnTo>
                            <a:lnTo>
                              <a:pt x="8988" y="716"/>
                            </a:lnTo>
                            <a:lnTo>
                              <a:pt x="9016" y="629"/>
                            </a:lnTo>
                            <a:lnTo>
                              <a:pt x="9058" y="549"/>
                            </a:lnTo>
                            <a:lnTo>
                              <a:pt x="9125" y="477"/>
                            </a:lnTo>
                            <a:lnTo>
                              <a:pt x="9065" y="535"/>
                            </a:lnTo>
                            <a:lnTo>
                              <a:pt x="9004" y="597"/>
                            </a:lnTo>
                            <a:lnTo>
                              <a:pt x="8944" y="655"/>
                            </a:lnTo>
                            <a:lnTo>
                              <a:pt x="8889" y="710"/>
                            </a:lnTo>
                            <a:lnTo>
                              <a:pt x="8832" y="771"/>
                            </a:lnTo>
                            <a:lnTo>
                              <a:pt x="8772" y="823"/>
                            </a:lnTo>
                            <a:lnTo>
                              <a:pt x="8708" y="885"/>
                            </a:lnTo>
                            <a:lnTo>
                              <a:pt x="8648" y="937"/>
                            </a:lnTo>
                            <a:lnTo>
                              <a:pt x="8588" y="998"/>
                            </a:lnTo>
                            <a:lnTo>
                              <a:pt x="8524" y="1053"/>
                            </a:lnTo>
                            <a:lnTo>
                              <a:pt x="8464" y="1105"/>
                            </a:lnTo>
                            <a:lnTo>
                              <a:pt x="8397" y="1160"/>
                            </a:lnTo>
                            <a:lnTo>
                              <a:pt x="8341" y="1216"/>
                            </a:lnTo>
                            <a:lnTo>
                              <a:pt x="8274" y="1271"/>
                            </a:lnTo>
                            <a:lnTo>
                              <a:pt x="8210" y="1323"/>
                            </a:lnTo>
                            <a:lnTo>
                              <a:pt x="8150" y="1378"/>
                            </a:lnTo>
                            <a:lnTo>
                              <a:pt x="8087" y="1432"/>
                            </a:lnTo>
                            <a:lnTo>
                              <a:pt x="8019" y="1487"/>
                            </a:lnTo>
                            <a:lnTo>
                              <a:pt x="7955" y="1539"/>
                            </a:lnTo>
                            <a:lnTo>
                              <a:pt x="7888" y="1594"/>
                            </a:lnTo>
                            <a:lnTo>
                              <a:pt x="7825" y="1650"/>
                            </a:lnTo>
                            <a:lnTo>
                              <a:pt x="7758" y="1705"/>
                            </a:lnTo>
                            <a:lnTo>
                              <a:pt x="7695" y="1757"/>
                            </a:lnTo>
                            <a:lnTo>
                              <a:pt x="7630" y="1808"/>
                            </a:lnTo>
                            <a:lnTo>
                              <a:pt x="7563" y="1860"/>
                            </a:lnTo>
                            <a:lnTo>
                              <a:pt x="7500" y="1915"/>
                            </a:lnTo>
                            <a:lnTo>
                              <a:pt x="7433" y="1970"/>
                            </a:lnTo>
                            <a:lnTo>
                              <a:pt x="7369" y="2026"/>
                            </a:lnTo>
                            <a:lnTo>
                              <a:pt x="7302" y="2078"/>
                            </a:lnTo>
                            <a:lnTo>
                              <a:pt x="7238" y="2133"/>
                            </a:lnTo>
                            <a:lnTo>
                              <a:pt x="7175" y="2181"/>
                            </a:lnTo>
                            <a:lnTo>
                              <a:pt x="7108" y="2236"/>
                            </a:lnTo>
                            <a:lnTo>
                              <a:pt x="7044" y="2291"/>
                            </a:lnTo>
                            <a:lnTo>
                              <a:pt x="6977" y="2343"/>
                            </a:lnTo>
                            <a:lnTo>
                              <a:pt x="6914" y="2398"/>
                            </a:lnTo>
                            <a:lnTo>
                              <a:pt x="6846" y="2453"/>
                            </a:lnTo>
                            <a:lnTo>
                              <a:pt x="6783" y="2509"/>
                            </a:lnTo>
                            <a:lnTo>
                              <a:pt x="6719" y="2560"/>
                            </a:lnTo>
                            <a:lnTo>
                              <a:pt x="6652" y="2615"/>
                            </a:lnTo>
                            <a:lnTo>
                              <a:pt x="6589" y="2677"/>
                            </a:lnTo>
                            <a:lnTo>
                              <a:pt x="6529" y="2728"/>
                            </a:lnTo>
                            <a:lnTo>
                              <a:pt x="6461" y="2783"/>
                            </a:lnTo>
                            <a:lnTo>
                              <a:pt x="6397" y="2839"/>
                            </a:lnTo>
                            <a:lnTo>
                              <a:pt x="6334" y="2897"/>
                            </a:lnTo>
                            <a:lnTo>
                              <a:pt x="6267" y="2958"/>
                            </a:lnTo>
                            <a:lnTo>
                              <a:pt x="6203" y="3013"/>
                            </a:lnTo>
                            <a:lnTo>
                              <a:pt x="6137" y="3071"/>
                            </a:lnTo>
                            <a:lnTo>
                              <a:pt x="6080" y="3131"/>
                            </a:lnTo>
                            <a:lnTo>
                              <a:pt x="6013" y="3192"/>
                            </a:lnTo>
                            <a:lnTo>
                              <a:pt x="5949" y="3250"/>
                            </a:lnTo>
                            <a:lnTo>
                              <a:pt x="5889" y="3311"/>
                            </a:lnTo>
                            <a:lnTo>
                              <a:pt x="5826" y="3370"/>
                            </a:lnTo>
                            <a:lnTo>
                              <a:pt x="5766" y="3432"/>
                            </a:lnTo>
                            <a:lnTo>
                              <a:pt x="5698" y="3496"/>
                            </a:lnTo>
                            <a:lnTo>
                              <a:pt x="5642" y="3555"/>
                            </a:lnTo>
                            <a:lnTo>
                              <a:pt x="5645" y="3548"/>
                            </a:lnTo>
                            <a:lnTo>
                              <a:pt x="5645" y="3545"/>
                            </a:lnTo>
                            <a:lnTo>
                              <a:pt x="4949" y="4245"/>
                            </a:lnTo>
                            <a:lnTo>
                              <a:pt x="4882" y="4309"/>
                            </a:lnTo>
                            <a:lnTo>
                              <a:pt x="4822" y="4368"/>
                            </a:lnTo>
                            <a:lnTo>
                              <a:pt x="4766" y="4430"/>
                            </a:lnTo>
                            <a:lnTo>
                              <a:pt x="4705" y="4488"/>
                            </a:lnTo>
                            <a:lnTo>
                              <a:pt x="4645" y="4549"/>
                            </a:lnTo>
                            <a:lnTo>
                              <a:pt x="4582" y="4608"/>
                            </a:lnTo>
                            <a:lnTo>
                              <a:pt x="4522" y="4669"/>
                            </a:lnTo>
                            <a:lnTo>
                              <a:pt x="4461" y="4727"/>
                            </a:lnTo>
                            <a:lnTo>
                              <a:pt x="4401" y="4785"/>
                            </a:lnTo>
                            <a:lnTo>
                              <a:pt x="4345" y="4848"/>
                            </a:lnTo>
                            <a:lnTo>
                              <a:pt x="4284" y="4906"/>
                            </a:lnTo>
                            <a:lnTo>
                              <a:pt x="4225" y="4967"/>
                            </a:lnTo>
                            <a:lnTo>
                              <a:pt x="4165" y="5019"/>
                            </a:lnTo>
                            <a:lnTo>
                              <a:pt x="4108" y="5078"/>
                            </a:lnTo>
                            <a:lnTo>
                              <a:pt x="4042" y="5136"/>
                            </a:lnTo>
                            <a:lnTo>
                              <a:pt x="3981" y="5191"/>
                            </a:lnTo>
                            <a:lnTo>
                              <a:pt x="3925" y="5252"/>
                            </a:lnTo>
                            <a:lnTo>
                              <a:pt x="3858" y="5310"/>
                            </a:lnTo>
                            <a:lnTo>
                              <a:pt x="3798" y="5369"/>
                            </a:lnTo>
                            <a:lnTo>
                              <a:pt x="3734" y="5424"/>
                            </a:lnTo>
                            <a:lnTo>
                              <a:pt x="3674" y="5486"/>
                            </a:lnTo>
                            <a:lnTo>
                              <a:pt x="3614" y="5544"/>
                            </a:lnTo>
                            <a:lnTo>
                              <a:pt x="3550" y="5600"/>
                            </a:lnTo>
                            <a:lnTo>
                              <a:pt x="3487" y="5658"/>
                            </a:lnTo>
                            <a:lnTo>
                              <a:pt x="3419" y="5713"/>
                            </a:lnTo>
                            <a:lnTo>
                              <a:pt x="3359" y="5771"/>
                            </a:lnTo>
                            <a:lnTo>
                              <a:pt x="3295" y="5832"/>
                            </a:lnTo>
                            <a:lnTo>
                              <a:pt x="3232" y="5888"/>
                            </a:lnTo>
                            <a:lnTo>
                              <a:pt x="3165" y="5946"/>
                            </a:lnTo>
                            <a:lnTo>
                              <a:pt x="3102" y="6001"/>
                            </a:lnTo>
                            <a:lnTo>
                              <a:pt x="3030" y="6059"/>
                            </a:lnTo>
                            <a:lnTo>
                              <a:pt x="3051" y="6040"/>
                            </a:lnTo>
                            <a:lnTo>
                              <a:pt x="3084" y="6023"/>
                            </a:lnTo>
                            <a:lnTo>
                              <a:pt x="3105" y="6004"/>
                            </a:lnTo>
                            <a:lnTo>
                              <a:pt x="2996" y="6076"/>
                            </a:lnTo>
                            <a:lnTo>
                              <a:pt x="2900" y="6147"/>
                            </a:lnTo>
                            <a:lnTo>
                              <a:pt x="2812" y="6211"/>
                            </a:lnTo>
                            <a:lnTo>
                              <a:pt x="2734" y="6260"/>
                            </a:lnTo>
                            <a:lnTo>
                              <a:pt x="2664" y="6316"/>
                            </a:lnTo>
                            <a:lnTo>
                              <a:pt x="2593" y="6357"/>
                            </a:lnTo>
                            <a:lnTo>
                              <a:pt x="2557" y="6380"/>
                            </a:lnTo>
                            <a:lnTo>
                              <a:pt x="2526" y="6402"/>
                            </a:lnTo>
                            <a:lnTo>
                              <a:pt x="2497" y="6429"/>
                            </a:lnTo>
                            <a:lnTo>
                              <a:pt x="2593" y="6371"/>
                            </a:lnTo>
                            <a:lnTo>
                              <a:pt x="2681" y="6338"/>
                            </a:lnTo>
                            <a:lnTo>
                              <a:pt x="2744" y="6325"/>
                            </a:lnTo>
                            <a:lnTo>
                              <a:pt x="2737" y="6325"/>
                            </a:lnTo>
                            <a:lnTo>
                              <a:pt x="2734" y="6325"/>
                            </a:lnTo>
                            <a:lnTo>
                              <a:pt x="2620" y="6338"/>
                            </a:lnTo>
                            <a:lnTo>
                              <a:pt x="2518" y="6357"/>
                            </a:lnTo>
                            <a:lnTo>
                              <a:pt x="2420" y="6402"/>
                            </a:lnTo>
                            <a:lnTo>
                              <a:pt x="2335" y="6461"/>
                            </a:lnTo>
                            <a:lnTo>
                              <a:pt x="1957" y="6772"/>
                            </a:lnTo>
                            <a:lnTo>
                              <a:pt x="1893" y="6827"/>
                            </a:lnTo>
                            <a:lnTo>
                              <a:pt x="1823" y="6886"/>
                            </a:lnTo>
                            <a:lnTo>
                              <a:pt x="1755" y="6941"/>
                            </a:lnTo>
                            <a:lnTo>
                              <a:pt x="1685" y="6993"/>
                            </a:lnTo>
                            <a:lnTo>
                              <a:pt x="1621" y="7048"/>
                            </a:lnTo>
                            <a:lnTo>
                              <a:pt x="1553" y="7102"/>
                            </a:lnTo>
                            <a:lnTo>
                              <a:pt x="1483" y="7157"/>
                            </a:lnTo>
                            <a:lnTo>
                              <a:pt x="1420" y="7206"/>
                            </a:lnTo>
                            <a:lnTo>
                              <a:pt x="1349" y="7261"/>
                            </a:lnTo>
                            <a:lnTo>
                              <a:pt x="1282" y="7309"/>
                            </a:lnTo>
                            <a:lnTo>
                              <a:pt x="1212" y="7361"/>
                            </a:lnTo>
                            <a:lnTo>
                              <a:pt x="1140" y="7411"/>
                            </a:lnTo>
                            <a:lnTo>
                              <a:pt x="1070" y="7463"/>
                            </a:lnTo>
                            <a:lnTo>
                              <a:pt x="999" y="7511"/>
                            </a:lnTo>
                            <a:lnTo>
                              <a:pt x="922" y="7560"/>
                            </a:lnTo>
                            <a:lnTo>
                              <a:pt x="851" y="7602"/>
                            </a:lnTo>
                            <a:lnTo>
                              <a:pt x="816" y="7624"/>
                            </a:lnTo>
                            <a:lnTo>
                              <a:pt x="784" y="7646"/>
                            </a:lnTo>
                            <a:lnTo>
                              <a:pt x="756" y="7673"/>
                            </a:lnTo>
                            <a:lnTo>
                              <a:pt x="714" y="7712"/>
                            </a:lnTo>
                            <a:lnTo>
                              <a:pt x="667" y="7748"/>
                            </a:lnTo>
                            <a:lnTo>
                              <a:pt x="625" y="7786"/>
                            </a:lnTo>
                            <a:lnTo>
                              <a:pt x="561" y="7842"/>
                            </a:lnTo>
                            <a:lnTo>
                              <a:pt x="494" y="7900"/>
                            </a:lnTo>
                            <a:lnTo>
                              <a:pt x="431" y="7961"/>
                            </a:lnTo>
                            <a:lnTo>
                              <a:pt x="360" y="8019"/>
                            </a:lnTo>
                            <a:lnTo>
                              <a:pt x="293" y="8091"/>
                            </a:lnTo>
                            <a:lnTo>
                              <a:pt x="229" y="8162"/>
                            </a:lnTo>
                            <a:lnTo>
                              <a:pt x="169" y="8237"/>
                            </a:lnTo>
                            <a:lnTo>
                              <a:pt x="109" y="8318"/>
                            </a:lnTo>
                            <a:lnTo>
                              <a:pt x="63" y="8405"/>
                            </a:lnTo>
                            <a:lnTo>
                              <a:pt x="28" y="8492"/>
                            </a:lnTo>
                            <a:lnTo>
                              <a:pt x="3" y="8580"/>
                            </a:lnTo>
                            <a:lnTo>
                              <a:pt x="0" y="8668"/>
                            </a:lnTo>
                            <a:lnTo>
                              <a:pt x="10" y="8749"/>
                            </a:lnTo>
                            <a:lnTo>
                              <a:pt x="34" y="8832"/>
                            </a:lnTo>
                            <a:lnTo>
                              <a:pt x="70" y="8917"/>
                            </a:lnTo>
                            <a:lnTo>
                              <a:pt x="123" y="8985"/>
                            </a:lnTo>
                            <a:lnTo>
                              <a:pt x="187" y="9053"/>
                            </a:lnTo>
                            <a:lnTo>
                              <a:pt x="257" y="9111"/>
                            </a:lnTo>
                            <a:lnTo>
                              <a:pt x="346" y="9153"/>
                            </a:lnTo>
                            <a:lnTo>
                              <a:pt x="431" y="9186"/>
                            </a:lnTo>
                            <a:lnTo>
                              <a:pt x="525" y="9202"/>
                            </a:lnTo>
                            <a:lnTo>
                              <a:pt x="621" y="9208"/>
                            </a:lnTo>
                            <a:lnTo>
                              <a:pt x="714" y="9199"/>
                            </a:lnTo>
                            <a:lnTo>
                              <a:pt x="802" y="9169"/>
                            </a:lnTo>
                            <a:lnTo>
                              <a:pt x="896" y="9137"/>
                            </a:lnTo>
                            <a:lnTo>
                              <a:pt x="974" y="9102"/>
                            </a:lnTo>
                            <a:lnTo>
                              <a:pt x="1052" y="9056"/>
                            </a:lnTo>
                            <a:lnTo>
                              <a:pt x="1130" y="9017"/>
                            </a:lnTo>
                            <a:lnTo>
                              <a:pt x="1200" y="8975"/>
                            </a:lnTo>
                            <a:lnTo>
                              <a:pt x="1278" y="8937"/>
                            </a:lnTo>
                            <a:lnTo>
                              <a:pt x="1353" y="8895"/>
                            </a:lnTo>
                            <a:lnTo>
                              <a:pt x="1430" y="8852"/>
                            </a:lnTo>
                            <a:lnTo>
                              <a:pt x="1508" y="8813"/>
                            </a:lnTo>
                            <a:lnTo>
                              <a:pt x="1586" y="8768"/>
                            </a:lnTo>
                            <a:lnTo>
                              <a:pt x="1656" y="8726"/>
                            </a:lnTo>
                            <a:lnTo>
                              <a:pt x="1734" y="8687"/>
                            </a:lnTo>
                            <a:lnTo>
                              <a:pt x="1805" y="8644"/>
                            </a:lnTo>
                            <a:lnTo>
                              <a:pt x="1879" y="8599"/>
                            </a:lnTo>
                            <a:lnTo>
                              <a:pt x="1957" y="8558"/>
                            </a:lnTo>
                            <a:lnTo>
                              <a:pt x="2028" y="8515"/>
                            </a:lnTo>
                            <a:lnTo>
                              <a:pt x="2098" y="8470"/>
                            </a:lnTo>
                            <a:lnTo>
                              <a:pt x="2176" y="8428"/>
                            </a:lnTo>
                            <a:lnTo>
                              <a:pt x="2246" y="8382"/>
                            </a:lnTo>
                            <a:lnTo>
                              <a:pt x="2324" y="8340"/>
                            </a:lnTo>
                            <a:lnTo>
                              <a:pt x="2394" y="8298"/>
                            </a:lnTo>
                            <a:lnTo>
                              <a:pt x="2466" y="8253"/>
                            </a:lnTo>
                            <a:lnTo>
                              <a:pt x="2544" y="8210"/>
                            </a:lnTo>
                            <a:lnTo>
                              <a:pt x="2614" y="8165"/>
                            </a:lnTo>
                            <a:lnTo>
                              <a:pt x="2685" y="8116"/>
                            </a:lnTo>
                            <a:lnTo>
                              <a:pt x="2755" y="8074"/>
                            </a:lnTo>
                            <a:lnTo>
                              <a:pt x="2830" y="8030"/>
                            </a:lnTo>
                            <a:lnTo>
                              <a:pt x="2900" y="7980"/>
                            </a:lnTo>
                            <a:lnTo>
                              <a:pt x="2970" y="7939"/>
                            </a:lnTo>
                            <a:lnTo>
                              <a:pt x="3048" y="7897"/>
                            </a:lnTo>
                            <a:lnTo>
                              <a:pt x="3112" y="7848"/>
                            </a:lnTo>
                            <a:lnTo>
                              <a:pt x="3183" y="7803"/>
                            </a:lnTo>
                            <a:lnTo>
                              <a:pt x="3253" y="7754"/>
                            </a:lnTo>
                            <a:lnTo>
                              <a:pt x="3324" y="7712"/>
                            </a:lnTo>
                            <a:lnTo>
                              <a:pt x="3395" y="7663"/>
                            </a:lnTo>
                            <a:lnTo>
                              <a:pt x="3469" y="7618"/>
                            </a:lnTo>
                            <a:lnTo>
                              <a:pt x="3539" y="7569"/>
                            </a:lnTo>
                            <a:lnTo>
                              <a:pt x="3603" y="7521"/>
                            </a:lnTo>
                            <a:lnTo>
                              <a:pt x="3674" y="7478"/>
                            </a:lnTo>
                            <a:lnTo>
                              <a:pt x="3744" y="7427"/>
                            </a:lnTo>
                            <a:lnTo>
                              <a:pt x="3811" y="7378"/>
                            </a:lnTo>
                            <a:lnTo>
                              <a:pt x="3882" y="7336"/>
                            </a:lnTo>
                            <a:lnTo>
                              <a:pt x="3953" y="7287"/>
                            </a:lnTo>
                            <a:lnTo>
                              <a:pt x="4016" y="7239"/>
                            </a:lnTo>
                            <a:lnTo>
                              <a:pt x="4091" y="7190"/>
                            </a:lnTo>
                            <a:lnTo>
                              <a:pt x="4154" y="7142"/>
                            </a:lnTo>
                            <a:lnTo>
                              <a:pt x="4225" y="7096"/>
                            </a:lnTo>
                            <a:lnTo>
                              <a:pt x="4289" y="7048"/>
                            </a:lnTo>
                            <a:lnTo>
                              <a:pt x="4362" y="6999"/>
                            </a:lnTo>
                            <a:lnTo>
                              <a:pt x="4426" y="6950"/>
                            </a:lnTo>
                            <a:lnTo>
                              <a:pt x="4489" y="6902"/>
                            </a:lnTo>
                            <a:lnTo>
                              <a:pt x="4564" y="6853"/>
                            </a:lnTo>
                            <a:lnTo>
                              <a:pt x="4627" y="6805"/>
                            </a:lnTo>
                            <a:lnTo>
                              <a:pt x="4691" y="6759"/>
                            </a:lnTo>
                            <a:lnTo>
                              <a:pt x="4759" y="6707"/>
                            </a:lnTo>
                            <a:lnTo>
                              <a:pt x="4829" y="6662"/>
                            </a:lnTo>
                            <a:lnTo>
                              <a:pt x="4893" y="6613"/>
                            </a:lnTo>
                            <a:lnTo>
                              <a:pt x="4959" y="6559"/>
                            </a:lnTo>
                            <a:lnTo>
                              <a:pt x="5023" y="6516"/>
                            </a:lnTo>
                            <a:lnTo>
                              <a:pt x="5091" y="6468"/>
                            </a:lnTo>
                            <a:lnTo>
                              <a:pt x="5154" y="6419"/>
                            </a:lnTo>
                            <a:lnTo>
                              <a:pt x="5224" y="6364"/>
                            </a:lnTo>
                            <a:lnTo>
                              <a:pt x="5292" y="6316"/>
                            </a:lnTo>
                            <a:lnTo>
                              <a:pt x="5356" y="6273"/>
                            </a:lnTo>
                            <a:lnTo>
                              <a:pt x="5423" y="6219"/>
                            </a:lnTo>
                            <a:lnTo>
                              <a:pt x="5486" y="6169"/>
                            </a:lnTo>
                            <a:lnTo>
                              <a:pt x="5546" y="6120"/>
                            </a:lnTo>
                            <a:lnTo>
                              <a:pt x="5610" y="6072"/>
                            </a:lnTo>
                            <a:lnTo>
                              <a:pt x="5677" y="6023"/>
                            </a:lnTo>
                            <a:lnTo>
                              <a:pt x="5740" y="5971"/>
                            </a:lnTo>
                            <a:lnTo>
                              <a:pt x="5804" y="5923"/>
                            </a:lnTo>
                            <a:lnTo>
                              <a:pt x="5871" y="5874"/>
                            </a:lnTo>
                            <a:lnTo>
                              <a:pt x="5935" y="5826"/>
                            </a:lnTo>
                            <a:lnTo>
                              <a:pt x="5995" y="5777"/>
                            </a:lnTo>
                            <a:lnTo>
                              <a:pt x="6062" y="5729"/>
                            </a:lnTo>
                            <a:lnTo>
                              <a:pt x="6125" y="5680"/>
                            </a:lnTo>
                            <a:lnTo>
                              <a:pt x="6189" y="5625"/>
                            </a:lnTo>
                            <a:lnTo>
                              <a:pt x="6249" y="5576"/>
                            </a:lnTo>
                            <a:lnTo>
                              <a:pt x="6316" y="5528"/>
                            </a:lnTo>
                            <a:lnTo>
                              <a:pt x="6373" y="5479"/>
                            </a:lnTo>
                            <a:lnTo>
                              <a:pt x="6440" y="5431"/>
                            </a:lnTo>
                            <a:lnTo>
                              <a:pt x="6504" y="5382"/>
                            </a:lnTo>
                            <a:lnTo>
                              <a:pt x="6563" y="5334"/>
                            </a:lnTo>
                            <a:lnTo>
                              <a:pt x="6628" y="5285"/>
                            </a:lnTo>
                            <a:lnTo>
                              <a:pt x="6688" y="5236"/>
                            </a:lnTo>
                            <a:lnTo>
                              <a:pt x="6755" y="5185"/>
                            </a:lnTo>
                            <a:lnTo>
                              <a:pt x="6811" y="5136"/>
                            </a:lnTo>
                            <a:lnTo>
                              <a:pt x="6878" y="5084"/>
                            </a:lnTo>
                            <a:lnTo>
                              <a:pt x="6938" y="5036"/>
                            </a:lnTo>
                            <a:lnTo>
                              <a:pt x="7002" y="4987"/>
                            </a:lnTo>
                            <a:lnTo>
                              <a:pt x="6994" y="4993"/>
                            </a:lnTo>
                            <a:lnTo>
                              <a:pt x="6991" y="5000"/>
                            </a:lnTo>
                            <a:lnTo>
                              <a:pt x="6984" y="5003"/>
                            </a:lnTo>
                            <a:lnTo>
                              <a:pt x="7065" y="4945"/>
                            </a:lnTo>
                            <a:lnTo>
                              <a:pt x="7157" y="4890"/>
                            </a:lnTo>
                            <a:lnTo>
                              <a:pt x="7249" y="4831"/>
                            </a:lnTo>
                            <a:lnTo>
                              <a:pt x="7345" y="4776"/>
                            </a:lnTo>
                            <a:lnTo>
                              <a:pt x="7447" y="4718"/>
                            </a:lnTo>
                            <a:lnTo>
                              <a:pt x="7528" y="4669"/>
                            </a:lnTo>
                            <a:lnTo>
                              <a:pt x="7613" y="4621"/>
                            </a:lnTo>
                            <a:lnTo>
                              <a:pt x="7687" y="4569"/>
                            </a:lnTo>
                            <a:lnTo>
                              <a:pt x="7772" y="4520"/>
                            </a:lnTo>
                            <a:lnTo>
                              <a:pt x="7853" y="4469"/>
                            </a:lnTo>
                            <a:lnTo>
                              <a:pt x="7937" y="4414"/>
                            </a:lnTo>
                            <a:lnTo>
                              <a:pt x="8015" y="4351"/>
                            </a:lnTo>
                            <a:lnTo>
                              <a:pt x="8090" y="4300"/>
                            </a:lnTo>
                            <a:lnTo>
                              <a:pt x="8160" y="4245"/>
                            </a:lnTo>
                            <a:lnTo>
                              <a:pt x="8238" y="4190"/>
                            </a:lnTo>
                            <a:lnTo>
                              <a:pt x="8308" y="4132"/>
                            </a:lnTo>
                            <a:lnTo>
                              <a:pt x="8380" y="4077"/>
                            </a:lnTo>
                            <a:lnTo>
                              <a:pt x="8454" y="4018"/>
                            </a:lnTo>
                            <a:lnTo>
                              <a:pt x="8524" y="3963"/>
                            </a:lnTo>
                            <a:lnTo>
                              <a:pt x="8588" y="3902"/>
                            </a:lnTo>
                            <a:lnTo>
                              <a:pt x="8659" y="3850"/>
                            </a:lnTo>
                            <a:lnTo>
                              <a:pt x="8726" y="3789"/>
                            </a:lnTo>
                            <a:lnTo>
                              <a:pt x="8790" y="3733"/>
                            </a:lnTo>
                            <a:lnTo>
                              <a:pt x="8853" y="3674"/>
                            </a:lnTo>
                            <a:lnTo>
                              <a:pt x="8923" y="3616"/>
                            </a:lnTo>
                            <a:lnTo>
                              <a:pt x="8988" y="3555"/>
                            </a:lnTo>
                            <a:lnTo>
                              <a:pt x="9058" y="3499"/>
                            </a:lnTo>
                            <a:lnTo>
                              <a:pt x="9128" y="3441"/>
                            </a:lnTo>
                            <a:lnTo>
                              <a:pt x="9196" y="3386"/>
                            </a:lnTo>
                            <a:lnTo>
                              <a:pt x="9266" y="3328"/>
                            </a:lnTo>
                            <a:lnTo>
                              <a:pt x="9330" y="3273"/>
                            </a:lnTo>
                            <a:lnTo>
                              <a:pt x="9401" y="3218"/>
                            </a:lnTo>
                            <a:lnTo>
                              <a:pt x="9471" y="3162"/>
                            </a:lnTo>
                            <a:lnTo>
                              <a:pt x="9546" y="3111"/>
                            </a:lnTo>
                            <a:lnTo>
                              <a:pt x="9616" y="3056"/>
                            </a:lnTo>
                            <a:lnTo>
                              <a:pt x="9598" y="3071"/>
                            </a:lnTo>
                            <a:lnTo>
                              <a:pt x="9574" y="3088"/>
                            </a:lnTo>
                            <a:lnTo>
                              <a:pt x="9546" y="3098"/>
                            </a:lnTo>
                            <a:lnTo>
                              <a:pt x="9627" y="3056"/>
                            </a:lnTo>
                            <a:lnTo>
                              <a:pt x="9708" y="3013"/>
                            </a:lnTo>
                            <a:lnTo>
                              <a:pt x="9785" y="2962"/>
                            </a:lnTo>
                            <a:lnTo>
                              <a:pt x="9871" y="2919"/>
                            </a:lnTo>
                            <a:lnTo>
                              <a:pt x="9948" y="2871"/>
                            </a:lnTo>
                            <a:lnTo>
                              <a:pt x="10019" y="2822"/>
                            </a:lnTo>
                            <a:lnTo>
                              <a:pt x="10093" y="2774"/>
                            </a:lnTo>
                            <a:lnTo>
                              <a:pt x="10167" y="2725"/>
                            </a:lnTo>
                            <a:lnTo>
                              <a:pt x="10242" y="2677"/>
                            </a:lnTo>
                            <a:lnTo>
                              <a:pt x="10312" y="2628"/>
                            </a:lnTo>
                            <a:lnTo>
                              <a:pt x="10387" y="2579"/>
                            </a:lnTo>
                            <a:lnTo>
                              <a:pt x="10450" y="2524"/>
                            </a:lnTo>
                            <a:lnTo>
                              <a:pt x="10520" y="2476"/>
                            </a:lnTo>
                            <a:lnTo>
                              <a:pt x="10592" y="2421"/>
                            </a:lnTo>
                            <a:lnTo>
                              <a:pt x="10658" y="2372"/>
                            </a:lnTo>
                            <a:lnTo>
                              <a:pt x="10729" y="2317"/>
                            </a:lnTo>
                            <a:lnTo>
                              <a:pt x="10792" y="2269"/>
                            </a:lnTo>
                            <a:lnTo>
                              <a:pt x="10860" y="2220"/>
                            </a:lnTo>
                            <a:lnTo>
                              <a:pt x="10835" y="2236"/>
                            </a:lnTo>
                            <a:lnTo>
                              <a:pt x="10810" y="2252"/>
                            </a:lnTo>
                            <a:lnTo>
                              <a:pt x="10782" y="2269"/>
                            </a:lnTo>
                            <a:lnTo>
                              <a:pt x="10976" y="2158"/>
                            </a:lnTo>
                            <a:lnTo>
                              <a:pt x="11054" y="2116"/>
                            </a:lnTo>
                            <a:lnTo>
                              <a:pt x="11132" y="2078"/>
                            </a:lnTo>
                            <a:lnTo>
                              <a:pt x="11206" y="2035"/>
                            </a:lnTo>
                            <a:lnTo>
                              <a:pt x="11283" y="1993"/>
                            </a:lnTo>
                            <a:lnTo>
                              <a:pt x="11354" y="1954"/>
                            </a:lnTo>
                            <a:lnTo>
                              <a:pt x="11432" y="1909"/>
                            </a:lnTo>
                            <a:lnTo>
                              <a:pt x="11503" y="1867"/>
                            </a:lnTo>
                            <a:lnTo>
                              <a:pt x="11581" y="1824"/>
                            </a:lnTo>
                            <a:lnTo>
                              <a:pt x="11659" y="1779"/>
                            </a:lnTo>
                            <a:lnTo>
                              <a:pt x="11729" y="1737"/>
                            </a:lnTo>
                            <a:lnTo>
                              <a:pt x="11800" y="1688"/>
                            </a:lnTo>
                            <a:lnTo>
                              <a:pt x="11877" y="1643"/>
                            </a:lnTo>
                            <a:lnTo>
                              <a:pt x="11948" y="1594"/>
                            </a:lnTo>
                            <a:lnTo>
                              <a:pt x="12018" y="1545"/>
                            </a:lnTo>
                            <a:lnTo>
                              <a:pt x="12090" y="1504"/>
                            </a:lnTo>
                            <a:lnTo>
                              <a:pt x="12160" y="1448"/>
                            </a:lnTo>
                            <a:lnTo>
                              <a:pt x="12231" y="1400"/>
                            </a:lnTo>
                            <a:lnTo>
                              <a:pt x="12301" y="1345"/>
                            </a:lnTo>
                            <a:lnTo>
                              <a:pt x="12368" y="1290"/>
                            </a:lnTo>
                            <a:lnTo>
                              <a:pt x="12439" y="1238"/>
                            </a:lnTo>
                            <a:lnTo>
                              <a:pt x="12509" y="1177"/>
                            </a:lnTo>
                            <a:lnTo>
                              <a:pt x="12576" y="1118"/>
                            </a:lnTo>
                            <a:lnTo>
                              <a:pt x="12648" y="1057"/>
                            </a:lnTo>
                            <a:lnTo>
                              <a:pt x="12552" y="1128"/>
                            </a:lnTo>
                            <a:lnTo>
                              <a:pt x="12449" y="1177"/>
                            </a:lnTo>
                            <a:lnTo>
                              <a:pt x="12333" y="1209"/>
                            </a:lnTo>
                            <a:lnTo>
                              <a:pt x="12213" y="1222"/>
                            </a:lnTo>
                            <a:lnTo>
                              <a:pt x="12350" y="1209"/>
                            </a:lnTo>
                            <a:lnTo>
                              <a:pt x="12467" y="1177"/>
                            </a:lnTo>
                            <a:lnTo>
                              <a:pt x="12563" y="1135"/>
                            </a:lnTo>
                            <a:lnTo>
                              <a:pt x="12633" y="1086"/>
                            </a:lnTo>
                            <a:lnTo>
                              <a:pt x="12687" y="1047"/>
                            </a:lnTo>
                            <a:lnTo>
                              <a:pt x="12693" y="1047"/>
                            </a:lnTo>
                            <a:lnTo>
                              <a:pt x="12693" y="1041"/>
                            </a:lnTo>
                            <a:lnTo>
                              <a:pt x="12700" y="1041"/>
                            </a:lnTo>
                            <a:lnTo>
                              <a:pt x="12651" y="1069"/>
                            </a:lnTo>
                            <a:lnTo>
                              <a:pt x="12576" y="1089"/>
                            </a:lnTo>
                            <a:lnTo>
                              <a:pt x="12474" y="1102"/>
                            </a:lnTo>
                            <a:lnTo>
                              <a:pt x="12379" y="1096"/>
                            </a:lnTo>
                            <a:lnTo>
                              <a:pt x="12283" y="1073"/>
                            </a:lnTo>
                            <a:lnTo>
                              <a:pt x="12195" y="1041"/>
                            </a:lnTo>
                            <a:lnTo>
                              <a:pt x="12121" y="992"/>
                            </a:lnTo>
                            <a:lnTo>
                              <a:pt x="12047" y="937"/>
                            </a:lnTo>
                            <a:lnTo>
                              <a:pt x="11983" y="869"/>
                            </a:lnTo>
                            <a:lnTo>
                              <a:pt x="11937" y="791"/>
                            </a:lnTo>
                            <a:lnTo>
                              <a:pt x="11902" y="710"/>
                            </a:lnTo>
                            <a:lnTo>
                              <a:pt x="11877" y="622"/>
                            </a:lnTo>
                            <a:lnTo>
                              <a:pt x="11877" y="535"/>
                            </a:lnTo>
                            <a:lnTo>
                              <a:pt x="11880" y="450"/>
                            </a:lnTo>
                            <a:lnTo>
                              <a:pt x="11906" y="364"/>
                            </a:lnTo>
                            <a:lnTo>
                              <a:pt x="11948" y="282"/>
                            </a:lnTo>
                            <a:lnTo>
                              <a:pt x="12000" y="204"/>
                            </a:lnTo>
                            <a:lnTo>
                              <a:pt x="11326" y="998"/>
                            </a:lnTo>
                            <a:lnTo>
                              <a:pt x="11273" y="1063"/>
                            </a:lnTo>
                            <a:lnTo>
                              <a:pt x="11220" y="1128"/>
                            </a:lnTo>
                            <a:lnTo>
                              <a:pt x="11167" y="1193"/>
                            </a:lnTo>
                            <a:lnTo>
                              <a:pt x="11114" y="1257"/>
                            </a:lnTo>
                            <a:lnTo>
                              <a:pt x="11054" y="1323"/>
                            </a:lnTo>
                            <a:lnTo>
                              <a:pt x="11001" y="1384"/>
                            </a:lnTo>
                            <a:lnTo>
                              <a:pt x="10948" y="1448"/>
                            </a:lnTo>
                            <a:lnTo>
                              <a:pt x="10895" y="1507"/>
                            </a:lnTo>
                            <a:lnTo>
                              <a:pt x="10842" y="1575"/>
                            </a:lnTo>
                            <a:lnTo>
                              <a:pt x="10785" y="1633"/>
                            </a:lnTo>
                            <a:lnTo>
                              <a:pt x="10733" y="1699"/>
                            </a:lnTo>
                            <a:lnTo>
                              <a:pt x="10680" y="1757"/>
                            </a:lnTo>
                            <a:lnTo>
                              <a:pt x="10626" y="1824"/>
                            </a:lnTo>
                            <a:lnTo>
                              <a:pt x="10574" y="1883"/>
                            </a:lnTo>
                            <a:lnTo>
                              <a:pt x="10520" y="1941"/>
                            </a:lnTo>
                            <a:lnTo>
                              <a:pt x="10475" y="2009"/>
                            </a:lnTo>
                            <a:lnTo>
                              <a:pt x="10421" y="2067"/>
                            </a:lnTo>
                            <a:lnTo>
                              <a:pt x="10365" y="2126"/>
                            </a:lnTo>
                            <a:lnTo>
                              <a:pt x="10312" y="2188"/>
                            </a:lnTo>
                            <a:lnTo>
                              <a:pt x="10259" y="2246"/>
                            </a:lnTo>
                            <a:lnTo>
                              <a:pt x="10206" y="2307"/>
                            </a:lnTo>
                            <a:lnTo>
                              <a:pt x="10161" y="2366"/>
                            </a:lnTo>
                            <a:lnTo>
                              <a:pt x="10107" y="2427"/>
                            </a:lnTo>
                            <a:lnTo>
                              <a:pt x="10055" y="2485"/>
                            </a:lnTo>
                            <a:lnTo>
                              <a:pt x="10001" y="2543"/>
                            </a:lnTo>
                            <a:lnTo>
                              <a:pt x="9948" y="2599"/>
                            </a:lnTo>
                            <a:lnTo>
                              <a:pt x="9899" y="2661"/>
                            </a:lnTo>
                            <a:lnTo>
                              <a:pt x="9845" y="2719"/>
                            </a:lnTo>
                            <a:lnTo>
                              <a:pt x="9793" y="2777"/>
                            </a:lnTo>
                            <a:lnTo>
                              <a:pt x="9747" y="2839"/>
                            </a:lnTo>
                            <a:lnTo>
                              <a:pt x="9691" y="2894"/>
                            </a:lnTo>
                            <a:lnTo>
                              <a:pt x="9637" y="2952"/>
                            </a:lnTo>
                            <a:lnTo>
                              <a:pt x="9585" y="3013"/>
                            </a:lnTo>
                            <a:lnTo>
                              <a:pt x="9538" y="3065"/>
                            </a:lnTo>
                            <a:lnTo>
                              <a:pt x="9478" y="3127"/>
                            </a:lnTo>
                            <a:lnTo>
                              <a:pt x="9432" y="3179"/>
                            </a:lnTo>
                            <a:lnTo>
                              <a:pt x="9380" y="3240"/>
                            </a:lnTo>
                            <a:lnTo>
                              <a:pt x="9326" y="3295"/>
                            </a:lnTo>
                            <a:lnTo>
                              <a:pt x="9270" y="3353"/>
                            </a:lnTo>
                            <a:lnTo>
                              <a:pt x="9217" y="3409"/>
                            </a:lnTo>
                            <a:lnTo>
                              <a:pt x="9164" y="3467"/>
                            </a:lnTo>
                            <a:lnTo>
                              <a:pt x="9111" y="3522"/>
                            </a:lnTo>
                            <a:lnTo>
                              <a:pt x="9058" y="3577"/>
                            </a:lnTo>
                            <a:lnTo>
                              <a:pt x="9004" y="3635"/>
                            </a:lnTo>
                            <a:lnTo>
                              <a:pt x="8952" y="3690"/>
                            </a:lnTo>
                            <a:lnTo>
                              <a:pt x="8899" y="3749"/>
                            </a:lnTo>
                            <a:lnTo>
                              <a:pt x="8850" y="3804"/>
                            </a:lnTo>
                            <a:lnTo>
                              <a:pt x="8796" y="3859"/>
                            </a:lnTo>
                            <a:lnTo>
                              <a:pt x="8744" y="3917"/>
                            </a:lnTo>
                            <a:lnTo>
                              <a:pt x="8684" y="3972"/>
                            </a:lnTo>
                            <a:lnTo>
                              <a:pt x="8630" y="4028"/>
                            </a:lnTo>
                            <a:lnTo>
                              <a:pt x="8578" y="4086"/>
                            </a:lnTo>
                            <a:lnTo>
                              <a:pt x="8518" y="4141"/>
                            </a:lnTo>
                            <a:lnTo>
                              <a:pt x="8464" y="4196"/>
                            </a:lnTo>
                            <a:lnTo>
                              <a:pt x="8404" y="4251"/>
                            </a:lnTo>
                            <a:lnTo>
                              <a:pt x="8352" y="4309"/>
                            </a:lnTo>
                            <a:lnTo>
                              <a:pt x="8292" y="4365"/>
                            </a:lnTo>
                            <a:lnTo>
                              <a:pt x="8238" y="4420"/>
                            </a:lnTo>
                            <a:lnTo>
                              <a:pt x="8178" y="4472"/>
                            </a:lnTo>
                            <a:lnTo>
                              <a:pt x="8121" y="4533"/>
                            </a:lnTo>
                            <a:lnTo>
                              <a:pt x="8061" y="4585"/>
                            </a:lnTo>
                            <a:lnTo>
                              <a:pt x="8002" y="4640"/>
                            </a:lnTo>
                            <a:lnTo>
                              <a:pt x="7942" y="4696"/>
                            </a:lnTo>
                            <a:lnTo>
                              <a:pt x="7885" y="4754"/>
                            </a:lnTo>
                            <a:lnTo>
                              <a:pt x="7825" y="4809"/>
                            </a:lnTo>
                            <a:lnTo>
                              <a:pt x="7765" y="4864"/>
                            </a:lnTo>
                            <a:lnTo>
                              <a:pt x="7705" y="4922"/>
                            </a:lnTo>
                            <a:lnTo>
                              <a:pt x="7648" y="4977"/>
                            </a:lnTo>
                            <a:lnTo>
                              <a:pt x="7581" y="5029"/>
                            </a:lnTo>
                            <a:lnTo>
                              <a:pt x="7521" y="5084"/>
                            </a:lnTo>
                            <a:lnTo>
                              <a:pt x="7457" y="5136"/>
                            </a:lnTo>
                            <a:lnTo>
                              <a:pt x="7394" y="5197"/>
                            </a:lnTo>
                            <a:lnTo>
                              <a:pt x="7334" y="5252"/>
                            </a:lnTo>
                            <a:lnTo>
                              <a:pt x="7267" y="5304"/>
                            </a:lnTo>
                            <a:lnTo>
                              <a:pt x="7204" y="5366"/>
                            </a:lnTo>
                            <a:lnTo>
                              <a:pt x="7140" y="5421"/>
                            </a:lnTo>
                            <a:lnTo>
                              <a:pt x="7072" y="5479"/>
                            </a:lnTo>
                            <a:lnTo>
                              <a:pt x="7009" y="5534"/>
                            </a:lnTo>
                            <a:lnTo>
                              <a:pt x="6942" y="5586"/>
                            </a:lnTo>
                            <a:lnTo>
                              <a:pt x="6871" y="5648"/>
                            </a:lnTo>
                            <a:lnTo>
                              <a:pt x="6807" y="5703"/>
                            </a:lnTo>
                            <a:lnTo>
                              <a:pt x="6737" y="5761"/>
                            </a:lnTo>
                            <a:lnTo>
                              <a:pt x="6662" y="5823"/>
                            </a:lnTo>
                            <a:lnTo>
                              <a:pt x="6599" y="5874"/>
                            </a:lnTo>
                            <a:lnTo>
                              <a:pt x="6529" y="5929"/>
                            </a:lnTo>
                            <a:lnTo>
                              <a:pt x="6521" y="5940"/>
                            </a:lnTo>
                            <a:lnTo>
                              <a:pt x="6511" y="5946"/>
                            </a:lnTo>
                            <a:lnTo>
                              <a:pt x="6504" y="5956"/>
                            </a:lnTo>
                            <a:lnTo>
                              <a:pt x="6451" y="6001"/>
                            </a:lnTo>
                            <a:lnTo>
                              <a:pt x="6387" y="6050"/>
                            </a:lnTo>
                            <a:lnTo>
                              <a:pt x="6316" y="6098"/>
                            </a:lnTo>
                            <a:lnTo>
                              <a:pt x="6239" y="6147"/>
                            </a:lnTo>
                            <a:lnTo>
                              <a:pt x="6154" y="6202"/>
                            </a:lnTo>
                            <a:lnTo>
                              <a:pt x="6073" y="6257"/>
                            </a:lnTo>
                            <a:lnTo>
                              <a:pt x="5984" y="6305"/>
                            </a:lnTo>
                            <a:lnTo>
                              <a:pt x="5889" y="6357"/>
                            </a:lnTo>
                            <a:lnTo>
                              <a:pt x="5800" y="6413"/>
                            </a:lnTo>
                            <a:lnTo>
                              <a:pt x="5716" y="6461"/>
                            </a:lnTo>
                            <a:lnTo>
                              <a:pt x="5634" y="6507"/>
                            </a:lnTo>
                            <a:lnTo>
                              <a:pt x="5550" y="6555"/>
                            </a:lnTo>
                            <a:lnTo>
                              <a:pt x="5468" y="6604"/>
                            </a:lnTo>
                            <a:lnTo>
                              <a:pt x="5390" y="6653"/>
                            </a:lnTo>
                            <a:lnTo>
                              <a:pt x="5309" y="6707"/>
                            </a:lnTo>
                            <a:lnTo>
                              <a:pt x="5232" y="6756"/>
                            </a:lnTo>
                            <a:lnTo>
                              <a:pt x="5161" y="6808"/>
                            </a:lnTo>
                            <a:lnTo>
                              <a:pt x="5083" y="6860"/>
                            </a:lnTo>
                            <a:lnTo>
                              <a:pt x="5019" y="6911"/>
                            </a:lnTo>
                            <a:lnTo>
                              <a:pt x="4953" y="6966"/>
                            </a:lnTo>
                            <a:lnTo>
                              <a:pt x="4889" y="7021"/>
                            </a:lnTo>
                            <a:lnTo>
                              <a:pt x="4899" y="7008"/>
                            </a:lnTo>
                            <a:lnTo>
                              <a:pt x="4910" y="6999"/>
                            </a:lnTo>
                            <a:lnTo>
                              <a:pt x="4928" y="6989"/>
                            </a:lnTo>
                            <a:lnTo>
                              <a:pt x="4889" y="7021"/>
                            </a:lnTo>
                            <a:lnTo>
                              <a:pt x="4836" y="7060"/>
                            </a:lnTo>
                            <a:lnTo>
                              <a:pt x="4783" y="7096"/>
                            </a:lnTo>
                            <a:lnTo>
                              <a:pt x="4715" y="7142"/>
                            </a:lnTo>
                            <a:lnTo>
                              <a:pt x="4652" y="7190"/>
                            </a:lnTo>
                            <a:lnTo>
                              <a:pt x="4582" y="7245"/>
                            </a:lnTo>
                            <a:lnTo>
                              <a:pt x="4504" y="7297"/>
                            </a:lnTo>
                            <a:lnTo>
                              <a:pt x="4426" y="7352"/>
                            </a:lnTo>
                            <a:lnTo>
                              <a:pt x="4345" y="7407"/>
                            </a:lnTo>
                            <a:lnTo>
                              <a:pt x="4260" y="7466"/>
                            </a:lnTo>
                            <a:lnTo>
                              <a:pt x="4179" y="7530"/>
                            </a:lnTo>
                            <a:lnTo>
                              <a:pt x="4091" y="7591"/>
                            </a:lnTo>
                            <a:lnTo>
                              <a:pt x="3999" y="7651"/>
                            </a:lnTo>
                            <a:lnTo>
                              <a:pt x="3910" y="7715"/>
                            </a:lnTo>
                            <a:lnTo>
                              <a:pt x="3822" y="7779"/>
                            </a:lnTo>
                            <a:lnTo>
                              <a:pt x="3726" y="7848"/>
                            </a:lnTo>
                            <a:lnTo>
                              <a:pt x="3638" y="7906"/>
                            </a:lnTo>
                            <a:lnTo>
                              <a:pt x="3550" y="7971"/>
                            </a:lnTo>
                            <a:lnTo>
                              <a:pt x="3461" y="8030"/>
                            </a:lnTo>
                            <a:lnTo>
                              <a:pt x="3377" y="8091"/>
                            </a:lnTo>
                            <a:lnTo>
                              <a:pt x="3303" y="8146"/>
                            </a:lnTo>
                            <a:lnTo>
                              <a:pt x="3225" y="8198"/>
                            </a:lnTo>
                            <a:lnTo>
                              <a:pt x="3154" y="8253"/>
                            </a:lnTo>
                            <a:lnTo>
                              <a:pt x="3084" y="8301"/>
                            </a:lnTo>
                            <a:lnTo>
                              <a:pt x="3017" y="8350"/>
                            </a:lnTo>
                            <a:lnTo>
                              <a:pt x="2963" y="8395"/>
                            </a:lnTo>
                            <a:lnTo>
                              <a:pt x="2911" y="8431"/>
                            </a:lnTo>
                            <a:lnTo>
                              <a:pt x="2864" y="8467"/>
                            </a:lnTo>
                            <a:lnTo>
                              <a:pt x="2798" y="8525"/>
                            </a:lnTo>
                            <a:lnTo>
                              <a:pt x="2752" y="8583"/>
                            </a:lnTo>
                            <a:lnTo>
                              <a:pt x="2710" y="8652"/>
                            </a:lnTo>
                            <a:lnTo>
                              <a:pt x="2674" y="8719"/>
                            </a:lnTo>
                            <a:lnTo>
                              <a:pt x="2656" y="8790"/>
                            </a:lnTo>
                            <a:lnTo>
                              <a:pt x="2646" y="8868"/>
                            </a:lnTo>
                            <a:lnTo>
                              <a:pt x="2649" y="8943"/>
                            </a:lnTo>
                            <a:lnTo>
                              <a:pt x="2664" y="9014"/>
                            </a:lnTo>
                            <a:lnTo>
                              <a:pt x="2685" y="9089"/>
                            </a:lnTo>
                            <a:lnTo>
                              <a:pt x="2720" y="9160"/>
                            </a:lnTo>
                            <a:lnTo>
                              <a:pt x="2770" y="9225"/>
                            </a:lnTo>
                            <a:lnTo>
                              <a:pt x="2830" y="9286"/>
                            </a:lnTo>
                            <a:lnTo>
                              <a:pt x="2886" y="9335"/>
                            </a:lnTo>
                            <a:lnTo>
                              <a:pt x="2957" y="9377"/>
                            </a:lnTo>
                            <a:lnTo>
                              <a:pt x="3035" y="9409"/>
                            </a:lnTo>
                            <a:lnTo>
                              <a:pt x="3112" y="9432"/>
                            </a:lnTo>
                            <a:lnTo>
                              <a:pt x="3193" y="9442"/>
                            </a:lnTo>
                            <a:lnTo>
                              <a:pt x="3278" y="9442"/>
                            </a:lnTo>
                            <a:lnTo>
                              <a:pt x="3359" y="9435"/>
                            </a:lnTo>
                            <a:lnTo>
                              <a:pt x="3437" y="9416"/>
                            </a:lnTo>
                            <a:lnTo>
                              <a:pt x="3515" y="9387"/>
                            </a:lnTo>
                            <a:lnTo>
                              <a:pt x="3593" y="9344"/>
                            </a:lnTo>
                            <a:lnTo>
                              <a:pt x="3674" y="9296"/>
                            </a:lnTo>
                            <a:lnTo>
                              <a:pt x="3759" y="9241"/>
                            </a:lnTo>
                            <a:lnTo>
                              <a:pt x="3832" y="9186"/>
                            </a:lnTo>
                            <a:lnTo>
                              <a:pt x="3918" y="9137"/>
                            </a:lnTo>
                            <a:lnTo>
                              <a:pt x="3999" y="9086"/>
                            </a:lnTo>
                            <a:lnTo>
                              <a:pt x="4076" y="9031"/>
                            </a:lnTo>
                            <a:lnTo>
                              <a:pt x="4161" y="8981"/>
                            </a:lnTo>
                            <a:lnTo>
                              <a:pt x="4235" y="8926"/>
                            </a:lnTo>
                            <a:lnTo>
                              <a:pt x="4320" y="8878"/>
                            </a:lnTo>
                            <a:lnTo>
                              <a:pt x="4398" y="8823"/>
                            </a:lnTo>
                            <a:lnTo>
                              <a:pt x="4473" y="8774"/>
                            </a:lnTo>
                            <a:lnTo>
                              <a:pt x="4549" y="8719"/>
                            </a:lnTo>
                            <a:lnTo>
                              <a:pt x="4627" y="8671"/>
                            </a:lnTo>
                            <a:lnTo>
                              <a:pt x="4705" y="8616"/>
                            </a:lnTo>
                            <a:lnTo>
                              <a:pt x="4783" y="8567"/>
                            </a:lnTo>
                            <a:lnTo>
                              <a:pt x="4857" y="8519"/>
                            </a:lnTo>
                            <a:lnTo>
                              <a:pt x="4935" y="8467"/>
                            </a:lnTo>
                            <a:lnTo>
                              <a:pt x="5013" y="8415"/>
                            </a:lnTo>
                            <a:lnTo>
                              <a:pt x="5091" y="8363"/>
                            </a:lnTo>
                            <a:lnTo>
                              <a:pt x="5161" y="8315"/>
                            </a:lnTo>
                            <a:lnTo>
                              <a:pt x="5232" y="8259"/>
                            </a:lnTo>
                            <a:lnTo>
                              <a:pt x="5309" y="8210"/>
                            </a:lnTo>
                            <a:lnTo>
                              <a:pt x="5380" y="8162"/>
                            </a:lnTo>
                            <a:lnTo>
                              <a:pt x="5458" y="8113"/>
                            </a:lnTo>
                            <a:lnTo>
                              <a:pt x="5528" y="8058"/>
                            </a:lnTo>
                            <a:lnTo>
                              <a:pt x="5600" y="8010"/>
                            </a:lnTo>
                            <a:lnTo>
                              <a:pt x="5670" y="7961"/>
                            </a:lnTo>
                            <a:lnTo>
                              <a:pt x="5740" y="7906"/>
                            </a:lnTo>
                            <a:lnTo>
                              <a:pt x="5811" y="7858"/>
                            </a:lnTo>
                            <a:lnTo>
                              <a:pt x="5882" y="7809"/>
                            </a:lnTo>
                            <a:lnTo>
                              <a:pt x="5953" y="7760"/>
                            </a:lnTo>
                            <a:lnTo>
                              <a:pt x="6023" y="7705"/>
                            </a:lnTo>
                            <a:lnTo>
                              <a:pt x="6098" y="7657"/>
                            </a:lnTo>
                            <a:lnTo>
                              <a:pt x="6161" y="7608"/>
                            </a:lnTo>
                            <a:lnTo>
                              <a:pt x="6231" y="7560"/>
                            </a:lnTo>
                            <a:lnTo>
                              <a:pt x="6299" y="7511"/>
                            </a:lnTo>
                            <a:lnTo>
                              <a:pt x="6369" y="7463"/>
                            </a:lnTo>
                            <a:lnTo>
                              <a:pt x="6433" y="7407"/>
                            </a:lnTo>
                            <a:lnTo>
                              <a:pt x="6500" y="7358"/>
                            </a:lnTo>
                            <a:lnTo>
                              <a:pt x="6563" y="7309"/>
                            </a:lnTo>
                            <a:lnTo>
                              <a:pt x="6628" y="7261"/>
                            </a:lnTo>
                            <a:lnTo>
                              <a:pt x="6695" y="7209"/>
                            </a:lnTo>
                            <a:lnTo>
                              <a:pt x="6758" y="7161"/>
                            </a:lnTo>
                            <a:lnTo>
                              <a:pt x="6825" y="7112"/>
                            </a:lnTo>
                            <a:lnTo>
                              <a:pt x="6888" y="7063"/>
                            </a:lnTo>
                            <a:lnTo>
                              <a:pt x="6956" y="7015"/>
                            </a:lnTo>
                            <a:lnTo>
                              <a:pt x="7020" y="6966"/>
                            </a:lnTo>
                            <a:lnTo>
                              <a:pt x="7080" y="6918"/>
                            </a:lnTo>
                            <a:lnTo>
                              <a:pt x="7143" y="6869"/>
                            </a:lnTo>
                            <a:lnTo>
                              <a:pt x="7204" y="6820"/>
                            </a:lnTo>
                            <a:lnTo>
                              <a:pt x="7264" y="6775"/>
                            </a:lnTo>
                            <a:lnTo>
                              <a:pt x="7327" y="6727"/>
                            </a:lnTo>
                            <a:lnTo>
                              <a:pt x="7387" y="6678"/>
                            </a:lnTo>
                            <a:lnTo>
                              <a:pt x="7447" y="6629"/>
                            </a:lnTo>
                            <a:lnTo>
                              <a:pt x="7503" y="6581"/>
                            </a:lnTo>
                            <a:lnTo>
                              <a:pt x="7563" y="6532"/>
                            </a:lnTo>
                            <a:lnTo>
                              <a:pt x="7623" y="6490"/>
                            </a:lnTo>
                            <a:lnTo>
                              <a:pt x="7684" y="6441"/>
                            </a:lnTo>
                            <a:lnTo>
                              <a:pt x="7740" y="6390"/>
                            </a:lnTo>
                            <a:lnTo>
                              <a:pt x="7801" y="6341"/>
                            </a:lnTo>
                            <a:lnTo>
                              <a:pt x="7853" y="6299"/>
                            </a:lnTo>
                            <a:lnTo>
                              <a:pt x="7913" y="6250"/>
                            </a:lnTo>
                            <a:lnTo>
                              <a:pt x="7966" y="6202"/>
                            </a:lnTo>
                            <a:lnTo>
                              <a:pt x="8027" y="6156"/>
                            </a:lnTo>
                            <a:lnTo>
                              <a:pt x="8079" y="6108"/>
                            </a:lnTo>
                            <a:lnTo>
                              <a:pt x="8139" y="6059"/>
                            </a:lnTo>
                            <a:lnTo>
                              <a:pt x="8193" y="6017"/>
                            </a:lnTo>
                            <a:lnTo>
                              <a:pt x="8245" y="5968"/>
                            </a:lnTo>
                            <a:lnTo>
                              <a:pt x="8298" y="5920"/>
                            </a:lnTo>
                            <a:lnTo>
                              <a:pt x="8352" y="5874"/>
                            </a:lnTo>
                            <a:lnTo>
                              <a:pt x="8404" y="5826"/>
                            </a:lnTo>
                            <a:lnTo>
                              <a:pt x="8458" y="5783"/>
                            </a:lnTo>
                            <a:lnTo>
                              <a:pt x="8507" y="5735"/>
                            </a:lnTo>
                            <a:lnTo>
                              <a:pt x="8560" y="5689"/>
                            </a:lnTo>
                            <a:lnTo>
                              <a:pt x="8612" y="5641"/>
                            </a:lnTo>
                            <a:lnTo>
                              <a:pt x="8659" y="5600"/>
                            </a:lnTo>
                            <a:lnTo>
                              <a:pt x="8712" y="5550"/>
                            </a:lnTo>
                            <a:lnTo>
                              <a:pt x="8702" y="5561"/>
                            </a:lnTo>
                            <a:lnTo>
                              <a:pt x="8694" y="5567"/>
                            </a:lnTo>
                            <a:lnTo>
                              <a:pt x="8690" y="5570"/>
                            </a:lnTo>
                            <a:lnTo>
                              <a:pt x="8744" y="5534"/>
                            </a:lnTo>
                            <a:lnTo>
                              <a:pt x="8800" y="5489"/>
                            </a:lnTo>
                            <a:lnTo>
                              <a:pt x="8864" y="5447"/>
                            </a:lnTo>
                            <a:lnTo>
                              <a:pt x="8934" y="5409"/>
                            </a:lnTo>
                            <a:lnTo>
                              <a:pt x="9004" y="5366"/>
                            </a:lnTo>
                            <a:lnTo>
                              <a:pt x="9090" y="5327"/>
                            </a:lnTo>
                            <a:lnTo>
                              <a:pt x="9170" y="5285"/>
                            </a:lnTo>
                            <a:lnTo>
                              <a:pt x="9260" y="5240"/>
                            </a:lnTo>
                            <a:lnTo>
                              <a:pt x="9354" y="5200"/>
                            </a:lnTo>
                            <a:lnTo>
                              <a:pt x="9443" y="5158"/>
                            </a:lnTo>
                            <a:lnTo>
                              <a:pt x="9538" y="5119"/>
                            </a:lnTo>
                            <a:lnTo>
                              <a:pt x="9634" y="5078"/>
                            </a:lnTo>
                            <a:lnTo>
                              <a:pt x="9733" y="5036"/>
                            </a:lnTo>
                            <a:lnTo>
                              <a:pt x="9828" y="5000"/>
                            </a:lnTo>
                            <a:lnTo>
                              <a:pt x="9909" y="4961"/>
                            </a:lnTo>
                            <a:lnTo>
                              <a:pt x="10001" y="4928"/>
                            </a:lnTo>
                            <a:lnTo>
                              <a:pt x="10089" y="4890"/>
                            </a:lnTo>
                            <a:lnTo>
                              <a:pt x="10171" y="4854"/>
                            </a:lnTo>
                            <a:lnTo>
                              <a:pt x="10255" y="4815"/>
                            </a:lnTo>
                            <a:lnTo>
                              <a:pt x="10344" y="4776"/>
                            </a:lnTo>
                            <a:lnTo>
                              <a:pt x="10426" y="4737"/>
                            </a:lnTo>
                            <a:lnTo>
                              <a:pt x="10510" y="4702"/>
                            </a:lnTo>
                            <a:lnTo>
                              <a:pt x="10592" y="4663"/>
                            </a:lnTo>
                            <a:lnTo>
                              <a:pt x="10676" y="4621"/>
                            </a:lnTo>
                            <a:lnTo>
                              <a:pt x="10750" y="4582"/>
                            </a:lnTo>
                            <a:lnTo>
                              <a:pt x="10835" y="4536"/>
                            </a:lnTo>
                            <a:lnTo>
                              <a:pt x="10912" y="4494"/>
                            </a:lnTo>
                            <a:lnTo>
                              <a:pt x="10984" y="4452"/>
                            </a:lnTo>
                            <a:lnTo>
                              <a:pt x="11062" y="4403"/>
                            </a:lnTo>
                            <a:lnTo>
                              <a:pt x="11132" y="4358"/>
                            </a:lnTo>
                            <a:lnTo>
                              <a:pt x="11195" y="4317"/>
                            </a:lnTo>
                            <a:lnTo>
                              <a:pt x="11266" y="4261"/>
                            </a:lnTo>
                            <a:lnTo>
                              <a:pt x="11326" y="4212"/>
                            </a:lnTo>
                            <a:lnTo>
                              <a:pt x="11390" y="4163"/>
                            </a:lnTo>
                            <a:lnTo>
                              <a:pt x="11442" y="4109"/>
                            </a:lnTo>
                            <a:lnTo>
                              <a:pt x="11503" y="4054"/>
                            </a:lnTo>
                            <a:lnTo>
                              <a:pt x="11563" y="4002"/>
                            </a:lnTo>
                            <a:lnTo>
                              <a:pt x="11616" y="3941"/>
                            </a:lnTo>
                            <a:lnTo>
                              <a:pt x="11675" y="3886"/>
                            </a:lnTo>
                            <a:lnTo>
                              <a:pt x="11735" y="3827"/>
                            </a:lnTo>
                            <a:lnTo>
                              <a:pt x="11792" y="3772"/>
                            </a:lnTo>
                            <a:lnTo>
                              <a:pt x="11852" y="3717"/>
                            </a:lnTo>
                            <a:lnTo>
                              <a:pt x="11912" y="3659"/>
                            </a:lnTo>
                            <a:lnTo>
                              <a:pt x="11973" y="3604"/>
                            </a:lnTo>
                            <a:lnTo>
                              <a:pt x="12029" y="3545"/>
                            </a:lnTo>
                            <a:lnTo>
                              <a:pt x="12090" y="3490"/>
                            </a:lnTo>
                            <a:lnTo>
                              <a:pt x="12156" y="3435"/>
                            </a:lnTo>
                            <a:lnTo>
                              <a:pt x="12213" y="3377"/>
                            </a:lnTo>
                            <a:lnTo>
                              <a:pt x="12273" y="3322"/>
                            </a:lnTo>
                            <a:lnTo>
                              <a:pt x="12340" y="3267"/>
                            </a:lnTo>
                            <a:lnTo>
                              <a:pt x="12397" y="3214"/>
                            </a:lnTo>
                            <a:lnTo>
                              <a:pt x="12464" y="3159"/>
                            </a:lnTo>
                            <a:lnTo>
                              <a:pt x="12527" y="3104"/>
                            </a:lnTo>
                            <a:lnTo>
                              <a:pt x="12594" y="3049"/>
                            </a:lnTo>
                            <a:lnTo>
                              <a:pt x="12658" y="3001"/>
                            </a:lnTo>
                            <a:lnTo>
                              <a:pt x="12721" y="2946"/>
                            </a:lnTo>
                            <a:lnTo>
                              <a:pt x="12789" y="2897"/>
                            </a:lnTo>
                            <a:lnTo>
                              <a:pt x="12852" y="2845"/>
                            </a:lnTo>
                            <a:lnTo>
                              <a:pt x="12919" y="2797"/>
                            </a:lnTo>
                            <a:lnTo>
                              <a:pt x="12991" y="2745"/>
                            </a:lnTo>
                            <a:lnTo>
                              <a:pt x="13061" y="2697"/>
                            </a:lnTo>
                            <a:lnTo>
                              <a:pt x="13124" y="2648"/>
                            </a:lnTo>
                            <a:lnTo>
                              <a:pt x="13199" y="2599"/>
                            </a:lnTo>
                            <a:lnTo>
                              <a:pt x="13269" y="2557"/>
                            </a:lnTo>
                            <a:lnTo>
                              <a:pt x="13340" y="2512"/>
                            </a:lnTo>
                            <a:lnTo>
                              <a:pt x="13410" y="2463"/>
                            </a:lnTo>
                            <a:lnTo>
                              <a:pt x="13481" y="2421"/>
                            </a:lnTo>
                            <a:lnTo>
                              <a:pt x="13559" y="2382"/>
                            </a:lnTo>
                            <a:lnTo>
                              <a:pt x="13630" y="2340"/>
                            </a:lnTo>
                            <a:lnTo>
                              <a:pt x="13707" y="2294"/>
                            </a:lnTo>
                            <a:lnTo>
                              <a:pt x="13781" y="2258"/>
                            </a:lnTo>
                            <a:lnTo>
                              <a:pt x="13856" y="2220"/>
                            </a:lnTo>
                            <a:lnTo>
                              <a:pt x="13764" y="2258"/>
                            </a:lnTo>
                            <a:lnTo>
                              <a:pt x="13676" y="2278"/>
                            </a:lnTo>
                            <a:lnTo>
                              <a:pt x="13580" y="2285"/>
                            </a:lnTo>
                            <a:lnTo>
                              <a:pt x="13492" y="2278"/>
                            </a:lnTo>
                            <a:lnTo>
                              <a:pt x="13404" y="2261"/>
                            </a:lnTo>
                            <a:lnTo>
                              <a:pt x="13315" y="2230"/>
                            </a:lnTo>
                            <a:lnTo>
                              <a:pt x="13238" y="2194"/>
                            </a:lnTo>
                            <a:lnTo>
                              <a:pt x="13160" y="2139"/>
                            </a:lnTo>
                            <a:lnTo>
                              <a:pt x="13096" y="2075"/>
                            </a:lnTo>
                            <a:lnTo>
                              <a:pt x="13043" y="1996"/>
                            </a:lnTo>
                            <a:lnTo>
                              <a:pt x="13007" y="1915"/>
                            </a:lnTo>
                            <a:lnTo>
                              <a:pt x="12976" y="1835"/>
                            </a:lnTo>
                            <a:lnTo>
                              <a:pt x="12973" y="1753"/>
                            </a:lnTo>
                            <a:lnTo>
                              <a:pt x="12976" y="1666"/>
                            </a:lnTo>
                            <a:lnTo>
                              <a:pt x="12997" y="1585"/>
                            </a:lnTo>
                            <a:lnTo>
                              <a:pt x="13025" y="1504"/>
                            </a:lnTo>
                            <a:lnTo>
                              <a:pt x="13071" y="1426"/>
                            </a:lnTo>
                            <a:lnTo>
                              <a:pt x="13131" y="1362"/>
                            </a:lnTo>
                            <a:lnTo>
                              <a:pt x="13089" y="1393"/>
                            </a:lnTo>
                            <a:lnTo>
                              <a:pt x="13054" y="1439"/>
                            </a:lnTo>
                            <a:lnTo>
                              <a:pt x="13007" y="1475"/>
                            </a:lnTo>
                            <a:lnTo>
                              <a:pt x="12965" y="1520"/>
                            </a:lnTo>
                            <a:lnTo>
                              <a:pt x="12923" y="1562"/>
                            </a:lnTo>
                            <a:lnTo>
                              <a:pt x="12877" y="1611"/>
                            </a:lnTo>
                            <a:lnTo>
                              <a:pt x="12831" y="1659"/>
                            </a:lnTo>
                            <a:lnTo>
                              <a:pt x="12781" y="1705"/>
                            </a:lnTo>
                            <a:lnTo>
                              <a:pt x="12729" y="1757"/>
                            </a:lnTo>
                            <a:lnTo>
                              <a:pt x="12683" y="1808"/>
                            </a:lnTo>
                            <a:lnTo>
                              <a:pt x="12630" y="1860"/>
                            </a:lnTo>
                            <a:lnTo>
                              <a:pt x="12576" y="1915"/>
                            </a:lnTo>
                            <a:lnTo>
                              <a:pt x="12521" y="1970"/>
                            </a:lnTo>
                            <a:lnTo>
                              <a:pt x="12464" y="2026"/>
                            </a:lnTo>
                            <a:lnTo>
                              <a:pt x="12410" y="2084"/>
                            </a:lnTo>
                            <a:lnTo>
                              <a:pt x="12350" y="2139"/>
                            </a:lnTo>
                            <a:lnTo>
                              <a:pt x="12290" y="2197"/>
                            </a:lnTo>
                            <a:lnTo>
                              <a:pt x="12231" y="2258"/>
                            </a:lnTo>
                            <a:lnTo>
                              <a:pt x="12166" y="2324"/>
                            </a:lnTo>
                            <a:lnTo>
                              <a:pt x="12106" y="2388"/>
                            </a:lnTo>
                            <a:lnTo>
                              <a:pt x="12043" y="2446"/>
                            </a:lnTo>
                            <a:lnTo>
                              <a:pt x="11976" y="2512"/>
                            </a:lnTo>
                            <a:lnTo>
                              <a:pt x="11912" y="2579"/>
                            </a:lnTo>
                            <a:lnTo>
                              <a:pt x="11846" y="2645"/>
                            </a:lnTo>
                            <a:lnTo>
                              <a:pt x="11782" y="2712"/>
                            </a:lnTo>
                            <a:lnTo>
                              <a:pt x="11711" y="2777"/>
                            </a:lnTo>
                            <a:lnTo>
                              <a:pt x="11644" y="2849"/>
                            </a:lnTo>
                            <a:lnTo>
                              <a:pt x="11574" y="2919"/>
                            </a:lnTo>
                            <a:lnTo>
                              <a:pt x="11503" y="2991"/>
                            </a:lnTo>
                            <a:lnTo>
                              <a:pt x="11439" y="3062"/>
                            </a:lnTo>
                            <a:lnTo>
                              <a:pt x="11369" y="3131"/>
                            </a:lnTo>
                            <a:lnTo>
                              <a:pt x="11291" y="3201"/>
                            </a:lnTo>
                            <a:lnTo>
                              <a:pt x="11220" y="3279"/>
                            </a:lnTo>
                            <a:lnTo>
                              <a:pt x="11150" y="3347"/>
                            </a:lnTo>
                            <a:lnTo>
                              <a:pt x="11078" y="3425"/>
                            </a:lnTo>
                            <a:lnTo>
                              <a:pt x="11001" y="3499"/>
                            </a:lnTo>
                            <a:lnTo>
                              <a:pt x="10930" y="3571"/>
                            </a:lnTo>
                            <a:lnTo>
                              <a:pt x="10852" y="3649"/>
                            </a:lnTo>
                            <a:lnTo>
                              <a:pt x="10775" y="3723"/>
                            </a:lnTo>
                            <a:lnTo>
                              <a:pt x="10704" y="3801"/>
                            </a:lnTo>
                            <a:lnTo>
                              <a:pt x="10626" y="3875"/>
                            </a:lnTo>
                            <a:lnTo>
                              <a:pt x="10549" y="3950"/>
                            </a:lnTo>
                            <a:lnTo>
                              <a:pt x="10475" y="4035"/>
                            </a:lnTo>
                            <a:lnTo>
                              <a:pt x="10397" y="4109"/>
                            </a:lnTo>
                            <a:lnTo>
                              <a:pt x="10319" y="4183"/>
                            </a:lnTo>
                            <a:lnTo>
                              <a:pt x="10242" y="4261"/>
                            </a:lnTo>
                            <a:lnTo>
                              <a:pt x="10167" y="4342"/>
                            </a:lnTo>
                            <a:lnTo>
                              <a:pt x="10089" y="4420"/>
                            </a:lnTo>
                            <a:lnTo>
                              <a:pt x="10011" y="4500"/>
                            </a:lnTo>
                            <a:lnTo>
                              <a:pt x="9934" y="4575"/>
                            </a:lnTo>
                            <a:lnTo>
                              <a:pt x="9856" y="4657"/>
                            </a:lnTo>
                            <a:lnTo>
                              <a:pt x="9782" y="4734"/>
                            </a:lnTo>
                            <a:lnTo>
                              <a:pt x="9704" y="4809"/>
                            </a:lnTo>
                            <a:lnTo>
                              <a:pt x="9627" y="4890"/>
                            </a:lnTo>
                            <a:lnTo>
                              <a:pt x="9549" y="4967"/>
                            </a:lnTo>
                            <a:lnTo>
                              <a:pt x="9471" y="5039"/>
                            </a:lnTo>
                            <a:lnTo>
                              <a:pt x="9398" y="5119"/>
                            </a:lnTo>
                            <a:lnTo>
                              <a:pt x="9320" y="5197"/>
                            </a:lnTo>
                            <a:lnTo>
                              <a:pt x="9242" y="5272"/>
                            </a:lnTo>
                            <a:lnTo>
                              <a:pt x="9164" y="5353"/>
                            </a:lnTo>
                            <a:lnTo>
                              <a:pt x="9090" y="5431"/>
                            </a:lnTo>
                            <a:lnTo>
                              <a:pt x="9012" y="5506"/>
                            </a:lnTo>
                            <a:lnTo>
                              <a:pt x="8934" y="5583"/>
                            </a:lnTo>
                            <a:lnTo>
                              <a:pt x="8864" y="5658"/>
                            </a:lnTo>
                            <a:lnTo>
                              <a:pt x="8790" y="5735"/>
                            </a:lnTo>
                            <a:lnTo>
                              <a:pt x="8712" y="5810"/>
                            </a:lnTo>
                            <a:lnTo>
                              <a:pt x="8641" y="5888"/>
                            </a:lnTo>
                            <a:lnTo>
                              <a:pt x="8570" y="5956"/>
                            </a:lnTo>
                            <a:lnTo>
                              <a:pt x="8500" y="6034"/>
                            </a:lnTo>
                            <a:lnTo>
                              <a:pt x="8422" y="6108"/>
                            </a:lnTo>
                            <a:lnTo>
                              <a:pt x="8352" y="6179"/>
                            </a:lnTo>
                            <a:lnTo>
                              <a:pt x="8281" y="6250"/>
                            </a:lnTo>
                            <a:lnTo>
                              <a:pt x="8210" y="6322"/>
                            </a:lnTo>
                            <a:lnTo>
                              <a:pt x="8139" y="6390"/>
                            </a:lnTo>
                            <a:lnTo>
                              <a:pt x="8072" y="6461"/>
                            </a:lnTo>
                            <a:lnTo>
                              <a:pt x="8002" y="6532"/>
                            </a:lnTo>
                            <a:lnTo>
                              <a:pt x="7937" y="6604"/>
                            </a:lnTo>
                            <a:lnTo>
                              <a:pt x="7867" y="6668"/>
                            </a:lnTo>
                            <a:lnTo>
                              <a:pt x="7801" y="6739"/>
                            </a:lnTo>
                            <a:lnTo>
                              <a:pt x="7737" y="6805"/>
                            </a:lnTo>
                            <a:lnTo>
                              <a:pt x="7669" y="6869"/>
                            </a:lnTo>
                            <a:lnTo>
                              <a:pt x="7613" y="6935"/>
                            </a:lnTo>
                            <a:lnTo>
                              <a:pt x="7545" y="6993"/>
                            </a:lnTo>
                            <a:lnTo>
                              <a:pt x="7482" y="7060"/>
                            </a:lnTo>
                            <a:lnTo>
                              <a:pt x="7422" y="7118"/>
                            </a:lnTo>
                            <a:lnTo>
                              <a:pt x="7362" y="7177"/>
                            </a:lnTo>
                            <a:lnTo>
                              <a:pt x="7302" y="7239"/>
                            </a:lnTo>
                            <a:lnTo>
                              <a:pt x="7249" y="7297"/>
                            </a:lnTo>
                            <a:lnTo>
                              <a:pt x="7192" y="7352"/>
                            </a:lnTo>
                            <a:lnTo>
                              <a:pt x="7140" y="7411"/>
                            </a:lnTo>
                            <a:lnTo>
                              <a:pt x="7080" y="7466"/>
                            </a:lnTo>
                            <a:lnTo>
                              <a:pt x="7030" y="7521"/>
                            </a:lnTo>
                            <a:lnTo>
                              <a:pt x="6977" y="7569"/>
                            </a:lnTo>
                            <a:lnTo>
                              <a:pt x="6924" y="7624"/>
                            </a:lnTo>
                            <a:lnTo>
                              <a:pt x="6878" y="7673"/>
                            </a:lnTo>
                            <a:lnTo>
                              <a:pt x="6828" y="7721"/>
                            </a:lnTo>
                            <a:lnTo>
                              <a:pt x="6783" y="7770"/>
                            </a:lnTo>
                            <a:lnTo>
                              <a:pt x="6740" y="7812"/>
                            </a:lnTo>
                            <a:lnTo>
                              <a:pt x="6695" y="7858"/>
                            </a:lnTo>
                            <a:lnTo>
                              <a:pt x="6652" y="7900"/>
                            </a:lnTo>
                            <a:lnTo>
                              <a:pt x="6610" y="7939"/>
                            </a:lnTo>
                            <a:lnTo>
                              <a:pt x="6574" y="7980"/>
                            </a:lnTo>
                            <a:lnTo>
                              <a:pt x="6535" y="8019"/>
                            </a:lnTo>
                            <a:lnTo>
                              <a:pt x="6500" y="8058"/>
                            </a:lnTo>
                            <a:lnTo>
                              <a:pt x="6468" y="8091"/>
                            </a:lnTo>
                            <a:lnTo>
                              <a:pt x="6433" y="8123"/>
                            </a:lnTo>
                            <a:lnTo>
                              <a:pt x="6405" y="8155"/>
                            </a:lnTo>
                            <a:lnTo>
                              <a:pt x="6373" y="8182"/>
                            </a:lnTo>
                            <a:lnTo>
                              <a:pt x="6345" y="8210"/>
                            </a:lnTo>
                            <a:lnTo>
                              <a:pt x="6320" y="8237"/>
                            </a:lnTo>
                            <a:lnTo>
                              <a:pt x="6299" y="8265"/>
                            </a:lnTo>
                            <a:lnTo>
                              <a:pt x="6274" y="8285"/>
                            </a:lnTo>
                            <a:lnTo>
                              <a:pt x="6257" y="8307"/>
                            </a:lnTo>
                            <a:lnTo>
                              <a:pt x="6231" y="8324"/>
                            </a:lnTo>
                            <a:lnTo>
                              <a:pt x="6221" y="8340"/>
                            </a:lnTo>
                            <a:lnTo>
                              <a:pt x="6203" y="8356"/>
                            </a:lnTo>
                            <a:lnTo>
                              <a:pt x="6189" y="8367"/>
                            </a:lnTo>
                            <a:lnTo>
                              <a:pt x="6179" y="8379"/>
                            </a:lnTo>
                            <a:lnTo>
                              <a:pt x="6171" y="8389"/>
                            </a:lnTo>
                            <a:lnTo>
                              <a:pt x="6168" y="8395"/>
                            </a:lnTo>
                            <a:lnTo>
                              <a:pt x="6161" y="8398"/>
                            </a:lnTo>
                            <a:lnTo>
                              <a:pt x="6154" y="8398"/>
                            </a:lnTo>
                            <a:lnTo>
                              <a:pt x="6101" y="8470"/>
                            </a:lnTo>
                            <a:lnTo>
                              <a:pt x="6055" y="8541"/>
                            </a:lnTo>
                            <a:lnTo>
                              <a:pt x="6023" y="8622"/>
                            </a:lnTo>
                            <a:lnTo>
                              <a:pt x="6005" y="8703"/>
                            </a:lnTo>
                            <a:lnTo>
                              <a:pt x="6002" y="8784"/>
                            </a:lnTo>
                            <a:lnTo>
                              <a:pt x="6013" y="8868"/>
                            </a:lnTo>
                            <a:lnTo>
                              <a:pt x="6031" y="8943"/>
                            </a:lnTo>
                            <a:lnTo>
                              <a:pt x="6065" y="9017"/>
                            </a:lnTo>
                            <a:lnTo>
                              <a:pt x="6115" y="9095"/>
                            </a:lnTo>
                            <a:lnTo>
                              <a:pt x="6171" y="9160"/>
                            </a:lnTo>
                            <a:lnTo>
                              <a:pt x="6242" y="9215"/>
                            </a:lnTo>
                            <a:lnTo>
                              <a:pt x="6320" y="9263"/>
                            </a:lnTo>
                            <a:lnTo>
                              <a:pt x="6405" y="9296"/>
                            </a:lnTo>
                            <a:lnTo>
                              <a:pt x="6493" y="9319"/>
                            </a:lnTo>
                            <a:lnTo>
                              <a:pt x="6581" y="9322"/>
                            </a:lnTo>
                            <a:lnTo>
                              <a:pt x="6670" y="9322"/>
                            </a:lnTo>
                            <a:lnTo>
                              <a:pt x="6758" y="9305"/>
                            </a:lnTo>
                            <a:lnTo>
                              <a:pt x="6843" y="9280"/>
                            </a:lnTo>
                            <a:lnTo>
                              <a:pt x="6924" y="9241"/>
                            </a:lnTo>
                            <a:lnTo>
                              <a:pt x="7002" y="9192"/>
                            </a:lnTo>
                            <a:lnTo>
                              <a:pt x="7083" y="9121"/>
                            </a:lnTo>
                            <a:lnTo>
                              <a:pt x="7175" y="9053"/>
                            </a:lnTo>
                            <a:lnTo>
                              <a:pt x="7264" y="8981"/>
                            </a:lnTo>
                            <a:lnTo>
                              <a:pt x="7358" y="8910"/>
                            </a:lnTo>
                            <a:lnTo>
                              <a:pt x="7447" y="8846"/>
                            </a:lnTo>
                            <a:lnTo>
                              <a:pt x="7535" y="8774"/>
                            </a:lnTo>
                            <a:lnTo>
                              <a:pt x="7623" y="8703"/>
                            </a:lnTo>
                            <a:lnTo>
                              <a:pt x="7711" y="8632"/>
                            </a:lnTo>
                            <a:lnTo>
                              <a:pt x="7801" y="8564"/>
                            </a:lnTo>
                            <a:lnTo>
                              <a:pt x="7888" y="8492"/>
                            </a:lnTo>
                            <a:lnTo>
                              <a:pt x="7976" y="8428"/>
                            </a:lnTo>
                            <a:lnTo>
                              <a:pt x="8061" y="8356"/>
                            </a:lnTo>
                            <a:lnTo>
                              <a:pt x="8150" y="8292"/>
                            </a:lnTo>
                            <a:lnTo>
                              <a:pt x="8235" y="8221"/>
                            </a:lnTo>
                            <a:lnTo>
                              <a:pt x="8323" y="8155"/>
                            </a:lnTo>
                            <a:lnTo>
                              <a:pt x="8404" y="8091"/>
                            </a:lnTo>
                            <a:lnTo>
                              <a:pt x="8489" y="8025"/>
                            </a:lnTo>
                            <a:lnTo>
                              <a:pt x="8570" y="7964"/>
                            </a:lnTo>
                            <a:lnTo>
                              <a:pt x="8648" y="7900"/>
                            </a:lnTo>
                            <a:lnTo>
                              <a:pt x="8729" y="7842"/>
                            </a:lnTo>
                            <a:lnTo>
                              <a:pt x="8807" y="7779"/>
                            </a:lnTo>
                            <a:lnTo>
                              <a:pt x="8874" y="7721"/>
                            </a:lnTo>
                            <a:lnTo>
                              <a:pt x="8952" y="7666"/>
                            </a:lnTo>
                            <a:lnTo>
                              <a:pt x="9022" y="7608"/>
                            </a:lnTo>
                            <a:lnTo>
                              <a:pt x="9094" y="7553"/>
                            </a:lnTo>
                            <a:lnTo>
                              <a:pt x="9164" y="7505"/>
                            </a:lnTo>
                            <a:lnTo>
                              <a:pt x="9231" y="7449"/>
                            </a:lnTo>
                            <a:lnTo>
                              <a:pt x="9291" y="7407"/>
                            </a:lnTo>
                            <a:lnTo>
                              <a:pt x="9354" y="7358"/>
                            </a:lnTo>
                            <a:lnTo>
                              <a:pt x="9414" y="7309"/>
                            </a:lnTo>
                            <a:lnTo>
                              <a:pt x="9471" y="7264"/>
                            </a:lnTo>
                            <a:lnTo>
                              <a:pt x="9528" y="7226"/>
                            </a:lnTo>
                            <a:lnTo>
                              <a:pt x="9574" y="7190"/>
                            </a:lnTo>
                            <a:lnTo>
                              <a:pt x="9627" y="7151"/>
                            </a:lnTo>
                            <a:lnTo>
                              <a:pt x="9673" y="7118"/>
                            </a:lnTo>
                            <a:lnTo>
                              <a:pt x="9715" y="7087"/>
                            </a:lnTo>
                            <a:lnTo>
                              <a:pt x="9751" y="7054"/>
                            </a:lnTo>
                            <a:lnTo>
                              <a:pt x="9793" y="7032"/>
                            </a:lnTo>
                            <a:lnTo>
                              <a:pt x="9821" y="7005"/>
                            </a:lnTo>
                            <a:lnTo>
                              <a:pt x="9853" y="6983"/>
                            </a:lnTo>
                            <a:lnTo>
                              <a:pt x="9881" y="6966"/>
                            </a:lnTo>
                            <a:lnTo>
                              <a:pt x="9905" y="6950"/>
                            </a:lnTo>
                            <a:lnTo>
                              <a:pt x="9923" y="6935"/>
                            </a:lnTo>
                            <a:lnTo>
                              <a:pt x="9941" y="6927"/>
                            </a:lnTo>
                            <a:lnTo>
                              <a:pt x="9871" y="6960"/>
                            </a:lnTo>
                            <a:lnTo>
                              <a:pt x="9793" y="6983"/>
                            </a:lnTo>
                            <a:lnTo>
                              <a:pt x="9715" y="6999"/>
                            </a:lnTo>
                            <a:lnTo>
                              <a:pt x="9627" y="6999"/>
                            </a:lnTo>
                            <a:lnTo>
                              <a:pt x="9538" y="6993"/>
                            </a:lnTo>
                            <a:lnTo>
                              <a:pt x="9450" y="6973"/>
                            </a:lnTo>
                            <a:lnTo>
                              <a:pt x="9362" y="6941"/>
                            </a:lnTo>
                            <a:lnTo>
                              <a:pt x="9277" y="6892"/>
                            </a:lnTo>
                            <a:lnTo>
                              <a:pt x="9206" y="6830"/>
                            </a:lnTo>
                            <a:lnTo>
                              <a:pt x="9146" y="6759"/>
                            </a:lnTo>
                            <a:lnTo>
                              <a:pt x="9100" y="6684"/>
                            </a:lnTo>
                            <a:lnTo>
                              <a:pt x="9065" y="6607"/>
                            </a:lnTo>
                            <a:lnTo>
                              <a:pt x="9047" y="6526"/>
                            </a:lnTo>
                            <a:lnTo>
                              <a:pt x="9040" y="6445"/>
                            </a:lnTo>
                            <a:lnTo>
                              <a:pt x="9047" y="6364"/>
                            </a:lnTo>
                            <a:lnTo>
                              <a:pt x="9072" y="6283"/>
                            </a:lnTo>
                            <a:lnTo>
                              <a:pt x="9107" y="6202"/>
                            </a:lnTo>
                            <a:lnTo>
                              <a:pt x="9154" y="6131"/>
                            </a:lnTo>
                            <a:lnTo>
                              <a:pt x="9170" y="6108"/>
                            </a:lnTo>
                            <a:lnTo>
                              <a:pt x="9188" y="6092"/>
                            </a:lnTo>
                            <a:lnTo>
                              <a:pt x="9206" y="6076"/>
                            </a:lnTo>
                            <a:lnTo>
                              <a:pt x="9242" y="6043"/>
                            </a:lnTo>
                            <a:lnTo>
                              <a:pt x="9266" y="6026"/>
                            </a:lnTo>
                            <a:lnTo>
                              <a:pt x="9277" y="6023"/>
                            </a:lnTo>
                            <a:lnTo>
                              <a:pt x="9199" y="6059"/>
                            </a:lnTo>
                            <a:lnTo>
                              <a:pt x="9065" y="6131"/>
                            </a:lnTo>
                            <a:lnTo>
                              <a:pt x="8928" y="6202"/>
                            </a:lnTo>
                            <a:lnTo>
                              <a:pt x="8800" y="6267"/>
                            </a:lnTo>
                            <a:lnTo>
                              <a:pt x="8676" y="6325"/>
                            </a:lnTo>
                            <a:lnTo>
                              <a:pt x="8570" y="6380"/>
                            </a:lnTo>
                            <a:lnTo>
                              <a:pt x="8471" y="6435"/>
                            </a:lnTo>
                            <a:lnTo>
                              <a:pt x="8380" y="6484"/>
                            </a:lnTo>
                            <a:lnTo>
                              <a:pt x="8305" y="6526"/>
                            </a:lnTo>
                            <a:lnTo>
                              <a:pt x="8235" y="6571"/>
                            </a:lnTo>
                            <a:lnTo>
                              <a:pt x="8168" y="6613"/>
                            </a:lnTo>
                            <a:lnTo>
                              <a:pt x="8121" y="6659"/>
                            </a:lnTo>
                            <a:lnTo>
                              <a:pt x="8072" y="6701"/>
                            </a:lnTo>
                            <a:lnTo>
                              <a:pt x="8033" y="6743"/>
                            </a:lnTo>
                            <a:lnTo>
                              <a:pt x="8002" y="6788"/>
                            </a:lnTo>
                            <a:lnTo>
                              <a:pt x="7976" y="6836"/>
                            </a:lnTo>
                            <a:lnTo>
                              <a:pt x="7959" y="6886"/>
                            </a:lnTo>
                            <a:lnTo>
                              <a:pt x="7949" y="6941"/>
                            </a:lnTo>
                            <a:lnTo>
                              <a:pt x="7942" y="6993"/>
                            </a:lnTo>
                            <a:lnTo>
                              <a:pt x="7942" y="7060"/>
                            </a:lnTo>
                            <a:lnTo>
                              <a:pt x="7949" y="6950"/>
                            </a:lnTo>
                            <a:lnTo>
                              <a:pt x="7984" y="6847"/>
                            </a:lnTo>
                            <a:lnTo>
                              <a:pt x="8044" y="6750"/>
                            </a:lnTo>
                            <a:lnTo>
                              <a:pt x="8115" y="6668"/>
                            </a:lnTo>
                            <a:lnTo>
                              <a:pt x="8090" y="6684"/>
                            </a:lnTo>
                            <a:lnTo>
                              <a:pt x="8061" y="6711"/>
                            </a:lnTo>
                            <a:lnTo>
                              <a:pt x="8033" y="6739"/>
                            </a:lnTo>
                            <a:lnTo>
                              <a:pt x="7991" y="6772"/>
                            </a:lnTo>
                            <a:lnTo>
                              <a:pt x="7942" y="6805"/>
                            </a:lnTo>
                            <a:lnTo>
                              <a:pt x="7888" y="6844"/>
                            </a:lnTo>
                            <a:lnTo>
                              <a:pt x="7835" y="6886"/>
                            </a:lnTo>
                            <a:lnTo>
                              <a:pt x="7779" y="6927"/>
                            </a:lnTo>
                            <a:lnTo>
                              <a:pt x="7711" y="6973"/>
                            </a:lnTo>
                            <a:lnTo>
                              <a:pt x="7641" y="7021"/>
                            </a:lnTo>
                            <a:lnTo>
                              <a:pt x="7571" y="7077"/>
                            </a:lnTo>
                            <a:lnTo>
                              <a:pt x="7493" y="7126"/>
                            </a:lnTo>
                            <a:lnTo>
                              <a:pt x="7415" y="7184"/>
                            </a:lnTo>
                            <a:lnTo>
                              <a:pt x="7341" y="7239"/>
                            </a:lnTo>
                            <a:lnTo>
                              <a:pt x="7256" y="7297"/>
                            </a:lnTo>
                            <a:lnTo>
                              <a:pt x="7175" y="7352"/>
                            </a:lnTo>
                            <a:lnTo>
                              <a:pt x="7083" y="7417"/>
                            </a:lnTo>
                            <a:lnTo>
                              <a:pt x="6994" y="7478"/>
                            </a:lnTo>
                            <a:lnTo>
                              <a:pt x="6906" y="7537"/>
                            </a:lnTo>
                            <a:lnTo>
                              <a:pt x="6818" y="7595"/>
                            </a:lnTo>
                            <a:lnTo>
                              <a:pt x="6722" y="7663"/>
                            </a:lnTo>
                            <a:lnTo>
                              <a:pt x="6634" y="7721"/>
                            </a:lnTo>
                            <a:lnTo>
                              <a:pt x="6546" y="7786"/>
                            </a:lnTo>
                            <a:lnTo>
                              <a:pt x="6457" y="7848"/>
                            </a:lnTo>
                            <a:lnTo>
                              <a:pt x="6369" y="7906"/>
                            </a:lnTo>
                            <a:lnTo>
                              <a:pt x="6281" y="7964"/>
                            </a:lnTo>
                            <a:lnTo>
                              <a:pt x="6197" y="8019"/>
                            </a:lnTo>
                            <a:lnTo>
                              <a:pt x="6108" y="8081"/>
                            </a:lnTo>
                            <a:lnTo>
                              <a:pt x="6023" y="8133"/>
                            </a:lnTo>
                            <a:lnTo>
                              <a:pt x="5949" y="8188"/>
                            </a:lnTo>
                            <a:lnTo>
                              <a:pt x="5871" y="8243"/>
                            </a:lnTo>
                            <a:lnTo>
                              <a:pt x="5794" y="8292"/>
                            </a:lnTo>
                            <a:lnTo>
                              <a:pt x="5723" y="8340"/>
                            </a:lnTo>
                            <a:lnTo>
                              <a:pt x="5652" y="8382"/>
                            </a:lnTo>
                            <a:lnTo>
                              <a:pt x="5585" y="8428"/>
                            </a:lnTo>
                            <a:lnTo>
                              <a:pt x="5528" y="8467"/>
                            </a:lnTo>
                            <a:lnTo>
                              <a:pt x="5475" y="8502"/>
                            </a:lnTo>
                            <a:lnTo>
                              <a:pt x="5426" y="8534"/>
                            </a:lnTo>
                            <a:lnTo>
                              <a:pt x="5380" y="8564"/>
                            </a:lnTo>
                            <a:lnTo>
                              <a:pt x="5338" y="8589"/>
                            </a:lnTo>
                            <a:lnTo>
                              <a:pt x="5302" y="8613"/>
                            </a:lnTo>
                            <a:lnTo>
                              <a:pt x="5387" y="8567"/>
                            </a:lnTo>
                            <a:lnTo>
                              <a:pt x="5468" y="8541"/>
                            </a:lnTo>
                            <a:lnTo>
                              <a:pt x="5550" y="8525"/>
                            </a:lnTo>
                            <a:lnTo>
                              <a:pt x="5642" y="8515"/>
                            </a:lnTo>
                            <a:lnTo>
                              <a:pt x="5723" y="8525"/>
                            </a:lnTo>
                            <a:lnTo>
                              <a:pt x="5811" y="8541"/>
                            </a:lnTo>
                            <a:lnTo>
                              <a:pt x="5896" y="8567"/>
                            </a:lnTo>
                            <a:lnTo>
                              <a:pt x="5971" y="8606"/>
                            </a:lnTo>
                            <a:lnTo>
                              <a:pt x="6037" y="8661"/>
                            </a:lnTo>
                            <a:lnTo>
                              <a:pt x="6101" y="8719"/>
                            </a:lnTo>
                            <a:lnTo>
                              <a:pt x="6154" y="8784"/>
                            </a:lnTo>
                            <a:lnTo>
                              <a:pt x="6197" y="8862"/>
                            </a:lnTo>
                            <a:lnTo>
                              <a:pt x="6221" y="8937"/>
                            </a:lnTo>
                            <a:lnTo>
                              <a:pt x="6239" y="9017"/>
                            </a:lnTo>
                            <a:lnTo>
                              <a:pt x="6239" y="9095"/>
                            </a:lnTo>
                            <a:lnTo>
                              <a:pt x="6225" y="9177"/>
                            </a:lnTo>
                            <a:lnTo>
                              <a:pt x="6207" y="9250"/>
                            </a:lnTo>
                            <a:lnTo>
                              <a:pt x="6171" y="9329"/>
                            </a:lnTo>
                            <a:lnTo>
                              <a:pt x="6119" y="9393"/>
                            </a:lnTo>
                            <a:lnTo>
                              <a:pt x="6062" y="9459"/>
                            </a:lnTo>
                            <a:lnTo>
                              <a:pt x="6101" y="9419"/>
                            </a:lnTo>
                            <a:lnTo>
                              <a:pt x="6150" y="9384"/>
                            </a:lnTo>
                            <a:lnTo>
                              <a:pt x="6197" y="9344"/>
                            </a:lnTo>
                            <a:lnTo>
                              <a:pt x="6242" y="9305"/>
                            </a:lnTo>
                            <a:lnTo>
                              <a:pt x="6299" y="9271"/>
                            </a:lnTo>
                            <a:lnTo>
                              <a:pt x="6352" y="9225"/>
                            </a:lnTo>
                            <a:lnTo>
                              <a:pt x="6405" y="9186"/>
                            </a:lnTo>
                            <a:lnTo>
                              <a:pt x="6461" y="9144"/>
                            </a:lnTo>
                            <a:lnTo>
                              <a:pt x="6521" y="9102"/>
                            </a:lnTo>
                            <a:lnTo>
                              <a:pt x="6589" y="9063"/>
                            </a:lnTo>
                            <a:lnTo>
                              <a:pt x="6644" y="9017"/>
                            </a:lnTo>
                            <a:lnTo>
                              <a:pt x="6712" y="8975"/>
                            </a:lnTo>
                            <a:lnTo>
                              <a:pt x="6783" y="8933"/>
                            </a:lnTo>
                            <a:lnTo>
                              <a:pt x="6846" y="8884"/>
                            </a:lnTo>
                            <a:lnTo>
                              <a:pt x="6921" y="8840"/>
                            </a:lnTo>
                            <a:lnTo>
                              <a:pt x="6991" y="8797"/>
                            </a:lnTo>
                            <a:lnTo>
                              <a:pt x="7065" y="8752"/>
                            </a:lnTo>
                            <a:lnTo>
                              <a:pt x="7140" y="8703"/>
                            </a:lnTo>
                            <a:lnTo>
                              <a:pt x="7214" y="8661"/>
                            </a:lnTo>
                            <a:lnTo>
                              <a:pt x="7292" y="8613"/>
                            </a:lnTo>
                            <a:lnTo>
                              <a:pt x="7376" y="8567"/>
                            </a:lnTo>
                            <a:lnTo>
                              <a:pt x="7451" y="8519"/>
                            </a:lnTo>
                            <a:lnTo>
                              <a:pt x="7535" y="8470"/>
                            </a:lnTo>
                            <a:lnTo>
                              <a:pt x="7613" y="8428"/>
                            </a:lnTo>
                            <a:lnTo>
                              <a:pt x="7695" y="8379"/>
                            </a:lnTo>
                            <a:lnTo>
                              <a:pt x="7779" y="8331"/>
                            </a:lnTo>
                            <a:lnTo>
                              <a:pt x="7867" y="8282"/>
                            </a:lnTo>
                            <a:lnTo>
                              <a:pt x="7949" y="8237"/>
                            </a:lnTo>
                            <a:lnTo>
                              <a:pt x="8033" y="8188"/>
                            </a:lnTo>
                            <a:lnTo>
                              <a:pt x="8121" y="8139"/>
                            </a:lnTo>
                            <a:lnTo>
                              <a:pt x="8203" y="8091"/>
                            </a:lnTo>
                            <a:lnTo>
                              <a:pt x="8292" y="8042"/>
                            </a:lnTo>
                            <a:lnTo>
                              <a:pt x="8376" y="7994"/>
                            </a:lnTo>
                            <a:lnTo>
                              <a:pt x="8464" y="7945"/>
                            </a:lnTo>
                            <a:lnTo>
                              <a:pt x="8552" y="7897"/>
                            </a:lnTo>
                            <a:lnTo>
                              <a:pt x="8634" y="7848"/>
                            </a:lnTo>
                            <a:lnTo>
                              <a:pt x="8726" y="7803"/>
                            </a:lnTo>
                            <a:lnTo>
                              <a:pt x="8814" y="7748"/>
                            </a:lnTo>
                            <a:lnTo>
                              <a:pt x="8892" y="7705"/>
                            </a:lnTo>
                            <a:lnTo>
                              <a:pt x="8980" y="7657"/>
                            </a:lnTo>
                            <a:lnTo>
                              <a:pt x="9065" y="7608"/>
                            </a:lnTo>
                            <a:lnTo>
                              <a:pt x="9146" y="7563"/>
                            </a:lnTo>
                            <a:lnTo>
                              <a:pt x="9235" y="7514"/>
                            </a:lnTo>
                            <a:lnTo>
                              <a:pt x="9320" y="7466"/>
                            </a:lnTo>
                            <a:lnTo>
                              <a:pt x="9401" y="7423"/>
                            </a:lnTo>
                            <a:lnTo>
                              <a:pt x="9486" y="7375"/>
                            </a:lnTo>
                            <a:lnTo>
                              <a:pt x="9574" y="7326"/>
                            </a:lnTo>
                            <a:lnTo>
                              <a:pt x="9655" y="7281"/>
                            </a:lnTo>
                            <a:lnTo>
                              <a:pt x="9733" y="7232"/>
                            </a:lnTo>
                            <a:lnTo>
                              <a:pt x="9818" y="7190"/>
                            </a:lnTo>
                            <a:lnTo>
                              <a:pt x="9892" y="7142"/>
                            </a:lnTo>
                            <a:lnTo>
                              <a:pt x="9977" y="7096"/>
                            </a:lnTo>
                            <a:lnTo>
                              <a:pt x="10055" y="7048"/>
                            </a:lnTo>
                            <a:lnTo>
                              <a:pt x="10128" y="7005"/>
                            </a:lnTo>
                            <a:lnTo>
                              <a:pt x="10206" y="6960"/>
                            </a:lnTo>
                            <a:lnTo>
                              <a:pt x="10284" y="6911"/>
                            </a:lnTo>
                            <a:lnTo>
                              <a:pt x="10361" y="6869"/>
                            </a:lnTo>
                            <a:lnTo>
                              <a:pt x="10439" y="6827"/>
                            </a:lnTo>
                            <a:lnTo>
                              <a:pt x="10510" y="6781"/>
                            </a:lnTo>
                            <a:lnTo>
                              <a:pt x="10580" y="6739"/>
                            </a:lnTo>
                            <a:lnTo>
                              <a:pt x="10658" y="6691"/>
                            </a:lnTo>
                            <a:lnTo>
                              <a:pt x="10722" y="6645"/>
                            </a:lnTo>
                            <a:lnTo>
                              <a:pt x="10792" y="6604"/>
                            </a:lnTo>
                            <a:lnTo>
                              <a:pt x="10860" y="6559"/>
                            </a:lnTo>
                            <a:lnTo>
                              <a:pt x="10930" y="6516"/>
                            </a:lnTo>
                            <a:lnTo>
                              <a:pt x="10994" y="6474"/>
                            </a:lnTo>
                            <a:lnTo>
                              <a:pt x="11054" y="6435"/>
                            </a:lnTo>
                            <a:lnTo>
                              <a:pt x="11117" y="6390"/>
                            </a:lnTo>
                            <a:lnTo>
                              <a:pt x="11177" y="6347"/>
                            </a:lnTo>
                            <a:lnTo>
                              <a:pt x="11245" y="6305"/>
                            </a:lnTo>
                            <a:lnTo>
                              <a:pt x="11298" y="6267"/>
                            </a:lnTo>
                            <a:lnTo>
                              <a:pt x="11354" y="6225"/>
                            </a:lnTo>
                            <a:lnTo>
                              <a:pt x="11407" y="6179"/>
                            </a:lnTo>
                            <a:lnTo>
                              <a:pt x="11464" y="6140"/>
                            </a:lnTo>
                            <a:lnTo>
                              <a:pt x="11517" y="6098"/>
                            </a:lnTo>
                            <a:lnTo>
                              <a:pt x="11569" y="6059"/>
                            </a:lnTo>
                            <a:lnTo>
                              <a:pt x="11616" y="6017"/>
                            </a:lnTo>
                            <a:lnTo>
                              <a:pt x="11662" y="5978"/>
                            </a:lnTo>
                            <a:lnTo>
                              <a:pt x="11729" y="5920"/>
                            </a:lnTo>
                            <a:lnTo>
                              <a:pt x="11800" y="5858"/>
                            </a:lnTo>
                            <a:lnTo>
                              <a:pt x="11863" y="5803"/>
                            </a:lnTo>
                            <a:lnTo>
                              <a:pt x="11937" y="5745"/>
                            </a:lnTo>
                            <a:lnTo>
                              <a:pt x="12000" y="5686"/>
                            </a:lnTo>
                            <a:lnTo>
                              <a:pt x="12064" y="5625"/>
                            </a:lnTo>
                            <a:lnTo>
                              <a:pt x="12132" y="5570"/>
                            </a:lnTo>
                            <a:lnTo>
                              <a:pt x="12195" y="5512"/>
                            </a:lnTo>
                            <a:lnTo>
                              <a:pt x="12262" y="5453"/>
                            </a:lnTo>
                            <a:lnTo>
                              <a:pt x="12326" y="5392"/>
                            </a:lnTo>
                            <a:lnTo>
                              <a:pt x="12392" y="5337"/>
                            </a:lnTo>
                            <a:lnTo>
                              <a:pt x="12457" y="5279"/>
                            </a:lnTo>
                            <a:lnTo>
                              <a:pt x="12521" y="5221"/>
                            </a:lnTo>
                            <a:lnTo>
                              <a:pt x="12587" y="5165"/>
                            </a:lnTo>
                            <a:lnTo>
                              <a:pt x="12648" y="5103"/>
                            </a:lnTo>
                            <a:lnTo>
                              <a:pt x="12711" y="5052"/>
                            </a:lnTo>
                            <a:lnTo>
                              <a:pt x="12771" y="4993"/>
                            </a:lnTo>
                            <a:lnTo>
                              <a:pt x="12835" y="4935"/>
                            </a:lnTo>
                            <a:lnTo>
                              <a:pt x="12901" y="4873"/>
                            </a:lnTo>
                            <a:lnTo>
                              <a:pt x="12965" y="4815"/>
                            </a:lnTo>
                            <a:lnTo>
                              <a:pt x="13033" y="4754"/>
                            </a:lnTo>
                            <a:lnTo>
                              <a:pt x="13096" y="4696"/>
                            </a:lnTo>
                            <a:lnTo>
                              <a:pt x="13167" y="4637"/>
                            </a:lnTo>
                            <a:lnTo>
                              <a:pt x="13233" y="4575"/>
                            </a:lnTo>
                            <a:lnTo>
                              <a:pt x="13297" y="4517"/>
                            </a:lnTo>
                            <a:lnTo>
                              <a:pt x="13368" y="4456"/>
                            </a:lnTo>
                            <a:lnTo>
                              <a:pt x="13435" y="4397"/>
                            </a:lnTo>
                            <a:lnTo>
                              <a:pt x="13506" y="4336"/>
                            </a:lnTo>
                            <a:lnTo>
                              <a:pt x="13570" y="4277"/>
                            </a:lnTo>
                            <a:lnTo>
                              <a:pt x="13640" y="4212"/>
                            </a:lnTo>
                            <a:lnTo>
                              <a:pt x="13711" y="4151"/>
                            </a:lnTo>
                            <a:lnTo>
                              <a:pt x="13781" y="4093"/>
                            </a:lnTo>
                            <a:lnTo>
                              <a:pt x="13848" y="4035"/>
                            </a:lnTo>
                            <a:lnTo>
                              <a:pt x="13824" y="4054"/>
                            </a:lnTo>
                            <a:lnTo>
                              <a:pt x="13806" y="4069"/>
                            </a:lnTo>
                            <a:lnTo>
                              <a:pt x="13778" y="4086"/>
                            </a:lnTo>
                            <a:lnTo>
                              <a:pt x="13890" y="4018"/>
                            </a:lnTo>
                            <a:lnTo>
                              <a:pt x="13990" y="3947"/>
                            </a:lnTo>
                            <a:lnTo>
                              <a:pt x="14079" y="3881"/>
                            </a:lnTo>
                            <a:lnTo>
                              <a:pt x="14149" y="3827"/>
                            </a:lnTo>
                            <a:lnTo>
                              <a:pt x="14219" y="3778"/>
                            </a:lnTo>
                            <a:lnTo>
                              <a:pt x="14297" y="3733"/>
                            </a:lnTo>
                            <a:lnTo>
                              <a:pt x="14191" y="3781"/>
                            </a:lnTo>
                            <a:lnTo>
                              <a:pt x="14079" y="3817"/>
                            </a:lnTo>
                            <a:lnTo>
                              <a:pt x="13962" y="3827"/>
                            </a:lnTo>
                            <a:lnTo>
                              <a:pt x="14092" y="3827"/>
                            </a:lnTo>
                            <a:lnTo>
                              <a:pt x="14146" y="3820"/>
                            </a:lnTo>
                            <a:lnTo>
                              <a:pt x="14209" y="3817"/>
                            </a:lnTo>
                            <a:lnTo>
                              <a:pt x="14287" y="3795"/>
                            </a:lnTo>
                            <a:lnTo>
                              <a:pt x="14368" y="3765"/>
                            </a:lnTo>
                            <a:lnTo>
                              <a:pt x="14456" y="3717"/>
                            </a:lnTo>
                            <a:lnTo>
                              <a:pt x="14541" y="3659"/>
                            </a:lnTo>
                            <a:lnTo>
                              <a:pt x="14619" y="3571"/>
                            </a:lnTo>
                            <a:lnTo>
                              <a:pt x="14692" y="3464"/>
                            </a:lnTo>
                            <a:lnTo>
                              <a:pt x="14692" y="3458"/>
                            </a:lnTo>
                            <a:lnTo>
                              <a:pt x="14655" y="3516"/>
                            </a:lnTo>
                            <a:lnTo>
                              <a:pt x="14594" y="3577"/>
                            </a:lnTo>
                            <a:lnTo>
                              <a:pt x="14516" y="3626"/>
                            </a:lnTo>
                            <a:lnTo>
                              <a:pt x="14428" y="3668"/>
                            </a:lnTo>
                            <a:lnTo>
                              <a:pt x="14329" y="3698"/>
                            </a:lnTo>
                            <a:lnTo>
                              <a:pt x="14219" y="3707"/>
                            </a:lnTo>
                            <a:lnTo>
                              <a:pt x="14347" y="3707"/>
                            </a:lnTo>
                            <a:lnTo>
                              <a:pt x="14421" y="3701"/>
                            </a:lnTo>
                            <a:lnTo>
                              <a:pt x="14513" y="3690"/>
                            </a:lnTo>
                            <a:lnTo>
                              <a:pt x="14594" y="3665"/>
                            </a:lnTo>
                            <a:lnTo>
                              <a:pt x="14682" y="3626"/>
                            </a:lnTo>
                            <a:lnTo>
                              <a:pt x="14770" y="3565"/>
                            </a:lnTo>
                            <a:lnTo>
                              <a:pt x="14855" y="3490"/>
                            </a:lnTo>
                            <a:lnTo>
                              <a:pt x="14936" y="3393"/>
                            </a:lnTo>
                            <a:lnTo>
                              <a:pt x="14944" y="3386"/>
                            </a:lnTo>
                            <a:lnTo>
                              <a:pt x="14936" y="3393"/>
                            </a:lnTo>
                            <a:lnTo>
                              <a:pt x="14926" y="3409"/>
                            </a:lnTo>
                            <a:lnTo>
                              <a:pt x="14902" y="3425"/>
                            </a:lnTo>
                            <a:lnTo>
                              <a:pt x="14824" y="3483"/>
                            </a:lnTo>
                            <a:lnTo>
                              <a:pt x="14736" y="3532"/>
                            </a:lnTo>
                            <a:lnTo>
                              <a:pt x="14640" y="3565"/>
                            </a:lnTo>
                            <a:lnTo>
                              <a:pt x="14548" y="3580"/>
                            </a:lnTo>
                            <a:lnTo>
                              <a:pt x="14445" y="3587"/>
                            </a:lnTo>
                            <a:lnTo>
                              <a:pt x="14347" y="3577"/>
                            </a:lnTo>
                            <a:lnTo>
                              <a:pt x="14245" y="3545"/>
                            </a:lnTo>
                            <a:lnTo>
                              <a:pt x="14156" y="3499"/>
                            </a:lnTo>
                            <a:lnTo>
                              <a:pt x="14074" y="3447"/>
                            </a:lnTo>
                            <a:lnTo>
                              <a:pt x="14001" y="3380"/>
                            </a:lnTo>
                            <a:lnTo>
                              <a:pt x="13947" y="3305"/>
                            </a:lnTo>
                            <a:lnTo>
                              <a:pt x="13908" y="3218"/>
                            </a:lnTo>
                            <a:lnTo>
                              <a:pt x="13884" y="3131"/>
                            </a:lnTo>
                            <a:lnTo>
                              <a:pt x="13874" y="3033"/>
                            </a:lnTo>
                            <a:lnTo>
                              <a:pt x="13874" y="3040"/>
                            </a:lnTo>
                            <a:lnTo>
                              <a:pt x="13874" y="3046"/>
                            </a:lnTo>
                            <a:lnTo>
                              <a:pt x="13874" y="3049"/>
                            </a:lnTo>
                            <a:lnTo>
                              <a:pt x="13859" y="3079"/>
                            </a:lnTo>
                            <a:lnTo>
                              <a:pt x="13824" y="3120"/>
                            </a:lnTo>
                            <a:lnTo>
                              <a:pt x="13796" y="3162"/>
                            </a:lnTo>
                            <a:lnTo>
                              <a:pt x="13764" y="3192"/>
                            </a:lnTo>
                            <a:lnTo>
                              <a:pt x="13742" y="3231"/>
                            </a:lnTo>
                            <a:lnTo>
                              <a:pt x="13718" y="3263"/>
                            </a:lnTo>
                            <a:lnTo>
                              <a:pt x="13725" y="3250"/>
                            </a:lnTo>
                            <a:lnTo>
                              <a:pt x="13728" y="3240"/>
                            </a:lnTo>
                            <a:lnTo>
                              <a:pt x="13742" y="3234"/>
                            </a:lnTo>
                            <a:lnTo>
                              <a:pt x="12516" y="4679"/>
                            </a:lnTo>
                            <a:lnTo>
                              <a:pt x="11283" y="6131"/>
                            </a:lnTo>
                            <a:lnTo>
                              <a:pt x="11280" y="6137"/>
                            </a:lnTo>
                            <a:lnTo>
                              <a:pt x="11273" y="6140"/>
                            </a:lnTo>
                            <a:lnTo>
                              <a:pt x="11238" y="6189"/>
                            </a:lnTo>
                            <a:lnTo>
                              <a:pt x="11189" y="6244"/>
                            </a:lnTo>
                            <a:lnTo>
                              <a:pt x="11150" y="6292"/>
                            </a:lnTo>
                            <a:lnTo>
                              <a:pt x="11099" y="6347"/>
                            </a:lnTo>
                            <a:lnTo>
                              <a:pt x="11047" y="6396"/>
                            </a:lnTo>
                            <a:lnTo>
                              <a:pt x="10994" y="6451"/>
                            </a:lnTo>
                            <a:lnTo>
                              <a:pt x="10941" y="6510"/>
                            </a:lnTo>
                            <a:lnTo>
                              <a:pt x="10881" y="6565"/>
                            </a:lnTo>
                            <a:lnTo>
                              <a:pt x="10824" y="6620"/>
                            </a:lnTo>
                            <a:lnTo>
                              <a:pt x="10764" y="6678"/>
                            </a:lnTo>
                            <a:lnTo>
                              <a:pt x="10697" y="6739"/>
                            </a:lnTo>
                            <a:lnTo>
                              <a:pt x="10634" y="6792"/>
                            </a:lnTo>
                            <a:lnTo>
                              <a:pt x="10566" y="6853"/>
                            </a:lnTo>
                            <a:lnTo>
                              <a:pt x="10502" y="6911"/>
                            </a:lnTo>
                            <a:lnTo>
                              <a:pt x="10432" y="6973"/>
                            </a:lnTo>
                            <a:lnTo>
                              <a:pt x="10361" y="7032"/>
                            </a:lnTo>
                            <a:lnTo>
                              <a:pt x="10291" y="7093"/>
                            </a:lnTo>
                            <a:lnTo>
                              <a:pt x="10221" y="7157"/>
                            </a:lnTo>
                            <a:lnTo>
                              <a:pt x="10146" y="7215"/>
                            </a:lnTo>
                            <a:lnTo>
                              <a:pt x="10071" y="7278"/>
                            </a:lnTo>
                            <a:lnTo>
                              <a:pt x="10001" y="7336"/>
                            </a:lnTo>
                            <a:lnTo>
                              <a:pt x="9927" y="7394"/>
                            </a:lnTo>
                            <a:lnTo>
                              <a:pt x="9853" y="7463"/>
                            </a:lnTo>
                            <a:lnTo>
                              <a:pt x="9782" y="7521"/>
                            </a:lnTo>
                            <a:lnTo>
                              <a:pt x="9704" y="7579"/>
                            </a:lnTo>
                            <a:lnTo>
                              <a:pt x="9627" y="7640"/>
                            </a:lnTo>
                            <a:lnTo>
                              <a:pt x="9556" y="7705"/>
                            </a:lnTo>
                            <a:lnTo>
                              <a:pt x="9478" y="7764"/>
                            </a:lnTo>
                            <a:lnTo>
                              <a:pt x="9408" y="7825"/>
                            </a:lnTo>
                            <a:lnTo>
                              <a:pt x="9337" y="7883"/>
                            </a:lnTo>
                            <a:lnTo>
                              <a:pt x="9266" y="7948"/>
                            </a:lnTo>
                            <a:lnTo>
                              <a:pt x="9196" y="8003"/>
                            </a:lnTo>
                            <a:lnTo>
                              <a:pt x="9125" y="8065"/>
                            </a:lnTo>
                            <a:lnTo>
                              <a:pt x="9058" y="8123"/>
                            </a:lnTo>
                            <a:lnTo>
                              <a:pt x="8994" y="8182"/>
                            </a:lnTo>
                            <a:lnTo>
                              <a:pt x="8928" y="8243"/>
                            </a:lnTo>
                            <a:lnTo>
                              <a:pt x="8864" y="8298"/>
                            </a:lnTo>
                            <a:lnTo>
                              <a:pt x="8807" y="8356"/>
                            </a:lnTo>
                            <a:lnTo>
                              <a:pt x="8744" y="8415"/>
                            </a:lnTo>
                            <a:lnTo>
                              <a:pt x="8684" y="8470"/>
                            </a:lnTo>
                            <a:lnTo>
                              <a:pt x="8630" y="8525"/>
                            </a:lnTo>
                            <a:lnTo>
                              <a:pt x="8570" y="8580"/>
                            </a:lnTo>
                            <a:lnTo>
                              <a:pt x="8518" y="8632"/>
                            </a:lnTo>
                            <a:lnTo>
                              <a:pt x="8464" y="8687"/>
                            </a:lnTo>
                            <a:lnTo>
                              <a:pt x="8415" y="8741"/>
                            </a:lnTo>
                            <a:lnTo>
                              <a:pt x="8369" y="8797"/>
                            </a:lnTo>
                            <a:lnTo>
                              <a:pt x="8323" y="8852"/>
                            </a:lnTo>
                            <a:lnTo>
                              <a:pt x="8274" y="8920"/>
                            </a:lnTo>
                            <a:lnTo>
                              <a:pt x="8238" y="8992"/>
                            </a:lnTo>
                            <a:lnTo>
                              <a:pt x="8210" y="9069"/>
                            </a:lnTo>
                            <a:lnTo>
                              <a:pt x="8196" y="9150"/>
                            </a:lnTo>
                            <a:lnTo>
                              <a:pt x="8196" y="9225"/>
                            </a:lnTo>
                            <a:lnTo>
                              <a:pt x="8210" y="9305"/>
                            </a:lnTo>
                            <a:lnTo>
                              <a:pt x="8238" y="9384"/>
                            </a:lnTo>
                            <a:lnTo>
                              <a:pt x="8274" y="9451"/>
                            </a:lnTo>
                            <a:lnTo>
                              <a:pt x="8323" y="9523"/>
                            </a:lnTo>
                            <a:lnTo>
                              <a:pt x="8380" y="9584"/>
                            </a:lnTo>
                            <a:lnTo>
                              <a:pt x="8454" y="9636"/>
                            </a:lnTo>
                            <a:lnTo>
                              <a:pt x="8524" y="9681"/>
                            </a:lnTo>
                            <a:lnTo>
                              <a:pt x="8606" y="9714"/>
                            </a:lnTo>
                            <a:lnTo>
                              <a:pt x="8690" y="9730"/>
                            </a:lnTo>
                            <a:lnTo>
                              <a:pt x="8772" y="9739"/>
                            </a:lnTo>
                            <a:lnTo>
                              <a:pt x="8856" y="9736"/>
                            </a:lnTo>
                            <a:lnTo>
                              <a:pt x="8941" y="9724"/>
                            </a:lnTo>
                            <a:lnTo>
                              <a:pt x="9022" y="9698"/>
                            </a:lnTo>
                            <a:lnTo>
                              <a:pt x="9107" y="9659"/>
                            </a:lnTo>
                            <a:lnTo>
                              <a:pt x="9178" y="9617"/>
                            </a:lnTo>
                            <a:lnTo>
                              <a:pt x="9235" y="9572"/>
                            </a:lnTo>
                            <a:lnTo>
                              <a:pt x="9295" y="9523"/>
                            </a:lnTo>
                            <a:lnTo>
                              <a:pt x="9362" y="9481"/>
                            </a:lnTo>
                            <a:lnTo>
                              <a:pt x="9419" y="9435"/>
                            </a:lnTo>
                            <a:lnTo>
                              <a:pt x="9486" y="9387"/>
                            </a:lnTo>
                            <a:lnTo>
                              <a:pt x="9549" y="9344"/>
                            </a:lnTo>
                            <a:lnTo>
                              <a:pt x="9616" y="9296"/>
                            </a:lnTo>
                            <a:lnTo>
                              <a:pt x="9679" y="9247"/>
                            </a:lnTo>
                            <a:lnTo>
                              <a:pt x="9747" y="9202"/>
                            </a:lnTo>
                            <a:lnTo>
                              <a:pt x="9818" y="9153"/>
                            </a:lnTo>
                            <a:lnTo>
                              <a:pt x="9881" y="9105"/>
                            </a:lnTo>
                            <a:lnTo>
                              <a:pt x="9952" y="9056"/>
                            </a:lnTo>
                            <a:lnTo>
                              <a:pt x="10022" y="9008"/>
                            </a:lnTo>
                            <a:lnTo>
                              <a:pt x="10093" y="8959"/>
                            </a:lnTo>
                            <a:lnTo>
                              <a:pt x="10167" y="8910"/>
                            </a:lnTo>
                            <a:lnTo>
                              <a:pt x="10237" y="8856"/>
                            </a:lnTo>
                            <a:lnTo>
                              <a:pt x="10312" y="8807"/>
                            </a:lnTo>
                            <a:lnTo>
                              <a:pt x="10387" y="8758"/>
                            </a:lnTo>
                            <a:lnTo>
                              <a:pt x="10460" y="8703"/>
                            </a:lnTo>
                            <a:lnTo>
                              <a:pt x="10531" y="8655"/>
                            </a:lnTo>
                            <a:lnTo>
                              <a:pt x="10609" y="8606"/>
                            </a:lnTo>
                            <a:lnTo>
                              <a:pt x="10680" y="8550"/>
                            </a:lnTo>
                            <a:lnTo>
                              <a:pt x="10758" y="8502"/>
                            </a:lnTo>
                            <a:lnTo>
                              <a:pt x="10835" y="8450"/>
                            </a:lnTo>
                            <a:lnTo>
                              <a:pt x="10912" y="8398"/>
                            </a:lnTo>
                            <a:lnTo>
                              <a:pt x="10987" y="8347"/>
                            </a:lnTo>
                            <a:lnTo>
                              <a:pt x="11072" y="8292"/>
                            </a:lnTo>
                            <a:lnTo>
                              <a:pt x="11143" y="8243"/>
                            </a:lnTo>
                            <a:lnTo>
                              <a:pt x="11213" y="8194"/>
                            </a:lnTo>
                            <a:lnTo>
                              <a:pt x="11291" y="8146"/>
                            </a:lnTo>
                            <a:lnTo>
                              <a:pt x="11361" y="8091"/>
                            </a:lnTo>
                            <a:lnTo>
                              <a:pt x="11432" y="8042"/>
                            </a:lnTo>
                            <a:lnTo>
                              <a:pt x="11509" y="7994"/>
                            </a:lnTo>
                            <a:lnTo>
                              <a:pt x="11581" y="7945"/>
                            </a:lnTo>
                            <a:lnTo>
                              <a:pt x="11651" y="7897"/>
                            </a:lnTo>
                            <a:lnTo>
                              <a:pt x="11729" y="7842"/>
                            </a:lnTo>
                            <a:lnTo>
                              <a:pt x="11800" y="7793"/>
                            </a:lnTo>
                            <a:lnTo>
                              <a:pt x="11877" y="7745"/>
                            </a:lnTo>
                            <a:lnTo>
                              <a:pt x="11948" y="7696"/>
                            </a:lnTo>
                            <a:lnTo>
                              <a:pt x="12018" y="7640"/>
                            </a:lnTo>
                            <a:lnTo>
                              <a:pt x="12090" y="7591"/>
                            </a:lnTo>
                            <a:lnTo>
                              <a:pt x="12166" y="7543"/>
                            </a:lnTo>
                            <a:lnTo>
                              <a:pt x="12238" y="7488"/>
                            </a:lnTo>
                            <a:lnTo>
                              <a:pt x="12308" y="7439"/>
                            </a:lnTo>
                            <a:lnTo>
                              <a:pt x="12379" y="7391"/>
                            </a:lnTo>
                            <a:lnTo>
                              <a:pt x="12449" y="7342"/>
                            </a:lnTo>
                            <a:lnTo>
                              <a:pt x="12521" y="7287"/>
                            </a:lnTo>
                            <a:lnTo>
                              <a:pt x="12594" y="7239"/>
                            </a:lnTo>
                            <a:lnTo>
                              <a:pt x="12665" y="7190"/>
                            </a:lnTo>
                            <a:lnTo>
                              <a:pt x="12736" y="7142"/>
                            </a:lnTo>
                            <a:lnTo>
                              <a:pt x="12807" y="7093"/>
                            </a:lnTo>
                            <a:lnTo>
                              <a:pt x="12870" y="7038"/>
                            </a:lnTo>
                            <a:lnTo>
                              <a:pt x="12940" y="6989"/>
                            </a:lnTo>
                            <a:lnTo>
                              <a:pt x="13007" y="6941"/>
                            </a:lnTo>
                            <a:lnTo>
                              <a:pt x="13079" y="6892"/>
                            </a:lnTo>
                            <a:lnTo>
                              <a:pt x="13142" y="6844"/>
                            </a:lnTo>
                            <a:lnTo>
                              <a:pt x="13217" y="6792"/>
                            </a:lnTo>
                            <a:lnTo>
                              <a:pt x="13280" y="6739"/>
                            </a:lnTo>
                            <a:lnTo>
                              <a:pt x="13344" y="6691"/>
                            </a:lnTo>
                            <a:lnTo>
                              <a:pt x="13410" y="6642"/>
                            </a:lnTo>
                            <a:lnTo>
                              <a:pt x="13474" y="6590"/>
                            </a:lnTo>
                            <a:lnTo>
                              <a:pt x="13541" y="6542"/>
                            </a:lnTo>
                            <a:lnTo>
                              <a:pt x="13604" y="6493"/>
                            </a:lnTo>
                            <a:lnTo>
                              <a:pt x="13664" y="6445"/>
                            </a:lnTo>
                            <a:lnTo>
                              <a:pt x="13728" y="6396"/>
                            </a:lnTo>
                            <a:lnTo>
                              <a:pt x="13788" y="6347"/>
                            </a:lnTo>
                            <a:lnTo>
                              <a:pt x="13856" y="6299"/>
                            </a:lnTo>
                            <a:lnTo>
                              <a:pt x="13912" y="6250"/>
                            </a:lnTo>
                            <a:lnTo>
                              <a:pt x="13972" y="6202"/>
                            </a:lnTo>
                            <a:lnTo>
                              <a:pt x="14032" y="6156"/>
                            </a:lnTo>
                            <a:lnTo>
                              <a:pt x="14085" y="6108"/>
                            </a:lnTo>
                            <a:lnTo>
                              <a:pt x="14146" y="6059"/>
                            </a:lnTo>
                            <a:lnTo>
                              <a:pt x="14202" y="6010"/>
                            </a:lnTo>
                            <a:lnTo>
                              <a:pt x="14255" y="5968"/>
                            </a:lnTo>
                            <a:lnTo>
                              <a:pt x="14311" y="5920"/>
                            </a:lnTo>
                            <a:lnTo>
                              <a:pt x="14305" y="5923"/>
                            </a:lnTo>
                            <a:lnTo>
                              <a:pt x="14294" y="5937"/>
                            </a:lnTo>
                            <a:lnTo>
                              <a:pt x="14279" y="5940"/>
                            </a:lnTo>
                            <a:lnTo>
                              <a:pt x="14531" y="5752"/>
                            </a:lnTo>
                            <a:lnTo>
                              <a:pt x="15442" y="5055"/>
                            </a:lnTo>
                            <a:lnTo>
                              <a:pt x="15460" y="5045"/>
                            </a:lnTo>
                            <a:lnTo>
                              <a:pt x="15470" y="5029"/>
                            </a:lnTo>
                            <a:lnTo>
                              <a:pt x="15481" y="5019"/>
                            </a:lnTo>
                            <a:lnTo>
                              <a:pt x="15541" y="4970"/>
                            </a:lnTo>
                            <a:lnTo>
                              <a:pt x="15601" y="4919"/>
                            </a:lnTo>
                            <a:lnTo>
                              <a:pt x="15665" y="4864"/>
                            </a:lnTo>
                            <a:lnTo>
                              <a:pt x="15725" y="4815"/>
                            </a:lnTo>
                            <a:lnTo>
                              <a:pt x="15788" y="4760"/>
                            </a:lnTo>
                            <a:lnTo>
                              <a:pt x="15855" y="4702"/>
                            </a:lnTo>
                            <a:lnTo>
                              <a:pt x="15915" y="4640"/>
                            </a:lnTo>
                            <a:lnTo>
                              <a:pt x="15979" y="4582"/>
                            </a:lnTo>
                            <a:lnTo>
                              <a:pt x="16046" y="4511"/>
                            </a:lnTo>
                            <a:lnTo>
                              <a:pt x="16109" y="4445"/>
                            </a:lnTo>
                            <a:lnTo>
                              <a:pt x="16169" y="4368"/>
                            </a:lnTo>
                            <a:lnTo>
                              <a:pt x="16226" y="4293"/>
                            </a:lnTo>
                            <a:lnTo>
                              <a:pt x="16286" y="4206"/>
                            </a:lnTo>
                            <a:lnTo>
                              <a:pt x="16233" y="4277"/>
                            </a:lnTo>
                            <a:lnTo>
                              <a:pt x="16174" y="4332"/>
                            </a:lnTo>
                            <a:lnTo>
                              <a:pt x="16102" y="4381"/>
                            </a:lnTo>
                            <a:lnTo>
                              <a:pt x="16032" y="4423"/>
                            </a:lnTo>
                            <a:lnTo>
                              <a:pt x="15951" y="4452"/>
                            </a:lnTo>
                            <a:lnTo>
                              <a:pt x="15866" y="4469"/>
                            </a:lnTo>
                            <a:lnTo>
                              <a:pt x="15785" y="4472"/>
                            </a:lnTo>
                            <a:lnTo>
                              <a:pt x="15696" y="4472"/>
                            </a:lnTo>
                            <a:lnTo>
                              <a:pt x="15608" y="4456"/>
                            </a:lnTo>
                            <a:lnTo>
                              <a:pt x="15523" y="4430"/>
                            </a:lnTo>
                            <a:lnTo>
                              <a:pt x="15445" y="4390"/>
                            </a:lnTo>
                            <a:lnTo>
                              <a:pt x="15375" y="4342"/>
                            </a:lnTo>
                            <a:lnTo>
                              <a:pt x="15315" y="4287"/>
                            </a:lnTo>
                            <a:lnTo>
                              <a:pt x="15262" y="4223"/>
                            </a:lnTo>
                            <a:lnTo>
                              <a:pt x="15223" y="4157"/>
                            </a:lnTo>
                            <a:lnTo>
                              <a:pt x="15191" y="4083"/>
                            </a:lnTo>
                            <a:lnTo>
                              <a:pt x="15174" y="4005"/>
                            </a:lnTo>
                            <a:lnTo>
                              <a:pt x="15162" y="3924"/>
                            </a:lnTo>
                            <a:lnTo>
                              <a:pt x="15162" y="4044"/>
                            </a:lnTo>
                            <a:lnTo>
                              <a:pt x="15174" y="3941"/>
                            </a:lnTo>
                            <a:lnTo>
                              <a:pt x="15205" y="3843"/>
                            </a:lnTo>
                            <a:lnTo>
                              <a:pt x="15258" y="3749"/>
                            </a:lnTo>
                            <a:lnTo>
                              <a:pt x="15209" y="3817"/>
                            </a:lnTo>
                            <a:lnTo>
                              <a:pt x="15162" y="3886"/>
                            </a:lnTo>
                            <a:lnTo>
                              <a:pt x="15113" y="3950"/>
                            </a:lnTo>
                            <a:lnTo>
                              <a:pt x="15068" y="4021"/>
                            </a:lnTo>
                            <a:lnTo>
                              <a:pt x="15021" y="4086"/>
                            </a:lnTo>
                            <a:lnTo>
                              <a:pt x="14972" y="4151"/>
                            </a:lnTo>
                            <a:lnTo>
                              <a:pt x="14926" y="4223"/>
                            </a:lnTo>
                            <a:lnTo>
                              <a:pt x="14876" y="4287"/>
                            </a:lnTo>
                            <a:lnTo>
                              <a:pt x="14830" y="4351"/>
                            </a:lnTo>
                            <a:lnTo>
                              <a:pt x="14785" y="4423"/>
                            </a:lnTo>
                            <a:lnTo>
                              <a:pt x="14736" y="4488"/>
                            </a:lnTo>
                            <a:lnTo>
                              <a:pt x="14689" y="4553"/>
                            </a:lnTo>
                            <a:lnTo>
                              <a:pt x="14640" y="4621"/>
                            </a:lnTo>
                            <a:lnTo>
                              <a:pt x="14594" y="4685"/>
                            </a:lnTo>
                            <a:lnTo>
                              <a:pt x="14548" y="4751"/>
                            </a:lnTo>
                            <a:lnTo>
                              <a:pt x="14499" y="4815"/>
                            </a:lnTo>
                            <a:lnTo>
                              <a:pt x="14453" y="4879"/>
                            </a:lnTo>
                            <a:lnTo>
                              <a:pt x="14403" y="4945"/>
                            </a:lnTo>
                            <a:lnTo>
                              <a:pt x="14357" y="5006"/>
                            </a:lnTo>
                            <a:lnTo>
                              <a:pt x="14305" y="5071"/>
                            </a:lnTo>
                            <a:lnTo>
                              <a:pt x="14255" y="5136"/>
                            </a:lnTo>
                            <a:lnTo>
                              <a:pt x="14209" y="5200"/>
                            </a:lnTo>
                            <a:lnTo>
                              <a:pt x="14163" y="5262"/>
                            </a:lnTo>
                            <a:lnTo>
                              <a:pt x="14113" y="5327"/>
                            </a:lnTo>
                            <a:lnTo>
                              <a:pt x="14061" y="5392"/>
                            </a:lnTo>
                            <a:lnTo>
                              <a:pt x="14014" y="5457"/>
                            </a:lnTo>
                            <a:lnTo>
                              <a:pt x="13965" y="5518"/>
                            </a:lnTo>
                            <a:lnTo>
                              <a:pt x="13919" y="5583"/>
                            </a:lnTo>
                            <a:lnTo>
                              <a:pt x="13866" y="5648"/>
                            </a:lnTo>
                            <a:lnTo>
                              <a:pt x="13817" y="5713"/>
                            </a:lnTo>
                            <a:lnTo>
                              <a:pt x="13771" y="5771"/>
                            </a:lnTo>
                            <a:lnTo>
                              <a:pt x="13725" y="5839"/>
                            </a:lnTo>
                            <a:lnTo>
                              <a:pt x="13672" y="5897"/>
                            </a:lnTo>
                            <a:lnTo>
                              <a:pt x="13622" y="5962"/>
                            </a:lnTo>
                            <a:lnTo>
                              <a:pt x="13576" y="6026"/>
                            </a:lnTo>
                            <a:lnTo>
                              <a:pt x="13527" y="6089"/>
                            </a:lnTo>
                            <a:lnTo>
                              <a:pt x="13474" y="6153"/>
                            </a:lnTo>
                            <a:lnTo>
                              <a:pt x="13428" y="6219"/>
                            </a:lnTo>
                            <a:lnTo>
                              <a:pt x="13375" y="6277"/>
                            </a:lnTo>
                            <a:lnTo>
                              <a:pt x="13326" y="6341"/>
                            </a:lnTo>
                            <a:lnTo>
                              <a:pt x="13280" y="6402"/>
                            </a:lnTo>
                            <a:lnTo>
                              <a:pt x="13227" y="6468"/>
                            </a:lnTo>
                            <a:lnTo>
                              <a:pt x="13178" y="6526"/>
                            </a:lnTo>
                            <a:lnTo>
                              <a:pt x="13131" y="6590"/>
                            </a:lnTo>
                            <a:lnTo>
                              <a:pt x="13079" y="6653"/>
                            </a:lnTo>
                            <a:lnTo>
                              <a:pt x="13033" y="6717"/>
                            </a:lnTo>
                            <a:lnTo>
                              <a:pt x="12976" y="6775"/>
                            </a:lnTo>
                            <a:lnTo>
                              <a:pt x="12930" y="6844"/>
                            </a:lnTo>
                            <a:lnTo>
                              <a:pt x="12877" y="6902"/>
                            </a:lnTo>
                            <a:lnTo>
                              <a:pt x="12831" y="6966"/>
                            </a:lnTo>
                            <a:lnTo>
                              <a:pt x="12778" y="7029"/>
                            </a:lnTo>
                            <a:lnTo>
                              <a:pt x="12729" y="7093"/>
                            </a:lnTo>
                            <a:lnTo>
                              <a:pt x="12675" y="7151"/>
                            </a:lnTo>
                            <a:lnTo>
                              <a:pt x="12630" y="7215"/>
                            </a:lnTo>
                            <a:lnTo>
                              <a:pt x="12576" y="7281"/>
                            </a:lnTo>
                            <a:lnTo>
                              <a:pt x="12527" y="7342"/>
                            </a:lnTo>
                            <a:lnTo>
                              <a:pt x="12474" y="7407"/>
                            </a:lnTo>
                            <a:lnTo>
                              <a:pt x="12421" y="7466"/>
                            </a:lnTo>
                            <a:lnTo>
                              <a:pt x="12376" y="7530"/>
                            </a:lnTo>
                            <a:lnTo>
                              <a:pt x="12319" y="7591"/>
                            </a:lnTo>
                            <a:lnTo>
                              <a:pt x="12273" y="7657"/>
                            </a:lnTo>
                            <a:lnTo>
                              <a:pt x="12220" y="7715"/>
                            </a:lnTo>
                            <a:lnTo>
                              <a:pt x="12166" y="7779"/>
                            </a:lnTo>
                            <a:lnTo>
                              <a:pt x="12114" y="7848"/>
                            </a:lnTo>
                            <a:lnTo>
                              <a:pt x="12064" y="7906"/>
                            </a:lnTo>
                            <a:lnTo>
                              <a:pt x="12012" y="7971"/>
                            </a:lnTo>
                            <a:lnTo>
                              <a:pt x="11958" y="8036"/>
                            </a:lnTo>
                            <a:lnTo>
                              <a:pt x="11912" y="8097"/>
                            </a:lnTo>
                            <a:lnTo>
                              <a:pt x="10764" y="9513"/>
                            </a:lnTo>
                            <a:lnTo>
                              <a:pt x="10750" y="9523"/>
                            </a:lnTo>
                            <a:lnTo>
                              <a:pt x="10740" y="9539"/>
                            </a:lnTo>
                            <a:lnTo>
                              <a:pt x="10733" y="9556"/>
                            </a:lnTo>
                            <a:lnTo>
                              <a:pt x="10694" y="9611"/>
                            </a:lnTo>
                            <a:lnTo>
                              <a:pt x="10652" y="9672"/>
                            </a:lnTo>
                            <a:lnTo>
                              <a:pt x="10605" y="9730"/>
                            </a:lnTo>
                            <a:lnTo>
                              <a:pt x="10563" y="9788"/>
                            </a:lnTo>
                            <a:lnTo>
                              <a:pt x="10520" y="9850"/>
                            </a:lnTo>
                            <a:lnTo>
                              <a:pt x="10475" y="9915"/>
                            </a:lnTo>
                            <a:lnTo>
                              <a:pt x="10432" y="9979"/>
                            </a:lnTo>
                            <a:lnTo>
                              <a:pt x="10390" y="10051"/>
                            </a:lnTo>
                            <a:lnTo>
                              <a:pt x="10348" y="10122"/>
                            </a:lnTo>
                            <a:lnTo>
                              <a:pt x="10312" y="10197"/>
                            </a:lnTo>
                            <a:lnTo>
                              <a:pt x="10276" y="10275"/>
                            </a:lnTo>
                            <a:lnTo>
                              <a:pt x="10249" y="10355"/>
                            </a:lnTo>
                            <a:lnTo>
                              <a:pt x="10224" y="10440"/>
                            </a:lnTo>
                            <a:lnTo>
                              <a:pt x="10206" y="10534"/>
                            </a:lnTo>
                            <a:lnTo>
                              <a:pt x="10203" y="10624"/>
                            </a:lnTo>
                            <a:lnTo>
                              <a:pt x="10195" y="10725"/>
                            </a:lnTo>
                            <a:lnTo>
                              <a:pt x="10203" y="10816"/>
                            </a:lnTo>
                            <a:lnTo>
                              <a:pt x="10224" y="10910"/>
                            </a:lnTo>
                            <a:lnTo>
                              <a:pt x="10266" y="10991"/>
                            </a:lnTo>
                            <a:lnTo>
                              <a:pt x="10319" y="11065"/>
                            </a:lnTo>
                            <a:lnTo>
                              <a:pt x="10387" y="11130"/>
                            </a:lnTo>
                            <a:lnTo>
                              <a:pt x="10460" y="11185"/>
                            </a:lnTo>
                            <a:lnTo>
                              <a:pt x="10549" y="11227"/>
                            </a:lnTo>
                            <a:lnTo>
                              <a:pt x="10644" y="11259"/>
                            </a:lnTo>
                            <a:lnTo>
                              <a:pt x="10740" y="11276"/>
                            </a:lnTo>
                            <a:lnTo>
                              <a:pt x="10842" y="11276"/>
                            </a:lnTo>
                            <a:lnTo>
                              <a:pt x="10933" y="11259"/>
                            </a:lnTo>
                            <a:lnTo>
                              <a:pt x="11029" y="11240"/>
                            </a:lnTo>
                            <a:lnTo>
                              <a:pt x="11117" y="11195"/>
                            </a:lnTo>
                            <a:lnTo>
                              <a:pt x="11195" y="11143"/>
                            </a:lnTo>
                            <a:lnTo>
                              <a:pt x="11255" y="11094"/>
                            </a:lnTo>
                            <a:lnTo>
                              <a:pt x="11316" y="11043"/>
                            </a:lnTo>
                            <a:lnTo>
                              <a:pt x="11372" y="10994"/>
                            </a:lnTo>
                            <a:lnTo>
                              <a:pt x="11425" y="10945"/>
                            </a:lnTo>
                            <a:lnTo>
                              <a:pt x="11485" y="10903"/>
                            </a:lnTo>
                            <a:lnTo>
                              <a:pt x="11545" y="10848"/>
                            </a:lnTo>
                            <a:lnTo>
                              <a:pt x="11605" y="10806"/>
                            </a:lnTo>
                            <a:lnTo>
                              <a:pt x="11662" y="10757"/>
                            </a:lnTo>
                            <a:lnTo>
                              <a:pt x="11722" y="10703"/>
                            </a:lnTo>
                            <a:lnTo>
                              <a:pt x="11782" y="10654"/>
                            </a:lnTo>
                            <a:lnTo>
                              <a:pt x="11842" y="10605"/>
                            </a:lnTo>
                            <a:lnTo>
                              <a:pt x="11902" y="10557"/>
                            </a:lnTo>
                            <a:lnTo>
                              <a:pt x="11958" y="10508"/>
                            </a:lnTo>
                            <a:lnTo>
                              <a:pt x="12018" y="10452"/>
                            </a:lnTo>
                            <a:lnTo>
                              <a:pt x="12078" y="10404"/>
                            </a:lnTo>
                            <a:lnTo>
                              <a:pt x="12132" y="10355"/>
                            </a:lnTo>
                            <a:lnTo>
                              <a:pt x="12192" y="10300"/>
                            </a:lnTo>
                            <a:lnTo>
                              <a:pt x="12248" y="10252"/>
                            </a:lnTo>
                            <a:lnTo>
                              <a:pt x="12316" y="10197"/>
                            </a:lnTo>
                            <a:lnTo>
                              <a:pt x="12376" y="10142"/>
                            </a:lnTo>
                            <a:lnTo>
                              <a:pt x="12431" y="10093"/>
                            </a:lnTo>
                            <a:lnTo>
                              <a:pt x="12492" y="10038"/>
                            </a:lnTo>
                            <a:lnTo>
                              <a:pt x="12552" y="9987"/>
                            </a:lnTo>
                            <a:lnTo>
                              <a:pt x="12612" y="9931"/>
                            </a:lnTo>
                            <a:lnTo>
                              <a:pt x="12675" y="9876"/>
                            </a:lnTo>
                            <a:lnTo>
                              <a:pt x="12736" y="9821"/>
                            </a:lnTo>
                            <a:lnTo>
                              <a:pt x="12796" y="9769"/>
                            </a:lnTo>
                            <a:lnTo>
                              <a:pt x="12852" y="9714"/>
                            </a:lnTo>
                            <a:lnTo>
                              <a:pt x="12919" y="9659"/>
                            </a:lnTo>
                            <a:lnTo>
                              <a:pt x="12976" y="9604"/>
                            </a:lnTo>
                            <a:lnTo>
                              <a:pt x="13036" y="9551"/>
                            </a:lnTo>
                            <a:lnTo>
                              <a:pt x="13103" y="9490"/>
                            </a:lnTo>
                            <a:lnTo>
                              <a:pt x="13160" y="9435"/>
                            </a:lnTo>
                            <a:lnTo>
                              <a:pt x="13227" y="9377"/>
                            </a:lnTo>
                            <a:lnTo>
                              <a:pt x="13290" y="9322"/>
                            </a:lnTo>
                            <a:lnTo>
                              <a:pt x="13350" y="9263"/>
                            </a:lnTo>
                            <a:lnTo>
                              <a:pt x="13417" y="9208"/>
                            </a:lnTo>
                            <a:lnTo>
                              <a:pt x="13474" y="9150"/>
                            </a:lnTo>
                            <a:lnTo>
                              <a:pt x="13541" y="9089"/>
                            </a:lnTo>
                            <a:lnTo>
                              <a:pt x="13604" y="9031"/>
                            </a:lnTo>
                            <a:lnTo>
                              <a:pt x="13672" y="8969"/>
                            </a:lnTo>
                            <a:lnTo>
                              <a:pt x="13728" y="8910"/>
                            </a:lnTo>
                            <a:lnTo>
                              <a:pt x="13796" y="8852"/>
                            </a:lnTo>
                            <a:lnTo>
                              <a:pt x="13859" y="8784"/>
                            </a:lnTo>
                            <a:lnTo>
                              <a:pt x="13926" y="8726"/>
                            </a:lnTo>
                            <a:lnTo>
                              <a:pt x="13990" y="8668"/>
                            </a:lnTo>
                            <a:lnTo>
                              <a:pt x="14053" y="8599"/>
                            </a:lnTo>
                            <a:lnTo>
                              <a:pt x="14121" y="8541"/>
                            </a:lnTo>
                            <a:lnTo>
                              <a:pt x="14191" y="8476"/>
                            </a:lnTo>
                            <a:lnTo>
                              <a:pt x="14255" y="8412"/>
                            </a:lnTo>
                            <a:lnTo>
                              <a:pt x="14322" y="8347"/>
                            </a:lnTo>
                            <a:lnTo>
                              <a:pt x="14385" y="8285"/>
                            </a:lnTo>
                            <a:lnTo>
                              <a:pt x="14456" y="8213"/>
                            </a:lnTo>
                            <a:lnTo>
                              <a:pt x="14523" y="8149"/>
                            </a:lnTo>
                            <a:lnTo>
                              <a:pt x="14594" y="8085"/>
                            </a:lnTo>
                            <a:lnTo>
                              <a:pt x="14587" y="8091"/>
                            </a:lnTo>
                            <a:lnTo>
                              <a:pt x="14583" y="8097"/>
                            </a:lnTo>
                            <a:lnTo>
                              <a:pt x="14665" y="8019"/>
                            </a:lnTo>
                            <a:lnTo>
                              <a:pt x="14753" y="7948"/>
                            </a:lnTo>
                            <a:lnTo>
                              <a:pt x="14848" y="7873"/>
                            </a:lnTo>
                            <a:lnTo>
                              <a:pt x="14936" y="7796"/>
                            </a:lnTo>
                            <a:lnTo>
                              <a:pt x="15021" y="7731"/>
                            </a:lnTo>
                            <a:lnTo>
                              <a:pt x="15102" y="7666"/>
                            </a:lnTo>
                            <a:lnTo>
                              <a:pt x="15188" y="7595"/>
                            </a:lnTo>
                            <a:lnTo>
                              <a:pt x="15269" y="7527"/>
                            </a:lnTo>
                            <a:lnTo>
                              <a:pt x="15357" y="7446"/>
                            </a:lnTo>
                            <a:lnTo>
                              <a:pt x="15375" y="7427"/>
                            </a:lnTo>
                            <a:lnTo>
                              <a:pt x="15393" y="7407"/>
                            </a:lnTo>
                            <a:lnTo>
                              <a:pt x="15410" y="7391"/>
                            </a:lnTo>
                            <a:lnTo>
                              <a:pt x="15470" y="7313"/>
                            </a:lnTo>
                            <a:lnTo>
                              <a:pt x="15523" y="7245"/>
                            </a:lnTo>
                            <a:lnTo>
                              <a:pt x="15576" y="7174"/>
                            </a:lnTo>
                            <a:lnTo>
                              <a:pt x="15636" y="7096"/>
                            </a:lnTo>
                            <a:lnTo>
                              <a:pt x="15683" y="7029"/>
                            </a:lnTo>
                            <a:lnTo>
                              <a:pt x="15735" y="6957"/>
                            </a:lnTo>
                            <a:lnTo>
                              <a:pt x="15785" y="6879"/>
                            </a:lnTo>
                            <a:lnTo>
                              <a:pt x="15831" y="6808"/>
                            </a:lnTo>
                            <a:lnTo>
                              <a:pt x="15883" y="6739"/>
                            </a:lnTo>
                            <a:lnTo>
                              <a:pt x="15933" y="6668"/>
                            </a:lnTo>
                            <a:lnTo>
                              <a:pt x="15979" y="6590"/>
                            </a:lnTo>
                            <a:lnTo>
                              <a:pt x="16032" y="6516"/>
                            </a:lnTo>
                            <a:lnTo>
                              <a:pt x="16081" y="6445"/>
                            </a:lnTo>
                            <a:lnTo>
                              <a:pt x="16127" y="6374"/>
                            </a:lnTo>
                            <a:lnTo>
                              <a:pt x="16180" y="6305"/>
                            </a:lnTo>
                            <a:lnTo>
                              <a:pt x="16226" y="6234"/>
                            </a:lnTo>
                            <a:lnTo>
                              <a:pt x="16283" y="6169"/>
                            </a:lnTo>
                            <a:lnTo>
                              <a:pt x="16328" y="6104"/>
                            </a:lnTo>
                            <a:lnTo>
                              <a:pt x="16382" y="6040"/>
                            </a:lnTo>
                            <a:lnTo>
                              <a:pt x="16434" y="5978"/>
                            </a:lnTo>
                            <a:lnTo>
                              <a:pt x="16488" y="5920"/>
                            </a:lnTo>
                            <a:lnTo>
                              <a:pt x="16540" y="5858"/>
                            </a:lnTo>
                            <a:lnTo>
                              <a:pt x="16600" y="5803"/>
                            </a:lnTo>
                            <a:lnTo>
                              <a:pt x="16660" y="5752"/>
                            </a:lnTo>
                            <a:lnTo>
                              <a:pt x="16721" y="5697"/>
                            </a:lnTo>
                            <a:lnTo>
                              <a:pt x="16784" y="5648"/>
                            </a:lnTo>
                            <a:lnTo>
                              <a:pt x="16847" y="5600"/>
                            </a:lnTo>
                            <a:lnTo>
                              <a:pt x="16915" y="5554"/>
                            </a:lnTo>
                            <a:lnTo>
                              <a:pt x="16986" y="5518"/>
                            </a:lnTo>
                            <a:lnTo>
                              <a:pt x="17064" y="5470"/>
                            </a:lnTo>
                            <a:lnTo>
                              <a:pt x="17124" y="5409"/>
                            </a:lnTo>
                            <a:lnTo>
                              <a:pt x="17176" y="5349"/>
                            </a:lnTo>
                            <a:lnTo>
                              <a:pt x="17215" y="5285"/>
                            </a:lnTo>
                            <a:lnTo>
                              <a:pt x="17247" y="5207"/>
                            </a:lnTo>
                            <a:lnTo>
                              <a:pt x="17268" y="5133"/>
                            </a:lnTo>
                            <a:lnTo>
                              <a:pt x="17275" y="5055"/>
                            </a:lnTo>
                            <a:lnTo>
                              <a:pt x="17268" y="4984"/>
                            </a:lnTo>
                            <a:lnTo>
                              <a:pt x="17251" y="4906"/>
                            </a:lnTo>
                            <a:lnTo>
                              <a:pt x="17230" y="4831"/>
                            </a:lnTo>
                            <a:lnTo>
                              <a:pt x="17187" y="4760"/>
                            </a:lnTo>
                            <a:lnTo>
                              <a:pt x="17134" y="4688"/>
                            </a:lnTo>
                            <a:lnTo>
                              <a:pt x="17074" y="4637"/>
                            </a:lnTo>
                            <a:lnTo>
                              <a:pt x="17003" y="4585"/>
                            </a:lnTo>
                            <a:lnTo>
                              <a:pt x="16933" y="4549"/>
                            </a:lnTo>
                            <a:lnTo>
                              <a:pt x="16855" y="4520"/>
                            </a:lnTo>
                            <a:lnTo>
                              <a:pt x="16774" y="4505"/>
                            </a:lnTo>
                            <a:lnTo>
                              <a:pt x="16686" y="4494"/>
                            </a:lnTo>
                            <a:lnTo>
                              <a:pt x="16600" y="4500"/>
                            </a:lnTo>
                            <a:lnTo>
                              <a:pt x="16519" y="4517"/>
                            </a:lnTo>
                            <a:lnTo>
                              <a:pt x="16434" y="4536"/>
                            </a:lnTo>
                            <a:lnTo>
                              <a:pt x="16357" y="4575"/>
                            </a:lnTo>
                            <a:lnTo>
                              <a:pt x="16276" y="4624"/>
                            </a:lnTo>
                            <a:lnTo>
                              <a:pt x="16190" y="4672"/>
                            </a:lnTo>
                            <a:lnTo>
                              <a:pt x="16117" y="4727"/>
                            </a:lnTo>
                            <a:lnTo>
                              <a:pt x="16046" y="4782"/>
                            </a:lnTo>
                            <a:lnTo>
                              <a:pt x="15972" y="4838"/>
                            </a:lnTo>
                            <a:lnTo>
                              <a:pt x="15901" y="4890"/>
                            </a:lnTo>
                            <a:lnTo>
                              <a:pt x="15831" y="4945"/>
                            </a:lnTo>
                            <a:lnTo>
                              <a:pt x="15771" y="5003"/>
                            </a:lnTo>
                            <a:lnTo>
                              <a:pt x="15707" y="5061"/>
                            </a:lnTo>
                            <a:lnTo>
                              <a:pt x="15647" y="5119"/>
                            </a:lnTo>
                            <a:lnTo>
                              <a:pt x="15590" y="5181"/>
                            </a:lnTo>
                            <a:lnTo>
                              <a:pt x="15533" y="5240"/>
                            </a:lnTo>
                            <a:lnTo>
                              <a:pt x="15478" y="5304"/>
                            </a:lnTo>
                            <a:lnTo>
                              <a:pt x="15424" y="5366"/>
                            </a:lnTo>
                            <a:lnTo>
                              <a:pt x="15367" y="5431"/>
                            </a:lnTo>
                            <a:lnTo>
                              <a:pt x="15322" y="5495"/>
                            </a:lnTo>
                            <a:lnTo>
                              <a:pt x="15269" y="5561"/>
                            </a:lnTo>
                            <a:lnTo>
                              <a:pt x="15223" y="5625"/>
                            </a:lnTo>
                            <a:lnTo>
                              <a:pt x="15174" y="5689"/>
                            </a:lnTo>
                            <a:lnTo>
                              <a:pt x="15128" y="5755"/>
                            </a:lnTo>
                            <a:lnTo>
                              <a:pt x="15086" y="5823"/>
                            </a:lnTo>
                            <a:lnTo>
                              <a:pt x="15039" y="5891"/>
                            </a:lnTo>
                            <a:lnTo>
                              <a:pt x="14990" y="5956"/>
                            </a:lnTo>
                            <a:lnTo>
                              <a:pt x="14951" y="6023"/>
                            </a:lnTo>
                            <a:lnTo>
                              <a:pt x="14902" y="6089"/>
                            </a:lnTo>
                            <a:lnTo>
                              <a:pt x="14848" y="6173"/>
                            </a:lnTo>
                            <a:lnTo>
                              <a:pt x="14788" y="6257"/>
                            </a:lnTo>
                            <a:lnTo>
                              <a:pt x="14736" y="6338"/>
                            </a:lnTo>
                            <a:lnTo>
                              <a:pt x="14676" y="6419"/>
                            </a:lnTo>
                            <a:lnTo>
                              <a:pt x="14622" y="6493"/>
                            </a:lnTo>
                            <a:lnTo>
                              <a:pt x="14565" y="6574"/>
                            </a:lnTo>
                            <a:lnTo>
                              <a:pt x="14505" y="6653"/>
                            </a:lnTo>
                            <a:lnTo>
                              <a:pt x="14445" y="6723"/>
                            </a:lnTo>
                            <a:lnTo>
                              <a:pt x="14463" y="6707"/>
                            </a:lnTo>
                            <a:lnTo>
                              <a:pt x="14481" y="6684"/>
                            </a:lnTo>
                            <a:lnTo>
                              <a:pt x="14505" y="6668"/>
                            </a:lnTo>
                            <a:lnTo>
                              <a:pt x="14417" y="6743"/>
                            </a:lnTo>
                            <a:lnTo>
                              <a:pt x="14329" y="6814"/>
                            </a:lnTo>
                            <a:lnTo>
                              <a:pt x="14237" y="6892"/>
                            </a:lnTo>
                            <a:lnTo>
                              <a:pt x="14146" y="6966"/>
                            </a:lnTo>
                            <a:lnTo>
                              <a:pt x="14061" y="7032"/>
                            </a:lnTo>
                            <a:lnTo>
                              <a:pt x="13983" y="7096"/>
                            </a:lnTo>
                            <a:lnTo>
                              <a:pt x="13895" y="7167"/>
                            </a:lnTo>
                            <a:lnTo>
                              <a:pt x="13814" y="7239"/>
                            </a:lnTo>
                            <a:lnTo>
                              <a:pt x="13728" y="7320"/>
                            </a:lnTo>
                            <a:lnTo>
                              <a:pt x="13725" y="7320"/>
                            </a:lnTo>
                            <a:lnTo>
                              <a:pt x="13718" y="7326"/>
                            </a:lnTo>
                            <a:lnTo>
                              <a:pt x="13718" y="7329"/>
                            </a:lnTo>
                            <a:lnTo>
                              <a:pt x="13648" y="7394"/>
                            </a:lnTo>
                            <a:lnTo>
                              <a:pt x="13580" y="7463"/>
                            </a:lnTo>
                            <a:lnTo>
                              <a:pt x="13510" y="7527"/>
                            </a:lnTo>
                            <a:lnTo>
                              <a:pt x="13446" y="7585"/>
                            </a:lnTo>
                            <a:lnTo>
                              <a:pt x="13378" y="7651"/>
                            </a:lnTo>
                            <a:lnTo>
                              <a:pt x="13315" y="7715"/>
                            </a:lnTo>
                            <a:lnTo>
                              <a:pt x="13251" y="7779"/>
                            </a:lnTo>
                            <a:lnTo>
                              <a:pt x="13178" y="7842"/>
                            </a:lnTo>
                            <a:lnTo>
                              <a:pt x="13121" y="7906"/>
                            </a:lnTo>
                            <a:lnTo>
                              <a:pt x="13050" y="7964"/>
                            </a:lnTo>
                            <a:lnTo>
                              <a:pt x="12983" y="8025"/>
                            </a:lnTo>
                            <a:lnTo>
                              <a:pt x="12919" y="8091"/>
                            </a:lnTo>
                            <a:lnTo>
                              <a:pt x="12859" y="8146"/>
                            </a:lnTo>
                            <a:lnTo>
                              <a:pt x="12796" y="8210"/>
                            </a:lnTo>
                            <a:lnTo>
                              <a:pt x="12729" y="8269"/>
                            </a:lnTo>
                            <a:lnTo>
                              <a:pt x="12665" y="8324"/>
                            </a:lnTo>
                            <a:lnTo>
                              <a:pt x="12605" y="8382"/>
                            </a:lnTo>
                            <a:lnTo>
                              <a:pt x="12537" y="8444"/>
                            </a:lnTo>
                            <a:lnTo>
                              <a:pt x="12482" y="8502"/>
                            </a:lnTo>
                            <a:lnTo>
                              <a:pt x="12414" y="8558"/>
                            </a:lnTo>
                            <a:lnTo>
                              <a:pt x="12358" y="8616"/>
                            </a:lnTo>
                            <a:lnTo>
                              <a:pt x="12290" y="8671"/>
                            </a:lnTo>
                            <a:lnTo>
                              <a:pt x="12231" y="8726"/>
                            </a:lnTo>
                            <a:lnTo>
                              <a:pt x="12174" y="8784"/>
                            </a:lnTo>
                            <a:lnTo>
                              <a:pt x="12106" y="8840"/>
                            </a:lnTo>
                            <a:lnTo>
                              <a:pt x="12047" y="8895"/>
                            </a:lnTo>
                            <a:lnTo>
                              <a:pt x="11983" y="8949"/>
                            </a:lnTo>
                            <a:lnTo>
                              <a:pt x="11924" y="9001"/>
                            </a:lnTo>
                            <a:lnTo>
                              <a:pt x="11863" y="9056"/>
                            </a:lnTo>
                            <a:lnTo>
                              <a:pt x="11807" y="9111"/>
                            </a:lnTo>
                            <a:lnTo>
                              <a:pt x="11747" y="9166"/>
                            </a:lnTo>
                            <a:lnTo>
                              <a:pt x="11683" y="9218"/>
                            </a:lnTo>
                            <a:lnTo>
                              <a:pt x="11623" y="9274"/>
                            </a:lnTo>
                            <a:lnTo>
                              <a:pt x="11563" y="9322"/>
                            </a:lnTo>
                            <a:lnTo>
                              <a:pt x="11503" y="9377"/>
                            </a:lnTo>
                            <a:lnTo>
                              <a:pt x="11442" y="9426"/>
                            </a:lnTo>
                            <a:lnTo>
                              <a:pt x="11386" y="9481"/>
                            </a:lnTo>
                            <a:lnTo>
                              <a:pt x="11326" y="9529"/>
                            </a:lnTo>
                            <a:lnTo>
                              <a:pt x="11266" y="9584"/>
                            </a:lnTo>
                            <a:lnTo>
                              <a:pt x="11206" y="9633"/>
                            </a:lnTo>
                            <a:lnTo>
                              <a:pt x="11150" y="9681"/>
                            </a:lnTo>
                            <a:lnTo>
                              <a:pt x="11096" y="9730"/>
                            </a:lnTo>
                            <a:lnTo>
                              <a:pt x="11036" y="9785"/>
                            </a:lnTo>
                            <a:lnTo>
                              <a:pt x="10976" y="9833"/>
                            </a:lnTo>
                            <a:lnTo>
                              <a:pt x="10916" y="9882"/>
                            </a:lnTo>
                            <a:lnTo>
                              <a:pt x="10860" y="9931"/>
                            </a:lnTo>
                            <a:lnTo>
                              <a:pt x="10800" y="9979"/>
                            </a:lnTo>
                            <a:lnTo>
                              <a:pt x="10746" y="10028"/>
                            </a:lnTo>
                            <a:lnTo>
                              <a:pt x="10686" y="10076"/>
                            </a:lnTo>
                            <a:lnTo>
                              <a:pt x="10626" y="10126"/>
                            </a:lnTo>
                            <a:lnTo>
                              <a:pt x="10566" y="10170"/>
                            </a:lnTo>
                            <a:lnTo>
                              <a:pt x="10514" y="10219"/>
                            </a:lnTo>
                            <a:lnTo>
                              <a:pt x="10457" y="10269"/>
                            </a:lnTo>
                            <a:lnTo>
                              <a:pt x="10397" y="10310"/>
                            </a:lnTo>
                            <a:lnTo>
                              <a:pt x="10478" y="10255"/>
                            </a:lnTo>
                            <a:lnTo>
                              <a:pt x="10563" y="10219"/>
                            </a:lnTo>
                            <a:lnTo>
                              <a:pt x="10658" y="10190"/>
                            </a:lnTo>
                            <a:lnTo>
                              <a:pt x="10750" y="10175"/>
                            </a:lnTo>
                            <a:lnTo>
                              <a:pt x="10852" y="10175"/>
                            </a:lnTo>
                            <a:lnTo>
                              <a:pt x="10948" y="10190"/>
                            </a:lnTo>
                            <a:lnTo>
                              <a:pt x="11044" y="10223"/>
                            </a:lnTo>
                            <a:lnTo>
                              <a:pt x="11132" y="10269"/>
                            </a:lnTo>
                            <a:lnTo>
                              <a:pt x="11206" y="10323"/>
                            </a:lnTo>
                            <a:lnTo>
                              <a:pt x="11273" y="10391"/>
                            </a:lnTo>
                            <a:lnTo>
                              <a:pt x="11326" y="10463"/>
                            </a:lnTo>
                            <a:lnTo>
                              <a:pt x="11369" y="10543"/>
                            </a:lnTo>
                            <a:lnTo>
                              <a:pt x="11390" y="10637"/>
                            </a:lnTo>
                            <a:lnTo>
                              <a:pt x="11397" y="10725"/>
                            </a:lnTo>
                            <a:lnTo>
                              <a:pt x="11415" y="10654"/>
                            </a:lnTo>
                            <a:lnTo>
                              <a:pt x="11449" y="10573"/>
                            </a:lnTo>
                            <a:lnTo>
                              <a:pt x="11517" y="10476"/>
                            </a:lnTo>
                            <a:lnTo>
                              <a:pt x="11605" y="10355"/>
                            </a:lnTo>
                            <a:lnTo>
                              <a:pt x="11659" y="10284"/>
                            </a:lnTo>
                            <a:lnTo>
                              <a:pt x="11711" y="10203"/>
                            </a:lnTo>
                            <a:lnTo>
                              <a:pt x="11764" y="10122"/>
                            </a:lnTo>
                            <a:lnTo>
                              <a:pt x="11757" y="10139"/>
                            </a:lnTo>
                            <a:lnTo>
                              <a:pt x="11747" y="10154"/>
                            </a:lnTo>
                            <a:lnTo>
                              <a:pt x="11735" y="10164"/>
                            </a:lnTo>
                            <a:lnTo>
                              <a:pt x="12877" y="8758"/>
                            </a:lnTo>
                            <a:lnTo>
                              <a:pt x="12923" y="8693"/>
                            </a:lnTo>
                            <a:lnTo>
                              <a:pt x="12976" y="8632"/>
                            </a:lnTo>
                            <a:lnTo>
                              <a:pt x="13033" y="8567"/>
                            </a:lnTo>
                            <a:lnTo>
                              <a:pt x="13079" y="8509"/>
                            </a:lnTo>
                            <a:lnTo>
                              <a:pt x="13131" y="8444"/>
                            </a:lnTo>
                            <a:lnTo>
                              <a:pt x="13184" y="8379"/>
                            </a:lnTo>
                            <a:lnTo>
                              <a:pt x="13238" y="8318"/>
                            </a:lnTo>
                            <a:lnTo>
                              <a:pt x="13287" y="8253"/>
                            </a:lnTo>
                            <a:lnTo>
                              <a:pt x="13340" y="8194"/>
                            </a:lnTo>
                            <a:lnTo>
                              <a:pt x="13386" y="8130"/>
                            </a:lnTo>
                            <a:lnTo>
                              <a:pt x="13438" y="8068"/>
                            </a:lnTo>
                            <a:lnTo>
                              <a:pt x="13492" y="8003"/>
                            </a:lnTo>
                            <a:lnTo>
                              <a:pt x="13541" y="7945"/>
                            </a:lnTo>
                            <a:lnTo>
                              <a:pt x="13588" y="7880"/>
                            </a:lnTo>
                            <a:lnTo>
                              <a:pt x="13640" y="7818"/>
                            </a:lnTo>
                            <a:lnTo>
                              <a:pt x="13690" y="7754"/>
                            </a:lnTo>
                            <a:lnTo>
                              <a:pt x="13742" y="7696"/>
                            </a:lnTo>
                            <a:lnTo>
                              <a:pt x="13796" y="7627"/>
                            </a:lnTo>
                            <a:lnTo>
                              <a:pt x="13841" y="7569"/>
                            </a:lnTo>
                            <a:lnTo>
                              <a:pt x="13895" y="7505"/>
                            </a:lnTo>
                            <a:lnTo>
                              <a:pt x="13944" y="7446"/>
                            </a:lnTo>
                            <a:lnTo>
                              <a:pt x="13997" y="7378"/>
                            </a:lnTo>
                            <a:lnTo>
                              <a:pt x="14043" y="7320"/>
                            </a:lnTo>
                            <a:lnTo>
                              <a:pt x="14092" y="7255"/>
                            </a:lnTo>
                            <a:lnTo>
                              <a:pt x="14146" y="7190"/>
                            </a:lnTo>
                            <a:lnTo>
                              <a:pt x="14191" y="7129"/>
                            </a:lnTo>
                            <a:lnTo>
                              <a:pt x="14237" y="7063"/>
                            </a:lnTo>
                            <a:lnTo>
                              <a:pt x="14294" y="7005"/>
                            </a:lnTo>
                            <a:lnTo>
                              <a:pt x="14339" y="6941"/>
                            </a:lnTo>
                            <a:lnTo>
                              <a:pt x="14393" y="6879"/>
                            </a:lnTo>
                            <a:lnTo>
                              <a:pt x="14438" y="6814"/>
                            </a:lnTo>
                            <a:lnTo>
                              <a:pt x="14487" y="6756"/>
                            </a:lnTo>
                            <a:lnTo>
                              <a:pt x="14541" y="6691"/>
                            </a:lnTo>
                            <a:lnTo>
                              <a:pt x="14587" y="6626"/>
                            </a:lnTo>
                            <a:lnTo>
                              <a:pt x="14637" y="6565"/>
                            </a:lnTo>
                            <a:lnTo>
                              <a:pt x="14689" y="6499"/>
                            </a:lnTo>
                            <a:lnTo>
                              <a:pt x="14736" y="6435"/>
                            </a:lnTo>
                            <a:lnTo>
                              <a:pt x="14785" y="6374"/>
                            </a:lnTo>
                            <a:lnTo>
                              <a:pt x="14830" y="6308"/>
                            </a:lnTo>
                            <a:lnTo>
                              <a:pt x="14884" y="6244"/>
                            </a:lnTo>
                            <a:lnTo>
                              <a:pt x="14930" y="6186"/>
                            </a:lnTo>
                            <a:lnTo>
                              <a:pt x="14979" y="6120"/>
                            </a:lnTo>
                            <a:lnTo>
                              <a:pt x="15025" y="6056"/>
                            </a:lnTo>
                            <a:lnTo>
                              <a:pt x="15078" y="5988"/>
                            </a:lnTo>
                            <a:lnTo>
                              <a:pt x="15128" y="5929"/>
                            </a:lnTo>
                            <a:lnTo>
                              <a:pt x="15174" y="5865"/>
                            </a:lnTo>
                            <a:lnTo>
                              <a:pt x="15223" y="5800"/>
                            </a:lnTo>
                            <a:lnTo>
                              <a:pt x="15276" y="5735"/>
                            </a:lnTo>
                            <a:lnTo>
                              <a:pt x="15322" y="5670"/>
                            </a:lnTo>
                            <a:lnTo>
                              <a:pt x="15367" y="5603"/>
                            </a:lnTo>
                            <a:lnTo>
                              <a:pt x="15417" y="5537"/>
                            </a:lnTo>
                            <a:lnTo>
                              <a:pt x="15463" y="5473"/>
                            </a:lnTo>
                            <a:lnTo>
                              <a:pt x="15512" y="5409"/>
                            </a:lnTo>
                            <a:lnTo>
                              <a:pt x="15559" y="5343"/>
                            </a:lnTo>
                            <a:lnTo>
                              <a:pt x="15611" y="5279"/>
                            </a:lnTo>
                            <a:lnTo>
                              <a:pt x="15661" y="5207"/>
                            </a:lnTo>
                            <a:lnTo>
                              <a:pt x="15707" y="5142"/>
                            </a:lnTo>
                            <a:lnTo>
                              <a:pt x="15753" y="5078"/>
                            </a:lnTo>
                            <a:lnTo>
                              <a:pt x="15802" y="5013"/>
                            </a:lnTo>
                            <a:lnTo>
                              <a:pt x="15848" y="4951"/>
                            </a:lnTo>
                            <a:lnTo>
                              <a:pt x="15897" y="4879"/>
                            </a:lnTo>
                            <a:lnTo>
                              <a:pt x="15943" y="4815"/>
                            </a:lnTo>
                            <a:lnTo>
                              <a:pt x="15990" y="4744"/>
                            </a:lnTo>
                            <a:lnTo>
                              <a:pt x="16039" y="4679"/>
                            </a:lnTo>
                            <a:lnTo>
                              <a:pt x="16092" y="4608"/>
                            </a:lnTo>
                            <a:lnTo>
                              <a:pt x="16135" y="4543"/>
                            </a:lnTo>
                            <a:lnTo>
                              <a:pt x="16187" y="4472"/>
                            </a:lnTo>
                            <a:lnTo>
                              <a:pt x="16226" y="4403"/>
                            </a:lnTo>
                            <a:lnTo>
                              <a:pt x="16283" y="4336"/>
                            </a:lnTo>
                            <a:lnTo>
                              <a:pt x="16328" y="4245"/>
                            </a:lnTo>
                            <a:lnTo>
                              <a:pt x="16357" y="4148"/>
                            </a:lnTo>
                            <a:lnTo>
                              <a:pt x="16371" y="4044"/>
                            </a:lnTo>
                            <a:lnTo>
                              <a:pt x="16371" y="3924"/>
                            </a:lnTo>
                            <a:lnTo>
                              <a:pt x="16364" y="3843"/>
                            </a:lnTo>
                            <a:lnTo>
                              <a:pt x="16346" y="3762"/>
                            </a:lnTo>
                            <a:lnTo>
                              <a:pt x="16318" y="3690"/>
                            </a:lnTo>
                            <a:lnTo>
                              <a:pt x="16268" y="3620"/>
                            </a:lnTo>
                            <a:lnTo>
                              <a:pt x="16223" y="3561"/>
                            </a:lnTo>
                            <a:lnTo>
                              <a:pt x="16156" y="3499"/>
                            </a:lnTo>
                            <a:lnTo>
                              <a:pt x="16092" y="3458"/>
                            </a:lnTo>
                            <a:lnTo>
                              <a:pt x="16014" y="3419"/>
                            </a:lnTo>
                            <a:lnTo>
                              <a:pt x="15933" y="3393"/>
                            </a:lnTo>
                            <a:lnTo>
                              <a:pt x="15845" y="3377"/>
                            </a:lnTo>
                            <a:lnTo>
                              <a:pt x="15753" y="3370"/>
                            </a:lnTo>
                            <a:lnTo>
                              <a:pt x="15671" y="3377"/>
                            </a:lnTo>
                            <a:lnTo>
                              <a:pt x="15583" y="3399"/>
                            </a:lnTo>
                            <a:lnTo>
                              <a:pt x="15505" y="3425"/>
                            </a:lnTo>
                            <a:lnTo>
                              <a:pt x="15427" y="3467"/>
                            </a:lnTo>
                            <a:lnTo>
                              <a:pt x="15364" y="3516"/>
                            </a:lnTo>
                            <a:lnTo>
                              <a:pt x="15304" y="3571"/>
                            </a:lnTo>
                            <a:lnTo>
                              <a:pt x="15251" y="3642"/>
                            </a:lnTo>
                            <a:lnTo>
                              <a:pt x="15198" y="3714"/>
                            </a:lnTo>
                            <a:lnTo>
                              <a:pt x="15138" y="3781"/>
                            </a:lnTo>
                            <a:lnTo>
                              <a:pt x="15074" y="3853"/>
                            </a:lnTo>
                            <a:lnTo>
                              <a:pt x="15004" y="3917"/>
                            </a:lnTo>
                            <a:lnTo>
                              <a:pt x="14926" y="3989"/>
                            </a:lnTo>
                            <a:lnTo>
                              <a:pt x="14842" y="4060"/>
                            </a:lnTo>
                            <a:lnTo>
                              <a:pt x="14770" y="4118"/>
                            </a:lnTo>
                            <a:lnTo>
                              <a:pt x="14707" y="4180"/>
                            </a:lnTo>
                            <a:lnTo>
                              <a:pt x="14637" y="4245"/>
                            </a:lnTo>
                            <a:lnTo>
                              <a:pt x="14647" y="4235"/>
                            </a:lnTo>
                            <a:lnTo>
                              <a:pt x="14658" y="4223"/>
                            </a:lnTo>
                            <a:lnTo>
                              <a:pt x="14671" y="4206"/>
                            </a:lnTo>
                            <a:lnTo>
                              <a:pt x="13760" y="4906"/>
                            </a:lnTo>
                            <a:lnTo>
                              <a:pt x="13510" y="5094"/>
                            </a:lnTo>
                            <a:lnTo>
                              <a:pt x="13498" y="5100"/>
                            </a:lnTo>
                            <a:lnTo>
                              <a:pt x="13492" y="5110"/>
                            </a:lnTo>
                            <a:lnTo>
                              <a:pt x="13481" y="5116"/>
                            </a:lnTo>
                            <a:lnTo>
                              <a:pt x="13428" y="5165"/>
                            </a:lnTo>
                            <a:lnTo>
                              <a:pt x="13375" y="5207"/>
                            </a:lnTo>
                            <a:lnTo>
                              <a:pt x="13315" y="5255"/>
                            </a:lnTo>
                            <a:lnTo>
                              <a:pt x="13262" y="5304"/>
                            </a:lnTo>
                            <a:lnTo>
                              <a:pt x="13202" y="5353"/>
                            </a:lnTo>
                            <a:lnTo>
                              <a:pt x="13142" y="5398"/>
                            </a:lnTo>
                            <a:lnTo>
                              <a:pt x="13085" y="5447"/>
                            </a:lnTo>
                            <a:lnTo>
                              <a:pt x="13025" y="5495"/>
                            </a:lnTo>
                            <a:lnTo>
                              <a:pt x="12965" y="5544"/>
                            </a:lnTo>
                            <a:lnTo>
                              <a:pt x="12901" y="5592"/>
                            </a:lnTo>
                            <a:lnTo>
                              <a:pt x="12841" y="5641"/>
                            </a:lnTo>
                            <a:lnTo>
                              <a:pt x="12778" y="5689"/>
                            </a:lnTo>
                            <a:lnTo>
                              <a:pt x="12711" y="5738"/>
                            </a:lnTo>
                            <a:lnTo>
                              <a:pt x="12648" y="5787"/>
                            </a:lnTo>
                            <a:lnTo>
                              <a:pt x="12581" y="5839"/>
                            </a:lnTo>
                            <a:lnTo>
                              <a:pt x="12516" y="5888"/>
                            </a:lnTo>
                            <a:lnTo>
                              <a:pt x="12449" y="5937"/>
                            </a:lnTo>
                            <a:lnTo>
                              <a:pt x="12386" y="5985"/>
                            </a:lnTo>
                            <a:lnTo>
                              <a:pt x="12316" y="6040"/>
                            </a:lnTo>
                            <a:lnTo>
                              <a:pt x="12248" y="6089"/>
                            </a:lnTo>
                            <a:lnTo>
                              <a:pt x="12178" y="6137"/>
                            </a:lnTo>
                            <a:lnTo>
                              <a:pt x="12106" y="6186"/>
                            </a:lnTo>
                            <a:lnTo>
                              <a:pt x="12036" y="6241"/>
                            </a:lnTo>
                            <a:lnTo>
                              <a:pt x="11966" y="6289"/>
                            </a:lnTo>
                            <a:lnTo>
                              <a:pt x="11895" y="6338"/>
                            </a:lnTo>
                            <a:lnTo>
                              <a:pt x="11824" y="6386"/>
                            </a:lnTo>
                            <a:lnTo>
                              <a:pt x="11753" y="6435"/>
                            </a:lnTo>
                            <a:lnTo>
                              <a:pt x="11683" y="6490"/>
                            </a:lnTo>
                            <a:lnTo>
                              <a:pt x="11608" y="6539"/>
                            </a:lnTo>
                            <a:lnTo>
                              <a:pt x="11538" y="6590"/>
                            </a:lnTo>
                            <a:lnTo>
                              <a:pt x="11464" y="6642"/>
                            </a:lnTo>
                            <a:lnTo>
                              <a:pt x="11390" y="6691"/>
                            </a:lnTo>
                            <a:lnTo>
                              <a:pt x="11316" y="6743"/>
                            </a:lnTo>
                            <a:lnTo>
                              <a:pt x="11245" y="6792"/>
                            </a:lnTo>
                            <a:lnTo>
                              <a:pt x="11171" y="6847"/>
                            </a:lnTo>
                            <a:lnTo>
                              <a:pt x="11096" y="6895"/>
                            </a:lnTo>
                            <a:lnTo>
                              <a:pt x="11018" y="6944"/>
                            </a:lnTo>
                            <a:lnTo>
                              <a:pt x="10948" y="6999"/>
                            </a:lnTo>
                            <a:lnTo>
                              <a:pt x="10870" y="7048"/>
                            </a:lnTo>
                            <a:lnTo>
                              <a:pt x="10792" y="7102"/>
                            </a:lnTo>
                            <a:lnTo>
                              <a:pt x="10722" y="7151"/>
                            </a:lnTo>
                            <a:lnTo>
                              <a:pt x="10644" y="7200"/>
                            </a:lnTo>
                            <a:lnTo>
                              <a:pt x="10574" y="7248"/>
                            </a:lnTo>
                            <a:lnTo>
                              <a:pt x="10496" y="7303"/>
                            </a:lnTo>
                            <a:lnTo>
                              <a:pt x="10426" y="7352"/>
                            </a:lnTo>
                            <a:lnTo>
                              <a:pt x="10348" y="7407"/>
                            </a:lnTo>
                            <a:lnTo>
                              <a:pt x="10273" y="7455"/>
                            </a:lnTo>
                            <a:lnTo>
                              <a:pt x="10203" y="7511"/>
                            </a:lnTo>
                            <a:lnTo>
                              <a:pt x="10125" y="7560"/>
                            </a:lnTo>
                            <a:lnTo>
                              <a:pt x="10047" y="7608"/>
                            </a:lnTo>
                            <a:lnTo>
                              <a:pt x="9969" y="7663"/>
                            </a:lnTo>
                            <a:lnTo>
                              <a:pt x="9899" y="7712"/>
                            </a:lnTo>
                            <a:lnTo>
                              <a:pt x="9821" y="7764"/>
                            </a:lnTo>
                            <a:lnTo>
                              <a:pt x="9751" y="7812"/>
                            </a:lnTo>
                            <a:lnTo>
                              <a:pt x="9679" y="7864"/>
                            </a:lnTo>
                            <a:lnTo>
                              <a:pt x="9609" y="7912"/>
                            </a:lnTo>
                            <a:lnTo>
                              <a:pt x="9531" y="7961"/>
                            </a:lnTo>
                            <a:lnTo>
                              <a:pt x="9461" y="8010"/>
                            </a:lnTo>
                            <a:lnTo>
                              <a:pt x="9390" y="8058"/>
                            </a:lnTo>
                            <a:lnTo>
                              <a:pt x="9320" y="8107"/>
                            </a:lnTo>
                            <a:lnTo>
                              <a:pt x="9252" y="8155"/>
                            </a:lnTo>
                            <a:lnTo>
                              <a:pt x="9182" y="8204"/>
                            </a:lnTo>
                            <a:lnTo>
                              <a:pt x="9118" y="8253"/>
                            </a:lnTo>
                            <a:lnTo>
                              <a:pt x="9047" y="8301"/>
                            </a:lnTo>
                            <a:lnTo>
                              <a:pt x="8980" y="8347"/>
                            </a:lnTo>
                            <a:lnTo>
                              <a:pt x="8916" y="8395"/>
                            </a:lnTo>
                            <a:lnTo>
                              <a:pt x="8853" y="8444"/>
                            </a:lnTo>
                            <a:lnTo>
                              <a:pt x="8790" y="8486"/>
                            </a:lnTo>
                            <a:lnTo>
                              <a:pt x="8726" y="8534"/>
                            </a:lnTo>
                            <a:lnTo>
                              <a:pt x="8666" y="8580"/>
                            </a:lnTo>
                            <a:lnTo>
                              <a:pt x="8599" y="8628"/>
                            </a:lnTo>
                            <a:lnTo>
                              <a:pt x="8542" y="8671"/>
                            </a:lnTo>
                            <a:lnTo>
                              <a:pt x="8475" y="8716"/>
                            </a:lnTo>
                            <a:lnTo>
                              <a:pt x="8415" y="8758"/>
                            </a:lnTo>
                            <a:lnTo>
                              <a:pt x="8492" y="8716"/>
                            </a:lnTo>
                            <a:lnTo>
                              <a:pt x="8570" y="8677"/>
                            </a:lnTo>
                            <a:lnTo>
                              <a:pt x="8655" y="8652"/>
                            </a:lnTo>
                            <a:lnTo>
                              <a:pt x="8744" y="8638"/>
                            </a:lnTo>
                            <a:lnTo>
                              <a:pt x="8825" y="8632"/>
                            </a:lnTo>
                            <a:lnTo>
                              <a:pt x="8906" y="8644"/>
                            </a:lnTo>
                            <a:lnTo>
                              <a:pt x="8988" y="8668"/>
                            </a:lnTo>
                            <a:lnTo>
                              <a:pt x="9072" y="8693"/>
                            </a:lnTo>
                            <a:lnTo>
                              <a:pt x="9146" y="8735"/>
                            </a:lnTo>
                            <a:lnTo>
                              <a:pt x="9214" y="8790"/>
                            </a:lnTo>
                            <a:lnTo>
                              <a:pt x="9277" y="8852"/>
                            </a:lnTo>
                            <a:lnTo>
                              <a:pt x="9326" y="8920"/>
                            </a:lnTo>
                            <a:lnTo>
                              <a:pt x="9362" y="8992"/>
                            </a:lnTo>
                            <a:lnTo>
                              <a:pt x="9383" y="9069"/>
                            </a:lnTo>
                            <a:lnTo>
                              <a:pt x="9398" y="9150"/>
                            </a:lnTo>
                            <a:lnTo>
                              <a:pt x="9398" y="9225"/>
                            </a:lnTo>
                            <a:lnTo>
                              <a:pt x="9383" y="9305"/>
                            </a:lnTo>
                            <a:lnTo>
                              <a:pt x="9362" y="9384"/>
                            </a:lnTo>
                            <a:lnTo>
                              <a:pt x="9320" y="9451"/>
                            </a:lnTo>
                            <a:lnTo>
                              <a:pt x="9270" y="9523"/>
                            </a:lnTo>
                            <a:lnTo>
                              <a:pt x="9312" y="9481"/>
                            </a:lnTo>
                            <a:lnTo>
                              <a:pt x="9362" y="9426"/>
                            </a:lnTo>
                            <a:lnTo>
                              <a:pt x="9401" y="9377"/>
                            </a:lnTo>
                            <a:lnTo>
                              <a:pt x="9453" y="9329"/>
                            </a:lnTo>
                            <a:lnTo>
                              <a:pt x="9510" y="9274"/>
                            </a:lnTo>
                            <a:lnTo>
                              <a:pt x="9564" y="9225"/>
                            </a:lnTo>
                            <a:lnTo>
                              <a:pt x="9619" y="9166"/>
                            </a:lnTo>
                            <a:lnTo>
                              <a:pt x="9679" y="9111"/>
                            </a:lnTo>
                            <a:lnTo>
                              <a:pt x="9747" y="9056"/>
                            </a:lnTo>
                            <a:lnTo>
                              <a:pt x="9803" y="8998"/>
                            </a:lnTo>
                            <a:lnTo>
                              <a:pt x="9871" y="8937"/>
                            </a:lnTo>
                            <a:lnTo>
                              <a:pt x="9941" y="8884"/>
                            </a:lnTo>
                            <a:lnTo>
                              <a:pt x="10005" y="8823"/>
                            </a:lnTo>
                            <a:lnTo>
                              <a:pt x="10076" y="8765"/>
                            </a:lnTo>
                            <a:lnTo>
                              <a:pt x="10146" y="8703"/>
                            </a:lnTo>
                            <a:lnTo>
                              <a:pt x="10221" y="8644"/>
                            </a:lnTo>
                            <a:lnTo>
                              <a:pt x="10294" y="8580"/>
                            </a:lnTo>
                            <a:lnTo>
                              <a:pt x="10365" y="8519"/>
                            </a:lnTo>
                            <a:lnTo>
                              <a:pt x="10439" y="8461"/>
                            </a:lnTo>
                            <a:lnTo>
                              <a:pt x="10514" y="8398"/>
                            </a:lnTo>
                            <a:lnTo>
                              <a:pt x="10584" y="8340"/>
                            </a:lnTo>
                            <a:lnTo>
                              <a:pt x="10658" y="8282"/>
                            </a:lnTo>
                            <a:lnTo>
                              <a:pt x="10729" y="8221"/>
                            </a:lnTo>
                            <a:lnTo>
                              <a:pt x="10800" y="8165"/>
                            </a:lnTo>
                            <a:lnTo>
                              <a:pt x="10870" y="8107"/>
                            </a:lnTo>
                            <a:lnTo>
                              <a:pt x="10941" y="8049"/>
                            </a:lnTo>
                            <a:lnTo>
                              <a:pt x="11011" y="7987"/>
                            </a:lnTo>
                            <a:lnTo>
                              <a:pt x="11078" y="7928"/>
                            </a:lnTo>
                            <a:lnTo>
                              <a:pt x="11150" y="7867"/>
                            </a:lnTo>
                            <a:lnTo>
                              <a:pt x="11220" y="7812"/>
                            </a:lnTo>
                            <a:lnTo>
                              <a:pt x="11283" y="7754"/>
                            </a:lnTo>
                            <a:lnTo>
                              <a:pt x="11351" y="7696"/>
                            </a:lnTo>
                            <a:lnTo>
                              <a:pt x="11421" y="7634"/>
                            </a:lnTo>
                            <a:lnTo>
                              <a:pt x="11485" y="7576"/>
                            </a:lnTo>
                            <a:lnTo>
                              <a:pt x="11552" y="7521"/>
                            </a:lnTo>
                            <a:lnTo>
                              <a:pt x="11608" y="7463"/>
                            </a:lnTo>
                            <a:lnTo>
                              <a:pt x="11675" y="7400"/>
                            </a:lnTo>
                            <a:lnTo>
                              <a:pt x="11735" y="7345"/>
                            </a:lnTo>
                            <a:lnTo>
                              <a:pt x="11792" y="7287"/>
                            </a:lnTo>
                            <a:lnTo>
                              <a:pt x="11852" y="7232"/>
                            </a:lnTo>
                            <a:lnTo>
                              <a:pt x="11912" y="7174"/>
                            </a:lnTo>
                            <a:lnTo>
                              <a:pt x="11966" y="7118"/>
                            </a:lnTo>
                            <a:lnTo>
                              <a:pt x="12018" y="7060"/>
                            </a:lnTo>
                            <a:lnTo>
                              <a:pt x="12072" y="7005"/>
                            </a:lnTo>
                            <a:lnTo>
                              <a:pt x="12121" y="6950"/>
                            </a:lnTo>
                            <a:lnTo>
                              <a:pt x="12166" y="6895"/>
                            </a:lnTo>
                            <a:lnTo>
                              <a:pt x="12213" y="6844"/>
                            </a:lnTo>
                            <a:lnTo>
                              <a:pt x="12256" y="6788"/>
                            </a:lnTo>
                            <a:lnTo>
                              <a:pt x="12248" y="6792"/>
                            </a:lnTo>
                            <a:lnTo>
                              <a:pt x="12244" y="6798"/>
                            </a:lnTo>
                            <a:lnTo>
                              <a:pt x="13471" y="5353"/>
                            </a:lnTo>
                            <a:lnTo>
                              <a:pt x="14692" y="3902"/>
                            </a:lnTo>
                            <a:lnTo>
                              <a:pt x="14707" y="3898"/>
                            </a:lnTo>
                            <a:lnTo>
                              <a:pt x="14710" y="3886"/>
                            </a:lnTo>
                            <a:lnTo>
                              <a:pt x="14718" y="3875"/>
                            </a:lnTo>
                            <a:lnTo>
                              <a:pt x="14736" y="3850"/>
                            </a:lnTo>
                            <a:lnTo>
                              <a:pt x="14753" y="3827"/>
                            </a:lnTo>
                            <a:lnTo>
                              <a:pt x="14778" y="3801"/>
                            </a:lnTo>
                            <a:lnTo>
                              <a:pt x="14813" y="3749"/>
                            </a:lnTo>
                            <a:lnTo>
                              <a:pt x="14855" y="3690"/>
                            </a:lnTo>
                            <a:lnTo>
                              <a:pt x="14894" y="3632"/>
                            </a:lnTo>
                            <a:lnTo>
                              <a:pt x="14936" y="3565"/>
                            </a:lnTo>
                            <a:lnTo>
                              <a:pt x="14972" y="3496"/>
                            </a:lnTo>
                            <a:lnTo>
                              <a:pt x="15008" y="3419"/>
                            </a:lnTo>
                            <a:lnTo>
                              <a:pt x="15039" y="3331"/>
                            </a:lnTo>
                            <a:lnTo>
                              <a:pt x="15060" y="3240"/>
                            </a:lnTo>
                            <a:lnTo>
                              <a:pt x="15074" y="3143"/>
                            </a:lnTo>
                            <a:lnTo>
                              <a:pt x="15078" y="3033"/>
                            </a:lnTo>
                            <a:lnTo>
                              <a:pt x="15068" y="2943"/>
                            </a:lnTo>
                            <a:lnTo>
                              <a:pt x="15042" y="2855"/>
                            </a:lnTo>
                            <a:lnTo>
                              <a:pt x="15004" y="2767"/>
                            </a:lnTo>
                            <a:lnTo>
                              <a:pt x="14951" y="2693"/>
                            </a:lnTo>
                            <a:lnTo>
                              <a:pt x="14876" y="2628"/>
                            </a:lnTo>
                            <a:lnTo>
                              <a:pt x="14803" y="2567"/>
                            </a:lnTo>
                            <a:lnTo>
                              <a:pt x="14707" y="2524"/>
                            </a:lnTo>
                            <a:lnTo>
                              <a:pt x="14611" y="2495"/>
                            </a:lnTo>
                            <a:lnTo>
                              <a:pt x="14513" y="2485"/>
                            </a:lnTo>
                            <a:lnTo>
                              <a:pt x="14411" y="2485"/>
                            </a:lnTo>
                            <a:lnTo>
                              <a:pt x="14311" y="2509"/>
                            </a:lnTo>
                            <a:lnTo>
                              <a:pt x="14216" y="2534"/>
                            </a:lnTo>
                            <a:lnTo>
                              <a:pt x="14131" y="2583"/>
                            </a:lnTo>
                            <a:lnTo>
                              <a:pt x="14050" y="2645"/>
                            </a:lnTo>
                            <a:lnTo>
                              <a:pt x="13983" y="2709"/>
                            </a:lnTo>
                            <a:lnTo>
                              <a:pt x="13944" y="2767"/>
                            </a:lnTo>
                            <a:lnTo>
                              <a:pt x="13912" y="2813"/>
                            </a:lnTo>
                            <a:lnTo>
                              <a:pt x="13908" y="2816"/>
                            </a:lnTo>
                            <a:lnTo>
                              <a:pt x="13962" y="2751"/>
                            </a:lnTo>
                            <a:lnTo>
                              <a:pt x="14035" y="2693"/>
                            </a:lnTo>
                            <a:lnTo>
                              <a:pt x="14128" y="2648"/>
                            </a:lnTo>
                            <a:lnTo>
                              <a:pt x="14234" y="2615"/>
                            </a:lnTo>
                            <a:lnTo>
                              <a:pt x="14347" y="2599"/>
                            </a:lnTo>
                            <a:lnTo>
                              <a:pt x="14219" y="2599"/>
                            </a:lnTo>
                            <a:lnTo>
                              <a:pt x="14163" y="2606"/>
                            </a:lnTo>
                            <a:lnTo>
                              <a:pt x="14095" y="2612"/>
                            </a:lnTo>
                            <a:lnTo>
                              <a:pt x="14019" y="2631"/>
                            </a:lnTo>
                            <a:lnTo>
                              <a:pt x="13937" y="2661"/>
                            </a:lnTo>
                            <a:lnTo>
                              <a:pt x="13856" y="2709"/>
                            </a:lnTo>
                            <a:lnTo>
                              <a:pt x="13764" y="2767"/>
                            </a:lnTo>
                            <a:lnTo>
                              <a:pt x="13690" y="2855"/>
                            </a:lnTo>
                            <a:lnTo>
                              <a:pt x="13615" y="2962"/>
                            </a:lnTo>
                            <a:lnTo>
                              <a:pt x="13612" y="2968"/>
                            </a:lnTo>
                            <a:lnTo>
                              <a:pt x="13654" y="2910"/>
                            </a:lnTo>
                            <a:lnTo>
                              <a:pt x="13711" y="2855"/>
                            </a:lnTo>
                            <a:lnTo>
                              <a:pt x="13788" y="2800"/>
                            </a:lnTo>
                            <a:lnTo>
                              <a:pt x="13877" y="2758"/>
                            </a:lnTo>
                            <a:lnTo>
                              <a:pt x="13980" y="2728"/>
                            </a:lnTo>
                            <a:lnTo>
                              <a:pt x="14092" y="2719"/>
                            </a:lnTo>
                            <a:lnTo>
                              <a:pt x="13962" y="2719"/>
                            </a:lnTo>
                            <a:lnTo>
                              <a:pt x="13841" y="2728"/>
                            </a:lnTo>
                            <a:lnTo>
                              <a:pt x="13728" y="2761"/>
                            </a:lnTo>
                            <a:lnTo>
                              <a:pt x="13630" y="2813"/>
                            </a:lnTo>
                            <a:lnTo>
                              <a:pt x="13516" y="2888"/>
                            </a:lnTo>
                            <a:lnTo>
                              <a:pt x="13417" y="2952"/>
                            </a:lnTo>
                            <a:lnTo>
                              <a:pt x="13326" y="3017"/>
                            </a:lnTo>
                            <a:lnTo>
                              <a:pt x="13255" y="3071"/>
                            </a:lnTo>
                            <a:lnTo>
                              <a:pt x="13178" y="3120"/>
                            </a:lnTo>
                            <a:lnTo>
                              <a:pt x="13106" y="3170"/>
                            </a:lnTo>
                            <a:lnTo>
                              <a:pt x="13085" y="3186"/>
                            </a:lnTo>
                            <a:lnTo>
                              <a:pt x="13061" y="3201"/>
                            </a:lnTo>
                            <a:lnTo>
                              <a:pt x="13036" y="3218"/>
                            </a:lnTo>
                            <a:lnTo>
                              <a:pt x="12965" y="3279"/>
                            </a:lnTo>
                            <a:lnTo>
                              <a:pt x="12901" y="3338"/>
                            </a:lnTo>
                            <a:lnTo>
                              <a:pt x="12831" y="3399"/>
                            </a:lnTo>
                            <a:lnTo>
                              <a:pt x="12763" y="3458"/>
                            </a:lnTo>
                            <a:lnTo>
                              <a:pt x="12693" y="3516"/>
                            </a:lnTo>
                            <a:lnTo>
                              <a:pt x="12630" y="3577"/>
                            </a:lnTo>
                            <a:lnTo>
                              <a:pt x="12563" y="3632"/>
                            </a:lnTo>
                            <a:lnTo>
                              <a:pt x="12492" y="3690"/>
                            </a:lnTo>
                            <a:lnTo>
                              <a:pt x="12428" y="3749"/>
                            </a:lnTo>
                            <a:lnTo>
                              <a:pt x="12368" y="3811"/>
                            </a:lnTo>
                            <a:lnTo>
                              <a:pt x="12301" y="3866"/>
                            </a:lnTo>
                            <a:lnTo>
                              <a:pt x="12238" y="3924"/>
                            </a:lnTo>
                            <a:lnTo>
                              <a:pt x="12174" y="3983"/>
                            </a:lnTo>
                            <a:lnTo>
                              <a:pt x="12106" y="4044"/>
                            </a:lnTo>
                            <a:lnTo>
                              <a:pt x="12047" y="4099"/>
                            </a:lnTo>
                            <a:lnTo>
                              <a:pt x="11983" y="4157"/>
                            </a:lnTo>
                            <a:lnTo>
                              <a:pt x="11919" y="4212"/>
                            </a:lnTo>
                            <a:lnTo>
                              <a:pt x="11859" y="4271"/>
                            </a:lnTo>
                            <a:lnTo>
                              <a:pt x="11789" y="4332"/>
                            </a:lnTo>
                            <a:lnTo>
                              <a:pt x="11722" y="4390"/>
                            </a:lnTo>
                            <a:lnTo>
                              <a:pt x="11659" y="4452"/>
                            </a:lnTo>
                            <a:lnTo>
                              <a:pt x="11591" y="4511"/>
                            </a:lnTo>
                            <a:lnTo>
                              <a:pt x="11527" y="4569"/>
                            </a:lnTo>
                            <a:lnTo>
                              <a:pt x="11464" y="4637"/>
                            </a:lnTo>
                            <a:lnTo>
                              <a:pt x="11390" y="4696"/>
                            </a:lnTo>
                            <a:lnTo>
                              <a:pt x="11326" y="4754"/>
                            </a:lnTo>
                            <a:lnTo>
                              <a:pt x="11262" y="4815"/>
                            </a:lnTo>
                            <a:lnTo>
                              <a:pt x="11189" y="4873"/>
                            </a:lnTo>
                            <a:lnTo>
                              <a:pt x="11117" y="4935"/>
                            </a:lnTo>
                            <a:lnTo>
                              <a:pt x="11054" y="4993"/>
                            </a:lnTo>
                            <a:lnTo>
                              <a:pt x="10984" y="5052"/>
                            </a:lnTo>
                            <a:lnTo>
                              <a:pt x="10912" y="5110"/>
                            </a:lnTo>
                            <a:lnTo>
                              <a:pt x="10842" y="5168"/>
                            </a:lnTo>
                            <a:lnTo>
                              <a:pt x="10800" y="5207"/>
                            </a:lnTo>
                            <a:lnTo>
                              <a:pt x="10750" y="5246"/>
                            </a:lnTo>
                            <a:lnTo>
                              <a:pt x="10704" y="5285"/>
                            </a:lnTo>
                            <a:lnTo>
                              <a:pt x="10652" y="5321"/>
                            </a:lnTo>
                            <a:lnTo>
                              <a:pt x="10598" y="5359"/>
                            </a:lnTo>
                            <a:lnTo>
                              <a:pt x="10545" y="5401"/>
                            </a:lnTo>
                            <a:lnTo>
                              <a:pt x="10486" y="5440"/>
                            </a:lnTo>
                            <a:lnTo>
                              <a:pt x="10426" y="5486"/>
                            </a:lnTo>
                            <a:lnTo>
                              <a:pt x="10365" y="5522"/>
                            </a:lnTo>
                            <a:lnTo>
                              <a:pt x="10302" y="5567"/>
                            </a:lnTo>
                            <a:lnTo>
                              <a:pt x="10242" y="5609"/>
                            </a:lnTo>
                            <a:lnTo>
                              <a:pt x="10171" y="5655"/>
                            </a:lnTo>
                            <a:lnTo>
                              <a:pt x="10107" y="5697"/>
                            </a:lnTo>
                            <a:lnTo>
                              <a:pt x="10037" y="5738"/>
                            </a:lnTo>
                            <a:lnTo>
                              <a:pt x="9966" y="5783"/>
                            </a:lnTo>
                            <a:lnTo>
                              <a:pt x="9892" y="5826"/>
                            </a:lnTo>
                            <a:lnTo>
                              <a:pt x="9821" y="5874"/>
                            </a:lnTo>
                            <a:lnTo>
                              <a:pt x="9747" y="5920"/>
                            </a:lnTo>
                            <a:lnTo>
                              <a:pt x="9669" y="5962"/>
                            </a:lnTo>
                            <a:lnTo>
                              <a:pt x="9591" y="6010"/>
                            </a:lnTo>
                            <a:lnTo>
                              <a:pt x="9513" y="6056"/>
                            </a:lnTo>
                            <a:lnTo>
                              <a:pt x="9435" y="6104"/>
                            </a:lnTo>
                            <a:lnTo>
                              <a:pt x="9354" y="6147"/>
                            </a:lnTo>
                            <a:lnTo>
                              <a:pt x="9277" y="6195"/>
                            </a:lnTo>
                            <a:lnTo>
                              <a:pt x="9196" y="6241"/>
                            </a:lnTo>
                            <a:lnTo>
                              <a:pt x="9111" y="6289"/>
                            </a:lnTo>
                            <a:lnTo>
                              <a:pt x="9030" y="6332"/>
                            </a:lnTo>
                            <a:lnTo>
                              <a:pt x="8944" y="6380"/>
                            </a:lnTo>
                            <a:lnTo>
                              <a:pt x="8864" y="6429"/>
                            </a:lnTo>
                            <a:lnTo>
                              <a:pt x="8783" y="6474"/>
                            </a:lnTo>
                            <a:lnTo>
                              <a:pt x="8702" y="6523"/>
                            </a:lnTo>
                            <a:lnTo>
                              <a:pt x="8612" y="6571"/>
                            </a:lnTo>
                            <a:lnTo>
                              <a:pt x="8528" y="6620"/>
                            </a:lnTo>
                            <a:lnTo>
                              <a:pt x="8446" y="6662"/>
                            </a:lnTo>
                            <a:lnTo>
                              <a:pt x="8358" y="6711"/>
                            </a:lnTo>
                            <a:lnTo>
                              <a:pt x="8274" y="6759"/>
                            </a:lnTo>
                            <a:lnTo>
                              <a:pt x="8185" y="6805"/>
                            </a:lnTo>
                            <a:lnTo>
                              <a:pt x="8105" y="6853"/>
                            </a:lnTo>
                            <a:lnTo>
                              <a:pt x="8015" y="6902"/>
                            </a:lnTo>
                            <a:lnTo>
                              <a:pt x="7931" y="6950"/>
                            </a:lnTo>
                            <a:lnTo>
                              <a:pt x="7843" y="6999"/>
                            </a:lnTo>
                            <a:lnTo>
                              <a:pt x="7758" y="7048"/>
                            </a:lnTo>
                            <a:lnTo>
                              <a:pt x="7669" y="7093"/>
                            </a:lnTo>
                            <a:lnTo>
                              <a:pt x="7588" y="7142"/>
                            </a:lnTo>
                            <a:lnTo>
                              <a:pt x="7503" y="7190"/>
                            </a:lnTo>
                            <a:lnTo>
                              <a:pt x="7422" y="7232"/>
                            </a:lnTo>
                            <a:lnTo>
                              <a:pt x="7341" y="7281"/>
                            </a:lnTo>
                            <a:lnTo>
                              <a:pt x="7256" y="7326"/>
                            </a:lnTo>
                            <a:lnTo>
                              <a:pt x="7175" y="7375"/>
                            </a:lnTo>
                            <a:lnTo>
                              <a:pt x="7090" y="7417"/>
                            </a:lnTo>
                            <a:lnTo>
                              <a:pt x="7012" y="7466"/>
                            </a:lnTo>
                            <a:lnTo>
                              <a:pt x="6931" y="7511"/>
                            </a:lnTo>
                            <a:lnTo>
                              <a:pt x="6854" y="7560"/>
                            </a:lnTo>
                            <a:lnTo>
                              <a:pt x="6776" y="7602"/>
                            </a:lnTo>
                            <a:lnTo>
                              <a:pt x="6701" y="7651"/>
                            </a:lnTo>
                            <a:lnTo>
                              <a:pt x="6623" y="7696"/>
                            </a:lnTo>
                            <a:lnTo>
                              <a:pt x="6546" y="7737"/>
                            </a:lnTo>
                            <a:lnTo>
                              <a:pt x="6475" y="7786"/>
                            </a:lnTo>
                            <a:lnTo>
                              <a:pt x="6397" y="7828"/>
                            </a:lnTo>
                            <a:lnTo>
                              <a:pt x="6327" y="7873"/>
                            </a:lnTo>
                            <a:lnTo>
                              <a:pt x="6257" y="7916"/>
                            </a:lnTo>
                            <a:lnTo>
                              <a:pt x="6189" y="7961"/>
                            </a:lnTo>
                            <a:lnTo>
                              <a:pt x="6119" y="8003"/>
                            </a:lnTo>
                            <a:lnTo>
                              <a:pt x="6055" y="8049"/>
                            </a:lnTo>
                            <a:lnTo>
                              <a:pt x="5984" y="8091"/>
                            </a:lnTo>
                            <a:lnTo>
                              <a:pt x="5917" y="8133"/>
                            </a:lnTo>
                            <a:lnTo>
                              <a:pt x="5860" y="8179"/>
                            </a:lnTo>
                            <a:lnTo>
                              <a:pt x="5794" y="8221"/>
                            </a:lnTo>
                            <a:lnTo>
                              <a:pt x="5733" y="8265"/>
                            </a:lnTo>
                            <a:lnTo>
                              <a:pt x="5677" y="8307"/>
                            </a:lnTo>
                            <a:lnTo>
                              <a:pt x="5616" y="8350"/>
                            </a:lnTo>
                            <a:lnTo>
                              <a:pt x="5564" y="8389"/>
                            </a:lnTo>
                            <a:lnTo>
                              <a:pt x="5504" y="8431"/>
                            </a:lnTo>
                            <a:lnTo>
                              <a:pt x="5450" y="8476"/>
                            </a:lnTo>
                            <a:lnTo>
                              <a:pt x="5405" y="8515"/>
                            </a:lnTo>
                            <a:lnTo>
                              <a:pt x="5348" y="8558"/>
                            </a:lnTo>
                            <a:lnTo>
                              <a:pt x="5302" y="8596"/>
                            </a:lnTo>
                            <a:lnTo>
                              <a:pt x="5257" y="8638"/>
                            </a:lnTo>
                            <a:lnTo>
                              <a:pt x="5207" y="8677"/>
                            </a:lnTo>
                            <a:lnTo>
                              <a:pt x="5146" y="8741"/>
                            </a:lnTo>
                            <a:lnTo>
                              <a:pt x="5101" y="8813"/>
                            </a:lnTo>
                            <a:lnTo>
                              <a:pt x="5073" y="8884"/>
                            </a:lnTo>
                            <a:lnTo>
                              <a:pt x="5048" y="8965"/>
                            </a:lnTo>
                            <a:lnTo>
                              <a:pt x="5037" y="9040"/>
                            </a:lnTo>
                            <a:lnTo>
                              <a:pt x="5037" y="9121"/>
                            </a:lnTo>
                            <a:lnTo>
                              <a:pt x="5055" y="9199"/>
                            </a:lnTo>
                            <a:lnTo>
                              <a:pt x="5076" y="9280"/>
                            </a:lnTo>
                            <a:lnTo>
                              <a:pt x="5119" y="9351"/>
                            </a:lnTo>
                            <a:lnTo>
                              <a:pt x="5172" y="9419"/>
                            </a:lnTo>
                            <a:lnTo>
                              <a:pt x="5232" y="9481"/>
                            </a:lnTo>
                            <a:lnTo>
                              <a:pt x="5302" y="9529"/>
                            </a:lnTo>
                            <a:lnTo>
                              <a:pt x="5380" y="9568"/>
                            </a:lnTo>
                            <a:lnTo>
                              <a:pt x="5462" y="9600"/>
                            </a:lnTo>
                            <a:lnTo>
                              <a:pt x="5546" y="9617"/>
                            </a:lnTo>
                            <a:lnTo>
                              <a:pt x="5634" y="9620"/>
                            </a:lnTo>
                            <a:lnTo>
                              <a:pt x="5723" y="9617"/>
                            </a:lnTo>
                            <a:lnTo>
                              <a:pt x="5804" y="9600"/>
                            </a:lnTo>
                            <a:lnTo>
                              <a:pt x="5896" y="9568"/>
                            </a:lnTo>
                            <a:lnTo>
                              <a:pt x="5971" y="9529"/>
                            </a:lnTo>
                            <a:lnTo>
                              <a:pt x="5995" y="9513"/>
                            </a:lnTo>
                            <a:lnTo>
                              <a:pt x="6023" y="9497"/>
                            </a:lnTo>
                            <a:lnTo>
                              <a:pt x="6065" y="9471"/>
                            </a:lnTo>
                            <a:lnTo>
                              <a:pt x="6108" y="9442"/>
                            </a:lnTo>
                            <a:lnTo>
                              <a:pt x="6154" y="9409"/>
                            </a:lnTo>
                            <a:lnTo>
                              <a:pt x="6207" y="9377"/>
                            </a:lnTo>
                            <a:lnTo>
                              <a:pt x="6267" y="9338"/>
                            </a:lnTo>
                            <a:lnTo>
                              <a:pt x="6327" y="9302"/>
                            </a:lnTo>
                            <a:lnTo>
                              <a:pt x="6390" y="9250"/>
                            </a:lnTo>
                            <a:lnTo>
                              <a:pt x="6461" y="9208"/>
                            </a:lnTo>
                            <a:lnTo>
                              <a:pt x="6535" y="9160"/>
                            </a:lnTo>
                            <a:lnTo>
                              <a:pt x="6610" y="9111"/>
                            </a:lnTo>
                            <a:lnTo>
                              <a:pt x="6695" y="9056"/>
                            </a:lnTo>
                            <a:lnTo>
                              <a:pt x="6776" y="9001"/>
                            </a:lnTo>
                            <a:lnTo>
                              <a:pt x="6861" y="8943"/>
                            </a:lnTo>
                            <a:lnTo>
                              <a:pt x="6942" y="8884"/>
                            </a:lnTo>
                            <a:lnTo>
                              <a:pt x="7030" y="8829"/>
                            </a:lnTo>
                            <a:lnTo>
                              <a:pt x="7122" y="8765"/>
                            </a:lnTo>
                            <a:lnTo>
                              <a:pt x="7214" y="8703"/>
                            </a:lnTo>
                            <a:lnTo>
                              <a:pt x="7302" y="8644"/>
                            </a:lnTo>
                            <a:lnTo>
                              <a:pt x="7397" y="8580"/>
                            </a:lnTo>
                            <a:lnTo>
                              <a:pt x="7485" y="8519"/>
                            </a:lnTo>
                            <a:lnTo>
                              <a:pt x="7581" y="8453"/>
                            </a:lnTo>
                            <a:lnTo>
                              <a:pt x="7669" y="8389"/>
                            </a:lnTo>
                            <a:lnTo>
                              <a:pt x="7765" y="8324"/>
                            </a:lnTo>
                            <a:lnTo>
                              <a:pt x="7853" y="8265"/>
                            </a:lnTo>
                            <a:lnTo>
                              <a:pt x="7942" y="8204"/>
                            </a:lnTo>
                            <a:lnTo>
                              <a:pt x="8033" y="8139"/>
                            </a:lnTo>
                            <a:lnTo>
                              <a:pt x="8121" y="8081"/>
                            </a:lnTo>
                            <a:lnTo>
                              <a:pt x="8203" y="8019"/>
                            </a:lnTo>
                            <a:lnTo>
                              <a:pt x="8281" y="7964"/>
                            </a:lnTo>
                            <a:lnTo>
                              <a:pt x="8362" y="7912"/>
                            </a:lnTo>
                            <a:lnTo>
                              <a:pt x="8440" y="7851"/>
                            </a:lnTo>
                            <a:lnTo>
                              <a:pt x="8510" y="7803"/>
                            </a:lnTo>
                            <a:lnTo>
                              <a:pt x="8578" y="7748"/>
                            </a:lnTo>
                            <a:lnTo>
                              <a:pt x="8648" y="7705"/>
                            </a:lnTo>
                            <a:lnTo>
                              <a:pt x="8708" y="7657"/>
                            </a:lnTo>
                            <a:lnTo>
                              <a:pt x="8762" y="7611"/>
                            </a:lnTo>
                            <a:lnTo>
                              <a:pt x="8814" y="7576"/>
                            </a:lnTo>
                            <a:lnTo>
                              <a:pt x="8856" y="7537"/>
                            </a:lnTo>
                            <a:lnTo>
                              <a:pt x="8899" y="7505"/>
                            </a:lnTo>
                            <a:lnTo>
                              <a:pt x="8934" y="7472"/>
                            </a:lnTo>
                            <a:lnTo>
                              <a:pt x="8962" y="7446"/>
                            </a:lnTo>
                            <a:lnTo>
                              <a:pt x="9040" y="7361"/>
                            </a:lnTo>
                            <a:lnTo>
                              <a:pt x="9094" y="7264"/>
                            </a:lnTo>
                            <a:lnTo>
                              <a:pt x="9128" y="7161"/>
                            </a:lnTo>
                            <a:lnTo>
                              <a:pt x="9143" y="7060"/>
                            </a:lnTo>
                            <a:lnTo>
                              <a:pt x="9125" y="7177"/>
                            </a:lnTo>
                            <a:lnTo>
                              <a:pt x="9090" y="7281"/>
                            </a:lnTo>
                            <a:lnTo>
                              <a:pt x="9033" y="7361"/>
                            </a:lnTo>
                            <a:lnTo>
                              <a:pt x="8980" y="7423"/>
                            </a:lnTo>
                            <a:lnTo>
                              <a:pt x="8934" y="7466"/>
                            </a:lnTo>
                            <a:lnTo>
                              <a:pt x="8988" y="7433"/>
                            </a:lnTo>
                            <a:lnTo>
                              <a:pt x="9076" y="7384"/>
                            </a:lnTo>
                            <a:lnTo>
                              <a:pt x="9182" y="7329"/>
                            </a:lnTo>
                            <a:lnTo>
                              <a:pt x="9295" y="7278"/>
                            </a:lnTo>
                            <a:lnTo>
                              <a:pt x="9401" y="7215"/>
                            </a:lnTo>
                            <a:lnTo>
                              <a:pt x="9503" y="7167"/>
                            </a:lnTo>
                            <a:lnTo>
                              <a:pt x="9673" y="7087"/>
                            </a:lnTo>
                            <a:lnTo>
                              <a:pt x="9800" y="7021"/>
                            </a:lnTo>
                            <a:lnTo>
                              <a:pt x="9892" y="6973"/>
                            </a:lnTo>
                            <a:lnTo>
                              <a:pt x="9966" y="6927"/>
                            </a:lnTo>
                            <a:lnTo>
                              <a:pt x="10019" y="6892"/>
                            </a:lnTo>
                            <a:lnTo>
                              <a:pt x="10058" y="6853"/>
                            </a:lnTo>
                            <a:lnTo>
                              <a:pt x="10083" y="6836"/>
                            </a:lnTo>
                            <a:lnTo>
                              <a:pt x="10100" y="6814"/>
                            </a:lnTo>
                            <a:lnTo>
                              <a:pt x="10118" y="6792"/>
                            </a:lnTo>
                            <a:lnTo>
                              <a:pt x="10167" y="6723"/>
                            </a:lnTo>
                            <a:lnTo>
                              <a:pt x="10206" y="6645"/>
                            </a:lnTo>
                            <a:lnTo>
                              <a:pt x="10231" y="6565"/>
                            </a:lnTo>
                            <a:lnTo>
                              <a:pt x="10242" y="6490"/>
                            </a:lnTo>
                            <a:lnTo>
                              <a:pt x="10242" y="6405"/>
                            </a:lnTo>
                            <a:lnTo>
                              <a:pt x="10231" y="6325"/>
                            </a:lnTo>
                            <a:lnTo>
                              <a:pt x="10206" y="6250"/>
                            </a:lnTo>
                            <a:lnTo>
                              <a:pt x="10167" y="6179"/>
                            </a:lnTo>
                            <a:lnTo>
                              <a:pt x="10118" y="6108"/>
                            </a:lnTo>
                            <a:lnTo>
                              <a:pt x="10055" y="6043"/>
                            </a:lnTo>
                            <a:lnTo>
                              <a:pt x="9987" y="5995"/>
                            </a:lnTo>
                            <a:lnTo>
                              <a:pt x="9923" y="5956"/>
                            </a:lnTo>
                            <a:lnTo>
                              <a:pt x="9853" y="5929"/>
                            </a:lnTo>
                            <a:lnTo>
                              <a:pt x="9782" y="5907"/>
                            </a:lnTo>
                            <a:lnTo>
                              <a:pt x="9708" y="5897"/>
                            </a:lnTo>
                            <a:lnTo>
                              <a:pt x="9634" y="5897"/>
                            </a:lnTo>
                            <a:lnTo>
                              <a:pt x="9556" y="5907"/>
                            </a:lnTo>
                            <a:lnTo>
                              <a:pt x="9471" y="5923"/>
                            </a:lnTo>
                            <a:lnTo>
                              <a:pt x="9390" y="5952"/>
                            </a:lnTo>
                            <a:lnTo>
                              <a:pt x="9309" y="5995"/>
                            </a:lnTo>
                            <a:lnTo>
                              <a:pt x="9217" y="6040"/>
                            </a:lnTo>
                            <a:lnTo>
                              <a:pt x="9128" y="6098"/>
                            </a:lnTo>
                            <a:lnTo>
                              <a:pt x="9058" y="6153"/>
                            </a:lnTo>
                            <a:lnTo>
                              <a:pt x="8977" y="6211"/>
                            </a:lnTo>
                            <a:lnTo>
                              <a:pt x="8874" y="6289"/>
                            </a:lnTo>
                            <a:lnTo>
                              <a:pt x="8772" y="6371"/>
                            </a:lnTo>
                            <a:lnTo>
                              <a:pt x="7719" y="7174"/>
                            </a:lnTo>
                            <a:lnTo>
                              <a:pt x="6213" y="8356"/>
                            </a:lnTo>
                            <a:lnTo>
                              <a:pt x="6291" y="8301"/>
                            </a:lnTo>
                            <a:lnTo>
                              <a:pt x="6369" y="8265"/>
                            </a:lnTo>
                            <a:lnTo>
                              <a:pt x="6457" y="8237"/>
                            </a:lnTo>
                            <a:lnTo>
                              <a:pt x="6546" y="8227"/>
                            </a:lnTo>
                            <a:lnTo>
                              <a:pt x="6634" y="8221"/>
                            </a:lnTo>
                            <a:lnTo>
                              <a:pt x="6722" y="8230"/>
                            </a:lnTo>
                            <a:lnTo>
                              <a:pt x="6807" y="8253"/>
                            </a:lnTo>
                            <a:lnTo>
                              <a:pt x="6888" y="8285"/>
                            </a:lnTo>
                            <a:lnTo>
                              <a:pt x="6966" y="8331"/>
                            </a:lnTo>
                            <a:lnTo>
                              <a:pt x="7038" y="8389"/>
                            </a:lnTo>
                            <a:lnTo>
                              <a:pt x="7097" y="8453"/>
                            </a:lnTo>
                            <a:lnTo>
                              <a:pt x="7143" y="8525"/>
                            </a:lnTo>
                            <a:lnTo>
                              <a:pt x="7178" y="8599"/>
                            </a:lnTo>
                            <a:lnTo>
                              <a:pt x="7196" y="8683"/>
                            </a:lnTo>
                            <a:lnTo>
                              <a:pt x="7210" y="8765"/>
                            </a:lnTo>
                            <a:lnTo>
                              <a:pt x="7204" y="8846"/>
                            </a:lnTo>
                            <a:lnTo>
                              <a:pt x="7186" y="8926"/>
                            </a:lnTo>
                            <a:lnTo>
                              <a:pt x="7157" y="9001"/>
                            </a:lnTo>
                            <a:lnTo>
                              <a:pt x="7108" y="9072"/>
                            </a:lnTo>
                            <a:lnTo>
                              <a:pt x="7054" y="9144"/>
                            </a:lnTo>
                            <a:lnTo>
                              <a:pt x="7054" y="9137"/>
                            </a:lnTo>
                            <a:lnTo>
                              <a:pt x="7062" y="9137"/>
                            </a:lnTo>
                            <a:lnTo>
                              <a:pt x="7065" y="9128"/>
                            </a:lnTo>
                            <a:lnTo>
                              <a:pt x="7072" y="9121"/>
                            </a:lnTo>
                            <a:lnTo>
                              <a:pt x="7083" y="9111"/>
                            </a:lnTo>
                            <a:lnTo>
                              <a:pt x="7097" y="9102"/>
                            </a:lnTo>
                            <a:lnTo>
                              <a:pt x="7114" y="9086"/>
                            </a:lnTo>
                            <a:lnTo>
                              <a:pt x="7132" y="9063"/>
                            </a:lnTo>
                            <a:lnTo>
                              <a:pt x="7150" y="9047"/>
                            </a:lnTo>
                            <a:lnTo>
                              <a:pt x="7168" y="9023"/>
                            </a:lnTo>
                            <a:lnTo>
                              <a:pt x="7192" y="9001"/>
                            </a:lnTo>
                            <a:lnTo>
                              <a:pt x="7214" y="8981"/>
                            </a:lnTo>
                            <a:lnTo>
                              <a:pt x="7238" y="8953"/>
                            </a:lnTo>
                            <a:lnTo>
                              <a:pt x="7267" y="8926"/>
                            </a:lnTo>
                            <a:lnTo>
                              <a:pt x="7298" y="8895"/>
                            </a:lnTo>
                            <a:lnTo>
                              <a:pt x="7327" y="8868"/>
                            </a:lnTo>
                            <a:lnTo>
                              <a:pt x="7362" y="8829"/>
                            </a:lnTo>
                            <a:lnTo>
                              <a:pt x="7394" y="8797"/>
                            </a:lnTo>
                            <a:lnTo>
                              <a:pt x="7433" y="8758"/>
                            </a:lnTo>
                            <a:lnTo>
                              <a:pt x="7469" y="8719"/>
                            </a:lnTo>
                            <a:lnTo>
                              <a:pt x="7511" y="8683"/>
                            </a:lnTo>
                            <a:lnTo>
                              <a:pt x="7545" y="8638"/>
                            </a:lnTo>
                            <a:lnTo>
                              <a:pt x="7596" y="8596"/>
                            </a:lnTo>
                            <a:lnTo>
                              <a:pt x="7635" y="8550"/>
                            </a:lnTo>
                            <a:lnTo>
                              <a:pt x="7677" y="8509"/>
                            </a:lnTo>
                            <a:lnTo>
                              <a:pt x="7723" y="8461"/>
                            </a:lnTo>
                            <a:lnTo>
                              <a:pt x="7772" y="8415"/>
                            </a:lnTo>
                            <a:lnTo>
                              <a:pt x="7818" y="8363"/>
                            </a:lnTo>
                            <a:lnTo>
                              <a:pt x="7871" y="8315"/>
                            </a:lnTo>
                            <a:lnTo>
                              <a:pt x="7924" y="8259"/>
                            </a:lnTo>
                            <a:lnTo>
                              <a:pt x="7976" y="8204"/>
                            </a:lnTo>
                            <a:lnTo>
                              <a:pt x="8033" y="8149"/>
                            </a:lnTo>
                            <a:lnTo>
                              <a:pt x="8087" y="8097"/>
                            </a:lnTo>
                            <a:lnTo>
                              <a:pt x="8142" y="8036"/>
                            </a:lnTo>
                            <a:lnTo>
                              <a:pt x="8196" y="7980"/>
                            </a:lnTo>
                            <a:lnTo>
                              <a:pt x="8256" y="7922"/>
                            </a:lnTo>
                            <a:lnTo>
                              <a:pt x="8316" y="7864"/>
                            </a:lnTo>
                            <a:lnTo>
                              <a:pt x="8376" y="7803"/>
                            </a:lnTo>
                            <a:lnTo>
                              <a:pt x="8440" y="7737"/>
                            </a:lnTo>
                            <a:lnTo>
                              <a:pt x="8500" y="7673"/>
                            </a:lnTo>
                            <a:lnTo>
                              <a:pt x="8563" y="7608"/>
                            </a:lnTo>
                            <a:lnTo>
                              <a:pt x="8630" y="7543"/>
                            </a:lnTo>
                            <a:lnTo>
                              <a:pt x="8694" y="7478"/>
                            </a:lnTo>
                            <a:lnTo>
                              <a:pt x="8762" y="7411"/>
                            </a:lnTo>
                            <a:lnTo>
                              <a:pt x="8825" y="7342"/>
                            </a:lnTo>
                            <a:lnTo>
                              <a:pt x="8889" y="7278"/>
                            </a:lnTo>
                            <a:lnTo>
                              <a:pt x="8959" y="7206"/>
                            </a:lnTo>
                            <a:lnTo>
                              <a:pt x="9030" y="7135"/>
                            </a:lnTo>
                            <a:lnTo>
                              <a:pt x="9100" y="7063"/>
                            </a:lnTo>
                            <a:lnTo>
                              <a:pt x="9164" y="6993"/>
                            </a:lnTo>
                            <a:lnTo>
                              <a:pt x="9242" y="6924"/>
                            </a:lnTo>
                            <a:lnTo>
                              <a:pt x="9312" y="6847"/>
                            </a:lnTo>
                            <a:lnTo>
                              <a:pt x="9383" y="6775"/>
                            </a:lnTo>
                            <a:lnTo>
                              <a:pt x="9453" y="6701"/>
                            </a:lnTo>
                            <a:lnTo>
                              <a:pt x="9531" y="6629"/>
                            </a:lnTo>
                            <a:lnTo>
                              <a:pt x="9601" y="6555"/>
                            </a:lnTo>
                            <a:lnTo>
                              <a:pt x="9673" y="6477"/>
                            </a:lnTo>
                            <a:lnTo>
                              <a:pt x="9751" y="6402"/>
                            </a:lnTo>
                            <a:lnTo>
                              <a:pt x="9828" y="6325"/>
                            </a:lnTo>
                            <a:lnTo>
                              <a:pt x="9905" y="6250"/>
                            </a:lnTo>
                            <a:lnTo>
                              <a:pt x="9977" y="6173"/>
                            </a:lnTo>
                            <a:lnTo>
                              <a:pt x="10055" y="6092"/>
                            </a:lnTo>
                            <a:lnTo>
                              <a:pt x="10128" y="6017"/>
                            </a:lnTo>
                            <a:lnTo>
                              <a:pt x="10206" y="5940"/>
                            </a:lnTo>
                            <a:lnTo>
                              <a:pt x="10284" y="5865"/>
                            </a:lnTo>
                            <a:lnTo>
                              <a:pt x="10361" y="5783"/>
                            </a:lnTo>
                            <a:lnTo>
                              <a:pt x="10439" y="5706"/>
                            </a:lnTo>
                            <a:lnTo>
                              <a:pt x="10514" y="5625"/>
                            </a:lnTo>
                            <a:lnTo>
                              <a:pt x="10592" y="5550"/>
                            </a:lnTo>
                            <a:lnTo>
                              <a:pt x="10668" y="5473"/>
                            </a:lnTo>
                            <a:lnTo>
                              <a:pt x="10746" y="5392"/>
                            </a:lnTo>
                            <a:lnTo>
                              <a:pt x="10824" y="5318"/>
                            </a:lnTo>
                            <a:lnTo>
                              <a:pt x="10899" y="5236"/>
                            </a:lnTo>
                            <a:lnTo>
                              <a:pt x="10976" y="5158"/>
                            </a:lnTo>
                            <a:lnTo>
                              <a:pt x="11054" y="5084"/>
                            </a:lnTo>
                            <a:lnTo>
                              <a:pt x="11132" y="5003"/>
                            </a:lnTo>
                            <a:lnTo>
                              <a:pt x="11206" y="4928"/>
                            </a:lnTo>
                            <a:lnTo>
                              <a:pt x="11291" y="4854"/>
                            </a:lnTo>
                            <a:lnTo>
                              <a:pt x="11369" y="4776"/>
                            </a:lnTo>
                            <a:lnTo>
                              <a:pt x="11439" y="4702"/>
                            </a:lnTo>
                            <a:lnTo>
                              <a:pt x="11517" y="4621"/>
                            </a:lnTo>
                            <a:lnTo>
                              <a:pt x="11591" y="4549"/>
                            </a:lnTo>
                            <a:lnTo>
                              <a:pt x="11669" y="4469"/>
                            </a:lnTo>
                            <a:lnTo>
                              <a:pt x="11740" y="4390"/>
                            </a:lnTo>
                            <a:lnTo>
                              <a:pt x="11817" y="4320"/>
                            </a:lnTo>
                            <a:lnTo>
                              <a:pt x="11888" y="4245"/>
                            </a:lnTo>
                            <a:lnTo>
                              <a:pt x="11966" y="4167"/>
                            </a:lnTo>
                            <a:lnTo>
                              <a:pt x="12036" y="4099"/>
                            </a:lnTo>
                            <a:lnTo>
                              <a:pt x="12114" y="4021"/>
                            </a:lnTo>
                            <a:lnTo>
                              <a:pt x="12184" y="3950"/>
                            </a:lnTo>
                            <a:lnTo>
                              <a:pt x="12256" y="3875"/>
                            </a:lnTo>
                            <a:lnTo>
                              <a:pt x="12326" y="3804"/>
                            </a:lnTo>
                            <a:lnTo>
                              <a:pt x="12392" y="3733"/>
                            </a:lnTo>
                            <a:lnTo>
                              <a:pt x="12464" y="3665"/>
                            </a:lnTo>
                            <a:lnTo>
                              <a:pt x="12534" y="3593"/>
                            </a:lnTo>
                            <a:lnTo>
                              <a:pt x="12605" y="3529"/>
                            </a:lnTo>
                            <a:lnTo>
                              <a:pt x="12669" y="3458"/>
                            </a:lnTo>
                            <a:lnTo>
                              <a:pt x="12736" y="3393"/>
                            </a:lnTo>
                            <a:lnTo>
                              <a:pt x="12799" y="3328"/>
                            </a:lnTo>
                            <a:lnTo>
                              <a:pt x="12866" y="3263"/>
                            </a:lnTo>
                            <a:lnTo>
                              <a:pt x="12930" y="3198"/>
                            </a:lnTo>
                            <a:lnTo>
                              <a:pt x="12997" y="3131"/>
                            </a:lnTo>
                            <a:lnTo>
                              <a:pt x="13054" y="3071"/>
                            </a:lnTo>
                            <a:lnTo>
                              <a:pt x="13121" y="3007"/>
                            </a:lnTo>
                            <a:lnTo>
                              <a:pt x="13178" y="2946"/>
                            </a:lnTo>
                            <a:lnTo>
                              <a:pt x="13238" y="2888"/>
                            </a:lnTo>
                            <a:lnTo>
                              <a:pt x="13297" y="2832"/>
                            </a:lnTo>
                            <a:lnTo>
                              <a:pt x="13350" y="2774"/>
                            </a:lnTo>
                            <a:lnTo>
                              <a:pt x="13410" y="2719"/>
                            </a:lnTo>
                            <a:lnTo>
                              <a:pt x="13464" y="2661"/>
                            </a:lnTo>
                            <a:lnTo>
                              <a:pt x="13516" y="2612"/>
                            </a:lnTo>
                            <a:lnTo>
                              <a:pt x="13570" y="2557"/>
                            </a:lnTo>
                            <a:lnTo>
                              <a:pt x="13615" y="2509"/>
                            </a:lnTo>
                            <a:lnTo>
                              <a:pt x="13672" y="2460"/>
                            </a:lnTo>
                            <a:lnTo>
                              <a:pt x="13718" y="2404"/>
                            </a:lnTo>
                            <a:lnTo>
                              <a:pt x="13764" y="2360"/>
                            </a:lnTo>
                            <a:lnTo>
                              <a:pt x="13806" y="2310"/>
                            </a:lnTo>
                            <a:lnTo>
                              <a:pt x="13856" y="2269"/>
                            </a:lnTo>
                            <a:lnTo>
                              <a:pt x="13895" y="2227"/>
                            </a:lnTo>
                            <a:lnTo>
                              <a:pt x="13937" y="2188"/>
                            </a:lnTo>
                            <a:lnTo>
                              <a:pt x="13980" y="2148"/>
                            </a:lnTo>
                            <a:lnTo>
                              <a:pt x="14014" y="2106"/>
                            </a:lnTo>
                            <a:lnTo>
                              <a:pt x="14074" y="2042"/>
                            </a:lnTo>
                            <a:lnTo>
                              <a:pt x="14121" y="1964"/>
                            </a:lnTo>
                            <a:lnTo>
                              <a:pt x="14156" y="1883"/>
                            </a:lnTo>
                            <a:lnTo>
                              <a:pt x="14173" y="1802"/>
                            </a:lnTo>
                            <a:lnTo>
                              <a:pt x="14173" y="1714"/>
                            </a:lnTo>
                            <a:lnTo>
                              <a:pt x="14163" y="1627"/>
                            </a:lnTo>
                            <a:lnTo>
                              <a:pt x="14146" y="1545"/>
                            </a:lnTo>
                            <a:lnTo>
                              <a:pt x="14103" y="1472"/>
                            </a:lnTo>
                            <a:lnTo>
                              <a:pt x="14050" y="1393"/>
                            </a:lnTo>
                            <a:lnTo>
                              <a:pt x="13983" y="1329"/>
                            </a:lnTo>
                            <a:lnTo>
                              <a:pt x="13912" y="1274"/>
                            </a:lnTo>
                            <a:lnTo>
                              <a:pt x="13830" y="1232"/>
                            </a:lnTo>
                            <a:lnTo>
                              <a:pt x="13746" y="1205"/>
                            </a:lnTo>
                            <a:lnTo>
                              <a:pt x="13654" y="1190"/>
                            </a:lnTo>
                            <a:lnTo>
                              <a:pt x="13562" y="1183"/>
                            </a:lnTo>
                            <a:lnTo>
                              <a:pt x="13471" y="1190"/>
                            </a:lnTo>
                            <a:lnTo>
                              <a:pt x="13378" y="1209"/>
                            </a:lnTo>
                            <a:lnTo>
                              <a:pt x="13290" y="1248"/>
                            </a:lnTo>
                            <a:lnTo>
                              <a:pt x="13209" y="1287"/>
                            </a:lnTo>
                            <a:lnTo>
                              <a:pt x="13131" y="1323"/>
                            </a:lnTo>
                            <a:lnTo>
                              <a:pt x="13054" y="1368"/>
                            </a:lnTo>
                            <a:lnTo>
                              <a:pt x="12976" y="1410"/>
                            </a:lnTo>
                            <a:lnTo>
                              <a:pt x="12901" y="1448"/>
                            </a:lnTo>
                            <a:lnTo>
                              <a:pt x="12831" y="1491"/>
                            </a:lnTo>
                            <a:lnTo>
                              <a:pt x="12753" y="1539"/>
                            </a:lnTo>
                            <a:lnTo>
                              <a:pt x="12683" y="1585"/>
                            </a:lnTo>
                            <a:lnTo>
                              <a:pt x="12612" y="1627"/>
                            </a:lnTo>
                            <a:lnTo>
                              <a:pt x="12537" y="1675"/>
                            </a:lnTo>
                            <a:lnTo>
                              <a:pt x="12467" y="1721"/>
                            </a:lnTo>
                            <a:lnTo>
                              <a:pt x="12397" y="1769"/>
                            </a:lnTo>
                            <a:lnTo>
                              <a:pt x="12326" y="1818"/>
                            </a:lnTo>
                            <a:lnTo>
                              <a:pt x="12262" y="1867"/>
                            </a:lnTo>
                            <a:lnTo>
                              <a:pt x="12192" y="1915"/>
                            </a:lnTo>
                            <a:lnTo>
                              <a:pt x="12124" y="1964"/>
                            </a:lnTo>
                            <a:lnTo>
                              <a:pt x="12054" y="2012"/>
                            </a:lnTo>
                            <a:lnTo>
                              <a:pt x="11990" y="2067"/>
                            </a:lnTo>
                            <a:lnTo>
                              <a:pt x="11924" y="2116"/>
                            </a:lnTo>
                            <a:lnTo>
                              <a:pt x="11859" y="2172"/>
                            </a:lnTo>
                            <a:lnTo>
                              <a:pt x="11800" y="2220"/>
                            </a:lnTo>
                            <a:lnTo>
                              <a:pt x="11735" y="2275"/>
                            </a:lnTo>
                            <a:lnTo>
                              <a:pt x="11669" y="2327"/>
                            </a:lnTo>
                            <a:lnTo>
                              <a:pt x="11605" y="2382"/>
                            </a:lnTo>
                            <a:lnTo>
                              <a:pt x="11545" y="2430"/>
                            </a:lnTo>
                            <a:lnTo>
                              <a:pt x="11485" y="2485"/>
                            </a:lnTo>
                            <a:lnTo>
                              <a:pt x="11425" y="2540"/>
                            </a:lnTo>
                            <a:lnTo>
                              <a:pt x="11361" y="2595"/>
                            </a:lnTo>
                            <a:lnTo>
                              <a:pt x="11301" y="2648"/>
                            </a:lnTo>
                            <a:lnTo>
                              <a:pt x="11245" y="2703"/>
                            </a:lnTo>
                            <a:lnTo>
                              <a:pt x="11185" y="2758"/>
                            </a:lnTo>
                            <a:lnTo>
                              <a:pt x="11125" y="2816"/>
                            </a:lnTo>
                            <a:lnTo>
                              <a:pt x="11065" y="2871"/>
                            </a:lnTo>
                            <a:lnTo>
                              <a:pt x="11011" y="2926"/>
                            </a:lnTo>
                            <a:lnTo>
                              <a:pt x="10951" y="2979"/>
                            </a:lnTo>
                            <a:lnTo>
                              <a:pt x="10895" y="3033"/>
                            </a:lnTo>
                            <a:lnTo>
                              <a:pt x="10835" y="3088"/>
                            </a:lnTo>
                            <a:lnTo>
                              <a:pt x="10782" y="3146"/>
                            </a:lnTo>
                            <a:lnTo>
                              <a:pt x="10722" y="3201"/>
                            </a:lnTo>
                            <a:lnTo>
                              <a:pt x="10668" y="3256"/>
                            </a:lnTo>
                            <a:lnTo>
                              <a:pt x="10616" y="3311"/>
                            </a:lnTo>
                            <a:lnTo>
                              <a:pt x="10566" y="3353"/>
                            </a:lnTo>
                            <a:lnTo>
                              <a:pt x="10514" y="3399"/>
                            </a:lnTo>
                            <a:lnTo>
                              <a:pt x="10460" y="3435"/>
                            </a:lnTo>
                            <a:lnTo>
                              <a:pt x="10397" y="3480"/>
                            </a:lnTo>
                            <a:lnTo>
                              <a:pt x="10330" y="3522"/>
                            </a:lnTo>
                            <a:lnTo>
                              <a:pt x="10259" y="3561"/>
                            </a:lnTo>
                            <a:lnTo>
                              <a:pt x="10185" y="3604"/>
                            </a:lnTo>
                            <a:lnTo>
                              <a:pt x="10107" y="3649"/>
                            </a:lnTo>
                            <a:lnTo>
                              <a:pt x="10022" y="3684"/>
                            </a:lnTo>
                            <a:lnTo>
                              <a:pt x="9941" y="3723"/>
                            </a:lnTo>
                            <a:lnTo>
                              <a:pt x="9853" y="3765"/>
                            </a:lnTo>
                            <a:lnTo>
                              <a:pt x="9769" y="3804"/>
                            </a:lnTo>
                            <a:lnTo>
                              <a:pt x="9679" y="3843"/>
                            </a:lnTo>
                            <a:lnTo>
                              <a:pt x="9591" y="3881"/>
                            </a:lnTo>
                            <a:lnTo>
                              <a:pt x="9496" y="3917"/>
                            </a:lnTo>
                            <a:lnTo>
                              <a:pt x="9408" y="3956"/>
                            </a:lnTo>
                            <a:lnTo>
                              <a:pt x="9320" y="3996"/>
                            </a:lnTo>
                            <a:lnTo>
                              <a:pt x="9235" y="4035"/>
                            </a:lnTo>
                            <a:lnTo>
                              <a:pt x="9146" y="4069"/>
                            </a:lnTo>
                            <a:lnTo>
                              <a:pt x="9065" y="4109"/>
                            </a:lnTo>
                            <a:lnTo>
                              <a:pt x="8977" y="4141"/>
                            </a:lnTo>
                            <a:lnTo>
                              <a:pt x="8892" y="4180"/>
                            </a:lnTo>
                            <a:lnTo>
                              <a:pt x="8814" y="4219"/>
                            </a:lnTo>
                            <a:lnTo>
                              <a:pt x="8729" y="4254"/>
                            </a:lnTo>
                            <a:lnTo>
                              <a:pt x="8655" y="4293"/>
                            </a:lnTo>
                            <a:lnTo>
                              <a:pt x="8578" y="4332"/>
                            </a:lnTo>
                            <a:lnTo>
                              <a:pt x="8492" y="4368"/>
                            </a:lnTo>
                            <a:lnTo>
                              <a:pt x="8415" y="4406"/>
                            </a:lnTo>
                            <a:lnTo>
                              <a:pt x="8344" y="4452"/>
                            </a:lnTo>
                            <a:lnTo>
                              <a:pt x="8274" y="4488"/>
                            </a:lnTo>
                            <a:lnTo>
                              <a:pt x="8203" y="4533"/>
                            </a:lnTo>
                            <a:lnTo>
                              <a:pt x="8132" y="4575"/>
                            </a:lnTo>
                            <a:lnTo>
                              <a:pt x="8069" y="4621"/>
                            </a:lnTo>
                            <a:lnTo>
                              <a:pt x="8002" y="4663"/>
                            </a:lnTo>
                            <a:lnTo>
                              <a:pt x="7942" y="4712"/>
                            </a:lnTo>
                            <a:lnTo>
                              <a:pt x="7885" y="4754"/>
                            </a:lnTo>
                            <a:lnTo>
                              <a:pt x="7871" y="4766"/>
                            </a:lnTo>
                            <a:lnTo>
                              <a:pt x="7867" y="4770"/>
                            </a:lnTo>
                            <a:lnTo>
                              <a:pt x="7861" y="4776"/>
                            </a:lnTo>
                            <a:lnTo>
                              <a:pt x="7807" y="4821"/>
                            </a:lnTo>
                            <a:lnTo>
                              <a:pt x="7758" y="4870"/>
                            </a:lnTo>
                            <a:lnTo>
                              <a:pt x="7711" y="4912"/>
                            </a:lnTo>
                            <a:lnTo>
                              <a:pt x="7659" y="4954"/>
                            </a:lnTo>
                            <a:lnTo>
                              <a:pt x="7606" y="5000"/>
                            </a:lnTo>
                            <a:lnTo>
                              <a:pt x="7553" y="5045"/>
                            </a:lnTo>
                            <a:lnTo>
                              <a:pt x="7503" y="5087"/>
                            </a:lnTo>
                            <a:lnTo>
                              <a:pt x="7451" y="5136"/>
                            </a:lnTo>
                            <a:lnTo>
                              <a:pt x="7397" y="5181"/>
                            </a:lnTo>
                            <a:lnTo>
                              <a:pt x="7345" y="5230"/>
                            </a:lnTo>
                            <a:lnTo>
                              <a:pt x="7292" y="5272"/>
                            </a:lnTo>
                            <a:lnTo>
                              <a:pt x="7238" y="5318"/>
                            </a:lnTo>
                            <a:lnTo>
                              <a:pt x="7178" y="5366"/>
                            </a:lnTo>
                            <a:lnTo>
                              <a:pt x="7126" y="5415"/>
                            </a:lnTo>
                            <a:lnTo>
                              <a:pt x="7065" y="5457"/>
                            </a:lnTo>
                            <a:lnTo>
                              <a:pt x="7012" y="5506"/>
                            </a:lnTo>
                            <a:lnTo>
                              <a:pt x="6956" y="5550"/>
                            </a:lnTo>
                            <a:lnTo>
                              <a:pt x="6903" y="5600"/>
                            </a:lnTo>
                            <a:lnTo>
                              <a:pt x="6843" y="5648"/>
                            </a:lnTo>
                            <a:lnTo>
                              <a:pt x="6783" y="5697"/>
                            </a:lnTo>
                            <a:lnTo>
                              <a:pt x="6722" y="5738"/>
                            </a:lnTo>
                            <a:lnTo>
                              <a:pt x="6662" y="5787"/>
                            </a:lnTo>
                            <a:lnTo>
                              <a:pt x="6607" y="5839"/>
                            </a:lnTo>
                            <a:lnTo>
                              <a:pt x="6546" y="5888"/>
                            </a:lnTo>
                            <a:lnTo>
                              <a:pt x="6486" y="5929"/>
                            </a:lnTo>
                            <a:lnTo>
                              <a:pt x="6426" y="5978"/>
                            </a:lnTo>
                            <a:lnTo>
                              <a:pt x="6363" y="6026"/>
                            </a:lnTo>
                            <a:lnTo>
                              <a:pt x="6303" y="6076"/>
                            </a:lnTo>
                            <a:lnTo>
                              <a:pt x="6239" y="6125"/>
                            </a:lnTo>
                            <a:lnTo>
                              <a:pt x="6179" y="6169"/>
                            </a:lnTo>
                            <a:lnTo>
                              <a:pt x="6115" y="6219"/>
                            </a:lnTo>
                            <a:lnTo>
                              <a:pt x="6047" y="6267"/>
                            </a:lnTo>
                            <a:lnTo>
                              <a:pt x="5987" y="6316"/>
                            </a:lnTo>
                            <a:lnTo>
                              <a:pt x="5924" y="6364"/>
                            </a:lnTo>
                            <a:lnTo>
                              <a:pt x="5860" y="6413"/>
                            </a:lnTo>
                            <a:lnTo>
                              <a:pt x="5794" y="6461"/>
                            </a:lnTo>
                            <a:lnTo>
                              <a:pt x="5723" y="6510"/>
                            </a:lnTo>
                            <a:lnTo>
                              <a:pt x="5663" y="6559"/>
                            </a:lnTo>
                            <a:lnTo>
                              <a:pt x="5592" y="6607"/>
                            </a:lnTo>
                            <a:lnTo>
                              <a:pt x="5528" y="6659"/>
                            </a:lnTo>
                            <a:lnTo>
                              <a:pt x="5458" y="6707"/>
                            </a:lnTo>
                            <a:lnTo>
                              <a:pt x="5390" y="6759"/>
                            </a:lnTo>
                            <a:lnTo>
                              <a:pt x="5320" y="6808"/>
                            </a:lnTo>
                            <a:lnTo>
                              <a:pt x="5257" y="6860"/>
                            </a:lnTo>
                            <a:lnTo>
                              <a:pt x="5185" y="6908"/>
                            </a:lnTo>
                            <a:lnTo>
                              <a:pt x="5112" y="6957"/>
                            </a:lnTo>
                            <a:lnTo>
                              <a:pt x="5041" y="7005"/>
                            </a:lnTo>
                            <a:lnTo>
                              <a:pt x="4970" y="7054"/>
                            </a:lnTo>
                            <a:lnTo>
                              <a:pt x="4899" y="7109"/>
                            </a:lnTo>
                            <a:lnTo>
                              <a:pt x="4836" y="7157"/>
                            </a:lnTo>
                            <a:lnTo>
                              <a:pt x="4759" y="7206"/>
                            </a:lnTo>
                            <a:lnTo>
                              <a:pt x="4688" y="7255"/>
                            </a:lnTo>
                            <a:lnTo>
                              <a:pt x="4617" y="7309"/>
                            </a:lnTo>
                            <a:lnTo>
                              <a:pt x="4539" y="7358"/>
                            </a:lnTo>
                            <a:lnTo>
                              <a:pt x="4468" y="7407"/>
                            </a:lnTo>
                            <a:lnTo>
                              <a:pt x="4391" y="7463"/>
                            </a:lnTo>
                            <a:lnTo>
                              <a:pt x="4320" y="7511"/>
                            </a:lnTo>
                            <a:lnTo>
                              <a:pt x="4242" y="7560"/>
                            </a:lnTo>
                            <a:lnTo>
                              <a:pt x="4165" y="7611"/>
                            </a:lnTo>
                            <a:lnTo>
                              <a:pt x="4094" y="7663"/>
                            </a:lnTo>
                            <a:lnTo>
                              <a:pt x="4016" y="7715"/>
                            </a:lnTo>
                            <a:lnTo>
                              <a:pt x="3942" y="7764"/>
                            </a:lnTo>
                            <a:lnTo>
                              <a:pt x="3865" y="7812"/>
                            </a:lnTo>
                            <a:lnTo>
                              <a:pt x="3787" y="7867"/>
                            </a:lnTo>
                            <a:lnTo>
                              <a:pt x="3709" y="7916"/>
                            </a:lnTo>
                            <a:lnTo>
                              <a:pt x="3627" y="7971"/>
                            </a:lnTo>
                            <a:lnTo>
                              <a:pt x="3550" y="8019"/>
                            </a:lnTo>
                            <a:lnTo>
                              <a:pt x="3472" y="8074"/>
                            </a:lnTo>
                            <a:lnTo>
                              <a:pt x="3391" y="8123"/>
                            </a:lnTo>
                            <a:lnTo>
                              <a:pt x="3313" y="8179"/>
                            </a:lnTo>
                            <a:lnTo>
                              <a:pt x="3232" y="8227"/>
                            </a:lnTo>
                            <a:lnTo>
                              <a:pt x="3147" y="8282"/>
                            </a:lnTo>
                            <a:lnTo>
                              <a:pt x="3069" y="8334"/>
                            </a:lnTo>
                            <a:lnTo>
                              <a:pt x="2988" y="8382"/>
                            </a:lnTo>
                            <a:lnTo>
                              <a:pt x="2903" y="8437"/>
                            </a:lnTo>
                            <a:lnTo>
                              <a:pt x="2981" y="8398"/>
                            </a:lnTo>
                            <a:lnTo>
                              <a:pt x="3059" y="8367"/>
                            </a:lnTo>
                            <a:lnTo>
                              <a:pt x="3141" y="8347"/>
                            </a:lnTo>
                            <a:lnTo>
                              <a:pt x="3219" y="8340"/>
                            </a:lnTo>
                            <a:lnTo>
                              <a:pt x="3303" y="8340"/>
                            </a:lnTo>
                            <a:lnTo>
                              <a:pt x="3384" y="8350"/>
                            </a:lnTo>
                            <a:lnTo>
                              <a:pt x="3461" y="8373"/>
                            </a:lnTo>
                            <a:lnTo>
                              <a:pt x="3539" y="8405"/>
                            </a:lnTo>
                            <a:lnTo>
                              <a:pt x="3603" y="8450"/>
                            </a:lnTo>
                            <a:lnTo>
                              <a:pt x="3671" y="8499"/>
                            </a:lnTo>
                            <a:lnTo>
                              <a:pt x="3726" y="8558"/>
                            </a:lnTo>
                            <a:lnTo>
                              <a:pt x="3777" y="8622"/>
                            </a:lnTo>
                            <a:lnTo>
                              <a:pt x="3811" y="8693"/>
                            </a:lnTo>
                            <a:lnTo>
                              <a:pt x="3832" y="8768"/>
                            </a:lnTo>
                            <a:lnTo>
                              <a:pt x="3847" y="8840"/>
                            </a:lnTo>
                            <a:lnTo>
                              <a:pt x="3850" y="8917"/>
                            </a:lnTo>
                            <a:lnTo>
                              <a:pt x="3840" y="8992"/>
                            </a:lnTo>
                            <a:lnTo>
                              <a:pt x="3822" y="9063"/>
                            </a:lnTo>
                            <a:lnTo>
                              <a:pt x="3794" y="9134"/>
                            </a:lnTo>
                            <a:lnTo>
                              <a:pt x="3752" y="9199"/>
                            </a:lnTo>
                            <a:lnTo>
                              <a:pt x="3699" y="9263"/>
                            </a:lnTo>
                            <a:lnTo>
                              <a:pt x="3632" y="9319"/>
                            </a:lnTo>
                            <a:lnTo>
                              <a:pt x="3674" y="9286"/>
                            </a:lnTo>
                            <a:lnTo>
                              <a:pt x="3726" y="9247"/>
                            </a:lnTo>
                            <a:lnTo>
                              <a:pt x="3780" y="9202"/>
                            </a:lnTo>
                            <a:lnTo>
                              <a:pt x="3847" y="9160"/>
                            </a:lnTo>
                            <a:lnTo>
                              <a:pt x="3910" y="9111"/>
                            </a:lnTo>
                            <a:lnTo>
                              <a:pt x="3981" y="9063"/>
                            </a:lnTo>
                            <a:lnTo>
                              <a:pt x="4058" y="9008"/>
                            </a:lnTo>
                            <a:lnTo>
                              <a:pt x="4136" y="8953"/>
                            </a:lnTo>
                            <a:lnTo>
                              <a:pt x="4218" y="8895"/>
                            </a:lnTo>
                            <a:lnTo>
                              <a:pt x="4302" y="8832"/>
                            </a:lnTo>
                            <a:lnTo>
                              <a:pt x="4384" y="8774"/>
                            </a:lnTo>
                            <a:lnTo>
                              <a:pt x="4473" y="8716"/>
                            </a:lnTo>
                            <a:lnTo>
                              <a:pt x="4564" y="8652"/>
                            </a:lnTo>
                            <a:lnTo>
                              <a:pt x="4652" y="8589"/>
                            </a:lnTo>
                            <a:lnTo>
                              <a:pt x="4741" y="8525"/>
                            </a:lnTo>
                            <a:lnTo>
                              <a:pt x="4836" y="8461"/>
                            </a:lnTo>
                            <a:lnTo>
                              <a:pt x="4925" y="8395"/>
                            </a:lnTo>
                            <a:lnTo>
                              <a:pt x="5013" y="8334"/>
                            </a:lnTo>
                            <a:lnTo>
                              <a:pt x="5094" y="8269"/>
                            </a:lnTo>
                            <a:lnTo>
                              <a:pt x="5185" y="8213"/>
                            </a:lnTo>
                            <a:lnTo>
                              <a:pt x="5260" y="8155"/>
                            </a:lnTo>
                            <a:lnTo>
                              <a:pt x="5338" y="8100"/>
                            </a:lnTo>
                            <a:lnTo>
                              <a:pt x="5408" y="8049"/>
                            </a:lnTo>
                            <a:lnTo>
                              <a:pt x="5479" y="7997"/>
                            </a:lnTo>
                            <a:lnTo>
                              <a:pt x="5546" y="7955"/>
                            </a:lnTo>
                            <a:lnTo>
                              <a:pt x="5600" y="7912"/>
                            </a:lnTo>
                            <a:lnTo>
                              <a:pt x="5652" y="7873"/>
                            </a:lnTo>
                            <a:lnTo>
                              <a:pt x="5698" y="7834"/>
                            </a:lnTo>
                            <a:lnTo>
                              <a:pt x="5712" y="7825"/>
                            </a:lnTo>
                            <a:lnTo>
                              <a:pt x="5730" y="7812"/>
                            </a:lnTo>
                            <a:lnTo>
                              <a:pt x="5740" y="7803"/>
                            </a:lnTo>
                            <a:lnTo>
                              <a:pt x="5794" y="7754"/>
                            </a:lnTo>
                            <a:lnTo>
                              <a:pt x="5860" y="7712"/>
                            </a:lnTo>
                            <a:lnTo>
                              <a:pt x="5924" y="7663"/>
                            </a:lnTo>
                            <a:lnTo>
                              <a:pt x="6002" y="7608"/>
                            </a:lnTo>
                            <a:lnTo>
                              <a:pt x="6083" y="7560"/>
                            </a:lnTo>
                            <a:lnTo>
                              <a:pt x="6171" y="7505"/>
                            </a:lnTo>
                            <a:lnTo>
                              <a:pt x="6264" y="7449"/>
                            </a:lnTo>
                            <a:lnTo>
                              <a:pt x="6352" y="7400"/>
                            </a:lnTo>
                            <a:lnTo>
                              <a:pt x="6444" y="7345"/>
                            </a:lnTo>
                            <a:lnTo>
                              <a:pt x="6529" y="7297"/>
                            </a:lnTo>
                            <a:lnTo>
                              <a:pt x="6607" y="7248"/>
                            </a:lnTo>
                            <a:lnTo>
                              <a:pt x="6688" y="7200"/>
                            </a:lnTo>
                            <a:lnTo>
                              <a:pt x="6773" y="7151"/>
                            </a:lnTo>
                            <a:lnTo>
                              <a:pt x="6854" y="7102"/>
                            </a:lnTo>
                            <a:lnTo>
                              <a:pt x="6931" y="7054"/>
                            </a:lnTo>
                            <a:lnTo>
                              <a:pt x="7009" y="6999"/>
                            </a:lnTo>
                            <a:lnTo>
                              <a:pt x="7083" y="6950"/>
                            </a:lnTo>
                            <a:lnTo>
                              <a:pt x="7157" y="6895"/>
                            </a:lnTo>
                            <a:lnTo>
                              <a:pt x="7228" y="6847"/>
                            </a:lnTo>
                            <a:lnTo>
                              <a:pt x="7292" y="6792"/>
                            </a:lnTo>
                            <a:lnTo>
                              <a:pt x="7358" y="6739"/>
                            </a:lnTo>
                            <a:lnTo>
                              <a:pt x="7345" y="6743"/>
                            </a:lnTo>
                            <a:lnTo>
                              <a:pt x="7341" y="6750"/>
                            </a:lnTo>
                            <a:lnTo>
                              <a:pt x="7327" y="6759"/>
                            </a:lnTo>
                            <a:lnTo>
                              <a:pt x="7397" y="6701"/>
                            </a:lnTo>
                            <a:lnTo>
                              <a:pt x="7469" y="6642"/>
                            </a:lnTo>
                            <a:lnTo>
                              <a:pt x="7539" y="6587"/>
                            </a:lnTo>
                            <a:lnTo>
                              <a:pt x="7606" y="6526"/>
                            </a:lnTo>
                            <a:lnTo>
                              <a:pt x="7677" y="6474"/>
                            </a:lnTo>
                            <a:lnTo>
                              <a:pt x="7740" y="6413"/>
                            </a:lnTo>
                            <a:lnTo>
                              <a:pt x="7814" y="6357"/>
                            </a:lnTo>
                            <a:lnTo>
                              <a:pt x="7878" y="6299"/>
                            </a:lnTo>
                            <a:lnTo>
                              <a:pt x="7942" y="6244"/>
                            </a:lnTo>
                            <a:lnTo>
                              <a:pt x="8009" y="6186"/>
                            </a:lnTo>
                            <a:lnTo>
                              <a:pt x="8072" y="6131"/>
                            </a:lnTo>
                            <a:lnTo>
                              <a:pt x="8139" y="6072"/>
                            </a:lnTo>
                            <a:lnTo>
                              <a:pt x="8203" y="6017"/>
                            </a:lnTo>
                            <a:lnTo>
                              <a:pt x="8271" y="5956"/>
                            </a:lnTo>
                            <a:lnTo>
                              <a:pt x="8334" y="5904"/>
                            </a:lnTo>
                            <a:lnTo>
                              <a:pt x="8394" y="5843"/>
                            </a:lnTo>
                            <a:lnTo>
                              <a:pt x="8458" y="5787"/>
                            </a:lnTo>
                            <a:lnTo>
                              <a:pt x="8518" y="5735"/>
                            </a:lnTo>
                            <a:lnTo>
                              <a:pt x="8581" y="5674"/>
                            </a:lnTo>
                            <a:lnTo>
                              <a:pt x="8641" y="5622"/>
                            </a:lnTo>
                            <a:lnTo>
                              <a:pt x="8702" y="5561"/>
                            </a:lnTo>
                            <a:lnTo>
                              <a:pt x="8765" y="5506"/>
                            </a:lnTo>
                            <a:lnTo>
                              <a:pt x="8825" y="5447"/>
                            </a:lnTo>
                            <a:lnTo>
                              <a:pt x="8874" y="5392"/>
                            </a:lnTo>
                            <a:lnTo>
                              <a:pt x="8941" y="5337"/>
                            </a:lnTo>
                            <a:lnTo>
                              <a:pt x="8994" y="5279"/>
                            </a:lnTo>
                            <a:lnTo>
                              <a:pt x="9051" y="5224"/>
                            </a:lnTo>
                            <a:lnTo>
                              <a:pt x="9111" y="5165"/>
                            </a:lnTo>
                            <a:lnTo>
                              <a:pt x="9170" y="5110"/>
                            </a:lnTo>
                            <a:lnTo>
                              <a:pt x="9231" y="5055"/>
                            </a:lnTo>
                            <a:lnTo>
                              <a:pt x="9284" y="5000"/>
                            </a:lnTo>
                            <a:lnTo>
                              <a:pt x="9344" y="4945"/>
                            </a:lnTo>
                            <a:lnTo>
                              <a:pt x="9398" y="4890"/>
                            </a:lnTo>
                            <a:lnTo>
                              <a:pt x="9453" y="4831"/>
                            </a:lnTo>
                            <a:lnTo>
                              <a:pt x="9510" y="4776"/>
                            </a:lnTo>
                            <a:lnTo>
                              <a:pt x="9567" y="4721"/>
                            </a:lnTo>
                            <a:lnTo>
                              <a:pt x="9619" y="4663"/>
                            </a:lnTo>
                            <a:lnTo>
                              <a:pt x="9673" y="4608"/>
                            </a:lnTo>
                            <a:lnTo>
                              <a:pt x="9733" y="4549"/>
                            </a:lnTo>
                            <a:lnTo>
                              <a:pt x="9785" y="4494"/>
                            </a:lnTo>
                            <a:lnTo>
                              <a:pt x="9839" y="4439"/>
                            </a:lnTo>
                            <a:lnTo>
                              <a:pt x="9892" y="4381"/>
                            </a:lnTo>
                            <a:lnTo>
                              <a:pt x="9948" y="4326"/>
                            </a:lnTo>
                            <a:lnTo>
                              <a:pt x="10005" y="4268"/>
                            </a:lnTo>
                            <a:lnTo>
                              <a:pt x="10058" y="4212"/>
                            </a:lnTo>
                            <a:lnTo>
                              <a:pt x="10107" y="4151"/>
                            </a:lnTo>
                            <a:lnTo>
                              <a:pt x="10167" y="4099"/>
                            </a:lnTo>
                            <a:lnTo>
                              <a:pt x="10213" y="4038"/>
                            </a:lnTo>
                            <a:lnTo>
                              <a:pt x="10266" y="3983"/>
                            </a:lnTo>
                            <a:lnTo>
                              <a:pt x="10319" y="3924"/>
                            </a:lnTo>
                            <a:lnTo>
                              <a:pt x="10372" y="3869"/>
                            </a:lnTo>
                            <a:lnTo>
                              <a:pt x="10426" y="3811"/>
                            </a:lnTo>
                            <a:lnTo>
                              <a:pt x="10478" y="3756"/>
                            </a:lnTo>
                            <a:lnTo>
                              <a:pt x="10531" y="3698"/>
                            </a:lnTo>
                            <a:lnTo>
                              <a:pt x="10580" y="3642"/>
                            </a:lnTo>
                            <a:lnTo>
                              <a:pt x="10634" y="3580"/>
                            </a:lnTo>
                            <a:lnTo>
                              <a:pt x="10686" y="3522"/>
                            </a:lnTo>
                            <a:lnTo>
                              <a:pt x="10733" y="3467"/>
                            </a:lnTo>
                            <a:lnTo>
                              <a:pt x="10785" y="3409"/>
                            </a:lnTo>
                            <a:lnTo>
                              <a:pt x="10842" y="3347"/>
                            </a:lnTo>
                            <a:lnTo>
                              <a:pt x="10895" y="3295"/>
                            </a:lnTo>
                            <a:lnTo>
                              <a:pt x="10941" y="3234"/>
                            </a:lnTo>
                            <a:lnTo>
                              <a:pt x="10994" y="3176"/>
                            </a:lnTo>
                            <a:lnTo>
                              <a:pt x="11047" y="3120"/>
                            </a:lnTo>
                            <a:lnTo>
                              <a:pt x="11096" y="3062"/>
                            </a:lnTo>
                            <a:lnTo>
                              <a:pt x="11150" y="3001"/>
                            </a:lnTo>
                            <a:lnTo>
                              <a:pt x="11195" y="2943"/>
                            </a:lnTo>
                            <a:lnTo>
                              <a:pt x="11249" y="2880"/>
                            </a:lnTo>
                            <a:lnTo>
                              <a:pt x="11301" y="2822"/>
                            </a:lnTo>
                            <a:lnTo>
                              <a:pt x="11351" y="2761"/>
                            </a:lnTo>
                            <a:lnTo>
                              <a:pt x="11403" y="2709"/>
                            </a:lnTo>
                            <a:lnTo>
                              <a:pt x="11457" y="2648"/>
                            </a:lnTo>
                            <a:lnTo>
                              <a:pt x="11503" y="2589"/>
                            </a:lnTo>
                            <a:lnTo>
                              <a:pt x="11556" y="2528"/>
                            </a:lnTo>
                            <a:lnTo>
                              <a:pt x="11605" y="2469"/>
                            </a:lnTo>
                            <a:lnTo>
                              <a:pt x="11659" y="2411"/>
                            </a:lnTo>
                            <a:lnTo>
                              <a:pt x="11711" y="2349"/>
                            </a:lnTo>
                            <a:lnTo>
                              <a:pt x="11757" y="2291"/>
                            </a:lnTo>
                            <a:lnTo>
                              <a:pt x="11810" y="2227"/>
                            </a:lnTo>
                            <a:lnTo>
                              <a:pt x="11863" y="2164"/>
                            </a:lnTo>
                            <a:lnTo>
                              <a:pt x="11919" y="2106"/>
                            </a:lnTo>
                            <a:lnTo>
                              <a:pt x="11966" y="2045"/>
                            </a:lnTo>
                            <a:lnTo>
                              <a:pt x="12018" y="1987"/>
                            </a:lnTo>
                            <a:lnTo>
                              <a:pt x="12072" y="1921"/>
                            </a:lnTo>
                            <a:lnTo>
                              <a:pt x="12124" y="1860"/>
                            </a:lnTo>
                            <a:lnTo>
                              <a:pt x="12174" y="1802"/>
                            </a:lnTo>
                            <a:lnTo>
                              <a:pt x="12227" y="1737"/>
                            </a:lnTo>
                            <a:lnTo>
                              <a:pt x="12280" y="1675"/>
                            </a:lnTo>
                            <a:lnTo>
                              <a:pt x="12947" y="889"/>
                            </a:lnTo>
                            <a:lnTo>
                              <a:pt x="13001" y="814"/>
                            </a:lnTo>
                            <a:lnTo>
                              <a:pt x="13043" y="732"/>
                            </a:lnTo>
                            <a:lnTo>
                              <a:pt x="13067" y="652"/>
                            </a:lnTo>
                            <a:lnTo>
                              <a:pt x="13079" y="564"/>
                            </a:lnTo>
                            <a:lnTo>
                              <a:pt x="13071" y="477"/>
                            </a:lnTo>
                            <a:lnTo>
                              <a:pt x="13054" y="389"/>
                            </a:lnTo>
                            <a:lnTo>
                              <a:pt x="13018" y="308"/>
                            </a:lnTo>
                            <a:lnTo>
                              <a:pt x="12965" y="234"/>
                            </a:lnTo>
                            <a:lnTo>
                              <a:pt x="12905" y="162"/>
                            </a:lnTo>
                            <a:lnTo>
                              <a:pt x="12835" y="107"/>
                            </a:lnTo>
                            <a:lnTo>
                              <a:pt x="12753" y="59"/>
                            </a:lnTo>
                            <a:lnTo>
                              <a:pt x="12665" y="27"/>
                            </a:lnTo>
                            <a:lnTo>
                              <a:pt x="12576" y="4"/>
                            </a:lnTo>
                            <a:lnTo>
                              <a:pt x="12474" y="0"/>
                            </a:lnTo>
                            <a:lnTo>
                              <a:pt x="12340" y="10"/>
                            </a:lnTo>
                            <a:lnTo>
                              <a:pt x="12213" y="36"/>
                            </a:lnTo>
                            <a:lnTo>
                              <a:pt x="12114" y="75"/>
                            </a:lnTo>
                            <a:lnTo>
                              <a:pt x="12029" y="117"/>
                            </a:lnTo>
                            <a:lnTo>
                              <a:pt x="11966" y="162"/>
                            </a:lnTo>
                            <a:lnTo>
                              <a:pt x="11919" y="201"/>
                            </a:lnTo>
                            <a:lnTo>
                              <a:pt x="11912" y="201"/>
                            </a:lnTo>
                            <a:lnTo>
                              <a:pt x="11912" y="204"/>
                            </a:lnTo>
                            <a:lnTo>
                              <a:pt x="11906" y="204"/>
                            </a:lnTo>
                            <a:lnTo>
                              <a:pt x="11958" y="173"/>
                            </a:lnTo>
                            <a:lnTo>
                              <a:pt x="12061" y="133"/>
                            </a:lnTo>
                            <a:lnTo>
                              <a:pt x="12213" y="117"/>
                            </a:lnTo>
                            <a:lnTo>
                              <a:pt x="12096" y="124"/>
                            </a:lnTo>
                            <a:lnTo>
                              <a:pt x="11990" y="156"/>
                            </a:lnTo>
                            <a:lnTo>
                              <a:pt x="11880" y="204"/>
                            </a:lnTo>
                            <a:lnTo>
                              <a:pt x="11792" y="276"/>
                            </a:lnTo>
                            <a:lnTo>
                              <a:pt x="11729" y="331"/>
                            </a:lnTo>
                            <a:lnTo>
                              <a:pt x="11662" y="386"/>
                            </a:lnTo>
                            <a:lnTo>
                              <a:pt x="11605" y="438"/>
                            </a:lnTo>
                            <a:lnTo>
                              <a:pt x="11538" y="493"/>
                            </a:lnTo>
                            <a:lnTo>
                              <a:pt x="11467" y="541"/>
                            </a:lnTo>
                            <a:lnTo>
                              <a:pt x="11403" y="587"/>
                            </a:lnTo>
                            <a:lnTo>
                              <a:pt x="11337" y="635"/>
                            </a:lnTo>
                            <a:lnTo>
                              <a:pt x="11266" y="684"/>
                            </a:lnTo>
                            <a:lnTo>
                              <a:pt x="11195" y="726"/>
                            </a:lnTo>
                            <a:lnTo>
                              <a:pt x="11125" y="775"/>
                            </a:lnTo>
                            <a:lnTo>
                              <a:pt x="11054" y="820"/>
                            </a:lnTo>
                            <a:lnTo>
                              <a:pt x="10984" y="862"/>
                            </a:lnTo>
                            <a:lnTo>
                              <a:pt x="10906" y="904"/>
                            </a:lnTo>
                            <a:lnTo>
                              <a:pt x="10835" y="950"/>
                            </a:lnTo>
                            <a:lnTo>
                              <a:pt x="10758" y="992"/>
                            </a:lnTo>
                            <a:lnTo>
                              <a:pt x="10680" y="1037"/>
                            </a:lnTo>
                            <a:lnTo>
                              <a:pt x="10598" y="1080"/>
                            </a:lnTo>
                            <a:lnTo>
                              <a:pt x="10520" y="1122"/>
                            </a:lnTo>
                            <a:lnTo>
                              <a:pt x="10442" y="1166"/>
                            </a:lnTo>
                            <a:lnTo>
                              <a:pt x="10361" y="1209"/>
                            </a:lnTo>
                            <a:lnTo>
                              <a:pt x="10167" y="1319"/>
                            </a:lnTo>
                            <a:lnTo>
                              <a:pt x="10135" y="1335"/>
                            </a:lnTo>
                            <a:lnTo>
                              <a:pt x="10110" y="1351"/>
                            </a:lnTo>
                            <a:lnTo>
                              <a:pt x="10089" y="1368"/>
                            </a:lnTo>
                            <a:lnTo>
                              <a:pt x="10011" y="1426"/>
                            </a:lnTo>
                            <a:lnTo>
                              <a:pt x="9941" y="1481"/>
                            </a:lnTo>
                            <a:lnTo>
                              <a:pt x="9863" y="1539"/>
                            </a:lnTo>
                            <a:lnTo>
                              <a:pt x="9793" y="1594"/>
                            </a:lnTo>
                            <a:lnTo>
                              <a:pt x="9715" y="1650"/>
                            </a:lnTo>
                            <a:lnTo>
                              <a:pt x="9637" y="1705"/>
                            </a:lnTo>
                            <a:lnTo>
                              <a:pt x="9567" y="1757"/>
                            </a:lnTo>
                            <a:lnTo>
                              <a:pt x="9489" y="1808"/>
                            </a:lnTo>
                            <a:lnTo>
                              <a:pt x="9419" y="1860"/>
                            </a:lnTo>
                            <a:lnTo>
                              <a:pt x="9337" y="1909"/>
                            </a:lnTo>
                            <a:lnTo>
                              <a:pt x="9266" y="1957"/>
                            </a:lnTo>
                            <a:lnTo>
                              <a:pt x="9188" y="2009"/>
                            </a:lnTo>
                            <a:lnTo>
                              <a:pt x="9107" y="2051"/>
                            </a:lnTo>
                            <a:lnTo>
                              <a:pt x="9030" y="2100"/>
                            </a:lnTo>
                            <a:lnTo>
                              <a:pt x="8944" y="2142"/>
                            </a:lnTo>
                            <a:lnTo>
                              <a:pt x="8923" y="2155"/>
                            </a:lnTo>
                            <a:lnTo>
                              <a:pt x="8899" y="2172"/>
                            </a:lnTo>
                            <a:lnTo>
                              <a:pt x="8874" y="2188"/>
                            </a:lnTo>
                            <a:lnTo>
                              <a:pt x="8807" y="2242"/>
                            </a:lnTo>
                            <a:lnTo>
                              <a:pt x="8729" y="2294"/>
                            </a:lnTo>
                            <a:lnTo>
                              <a:pt x="8655" y="2355"/>
                            </a:lnTo>
                            <a:lnTo>
                              <a:pt x="8581" y="2411"/>
                            </a:lnTo>
                            <a:lnTo>
                              <a:pt x="8510" y="2469"/>
                            </a:lnTo>
                            <a:lnTo>
                              <a:pt x="8440" y="2524"/>
                            </a:lnTo>
                            <a:lnTo>
                              <a:pt x="8369" y="2583"/>
                            </a:lnTo>
                            <a:lnTo>
                              <a:pt x="8298" y="2637"/>
                            </a:lnTo>
                            <a:lnTo>
                              <a:pt x="8235" y="2697"/>
                            </a:lnTo>
                            <a:lnTo>
                              <a:pt x="8168" y="2758"/>
                            </a:lnTo>
                            <a:lnTo>
                              <a:pt x="8105" y="2813"/>
                            </a:lnTo>
                            <a:lnTo>
                              <a:pt x="8033" y="2871"/>
                            </a:lnTo>
                            <a:lnTo>
                              <a:pt x="7966" y="2929"/>
                            </a:lnTo>
                            <a:lnTo>
                              <a:pt x="7895" y="2985"/>
                            </a:lnTo>
                            <a:lnTo>
                              <a:pt x="7825" y="3046"/>
                            </a:lnTo>
                            <a:lnTo>
                              <a:pt x="7758" y="3104"/>
                            </a:lnTo>
                            <a:lnTo>
                              <a:pt x="7687" y="3159"/>
                            </a:lnTo>
                            <a:lnTo>
                              <a:pt x="7623" y="3218"/>
                            </a:lnTo>
                            <a:lnTo>
                              <a:pt x="7553" y="3273"/>
                            </a:lnTo>
                            <a:lnTo>
                              <a:pt x="7482" y="3328"/>
                            </a:lnTo>
                            <a:lnTo>
                              <a:pt x="7415" y="3380"/>
                            </a:lnTo>
                            <a:lnTo>
                              <a:pt x="7341" y="3435"/>
                            </a:lnTo>
                            <a:lnTo>
                              <a:pt x="7267" y="3483"/>
                            </a:lnTo>
                            <a:lnTo>
                              <a:pt x="7178" y="3548"/>
                            </a:lnTo>
                            <a:lnTo>
                              <a:pt x="7090" y="3610"/>
                            </a:lnTo>
                            <a:lnTo>
                              <a:pt x="6994" y="3665"/>
                            </a:lnTo>
                            <a:lnTo>
                              <a:pt x="6903" y="3723"/>
                            </a:lnTo>
                            <a:lnTo>
                              <a:pt x="6800" y="3781"/>
                            </a:lnTo>
                            <a:lnTo>
                              <a:pt x="6719" y="3833"/>
                            </a:lnTo>
                            <a:lnTo>
                              <a:pt x="6634" y="3881"/>
                            </a:lnTo>
                            <a:lnTo>
                              <a:pt x="6553" y="3930"/>
                            </a:lnTo>
                            <a:lnTo>
                              <a:pt x="6468" y="3980"/>
                            </a:lnTo>
                            <a:lnTo>
                              <a:pt x="6390" y="4035"/>
                            </a:lnTo>
                            <a:lnTo>
                              <a:pt x="6309" y="4086"/>
                            </a:lnTo>
                            <a:lnTo>
                              <a:pt x="6231" y="4141"/>
                            </a:lnTo>
                            <a:lnTo>
                              <a:pt x="6221" y="4148"/>
                            </a:lnTo>
                            <a:lnTo>
                              <a:pt x="6213" y="4151"/>
                            </a:lnTo>
                            <a:lnTo>
                              <a:pt x="6213" y="4157"/>
                            </a:lnTo>
                            <a:lnTo>
                              <a:pt x="6150" y="4206"/>
                            </a:lnTo>
                            <a:lnTo>
                              <a:pt x="6083" y="4261"/>
                            </a:lnTo>
                            <a:lnTo>
                              <a:pt x="6020" y="4309"/>
                            </a:lnTo>
                            <a:lnTo>
                              <a:pt x="5953" y="4358"/>
                            </a:lnTo>
                            <a:lnTo>
                              <a:pt x="5889" y="4414"/>
                            </a:lnTo>
                            <a:lnTo>
                              <a:pt x="5826" y="4462"/>
                            </a:lnTo>
                            <a:lnTo>
                              <a:pt x="5766" y="4511"/>
                            </a:lnTo>
                            <a:lnTo>
                              <a:pt x="5698" y="4566"/>
                            </a:lnTo>
                            <a:lnTo>
                              <a:pt x="5634" y="4614"/>
                            </a:lnTo>
                            <a:lnTo>
                              <a:pt x="5567" y="4663"/>
                            </a:lnTo>
                            <a:lnTo>
                              <a:pt x="5504" y="4712"/>
                            </a:lnTo>
                            <a:lnTo>
                              <a:pt x="5444" y="4766"/>
                            </a:lnTo>
                            <a:lnTo>
                              <a:pt x="5380" y="4815"/>
                            </a:lnTo>
                            <a:lnTo>
                              <a:pt x="5314" y="4864"/>
                            </a:lnTo>
                            <a:lnTo>
                              <a:pt x="5249" y="4912"/>
                            </a:lnTo>
                            <a:lnTo>
                              <a:pt x="5185" y="4961"/>
                            </a:lnTo>
                            <a:lnTo>
                              <a:pt x="5119" y="5013"/>
                            </a:lnTo>
                            <a:lnTo>
                              <a:pt x="5055" y="5061"/>
                            </a:lnTo>
                            <a:lnTo>
                              <a:pt x="4995" y="5110"/>
                            </a:lnTo>
                            <a:lnTo>
                              <a:pt x="4928" y="5158"/>
                            </a:lnTo>
                            <a:lnTo>
                              <a:pt x="4865" y="5207"/>
                            </a:lnTo>
                            <a:lnTo>
                              <a:pt x="4801" y="5255"/>
                            </a:lnTo>
                            <a:lnTo>
                              <a:pt x="4733" y="5304"/>
                            </a:lnTo>
                            <a:lnTo>
                              <a:pt x="4670" y="5353"/>
                            </a:lnTo>
                            <a:lnTo>
                              <a:pt x="4603" y="5401"/>
                            </a:lnTo>
                            <a:lnTo>
                              <a:pt x="4539" y="5453"/>
                            </a:lnTo>
                            <a:lnTo>
                              <a:pt x="4473" y="5501"/>
                            </a:lnTo>
                            <a:lnTo>
                              <a:pt x="4409" y="5550"/>
                            </a:lnTo>
                            <a:lnTo>
                              <a:pt x="4345" y="5600"/>
                            </a:lnTo>
                            <a:lnTo>
                              <a:pt x="4278" y="5648"/>
                            </a:lnTo>
                            <a:lnTo>
                              <a:pt x="4214" y="5697"/>
                            </a:lnTo>
                            <a:lnTo>
                              <a:pt x="4147" y="5745"/>
                            </a:lnTo>
                            <a:lnTo>
                              <a:pt x="4084" y="5794"/>
                            </a:lnTo>
                            <a:lnTo>
                              <a:pt x="4016" y="5843"/>
                            </a:lnTo>
                            <a:lnTo>
                              <a:pt x="3953" y="5891"/>
                            </a:lnTo>
                            <a:lnTo>
                              <a:pt x="3882" y="5940"/>
                            </a:lnTo>
                            <a:lnTo>
                              <a:pt x="3816" y="5985"/>
                            </a:lnTo>
                            <a:lnTo>
                              <a:pt x="3752" y="6034"/>
                            </a:lnTo>
                            <a:lnTo>
                              <a:pt x="3687" y="6082"/>
                            </a:lnTo>
                            <a:lnTo>
                              <a:pt x="3621" y="6131"/>
                            </a:lnTo>
                            <a:lnTo>
                              <a:pt x="3557" y="6173"/>
                            </a:lnTo>
                            <a:lnTo>
                              <a:pt x="3487" y="6225"/>
                            </a:lnTo>
                            <a:lnTo>
                              <a:pt x="3419" y="6273"/>
                            </a:lnTo>
                            <a:lnTo>
                              <a:pt x="3356" y="6316"/>
                            </a:lnTo>
                            <a:lnTo>
                              <a:pt x="3285" y="6364"/>
                            </a:lnTo>
                            <a:lnTo>
                              <a:pt x="3219" y="6413"/>
                            </a:lnTo>
                            <a:lnTo>
                              <a:pt x="3154" y="6458"/>
                            </a:lnTo>
                            <a:lnTo>
                              <a:pt x="3084" y="6507"/>
                            </a:lnTo>
                            <a:lnTo>
                              <a:pt x="3017" y="6548"/>
                            </a:lnTo>
                            <a:lnTo>
                              <a:pt x="2946" y="6597"/>
                            </a:lnTo>
                            <a:lnTo>
                              <a:pt x="2882" y="6642"/>
                            </a:lnTo>
                            <a:lnTo>
                              <a:pt x="2812" y="6684"/>
                            </a:lnTo>
                            <a:lnTo>
                              <a:pt x="2744" y="6733"/>
                            </a:lnTo>
                            <a:lnTo>
                              <a:pt x="2674" y="6775"/>
                            </a:lnTo>
                            <a:lnTo>
                              <a:pt x="2610" y="6827"/>
                            </a:lnTo>
                            <a:lnTo>
                              <a:pt x="2536" y="6869"/>
                            </a:lnTo>
                            <a:lnTo>
                              <a:pt x="2472" y="6911"/>
                            </a:lnTo>
                            <a:lnTo>
                              <a:pt x="2402" y="6957"/>
                            </a:lnTo>
                            <a:lnTo>
                              <a:pt x="2331" y="7005"/>
                            </a:lnTo>
                            <a:lnTo>
                              <a:pt x="2261" y="7048"/>
                            </a:lnTo>
                            <a:lnTo>
                              <a:pt x="2194" y="7093"/>
                            </a:lnTo>
                            <a:lnTo>
                              <a:pt x="2123" y="7135"/>
                            </a:lnTo>
                            <a:lnTo>
                              <a:pt x="2052" y="7177"/>
                            </a:lnTo>
                            <a:lnTo>
                              <a:pt x="1981" y="7223"/>
                            </a:lnTo>
                            <a:lnTo>
                              <a:pt x="1911" y="7264"/>
                            </a:lnTo>
                            <a:lnTo>
                              <a:pt x="1844" y="7309"/>
                            </a:lnTo>
                            <a:lnTo>
                              <a:pt x="1770" y="7352"/>
                            </a:lnTo>
                            <a:lnTo>
                              <a:pt x="1703" y="7394"/>
                            </a:lnTo>
                            <a:lnTo>
                              <a:pt x="1625" y="7439"/>
                            </a:lnTo>
                            <a:lnTo>
                              <a:pt x="1553" y="7482"/>
                            </a:lnTo>
                            <a:lnTo>
                              <a:pt x="1483" y="7521"/>
                            </a:lnTo>
                            <a:lnTo>
                              <a:pt x="1413" y="7563"/>
                            </a:lnTo>
                            <a:lnTo>
                              <a:pt x="1342" y="7608"/>
                            </a:lnTo>
                            <a:lnTo>
                              <a:pt x="1272" y="7651"/>
                            </a:lnTo>
                            <a:lnTo>
                              <a:pt x="1194" y="7689"/>
                            </a:lnTo>
                            <a:lnTo>
                              <a:pt x="1122" y="7731"/>
                            </a:lnTo>
                            <a:lnTo>
                              <a:pt x="1052" y="7770"/>
                            </a:lnTo>
                            <a:lnTo>
                              <a:pt x="982" y="7812"/>
                            </a:lnTo>
                            <a:lnTo>
                              <a:pt x="904" y="7858"/>
                            </a:lnTo>
                            <a:lnTo>
                              <a:pt x="833" y="7897"/>
                            </a:lnTo>
                            <a:lnTo>
                              <a:pt x="756" y="7931"/>
                            </a:lnTo>
                            <a:lnTo>
                              <a:pt x="685" y="7977"/>
                            </a:lnTo>
                            <a:lnTo>
                              <a:pt x="607" y="8013"/>
                            </a:lnTo>
                            <a:lnTo>
                              <a:pt x="530" y="8058"/>
                            </a:lnTo>
                            <a:lnTo>
                              <a:pt x="459" y="8097"/>
                            </a:lnTo>
                            <a:lnTo>
                              <a:pt x="385" y="8133"/>
                            </a:lnTo>
                            <a:lnTo>
                              <a:pt x="307" y="8171"/>
                            </a:lnTo>
                            <a:lnTo>
                              <a:pt x="395" y="8133"/>
                            </a:lnTo>
                            <a:lnTo>
                              <a:pt x="491" y="8113"/>
                            </a:lnTo>
                            <a:lnTo>
                              <a:pt x="582" y="8100"/>
                            </a:lnTo>
                            <a:lnTo>
                              <a:pt x="678" y="8107"/>
                            </a:lnTo>
                            <a:lnTo>
                              <a:pt x="766" y="8123"/>
                            </a:lnTo>
                            <a:lnTo>
                              <a:pt x="859" y="8155"/>
                            </a:lnTo>
                            <a:lnTo>
                              <a:pt x="940" y="8198"/>
                            </a:lnTo>
                            <a:lnTo>
                              <a:pt x="1017" y="8253"/>
                            </a:lnTo>
                            <a:lnTo>
                              <a:pt x="1080" y="8324"/>
                            </a:lnTo>
                            <a:lnTo>
                              <a:pt x="1134" y="8395"/>
                            </a:lnTo>
                            <a:lnTo>
                              <a:pt x="1169" y="8476"/>
                            </a:lnTo>
                            <a:lnTo>
                              <a:pt x="1194" y="8564"/>
                            </a:lnTo>
                            <a:lnTo>
                              <a:pt x="1204" y="8644"/>
                            </a:lnTo>
                            <a:lnTo>
                              <a:pt x="1200" y="8732"/>
                            </a:lnTo>
                            <a:lnTo>
                              <a:pt x="1176" y="8816"/>
                            </a:lnTo>
                            <a:lnTo>
                              <a:pt x="1140" y="8904"/>
                            </a:lnTo>
                            <a:lnTo>
                              <a:pt x="1187" y="8829"/>
                            </a:lnTo>
                            <a:lnTo>
                              <a:pt x="1261" y="8758"/>
                            </a:lnTo>
                            <a:lnTo>
                              <a:pt x="1349" y="8677"/>
                            </a:lnTo>
                            <a:lnTo>
                              <a:pt x="1441" y="8599"/>
                            </a:lnTo>
                            <a:lnTo>
                              <a:pt x="1498" y="8550"/>
                            </a:lnTo>
                            <a:lnTo>
                              <a:pt x="1550" y="8502"/>
                            </a:lnTo>
                            <a:lnTo>
                              <a:pt x="1607" y="8453"/>
                            </a:lnTo>
                            <a:lnTo>
                              <a:pt x="1579" y="8476"/>
                            </a:lnTo>
                            <a:lnTo>
                              <a:pt x="1550" y="8502"/>
                            </a:lnTo>
                            <a:lnTo>
                              <a:pt x="1516" y="8525"/>
                            </a:lnTo>
                            <a:lnTo>
                              <a:pt x="1597" y="8470"/>
                            </a:lnTo>
                            <a:lnTo>
                              <a:pt x="1674" y="8421"/>
                            </a:lnTo>
                            <a:lnTo>
                              <a:pt x="1745" y="8373"/>
                            </a:lnTo>
                            <a:lnTo>
                              <a:pt x="1823" y="8324"/>
                            </a:lnTo>
                            <a:lnTo>
                              <a:pt x="1897" y="8269"/>
                            </a:lnTo>
                            <a:lnTo>
                              <a:pt x="1971" y="8221"/>
                            </a:lnTo>
                            <a:lnTo>
                              <a:pt x="2041" y="8171"/>
                            </a:lnTo>
                            <a:lnTo>
                              <a:pt x="2105" y="8116"/>
                            </a:lnTo>
                            <a:lnTo>
                              <a:pt x="2176" y="8065"/>
                            </a:lnTo>
                            <a:lnTo>
                              <a:pt x="2246" y="8013"/>
                            </a:lnTo>
                            <a:lnTo>
                              <a:pt x="2313" y="7961"/>
                            </a:lnTo>
                            <a:lnTo>
                              <a:pt x="2378" y="7906"/>
                            </a:lnTo>
                            <a:lnTo>
                              <a:pt x="2444" y="7858"/>
                            </a:lnTo>
                            <a:lnTo>
                              <a:pt x="2508" y="7803"/>
                            </a:lnTo>
                            <a:lnTo>
                              <a:pt x="2575" y="7748"/>
                            </a:lnTo>
                            <a:lnTo>
                              <a:pt x="2638" y="7696"/>
                            </a:lnTo>
                            <a:lnTo>
                              <a:pt x="2702" y="7640"/>
                            </a:lnTo>
                            <a:lnTo>
                              <a:pt x="2770" y="7591"/>
                            </a:lnTo>
                            <a:lnTo>
                              <a:pt x="3129" y="7294"/>
                            </a:lnTo>
                            <a:lnTo>
                              <a:pt x="3041" y="7352"/>
                            </a:lnTo>
                            <a:lnTo>
                              <a:pt x="2946" y="7394"/>
                            </a:lnTo>
                            <a:lnTo>
                              <a:pt x="2840" y="7423"/>
                            </a:lnTo>
                            <a:lnTo>
                              <a:pt x="2734" y="7433"/>
                            </a:lnTo>
                            <a:lnTo>
                              <a:pt x="2788" y="7427"/>
                            </a:lnTo>
                            <a:lnTo>
                              <a:pt x="2858" y="7427"/>
                            </a:lnTo>
                            <a:lnTo>
                              <a:pt x="2946" y="7411"/>
                            </a:lnTo>
                            <a:lnTo>
                              <a:pt x="3041" y="7391"/>
                            </a:lnTo>
                            <a:lnTo>
                              <a:pt x="3141" y="7352"/>
                            </a:lnTo>
                            <a:lnTo>
                              <a:pt x="3250" y="7294"/>
                            </a:lnTo>
                            <a:lnTo>
                              <a:pt x="3349" y="7209"/>
                            </a:lnTo>
                            <a:lnTo>
                              <a:pt x="3321" y="7232"/>
                            </a:lnTo>
                            <a:lnTo>
                              <a:pt x="3289" y="7261"/>
                            </a:lnTo>
                            <a:lnTo>
                              <a:pt x="3261" y="7281"/>
                            </a:lnTo>
                            <a:lnTo>
                              <a:pt x="3373" y="7206"/>
                            </a:lnTo>
                            <a:lnTo>
                              <a:pt x="3472" y="7135"/>
                            </a:lnTo>
                            <a:lnTo>
                              <a:pt x="3560" y="7077"/>
                            </a:lnTo>
                            <a:lnTo>
                              <a:pt x="3632" y="7021"/>
                            </a:lnTo>
                            <a:lnTo>
                              <a:pt x="3705" y="6973"/>
                            </a:lnTo>
                            <a:lnTo>
                              <a:pt x="3777" y="6924"/>
                            </a:lnTo>
                            <a:lnTo>
                              <a:pt x="3804" y="6908"/>
                            </a:lnTo>
                            <a:lnTo>
                              <a:pt x="3829" y="6886"/>
                            </a:lnTo>
                            <a:lnTo>
                              <a:pt x="3850" y="6869"/>
                            </a:lnTo>
                            <a:lnTo>
                              <a:pt x="3918" y="6814"/>
                            </a:lnTo>
                            <a:lnTo>
                              <a:pt x="3981" y="6756"/>
                            </a:lnTo>
                            <a:lnTo>
                              <a:pt x="4048" y="6701"/>
                            </a:lnTo>
                            <a:lnTo>
                              <a:pt x="4112" y="6642"/>
                            </a:lnTo>
                            <a:lnTo>
                              <a:pt x="4179" y="6587"/>
                            </a:lnTo>
                            <a:lnTo>
                              <a:pt x="4235" y="6526"/>
                            </a:lnTo>
                            <a:lnTo>
                              <a:pt x="4302" y="6474"/>
                            </a:lnTo>
                            <a:lnTo>
                              <a:pt x="4362" y="6419"/>
                            </a:lnTo>
                            <a:lnTo>
                              <a:pt x="4426" y="6357"/>
                            </a:lnTo>
                            <a:lnTo>
                              <a:pt x="4486" y="6305"/>
                            </a:lnTo>
                            <a:lnTo>
                              <a:pt x="4546" y="6250"/>
                            </a:lnTo>
                            <a:lnTo>
                              <a:pt x="4610" y="6189"/>
                            </a:lnTo>
                            <a:lnTo>
                              <a:pt x="4670" y="6137"/>
                            </a:lnTo>
                            <a:lnTo>
                              <a:pt x="4730" y="6076"/>
                            </a:lnTo>
                            <a:lnTo>
                              <a:pt x="4787" y="6023"/>
                            </a:lnTo>
                            <a:lnTo>
                              <a:pt x="4847" y="5968"/>
                            </a:lnTo>
                            <a:lnTo>
                              <a:pt x="4907" y="5907"/>
                            </a:lnTo>
                            <a:lnTo>
                              <a:pt x="4967" y="5855"/>
                            </a:lnTo>
                            <a:lnTo>
                              <a:pt x="5023" y="5794"/>
                            </a:lnTo>
                            <a:lnTo>
                              <a:pt x="5076" y="5738"/>
                            </a:lnTo>
                            <a:lnTo>
                              <a:pt x="5136" y="5680"/>
                            </a:lnTo>
                            <a:lnTo>
                              <a:pt x="5197" y="5625"/>
                            </a:lnTo>
                            <a:lnTo>
                              <a:pt x="5257" y="5567"/>
                            </a:lnTo>
                            <a:lnTo>
                              <a:pt x="5309" y="5512"/>
                            </a:lnTo>
                            <a:lnTo>
                              <a:pt x="5366" y="5453"/>
                            </a:lnTo>
                            <a:lnTo>
                              <a:pt x="5426" y="5392"/>
                            </a:lnTo>
                            <a:lnTo>
                              <a:pt x="5486" y="5337"/>
                            </a:lnTo>
                            <a:lnTo>
                              <a:pt x="5546" y="5279"/>
                            </a:lnTo>
                            <a:lnTo>
                              <a:pt x="5606" y="5224"/>
                            </a:lnTo>
                            <a:lnTo>
                              <a:pt x="5659" y="5165"/>
                            </a:lnTo>
                            <a:lnTo>
                              <a:pt x="5716" y="5103"/>
                            </a:lnTo>
                            <a:lnTo>
                              <a:pt x="5776" y="5045"/>
                            </a:lnTo>
                            <a:lnTo>
                              <a:pt x="5836" y="4993"/>
                            </a:lnTo>
                            <a:lnTo>
                              <a:pt x="6529" y="4300"/>
                            </a:lnTo>
                            <a:lnTo>
                              <a:pt x="6535" y="4300"/>
                            </a:lnTo>
                            <a:lnTo>
                              <a:pt x="6535" y="4293"/>
                            </a:lnTo>
                            <a:lnTo>
                              <a:pt x="6539" y="4293"/>
                            </a:lnTo>
                            <a:lnTo>
                              <a:pt x="6599" y="4235"/>
                            </a:lnTo>
                            <a:lnTo>
                              <a:pt x="6659" y="4174"/>
                            </a:lnTo>
                            <a:lnTo>
                              <a:pt x="6719" y="4115"/>
                            </a:lnTo>
                            <a:lnTo>
                              <a:pt x="6776" y="4060"/>
                            </a:lnTo>
                            <a:lnTo>
                              <a:pt x="6836" y="4002"/>
                            </a:lnTo>
                            <a:lnTo>
                              <a:pt x="6896" y="3941"/>
                            </a:lnTo>
                            <a:lnTo>
                              <a:pt x="6956" y="3886"/>
                            </a:lnTo>
                            <a:lnTo>
                              <a:pt x="7020" y="3827"/>
                            </a:lnTo>
                            <a:lnTo>
                              <a:pt x="7080" y="3772"/>
                            </a:lnTo>
                            <a:lnTo>
                              <a:pt x="7140" y="3717"/>
                            </a:lnTo>
                            <a:lnTo>
                              <a:pt x="7204" y="3665"/>
                            </a:lnTo>
                            <a:lnTo>
                              <a:pt x="7264" y="3610"/>
                            </a:lnTo>
                            <a:lnTo>
                              <a:pt x="7327" y="3555"/>
                            </a:lnTo>
                            <a:lnTo>
                              <a:pt x="7387" y="3499"/>
                            </a:lnTo>
                            <a:lnTo>
                              <a:pt x="7451" y="3447"/>
                            </a:lnTo>
                            <a:lnTo>
                              <a:pt x="7518" y="3393"/>
                            </a:lnTo>
                            <a:lnTo>
                              <a:pt x="7581" y="3338"/>
                            </a:lnTo>
                            <a:lnTo>
                              <a:pt x="7641" y="3283"/>
                            </a:lnTo>
                            <a:lnTo>
                              <a:pt x="7705" y="3231"/>
                            </a:lnTo>
                            <a:lnTo>
                              <a:pt x="7772" y="3176"/>
                            </a:lnTo>
                            <a:lnTo>
                              <a:pt x="7835" y="3120"/>
                            </a:lnTo>
                            <a:lnTo>
                              <a:pt x="7903" y="3065"/>
                            </a:lnTo>
                            <a:lnTo>
                              <a:pt x="7966" y="3013"/>
                            </a:lnTo>
                            <a:lnTo>
                              <a:pt x="8033" y="2958"/>
                            </a:lnTo>
                            <a:lnTo>
                              <a:pt x="8105" y="2910"/>
                            </a:lnTo>
                            <a:lnTo>
                              <a:pt x="8168" y="2849"/>
                            </a:lnTo>
                            <a:lnTo>
                              <a:pt x="8235" y="2797"/>
                            </a:lnTo>
                            <a:lnTo>
                              <a:pt x="8298" y="2745"/>
                            </a:lnTo>
                            <a:lnTo>
                              <a:pt x="8362" y="2693"/>
                            </a:lnTo>
                            <a:lnTo>
                              <a:pt x="8429" y="2637"/>
                            </a:lnTo>
                            <a:lnTo>
                              <a:pt x="8492" y="2583"/>
                            </a:lnTo>
                            <a:lnTo>
                              <a:pt x="8552" y="2528"/>
                            </a:lnTo>
                            <a:lnTo>
                              <a:pt x="8616" y="2479"/>
                            </a:lnTo>
                            <a:lnTo>
                              <a:pt x="8684" y="2427"/>
                            </a:lnTo>
                            <a:lnTo>
                              <a:pt x="8754" y="2372"/>
                            </a:lnTo>
                            <a:lnTo>
                              <a:pt x="8814" y="2317"/>
                            </a:lnTo>
                            <a:lnTo>
                              <a:pt x="8874" y="2261"/>
                            </a:lnTo>
                            <a:lnTo>
                              <a:pt x="8941" y="2210"/>
                            </a:lnTo>
                            <a:lnTo>
                              <a:pt x="9004" y="2155"/>
                            </a:lnTo>
                            <a:lnTo>
                              <a:pt x="9072" y="2100"/>
                            </a:lnTo>
                            <a:lnTo>
                              <a:pt x="9136" y="2042"/>
                            </a:lnTo>
                            <a:lnTo>
                              <a:pt x="9199" y="1987"/>
                            </a:lnTo>
                            <a:lnTo>
                              <a:pt x="9260" y="1925"/>
                            </a:lnTo>
                            <a:lnTo>
                              <a:pt x="9326" y="1873"/>
                            </a:lnTo>
                            <a:lnTo>
                              <a:pt x="9390" y="1812"/>
                            </a:lnTo>
                            <a:lnTo>
                              <a:pt x="9453" y="1757"/>
                            </a:lnTo>
                            <a:lnTo>
                              <a:pt x="9521" y="1699"/>
                            </a:lnTo>
                            <a:lnTo>
                              <a:pt x="9580" y="1639"/>
                            </a:lnTo>
                            <a:lnTo>
                              <a:pt x="9645" y="1578"/>
                            </a:lnTo>
                            <a:lnTo>
                              <a:pt x="9708" y="1520"/>
                            </a:lnTo>
                            <a:lnTo>
                              <a:pt x="9775" y="1459"/>
                            </a:lnTo>
                            <a:lnTo>
                              <a:pt x="9835" y="1400"/>
                            </a:lnTo>
                            <a:lnTo>
                              <a:pt x="9892" y="1338"/>
                            </a:lnTo>
                            <a:lnTo>
                              <a:pt x="9959" y="1274"/>
                            </a:lnTo>
                            <a:lnTo>
                              <a:pt x="10019" y="1216"/>
                            </a:lnTo>
                            <a:lnTo>
                              <a:pt x="10083" y="1138"/>
                            </a:lnTo>
                            <a:lnTo>
                              <a:pt x="10125" y="1057"/>
                            </a:lnTo>
                            <a:lnTo>
                              <a:pt x="10153" y="975"/>
                            </a:lnTo>
                            <a:lnTo>
                              <a:pt x="10171" y="885"/>
                            </a:lnTo>
                            <a:lnTo>
                              <a:pt x="10171" y="798"/>
                            </a:lnTo>
                            <a:lnTo>
                              <a:pt x="10153" y="704"/>
                            </a:lnTo>
                            <a:lnTo>
                              <a:pt x="10118" y="619"/>
                            </a:lnTo>
                            <a:lnTo>
                              <a:pt x="10071" y="535"/>
                            </a:lnTo>
                            <a:lnTo>
                              <a:pt x="10011" y="467"/>
                            </a:lnTo>
                            <a:lnTo>
                              <a:pt x="9934" y="406"/>
                            </a:lnTo>
                            <a:lnTo>
                              <a:pt x="9856" y="356"/>
                            </a:lnTo>
                            <a:lnTo>
                              <a:pt x="9769" y="325"/>
                            </a:lnTo>
                            <a:lnTo>
                              <a:pt x="9669" y="298"/>
                            </a:lnTo>
                            <a:lnTo>
                              <a:pt x="9567" y="292"/>
                            </a:lnTo>
                            <a:lnTo>
                              <a:pt x="9435" y="298"/>
                            </a:lnTo>
                            <a:lnTo>
                              <a:pt x="9320" y="318"/>
                            </a:lnTo>
                            <a:lnTo>
                              <a:pt x="9217" y="353"/>
                            </a:lnTo>
                            <a:lnTo>
                              <a:pt x="9125" y="386"/>
                            </a:lnTo>
                            <a:lnTo>
                              <a:pt x="9033" y="422"/>
                            </a:lnTo>
                            <a:lnTo>
                              <a:pt x="8962" y="461"/>
                            </a:lnTo>
                            <a:lnTo>
                              <a:pt x="8906" y="499"/>
                            </a:lnTo>
                            <a:lnTo>
                              <a:pt x="8881" y="509"/>
                            </a:lnTo>
                            <a:lnTo>
                              <a:pt x="8864" y="519"/>
                            </a:lnTo>
                            <a:lnTo>
                              <a:pt x="8853" y="532"/>
                            </a:lnTo>
                            <a:lnTo>
                              <a:pt x="8817" y="549"/>
                            </a:lnTo>
                            <a:lnTo>
                              <a:pt x="8783" y="564"/>
                            </a:lnTo>
                            <a:lnTo>
                              <a:pt x="8754" y="587"/>
                            </a:lnTo>
                            <a:lnTo>
                              <a:pt x="8673" y="646"/>
                            </a:lnTo>
                            <a:lnTo>
                              <a:pt x="8595" y="704"/>
                            </a:lnTo>
                            <a:lnTo>
                              <a:pt x="8518" y="759"/>
                            </a:lnTo>
                            <a:lnTo>
                              <a:pt x="8440" y="820"/>
                            </a:lnTo>
                            <a:lnTo>
                              <a:pt x="8369" y="872"/>
                            </a:lnTo>
                            <a:lnTo>
                              <a:pt x="8292" y="927"/>
                            </a:lnTo>
                            <a:lnTo>
                              <a:pt x="8220" y="983"/>
                            </a:lnTo>
                            <a:lnTo>
                              <a:pt x="8142" y="1047"/>
                            </a:lnTo>
                            <a:lnTo>
                              <a:pt x="8061" y="1105"/>
                            </a:lnTo>
                            <a:lnTo>
                              <a:pt x="7984" y="1166"/>
                            </a:lnTo>
                            <a:lnTo>
                              <a:pt x="7906" y="1222"/>
                            </a:lnTo>
                            <a:lnTo>
                              <a:pt x="7832" y="1280"/>
                            </a:lnTo>
                            <a:lnTo>
                              <a:pt x="7754" y="1335"/>
                            </a:lnTo>
                            <a:lnTo>
                              <a:pt x="7684" y="1384"/>
                            </a:lnTo>
                            <a:lnTo>
                              <a:pt x="7606" y="1439"/>
                            </a:lnTo>
                            <a:lnTo>
                              <a:pt x="7528" y="1487"/>
                            </a:lnTo>
                            <a:lnTo>
                              <a:pt x="7451" y="1536"/>
                            </a:lnTo>
                            <a:lnTo>
                              <a:pt x="7376" y="1578"/>
                            </a:lnTo>
                            <a:lnTo>
                              <a:pt x="7298" y="1624"/>
                            </a:lnTo>
                            <a:lnTo>
                              <a:pt x="7214" y="1666"/>
                            </a:lnTo>
                            <a:lnTo>
                              <a:pt x="7228" y="1659"/>
                            </a:lnTo>
                            <a:lnTo>
                              <a:pt x="7231" y="1656"/>
                            </a:lnTo>
                            <a:lnTo>
                              <a:pt x="7238" y="1656"/>
                            </a:lnTo>
                            <a:lnTo>
                              <a:pt x="7143" y="1705"/>
                            </a:lnTo>
                            <a:lnTo>
                              <a:pt x="7048" y="1757"/>
                            </a:lnTo>
                            <a:lnTo>
                              <a:pt x="6966" y="1812"/>
                            </a:lnTo>
                            <a:lnTo>
                              <a:pt x="6882" y="1873"/>
                            </a:lnTo>
                            <a:lnTo>
                              <a:pt x="6807" y="1932"/>
                            </a:lnTo>
                            <a:lnTo>
                              <a:pt x="6740" y="1993"/>
                            </a:lnTo>
                            <a:lnTo>
                              <a:pt x="6677" y="2051"/>
                            </a:lnTo>
                            <a:lnTo>
                              <a:pt x="6610" y="2116"/>
                            </a:lnTo>
                            <a:lnTo>
                              <a:pt x="6553" y="2172"/>
                            </a:lnTo>
                            <a:lnTo>
                              <a:pt x="6500" y="2230"/>
                            </a:lnTo>
                            <a:lnTo>
                              <a:pt x="6405" y="2327"/>
                            </a:lnTo>
                            <a:lnTo>
                              <a:pt x="6316" y="2415"/>
                            </a:lnTo>
                            <a:lnTo>
                              <a:pt x="6231" y="2485"/>
                            </a:lnTo>
                            <a:lnTo>
                              <a:pt x="6242" y="2476"/>
                            </a:lnTo>
                            <a:lnTo>
                              <a:pt x="6257" y="2463"/>
                            </a:lnTo>
                            <a:lnTo>
                              <a:pt x="6274" y="2460"/>
                            </a:lnTo>
                            <a:lnTo>
                              <a:pt x="6186" y="2512"/>
                            </a:lnTo>
                            <a:lnTo>
                              <a:pt x="6101" y="2560"/>
                            </a:lnTo>
                            <a:lnTo>
                              <a:pt x="6023" y="2615"/>
                            </a:lnTo>
                            <a:lnTo>
                              <a:pt x="5942" y="2670"/>
                            </a:lnTo>
                            <a:lnTo>
                              <a:pt x="5864" y="2725"/>
                            </a:lnTo>
                            <a:lnTo>
                              <a:pt x="5787" y="2777"/>
                            </a:lnTo>
                            <a:lnTo>
                              <a:pt x="5712" y="2832"/>
                            </a:lnTo>
                            <a:lnTo>
                              <a:pt x="5642" y="2888"/>
                            </a:lnTo>
                            <a:lnTo>
                              <a:pt x="5564" y="2943"/>
                            </a:lnTo>
                            <a:lnTo>
                              <a:pt x="5493" y="2998"/>
                            </a:lnTo>
                            <a:lnTo>
                              <a:pt x="5423" y="3049"/>
                            </a:lnTo>
                            <a:lnTo>
                              <a:pt x="5345" y="3104"/>
                            </a:lnTo>
                            <a:lnTo>
                              <a:pt x="5267" y="3162"/>
                            </a:lnTo>
                            <a:lnTo>
                              <a:pt x="5190" y="3218"/>
                            </a:lnTo>
                            <a:lnTo>
                              <a:pt x="5119" y="3273"/>
                            </a:lnTo>
                            <a:lnTo>
                              <a:pt x="5041" y="3328"/>
                            </a:lnTo>
                            <a:lnTo>
                              <a:pt x="4967" y="3380"/>
                            </a:lnTo>
                            <a:lnTo>
                              <a:pt x="4893" y="3432"/>
                            </a:lnTo>
                            <a:lnTo>
                              <a:pt x="4818" y="3483"/>
                            </a:lnTo>
                            <a:lnTo>
                              <a:pt x="4741" y="3532"/>
                            </a:lnTo>
                            <a:lnTo>
                              <a:pt x="4656" y="3580"/>
                            </a:lnTo>
                            <a:lnTo>
                              <a:pt x="4645" y="3587"/>
                            </a:lnTo>
                            <a:lnTo>
                              <a:pt x="4635" y="3601"/>
                            </a:lnTo>
                            <a:lnTo>
                              <a:pt x="4621" y="3604"/>
                            </a:lnTo>
                            <a:lnTo>
                              <a:pt x="4549" y="3652"/>
                            </a:lnTo>
                            <a:lnTo>
                              <a:pt x="4479" y="3701"/>
                            </a:lnTo>
                            <a:lnTo>
                              <a:pt x="4416" y="3749"/>
                            </a:lnTo>
                            <a:lnTo>
                              <a:pt x="4345" y="3801"/>
                            </a:lnTo>
                            <a:lnTo>
                              <a:pt x="4271" y="3850"/>
                            </a:lnTo>
                            <a:lnTo>
                              <a:pt x="4200" y="3898"/>
                            </a:lnTo>
                            <a:lnTo>
                              <a:pt x="4130" y="3941"/>
                            </a:lnTo>
                            <a:lnTo>
                              <a:pt x="4066" y="3989"/>
                            </a:lnTo>
                            <a:lnTo>
                              <a:pt x="3995" y="4035"/>
                            </a:lnTo>
                            <a:lnTo>
                              <a:pt x="3925" y="4083"/>
                            </a:lnTo>
                            <a:lnTo>
                              <a:pt x="3850" y="4125"/>
                            </a:lnTo>
                            <a:lnTo>
                              <a:pt x="3787" y="4167"/>
                            </a:lnTo>
                            <a:lnTo>
                              <a:pt x="3716" y="4219"/>
                            </a:lnTo>
                            <a:lnTo>
                              <a:pt x="3645" y="4261"/>
                            </a:lnTo>
                            <a:lnTo>
                              <a:pt x="3575" y="4303"/>
                            </a:lnTo>
                            <a:lnTo>
                              <a:pt x="3504" y="4351"/>
                            </a:lnTo>
                            <a:lnTo>
                              <a:pt x="3437" y="4397"/>
                            </a:lnTo>
                            <a:lnTo>
                              <a:pt x="3359" y="4439"/>
                            </a:lnTo>
                            <a:lnTo>
                              <a:pt x="3289" y="4484"/>
                            </a:lnTo>
                            <a:lnTo>
                              <a:pt x="3219" y="4527"/>
                            </a:lnTo>
                            <a:lnTo>
                              <a:pt x="3147" y="4575"/>
                            </a:lnTo>
                            <a:lnTo>
                              <a:pt x="3077" y="4621"/>
                            </a:lnTo>
                            <a:lnTo>
                              <a:pt x="2999" y="4663"/>
                            </a:lnTo>
                            <a:lnTo>
                              <a:pt x="2928" y="4712"/>
                            </a:lnTo>
                            <a:lnTo>
                              <a:pt x="2851" y="4754"/>
                            </a:lnTo>
                            <a:lnTo>
                              <a:pt x="2776" y="4799"/>
                            </a:lnTo>
                            <a:lnTo>
                              <a:pt x="2702" y="4848"/>
                            </a:lnTo>
                            <a:lnTo>
                              <a:pt x="2628" y="4890"/>
                            </a:lnTo>
                            <a:lnTo>
                              <a:pt x="2550" y="4939"/>
                            </a:lnTo>
                            <a:lnTo>
                              <a:pt x="2466" y="4984"/>
                            </a:lnTo>
                            <a:lnTo>
                              <a:pt x="2391" y="5029"/>
                            </a:lnTo>
                            <a:lnTo>
                              <a:pt x="2313" y="5071"/>
                            </a:lnTo>
                            <a:lnTo>
                              <a:pt x="2228" y="5119"/>
                            </a:lnTo>
                            <a:lnTo>
                              <a:pt x="2147" y="5168"/>
                            </a:lnTo>
                            <a:lnTo>
                              <a:pt x="2062" y="5221"/>
                            </a:lnTo>
                            <a:lnTo>
                              <a:pt x="1981" y="5262"/>
                            </a:lnTo>
                            <a:lnTo>
                              <a:pt x="1886" y="5304"/>
                            </a:lnTo>
                            <a:lnTo>
                              <a:pt x="1797" y="5349"/>
                            </a:lnTo>
                            <a:lnTo>
                              <a:pt x="1703" y="5392"/>
                            </a:lnTo>
                            <a:lnTo>
                              <a:pt x="1607" y="5431"/>
                            </a:lnTo>
                            <a:lnTo>
                              <a:pt x="1519" y="5470"/>
                            </a:lnTo>
                            <a:lnTo>
                              <a:pt x="1438" y="5501"/>
                            </a:lnTo>
                            <a:lnTo>
                              <a:pt x="1349" y="5537"/>
                            </a:lnTo>
                            <a:lnTo>
                              <a:pt x="1261" y="5583"/>
                            </a:lnTo>
                            <a:lnTo>
                              <a:pt x="1176" y="5625"/>
                            </a:lnTo>
                            <a:lnTo>
                              <a:pt x="1088" y="5670"/>
                            </a:lnTo>
                            <a:lnTo>
                              <a:pt x="999" y="5719"/>
                            </a:lnTo>
                            <a:lnTo>
                              <a:pt x="914" y="5768"/>
                            </a:lnTo>
                            <a:lnTo>
                              <a:pt x="880" y="5787"/>
                            </a:lnTo>
                            <a:lnTo>
                              <a:pt x="851" y="5810"/>
                            </a:lnTo>
                            <a:lnTo>
                              <a:pt x="823" y="5839"/>
                            </a:lnTo>
                            <a:lnTo>
                              <a:pt x="730" y="5913"/>
                            </a:lnTo>
                            <a:lnTo>
                              <a:pt x="660" y="5968"/>
                            </a:lnTo>
                            <a:lnTo>
                              <a:pt x="603" y="6001"/>
                            </a:lnTo>
                            <a:lnTo>
                              <a:pt x="696" y="5978"/>
                            </a:lnTo>
                            <a:lnTo>
                              <a:pt x="791" y="5971"/>
                            </a:lnTo>
                            <a:lnTo>
                              <a:pt x="886" y="5978"/>
                            </a:lnTo>
                            <a:lnTo>
                              <a:pt x="982" y="6001"/>
                            </a:lnTo>
                            <a:lnTo>
                              <a:pt x="1063" y="6026"/>
                            </a:lnTo>
                            <a:lnTo>
                              <a:pt x="1148" y="6076"/>
                            </a:lnTo>
                            <a:lnTo>
                              <a:pt x="1218" y="6131"/>
                            </a:lnTo>
                            <a:lnTo>
                              <a:pt x="1282" y="6202"/>
                            </a:lnTo>
                            <a:lnTo>
                              <a:pt x="1332" y="6273"/>
                            </a:lnTo>
                            <a:lnTo>
                              <a:pt x="1371" y="6354"/>
                            </a:lnTo>
                            <a:lnTo>
                              <a:pt x="1388" y="6441"/>
                            </a:lnTo>
                            <a:lnTo>
                              <a:pt x="1395" y="6526"/>
                            </a:lnTo>
                            <a:lnTo>
                              <a:pt x="1388" y="6613"/>
                            </a:lnTo>
                            <a:lnTo>
                              <a:pt x="1366" y="6701"/>
                            </a:lnTo>
                            <a:lnTo>
                              <a:pt x="1335" y="6759"/>
                            </a:lnTo>
                            <a:lnTo>
                              <a:pt x="1306" y="6792"/>
                            </a:lnTo>
                            <a:lnTo>
                              <a:pt x="1296" y="6808"/>
                            </a:lnTo>
                            <a:lnTo>
                              <a:pt x="1314" y="6792"/>
                            </a:lnTo>
                            <a:lnTo>
                              <a:pt x="1349" y="6775"/>
                            </a:lnTo>
                            <a:lnTo>
                              <a:pt x="1378" y="6759"/>
                            </a:lnTo>
                            <a:lnTo>
                              <a:pt x="1473" y="6707"/>
                            </a:lnTo>
                            <a:lnTo>
                              <a:pt x="1571" y="6642"/>
                            </a:lnTo>
                            <a:lnTo>
                              <a:pt x="1674" y="6559"/>
                            </a:lnTo>
                            <a:lnTo>
                              <a:pt x="1660" y="6571"/>
                            </a:lnTo>
                            <a:lnTo>
                              <a:pt x="1649" y="6574"/>
                            </a:lnTo>
                            <a:lnTo>
                              <a:pt x="1643" y="6587"/>
                            </a:lnTo>
                            <a:lnTo>
                              <a:pt x="1709" y="6532"/>
                            </a:lnTo>
                            <a:lnTo>
                              <a:pt x="1780" y="6477"/>
                            </a:lnTo>
                            <a:lnTo>
                              <a:pt x="1844" y="6426"/>
                            </a:lnTo>
                            <a:lnTo>
                              <a:pt x="1911" y="6371"/>
                            </a:lnTo>
                            <a:lnTo>
                              <a:pt x="1981" y="6316"/>
                            </a:lnTo>
                            <a:lnTo>
                              <a:pt x="2045" y="6260"/>
                            </a:lnTo>
                            <a:lnTo>
                              <a:pt x="2113" y="6205"/>
                            </a:lnTo>
                            <a:lnTo>
                              <a:pt x="2176" y="6153"/>
                            </a:lnTo>
                            <a:lnTo>
                              <a:pt x="2243" y="6098"/>
                            </a:lnTo>
                            <a:lnTo>
                              <a:pt x="2306" y="6043"/>
                            </a:lnTo>
                            <a:lnTo>
                              <a:pt x="2373" y="5985"/>
                            </a:lnTo>
                            <a:lnTo>
                              <a:pt x="2437" y="5929"/>
                            </a:lnTo>
                            <a:lnTo>
                              <a:pt x="2501" y="5874"/>
                            </a:lnTo>
                            <a:lnTo>
                              <a:pt x="2568" y="5823"/>
                            </a:lnTo>
                            <a:lnTo>
                              <a:pt x="2628" y="5768"/>
                            </a:lnTo>
                            <a:lnTo>
                              <a:pt x="2692" y="5713"/>
                            </a:lnTo>
                            <a:lnTo>
                              <a:pt x="2755" y="5658"/>
                            </a:lnTo>
                            <a:lnTo>
                              <a:pt x="2815" y="5603"/>
                            </a:lnTo>
                            <a:lnTo>
                              <a:pt x="2882" y="5550"/>
                            </a:lnTo>
                            <a:lnTo>
                              <a:pt x="2946" y="5501"/>
                            </a:lnTo>
                            <a:lnTo>
                              <a:pt x="3006" y="5447"/>
                            </a:lnTo>
                            <a:lnTo>
                              <a:pt x="3069" y="5392"/>
                            </a:lnTo>
                            <a:lnTo>
                              <a:pt x="3129" y="5337"/>
                            </a:lnTo>
                            <a:lnTo>
                              <a:pt x="3193" y="5285"/>
                            </a:lnTo>
                            <a:lnTo>
                              <a:pt x="3253" y="5230"/>
                            </a:lnTo>
                            <a:lnTo>
                              <a:pt x="3321" y="5175"/>
                            </a:lnTo>
                            <a:lnTo>
                              <a:pt x="3377" y="5119"/>
                            </a:lnTo>
                            <a:lnTo>
                              <a:pt x="3437" y="5067"/>
                            </a:lnTo>
                            <a:lnTo>
                              <a:pt x="3497" y="5013"/>
                            </a:lnTo>
                            <a:lnTo>
                              <a:pt x="3560" y="4961"/>
                            </a:lnTo>
                            <a:lnTo>
                              <a:pt x="3621" y="4912"/>
                            </a:lnTo>
                            <a:lnTo>
                              <a:pt x="3687" y="4857"/>
                            </a:lnTo>
                            <a:lnTo>
                              <a:pt x="3744" y="4802"/>
                            </a:lnTo>
                            <a:lnTo>
                              <a:pt x="3811" y="4751"/>
                            </a:lnTo>
                            <a:lnTo>
                              <a:pt x="3871" y="4696"/>
                            </a:lnTo>
                            <a:lnTo>
                              <a:pt x="3928" y="4640"/>
                            </a:lnTo>
                            <a:lnTo>
                              <a:pt x="3995" y="4585"/>
                            </a:lnTo>
                            <a:lnTo>
                              <a:pt x="4052" y="4533"/>
                            </a:lnTo>
                            <a:lnTo>
                              <a:pt x="4112" y="4478"/>
                            </a:lnTo>
                            <a:lnTo>
                              <a:pt x="4179" y="4430"/>
                            </a:lnTo>
                            <a:lnTo>
                              <a:pt x="4235" y="4375"/>
                            </a:lnTo>
                            <a:lnTo>
                              <a:pt x="4302" y="4320"/>
                            </a:lnTo>
                            <a:lnTo>
                              <a:pt x="4362" y="4268"/>
                            </a:lnTo>
                            <a:lnTo>
                              <a:pt x="4419" y="4219"/>
                            </a:lnTo>
                            <a:lnTo>
                              <a:pt x="4479" y="4163"/>
                            </a:lnTo>
                            <a:lnTo>
                              <a:pt x="4546" y="4115"/>
                            </a:lnTo>
                            <a:lnTo>
                              <a:pt x="4603" y="4060"/>
                            </a:lnTo>
                            <a:lnTo>
                              <a:pt x="4670" y="4005"/>
                            </a:lnTo>
                            <a:lnTo>
                              <a:pt x="4730" y="3950"/>
                            </a:lnTo>
                            <a:lnTo>
                              <a:pt x="4793" y="3902"/>
                            </a:lnTo>
                            <a:lnTo>
                              <a:pt x="4854" y="3850"/>
                            </a:lnTo>
                            <a:lnTo>
                              <a:pt x="4910" y="3801"/>
                            </a:lnTo>
                            <a:lnTo>
                              <a:pt x="4977" y="3749"/>
                            </a:lnTo>
                            <a:lnTo>
                              <a:pt x="5041" y="3698"/>
                            </a:lnTo>
                            <a:lnTo>
                              <a:pt x="5101" y="3649"/>
                            </a:lnTo>
                            <a:lnTo>
                              <a:pt x="5169" y="3593"/>
                            </a:lnTo>
                            <a:lnTo>
                              <a:pt x="5232" y="3545"/>
                            </a:lnTo>
                            <a:lnTo>
                              <a:pt x="5292" y="3490"/>
                            </a:lnTo>
                            <a:lnTo>
                              <a:pt x="5356" y="3441"/>
                            </a:lnTo>
                            <a:lnTo>
                              <a:pt x="5423" y="3393"/>
                            </a:lnTo>
                            <a:lnTo>
                              <a:pt x="5486" y="3338"/>
                            </a:lnTo>
                            <a:lnTo>
                              <a:pt x="5546" y="3289"/>
                            </a:lnTo>
                            <a:lnTo>
                              <a:pt x="5610" y="3240"/>
                            </a:lnTo>
                            <a:lnTo>
                              <a:pt x="5677" y="3192"/>
                            </a:lnTo>
                            <a:lnTo>
                              <a:pt x="5740" y="3143"/>
                            </a:lnTo>
                            <a:lnTo>
                              <a:pt x="5804" y="3088"/>
                            </a:lnTo>
                            <a:lnTo>
                              <a:pt x="5871" y="3040"/>
                            </a:lnTo>
                            <a:lnTo>
                              <a:pt x="5935" y="2991"/>
                            </a:lnTo>
                            <a:lnTo>
                              <a:pt x="6005" y="2943"/>
                            </a:lnTo>
                            <a:lnTo>
                              <a:pt x="6073" y="2894"/>
                            </a:lnTo>
                            <a:lnTo>
                              <a:pt x="6137" y="2845"/>
                            </a:lnTo>
                            <a:lnTo>
                              <a:pt x="6207" y="2797"/>
                            </a:lnTo>
                            <a:lnTo>
                              <a:pt x="6274" y="2745"/>
                            </a:lnTo>
                            <a:lnTo>
                              <a:pt x="6345" y="2697"/>
                            </a:lnTo>
                            <a:lnTo>
                              <a:pt x="6408" y="2654"/>
                            </a:lnTo>
                            <a:lnTo>
                              <a:pt x="6483" y="2606"/>
                            </a:lnTo>
                            <a:lnTo>
                              <a:pt x="6553" y="2557"/>
                            </a:lnTo>
                            <a:lnTo>
                              <a:pt x="6623" y="2509"/>
                            </a:lnTo>
                            <a:lnTo>
                              <a:pt x="6695" y="2460"/>
                            </a:lnTo>
                            <a:lnTo>
                              <a:pt x="6765" y="2415"/>
                            </a:lnTo>
                            <a:lnTo>
                              <a:pt x="6836" y="2366"/>
                            </a:lnTo>
                            <a:lnTo>
                              <a:pt x="6906" y="2317"/>
                            </a:lnTo>
                            <a:lnTo>
                              <a:pt x="6977" y="2275"/>
                            </a:lnTo>
                            <a:lnTo>
                              <a:pt x="7054" y="2227"/>
                            </a:lnTo>
                            <a:lnTo>
                              <a:pt x="7126" y="2178"/>
                            </a:lnTo>
                            <a:lnTo>
                              <a:pt x="7204" y="2133"/>
                            </a:lnTo>
                            <a:lnTo>
                              <a:pt x="7231" y="2109"/>
                            </a:lnTo>
                            <a:lnTo>
                              <a:pt x="7264" y="2090"/>
                            </a:lnTo>
                            <a:lnTo>
                              <a:pt x="7292" y="2061"/>
                            </a:lnTo>
                            <a:lnTo>
                              <a:pt x="7677" y="1708"/>
                            </a:lnTo>
                            <a:lnTo>
                              <a:pt x="7871" y="1530"/>
                            </a:lnTo>
                            <a:lnTo>
                              <a:pt x="7801" y="1585"/>
                            </a:lnTo>
                            <a:lnTo>
                              <a:pt x="7729" y="1627"/>
                            </a:lnTo>
                            <a:lnTo>
                              <a:pt x="7651" y="1659"/>
                            </a:lnTo>
                            <a:lnTo>
                              <a:pt x="7571" y="1682"/>
                            </a:lnTo>
                            <a:lnTo>
                              <a:pt x="7485" y="1691"/>
                            </a:lnTo>
                            <a:lnTo>
                              <a:pt x="7404" y="1691"/>
                            </a:lnTo>
                            <a:lnTo>
                              <a:pt x="7319" y="1682"/>
                            </a:lnTo>
                            <a:lnTo>
                              <a:pt x="7238" y="1659"/>
                            </a:lnTo>
                            <a:lnTo>
                              <a:pt x="7161" y="1627"/>
                            </a:lnTo>
                            <a:lnTo>
                              <a:pt x="7083" y="1585"/>
                            </a:lnTo>
                            <a:lnTo>
                              <a:pt x="7020" y="1530"/>
                            </a:lnTo>
                            <a:lnTo>
                              <a:pt x="6960" y="1472"/>
                            </a:lnTo>
                            <a:lnTo>
                              <a:pt x="6914" y="1400"/>
                            </a:lnTo>
                            <a:lnTo>
                              <a:pt x="6878" y="1329"/>
                            </a:lnTo>
                            <a:lnTo>
                              <a:pt x="6854" y="1257"/>
                            </a:lnTo>
                            <a:lnTo>
                              <a:pt x="6843" y="1177"/>
                            </a:lnTo>
                            <a:lnTo>
                              <a:pt x="6843" y="1102"/>
                            </a:lnTo>
                            <a:lnTo>
                              <a:pt x="6854" y="1025"/>
                            </a:lnTo>
                            <a:lnTo>
                              <a:pt x="6878" y="950"/>
                            </a:lnTo>
                            <a:lnTo>
                              <a:pt x="6914" y="878"/>
                            </a:lnTo>
                            <a:lnTo>
                              <a:pt x="6960" y="814"/>
                            </a:lnTo>
                            <a:lnTo>
                              <a:pt x="7020" y="749"/>
                            </a:lnTo>
                            <a:lnTo>
                              <a:pt x="6888" y="869"/>
                            </a:lnTo>
                            <a:lnTo>
                              <a:pt x="6984" y="807"/>
                            </a:lnTo>
                            <a:lnTo>
                              <a:pt x="7072" y="775"/>
                            </a:lnTo>
                            <a:lnTo>
                              <a:pt x="7140" y="765"/>
                            </a:lnTo>
                            <a:lnTo>
                              <a:pt x="7132" y="765"/>
                            </a:lnTo>
                            <a:lnTo>
                              <a:pt x="7126" y="765"/>
                            </a:lnTo>
                            <a:lnTo>
                              <a:pt x="7122" y="765"/>
                            </a:lnTo>
                            <a:lnTo>
                              <a:pt x="7030" y="775"/>
                            </a:lnTo>
                            <a:lnTo>
                              <a:pt x="6938" y="791"/>
                            </a:lnTo>
                            <a:lnTo>
                              <a:pt x="6854" y="823"/>
                            </a:lnTo>
                            <a:lnTo>
                              <a:pt x="6765" y="869"/>
                            </a:lnTo>
                            <a:lnTo>
                              <a:pt x="6688" y="911"/>
                            </a:lnTo>
                            <a:lnTo>
                              <a:pt x="6628" y="950"/>
                            </a:lnTo>
                            <a:lnTo>
                              <a:pt x="6589" y="972"/>
                            </a:lnTo>
                            <a:lnTo>
                              <a:pt x="6556" y="989"/>
                            </a:lnTo>
                            <a:lnTo>
                              <a:pt x="6529" y="1005"/>
                            </a:lnTo>
                            <a:lnTo>
                              <a:pt x="6483" y="1025"/>
                            </a:lnTo>
                            <a:lnTo>
                              <a:pt x="6440" y="1053"/>
                            </a:lnTo>
                            <a:lnTo>
                              <a:pt x="6397" y="1086"/>
                            </a:lnTo>
                            <a:lnTo>
                              <a:pt x="6334" y="1138"/>
                            </a:lnTo>
                            <a:lnTo>
                              <a:pt x="6264" y="1193"/>
                            </a:lnTo>
                            <a:lnTo>
                              <a:pt x="6197" y="1248"/>
                            </a:lnTo>
                            <a:lnTo>
                              <a:pt x="6132" y="1303"/>
                            </a:lnTo>
                            <a:lnTo>
                              <a:pt x="6065" y="1351"/>
                            </a:lnTo>
                            <a:lnTo>
                              <a:pt x="6002" y="1407"/>
                            </a:lnTo>
                            <a:lnTo>
                              <a:pt x="5935" y="1456"/>
                            </a:lnTo>
                            <a:lnTo>
                              <a:pt x="5871" y="1504"/>
                            </a:lnTo>
                            <a:lnTo>
                              <a:pt x="5804" y="1556"/>
                            </a:lnTo>
                            <a:lnTo>
                              <a:pt x="5740" y="1608"/>
                            </a:lnTo>
                            <a:lnTo>
                              <a:pt x="5677" y="1656"/>
                            </a:lnTo>
                            <a:lnTo>
                              <a:pt x="5610" y="1705"/>
                            </a:lnTo>
                            <a:lnTo>
                              <a:pt x="5546" y="1753"/>
                            </a:lnTo>
                            <a:lnTo>
                              <a:pt x="5486" y="1802"/>
                            </a:lnTo>
                            <a:lnTo>
                              <a:pt x="5423" y="1844"/>
                            </a:lnTo>
                            <a:lnTo>
                              <a:pt x="5356" y="1893"/>
                            </a:lnTo>
                            <a:lnTo>
                              <a:pt x="5292" y="1941"/>
                            </a:lnTo>
                            <a:lnTo>
                              <a:pt x="5224" y="1993"/>
                            </a:lnTo>
                            <a:lnTo>
                              <a:pt x="5161" y="2035"/>
                            </a:lnTo>
                            <a:lnTo>
                              <a:pt x="5094" y="2078"/>
                            </a:lnTo>
                            <a:lnTo>
                              <a:pt x="5031" y="2126"/>
                            </a:lnTo>
                            <a:lnTo>
                              <a:pt x="4967" y="2172"/>
                            </a:lnTo>
                            <a:lnTo>
                              <a:pt x="4899" y="2213"/>
                            </a:lnTo>
                            <a:lnTo>
                              <a:pt x="4836" y="2258"/>
                            </a:lnTo>
                            <a:lnTo>
                              <a:pt x="4769" y="2301"/>
                            </a:lnTo>
                            <a:lnTo>
                              <a:pt x="4705" y="2343"/>
                            </a:lnTo>
                            <a:lnTo>
                              <a:pt x="4639" y="2388"/>
                            </a:lnTo>
                            <a:lnTo>
                              <a:pt x="4575" y="2430"/>
                            </a:lnTo>
                            <a:lnTo>
                              <a:pt x="4507" y="2476"/>
                            </a:lnTo>
                            <a:lnTo>
                              <a:pt x="4444" y="2512"/>
                            </a:lnTo>
                            <a:lnTo>
                              <a:pt x="4373" y="2557"/>
                            </a:lnTo>
                            <a:lnTo>
                              <a:pt x="4310" y="2599"/>
                            </a:lnTo>
                            <a:lnTo>
                              <a:pt x="4242" y="2637"/>
                            </a:lnTo>
                            <a:lnTo>
                              <a:pt x="4172" y="2680"/>
                            </a:lnTo>
                            <a:lnTo>
                              <a:pt x="4108" y="2719"/>
                            </a:lnTo>
                            <a:lnTo>
                              <a:pt x="4042" y="2761"/>
                            </a:lnTo>
                            <a:lnTo>
                              <a:pt x="3970" y="2800"/>
                            </a:lnTo>
                            <a:lnTo>
                              <a:pt x="3907" y="2839"/>
                            </a:lnTo>
                            <a:lnTo>
                              <a:pt x="3832" y="2880"/>
                            </a:lnTo>
                            <a:lnTo>
                              <a:pt x="3769" y="2919"/>
                            </a:lnTo>
                            <a:lnTo>
                              <a:pt x="3699" y="2958"/>
                            </a:lnTo>
                            <a:lnTo>
                              <a:pt x="3627" y="2998"/>
                            </a:lnTo>
                            <a:lnTo>
                              <a:pt x="3557" y="3033"/>
                            </a:lnTo>
                            <a:lnTo>
                              <a:pt x="3490" y="3071"/>
                            </a:lnTo>
                            <a:lnTo>
                              <a:pt x="3419" y="3111"/>
                            </a:lnTo>
                            <a:lnTo>
                              <a:pt x="3349" y="3146"/>
                            </a:lnTo>
                            <a:lnTo>
                              <a:pt x="3278" y="3186"/>
                            </a:lnTo>
                            <a:lnTo>
                              <a:pt x="3207" y="3225"/>
                            </a:lnTo>
                            <a:lnTo>
                              <a:pt x="3137" y="3263"/>
                            </a:lnTo>
                            <a:lnTo>
                              <a:pt x="3066" y="3299"/>
                            </a:lnTo>
                            <a:lnTo>
                              <a:pt x="2988" y="3331"/>
                            </a:lnTo>
                            <a:lnTo>
                              <a:pt x="2918" y="3370"/>
                            </a:lnTo>
                            <a:lnTo>
                              <a:pt x="2840" y="3409"/>
                            </a:lnTo>
                            <a:lnTo>
                              <a:pt x="2770" y="3447"/>
                            </a:lnTo>
                            <a:lnTo>
                              <a:pt x="2692" y="3480"/>
                            </a:lnTo>
                            <a:lnTo>
                              <a:pt x="2614" y="3516"/>
                            </a:lnTo>
                            <a:lnTo>
                              <a:pt x="2544" y="3555"/>
                            </a:lnTo>
                            <a:lnTo>
                              <a:pt x="2466" y="3587"/>
                            </a:lnTo>
                            <a:lnTo>
                              <a:pt x="2391" y="3626"/>
                            </a:lnTo>
                            <a:lnTo>
                              <a:pt x="2313" y="3659"/>
                            </a:lnTo>
                            <a:lnTo>
                              <a:pt x="2236" y="3698"/>
                            </a:lnTo>
                            <a:lnTo>
                              <a:pt x="2155" y="3729"/>
                            </a:lnTo>
                            <a:lnTo>
                              <a:pt x="2077" y="3765"/>
                            </a:lnTo>
                            <a:lnTo>
                              <a:pt x="1999" y="3801"/>
                            </a:lnTo>
                            <a:lnTo>
                              <a:pt x="1918" y="3837"/>
                            </a:lnTo>
                            <a:lnTo>
                              <a:pt x="1833" y="3869"/>
                            </a:lnTo>
                            <a:lnTo>
                              <a:pt x="1752" y="3908"/>
                            </a:lnTo>
                            <a:lnTo>
                              <a:pt x="1674" y="3941"/>
                            </a:lnTo>
                            <a:lnTo>
                              <a:pt x="1589" y="3980"/>
                            </a:lnTo>
                            <a:lnTo>
                              <a:pt x="1508" y="4011"/>
                            </a:lnTo>
                            <a:lnTo>
                              <a:pt x="1420" y="4044"/>
                            </a:lnTo>
                            <a:lnTo>
                              <a:pt x="1335" y="4083"/>
                            </a:lnTo>
                            <a:lnTo>
                              <a:pt x="1246" y="4115"/>
                            </a:lnTo>
                            <a:lnTo>
                              <a:pt x="1166" y="4151"/>
                            </a:lnTo>
                            <a:lnTo>
                              <a:pt x="1077" y="4183"/>
                            </a:lnTo>
                            <a:lnTo>
                              <a:pt x="985" y="4223"/>
                            </a:lnTo>
                            <a:lnTo>
                              <a:pt x="896" y="4254"/>
                            </a:lnTo>
                            <a:lnTo>
                              <a:pt x="808" y="4293"/>
                            </a:lnTo>
                            <a:lnTo>
                              <a:pt x="720" y="4326"/>
                            </a:lnTo>
                            <a:lnTo>
                              <a:pt x="625" y="4358"/>
                            </a:lnTo>
                            <a:lnTo>
                              <a:pt x="714" y="4336"/>
                            </a:lnTo>
                            <a:lnTo>
                              <a:pt x="802" y="4320"/>
                            </a:lnTo>
                            <a:lnTo>
                              <a:pt x="886" y="4320"/>
                            </a:lnTo>
                            <a:lnTo>
                              <a:pt x="974" y="4332"/>
                            </a:lnTo>
                            <a:lnTo>
                              <a:pt x="1059" y="4348"/>
                            </a:lnTo>
                            <a:lnTo>
                              <a:pt x="1140" y="4381"/>
                            </a:lnTo>
                            <a:lnTo>
                              <a:pt x="1212" y="4423"/>
                            </a:lnTo>
                            <a:lnTo>
                              <a:pt x="1282" y="4472"/>
                            </a:lnTo>
                            <a:lnTo>
                              <a:pt x="1342" y="4536"/>
                            </a:lnTo>
                            <a:lnTo>
                              <a:pt x="1388" y="4608"/>
                            </a:lnTo>
                            <a:lnTo>
                              <a:pt x="1423" y="4685"/>
                            </a:lnTo>
                            <a:lnTo>
                              <a:pt x="1448" y="4760"/>
                            </a:lnTo>
                            <a:lnTo>
                              <a:pt x="1459" y="4838"/>
                            </a:lnTo>
                            <a:lnTo>
                              <a:pt x="1459" y="4919"/>
                            </a:lnTo>
                            <a:lnTo>
                              <a:pt x="1448" y="5000"/>
                            </a:lnTo>
                            <a:lnTo>
                              <a:pt x="1420" y="5067"/>
                            </a:lnTo>
                            <a:lnTo>
                              <a:pt x="1384" y="5142"/>
                            </a:lnTo>
                            <a:lnTo>
                              <a:pt x="1332" y="5207"/>
                            </a:lnTo>
                            <a:lnTo>
                              <a:pt x="1405" y="5116"/>
                            </a:lnTo>
                            <a:lnTo>
                              <a:pt x="1473" y="5029"/>
                            </a:lnTo>
                            <a:lnTo>
                              <a:pt x="1519" y="4951"/>
                            </a:lnTo>
                            <a:lnTo>
                              <a:pt x="1553" y="4873"/>
                            </a:lnTo>
                            <a:lnTo>
                              <a:pt x="1579" y="4809"/>
                            </a:lnTo>
                            <a:lnTo>
                              <a:pt x="1604" y="4751"/>
                            </a:lnTo>
                            <a:lnTo>
                              <a:pt x="1604" y="4737"/>
                            </a:lnTo>
                            <a:lnTo>
                              <a:pt x="1607" y="4734"/>
                            </a:lnTo>
                            <a:lnTo>
                              <a:pt x="1607" y="4727"/>
                            </a:lnTo>
                            <a:lnTo>
                              <a:pt x="1607" y="4734"/>
                            </a:lnTo>
                            <a:lnTo>
                              <a:pt x="1604" y="4737"/>
                            </a:lnTo>
                            <a:lnTo>
                              <a:pt x="1597" y="4744"/>
                            </a:lnTo>
                            <a:lnTo>
                              <a:pt x="1607" y="4737"/>
                            </a:lnTo>
                            <a:lnTo>
                              <a:pt x="1625" y="4712"/>
                            </a:lnTo>
                            <a:lnTo>
                              <a:pt x="1674" y="4669"/>
                            </a:lnTo>
                            <a:lnTo>
                              <a:pt x="1656" y="4685"/>
                            </a:lnTo>
                            <a:lnTo>
                              <a:pt x="1631" y="4702"/>
                            </a:lnTo>
                            <a:lnTo>
                              <a:pt x="1614" y="4718"/>
                            </a:lnTo>
                            <a:lnTo>
                              <a:pt x="1685" y="4663"/>
                            </a:lnTo>
                            <a:lnTo>
                              <a:pt x="1755" y="4614"/>
                            </a:lnTo>
                            <a:lnTo>
                              <a:pt x="1826" y="4566"/>
                            </a:lnTo>
                            <a:lnTo>
                              <a:pt x="1897" y="4511"/>
                            </a:lnTo>
                            <a:lnTo>
                              <a:pt x="1971" y="4456"/>
                            </a:lnTo>
                            <a:lnTo>
                              <a:pt x="2041" y="4406"/>
                            </a:lnTo>
                            <a:lnTo>
                              <a:pt x="2105" y="4351"/>
                            </a:lnTo>
                            <a:lnTo>
                              <a:pt x="2176" y="4300"/>
                            </a:lnTo>
                            <a:lnTo>
                              <a:pt x="2246" y="4251"/>
                            </a:lnTo>
                            <a:lnTo>
                              <a:pt x="2313" y="4196"/>
                            </a:lnTo>
                            <a:lnTo>
                              <a:pt x="2384" y="4141"/>
                            </a:lnTo>
                            <a:lnTo>
                              <a:pt x="2448" y="4086"/>
                            </a:lnTo>
                            <a:lnTo>
                              <a:pt x="2515" y="4035"/>
                            </a:lnTo>
                            <a:lnTo>
                              <a:pt x="2586" y="3983"/>
                            </a:lnTo>
                            <a:lnTo>
                              <a:pt x="2649" y="3930"/>
                            </a:lnTo>
                            <a:lnTo>
                              <a:pt x="2716" y="3875"/>
                            </a:lnTo>
                            <a:lnTo>
                              <a:pt x="2788" y="3820"/>
                            </a:lnTo>
                            <a:lnTo>
                              <a:pt x="2851" y="3765"/>
                            </a:lnTo>
                            <a:lnTo>
                              <a:pt x="2918" y="3717"/>
                            </a:lnTo>
                            <a:lnTo>
                              <a:pt x="2981" y="3665"/>
                            </a:lnTo>
                            <a:lnTo>
                              <a:pt x="3048" y="3610"/>
                            </a:lnTo>
                            <a:lnTo>
                              <a:pt x="3112" y="3555"/>
                            </a:lnTo>
                            <a:lnTo>
                              <a:pt x="3175" y="3499"/>
                            </a:lnTo>
                            <a:lnTo>
                              <a:pt x="3243" y="3447"/>
                            </a:lnTo>
                            <a:lnTo>
                              <a:pt x="3303" y="3399"/>
                            </a:lnTo>
                            <a:lnTo>
                              <a:pt x="3373" y="3338"/>
                            </a:lnTo>
                            <a:lnTo>
                              <a:pt x="3437" y="3283"/>
                            </a:lnTo>
                            <a:lnTo>
                              <a:pt x="3508" y="3231"/>
                            </a:lnTo>
                            <a:lnTo>
                              <a:pt x="3575" y="3176"/>
                            </a:lnTo>
                            <a:lnTo>
                              <a:pt x="3645" y="3120"/>
                            </a:lnTo>
                            <a:lnTo>
                              <a:pt x="3709" y="3065"/>
                            </a:lnTo>
                            <a:lnTo>
                              <a:pt x="3777" y="3013"/>
                            </a:lnTo>
                            <a:lnTo>
                              <a:pt x="3847" y="2958"/>
                            </a:lnTo>
                            <a:lnTo>
                              <a:pt x="3910" y="2904"/>
                            </a:lnTo>
                            <a:lnTo>
                              <a:pt x="3978" y="2849"/>
                            </a:lnTo>
                            <a:lnTo>
                              <a:pt x="4048" y="2797"/>
                            </a:lnTo>
                            <a:lnTo>
                              <a:pt x="4112" y="2742"/>
                            </a:lnTo>
                            <a:lnTo>
                              <a:pt x="4179" y="2686"/>
                            </a:lnTo>
                            <a:lnTo>
                              <a:pt x="4250" y="2637"/>
                            </a:lnTo>
                            <a:lnTo>
                              <a:pt x="4313" y="2583"/>
                            </a:lnTo>
                            <a:lnTo>
                              <a:pt x="4384" y="2528"/>
                            </a:lnTo>
                            <a:lnTo>
                              <a:pt x="4451" y="2479"/>
                            </a:lnTo>
                            <a:lnTo>
                              <a:pt x="4515" y="2430"/>
                            </a:lnTo>
                            <a:lnTo>
                              <a:pt x="4585" y="2379"/>
                            </a:lnTo>
                            <a:lnTo>
                              <a:pt x="4652" y="2327"/>
                            </a:lnTo>
                            <a:lnTo>
                              <a:pt x="4723" y="2278"/>
                            </a:lnTo>
                            <a:lnTo>
                              <a:pt x="4793" y="2227"/>
                            </a:lnTo>
                            <a:lnTo>
                              <a:pt x="4857" y="2178"/>
                            </a:lnTo>
                            <a:lnTo>
                              <a:pt x="4928" y="2126"/>
                            </a:lnTo>
                            <a:lnTo>
                              <a:pt x="4995" y="2078"/>
                            </a:lnTo>
                            <a:lnTo>
                              <a:pt x="5066" y="2029"/>
                            </a:lnTo>
                            <a:lnTo>
                              <a:pt x="5136" y="1987"/>
                            </a:lnTo>
                            <a:lnTo>
                              <a:pt x="5207" y="1938"/>
                            </a:lnTo>
                            <a:lnTo>
                              <a:pt x="5278" y="1890"/>
                            </a:lnTo>
                            <a:lnTo>
                              <a:pt x="5348" y="1844"/>
                            </a:lnTo>
                            <a:lnTo>
                              <a:pt x="5426" y="1796"/>
                            </a:lnTo>
                            <a:lnTo>
                              <a:pt x="5497" y="1753"/>
                            </a:lnTo>
                            <a:lnTo>
                              <a:pt x="5567" y="1708"/>
                            </a:lnTo>
                            <a:lnTo>
                              <a:pt x="5642" y="1666"/>
                            </a:lnTo>
                            <a:lnTo>
                              <a:pt x="5716" y="1611"/>
                            </a:lnTo>
                            <a:lnTo>
                              <a:pt x="5782" y="1553"/>
                            </a:lnTo>
                            <a:lnTo>
                              <a:pt x="5836" y="1481"/>
                            </a:lnTo>
                            <a:lnTo>
                              <a:pt x="5871" y="1410"/>
                            </a:lnTo>
                            <a:lnTo>
                              <a:pt x="5899" y="1329"/>
                            </a:lnTo>
                            <a:lnTo>
                              <a:pt x="5914" y="1248"/>
                            </a:lnTo>
                            <a:lnTo>
                              <a:pt x="5917" y="1166"/>
                            </a:lnTo>
                            <a:lnTo>
                              <a:pt x="5899" y="1086"/>
                            </a:lnTo>
                            <a:lnTo>
                              <a:pt x="5878" y="1005"/>
                            </a:lnTo>
                            <a:lnTo>
                              <a:pt x="5836" y="927"/>
                            </a:lnTo>
                            <a:lnTo>
                              <a:pt x="5782" y="856"/>
                            </a:lnTo>
                            <a:lnTo>
                              <a:pt x="5723" y="791"/>
                            </a:lnTo>
                            <a:lnTo>
                              <a:pt x="5652" y="743"/>
                            </a:lnTo>
                            <a:lnTo>
                              <a:pt x="5567" y="701"/>
                            </a:lnTo>
                            <a:lnTo>
                              <a:pt x="5486" y="671"/>
                            </a:lnTo>
                            <a:lnTo>
                              <a:pt x="5405" y="655"/>
                            </a:lnTo>
                            <a:lnTo>
                              <a:pt x="5309" y="652"/>
                            </a:lnTo>
                            <a:lnTo>
                              <a:pt x="5221" y="655"/>
                            </a:lnTo>
                            <a:lnTo>
                              <a:pt x="5130" y="671"/>
                            </a:lnTo>
                            <a:lnTo>
                              <a:pt x="5041" y="704"/>
                            </a:lnTo>
                            <a:lnTo>
                              <a:pt x="5023" y="716"/>
                            </a:lnTo>
                            <a:lnTo>
                              <a:pt x="4995" y="726"/>
                            </a:lnTo>
                            <a:lnTo>
                              <a:pt x="4967" y="735"/>
                            </a:lnTo>
                            <a:lnTo>
                              <a:pt x="4893" y="771"/>
                            </a:lnTo>
                            <a:lnTo>
                              <a:pt x="4805" y="807"/>
                            </a:lnTo>
                            <a:lnTo>
                              <a:pt x="4715" y="856"/>
                            </a:lnTo>
                            <a:lnTo>
                              <a:pt x="4621" y="904"/>
                            </a:lnTo>
                            <a:lnTo>
                              <a:pt x="4528" y="972"/>
                            </a:lnTo>
                            <a:lnTo>
                              <a:pt x="4437" y="1047"/>
                            </a:lnTo>
                            <a:lnTo>
                              <a:pt x="4528" y="975"/>
                            </a:lnTo>
                            <a:lnTo>
                              <a:pt x="4635" y="927"/>
                            </a:lnTo>
                            <a:lnTo>
                              <a:pt x="4748" y="895"/>
                            </a:lnTo>
                            <a:lnTo>
                              <a:pt x="4865" y="885"/>
                            </a:lnTo>
                            <a:lnTo>
                              <a:pt x="4733" y="885"/>
                            </a:lnTo>
                            <a:lnTo>
                              <a:pt x="4617" y="895"/>
                            </a:lnTo>
                            <a:lnTo>
                              <a:pt x="4504" y="927"/>
                            </a:lnTo>
                            <a:lnTo>
                              <a:pt x="4398" y="975"/>
                            </a:lnTo>
                            <a:lnTo>
                              <a:pt x="4310" y="1047"/>
                            </a:lnTo>
                            <a:lnTo>
                              <a:pt x="4242" y="1102"/>
                            </a:lnTo>
                            <a:lnTo>
                              <a:pt x="4183" y="1154"/>
                            </a:lnTo>
                            <a:lnTo>
                              <a:pt x="4118" y="1205"/>
                            </a:lnTo>
                            <a:lnTo>
                              <a:pt x="4052" y="1254"/>
                            </a:lnTo>
                            <a:lnTo>
                              <a:pt x="3988" y="1303"/>
                            </a:lnTo>
                            <a:lnTo>
                              <a:pt x="3918" y="1351"/>
                            </a:lnTo>
                            <a:lnTo>
                              <a:pt x="3850" y="1393"/>
                            </a:lnTo>
                            <a:lnTo>
                              <a:pt x="3780" y="1439"/>
                            </a:lnTo>
                            <a:lnTo>
                              <a:pt x="3709" y="1481"/>
                            </a:lnTo>
                            <a:lnTo>
                              <a:pt x="3632" y="1520"/>
                            </a:lnTo>
                            <a:lnTo>
                              <a:pt x="3560" y="1562"/>
                            </a:lnTo>
                            <a:lnTo>
                              <a:pt x="3487" y="1601"/>
                            </a:lnTo>
                            <a:lnTo>
                              <a:pt x="3409" y="1639"/>
                            </a:lnTo>
                            <a:lnTo>
                              <a:pt x="3331" y="1675"/>
                            </a:lnTo>
                            <a:lnTo>
                              <a:pt x="3253" y="1714"/>
                            </a:lnTo>
                            <a:lnTo>
                              <a:pt x="3175" y="1753"/>
                            </a:lnTo>
                            <a:lnTo>
                              <a:pt x="3102" y="1785"/>
                            </a:lnTo>
                            <a:lnTo>
                              <a:pt x="3017" y="1824"/>
                            </a:lnTo>
                            <a:lnTo>
                              <a:pt x="2939" y="1857"/>
                            </a:lnTo>
                            <a:lnTo>
                              <a:pt x="2858" y="1890"/>
                            </a:lnTo>
                            <a:lnTo>
                              <a:pt x="2776" y="1925"/>
                            </a:lnTo>
                            <a:lnTo>
                              <a:pt x="2692" y="1957"/>
                            </a:lnTo>
                            <a:lnTo>
                              <a:pt x="2610" y="1993"/>
                            </a:lnTo>
                            <a:lnTo>
                              <a:pt x="2526" y="2026"/>
                            </a:lnTo>
                            <a:lnTo>
                              <a:pt x="2444" y="2058"/>
                            </a:lnTo>
                            <a:lnTo>
                              <a:pt x="2356" y="2090"/>
                            </a:lnTo>
                            <a:lnTo>
                              <a:pt x="2264" y="2126"/>
                            </a:lnTo>
                            <a:lnTo>
                              <a:pt x="2173" y="2164"/>
                            </a:lnTo>
                            <a:lnTo>
                              <a:pt x="2080" y="2203"/>
                            </a:lnTo>
                            <a:lnTo>
                              <a:pt x="1981" y="2242"/>
                            </a:lnTo>
                            <a:lnTo>
                              <a:pt x="1893" y="2278"/>
                            </a:lnTo>
                            <a:lnTo>
                              <a:pt x="1797" y="2317"/>
                            </a:lnTo>
                            <a:lnTo>
                              <a:pt x="1703" y="2355"/>
                            </a:lnTo>
                            <a:lnTo>
                              <a:pt x="1699" y="2360"/>
                            </a:lnTo>
                            <a:lnTo>
                              <a:pt x="1692" y="2360"/>
                            </a:lnTo>
                            <a:lnTo>
                              <a:pt x="1685" y="2366"/>
                            </a:lnTo>
                            <a:lnTo>
                              <a:pt x="1597" y="2411"/>
                            </a:lnTo>
                            <a:lnTo>
                              <a:pt x="1508" y="2453"/>
                            </a:lnTo>
                            <a:lnTo>
                              <a:pt x="1420" y="2501"/>
                            </a:lnTo>
                            <a:lnTo>
                              <a:pt x="1335" y="2543"/>
                            </a:lnTo>
                            <a:lnTo>
                              <a:pt x="1254" y="2599"/>
                            </a:lnTo>
                            <a:lnTo>
                              <a:pt x="1134" y="2664"/>
                            </a:lnTo>
                            <a:lnTo>
                              <a:pt x="1017" y="2725"/>
                            </a:lnTo>
                            <a:lnTo>
                              <a:pt x="914" y="2777"/>
                            </a:lnTo>
                            <a:lnTo>
                              <a:pt x="940" y="2767"/>
                            </a:lnTo>
                            <a:lnTo>
                              <a:pt x="964" y="2758"/>
                            </a:lnTo>
                            <a:lnTo>
                              <a:pt x="992" y="2745"/>
                            </a:lnTo>
                            <a:lnTo>
                              <a:pt x="1059" y="2735"/>
                            </a:lnTo>
                            <a:lnTo>
                              <a:pt x="1140" y="2728"/>
                            </a:lnTo>
                            <a:lnTo>
                              <a:pt x="1236" y="2742"/>
                            </a:lnTo>
                            <a:lnTo>
                              <a:pt x="1324" y="2767"/>
                            </a:lnTo>
                            <a:lnTo>
                              <a:pt x="1420" y="2806"/>
                            </a:lnTo>
                            <a:lnTo>
                              <a:pt x="1508" y="2871"/>
                            </a:lnTo>
                            <a:lnTo>
                              <a:pt x="1589" y="2946"/>
                            </a:lnTo>
                            <a:lnTo>
                              <a:pt x="1643" y="3030"/>
                            </a:lnTo>
                            <a:lnTo>
                              <a:pt x="1677" y="3104"/>
                            </a:lnTo>
                            <a:lnTo>
                              <a:pt x="1703" y="3192"/>
                            </a:lnTo>
                            <a:lnTo>
                              <a:pt x="1709" y="3273"/>
                            </a:lnTo>
                            <a:lnTo>
                              <a:pt x="1703" y="3353"/>
                            </a:lnTo>
                            <a:lnTo>
                              <a:pt x="1685" y="3432"/>
                            </a:lnTo>
                            <a:lnTo>
                              <a:pt x="1656" y="3496"/>
                            </a:lnTo>
                            <a:lnTo>
                              <a:pt x="1621" y="3561"/>
                            </a:lnTo>
                            <a:lnTo>
                              <a:pt x="1667" y="3480"/>
                            </a:lnTo>
                            <a:lnTo>
                              <a:pt x="1703" y="3399"/>
                            </a:lnTo>
                            <a:lnTo>
                              <a:pt x="1727" y="3315"/>
                            </a:lnTo>
                            <a:lnTo>
                              <a:pt x="1734" y="3234"/>
                            </a:lnTo>
                            <a:lnTo>
                              <a:pt x="1727" y="3159"/>
                            </a:lnTo>
                            <a:lnTo>
                              <a:pt x="1709" y="3088"/>
                            </a:lnTo>
                            <a:lnTo>
                              <a:pt x="1685" y="3017"/>
                            </a:lnTo>
                            <a:lnTo>
                              <a:pt x="1649" y="2952"/>
                            </a:lnTo>
                            <a:lnTo>
                              <a:pt x="1607" y="2894"/>
                            </a:lnTo>
                            <a:lnTo>
                              <a:pt x="1561" y="2845"/>
                            </a:lnTo>
                            <a:lnTo>
                              <a:pt x="1526" y="2816"/>
                            </a:lnTo>
                            <a:lnTo>
                              <a:pt x="1483" y="2783"/>
                            </a:lnTo>
                            <a:lnTo>
                              <a:pt x="1430" y="2751"/>
                            </a:lnTo>
                            <a:lnTo>
                              <a:pt x="1371" y="2725"/>
                            </a:lnTo>
                            <a:lnTo>
                              <a:pt x="1300" y="2697"/>
                            </a:lnTo>
                            <a:lnTo>
                              <a:pt x="1222" y="2680"/>
                            </a:lnTo>
                            <a:lnTo>
                              <a:pt x="1140" y="2677"/>
                            </a:lnTo>
                            <a:lnTo>
                              <a:pt x="1046" y="2686"/>
                            </a:lnTo>
                            <a:lnTo>
                              <a:pt x="946" y="2709"/>
                            </a:lnTo>
                            <a:lnTo>
                              <a:pt x="833" y="2751"/>
                            </a:lnTo>
                            <a:lnTo>
                              <a:pt x="720" y="2813"/>
                            </a:lnTo>
                            <a:lnTo>
                              <a:pt x="802" y="2767"/>
                            </a:lnTo>
                            <a:lnTo>
                              <a:pt x="886" y="2742"/>
                            </a:lnTo>
                            <a:lnTo>
                              <a:pt x="974" y="2725"/>
                            </a:lnTo>
                            <a:lnTo>
                              <a:pt x="1070" y="2719"/>
                            </a:lnTo>
                            <a:lnTo>
                              <a:pt x="1158" y="2728"/>
                            </a:lnTo>
                            <a:lnTo>
                              <a:pt x="1246" y="2745"/>
                            </a:lnTo>
                            <a:lnTo>
                              <a:pt x="1332" y="2783"/>
                            </a:lnTo>
                            <a:lnTo>
                              <a:pt x="1405" y="2829"/>
                            </a:lnTo>
                            <a:lnTo>
                              <a:pt x="1480" y="2880"/>
                            </a:lnTo>
                            <a:lnTo>
                              <a:pt x="1543" y="2958"/>
                            </a:lnTo>
                            <a:lnTo>
                              <a:pt x="1589" y="3040"/>
                            </a:lnTo>
                            <a:lnTo>
                              <a:pt x="1625" y="3127"/>
                            </a:lnTo>
                            <a:lnTo>
                              <a:pt x="1639" y="3214"/>
                            </a:lnTo>
                            <a:lnTo>
                              <a:pt x="1631" y="3295"/>
                            </a:lnTo>
                            <a:lnTo>
                              <a:pt x="1614" y="3377"/>
                            </a:lnTo>
                            <a:lnTo>
                              <a:pt x="1586" y="3451"/>
                            </a:lnTo>
                            <a:lnTo>
                              <a:pt x="1543" y="3516"/>
                            </a:lnTo>
                            <a:lnTo>
                              <a:pt x="1550" y="3513"/>
                            </a:lnTo>
                            <a:lnTo>
                              <a:pt x="1586" y="3467"/>
                            </a:lnTo>
                            <a:lnTo>
                              <a:pt x="1625" y="3402"/>
                            </a:lnTo>
                            <a:lnTo>
                              <a:pt x="1674" y="3322"/>
                            </a:lnTo>
                            <a:lnTo>
                              <a:pt x="1709" y="3214"/>
                            </a:lnTo>
                            <a:lnTo>
                              <a:pt x="1721" y="3095"/>
                            </a:lnTo>
                            <a:lnTo>
                              <a:pt x="1709" y="3198"/>
                            </a:lnTo>
                            <a:lnTo>
                              <a:pt x="1677" y="3295"/>
                            </a:lnTo>
                            <a:lnTo>
                              <a:pt x="1625" y="3386"/>
                            </a:lnTo>
                            <a:lnTo>
                              <a:pt x="1561" y="3467"/>
                            </a:lnTo>
                            <a:lnTo>
                              <a:pt x="1625" y="3402"/>
                            </a:lnTo>
                            <a:lnTo>
                              <a:pt x="1699" y="3331"/>
                            </a:lnTo>
                            <a:lnTo>
                              <a:pt x="1763" y="3267"/>
                            </a:lnTo>
                            <a:lnTo>
                              <a:pt x="1826" y="3201"/>
                            </a:lnTo>
                            <a:lnTo>
                              <a:pt x="1886" y="3137"/>
                            </a:lnTo>
                            <a:lnTo>
                              <a:pt x="1953" y="3071"/>
                            </a:lnTo>
                            <a:lnTo>
                              <a:pt x="2010" y="3013"/>
                            </a:lnTo>
                            <a:lnTo>
                              <a:pt x="2070" y="2952"/>
                            </a:lnTo>
                            <a:lnTo>
                              <a:pt x="2123" y="2894"/>
                            </a:lnTo>
                            <a:lnTo>
                              <a:pt x="2183" y="2832"/>
                            </a:lnTo>
                            <a:lnTo>
                              <a:pt x="2236" y="2774"/>
                            </a:lnTo>
                            <a:lnTo>
                              <a:pt x="2296" y="2712"/>
                            </a:lnTo>
                            <a:lnTo>
                              <a:pt x="2356" y="2654"/>
                            </a:lnTo>
                            <a:lnTo>
                              <a:pt x="2409" y="2589"/>
                            </a:lnTo>
                            <a:lnTo>
                              <a:pt x="2466" y="2528"/>
                            </a:lnTo>
                            <a:lnTo>
                              <a:pt x="2518" y="2469"/>
                            </a:lnTo>
                            <a:lnTo>
                              <a:pt x="2578" y="2415"/>
                            </a:lnTo>
                            <a:lnTo>
                              <a:pt x="2632" y="2355"/>
                            </a:lnTo>
                            <a:lnTo>
                              <a:pt x="2692" y="2294"/>
                            </a:lnTo>
                            <a:lnTo>
                              <a:pt x="2744" y="2242"/>
                            </a:lnTo>
                            <a:lnTo>
                              <a:pt x="2804" y="2188"/>
                            </a:lnTo>
                            <a:lnTo>
                              <a:pt x="2858" y="2133"/>
                            </a:lnTo>
                            <a:lnTo>
                              <a:pt x="2918" y="2075"/>
                            </a:lnTo>
                            <a:lnTo>
                              <a:pt x="2975" y="2019"/>
                            </a:lnTo>
                            <a:lnTo>
                              <a:pt x="3035" y="1964"/>
                            </a:lnTo>
                            <a:lnTo>
                              <a:pt x="3095" y="1906"/>
                            </a:lnTo>
                            <a:lnTo>
                              <a:pt x="3154" y="1851"/>
                            </a:lnTo>
                            <a:lnTo>
                              <a:pt x="3219" y="1793"/>
                            </a:lnTo>
                            <a:lnTo>
                              <a:pt x="3285" y="1737"/>
                            </a:lnTo>
                            <a:lnTo>
                              <a:pt x="3349" y="1682"/>
                            </a:lnTo>
                            <a:lnTo>
                              <a:pt x="3419" y="1624"/>
                            </a:lnTo>
                            <a:lnTo>
                              <a:pt x="3490" y="1562"/>
                            </a:lnTo>
                            <a:lnTo>
                              <a:pt x="3560" y="1504"/>
                            </a:lnTo>
                            <a:lnTo>
                              <a:pt x="3638" y="1442"/>
                            </a:lnTo>
                            <a:lnTo>
                              <a:pt x="3705" y="1384"/>
                            </a:lnTo>
                            <a:lnTo>
                              <a:pt x="3759" y="1319"/>
                            </a:lnTo>
                            <a:lnTo>
                              <a:pt x="3798" y="1248"/>
                            </a:lnTo>
                            <a:lnTo>
                              <a:pt x="3829" y="1174"/>
                            </a:lnTo>
                            <a:lnTo>
                              <a:pt x="3847" y="1096"/>
                            </a:lnTo>
                            <a:lnTo>
                              <a:pt x="3850" y="1021"/>
                            </a:lnTo>
                            <a:lnTo>
                              <a:pt x="3847" y="937"/>
                            </a:lnTo>
                            <a:lnTo>
                              <a:pt x="3822" y="856"/>
                            </a:lnTo>
                            <a:lnTo>
                              <a:pt x="3794" y="781"/>
                            </a:lnTo>
                            <a:lnTo>
                              <a:pt x="3744" y="710"/>
                            </a:lnTo>
                            <a:lnTo>
                              <a:pt x="3692" y="646"/>
                            </a:lnTo>
                            <a:lnTo>
                              <a:pt x="3627" y="590"/>
                            </a:lnTo>
                            <a:lnTo>
                              <a:pt x="3557" y="549"/>
                            </a:lnTo>
                            <a:lnTo>
                              <a:pt x="3479" y="516"/>
                            </a:lnTo>
                            <a:lnTo>
                              <a:pt x="3395" y="486"/>
                            </a:lnTo>
                            <a:lnTo>
                              <a:pt x="3307" y="470"/>
                            </a:lnTo>
                            <a:lnTo>
                              <a:pt x="3219" y="470"/>
                            </a:lnTo>
                            <a:lnTo>
                              <a:pt x="3129" y="483"/>
                            </a:lnTo>
                            <a:lnTo>
                              <a:pt x="3030" y="499"/>
                            </a:lnTo>
                            <a:lnTo>
                              <a:pt x="2928" y="525"/>
                            </a:lnTo>
                            <a:lnTo>
                              <a:pt x="2833" y="549"/>
                            </a:lnTo>
                            <a:lnTo>
                              <a:pt x="2744" y="574"/>
                            </a:lnTo>
                            <a:lnTo>
                              <a:pt x="2649" y="603"/>
                            </a:lnTo>
                            <a:lnTo>
                              <a:pt x="2568" y="635"/>
                            </a:lnTo>
                            <a:lnTo>
                              <a:pt x="2480" y="662"/>
                            </a:lnTo>
                            <a:lnTo>
                              <a:pt x="2394" y="701"/>
                            </a:lnTo>
                            <a:lnTo>
                              <a:pt x="2318" y="732"/>
                            </a:lnTo>
                            <a:lnTo>
                              <a:pt x="2243" y="775"/>
                            </a:lnTo>
                            <a:lnTo>
                              <a:pt x="2173" y="814"/>
                            </a:lnTo>
                            <a:lnTo>
                              <a:pt x="2098" y="856"/>
                            </a:lnTo>
                            <a:lnTo>
                              <a:pt x="2035" y="901"/>
                            </a:lnTo>
                            <a:lnTo>
                              <a:pt x="1971" y="950"/>
                            </a:lnTo>
                            <a:lnTo>
                              <a:pt x="1911" y="998"/>
                            </a:lnTo>
                            <a:lnTo>
                              <a:pt x="1851" y="1047"/>
                            </a:lnTo>
                            <a:lnTo>
                              <a:pt x="1861" y="1037"/>
                            </a:lnTo>
                            <a:lnTo>
                              <a:pt x="1875" y="1031"/>
                            </a:lnTo>
                            <a:lnTo>
                              <a:pt x="1886" y="1021"/>
                            </a:lnTo>
                            <a:lnTo>
                              <a:pt x="1815" y="1073"/>
                            </a:lnTo>
                            <a:lnTo>
                              <a:pt x="1745" y="1128"/>
                            </a:lnTo>
                            <a:lnTo>
                              <a:pt x="1667" y="1177"/>
                            </a:lnTo>
                            <a:lnTo>
                              <a:pt x="1589" y="1225"/>
                            </a:lnTo>
                            <a:lnTo>
                              <a:pt x="1516" y="1274"/>
                            </a:lnTo>
                            <a:lnTo>
                              <a:pt x="1430" y="1323"/>
                            </a:lnTo>
                            <a:lnTo>
                              <a:pt x="1353" y="1374"/>
                            </a:lnTo>
                            <a:lnTo>
                              <a:pt x="1272" y="1423"/>
                            </a:lnTo>
                            <a:lnTo>
                              <a:pt x="1187" y="1472"/>
                            </a:lnTo>
                            <a:lnTo>
                              <a:pt x="1112" y="1514"/>
                            </a:lnTo>
                            <a:lnTo>
                              <a:pt x="1042" y="1556"/>
                            </a:lnTo>
                            <a:lnTo>
                              <a:pt x="964" y="1601"/>
                            </a:lnTo>
                            <a:lnTo>
                              <a:pt x="886" y="1643"/>
                            </a:lnTo>
                            <a:lnTo>
                              <a:pt x="808" y="1688"/>
                            </a:lnTo>
                            <a:lnTo>
                              <a:pt x="738" y="1737"/>
                            </a:lnTo>
                            <a:lnTo>
                              <a:pt x="660" y="1785"/>
                            </a:lnTo>
                            <a:lnTo>
                              <a:pt x="589" y="1835"/>
                            </a:lnTo>
                            <a:lnTo>
                              <a:pt x="519" y="1883"/>
                            </a:lnTo>
                            <a:lnTo>
                              <a:pt x="449" y="1938"/>
                            </a:lnTo>
                            <a:lnTo>
                              <a:pt x="377" y="1993"/>
                            </a:lnTo>
                            <a:lnTo>
                              <a:pt x="307" y="2051"/>
                            </a:lnTo>
                            <a:lnTo>
                              <a:pt x="239" y="2109"/>
                            </a:lnTo>
                            <a:lnTo>
                              <a:pt x="317" y="2051"/>
                            </a:lnTo>
                            <a:lnTo>
                              <a:pt x="406" y="2003"/>
                            </a:lnTo>
                            <a:lnTo>
                              <a:pt x="501" y="1970"/>
                            </a:lnTo>
                            <a:lnTo>
                              <a:pt x="597" y="1954"/>
                            </a:lnTo>
                            <a:lnTo>
                              <a:pt x="696" y="1954"/>
                            </a:lnTo>
                            <a:lnTo>
                              <a:pt x="798" y="1964"/>
                            </a:lnTo>
                            <a:lnTo>
                              <a:pt x="896" y="1993"/>
                            </a:lnTo>
                            <a:lnTo>
                              <a:pt x="985" y="2035"/>
                            </a:lnTo>
                            <a:lnTo>
                              <a:pt x="1070" y="2094"/>
                            </a:lnTo>
                            <a:lnTo>
                              <a:pt x="1134" y="2158"/>
                            </a:lnTo>
                            <a:lnTo>
                              <a:pt x="1194" y="2236"/>
                            </a:lnTo>
                            <a:lnTo>
                              <a:pt x="1236" y="2317"/>
                            </a:lnTo>
                            <a:lnTo>
                              <a:pt x="1261" y="2411"/>
                            </a:lnTo>
                            <a:lnTo>
                              <a:pt x="1272" y="2501"/>
                            </a:lnTo>
                            <a:lnTo>
                              <a:pt x="1261" y="2573"/>
                            </a:lnTo>
                            <a:lnTo>
                              <a:pt x="1246" y="2615"/>
                            </a:lnTo>
                            <a:lnTo>
                              <a:pt x="1239" y="2631"/>
                            </a:lnTo>
                            <a:lnTo>
                              <a:pt x="1254" y="2615"/>
                            </a:lnTo>
                            <a:lnTo>
                              <a:pt x="1264" y="2595"/>
                            </a:lnTo>
                            <a:lnTo>
                              <a:pt x="1282" y="2573"/>
                            </a:lnTo>
                            <a:lnTo>
                              <a:pt x="1317" y="2518"/>
                            </a:lnTo>
                            <a:lnTo>
                              <a:pt x="1360" y="2460"/>
                            </a:lnTo>
                            <a:lnTo>
                              <a:pt x="1395" y="2395"/>
                            </a:lnTo>
                            <a:lnTo>
                              <a:pt x="1395" y="2404"/>
                            </a:lnTo>
                            <a:lnTo>
                              <a:pt x="1388" y="2415"/>
                            </a:lnTo>
                            <a:lnTo>
                              <a:pt x="1384" y="2421"/>
                            </a:lnTo>
                            <a:lnTo>
                              <a:pt x="1430" y="2349"/>
                            </a:lnTo>
                            <a:lnTo>
                              <a:pt x="1480" y="2275"/>
                            </a:lnTo>
                            <a:lnTo>
                              <a:pt x="1532" y="2203"/>
                            </a:lnTo>
                            <a:lnTo>
                              <a:pt x="1579" y="2133"/>
                            </a:lnTo>
                            <a:lnTo>
                              <a:pt x="1631" y="2061"/>
                            </a:lnTo>
                            <a:lnTo>
                              <a:pt x="1692" y="1993"/>
                            </a:lnTo>
                            <a:lnTo>
                              <a:pt x="1745" y="1921"/>
                            </a:lnTo>
                            <a:lnTo>
                              <a:pt x="1805" y="1857"/>
                            </a:lnTo>
                            <a:lnTo>
                              <a:pt x="1861" y="1785"/>
                            </a:lnTo>
                            <a:lnTo>
                              <a:pt x="1921" y="1721"/>
                            </a:lnTo>
                            <a:lnTo>
                              <a:pt x="1981" y="1650"/>
                            </a:lnTo>
                            <a:lnTo>
                              <a:pt x="2041" y="1585"/>
                            </a:lnTo>
                            <a:lnTo>
                              <a:pt x="2098" y="1514"/>
                            </a:lnTo>
                            <a:lnTo>
                              <a:pt x="2165" y="1448"/>
                            </a:lnTo>
                            <a:lnTo>
                              <a:pt x="2225" y="1378"/>
                            </a:lnTo>
                            <a:lnTo>
                              <a:pt x="2282" y="1296"/>
                            </a:lnTo>
                            <a:lnTo>
                              <a:pt x="2331" y="1209"/>
                            </a:lnTo>
                            <a:lnTo>
                              <a:pt x="2356" y="1118"/>
                            </a:lnTo>
                            <a:lnTo>
                              <a:pt x="2367" y="1025"/>
                            </a:lnTo>
                            <a:lnTo>
                              <a:pt x="2367" y="904"/>
                            </a:lnTo>
                            <a:lnTo>
                              <a:pt x="2360" y="820"/>
                            </a:lnTo>
                            <a:lnTo>
                              <a:pt x="2335" y="743"/>
                            </a:lnTo>
                            <a:lnTo>
                              <a:pt x="2306" y="662"/>
                            </a:lnTo>
                            <a:lnTo>
                              <a:pt x="2261" y="597"/>
                            </a:lnTo>
                            <a:lnTo>
                              <a:pt x="2207" y="532"/>
                            </a:lnTo>
                            <a:lnTo>
                              <a:pt x="2140" y="477"/>
                            </a:lnTo>
                            <a:lnTo>
                              <a:pt x="2070" y="428"/>
                            </a:lnTo>
                            <a:lnTo>
                              <a:pt x="1989" y="389"/>
                            </a:lnTo>
                            <a:lnTo>
                              <a:pt x="1904" y="370"/>
                            </a:lnTo>
                            <a:lnTo>
                              <a:pt x="1809" y="353"/>
                            </a:lnTo>
                            <a:lnTo>
                              <a:pt x="1721" y="353"/>
                            </a:lnTo>
                            <a:lnTo>
                              <a:pt x="1631" y="370"/>
                            </a:lnTo>
                            <a:lnTo>
                              <a:pt x="1550" y="389"/>
                            </a:lnTo>
                            <a:lnTo>
                              <a:pt x="1473" y="422"/>
                            </a:lnTo>
                            <a:lnTo>
                              <a:pt x="1395" y="467"/>
                            </a:lnTo>
                            <a:lnTo>
                              <a:pt x="1332" y="519"/>
                            </a:lnTo>
                            <a:lnTo>
                              <a:pt x="1272" y="587"/>
                            </a:lnTo>
                            <a:lnTo>
                              <a:pt x="1222" y="655"/>
                            </a:lnTo>
                            <a:lnTo>
                              <a:pt x="1290" y="574"/>
                            </a:lnTo>
                            <a:lnTo>
                              <a:pt x="1349" y="525"/>
                            </a:lnTo>
                            <a:lnTo>
                              <a:pt x="1371" y="509"/>
                            </a:lnTo>
                            <a:lnTo>
                              <a:pt x="1360" y="516"/>
                            </a:lnTo>
                            <a:lnTo>
                              <a:pt x="1349" y="519"/>
                            </a:lnTo>
                            <a:lnTo>
                              <a:pt x="1332" y="525"/>
                            </a:lnTo>
                            <a:lnTo>
                              <a:pt x="1254" y="558"/>
                            </a:lnTo>
                            <a:lnTo>
                              <a:pt x="1158" y="603"/>
                            </a:lnTo>
                            <a:lnTo>
                              <a:pt x="1059" y="668"/>
                            </a:lnTo>
                            <a:lnTo>
                              <a:pt x="950" y="749"/>
                            </a:lnTo>
                            <a:lnTo>
                              <a:pt x="1042" y="684"/>
                            </a:lnTo>
                            <a:lnTo>
                              <a:pt x="1148" y="629"/>
                            </a:lnTo>
                            <a:lnTo>
                              <a:pt x="1261" y="603"/>
                            </a:lnTo>
                            <a:lnTo>
                              <a:pt x="1378" y="590"/>
                            </a:lnTo>
                            <a:lnTo>
                              <a:pt x="1246" y="590"/>
                            </a:lnTo>
                            <a:lnTo>
                              <a:pt x="1130" y="603"/>
                            </a:lnTo>
                            <a:lnTo>
                              <a:pt x="1017" y="629"/>
                            </a:lnTo>
                            <a:lnTo>
                              <a:pt x="911" y="684"/>
                            </a:lnTo>
                            <a:lnTo>
                              <a:pt x="823" y="749"/>
                            </a:lnTo>
                            <a:lnTo>
                              <a:pt x="826" y="743"/>
                            </a:lnTo>
                            <a:lnTo>
                              <a:pt x="833" y="743"/>
                            </a:lnTo>
                            <a:lnTo>
                              <a:pt x="823" y="749"/>
                            </a:lnTo>
                            <a:lnTo>
                              <a:pt x="802" y="759"/>
                            </a:lnTo>
                            <a:lnTo>
                              <a:pt x="784" y="765"/>
                            </a:lnTo>
                            <a:lnTo>
                              <a:pt x="709" y="804"/>
                            </a:lnTo>
                            <a:lnTo>
                              <a:pt x="625" y="846"/>
                            </a:lnTo>
                            <a:lnTo>
                              <a:pt x="530" y="904"/>
                            </a:lnTo>
                            <a:lnTo>
                              <a:pt x="431" y="989"/>
                            </a:lnTo>
                            <a:lnTo>
                              <a:pt x="483" y="950"/>
                            </a:lnTo>
                            <a:lnTo>
                              <a:pt x="530" y="911"/>
                            </a:lnTo>
                            <a:lnTo>
                              <a:pt x="589" y="885"/>
                            </a:lnTo>
                            <a:lnTo>
                              <a:pt x="582" y="885"/>
                            </a:lnTo>
                            <a:lnTo>
                              <a:pt x="579" y="889"/>
                            </a:lnTo>
                            <a:lnTo>
                              <a:pt x="572" y="889"/>
                            </a:lnTo>
                            <a:lnTo>
                              <a:pt x="660" y="856"/>
                            </a:lnTo>
                            <a:lnTo>
                              <a:pt x="748" y="840"/>
                            </a:lnTo>
                            <a:lnTo>
                              <a:pt x="841" y="837"/>
                            </a:lnTo>
                            <a:lnTo>
                              <a:pt x="929" y="840"/>
                            </a:lnTo>
                            <a:lnTo>
                              <a:pt x="1017" y="856"/>
                            </a:lnTo>
                            <a:lnTo>
                              <a:pt x="1098" y="889"/>
                            </a:lnTo>
                            <a:lnTo>
                              <a:pt x="1176" y="934"/>
                            </a:lnTo>
                            <a:lnTo>
                              <a:pt x="1246" y="989"/>
                            </a:lnTo>
                            <a:lnTo>
                              <a:pt x="1306" y="1047"/>
                            </a:lnTo>
                            <a:lnTo>
                              <a:pt x="1360" y="1122"/>
                            </a:lnTo>
                            <a:lnTo>
                              <a:pt x="1395" y="1199"/>
                            </a:lnTo>
                            <a:lnTo>
                              <a:pt x="1423" y="1280"/>
                            </a:lnTo>
                            <a:lnTo>
                              <a:pt x="1438" y="1362"/>
                            </a:lnTo>
                            <a:lnTo>
                              <a:pt x="1430" y="1442"/>
                            </a:lnTo>
                            <a:lnTo>
                              <a:pt x="1420" y="1523"/>
                            </a:lnTo>
                            <a:lnTo>
                              <a:pt x="1388" y="1601"/>
                            </a:lnTo>
                            <a:lnTo>
                              <a:pt x="1353" y="1675"/>
                            </a:lnTo>
                            <a:lnTo>
                              <a:pt x="1300" y="1741"/>
                            </a:lnTo>
                            <a:lnTo>
                              <a:pt x="1236" y="1802"/>
                            </a:lnTo>
                            <a:lnTo>
                              <a:pt x="1158" y="1857"/>
                            </a:lnTo>
                            <a:lnTo>
                              <a:pt x="1204" y="1827"/>
                            </a:lnTo>
                            <a:lnTo>
                              <a:pt x="1261" y="1793"/>
                            </a:lnTo>
                            <a:lnTo>
                              <a:pt x="1317" y="1753"/>
                            </a:lnTo>
                            <a:lnTo>
                              <a:pt x="1384" y="1705"/>
                            </a:lnTo>
                            <a:lnTo>
                              <a:pt x="1448" y="1643"/>
                            </a:lnTo>
                            <a:lnTo>
                              <a:pt x="1501" y="1575"/>
                            </a:lnTo>
                            <a:lnTo>
                              <a:pt x="1550" y="1497"/>
                            </a:lnTo>
                            <a:lnTo>
                              <a:pt x="1589" y="1410"/>
                            </a:lnTo>
                            <a:lnTo>
                              <a:pt x="1614" y="1313"/>
                            </a:lnTo>
                            <a:lnTo>
                              <a:pt x="1614" y="1205"/>
                            </a:lnTo>
                            <a:lnTo>
                              <a:pt x="1607" y="1118"/>
                            </a:lnTo>
                            <a:lnTo>
                              <a:pt x="1579" y="1031"/>
                            </a:lnTo>
                            <a:lnTo>
                              <a:pt x="1537" y="950"/>
                            </a:lnTo>
                            <a:lnTo>
                              <a:pt x="1483" y="872"/>
                            </a:lnTo>
                            <a:lnTo>
                              <a:pt x="1420" y="807"/>
                            </a:lnTo>
                            <a:lnTo>
                              <a:pt x="1342" y="752"/>
                            </a:lnTo>
                            <a:lnTo>
                              <a:pt x="1261" y="704"/>
                            </a:lnTo>
                            <a:lnTo>
                              <a:pt x="1176" y="671"/>
                            </a:lnTo>
                            <a:lnTo>
                              <a:pt x="1095" y="655"/>
                            </a:lnTo>
                            <a:lnTo>
                              <a:pt x="1003" y="652"/>
                            </a:lnTo>
                            <a:lnTo>
                              <a:pt x="922" y="652"/>
                            </a:lnTo>
                            <a:lnTo>
                              <a:pt x="841" y="668"/>
                            </a:lnTo>
                            <a:lnTo>
                              <a:pt x="763" y="687"/>
                            </a:lnTo>
                            <a:lnTo>
                              <a:pt x="685" y="726"/>
                            </a:lnTo>
                            <a:lnTo>
                              <a:pt x="615" y="771"/>
                            </a:lnTo>
                            <a:lnTo>
                              <a:pt x="547" y="820"/>
                            </a:lnTo>
                            <a:lnTo>
                              <a:pt x="494" y="885"/>
                            </a:lnTo>
                            <a:lnTo>
                              <a:pt x="449" y="953"/>
                            </a:lnTo>
                            <a:lnTo>
                              <a:pt x="413" y="1031"/>
                            </a:lnTo>
                            <a:lnTo>
                              <a:pt x="395" y="1105"/>
                            </a:lnTo>
                            <a:lnTo>
                              <a:pt x="389" y="1183"/>
                            </a:lnTo>
                            <a:lnTo>
                              <a:pt x="389" y="1265"/>
                            </a:lnTo>
                            <a:lnTo>
                              <a:pt x="406" y="1338"/>
                            </a:lnTo>
                            <a:lnTo>
                              <a:pt x="431" y="1410"/>
                            </a:lnTo>
                            <a:lnTo>
                              <a:pt x="465" y="1481"/>
                            </a:lnTo>
                            <a:lnTo>
                              <a:pt x="519" y="1545"/>
                            </a:lnTo>
                            <a:lnTo>
                              <a:pt x="572" y="1601"/>
                            </a:lnTo>
                            <a:lnTo>
                              <a:pt x="642" y="1656"/>
                            </a:lnTo>
                            <a:lnTo>
                              <a:pt x="720" y="1691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 rot="10800000">
                        <a:off x="4591440" y="8204040"/>
                        <a:ext cx="183600" cy="75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95" h="3707">
                            <a:moveTo>
                              <a:pt x="1251" y="558"/>
                            </a:moveTo>
                            <a:lnTo>
                              <a:pt x="1392" y="586"/>
                            </a:lnTo>
                            <a:lnTo>
                              <a:pt x="1516" y="586"/>
                            </a:lnTo>
                            <a:lnTo>
                              <a:pt x="1635" y="547"/>
                            </a:lnTo>
                            <a:lnTo>
                              <a:pt x="1516" y="577"/>
                            </a:lnTo>
                            <a:lnTo>
                              <a:pt x="1409" y="558"/>
                            </a:lnTo>
                            <a:lnTo>
                              <a:pt x="1314" y="515"/>
                            </a:lnTo>
                            <a:lnTo>
                              <a:pt x="1243" y="443"/>
                            </a:lnTo>
                            <a:lnTo>
                              <a:pt x="1251" y="450"/>
                            </a:lnTo>
                            <a:lnTo>
                              <a:pt x="1258" y="459"/>
                            </a:lnTo>
                            <a:lnTo>
                              <a:pt x="1261" y="473"/>
                            </a:lnTo>
                            <a:lnTo>
                              <a:pt x="1285" y="508"/>
                            </a:lnTo>
                            <a:lnTo>
                              <a:pt x="1314" y="541"/>
                            </a:lnTo>
                            <a:lnTo>
                              <a:pt x="1350" y="577"/>
                            </a:lnTo>
                            <a:lnTo>
                              <a:pt x="1357" y="577"/>
                            </a:lnTo>
                            <a:lnTo>
                              <a:pt x="1332" y="547"/>
                            </a:lnTo>
                            <a:lnTo>
                              <a:pt x="1321" y="508"/>
                            </a:lnTo>
                            <a:lnTo>
                              <a:pt x="1321" y="473"/>
                            </a:lnTo>
                            <a:lnTo>
                              <a:pt x="1311" y="505"/>
                            </a:lnTo>
                            <a:lnTo>
                              <a:pt x="1285" y="541"/>
                            </a:lnTo>
                            <a:lnTo>
                              <a:pt x="1261" y="586"/>
                            </a:lnTo>
                            <a:lnTo>
                              <a:pt x="1215" y="661"/>
                            </a:lnTo>
                            <a:lnTo>
                              <a:pt x="1173" y="741"/>
                            </a:lnTo>
                            <a:lnTo>
                              <a:pt x="1137" y="842"/>
                            </a:lnTo>
                            <a:lnTo>
                              <a:pt x="1109" y="943"/>
                            </a:lnTo>
                            <a:lnTo>
                              <a:pt x="1095" y="1053"/>
                            </a:lnTo>
                            <a:lnTo>
                              <a:pt x="1119" y="1150"/>
                            </a:lnTo>
                            <a:lnTo>
                              <a:pt x="1173" y="1238"/>
                            </a:lnTo>
                            <a:lnTo>
                              <a:pt x="1251" y="1296"/>
                            </a:lnTo>
                            <a:lnTo>
                              <a:pt x="1350" y="1335"/>
                            </a:lnTo>
                            <a:lnTo>
                              <a:pt x="1459" y="1351"/>
                            </a:lnTo>
                            <a:lnTo>
                              <a:pt x="1565" y="1351"/>
                            </a:lnTo>
                            <a:lnTo>
                              <a:pt x="1671" y="1351"/>
                            </a:lnTo>
                            <a:lnTo>
                              <a:pt x="1767" y="1335"/>
                            </a:lnTo>
                            <a:lnTo>
                              <a:pt x="1866" y="1318"/>
                            </a:lnTo>
                            <a:lnTo>
                              <a:pt x="1954" y="1296"/>
                            </a:lnTo>
                            <a:lnTo>
                              <a:pt x="2042" y="1280"/>
                            </a:lnTo>
                            <a:lnTo>
                              <a:pt x="2162" y="1253"/>
                            </a:lnTo>
                            <a:lnTo>
                              <a:pt x="2279" y="1231"/>
                            </a:lnTo>
                            <a:lnTo>
                              <a:pt x="2381" y="1221"/>
                            </a:lnTo>
                            <a:lnTo>
                              <a:pt x="2261" y="1199"/>
                            </a:lnTo>
                            <a:lnTo>
                              <a:pt x="2162" y="1140"/>
                            </a:lnTo>
                            <a:lnTo>
                              <a:pt x="2092" y="1046"/>
                            </a:lnTo>
                            <a:lnTo>
                              <a:pt x="2066" y="932"/>
                            </a:lnTo>
                            <a:lnTo>
                              <a:pt x="2092" y="826"/>
                            </a:lnTo>
                            <a:lnTo>
                              <a:pt x="2162" y="732"/>
                            </a:lnTo>
                            <a:lnTo>
                              <a:pt x="2162" y="725"/>
                            </a:lnTo>
                            <a:lnTo>
                              <a:pt x="2162" y="732"/>
                            </a:lnTo>
                            <a:lnTo>
                              <a:pt x="2155" y="738"/>
                            </a:lnTo>
                            <a:lnTo>
                              <a:pt x="2144" y="738"/>
                            </a:lnTo>
                            <a:lnTo>
                              <a:pt x="2092" y="771"/>
                            </a:lnTo>
                            <a:lnTo>
                              <a:pt x="2024" y="835"/>
                            </a:lnTo>
                            <a:lnTo>
                              <a:pt x="1968" y="926"/>
                            </a:lnTo>
                            <a:lnTo>
                              <a:pt x="1936" y="1053"/>
                            </a:lnTo>
                            <a:lnTo>
                              <a:pt x="1943" y="1037"/>
                            </a:lnTo>
                            <a:lnTo>
                              <a:pt x="1943" y="1030"/>
                            </a:lnTo>
                            <a:lnTo>
                              <a:pt x="1943" y="1026"/>
                            </a:lnTo>
                            <a:lnTo>
                              <a:pt x="1933" y="1059"/>
                            </a:lnTo>
                            <a:lnTo>
                              <a:pt x="1908" y="1095"/>
                            </a:lnTo>
                            <a:lnTo>
                              <a:pt x="1883" y="1140"/>
                            </a:lnTo>
                            <a:lnTo>
                              <a:pt x="1848" y="1189"/>
                            </a:lnTo>
                            <a:lnTo>
                              <a:pt x="1806" y="1247"/>
                            </a:lnTo>
                            <a:lnTo>
                              <a:pt x="1760" y="1308"/>
                            </a:lnTo>
                            <a:lnTo>
                              <a:pt x="1706" y="1374"/>
                            </a:lnTo>
                            <a:lnTo>
                              <a:pt x="1653" y="1438"/>
                            </a:lnTo>
                            <a:lnTo>
                              <a:pt x="1593" y="1513"/>
                            </a:lnTo>
                            <a:lnTo>
                              <a:pt x="1529" y="1584"/>
                            </a:lnTo>
                            <a:lnTo>
                              <a:pt x="1462" y="1662"/>
                            </a:lnTo>
                            <a:lnTo>
                              <a:pt x="1399" y="1736"/>
                            </a:lnTo>
                            <a:lnTo>
                              <a:pt x="1329" y="1814"/>
                            </a:lnTo>
                            <a:lnTo>
                              <a:pt x="1258" y="1888"/>
                            </a:lnTo>
                            <a:lnTo>
                              <a:pt x="1191" y="1963"/>
                            </a:lnTo>
                            <a:lnTo>
                              <a:pt x="1119" y="2041"/>
                            </a:lnTo>
                            <a:lnTo>
                              <a:pt x="1056" y="2115"/>
                            </a:lnTo>
                            <a:lnTo>
                              <a:pt x="989" y="2187"/>
                            </a:lnTo>
                            <a:lnTo>
                              <a:pt x="926" y="2251"/>
                            </a:lnTo>
                            <a:lnTo>
                              <a:pt x="866" y="2316"/>
                            </a:lnTo>
                            <a:lnTo>
                              <a:pt x="812" y="2378"/>
                            </a:lnTo>
                            <a:lnTo>
                              <a:pt x="706" y="2498"/>
                            </a:lnTo>
                            <a:lnTo>
                              <a:pt x="604" y="2601"/>
                            </a:lnTo>
                            <a:lnTo>
                              <a:pt x="522" y="2698"/>
                            </a:lnTo>
                            <a:lnTo>
                              <a:pt x="438" y="2783"/>
                            </a:lnTo>
                            <a:lnTo>
                              <a:pt x="368" y="2867"/>
                            </a:lnTo>
                            <a:lnTo>
                              <a:pt x="304" y="2935"/>
                            </a:lnTo>
                            <a:lnTo>
                              <a:pt x="251" y="3003"/>
                            </a:lnTo>
                            <a:lnTo>
                              <a:pt x="197" y="3061"/>
                            </a:lnTo>
                            <a:lnTo>
                              <a:pt x="155" y="3116"/>
                            </a:lnTo>
                            <a:lnTo>
                              <a:pt x="120" y="3165"/>
                            </a:lnTo>
                            <a:lnTo>
                              <a:pt x="88" y="3207"/>
                            </a:lnTo>
                            <a:lnTo>
                              <a:pt x="60" y="3246"/>
                            </a:lnTo>
                            <a:lnTo>
                              <a:pt x="42" y="3285"/>
                            </a:lnTo>
                            <a:lnTo>
                              <a:pt x="25" y="3317"/>
                            </a:lnTo>
                            <a:lnTo>
                              <a:pt x="0" y="3405"/>
                            </a:lnTo>
                            <a:lnTo>
                              <a:pt x="15" y="3489"/>
                            </a:lnTo>
                            <a:lnTo>
                              <a:pt x="49" y="3570"/>
                            </a:lnTo>
                            <a:lnTo>
                              <a:pt x="113" y="3641"/>
                            </a:lnTo>
                            <a:lnTo>
                              <a:pt x="197" y="3690"/>
                            </a:lnTo>
                            <a:lnTo>
                              <a:pt x="296" y="3707"/>
                            </a:lnTo>
                            <a:lnTo>
                              <a:pt x="392" y="3704"/>
                            </a:lnTo>
                            <a:lnTo>
                              <a:pt x="480" y="3664"/>
                            </a:lnTo>
                            <a:lnTo>
                              <a:pt x="558" y="3610"/>
                            </a:lnTo>
                            <a:lnTo>
                              <a:pt x="604" y="3528"/>
                            </a:lnTo>
                            <a:lnTo>
                              <a:pt x="604" y="3535"/>
                            </a:lnTo>
                            <a:lnTo>
                              <a:pt x="622" y="3502"/>
                            </a:lnTo>
                            <a:lnTo>
                              <a:pt x="654" y="3464"/>
                            </a:lnTo>
                            <a:lnTo>
                              <a:pt x="693" y="3414"/>
                            </a:lnTo>
                            <a:lnTo>
                              <a:pt x="742" y="3353"/>
                            </a:lnTo>
                            <a:lnTo>
                              <a:pt x="802" y="3288"/>
                            </a:lnTo>
                            <a:lnTo>
                              <a:pt x="859" y="3220"/>
                            </a:lnTo>
                            <a:lnTo>
                              <a:pt x="929" y="3149"/>
                            </a:lnTo>
                            <a:lnTo>
                              <a:pt x="1004" y="3068"/>
                            </a:lnTo>
                            <a:lnTo>
                              <a:pt x="1074" y="2991"/>
                            </a:lnTo>
                            <a:lnTo>
                              <a:pt x="1145" y="2909"/>
                            </a:lnTo>
                            <a:lnTo>
                              <a:pt x="1222" y="2828"/>
                            </a:lnTo>
                            <a:lnTo>
                              <a:pt x="1293" y="2751"/>
                            </a:lnTo>
                            <a:lnTo>
                              <a:pt x="1399" y="2634"/>
                            </a:lnTo>
                            <a:lnTo>
                              <a:pt x="1498" y="2524"/>
                            </a:lnTo>
                            <a:lnTo>
                              <a:pt x="1593" y="2420"/>
                            </a:lnTo>
                            <a:lnTo>
                              <a:pt x="1689" y="2316"/>
                            </a:lnTo>
                            <a:lnTo>
                              <a:pt x="1770" y="2219"/>
                            </a:lnTo>
                            <a:lnTo>
                              <a:pt x="1855" y="2132"/>
                            </a:lnTo>
                            <a:lnTo>
                              <a:pt x="1933" y="2048"/>
                            </a:lnTo>
                            <a:lnTo>
                              <a:pt x="2003" y="1963"/>
                            </a:lnTo>
                            <a:lnTo>
                              <a:pt x="2066" y="1888"/>
                            </a:lnTo>
                            <a:lnTo>
                              <a:pt x="2134" y="1814"/>
                            </a:lnTo>
                            <a:lnTo>
                              <a:pt x="2186" y="1746"/>
                            </a:lnTo>
                            <a:lnTo>
                              <a:pt x="2240" y="1678"/>
                            </a:lnTo>
                            <a:lnTo>
                              <a:pt x="2286" y="1617"/>
                            </a:lnTo>
                            <a:lnTo>
                              <a:pt x="2336" y="1559"/>
                            </a:lnTo>
                            <a:lnTo>
                              <a:pt x="2370" y="1503"/>
                            </a:lnTo>
                            <a:lnTo>
                              <a:pt x="2406" y="1448"/>
                            </a:lnTo>
                            <a:lnTo>
                              <a:pt x="2441" y="1399"/>
                            </a:lnTo>
                            <a:lnTo>
                              <a:pt x="2469" y="1351"/>
                            </a:lnTo>
                            <a:lnTo>
                              <a:pt x="2494" y="1308"/>
                            </a:lnTo>
                            <a:lnTo>
                              <a:pt x="2512" y="1269"/>
                            </a:lnTo>
                            <a:lnTo>
                              <a:pt x="2529" y="1228"/>
                            </a:lnTo>
                            <a:lnTo>
                              <a:pt x="2541" y="1189"/>
                            </a:lnTo>
                            <a:lnTo>
                              <a:pt x="2554" y="1150"/>
                            </a:lnTo>
                            <a:lnTo>
                              <a:pt x="2557" y="1117"/>
                            </a:lnTo>
                            <a:lnTo>
                              <a:pt x="2565" y="1086"/>
                            </a:lnTo>
                            <a:lnTo>
                              <a:pt x="2565" y="1053"/>
                            </a:lnTo>
                            <a:lnTo>
                              <a:pt x="2554" y="1134"/>
                            </a:lnTo>
                            <a:lnTo>
                              <a:pt x="2512" y="1195"/>
                            </a:lnTo>
                            <a:lnTo>
                              <a:pt x="2469" y="1231"/>
                            </a:lnTo>
                            <a:lnTo>
                              <a:pt x="2476" y="1231"/>
                            </a:lnTo>
                            <a:lnTo>
                              <a:pt x="2476" y="1228"/>
                            </a:lnTo>
                            <a:lnTo>
                              <a:pt x="2512" y="1211"/>
                            </a:lnTo>
                            <a:lnTo>
                              <a:pt x="2554" y="1180"/>
                            </a:lnTo>
                            <a:lnTo>
                              <a:pt x="2607" y="1140"/>
                            </a:lnTo>
                            <a:lnTo>
                              <a:pt x="2671" y="1043"/>
                            </a:lnTo>
                            <a:lnTo>
                              <a:pt x="2695" y="932"/>
                            </a:lnTo>
                            <a:lnTo>
                              <a:pt x="2671" y="826"/>
                            </a:lnTo>
                            <a:lnTo>
                              <a:pt x="2607" y="732"/>
                            </a:lnTo>
                            <a:lnTo>
                              <a:pt x="2505" y="667"/>
                            </a:lnTo>
                            <a:lnTo>
                              <a:pt x="2381" y="644"/>
                            </a:lnTo>
                            <a:lnTo>
                              <a:pt x="2279" y="650"/>
                            </a:lnTo>
                            <a:lnTo>
                              <a:pt x="2173" y="661"/>
                            </a:lnTo>
                            <a:lnTo>
                              <a:pt x="2074" y="683"/>
                            </a:lnTo>
                            <a:lnTo>
                              <a:pt x="1978" y="699"/>
                            </a:lnTo>
                            <a:lnTo>
                              <a:pt x="1890" y="722"/>
                            </a:lnTo>
                            <a:lnTo>
                              <a:pt x="1770" y="749"/>
                            </a:lnTo>
                            <a:lnTo>
                              <a:pt x="1664" y="771"/>
                            </a:lnTo>
                            <a:lnTo>
                              <a:pt x="1565" y="777"/>
                            </a:lnTo>
                            <a:lnTo>
                              <a:pt x="1477" y="771"/>
                            </a:lnTo>
                            <a:lnTo>
                              <a:pt x="1576" y="810"/>
                            </a:lnTo>
                            <a:lnTo>
                              <a:pt x="1661" y="874"/>
                            </a:lnTo>
                            <a:lnTo>
                              <a:pt x="1706" y="956"/>
                            </a:lnTo>
                            <a:lnTo>
                              <a:pt x="1731" y="1053"/>
                            </a:lnTo>
                            <a:lnTo>
                              <a:pt x="1742" y="998"/>
                            </a:lnTo>
                            <a:lnTo>
                              <a:pt x="1770" y="926"/>
                            </a:lnTo>
                            <a:lnTo>
                              <a:pt x="1812" y="858"/>
                            </a:lnTo>
                            <a:lnTo>
                              <a:pt x="1840" y="810"/>
                            </a:lnTo>
                            <a:lnTo>
                              <a:pt x="1866" y="758"/>
                            </a:lnTo>
                            <a:lnTo>
                              <a:pt x="1897" y="699"/>
                            </a:lnTo>
                            <a:lnTo>
                              <a:pt x="1918" y="628"/>
                            </a:lnTo>
                            <a:lnTo>
                              <a:pt x="1936" y="558"/>
                            </a:lnTo>
                            <a:lnTo>
                              <a:pt x="1943" y="489"/>
                            </a:lnTo>
                            <a:lnTo>
                              <a:pt x="1943" y="411"/>
                            </a:lnTo>
                            <a:lnTo>
                              <a:pt x="1918" y="337"/>
                            </a:lnTo>
                            <a:lnTo>
                              <a:pt x="1879" y="259"/>
                            </a:lnTo>
                            <a:lnTo>
                              <a:pt x="1819" y="185"/>
                            </a:lnTo>
                            <a:lnTo>
                              <a:pt x="1731" y="113"/>
                            </a:lnTo>
                            <a:lnTo>
                              <a:pt x="1767" y="139"/>
                            </a:lnTo>
                            <a:lnTo>
                              <a:pt x="1802" y="178"/>
                            </a:lnTo>
                            <a:lnTo>
                              <a:pt x="1823" y="216"/>
                            </a:lnTo>
                            <a:lnTo>
                              <a:pt x="1784" y="139"/>
                            </a:lnTo>
                            <a:lnTo>
                              <a:pt x="1713" y="71"/>
                            </a:lnTo>
                            <a:lnTo>
                              <a:pt x="1604" y="16"/>
                            </a:lnTo>
                            <a:lnTo>
                              <a:pt x="1540" y="0"/>
                            </a:lnTo>
                            <a:lnTo>
                              <a:pt x="1452" y="6"/>
                            </a:lnTo>
                            <a:lnTo>
                              <a:pt x="1350" y="32"/>
                            </a:lnTo>
                            <a:lnTo>
                              <a:pt x="1399" y="22"/>
                            </a:lnTo>
                            <a:lnTo>
                              <a:pt x="1435" y="16"/>
                            </a:lnTo>
                            <a:lnTo>
                              <a:pt x="1462" y="16"/>
                            </a:lnTo>
                            <a:lnTo>
                              <a:pt x="1459" y="16"/>
                            </a:lnTo>
                            <a:lnTo>
                              <a:pt x="1452" y="9"/>
                            </a:lnTo>
                            <a:lnTo>
                              <a:pt x="1350" y="0"/>
                            </a:lnTo>
                            <a:lnTo>
                              <a:pt x="1258" y="9"/>
                            </a:lnTo>
                            <a:lnTo>
                              <a:pt x="1166" y="48"/>
                            </a:lnTo>
                            <a:lnTo>
                              <a:pt x="1095" y="113"/>
                            </a:lnTo>
                            <a:lnTo>
                              <a:pt x="1049" y="194"/>
                            </a:lnTo>
                            <a:lnTo>
                              <a:pt x="1038" y="288"/>
                            </a:lnTo>
                            <a:lnTo>
                              <a:pt x="1049" y="376"/>
                            </a:lnTo>
                            <a:lnTo>
                              <a:pt x="1095" y="450"/>
                            </a:lnTo>
                            <a:lnTo>
                              <a:pt x="1162" y="515"/>
                            </a:lnTo>
                            <a:lnTo>
                              <a:pt x="1251" y="558"/>
                            </a:lnTo>
                            <a:close/>
                          </a:path>
                        </a:pathLst>
                      </a:cu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 rot="10800000">
                        <a:off x="4844520" y="8225640"/>
                        <a:ext cx="3045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62" h="723">
                            <a:moveTo>
                              <a:pt x="4147" y="33"/>
                            </a:moveTo>
                            <a:lnTo>
                              <a:pt x="4108" y="33"/>
                            </a:lnTo>
                            <a:lnTo>
                              <a:pt x="4077" y="33"/>
                            </a:lnTo>
                            <a:lnTo>
                              <a:pt x="4042" y="27"/>
                            </a:lnTo>
                            <a:lnTo>
                              <a:pt x="3988" y="17"/>
                            </a:lnTo>
                            <a:lnTo>
                              <a:pt x="3918" y="10"/>
                            </a:lnTo>
                            <a:lnTo>
                              <a:pt x="3822" y="3"/>
                            </a:lnTo>
                            <a:lnTo>
                              <a:pt x="3674" y="27"/>
                            </a:lnTo>
                            <a:lnTo>
                              <a:pt x="3562" y="66"/>
                            </a:lnTo>
                            <a:lnTo>
                              <a:pt x="3490" y="104"/>
                            </a:lnTo>
                            <a:lnTo>
                              <a:pt x="3487" y="108"/>
                            </a:lnTo>
                            <a:lnTo>
                              <a:pt x="3473" y="108"/>
                            </a:lnTo>
                            <a:lnTo>
                              <a:pt x="3473" y="114"/>
                            </a:lnTo>
                            <a:lnTo>
                              <a:pt x="3480" y="108"/>
                            </a:lnTo>
                            <a:lnTo>
                              <a:pt x="3487" y="108"/>
                            </a:lnTo>
                            <a:lnTo>
                              <a:pt x="3497" y="108"/>
                            </a:lnTo>
                            <a:lnTo>
                              <a:pt x="3490" y="108"/>
                            </a:lnTo>
                            <a:lnTo>
                              <a:pt x="3497" y="108"/>
                            </a:lnTo>
                            <a:lnTo>
                              <a:pt x="3505" y="108"/>
                            </a:lnTo>
                            <a:lnTo>
                              <a:pt x="3508" y="114"/>
                            </a:lnTo>
                            <a:lnTo>
                              <a:pt x="3508" y="108"/>
                            </a:lnTo>
                            <a:lnTo>
                              <a:pt x="3505" y="108"/>
                            </a:lnTo>
                            <a:lnTo>
                              <a:pt x="3497" y="104"/>
                            </a:lnTo>
                            <a:lnTo>
                              <a:pt x="3427" y="72"/>
                            </a:lnTo>
                            <a:lnTo>
                              <a:pt x="3321" y="33"/>
                            </a:lnTo>
                            <a:lnTo>
                              <a:pt x="3176" y="17"/>
                            </a:lnTo>
                            <a:lnTo>
                              <a:pt x="3024" y="33"/>
                            </a:lnTo>
                            <a:lnTo>
                              <a:pt x="2911" y="75"/>
                            </a:lnTo>
                            <a:lnTo>
                              <a:pt x="2840" y="114"/>
                            </a:lnTo>
                            <a:lnTo>
                              <a:pt x="2833" y="121"/>
                            </a:lnTo>
                            <a:lnTo>
                              <a:pt x="2830" y="121"/>
                            </a:lnTo>
                            <a:lnTo>
                              <a:pt x="2823" y="124"/>
                            </a:lnTo>
                            <a:lnTo>
                              <a:pt x="2830" y="121"/>
                            </a:lnTo>
                            <a:lnTo>
                              <a:pt x="2840" y="121"/>
                            </a:lnTo>
                            <a:lnTo>
                              <a:pt x="2848" y="114"/>
                            </a:lnTo>
                            <a:lnTo>
                              <a:pt x="2848" y="121"/>
                            </a:lnTo>
                            <a:lnTo>
                              <a:pt x="2794" y="114"/>
                            </a:lnTo>
                            <a:lnTo>
                              <a:pt x="2755" y="114"/>
                            </a:lnTo>
                            <a:lnTo>
                              <a:pt x="2721" y="108"/>
                            </a:lnTo>
                            <a:lnTo>
                              <a:pt x="2674" y="108"/>
                            </a:lnTo>
                            <a:lnTo>
                              <a:pt x="2614" y="104"/>
                            </a:lnTo>
                            <a:lnTo>
                              <a:pt x="2526" y="97"/>
                            </a:lnTo>
                            <a:lnTo>
                              <a:pt x="2462" y="97"/>
                            </a:lnTo>
                            <a:lnTo>
                              <a:pt x="2413" y="97"/>
                            </a:lnTo>
                            <a:lnTo>
                              <a:pt x="2374" y="97"/>
                            </a:lnTo>
                            <a:lnTo>
                              <a:pt x="2324" y="97"/>
                            </a:lnTo>
                            <a:lnTo>
                              <a:pt x="2272" y="97"/>
                            </a:lnTo>
                            <a:lnTo>
                              <a:pt x="2201" y="91"/>
                            </a:lnTo>
                            <a:lnTo>
                              <a:pt x="2137" y="91"/>
                            </a:lnTo>
                            <a:lnTo>
                              <a:pt x="2088" y="91"/>
                            </a:lnTo>
                            <a:lnTo>
                              <a:pt x="2052" y="91"/>
                            </a:lnTo>
                            <a:lnTo>
                              <a:pt x="2007" y="91"/>
                            </a:lnTo>
                            <a:lnTo>
                              <a:pt x="1953" y="91"/>
                            </a:lnTo>
                            <a:lnTo>
                              <a:pt x="1880" y="91"/>
                            </a:lnTo>
                            <a:lnTo>
                              <a:pt x="1875" y="91"/>
                            </a:lnTo>
                            <a:lnTo>
                              <a:pt x="1880" y="91"/>
                            </a:lnTo>
                            <a:lnTo>
                              <a:pt x="1887" y="91"/>
                            </a:lnTo>
                            <a:lnTo>
                              <a:pt x="1893" y="97"/>
                            </a:lnTo>
                            <a:lnTo>
                              <a:pt x="1887" y="91"/>
                            </a:lnTo>
                            <a:lnTo>
                              <a:pt x="1880" y="88"/>
                            </a:lnTo>
                            <a:lnTo>
                              <a:pt x="1875" y="88"/>
                            </a:lnTo>
                            <a:lnTo>
                              <a:pt x="1805" y="55"/>
                            </a:lnTo>
                            <a:lnTo>
                              <a:pt x="1699" y="17"/>
                            </a:lnTo>
                            <a:lnTo>
                              <a:pt x="1555" y="0"/>
                            </a:lnTo>
                            <a:lnTo>
                              <a:pt x="1385" y="27"/>
                            </a:lnTo>
                            <a:lnTo>
                              <a:pt x="1265" y="82"/>
                            </a:lnTo>
                            <a:lnTo>
                              <a:pt x="1187" y="136"/>
                            </a:lnTo>
                            <a:lnTo>
                              <a:pt x="1184" y="140"/>
                            </a:lnTo>
                            <a:lnTo>
                              <a:pt x="1176" y="140"/>
                            </a:lnTo>
                            <a:lnTo>
                              <a:pt x="1176" y="146"/>
                            </a:lnTo>
                            <a:lnTo>
                              <a:pt x="1194" y="136"/>
                            </a:lnTo>
                            <a:lnTo>
                              <a:pt x="1212" y="130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236" y="124"/>
                            </a:lnTo>
                            <a:lnTo>
                              <a:pt x="1239" y="130"/>
                            </a:lnTo>
                            <a:lnTo>
                              <a:pt x="1239" y="124"/>
                            </a:lnTo>
                            <a:lnTo>
                              <a:pt x="1236" y="124"/>
                            </a:lnTo>
                            <a:lnTo>
                              <a:pt x="1229" y="124"/>
                            </a:lnTo>
                            <a:lnTo>
                              <a:pt x="1166" y="91"/>
                            </a:lnTo>
                            <a:lnTo>
                              <a:pt x="1063" y="72"/>
                            </a:lnTo>
                            <a:lnTo>
                              <a:pt x="933" y="55"/>
                            </a:lnTo>
                            <a:lnTo>
                              <a:pt x="826" y="66"/>
                            </a:lnTo>
                            <a:lnTo>
                              <a:pt x="738" y="82"/>
                            </a:lnTo>
                            <a:lnTo>
                              <a:pt x="668" y="104"/>
                            </a:lnTo>
                            <a:lnTo>
                              <a:pt x="650" y="108"/>
                            </a:lnTo>
                            <a:lnTo>
                              <a:pt x="632" y="108"/>
                            </a:lnTo>
                            <a:lnTo>
                              <a:pt x="615" y="108"/>
                            </a:lnTo>
                            <a:lnTo>
                              <a:pt x="527" y="114"/>
                            </a:lnTo>
                            <a:lnTo>
                              <a:pt x="455" y="124"/>
                            </a:lnTo>
                            <a:lnTo>
                              <a:pt x="389" y="136"/>
                            </a:lnTo>
                            <a:lnTo>
                              <a:pt x="364" y="140"/>
                            </a:lnTo>
                            <a:lnTo>
                              <a:pt x="343" y="140"/>
                            </a:lnTo>
                            <a:lnTo>
                              <a:pt x="311" y="146"/>
                            </a:lnTo>
                            <a:lnTo>
                              <a:pt x="219" y="163"/>
                            </a:lnTo>
                            <a:lnTo>
                              <a:pt x="127" y="201"/>
                            </a:lnTo>
                            <a:lnTo>
                              <a:pt x="63" y="260"/>
                            </a:lnTo>
                            <a:lnTo>
                              <a:pt x="18" y="340"/>
                            </a:lnTo>
                            <a:lnTo>
                              <a:pt x="0" y="434"/>
                            </a:lnTo>
                            <a:lnTo>
                              <a:pt x="18" y="522"/>
                            </a:lnTo>
                            <a:lnTo>
                              <a:pt x="63" y="603"/>
                            </a:lnTo>
                            <a:lnTo>
                              <a:pt x="127" y="668"/>
                            </a:lnTo>
                            <a:lnTo>
                              <a:pt x="219" y="707"/>
                            </a:lnTo>
                            <a:lnTo>
                              <a:pt x="311" y="723"/>
                            </a:lnTo>
                            <a:lnTo>
                              <a:pt x="406" y="716"/>
                            </a:lnTo>
                            <a:lnTo>
                              <a:pt x="477" y="707"/>
                            </a:lnTo>
                            <a:lnTo>
                              <a:pt x="544" y="694"/>
                            </a:lnTo>
                            <a:lnTo>
                              <a:pt x="566" y="691"/>
                            </a:lnTo>
                            <a:lnTo>
                              <a:pt x="590" y="685"/>
                            </a:lnTo>
                            <a:lnTo>
                              <a:pt x="615" y="685"/>
                            </a:lnTo>
                            <a:lnTo>
                              <a:pt x="728" y="677"/>
                            </a:lnTo>
                            <a:lnTo>
                              <a:pt x="816" y="661"/>
                            </a:lnTo>
                            <a:lnTo>
                              <a:pt x="886" y="639"/>
                            </a:lnTo>
                            <a:lnTo>
                              <a:pt x="904" y="636"/>
                            </a:lnTo>
                            <a:lnTo>
                              <a:pt x="915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33" y="629"/>
                            </a:lnTo>
                            <a:lnTo>
                              <a:pt x="929" y="629"/>
                            </a:lnTo>
                            <a:lnTo>
                              <a:pt x="933" y="629"/>
                            </a:lnTo>
                            <a:lnTo>
                              <a:pt x="940" y="629"/>
                            </a:lnTo>
                            <a:lnTo>
                              <a:pt x="947" y="636"/>
                            </a:lnTo>
                            <a:lnTo>
                              <a:pt x="1003" y="661"/>
                            </a:lnTo>
                            <a:lnTo>
                              <a:pt x="1106" y="691"/>
                            </a:lnTo>
                            <a:lnTo>
                              <a:pt x="1236" y="700"/>
                            </a:lnTo>
                            <a:lnTo>
                              <a:pt x="1402" y="677"/>
                            </a:lnTo>
                            <a:lnTo>
                              <a:pt x="1519" y="622"/>
                            </a:lnTo>
                            <a:lnTo>
                              <a:pt x="1597" y="571"/>
                            </a:lnTo>
                            <a:lnTo>
                              <a:pt x="1604" y="564"/>
                            </a:lnTo>
                            <a:lnTo>
                              <a:pt x="1607" y="564"/>
                            </a:lnTo>
                            <a:lnTo>
                              <a:pt x="1615" y="558"/>
                            </a:lnTo>
                            <a:lnTo>
                              <a:pt x="1597" y="571"/>
                            </a:lnTo>
                            <a:lnTo>
                              <a:pt x="1572" y="574"/>
                            </a:lnTo>
                            <a:lnTo>
                              <a:pt x="1555" y="574"/>
                            </a:lnTo>
                            <a:lnTo>
                              <a:pt x="1561" y="574"/>
                            </a:lnTo>
                            <a:lnTo>
                              <a:pt x="1555" y="574"/>
                            </a:lnTo>
                            <a:lnTo>
                              <a:pt x="1551" y="574"/>
                            </a:lnTo>
                            <a:lnTo>
                              <a:pt x="1543" y="574"/>
                            </a:lnTo>
                            <a:lnTo>
                              <a:pt x="1555" y="580"/>
                            </a:lnTo>
                            <a:lnTo>
                              <a:pt x="1561" y="580"/>
                            </a:lnTo>
                            <a:lnTo>
                              <a:pt x="1633" y="619"/>
                            </a:lnTo>
                            <a:lnTo>
                              <a:pt x="1738" y="652"/>
                            </a:lnTo>
                            <a:lnTo>
                              <a:pt x="1880" y="668"/>
                            </a:lnTo>
                            <a:lnTo>
                              <a:pt x="1947" y="668"/>
                            </a:lnTo>
                            <a:lnTo>
                              <a:pt x="1992" y="668"/>
                            </a:lnTo>
                            <a:lnTo>
                              <a:pt x="2028" y="668"/>
                            </a:lnTo>
                            <a:lnTo>
                              <a:pt x="2077" y="668"/>
                            </a:lnTo>
                            <a:lnTo>
                              <a:pt x="2130" y="668"/>
                            </a:lnTo>
                            <a:lnTo>
                              <a:pt x="2201" y="668"/>
                            </a:lnTo>
                            <a:lnTo>
                              <a:pt x="2264" y="674"/>
                            </a:lnTo>
                            <a:lnTo>
                              <a:pt x="2314" y="674"/>
                            </a:lnTo>
                            <a:lnTo>
                              <a:pt x="2357" y="674"/>
                            </a:lnTo>
                            <a:lnTo>
                              <a:pt x="2402" y="674"/>
                            </a:lnTo>
                            <a:lnTo>
                              <a:pt x="2456" y="674"/>
                            </a:lnTo>
                            <a:lnTo>
                              <a:pt x="2526" y="674"/>
                            </a:lnTo>
                            <a:lnTo>
                              <a:pt x="2579" y="677"/>
                            </a:lnTo>
                            <a:lnTo>
                              <a:pt x="2614" y="677"/>
                            </a:lnTo>
                            <a:lnTo>
                              <a:pt x="2649" y="685"/>
                            </a:lnTo>
                            <a:lnTo>
                              <a:pt x="2700" y="685"/>
                            </a:lnTo>
                            <a:lnTo>
                              <a:pt x="2755" y="691"/>
                            </a:lnTo>
                            <a:lnTo>
                              <a:pt x="2848" y="694"/>
                            </a:lnTo>
                            <a:lnTo>
                              <a:pt x="2996" y="674"/>
                            </a:lnTo>
                            <a:lnTo>
                              <a:pt x="3105" y="636"/>
                            </a:lnTo>
                            <a:lnTo>
                              <a:pt x="3176" y="597"/>
                            </a:lnTo>
                            <a:lnTo>
                              <a:pt x="3190" y="591"/>
                            </a:lnTo>
                            <a:lnTo>
                              <a:pt x="3194" y="587"/>
                            </a:lnTo>
                            <a:lnTo>
                              <a:pt x="3190" y="591"/>
                            </a:lnTo>
                            <a:lnTo>
                              <a:pt x="3183" y="591"/>
                            </a:lnTo>
                            <a:lnTo>
                              <a:pt x="3173" y="591"/>
                            </a:lnTo>
                            <a:lnTo>
                              <a:pt x="3176" y="591"/>
                            </a:lnTo>
                            <a:lnTo>
                              <a:pt x="3173" y="591"/>
                            </a:lnTo>
                            <a:lnTo>
                              <a:pt x="3165" y="591"/>
                            </a:lnTo>
                            <a:lnTo>
                              <a:pt x="3155" y="587"/>
                            </a:lnTo>
                            <a:lnTo>
                              <a:pt x="3158" y="591"/>
                            </a:lnTo>
                            <a:lnTo>
                              <a:pt x="3165" y="591"/>
                            </a:lnTo>
                            <a:lnTo>
                              <a:pt x="3173" y="597"/>
                            </a:lnTo>
                            <a:lnTo>
                              <a:pt x="3243" y="629"/>
                            </a:lnTo>
                            <a:lnTo>
                              <a:pt x="3349" y="668"/>
                            </a:lnTo>
                            <a:lnTo>
                              <a:pt x="3490" y="685"/>
                            </a:lnTo>
                            <a:lnTo>
                              <a:pt x="3646" y="668"/>
                            </a:lnTo>
                            <a:lnTo>
                              <a:pt x="3759" y="622"/>
                            </a:lnTo>
                            <a:lnTo>
                              <a:pt x="3830" y="587"/>
                            </a:lnTo>
                            <a:lnTo>
                              <a:pt x="3840" y="580"/>
                            </a:lnTo>
                            <a:lnTo>
                              <a:pt x="3840" y="574"/>
                            </a:lnTo>
                            <a:lnTo>
                              <a:pt x="3847" y="574"/>
                            </a:lnTo>
                            <a:lnTo>
                              <a:pt x="3840" y="580"/>
                            </a:lnTo>
                            <a:lnTo>
                              <a:pt x="3830" y="580"/>
                            </a:lnTo>
                            <a:lnTo>
                              <a:pt x="3822" y="580"/>
                            </a:lnTo>
                            <a:lnTo>
                              <a:pt x="3872" y="587"/>
                            </a:lnTo>
                            <a:lnTo>
                              <a:pt x="3900" y="587"/>
                            </a:lnTo>
                            <a:lnTo>
                              <a:pt x="3928" y="591"/>
                            </a:lnTo>
                            <a:lnTo>
                              <a:pt x="3981" y="597"/>
                            </a:lnTo>
                            <a:lnTo>
                              <a:pt x="4052" y="606"/>
                            </a:lnTo>
                            <a:lnTo>
                              <a:pt x="4147" y="613"/>
                            </a:lnTo>
                            <a:lnTo>
                              <a:pt x="4243" y="597"/>
                            </a:lnTo>
                            <a:lnTo>
                              <a:pt x="4331" y="555"/>
                            </a:lnTo>
                            <a:lnTo>
                              <a:pt x="4398" y="493"/>
                            </a:lnTo>
                            <a:lnTo>
                              <a:pt x="4445" y="412"/>
                            </a:lnTo>
                            <a:lnTo>
                              <a:pt x="4462" y="324"/>
                            </a:lnTo>
                            <a:lnTo>
                              <a:pt x="4445" y="234"/>
                            </a:lnTo>
                            <a:lnTo>
                              <a:pt x="4398" y="152"/>
                            </a:lnTo>
                            <a:lnTo>
                              <a:pt x="4331" y="88"/>
                            </a:lnTo>
                            <a:lnTo>
                              <a:pt x="4243" y="49"/>
                            </a:lnTo>
                            <a:lnTo>
                              <a:pt x="4147" y="3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 rot="10800000">
                        <a:off x="4545720" y="8226000"/>
                        <a:ext cx="2754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7" h="4080">
                            <a:moveTo>
                              <a:pt x="3963" y="2663"/>
                            </a:moveTo>
                            <a:lnTo>
                              <a:pt x="3975" y="2682"/>
                            </a:lnTo>
                            <a:lnTo>
                              <a:pt x="3981" y="2706"/>
                            </a:lnTo>
                            <a:lnTo>
                              <a:pt x="3988" y="2728"/>
                            </a:lnTo>
                            <a:lnTo>
                              <a:pt x="3988" y="2721"/>
                            </a:lnTo>
                            <a:lnTo>
                              <a:pt x="3988" y="2712"/>
                            </a:lnTo>
                            <a:lnTo>
                              <a:pt x="3988" y="2706"/>
                            </a:lnTo>
                            <a:lnTo>
                              <a:pt x="3988" y="2648"/>
                            </a:lnTo>
                            <a:lnTo>
                              <a:pt x="3981" y="2560"/>
                            </a:lnTo>
                            <a:lnTo>
                              <a:pt x="3946" y="2463"/>
                            </a:lnTo>
                            <a:lnTo>
                              <a:pt x="3875" y="2358"/>
                            </a:lnTo>
                            <a:lnTo>
                              <a:pt x="3815" y="2294"/>
                            </a:lnTo>
                            <a:lnTo>
                              <a:pt x="3770" y="2245"/>
                            </a:lnTo>
                            <a:lnTo>
                              <a:pt x="3716" y="2209"/>
                            </a:lnTo>
                            <a:lnTo>
                              <a:pt x="3698" y="2193"/>
                            </a:lnTo>
                            <a:lnTo>
                              <a:pt x="3685" y="2184"/>
                            </a:lnTo>
                            <a:lnTo>
                              <a:pt x="3664" y="2161"/>
                            </a:lnTo>
                            <a:lnTo>
                              <a:pt x="3607" y="2096"/>
                            </a:lnTo>
                            <a:lnTo>
                              <a:pt x="3561" y="2054"/>
                            </a:lnTo>
                            <a:lnTo>
                              <a:pt x="3519" y="2021"/>
                            </a:lnTo>
                            <a:lnTo>
                              <a:pt x="3501" y="1999"/>
                            </a:lnTo>
                            <a:lnTo>
                              <a:pt x="3472" y="1976"/>
                            </a:lnTo>
                            <a:lnTo>
                              <a:pt x="3444" y="1941"/>
                            </a:lnTo>
                            <a:lnTo>
                              <a:pt x="3360" y="1860"/>
                            </a:lnTo>
                            <a:lnTo>
                              <a:pt x="3288" y="1808"/>
                            </a:lnTo>
                            <a:lnTo>
                              <a:pt x="3228" y="1775"/>
                            </a:lnTo>
                            <a:lnTo>
                              <a:pt x="3225" y="1772"/>
                            </a:lnTo>
                            <a:lnTo>
                              <a:pt x="3218" y="1766"/>
                            </a:lnTo>
                            <a:lnTo>
                              <a:pt x="3212" y="1766"/>
                            </a:lnTo>
                            <a:lnTo>
                              <a:pt x="3207" y="1759"/>
                            </a:lnTo>
                            <a:lnTo>
                              <a:pt x="3200" y="1756"/>
                            </a:lnTo>
                            <a:lnTo>
                              <a:pt x="3165" y="1708"/>
                            </a:lnTo>
                            <a:lnTo>
                              <a:pt x="3134" y="1675"/>
                            </a:lnTo>
                            <a:lnTo>
                              <a:pt x="3112" y="1646"/>
                            </a:lnTo>
                            <a:lnTo>
                              <a:pt x="3088" y="1620"/>
                            </a:lnTo>
                            <a:lnTo>
                              <a:pt x="3059" y="1581"/>
                            </a:lnTo>
                            <a:lnTo>
                              <a:pt x="3017" y="1532"/>
                            </a:lnTo>
                            <a:lnTo>
                              <a:pt x="2971" y="1477"/>
                            </a:lnTo>
                            <a:lnTo>
                              <a:pt x="2929" y="1442"/>
                            </a:lnTo>
                            <a:lnTo>
                              <a:pt x="2896" y="1413"/>
                            </a:lnTo>
                            <a:lnTo>
                              <a:pt x="2879" y="1390"/>
                            </a:lnTo>
                            <a:lnTo>
                              <a:pt x="2857" y="1371"/>
                            </a:lnTo>
                            <a:lnTo>
                              <a:pt x="2826" y="1332"/>
                            </a:lnTo>
                            <a:lnTo>
                              <a:pt x="2781" y="1283"/>
                            </a:lnTo>
                            <a:lnTo>
                              <a:pt x="2745" y="1244"/>
                            </a:lnTo>
                            <a:lnTo>
                              <a:pt x="2713" y="1219"/>
                            </a:lnTo>
                            <a:lnTo>
                              <a:pt x="2691" y="1195"/>
                            </a:lnTo>
                            <a:lnTo>
                              <a:pt x="2674" y="1173"/>
                            </a:lnTo>
                            <a:lnTo>
                              <a:pt x="2642" y="1141"/>
                            </a:lnTo>
                            <a:lnTo>
                              <a:pt x="2621" y="1114"/>
                            </a:lnTo>
                            <a:lnTo>
                              <a:pt x="2607" y="1092"/>
                            </a:lnTo>
                            <a:lnTo>
                              <a:pt x="2597" y="1073"/>
                            </a:lnTo>
                            <a:lnTo>
                              <a:pt x="2568" y="1017"/>
                            </a:lnTo>
                            <a:lnTo>
                              <a:pt x="2526" y="962"/>
                            </a:lnTo>
                            <a:lnTo>
                              <a:pt x="2473" y="891"/>
                            </a:lnTo>
                            <a:lnTo>
                              <a:pt x="2459" y="874"/>
                            </a:lnTo>
                            <a:lnTo>
                              <a:pt x="2455" y="859"/>
                            </a:lnTo>
                            <a:lnTo>
                              <a:pt x="2441" y="843"/>
                            </a:lnTo>
                            <a:lnTo>
                              <a:pt x="2420" y="777"/>
                            </a:lnTo>
                            <a:lnTo>
                              <a:pt x="2377" y="713"/>
                            </a:lnTo>
                            <a:lnTo>
                              <a:pt x="2317" y="632"/>
                            </a:lnTo>
                            <a:lnTo>
                              <a:pt x="2317" y="625"/>
                            </a:lnTo>
                            <a:lnTo>
                              <a:pt x="2317" y="638"/>
                            </a:lnTo>
                            <a:lnTo>
                              <a:pt x="2324" y="648"/>
                            </a:lnTo>
                            <a:lnTo>
                              <a:pt x="2332" y="655"/>
                            </a:lnTo>
                            <a:lnTo>
                              <a:pt x="2324" y="648"/>
                            </a:lnTo>
                            <a:lnTo>
                              <a:pt x="2324" y="641"/>
                            </a:lnTo>
                            <a:lnTo>
                              <a:pt x="2314" y="583"/>
                            </a:lnTo>
                            <a:lnTo>
                              <a:pt x="2275" y="495"/>
                            </a:lnTo>
                            <a:lnTo>
                              <a:pt x="2204" y="392"/>
                            </a:lnTo>
                            <a:lnTo>
                              <a:pt x="2088" y="295"/>
                            </a:lnTo>
                            <a:lnTo>
                              <a:pt x="1968" y="246"/>
                            </a:lnTo>
                            <a:lnTo>
                              <a:pt x="1886" y="224"/>
                            </a:lnTo>
                            <a:lnTo>
                              <a:pt x="1880" y="224"/>
                            </a:lnTo>
                            <a:lnTo>
                              <a:pt x="1872" y="224"/>
                            </a:lnTo>
                            <a:lnTo>
                              <a:pt x="1868" y="224"/>
                            </a:lnTo>
                            <a:lnTo>
                              <a:pt x="1897" y="237"/>
                            </a:lnTo>
                            <a:lnTo>
                              <a:pt x="1922" y="246"/>
                            </a:lnTo>
                            <a:lnTo>
                              <a:pt x="1946" y="269"/>
                            </a:lnTo>
                            <a:lnTo>
                              <a:pt x="1974" y="312"/>
                            </a:lnTo>
                            <a:lnTo>
                              <a:pt x="1985" y="343"/>
                            </a:lnTo>
                            <a:lnTo>
                              <a:pt x="1985" y="366"/>
                            </a:lnTo>
                            <a:lnTo>
                              <a:pt x="1985" y="360"/>
                            </a:lnTo>
                            <a:lnTo>
                              <a:pt x="1985" y="353"/>
                            </a:lnTo>
                            <a:lnTo>
                              <a:pt x="1992" y="350"/>
                            </a:lnTo>
                            <a:lnTo>
                              <a:pt x="1985" y="224"/>
                            </a:lnTo>
                            <a:lnTo>
                              <a:pt x="1946" y="136"/>
                            </a:lnTo>
                            <a:lnTo>
                              <a:pt x="1886" y="72"/>
                            </a:lnTo>
                            <a:lnTo>
                              <a:pt x="1833" y="39"/>
                            </a:lnTo>
                            <a:lnTo>
                              <a:pt x="1790" y="19"/>
                            </a:lnTo>
                            <a:lnTo>
                              <a:pt x="1748" y="6"/>
                            </a:lnTo>
                            <a:lnTo>
                              <a:pt x="1685" y="0"/>
                            </a:lnTo>
                            <a:lnTo>
                              <a:pt x="1597" y="13"/>
                            </a:lnTo>
                            <a:lnTo>
                              <a:pt x="1501" y="52"/>
                            </a:lnTo>
                            <a:lnTo>
                              <a:pt x="1398" y="143"/>
                            </a:lnTo>
                            <a:lnTo>
                              <a:pt x="1328" y="246"/>
                            </a:lnTo>
                            <a:lnTo>
                              <a:pt x="1283" y="334"/>
                            </a:lnTo>
                            <a:lnTo>
                              <a:pt x="1257" y="431"/>
                            </a:lnTo>
                            <a:lnTo>
                              <a:pt x="1257" y="551"/>
                            </a:lnTo>
                            <a:lnTo>
                              <a:pt x="1257" y="583"/>
                            </a:lnTo>
                            <a:lnTo>
                              <a:pt x="1271" y="713"/>
                            </a:lnTo>
                            <a:lnTo>
                              <a:pt x="1307" y="804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53" y="882"/>
                            </a:lnTo>
                            <a:lnTo>
                              <a:pt x="1353" y="888"/>
                            </a:lnTo>
                            <a:lnTo>
                              <a:pt x="1353" y="882"/>
                            </a:lnTo>
                            <a:lnTo>
                              <a:pt x="1346" y="871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6" y="874"/>
                            </a:lnTo>
                            <a:lnTo>
                              <a:pt x="1346" y="882"/>
                            </a:lnTo>
                            <a:lnTo>
                              <a:pt x="1343" y="888"/>
                            </a:lnTo>
                            <a:lnTo>
                              <a:pt x="1343" y="891"/>
                            </a:lnTo>
                            <a:lnTo>
                              <a:pt x="1299" y="968"/>
                            </a:lnTo>
                            <a:lnTo>
                              <a:pt x="1271" y="1066"/>
                            </a:lnTo>
                            <a:lnTo>
                              <a:pt x="1257" y="1186"/>
                            </a:lnTo>
                            <a:lnTo>
                              <a:pt x="1265" y="1277"/>
                            </a:lnTo>
                            <a:lnTo>
                              <a:pt x="1271" y="1341"/>
                            </a:lnTo>
                            <a:lnTo>
                              <a:pt x="1283" y="1396"/>
                            </a:lnTo>
                            <a:lnTo>
                              <a:pt x="1289" y="1426"/>
                            </a:lnTo>
                            <a:lnTo>
                              <a:pt x="1293" y="1451"/>
                            </a:lnTo>
                            <a:lnTo>
                              <a:pt x="1293" y="1490"/>
                            </a:lnTo>
                            <a:lnTo>
                              <a:pt x="1293" y="1642"/>
                            </a:lnTo>
                            <a:lnTo>
                              <a:pt x="1293" y="1789"/>
                            </a:lnTo>
                            <a:lnTo>
                              <a:pt x="1293" y="1869"/>
                            </a:lnTo>
                            <a:lnTo>
                              <a:pt x="1299" y="1924"/>
                            </a:lnTo>
                            <a:lnTo>
                              <a:pt x="1307" y="1973"/>
                            </a:lnTo>
                            <a:lnTo>
                              <a:pt x="1310" y="1999"/>
                            </a:lnTo>
                            <a:lnTo>
                              <a:pt x="1310" y="2032"/>
                            </a:lnTo>
                            <a:lnTo>
                              <a:pt x="1317" y="2077"/>
                            </a:lnTo>
                            <a:lnTo>
                              <a:pt x="1317" y="2161"/>
                            </a:lnTo>
                            <a:lnTo>
                              <a:pt x="1325" y="2223"/>
                            </a:lnTo>
                            <a:lnTo>
                              <a:pt x="1335" y="2272"/>
                            </a:lnTo>
                            <a:lnTo>
                              <a:pt x="1335" y="2294"/>
                            </a:lnTo>
                            <a:lnTo>
                              <a:pt x="1343" y="2320"/>
                            </a:lnTo>
                            <a:lnTo>
                              <a:pt x="1343" y="2352"/>
                            </a:lnTo>
                            <a:lnTo>
                              <a:pt x="1343" y="2358"/>
                            </a:lnTo>
                            <a:lnTo>
                              <a:pt x="1346" y="2346"/>
                            </a:lnTo>
                            <a:lnTo>
                              <a:pt x="1346" y="2336"/>
                            </a:lnTo>
                            <a:lnTo>
                              <a:pt x="1353" y="2330"/>
                            </a:lnTo>
                            <a:lnTo>
                              <a:pt x="1346" y="2336"/>
                            </a:lnTo>
                            <a:lnTo>
                              <a:pt x="1343" y="2346"/>
                            </a:lnTo>
                            <a:lnTo>
                              <a:pt x="1289" y="2417"/>
                            </a:lnTo>
                            <a:lnTo>
                              <a:pt x="1236" y="2527"/>
                            </a:lnTo>
                            <a:lnTo>
                              <a:pt x="1215" y="2679"/>
                            </a:lnTo>
                            <a:lnTo>
                              <a:pt x="1236" y="2825"/>
                            </a:lnTo>
                            <a:lnTo>
                              <a:pt x="1293" y="2928"/>
                            </a:lnTo>
                            <a:lnTo>
                              <a:pt x="1346" y="2997"/>
                            </a:lnTo>
                            <a:lnTo>
                              <a:pt x="1353" y="2997"/>
                            </a:lnTo>
                            <a:lnTo>
                              <a:pt x="1353" y="3003"/>
                            </a:lnTo>
                            <a:lnTo>
                              <a:pt x="1353" y="3010"/>
                            </a:lnTo>
                            <a:lnTo>
                              <a:pt x="1346" y="2994"/>
                            </a:lnTo>
                            <a:lnTo>
                              <a:pt x="1343" y="2971"/>
                            </a:lnTo>
                            <a:lnTo>
                              <a:pt x="1335" y="2949"/>
                            </a:lnTo>
                            <a:lnTo>
                              <a:pt x="1335" y="2939"/>
                            </a:lnTo>
                            <a:lnTo>
                              <a:pt x="1343" y="2922"/>
                            </a:lnTo>
                            <a:lnTo>
                              <a:pt x="1353" y="2906"/>
                            </a:lnTo>
                            <a:lnTo>
                              <a:pt x="1346" y="2913"/>
                            </a:lnTo>
                            <a:lnTo>
                              <a:pt x="1346" y="2916"/>
                            </a:lnTo>
                            <a:lnTo>
                              <a:pt x="1343" y="2922"/>
                            </a:lnTo>
                            <a:lnTo>
                              <a:pt x="1293" y="2981"/>
                            </a:lnTo>
                            <a:lnTo>
                              <a:pt x="1247" y="3085"/>
                            </a:lnTo>
                            <a:lnTo>
                              <a:pt x="1229" y="3227"/>
                            </a:lnTo>
                            <a:lnTo>
                              <a:pt x="1236" y="3334"/>
                            </a:lnTo>
                            <a:lnTo>
                              <a:pt x="1257" y="3412"/>
                            </a:lnTo>
                            <a:lnTo>
                              <a:pt x="1275" y="3470"/>
                            </a:lnTo>
                            <a:lnTo>
                              <a:pt x="1283" y="3486"/>
                            </a:lnTo>
                            <a:lnTo>
                              <a:pt x="1289" y="3499"/>
                            </a:lnTo>
                            <a:lnTo>
                              <a:pt x="1289" y="3509"/>
                            </a:lnTo>
                            <a:lnTo>
                              <a:pt x="1293" y="3596"/>
                            </a:lnTo>
                            <a:lnTo>
                              <a:pt x="1310" y="3668"/>
                            </a:lnTo>
                            <a:lnTo>
                              <a:pt x="1328" y="3716"/>
                            </a:lnTo>
                            <a:lnTo>
                              <a:pt x="1335" y="3719"/>
                            </a:lnTo>
                            <a:lnTo>
                              <a:pt x="1325" y="3638"/>
                            </a:lnTo>
                            <a:lnTo>
                              <a:pt x="1346" y="3558"/>
                            </a:lnTo>
                            <a:lnTo>
                              <a:pt x="1388" y="3503"/>
                            </a:lnTo>
                            <a:lnTo>
                              <a:pt x="1434" y="3483"/>
                            </a:lnTo>
                            <a:lnTo>
                              <a:pt x="1501" y="3477"/>
                            </a:lnTo>
                            <a:lnTo>
                              <a:pt x="1564" y="3486"/>
                            </a:lnTo>
                            <a:lnTo>
                              <a:pt x="1561" y="3486"/>
                            </a:lnTo>
                            <a:lnTo>
                              <a:pt x="1554" y="3483"/>
                            </a:lnTo>
                            <a:lnTo>
                              <a:pt x="1494" y="3461"/>
                            </a:lnTo>
                            <a:lnTo>
                              <a:pt x="1406" y="3437"/>
                            </a:lnTo>
                            <a:lnTo>
                              <a:pt x="1289" y="3428"/>
                            </a:lnTo>
                            <a:lnTo>
                              <a:pt x="1180" y="3431"/>
                            </a:lnTo>
                            <a:lnTo>
                              <a:pt x="1109" y="3444"/>
                            </a:lnTo>
                            <a:lnTo>
                              <a:pt x="1052" y="3450"/>
                            </a:lnTo>
                            <a:lnTo>
                              <a:pt x="1021" y="3461"/>
                            </a:lnTo>
                            <a:lnTo>
                              <a:pt x="992" y="3461"/>
                            </a:lnTo>
                            <a:lnTo>
                              <a:pt x="957" y="3461"/>
                            </a:lnTo>
                            <a:lnTo>
                              <a:pt x="844" y="3467"/>
                            </a:lnTo>
                            <a:lnTo>
                              <a:pt x="766" y="3483"/>
                            </a:lnTo>
                            <a:lnTo>
                              <a:pt x="707" y="3492"/>
                            </a:lnTo>
                            <a:lnTo>
                              <a:pt x="686" y="3499"/>
                            </a:lnTo>
                            <a:lnTo>
                              <a:pt x="668" y="3503"/>
                            </a:lnTo>
                            <a:lnTo>
                              <a:pt x="636" y="3503"/>
                            </a:lnTo>
                            <a:lnTo>
                              <a:pt x="608" y="3503"/>
                            </a:lnTo>
                            <a:lnTo>
                              <a:pt x="583" y="3499"/>
                            </a:lnTo>
                            <a:lnTo>
                              <a:pt x="558" y="3492"/>
                            </a:lnTo>
                            <a:lnTo>
                              <a:pt x="502" y="3483"/>
                            </a:lnTo>
                            <a:lnTo>
                              <a:pt x="416" y="3467"/>
                            </a:lnTo>
                            <a:lnTo>
                              <a:pt x="310" y="3461"/>
                            </a:lnTo>
                            <a:lnTo>
                              <a:pt x="211" y="3477"/>
                            </a:lnTo>
                            <a:lnTo>
                              <a:pt x="123" y="3516"/>
                            </a:lnTo>
                            <a:lnTo>
                              <a:pt x="60" y="3580"/>
                            </a:lnTo>
                            <a:lnTo>
                              <a:pt x="17" y="3655"/>
                            </a:lnTo>
                            <a:lnTo>
                              <a:pt x="0" y="3749"/>
                            </a:lnTo>
                            <a:lnTo>
                              <a:pt x="17" y="3840"/>
                            </a:lnTo>
                            <a:lnTo>
                              <a:pt x="60" y="3917"/>
                            </a:lnTo>
                            <a:lnTo>
                              <a:pt x="123" y="3982"/>
                            </a:lnTo>
                            <a:lnTo>
                              <a:pt x="211" y="4024"/>
                            </a:lnTo>
                            <a:lnTo>
                              <a:pt x="310" y="4034"/>
                            </a:lnTo>
                            <a:lnTo>
                              <a:pt x="339" y="4034"/>
                            </a:lnTo>
                            <a:lnTo>
                              <a:pt x="360" y="4040"/>
                            </a:lnTo>
                            <a:lnTo>
                              <a:pt x="388" y="4047"/>
                            </a:lnTo>
                            <a:lnTo>
                              <a:pt x="448" y="4063"/>
                            </a:lnTo>
                            <a:lnTo>
                              <a:pt x="523" y="4072"/>
                            </a:lnTo>
                            <a:lnTo>
                              <a:pt x="636" y="4080"/>
                            </a:lnTo>
                            <a:lnTo>
                              <a:pt x="741" y="4072"/>
                            </a:lnTo>
                            <a:lnTo>
                              <a:pt x="826" y="4063"/>
                            </a:lnTo>
                            <a:lnTo>
                              <a:pt x="879" y="4047"/>
                            </a:lnTo>
                            <a:lnTo>
                              <a:pt x="904" y="4040"/>
                            </a:lnTo>
                            <a:lnTo>
                              <a:pt x="925" y="4040"/>
                            </a:lnTo>
                            <a:lnTo>
                              <a:pt x="957" y="4034"/>
                            </a:lnTo>
                            <a:lnTo>
                              <a:pt x="1057" y="4034"/>
                            </a:lnTo>
                            <a:lnTo>
                              <a:pt x="1133" y="4024"/>
                            </a:lnTo>
                            <a:lnTo>
                              <a:pt x="1187" y="4014"/>
                            </a:lnTo>
                            <a:lnTo>
                              <a:pt x="1215" y="4008"/>
                            </a:lnTo>
                            <a:lnTo>
                              <a:pt x="1247" y="4001"/>
                            </a:lnTo>
                            <a:lnTo>
                              <a:pt x="1289" y="4001"/>
                            </a:lnTo>
                            <a:lnTo>
                              <a:pt x="1283" y="4001"/>
                            </a:lnTo>
                            <a:lnTo>
                              <a:pt x="1289" y="4001"/>
                            </a:lnTo>
                            <a:lnTo>
                              <a:pt x="1293" y="4008"/>
                            </a:lnTo>
                            <a:lnTo>
                              <a:pt x="1299" y="4008"/>
                            </a:lnTo>
                            <a:lnTo>
                              <a:pt x="1353" y="4031"/>
                            </a:lnTo>
                            <a:lnTo>
                              <a:pt x="1434" y="4047"/>
                            </a:lnTo>
                            <a:lnTo>
                              <a:pt x="1537" y="4050"/>
                            </a:lnTo>
                            <a:lnTo>
                              <a:pt x="1653" y="4024"/>
                            </a:lnTo>
                            <a:lnTo>
                              <a:pt x="1784" y="3950"/>
                            </a:lnTo>
                            <a:lnTo>
                              <a:pt x="1851" y="3895"/>
                            </a:lnTo>
                            <a:lnTo>
                              <a:pt x="1904" y="3823"/>
                            </a:lnTo>
                            <a:lnTo>
                              <a:pt x="1940" y="3735"/>
                            </a:lnTo>
                            <a:lnTo>
                              <a:pt x="1946" y="3629"/>
                            </a:lnTo>
                            <a:lnTo>
                              <a:pt x="1914" y="3509"/>
                            </a:lnTo>
                            <a:lnTo>
                              <a:pt x="1914" y="3503"/>
                            </a:lnTo>
                            <a:lnTo>
                              <a:pt x="1911" y="3499"/>
                            </a:lnTo>
                            <a:lnTo>
                              <a:pt x="1911" y="3503"/>
                            </a:lnTo>
                            <a:lnTo>
                              <a:pt x="1914" y="3503"/>
                            </a:lnTo>
                            <a:lnTo>
                              <a:pt x="1914" y="3509"/>
                            </a:lnTo>
                            <a:lnTo>
                              <a:pt x="1904" y="3398"/>
                            </a:lnTo>
                            <a:lnTo>
                              <a:pt x="1886" y="3324"/>
                            </a:lnTo>
                            <a:lnTo>
                              <a:pt x="1862" y="3266"/>
                            </a:lnTo>
                            <a:lnTo>
                              <a:pt x="1854" y="3250"/>
                            </a:lnTo>
                            <a:lnTo>
                              <a:pt x="1854" y="3237"/>
                            </a:lnTo>
                            <a:lnTo>
                              <a:pt x="1854" y="3227"/>
                            </a:lnTo>
                            <a:lnTo>
                              <a:pt x="1851" y="3243"/>
                            </a:lnTo>
                            <a:lnTo>
                              <a:pt x="1851" y="3253"/>
                            </a:lnTo>
                            <a:lnTo>
                              <a:pt x="1837" y="3270"/>
                            </a:lnTo>
                            <a:lnTo>
                              <a:pt x="1844" y="3270"/>
                            </a:lnTo>
                            <a:lnTo>
                              <a:pt x="1844" y="3266"/>
                            </a:lnTo>
                            <a:lnTo>
                              <a:pt x="1851" y="3259"/>
                            </a:lnTo>
                            <a:lnTo>
                              <a:pt x="1897" y="3195"/>
                            </a:lnTo>
                            <a:lnTo>
                              <a:pt x="1946" y="3091"/>
                            </a:lnTo>
                            <a:lnTo>
                              <a:pt x="1964" y="2949"/>
                            </a:lnTo>
                            <a:lnTo>
                              <a:pt x="1940" y="2803"/>
                            </a:lnTo>
                            <a:lnTo>
                              <a:pt x="1886" y="2699"/>
                            </a:lnTo>
                            <a:lnTo>
                              <a:pt x="1833" y="2627"/>
                            </a:lnTo>
                            <a:lnTo>
                              <a:pt x="1826" y="2624"/>
                            </a:lnTo>
                            <a:lnTo>
                              <a:pt x="1819" y="2618"/>
                            </a:lnTo>
                            <a:lnTo>
                              <a:pt x="1833" y="2634"/>
                            </a:lnTo>
                            <a:lnTo>
                              <a:pt x="1837" y="2657"/>
                            </a:lnTo>
                            <a:lnTo>
                              <a:pt x="1844" y="2679"/>
                            </a:lnTo>
                            <a:lnTo>
                              <a:pt x="1844" y="2673"/>
                            </a:lnTo>
                            <a:lnTo>
                              <a:pt x="1837" y="2682"/>
                            </a:lnTo>
                            <a:lnTo>
                              <a:pt x="1837" y="2696"/>
                            </a:lnTo>
                            <a:lnTo>
                              <a:pt x="1833" y="2706"/>
                            </a:lnTo>
                            <a:lnTo>
                              <a:pt x="1833" y="2699"/>
                            </a:lnTo>
                            <a:lnTo>
                              <a:pt x="1837" y="2696"/>
                            </a:lnTo>
                            <a:lnTo>
                              <a:pt x="1844" y="2689"/>
                            </a:lnTo>
                            <a:lnTo>
                              <a:pt x="1897" y="2612"/>
                            </a:lnTo>
                            <a:lnTo>
                              <a:pt x="1946" y="2505"/>
                            </a:lnTo>
                            <a:lnTo>
                              <a:pt x="1968" y="2352"/>
                            </a:lnTo>
                            <a:lnTo>
                              <a:pt x="1968" y="2272"/>
                            </a:lnTo>
                            <a:lnTo>
                              <a:pt x="1964" y="2206"/>
                            </a:lnTo>
                            <a:lnTo>
                              <a:pt x="1950" y="2161"/>
                            </a:lnTo>
                            <a:lnTo>
                              <a:pt x="1946" y="2135"/>
                            </a:lnTo>
                            <a:lnTo>
                              <a:pt x="1946" y="2112"/>
                            </a:lnTo>
                            <a:lnTo>
                              <a:pt x="1946" y="2077"/>
                            </a:lnTo>
                            <a:lnTo>
                              <a:pt x="1940" y="1993"/>
                            </a:lnTo>
                            <a:lnTo>
                              <a:pt x="1932" y="1941"/>
                            </a:lnTo>
                            <a:lnTo>
                              <a:pt x="1929" y="1892"/>
                            </a:lnTo>
                            <a:lnTo>
                              <a:pt x="1929" y="1863"/>
                            </a:lnTo>
                            <a:lnTo>
                              <a:pt x="1922" y="1830"/>
                            </a:lnTo>
                            <a:lnTo>
                              <a:pt x="1922" y="1789"/>
                            </a:lnTo>
                            <a:lnTo>
                              <a:pt x="1922" y="1642"/>
                            </a:lnTo>
                            <a:lnTo>
                              <a:pt x="1922" y="1490"/>
                            </a:lnTo>
                            <a:lnTo>
                              <a:pt x="1914" y="1402"/>
                            </a:lnTo>
                            <a:lnTo>
                              <a:pt x="1911" y="1332"/>
                            </a:lnTo>
                            <a:lnTo>
                              <a:pt x="1897" y="1283"/>
                            </a:lnTo>
                            <a:lnTo>
                              <a:pt x="1893" y="1257"/>
                            </a:lnTo>
                            <a:lnTo>
                              <a:pt x="1886" y="1225"/>
                            </a:lnTo>
                            <a:lnTo>
                              <a:pt x="1886" y="1186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86" y="1180"/>
                            </a:lnTo>
                            <a:lnTo>
                              <a:pt x="1886" y="1173"/>
                            </a:lnTo>
                            <a:lnTo>
                              <a:pt x="1893" y="1170"/>
                            </a:lnTo>
                            <a:lnTo>
                              <a:pt x="1897" y="1163"/>
                            </a:lnTo>
                            <a:lnTo>
                              <a:pt x="1932" y="1089"/>
                            </a:lnTo>
                            <a:lnTo>
                              <a:pt x="1964" y="995"/>
                            </a:lnTo>
                            <a:lnTo>
                              <a:pt x="1974" y="871"/>
                            </a:lnTo>
                            <a:lnTo>
                              <a:pt x="1964" y="738"/>
                            </a:lnTo>
                            <a:lnTo>
                              <a:pt x="1922" y="641"/>
                            </a:lnTo>
                            <a:lnTo>
                              <a:pt x="1886" y="583"/>
                            </a:lnTo>
                            <a:lnTo>
                              <a:pt x="1886" y="570"/>
                            </a:lnTo>
                            <a:lnTo>
                              <a:pt x="1880" y="567"/>
                            </a:lnTo>
                            <a:lnTo>
                              <a:pt x="1872" y="567"/>
                            </a:lnTo>
                            <a:lnTo>
                              <a:pt x="1880" y="570"/>
                            </a:lnTo>
                            <a:lnTo>
                              <a:pt x="1880" y="577"/>
                            </a:lnTo>
                            <a:lnTo>
                              <a:pt x="1886" y="583"/>
                            </a:lnTo>
                            <a:lnTo>
                              <a:pt x="1886" y="544"/>
                            </a:lnTo>
                            <a:lnTo>
                              <a:pt x="1886" y="522"/>
                            </a:lnTo>
                            <a:lnTo>
                              <a:pt x="1886" y="506"/>
                            </a:lnTo>
                            <a:lnTo>
                              <a:pt x="1886" y="495"/>
                            </a:lnTo>
                            <a:lnTo>
                              <a:pt x="1880" y="506"/>
                            </a:lnTo>
                            <a:lnTo>
                              <a:pt x="1872" y="522"/>
                            </a:lnTo>
                            <a:lnTo>
                              <a:pt x="1868" y="534"/>
                            </a:lnTo>
                            <a:lnTo>
                              <a:pt x="1880" y="519"/>
                            </a:lnTo>
                            <a:lnTo>
                              <a:pt x="1897" y="495"/>
                            </a:lnTo>
                            <a:lnTo>
                              <a:pt x="1911" y="479"/>
                            </a:lnTo>
                            <a:lnTo>
                              <a:pt x="1826" y="544"/>
                            </a:lnTo>
                            <a:lnTo>
                              <a:pt x="1702" y="577"/>
                            </a:lnTo>
                            <a:lnTo>
                              <a:pt x="1561" y="554"/>
                            </a:lnTo>
                            <a:lnTo>
                              <a:pt x="1449" y="479"/>
                            </a:lnTo>
                            <a:lnTo>
                              <a:pt x="1381" y="376"/>
                            </a:lnTo>
                            <a:lnTo>
                              <a:pt x="1371" y="272"/>
                            </a:lnTo>
                            <a:lnTo>
                              <a:pt x="1364" y="279"/>
                            </a:lnTo>
                            <a:lnTo>
                              <a:pt x="1359" y="337"/>
                            </a:lnTo>
                            <a:lnTo>
                              <a:pt x="1364" y="425"/>
                            </a:lnTo>
                            <a:lnTo>
                              <a:pt x="1388" y="522"/>
                            </a:lnTo>
                            <a:lnTo>
                              <a:pt x="1455" y="625"/>
                            </a:lnTo>
                            <a:lnTo>
                              <a:pt x="1572" y="729"/>
                            </a:lnTo>
                            <a:lnTo>
                              <a:pt x="1692" y="777"/>
                            </a:lnTo>
                            <a:lnTo>
                              <a:pt x="1780" y="794"/>
                            </a:lnTo>
                            <a:lnTo>
                              <a:pt x="1784" y="794"/>
                            </a:lnTo>
                            <a:lnTo>
                              <a:pt x="1790" y="794"/>
                            </a:lnTo>
                            <a:lnTo>
                              <a:pt x="1766" y="788"/>
                            </a:lnTo>
                            <a:lnTo>
                              <a:pt x="1738" y="771"/>
                            </a:lnTo>
                            <a:lnTo>
                              <a:pt x="1714" y="752"/>
                            </a:lnTo>
                            <a:lnTo>
                              <a:pt x="1709" y="746"/>
                            </a:lnTo>
                            <a:lnTo>
                              <a:pt x="1709" y="735"/>
                            </a:lnTo>
                            <a:lnTo>
                              <a:pt x="1702" y="722"/>
                            </a:lnTo>
                            <a:lnTo>
                              <a:pt x="1709" y="729"/>
                            </a:lnTo>
                            <a:lnTo>
                              <a:pt x="1709" y="735"/>
                            </a:lnTo>
                            <a:lnTo>
                              <a:pt x="1709" y="738"/>
                            </a:lnTo>
                            <a:lnTo>
                              <a:pt x="1720" y="800"/>
                            </a:lnTo>
                            <a:lnTo>
                              <a:pt x="1756" y="888"/>
                            </a:lnTo>
                            <a:lnTo>
                              <a:pt x="1826" y="985"/>
                            </a:lnTo>
                            <a:lnTo>
                              <a:pt x="1837" y="1001"/>
                            </a:lnTo>
                            <a:lnTo>
                              <a:pt x="1844" y="1017"/>
                            </a:lnTo>
                            <a:lnTo>
                              <a:pt x="1851" y="1034"/>
                            </a:lnTo>
                            <a:lnTo>
                              <a:pt x="1880" y="1098"/>
                            </a:lnTo>
                            <a:lnTo>
                              <a:pt x="1922" y="1170"/>
                            </a:lnTo>
                            <a:lnTo>
                              <a:pt x="1982" y="1250"/>
                            </a:lnTo>
                            <a:lnTo>
                              <a:pt x="2003" y="1274"/>
                            </a:lnTo>
                            <a:lnTo>
                              <a:pt x="2017" y="1293"/>
                            </a:lnTo>
                            <a:lnTo>
                              <a:pt x="2028" y="1322"/>
                            </a:lnTo>
                            <a:lnTo>
                              <a:pt x="2056" y="1371"/>
                            </a:lnTo>
                            <a:lnTo>
                              <a:pt x="2091" y="1429"/>
                            </a:lnTo>
                            <a:lnTo>
                              <a:pt x="2151" y="1500"/>
                            </a:lnTo>
                            <a:lnTo>
                              <a:pt x="2200" y="1548"/>
                            </a:lnTo>
                            <a:lnTo>
                              <a:pt x="2236" y="1587"/>
                            </a:lnTo>
                            <a:lnTo>
                              <a:pt x="2257" y="1614"/>
                            </a:lnTo>
                            <a:lnTo>
                              <a:pt x="2282" y="1636"/>
                            </a:lnTo>
                            <a:lnTo>
                              <a:pt x="2306" y="1659"/>
                            </a:lnTo>
                            <a:lnTo>
                              <a:pt x="2332" y="1692"/>
                            </a:lnTo>
                            <a:lnTo>
                              <a:pt x="2377" y="1744"/>
                            </a:lnTo>
                            <a:lnTo>
                              <a:pt x="2420" y="1782"/>
                            </a:lnTo>
                            <a:lnTo>
                              <a:pt x="2448" y="1808"/>
                            </a:lnTo>
                            <a:lnTo>
                              <a:pt x="2473" y="1830"/>
                            </a:lnTo>
                            <a:lnTo>
                              <a:pt x="2494" y="1860"/>
                            </a:lnTo>
                            <a:lnTo>
                              <a:pt x="2526" y="1892"/>
                            </a:lnTo>
                            <a:lnTo>
                              <a:pt x="2561" y="1935"/>
                            </a:lnTo>
                            <a:lnTo>
                              <a:pt x="2589" y="1966"/>
                            </a:lnTo>
                            <a:lnTo>
                              <a:pt x="2614" y="1993"/>
                            </a:lnTo>
                            <a:lnTo>
                              <a:pt x="2639" y="2026"/>
                            </a:lnTo>
                            <a:lnTo>
                              <a:pt x="2667" y="2060"/>
                            </a:lnTo>
                            <a:lnTo>
                              <a:pt x="2709" y="2109"/>
                            </a:lnTo>
                            <a:lnTo>
                              <a:pt x="2791" y="2190"/>
                            </a:lnTo>
                            <a:lnTo>
                              <a:pt x="2862" y="2245"/>
                            </a:lnTo>
                            <a:lnTo>
                              <a:pt x="2921" y="2278"/>
                            </a:lnTo>
                            <a:lnTo>
                              <a:pt x="2929" y="2278"/>
                            </a:lnTo>
                            <a:lnTo>
                              <a:pt x="2932" y="2281"/>
                            </a:lnTo>
                            <a:lnTo>
                              <a:pt x="2939" y="2287"/>
                            </a:lnTo>
                            <a:lnTo>
                              <a:pt x="2947" y="2294"/>
                            </a:lnTo>
                            <a:lnTo>
                              <a:pt x="2950" y="2297"/>
                            </a:lnTo>
                            <a:lnTo>
                              <a:pt x="3010" y="2362"/>
                            </a:lnTo>
                            <a:lnTo>
                              <a:pt x="3052" y="2408"/>
                            </a:lnTo>
                            <a:lnTo>
                              <a:pt x="3095" y="2440"/>
                            </a:lnTo>
                            <a:lnTo>
                              <a:pt x="3116" y="2463"/>
                            </a:lnTo>
                            <a:lnTo>
                              <a:pt x="3140" y="2482"/>
                            </a:lnTo>
                            <a:lnTo>
                              <a:pt x="3168" y="2521"/>
                            </a:lnTo>
                            <a:lnTo>
                              <a:pt x="3228" y="2579"/>
                            </a:lnTo>
                            <a:lnTo>
                              <a:pt x="3282" y="2627"/>
                            </a:lnTo>
                            <a:lnTo>
                              <a:pt x="3331" y="2663"/>
                            </a:lnTo>
                            <a:lnTo>
                              <a:pt x="3349" y="2679"/>
                            </a:lnTo>
                            <a:lnTo>
                              <a:pt x="3366" y="2689"/>
                            </a:lnTo>
                            <a:lnTo>
                              <a:pt x="3384" y="2712"/>
                            </a:lnTo>
                            <a:lnTo>
                              <a:pt x="3370" y="2696"/>
                            </a:lnTo>
                            <a:lnTo>
                              <a:pt x="3366" y="2673"/>
                            </a:lnTo>
                            <a:lnTo>
                              <a:pt x="3360" y="2651"/>
                            </a:lnTo>
                            <a:lnTo>
                              <a:pt x="3360" y="2657"/>
                            </a:lnTo>
                            <a:lnTo>
                              <a:pt x="3360" y="2663"/>
                            </a:lnTo>
                            <a:lnTo>
                              <a:pt x="3360" y="2667"/>
                            </a:lnTo>
                            <a:lnTo>
                              <a:pt x="3360" y="2731"/>
                            </a:lnTo>
                            <a:lnTo>
                              <a:pt x="3366" y="2812"/>
                            </a:lnTo>
                            <a:lnTo>
                              <a:pt x="3402" y="2913"/>
                            </a:lnTo>
                            <a:lnTo>
                              <a:pt x="3466" y="3019"/>
                            </a:lnTo>
                            <a:lnTo>
                              <a:pt x="3544" y="3082"/>
                            </a:lnTo>
                            <a:lnTo>
                              <a:pt x="3631" y="3116"/>
                            </a:lnTo>
                            <a:lnTo>
                              <a:pt x="3727" y="3130"/>
                            </a:lnTo>
                            <a:lnTo>
                              <a:pt x="3822" y="3113"/>
                            </a:lnTo>
                            <a:lnTo>
                              <a:pt x="3911" y="3068"/>
                            </a:lnTo>
                            <a:lnTo>
                              <a:pt x="3975" y="2997"/>
                            </a:lnTo>
                            <a:lnTo>
                              <a:pt x="4017" y="2916"/>
                            </a:lnTo>
                            <a:lnTo>
                              <a:pt x="4027" y="2828"/>
                            </a:lnTo>
                            <a:lnTo>
                              <a:pt x="4009" y="2745"/>
                            </a:lnTo>
                            <a:lnTo>
                              <a:pt x="3963" y="26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"/>
                      <p:cNvSpPr/>
                      <p:nvPr/>
                    </p:nvSpPr>
                    <p:spPr>
                      <a:xfrm rot="10800000">
                        <a:off x="4386240" y="8190720"/>
                        <a:ext cx="1558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79" h="2673">
                            <a:moveTo>
                              <a:pt x="2215" y="2206"/>
                            </a:moveTo>
                            <a:lnTo>
                              <a:pt x="2180" y="2161"/>
                            </a:lnTo>
                            <a:lnTo>
                              <a:pt x="2155" y="2128"/>
                            </a:lnTo>
                            <a:lnTo>
                              <a:pt x="2131" y="2103"/>
                            </a:lnTo>
                            <a:lnTo>
                              <a:pt x="2109" y="2070"/>
                            </a:lnTo>
                            <a:lnTo>
                              <a:pt x="2074" y="2025"/>
                            </a:lnTo>
                            <a:lnTo>
                              <a:pt x="2031" y="1976"/>
                            </a:lnTo>
                            <a:lnTo>
                              <a:pt x="2004" y="1940"/>
                            </a:lnTo>
                            <a:lnTo>
                              <a:pt x="1986" y="1918"/>
                            </a:lnTo>
                            <a:lnTo>
                              <a:pt x="1968" y="1889"/>
                            </a:lnTo>
                            <a:lnTo>
                              <a:pt x="1944" y="1847"/>
                            </a:lnTo>
                            <a:lnTo>
                              <a:pt x="1908" y="1791"/>
                            </a:lnTo>
                            <a:lnTo>
                              <a:pt x="1848" y="1727"/>
                            </a:lnTo>
                            <a:lnTo>
                              <a:pt x="1823" y="1694"/>
                            </a:lnTo>
                            <a:lnTo>
                              <a:pt x="1805" y="1672"/>
                            </a:lnTo>
                            <a:lnTo>
                              <a:pt x="1795" y="1652"/>
                            </a:lnTo>
                            <a:lnTo>
                              <a:pt x="1766" y="1603"/>
                            </a:lnTo>
                            <a:lnTo>
                              <a:pt x="1732" y="1555"/>
                            </a:lnTo>
                            <a:lnTo>
                              <a:pt x="1682" y="1487"/>
                            </a:lnTo>
                            <a:lnTo>
                              <a:pt x="1629" y="1436"/>
                            </a:lnTo>
                            <a:lnTo>
                              <a:pt x="1594" y="1396"/>
                            </a:lnTo>
                            <a:lnTo>
                              <a:pt x="1565" y="1364"/>
                            </a:lnTo>
                            <a:lnTo>
                              <a:pt x="1540" y="1338"/>
                            </a:lnTo>
                            <a:lnTo>
                              <a:pt x="1512" y="1309"/>
                            </a:lnTo>
                            <a:lnTo>
                              <a:pt x="1474" y="1267"/>
                            </a:lnTo>
                            <a:lnTo>
                              <a:pt x="1403" y="1196"/>
                            </a:lnTo>
                            <a:lnTo>
                              <a:pt x="1347" y="1147"/>
                            </a:lnTo>
                            <a:lnTo>
                              <a:pt x="1293" y="1114"/>
                            </a:lnTo>
                            <a:lnTo>
                              <a:pt x="1275" y="1099"/>
                            </a:lnTo>
                            <a:lnTo>
                              <a:pt x="1262" y="1086"/>
                            </a:lnTo>
                            <a:lnTo>
                              <a:pt x="1244" y="1069"/>
                            </a:lnTo>
                            <a:lnTo>
                              <a:pt x="1220" y="1044"/>
                            </a:lnTo>
                            <a:lnTo>
                              <a:pt x="1173" y="989"/>
                            </a:lnTo>
                            <a:lnTo>
                              <a:pt x="1148" y="962"/>
                            </a:lnTo>
                            <a:lnTo>
                              <a:pt x="1049" y="842"/>
                            </a:lnTo>
                            <a:lnTo>
                              <a:pt x="1025" y="817"/>
                            </a:lnTo>
                            <a:lnTo>
                              <a:pt x="1007" y="793"/>
                            </a:lnTo>
                            <a:lnTo>
                              <a:pt x="997" y="768"/>
                            </a:lnTo>
                            <a:lnTo>
                              <a:pt x="972" y="729"/>
                            </a:lnTo>
                            <a:lnTo>
                              <a:pt x="937" y="674"/>
                            </a:lnTo>
                            <a:lnTo>
                              <a:pt x="883" y="610"/>
                            </a:lnTo>
                            <a:lnTo>
                              <a:pt x="841" y="561"/>
                            </a:lnTo>
                            <a:lnTo>
                              <a:pt x="805" y="522"/>
                            </a:lnTo>
                            <a:lnTo>
                              <a:pt x="777" y="489"/>
                            </a:lnTo>
                            <a:lnTo>
                              <a:pt x="753" y="463"/>
                            </a:lnTo>
                            <a:lnTo>
                              <a:pt x="724" y="425"/>
                            </a:lnTo>
                            <a:lnTo>
                              <a:pt x="682" y="383"/>
                            </a:lnTo>
                            <a:lnTo>
                              <a:pt x="682" y="376"/>
                            </a:lnTo>
                            <a:lnTo>
                              <a:pt x="682" y="383"/>
                            </a:lnTo>
                            <a:lnTo>
                              <a:pt x="689" y="392"/>
                            </a:lnTo>
                            <a:lnTo>
                              <a:pt x="689" y="398"/>
                            </a:lnTo>
                            <a:lnTo>
                              <a:pt x="689" y="392"/>
                            </a:lnTo>
                            <a:lnTo>
                              <a:pt x="689" y="386"/>
                            </a:lnTo>
                            <a:lnTo>
                              <a:pt x="689" y="383"/>
                            </a:lnTo>
                            <a:lnTo>
                              <a:pt x="675" y="317"/>
                            </a:lnTo>
                            <a:lnTo>
                              <a:pt x="636" y="217"/>
                            </a:lnTo>
                            <a:lnTo>
                              <a:pt x="562" y="110"/>
                            </a:lnTo>
                            <a:lnTo>
                              <a:pt x="488" y="49"/>
                            </a:lnTo>
                            <a:lnTo>
                              <a:pt x="400" y="13"/>
                            </a:lnTo>
                            <a:lnTo>
                              <a:pt x="304" y="0"/>
                            </a:lnTo>
                            <a:lnTo>
                              <a:pt x="208" y="16"/>
                            </a:lnTo>
                            <a:lnTo>
                              <a:pt x="120" y="62"/>
                            </a:lnTo>
                            <a:lnTo>
                              <a:pt x="53" y="133"/>
                            </a:lnTo>
                            <a:lnTo>
                              <a:pt x="14" y="214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71" y="467"/>
                            </a:lnTo>
                            <a:lnTo>
                              <a:pt x="67" y="463"/>
                            </a:lnTo>
                            <a:lnTo>
                              <a:pt x="67" y="457"/>
                            </a:lnTo>
                            <a:lnTo>
                              <a:pt x="60" y="447"/>
                            </a:lnTo>
                            <a:lnTo>
                              <a:pt x="60" y="450"/>
                            </a:lnTo>
                            <a:lnTo>
                              <a:pt x="67" y="457"/>
                            </a:lnTo>
                            <a:lnTo>
                              <a:pt x="67" y="463"/>
                            </a:lnTo>
                            <a:lnTo>
                              <a:pt x="78" y="535"/>
                            </a:lnTo>
                            <a:lnTo>
                              <a:pt x="114" y="626"/>
                            </a:lnTo>
                            <a:lnTo>
                              <a:pt x="192" y="735"/>
                            </a:lnTo>
                            <a:lnTo>
                              <a:pt x="234" y="787"/>
                            </a:lnTo>
                            <a:lnTo>
                              <a:pt x="268" y="826"/>
                            </a:lnTo>
                            <a:lnTo>
                              <a:pt x="290" y="853"/>
                            </a:lnTo>
                            <a:lnTo>
                              <a:pt x="322" y="884"/>
                            </a:lnTo>
                            <a:lnTo>
                              <a:pt x="350" y="917"/>
                            </a:lnTo>
                            <a:lnTo>
                              <a:pt x="392" y="962"/>
                            </a:lnTo>
                            <a:lnTo>
                              <a:pt x="418" y="995"/>
                            </a:lnTo>
                            <a:lnTo>
                              <a:pt x="428" y="1017"/>
                            </a:lnTo>
                            <a:lnTo>
                              <a:pt x="446" y="1037"/>
                            </a:lnTo>
                            <a:lnTo>
                              <a:pt x="470" y="1082"/>
                            </a:lnTo>
                            <a:lnTo>
                              <a:pt x="506" y="1130"/>
                            </a:lnTo>
                            <a:lnTo>
                              <a:pt x="558" y="1202"/>
                            </a:lnTo>
                            <a:lnTo>
                              <a:pt x="579" y="1229"/>
                            </a:lnTo>
                            <a:lnTo>
                              <a:pt x="629" y="1283"/>
                            </a:lnTo>
                            <a:lnTo>
                              <a:pt x="654" y="1315"/>
                            </a:lnTo>
                            <a:lnTo>
                              <a:pt x="753" y="1429"/>
                            </a:lnTo>
                            <a:lnTo>
                              <a:pt x="816" y="1500"/>
                            </a:lnTo>
                            <a:lnTo>
                              <a:pt x="877" y="1549"/>
                            </a:lnTo>
                            <a:lnTo>
                              <a:pt x="937" y="1588"/>
                            </a:lnTo>
                            <a:lnTo>
                              <a:pt x="955" y="1597"/>
                            </a:lnTo>
                            <a:lnTo>
                              <a:pt x="965" y="1607"/>
                            </a:lnTo>
                            <a:lnTo>
                              <a:pt x="979" y="1623"/>
                            </a:lnTo>
                            <a:lnTo>
                              <a:pt x="1031" y="1678"/>
                            </a:lnTo>
                            <a:lnTo>
                              <a:pt x="1067" y="1721"/>
                            </a:lnTo>
                            <a:lnTo>
                              <a:pt x="1096" y="1749"/>
                            </a:lnTo>
                            <a:lnTo>
                              <a:pt x="1127" y="1776"/>
                            </a:lnTo>
                            <a:lnTo>
                              <a:pt x="1148" y="1808"/>
                            </a:lnTo>
                            <a:lnTo>
                              <a:pt x="1184" y="1847"/>
                            </a:lnTo>
                            <a:lnTo>
                              <a:pt x="1215" y="1879"/>
                            </a:lnTo>
                            <a:lnTo>
                              <a:pt x="1226" y="1902"/>
                            </a:lnTo>
                            <a:lnTo>
                              <a:pt x="1244" y="1921"/>
                            </a:lnTo>
                            <a:lnTo>
                              <a:pt x="1275" y="1973"/>
                            </a:lnTo>
                            <a:lnTo>
                              <a:pt x="1311" y="2022"/>
                            </a:lnTo>
                            <a:lnTo>
                              <a:pt x="1357" y="2087"/>
                            </a:lnTo>
                            <a:lnTo>
                              <a:pt x="1386" y="2119"/>
                            </a:lnTo>
                            <a:lnTo>
                              <a:pt x="1403" y="2142"/>
                            </a:lnTo>
                            <a:lnTo>
                              <a:pt x="1420" y="2167"/>
                            </a:lnTo>
                            <a:lnTo>
                              <a:pt x="1446" y="2210"/>
                            </a:lnTo>
                            <a:lnTo>
                              <a:pt x="1480" y="2265"/>
                            </a:lnTo>
                            <a:lnTo>
                              <a:pt x="1534" y="2330"/>
                            </a:lnTo>
                            <a:lnTo>
                              <a:pt x="1569" y="2375"/>
                            </a:lnTo>
                            <a:lnTo>
                              <a:pt x="1600" y="2407"/>
                            </a:lnTo>
                            <a:lnTo>
                              <a:pt x="1618" y="2433"/>
                            </a:lnTo>
                            <a:lnTo>
                              <a:pt x="1646" y="2465"/>
                            </a:lnTo>
                            <a:lnTo>
                              <a:pt x="1675" y="2504"/>
                            </a:lnTo>
                            <a:lnTo>
                              <a:pt x="1724" y="2559"/>
                            </a:lnTo>
                            <a:lnTo>
                              <a:pt x="1795" y="2625"/>
                            </a:lnTo>
                            <a:lnTo>
                              <a:pt x="1883" y="2657"/>
                            </a:lnTo>
                            <a:lnTo>
                              <a:pt x="1979" y="2673"/>
                            </a:lnTo>
                            <a:lnTo>
                              <a:pt x="2074" y="2650"/>
                            </a:lnTo>
                            <a:lnTo>
                              <a:pt x="2163" y="2609"/>
                            </a:lnTo>
                            <a:lnTo>
                              <a:pt x="2233" y="2543"/>
                            </a:lnTo>
                            <a:lnTo>
                              <a:pt x="2269" y="2459"/>
                            </a:lnTo>
                            <a:lnTo>
                              <a:pt x="2279" y="2368"/>
                            </a:lnTo>
                            <a:lnTo>
                              <a:pt x="2261" y="2281"/>
                            </a:lnTo>
                            <a:lnTo>
                              <a:pt x="2215" y="220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 rot="10800000">
                        <a:off x="4203000" y="8097480"/>
                        <a:ext cx="18720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49" h="4591">
                            <a:moveTo>
                              <a:pt x="1184" y="4491"/>
                            </a:moveTo>
                            <a:lnTo>
                              <a:pt x="1244" y="4426"/>
                            </a:lnTo>
                            <a:lnTo>
                              <a:pt x="1279" y="4374"/>
                            </a:lnTo>
                            <a:lnTo>
                              <a:pt x="1314" y="4319"/>
                            </a:lnTo>
                            <a:lnTo>
                              <a:pt x="1326" y="4303"/>
                            </a:lnTo>
                            <a:lnTo>
                              <a:pt x="1339" y="4287"/>
                            </a:lnTo>
                            <a:lnTo>
                              <a:pt x="1357" y="4265"/>
                            </a:lnTo>
                            <a:lnTo>
                              <a:pt x="1392" y="4225"/>
                            </a:lnTo>
                            <a:lnTo>
                              <a:pt x="1414" y="4199"/>
                            </a:lnTo>
                            <a:lnTo>
                              <a:pt x="1438" y="4177"/>
                            </a:lnTo>
                            <a:lnTo>
                              <a:pt x="1470" y="4150"/>
                            </a:lnTo>
                            <a:lnTo>
                              <a:pt x="1505" y="4118"/>
                            </a:lnTo>
                            <a:lnTo>
                              <a:pt x="1552" y="4069"/>
                            </a:lnTo>
                            <a:lnTo>
                              <a:pt x="1604" y="4008"/>
                            </a:lnTo>
                            <a:lnTo>
                              <a:pt x="1640" y="3959"/>
                            </a:lnTo>
                            <a:lnTo>
                              <a:pt x="1672" y="3917"/>
                            </a:lnTo>
                            <a:lnTo>
                              <a:pt x="1682" y="3901"/>
                            </a:lnTo>
                            <a:lnTo>
                              <a:pt x="1700" y="3878"/>
                            </a:lnTo>
                            <a:lnTo>
                              <a:pt x="1718" y="3856"/>
                            </a:lnTo>
                            <a:lnTo>
                              <a:pt x="1788" y="3771"/>
                            </a:lnTo>
                            <a:lnTo>
                              <a:pt x="1833" y="3687"/>
                            </a:lnTo>
                            <a:lnTo>
                              <a:pt x="1859" y="3619"/>
                            </a:lnTo>
                            <a:lnTo>
                              <a:pt x="1866" y="360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6" y="3603"/>
                            </a:lnTo>
                            <a:lnTo>
                              <a:pt x="1866" y="3597"/>
                            </a:lnTo>
                            <a:lnTo>
                              <a:pt x="1869" y="3590"/>
                            </a:lnTo>
                            <a:lnTo>
                              <a:pt x="1851" y="3607"/>
                            </a:lnTo>
                            <a:lnTo>
                              <a:pt x="1830" y="3619"/>
                            </a:lnTo>
                            <a:lnTo>
                              <a:pt x="1812" y="3622"/>
                            </a:lnTo>
                            <a:lnTo>
                              <a:pt x="1817" y="3622"/>
                            </a:lnTo>
                            <a:lnTo>
                              <a:pt x="1823" y="3622"/>
                            </a:lnTo>
                            <a:lnTo>
                              <a:pt x="1901" y="3603"/>
                            </a:lnTo>
                            <a:lnTo>
                              <a:pt x="2007" y="3558"/>
                            </a:lnTo>
                            <a:lnTo>
                              <a:pt x="2128" y="3470"/>
                            </a:lnTo>
                            <a:lnTo>
                              <a:pt x="2180" y="3412"/>
                            </a:lnTo>
                            <a:lnTo>
                              <a:pt x="2216" y="3370"/>
                            </a:lnTo>
                            <a:lnTo>
                              <a:pt x="2243" y="3331"/>
                            </a:lnTo>
                            <a:lnTo>
                              <a:pt x="2261" y="3301"/>
                            </a:lnTo>
                            <a:lnTo>
                              <a:pt x="2286" y="3276"/>
                            </a:lnTo>
                            <a:lnTo>
                              <a:pt x="2321" y="3237"/>
                            </a:lnTo>
                            <a:lnTo>
                              <a:pt x="2375" y="3179"/>
                            </a:lnTo>
                            <a:lnTo>
                              <a:pt x="2409" y="3130"/>
                            </a:lnTo>
                            <a:lnTo>
                              <a:pt x="2438" y="3085"/>
                            </a:lnTo>
                            <a:lnTo>
                              <a:pt x="2453" y="3065"/>
                            </a:lnTo>
                            <a:lnTo>
                              <a:pt x="2463" y="3049"/>
                            </a:lnTo>
                            <a:lnTo>
                              <a:pt x="2481" y="3033"/>
                            </a:lnTo>
                            <a:lnTo>
                              <a:pt x="2456" y="3049"/>
                            </a:lnTo>
                            <a:lnTo>
                              <a:pt x="2445" y="3065"/>
                            </a:lnTo>
                            <a:lnTo>
                              <a:pt x="2435" y="3065"/>
                            </a:lnTo>
                            <a:lnTo>
                              <a:pt x="2438" y="3065"/>
                            </a:lnTo>
                            <a:lnTo>
                              <a:pt x="2453" y="3059"/>
                            </a:lnTo>
                            <a:lnTo>
                              <a:pt x="2456" y="3052"/>
                            </a:lnTo>
                            <a:lnTo>
                              <a:pt x="2593" y="2988"/>
                            </a:lnTo>
                            <a:lnTo>
                              <a:pt x="2674" y="2916"/>
                            </a:lnTo>
                            <a:lnTo>
                              <a:pt x="2728" y="2836"/>
                            </a:lnTo>
                            <a:lnTo>
                              <a:pt x="2749" y="2761"/>
                            </a:lnTo>
                            <a:lnTo>
                              <a:pt x="2749" y="2696"/>
                            </a:lnTo>
                            <a:lnTo>
                              <a:pt x="2742" y="2640"/>
                            </a:lnTo>
                            <a:lnTo>
                              <a:pt x="2692" y="2511"/>
                            </a:lnTo>
                            <a:lnTo>
                              <a:pt x="2622" y="2414"/>
                            </a:lnTo>
                            <a:lnTo>
                              <a:pt x="2547" y="2352"/>
                            </a:lnTo>
                            <a:lnTo>
                              <a:pt x="2481" y="2314"/>
                            </a:lnTo>
                            <a:lnTo>
                              <a:pt x="2456" y="2300"/>
                            </a:lnTo>
                            <a:lnTo>
                              <a:pt x="2445" y="2291"/>
                            </a:lnTo>
                            <a:lnTo>
                              <a:pt x="2435" y="2281"/>
                            </a:lnTo>
                            <a:lnTo>
                              <a:pt x="2329" y="2184"/>
                            </a:lnTo>
                            <a:lnTo>
                              <a:pt x="2227" y="2129"/>
                            </a:lnTo>
                            <a:lnTo>
                              <a:pt x="2149" y="2100"/>
                            </a:lnTo>
                            <a:lnTo>
                              <a:pt x="2138" y="2100"/>
                            </a:lnTo>
                            <a:lnTo>
                              <a:pt x="2131" y="2096"/>
                            </a:lnTo>
                            <a:lnTo>
                              <a:pt x="2138" y="2100"/>
                            </a:lnTo>
                            <a:lnTo>
                              <a:pt x="2149" y="2106"/>
                            </a:lnTo>
                            <a:lnTo>
                              <a:pt x="2155" y="2112"/>
                            </a:lnTo>
                            <a:lnTo>
                              <a:pt x="2162" y="2123"/>
                            </a:lnTo>
                            <a:lnTo>
                              <a:pt x="2167" y="2139"/>
                            </a:lnTo>
                            <a:lnTo>
                              <a:pt x="2173" y="2151"/>
                            </a:lnTo>
                            <a:lnTo>
                              <a:pt x="2173" y="2145"/>
                            </a:lnTo>
                            <a:lnTo>
                              <a:pt x="2173" y="2139"/>
                            </a:lnTo>
                            <a:lnTo>
                              <a:pt x="2173" y="2129"/>
                            </a:lnTo>
                            <a:lnTo>
                              <a:pt x="2162" y="2048"/>
                            </a:lnTo>
                            <a:lnTo>
                              <a:pt x="2131" y="1938"/>
                            </a:lnTo>
                            <a:lnTo>
                              <a:pt x="2050" y="1814"/>
                            </a:lnTo>
                            <a:lnTo>
                              <a:pt x="2017" y="1786"/>
                            </a:lnTo>
                            <a:lnTo>
                              <a:pt x="1972" y="1727"/>
                            </a:lnTo>
                            <a:lnTo>
                              <a:pt x="1947" y="1698"/>
                            </a:lnTo>
                            <a:lnTo>
                              <a:pt x="1851" y="1591"/>
                            </a:lnTo>
                            <a:lnTo>
                              <a:pt x="1781" y="1513"/>
                            </a:lnTo>
                            <a:lnTo>
                              <a:pt x="1718" y="1465"/>
                            </a:lnTo>
                            <a:lnTo>
                              <a:pt x="1658" y="1429"/>
                            </a:lnTo>
                            <a:lnTo>
                              <a:pt x="1633" y="1416"/>
                            </a:lnTo>
                            <a:lnTo>
                              <a:pt x="1629" y="1407"/>
                            </a:lnTo>
                            <a:lnTo>
                              <a:pt x="1612" y="1396"/>
                            </a:lnTo>
                            <a:lnTo>
                              <a:pt x="1570" y="1348"/>
                            </a:lnTo>
                            <a:lnTo>
                              <a:pt x="1541" y="1310"/>
                            </a:lnTo>
                            <a:lnTo>
                              <a:pt x="1516" y="1280"/>
                            </a:lnTo>
                            <a:lnTo>
                              <a:pt x="1488" y="1247"/>
                            </a:lnTo>
                            <a:lnTo>
                              <a:pt x="1456" y="1211"/>
                            </a:lnTo>
                            <a:lnTo>
                              <a:pt x="1410" y="1157"/>
                            </a:lnTo>
                            <a:lnTo>
                              <a:pt x="1332" y="1076"/>
                            </a:lnTo>
                            <a:lnTo>
                              <a:pt x="1262" y="1028"/>
                            </a:lnTo>
                            <a:lnTo>
                              <a:pt x="1191" y="989"/>
                            </a:lnTo>
                            <a:lnTo>
                              <a:pt x="1184" y="982"/>
                            </a:lnTo>
                            <a:lnTo>
                              <a:pt x="1176" y="979"/>
                            </a:lnTo>
                            <a:lnTo>
                              <a:pt x="1173" y="979"/>
                            </a:lnTo>
                            <a:lnTo>
                              <a:pt x="1166" y="965"/>
                            </a:lnTo>
                            <a:lnTo>
                              <a:pt x="1160" y="962"/>
                            </a:lnTo>
                            <a:lnTo>
                              <a:pt x="1160" y="965"/>
                            </a:lnTo>
                            <a:lnTo>
                              <a:pt x="1160" y="962"/>
                            </a:lnTo>
                            <a:lnTo>
                              <a:pt x="1160" y="956"/>
                            </a:lnTo>
                            <a:lnTo>
                              <a:pt x="1160" y="950"/>
                            </a:lnTo>
                            <a:lnTo>
                              <a:pt x="1139" y="875"/>
                            </a:lnTo>
                            <a:lnTo>
                              <a:pt x="1103" y="788"/>
                            </a:lnTo>
                            <a:lnTo>
                              <a:pt x="1032" y="691"/>
                            </a:lnTo>
                            <a:lnTo>
                              <a:pt x="993" y="652"/>
                            </a:lnTo>
                            <a:lnTo>
                              <a:pt x="976" y="619"/>
                            </a:lnTo>
                            <a:lnTo>
                              <a:pt x="958" y="597"/>
                            </a:lnTo>
                            <a:lnTo>
                              <a:pt x="937" y="561"/>
                            </a:lnTo>
                            <a:lnTo>
                              <a:pt x="901" y="516"/>
                            </a:lnTo>
                            <a:lnTo>
                              <a:pt x="852" y="457"/>
                            </a:lnTo>
                            <a:lnTo>
                              <a:pt x="806" y="401"/>
                            </a:lnTo>
                            <a:lnTo>
                              <a:pt x="757" y="347"/>
                            </a:lnTo>
                            <a:lnTo>
                              <a:pt x="711" y="288"/>
                            </a:lnTo>
                            <a:lnTo>
                              <a:pt x="664" y="227"/>
                            </a:lnTo>
                            <a:lnTo>
                              <a:pt x="612" y="169"/>
                            </a:lnTo>
                            <a:lnTo>
                              <a:pt x="562" y="113"/>
                            </a:lnTo>
                            <a:lnTo>
                              <a:pt x="485" y="49"/>
                            </a:lnTo>
                            <a:lnTo>
                              <a:pt x="396" y="10"/>
                            </a:lnTo>
                            <a:lnTo>
                              <a:pt x="301" y="0"/>
                            </a:lnTo>
                            <a:lnTo>
                              <a:pt x="209" y="16"/>
                            </a:lnTo>
                            <a:lnTo>
                              <a:pt x="117" y="58"/>
                            </a:lnTo>
                            <a:lnTo>
                              <a:pt x="54" y="130"/>
                            </a:lnTo>
                            <a:lnTo>
                              <a:pt x="11" y="210"/>
                            </a:lnTo>
                            <a:lnTo>
                              <a:pt x="0" y="298"/>
                            </a:lnTo>
                            <a:lnTo>
                              <a:pt x="18" y="386"/>
                            </a:lnTo>
                            <a:lnTo>
                              <a:pt x="64" y="467"/>
                            </a:lnTo>
                            <a:lnTo>
                              <a:pt x="114" y="522"/>
                            </a:lnTo>
                            <a:lnTo>
                              <a:pt x="160" y="580"/>
                            </a:lnTo>
                            <a:lnTo>
                              <a:pt x="209" y="635"/>
                            </a:lnTo>
                            <a:lnTo>
                              <a:pt x="255" y="694"/>
                            </a:lnTo>
                            <a:lnTo>
                              <a:pt x="308" y="755"/>
                            </a:lnTo>
                            <a:lnTo>
                              <a:pt x="353" y="813"/>
                            </a:lnTo>
                            <a:lnTo>
                              <a:pt x="392" y="852"/>
                            </a:lnTo>
                            <a:lnTo>
                              <a:pt x="410" y="878"/>
                            </a:lnTo>
                            <a:lnTo>
                              <a:pt x="428" y="907"/>
                            </a:lnTo>
                            <a:lnTo>
                              <a:pt x="456" y="940"/>
                            </a:lnTo>
                            <a:lnTo>
                              <a:pt x="485" y="989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47"/>
                            </a:lnTo>
                            <a:lnTo>
                              <a:pt x="537" y="1047"/>
                            </a:lnTo>
                            <a:lnTo>
                              <a:pt x="537" y="1044"/>
                            </a:lnTo>
                            <a:lnTo>
                              <a:pt x="537" y="1047"/>
                            </a:lnTo>
                            <a:lnTo>
                              <a:pt x="545" y="1053"/>
                            </a:lnTo>
                            <a:lnTo>
                              <a:pt x="545" y="1063"/>
                            </a:lnTo>
                            <a:lnTo>
                              <a:pt x="562" y="1141"/>
                            </a:lnTo>
                            <a:lnTo>
                              <a:pt x="605" y="1228"/>
                            </a:lnTo>
                            <a:lnTo>
                              <a:pt x="669" y="1326"/>
                            </a:lnTo>
                            <a:lnTo>
                              <a:pt x="753" y="1399"/>
                            </a:lnTo>
                            <a:lnTo>
                              <a:pt x="823" y="1455"/>
                            </a:lnTo>
                            <a:lnTo>
                              <a:pt x="895" y="1493"/>
                            </a:lnTo>
                            <a:lnTo>
                              <a:pt x="901" y="1497"/>
                            </a:lnTo>
                            <a:lnTo>
                              <a:pt x="905" y="1497"/>
                            </a:lnTo>
                            <a:lnTo>
                              <a:pt x="912" y="1497"/>
                            </a:lnTo>
                            <a:lnTo>
                              <a:pt x="905" y="1497"/>
                            </a:lnTo>
                            <a:lnTo>
                              <a:pt x="912" y="1504"/>
                            </a:lnTo>
                            <a:lnTo>
                              <a:pt x="919" y="1513"/>
                            </a:lnTo>
                            <a:lnTo>
                              <a:pt x="958" y="1559"/>
                            </a:lnTo>
                            <a:lnTo>
                              <a:pt x="989" y="1598"/>
                            </a:lnTo>
                            <a:lnTo>
                              <a:pt x="1018" y="1630"/>
                            </a:lnTo>
                            <a:lnTo>
                              <a:pt x="1043" y="1662"/>
                            </a:lnTo>
                            <a:lnTo>
                              <a:pt x="1078" y="1698"/>
                            </a:lnTo>
                            <a:lnTo>
                              <a:pt x="1121" y="1750"/>
                            </a:lnTo>
                            <a:lnTo>
                              <a:pt x="1191" y="1824"/>
                            </a:lnTo>
                            <a:lnTo>
                              <a:pt x="1254" y="1879"/>
                            </a:lnTo>
                            <a:lnTo>
                              <a:pt x="1321" y="1912"/>
                            </a:lnTo>
                            <a:lnTo>
                              <a:pt x="1339" y="1929"/>
                            </a:lnTo>
                            <a:lnTo>
                              <a:pt x="1350" y="1932"/>
                            </a:lnTo>
                            <a:lnTo>
                              <a:pt x="1360" y="1951"/>
                            </a:lnTo>
                            <a:lnTo>
                              <a:pt x="1386" y="1977"/>
                            </a:lnTo>
                            <a:lnTo>
                              <a:pt x="1431" y="2032"/>
                            </a:lnTo>
                            <a:lnTo>
                              <a:pt x="1463" y="2064"/>
                            </a:lnTo>
                            <a:lnTo>
                              <a:pt x="1558" y="2171"/>
                            </a:lnTo>
                            <a:lnTo>
                              <a:pt x="1552" y="2161"/>
                            </a:lnTo>
                            <a:lnTo>
                              <a:pt x="1544" y="2145"/>
                            </a:lnTo>
                            <a:lnTo>
                              <a:pt x="1541" y="2132"/>
                            </a:lnTo>
                            <a:lnTo>
                              <a:pt x="1544" y="2139"/>
                            </a:lnTo>
                            <a:lnTo>
                              <a:pt x="1544" y="2145"/>
                            </a:lnTo>
                            <a:lnTo>
                              <a:pt x="1544" y="2155"/>
                            </a:lnTo>
                            <a:lnTo>
                              <a:pt x="1552" y="2236"/>
                            </a:lnTo>
                            <a:lnTo>
                              <a:pt x="1580" y="2343"/>
                            </a:lnTo>
                            <a:lnTo>
                              <a:pt x="1664" y="2466"/>
                            </a:lnTo>
                            <a:lnTo>
                              <a:pt x="1770" y="2566"/>
                            </a:lnTo>
                            <a:lnTo>
                              <a:pt x="1876" y="2618"/>
                            </a:lnTo>
                            <a:lnTo>
                              <a:pt x="1954" y="2648"/>
                            </a:lnTo>
                            <a:lnTo>
                              <a:pt x="1962" y="2648"/>
                            </a:lnTo>
                            <a:lnTo>
                              <a:pt x="1965" y="2648"/>
                            </a:lnTo>
                            <a:lnTo>
                              <a:pt x="1972" y="2651"/>
                            </a:lnTo>
                            <a:lnTo>
                              <a:pt x="1962" y="2648"/>
                            </a:lnTo>
                            <a:lnTo>
                              <a:pt x="1947" y="2640"/>
                            </a:lnTo>
                            <a:lnTo>
                              <a:pt x="1944" y="2631"/>
                            </a:lnTo>
                            <a:lnTo>
                              <a:pt x="1944" y="2634"/>
                            </a:lnTo>
                            <a:lnTo>
                              <a:pt x="2017" y="2706"/>
                            </a:lnTo>
                            <a:lnTo>
                              <a:pt x="2085" y="2761"/>
                            </a:lnTo>
                            <a:lnTo>
                              <a:pt x="2145" y="2793"/>
                            </a:lnTo>
                            <a:lnTo>
                              <a:pt x="2149" y="2800"/>
                            </a:lnTo>
                            <a:lnTo>
                              <a:pt x="2155" y="2803"/>
                            </a:lnTo>
                            <a:lnTo>
                              <a:pt x="2162" y="2809"/>
                            </a:lnTo>
                            <a:lnTo>
                              <a:pt x="2149" y="2793"/>
                            </a:lnTo>
                            <a:lnTo>
                              <a:pt x="2138" y="2777"/>
                            </a:lnTo>
                            <a:lnTo>
                              <a:pt x="2128" y="2761"/>
                            </a:lnTo>
                            <a:lnTo>
                              <a:pt x="2131" y="2761"/>
                            </a:lnTo>
                            <a:lnTo>
                              <a:pt x="2131" y="2651"/>
                            </a:lnTo>
                            <a:lnTo>
                              <a:pt x="2180" y="2566"/>
                            </a:lnTo>
                            <a:lnTo>
                              <a:pt x="2251" y="2511"/>
                            </a:lnTo>
                            <a:lnTo>
                              <a:pt x="2243" y="2515"/>
                            </a:lnTo>
                            <a:lnTo>
                              <a:pt x="2237" y="2515"/>
                            </a:lnTo>
                            <a:lnTo>
                              <a:pt x="2227" y="2521"/>
                            </a:lnTo>
                            <a:lnTo>
                              <a:pt x="2162" y="2551"/>
                            </a:lnTo>
                            <a:lnTo>
                              <a:pt x="2085" y="2585"/>
                            </a:lnTo>
                            <a:lnTo>
                              <a:pt x="2007" y="2651"/>
                            </a:lnTo>
                            <a:lnTo>
                              <a:pt x="1954" y="2712"/>
                            </a:lnTo>
                            <a:lnTo>
                              <a:pt x="1919" y="2761"/>
                            </a:lnTo>
                            <a:lnTo>
                              <a:pt x="1890" y="2803"/>
                            </a:lnTo>
                            <a:lnTo>
                              <a:pt x="1884" y="2825"/>
                            </a:lnTo>
                            <a:lnTo>
                              <a:pt x="1866" y="2836"/>
                            </a:lnTo>
                            <a:lnTo>
                              <a:pt x="1848" y="2858"/>
                            </a:lnTo>
                            <a:lnTo>
                              <a:pt x="1796" y="2916"/>
                            </a:lnTo>
                            <a:lnTo>
                              <a:pt x="1760" y="2961"/>
                            </a:lnTo>
                            <a:lnTo>
                              <a:pt x="1728" y="3000"/>
                            </a:lnTo>
                            <a:lnTo>
                              <a:pt x="1710" y="3027"/>
                            </a:lnTo>
                            <a:lnTo>
                              <a:pt x="1689" y="3052"/>
                            </a:lnTo>
                            <a:lnTo>
                              <a:pt x="1650" y="3091"/>
                            </a:lnTo>
                            <a:lnTo>
                              <a:pt x="1672" y="3075"/>
                            </a:lnTo>
                            <a:lnTo>
                              <a:pt x="1693" y="3065"/>
                            </a:lnTo>
                            <a:lnTo>
                              <a:pt x="1710" y="3059"/>
                            </a:lnTo>
                            <a:lnTo>
                              <a:pt x="1707" y="3059"/>
                            </a:lnTo>
                            <a:lnTo>
                              <a:pt x="1700" y="3059"/>
                            </a:lnTo>
                            <a:lnTo>
                              <a:pt x="1622" y="3082"/>
                            </a:lnTo>
                            <a:lnTo>
                              <a:pt x="1516" y="3124"/>
                            </a:lnTo>
                            <a:lnTo>
                              <a:pt x="1396" y="3211"/>
                            </a:lnTo>
                            <a:lnTo>
                              <a:pt x="1326" y="3301"/>
                            </a:lnTo>
                            <a:lnTo>
                              <a:pt x="1287" y="3386"/>
                            </a:lnTo>
                            <a:lnTo>
                              <a:pt x="1254" y="3455"/>
                            </a:lnTo>
                            <a:lnTo>
                              <a:pt x="1254" y="3461"/>
                            </a:lnTo>
                            <a:lnTo>
                              <a:pt x="1254" y="3467"/>
                            </a:lnTo>
                            <a:lnTo>
                              <a:pt x="1251" y="3470"/>
                            </a:lnTo>
                            <a:lnTo>
                              <a:pt x="1254" y="3470"/>
                            </a:lnTo>
                            <a:lnTo>
                              <a:pt x="1251" y="3477"/>
                            </a:lnTo>
                            <a:lnTo>
                              <a:pt x="1244" y="3477"/>
                            </a:lnTo>
                            <a:lnTo>
                              <a:pt x="1194" y="3535"/>
                            </a:lnTo>
                            <a:lnTo>
                              <a:pt x="1155" y="3587"/>
                            </a:lnTo>
                            <a:lnTo>
                              <a:pt x="1124" y="3629"/>
                            </a:lnTo>
                            <a:lnTo>
                              <a:pt x="1113" y="3652"/>
                            </a:lnTo>
                            <a:lnTo>
                              <a:pt x="1103" y="3668"/>
                            </a:lnTo>
                            <a:lnTo>
                              <a:pt x="1078" y="3687"/>
                            </a:lnTo>
                            <a:lnTo>
                              <a:pt x="1049" y="3726"/>
                            </a:lnTo>
                            <a:lnTo>
                              <a:pt x="1018" y="3749"/>
                            </a:lnTo>
                            <a:lnTo>
                              <a:pt x="993" y="3771"/>
                            </a:lnTo>
                            <a:lnTo>
                              <a:pt x="965" y="3798"/>
                            </a:lnTo>
                            <a:lnTo>
                              <a:pt x="929" y="3837"/>
                            </a:lnTo>
                            <a:lnTo>
                              <a:pt x="883" y="3885"/>
                            </a:lnTo>
                            <a:lnTo>
                              <a:pt x="823" y="3950"/>
                            </a:lnTo>
                            <a:lnTo>
                              <a:pt x="781" y="4005"/>
                            </a:lnTo>
                            <a:lnTo>
                              <a:pt x="753" y="4057"/>
                            </a:lnTo>
                            <a:lnTo>
                              <a:pt x="739" y="4073"/>
                            </a:lnTo>
                            <a:lnTo>
                              <a:pt x="729" y="4089"/>
                            </a:lnTo>
                            <a:lnTo>
                              <a:pt x="711" y="4111"/>
                            </a:lnTo>
                            <a:lnTo>
                              <a:pt x="657" y="4193"/>
                            </a:lnTo>
                            <a:lnTo>
                              <a:pt x="633" y="4280"/>
                            </a:lnTo>
                            <a:lnTo>
                              <a:pt x="640" y="4368"/>
                            </a:lnTo>
                            <a:lnTo>
                              <a:pt x="675" y="4448"/>
                            </a:lnTo>
                            <a:lnTo>
                              <a:pt x="739" y="4520"/>
                            </a:lnTo>
                            <a:lnTo>
                              <a:pt x="831" y="4569"/>
                            </a:lnTo>
                            <a:lnTo>
                              <a:pt x="919" y="4591"/>
                            </a:lnTo>
                            <a:lnTo>
                              <a:pt x="1018" y="4585"/>
                            </a:lnTo>
                            <a:lnTo>
                              <a:pt x="1106" y="4553"/>
                            </a:lnTo>
                            <a:lnTo>
                              <a:pt x="1184" y="44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 rot="10800000">
                        <a:off x="4347360" y="8060040"/>
                        <a:ext cx="1324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0" h="1808">
                            <a:moveTo>
                              <a:pt x="548" y="1711"/>
                            </a:moveTo>
                            <a:lnTo>
                              <a:pt x="544" y="1717"/>
                            </a:lnTo>
                            <a:lnTo>
                              <a:pt x="530" y="1720"/>
                            </a:lnTo>
                            <a:lnTo>
                              <a:pt x="527" y="1727"/>
                            </a:lnTo>
                            <a:lnTo>
                              <a:pt x="530" y="1720"/>
                            </a:lnTo>
                            <a:lnTo>
                              <a:pt x="538" y="1720"/>
                            </a:lnTo>
                            <a:lnTo>
                              <a:pt x="544" y="1720"/>
                            </a:lnTo>
                            <a:lnTo>
                              <a:pt x="626" y="1694"/>
                            </a:lnTo>
                            <a:lnTo>
                              <a:pt x="728" y="1645"/>
                            </a:lnTo>
                            <a:lnTo>
                              <a:pt x="841" y="1551"/>
                            </a:lnTo>
                            <a:lnTo>
                              <a:pt x="904" y="1471"/>
                            </a:lnTo>
                            <a:lnTo>
                              <a:pt x="948" y="1406"/>
                            </a:lnTo>
                            <a:lnTo>
                              <a:pt x="975" y="1347"/>
                            </a:lnTo>
                            <a:lnTo>
                              <a:pt x="982" y="1332"/>
                            </a:lnTo>
                            <a:lnTo>
                              <a:pt x="985" y="1318"/>
                            </a:lnTo>
                            <a:lnTo>
                              <a:pt x="1000" y="1308"/>
                            </a:lnTo>
                            <a:lnTo>
                              <a:pt x="1063" y="1228"/>
                            </a:lnTo>
                            <a:lnTo>
                              <a:pt x="1113" y="1169"/>
                            </a:lnTo>
                            <a:lnTo>
                              <a:pt x="1135" y="1117"/>
                            </a:lnTo>
                            <a:lnTo>
                              <a:pt x="1148" y="1098"/>
                            </a:lnTo>
                            <a:lnTo>
                              <a:pt x="1159" y="1075"/>
                            </a:lnTo>
                            <a:lnTo>
                              <a:pt x="1184" y="1053"/>
                            </a:lnTo>
                            <a:lnTo>
                              <a:pt x="1166" y="1066"/>
                            </a:lnTo>
                            <a:lnTo>
                              <a:pt x="1148" y="1075"/>
                            </a:lnTo>
                            <a:lnTo>
                              <a:pt x="1131" y="1082"/>
                            </a:lnTo>
                            <a:lnTo>
                              <a:pt x="1135" y="1082"/>
                            </a:lnTo>
                            <a:lnTo>
                              <a:pt x="1141" y="1082"/>
                            </a:lnTo>
                            <a:lnTo>
                              <a:pt x="1148" y="1082"/>
                            </a:lnTo>
                            <a:lnTo>
                              <a:pt x="1237" y="1059"/>
                            </a:lnTo>
                            <a:lnTo>
                              <a:pt x="1353" y="1011"/>
                            </a:lnTo>
                            <a:lnTo>
                              <a:pt x="1481" y="917"/>
                            </a:lnTo>
                            <a:lnTo>
                              <a:pt x="1533" y="858"/>
                            </a:lnTo>
                            <a:lnTo>
                              <a:pt x="1569" y="810"/>
                            </a:lnTo>
                            <a:lnTo>
                              <a:pt x="1590" y="777"/>
                            </a:lnTo>
                            <a:lnTo>
                              <a:pt x="1608" y="755"/>
                            </a:lnTo>
                            <a:lnTo>
                              <a:pt x="1626" y="729"/>
                            </a:lnTo>
                            <a:lnTo>
                              <a:pt x="1657" y="699"/>
                            </a:lnTo>
                            <a:lnTo>
                              <a:pt x="1686" y="667"/>
                            </a:lnTo>
                            <a:lnTo>
                              <a:pt x="1735" y="616"/>
                            </a:lnTo>
                            <a:lnTo>
                              <a:pt x="1763" y="586"/>
                            </a:lnTo>
                            <a:lnTo>
                              <a:pt x="1862" y="479"/>
                            </a:lnTo>
                            <a:lnTo>
                              <a:pt x="1919" y="401"/>
                            </a:lnTo>
                            <a:lnTo>
                              <a:pt x="1940" y="314"/>
                            </a:lnTo>
                            <a:lnTo>
                              <a:pt x="1929" y="230"/>
                            </a:lnTo>
                            <a:lnTo>
                              <a:pt x="1901" y="146"/>
                            </a:lnTo>
                            <a:lnTo>
                              <a:pt x="1834" y="71"/>
                            </a:lnTo>
                            <a:lnTo>
                              <a:pt x="1745" y="22"/>
                            </a:lnTo>
                            <a:lnTo>
                              <a:pt x="1657" y="0"/>
                            </a:lnTo>
                            <a:lnTo>
                              <a:pt x="1555" y="13"/>
                            </a:lnTo>
                            <a:lnTo>
                              <a:pt x="1467" y="45"/>
                            </a:lnTo>
                            <a:lnTo>
                              <a:pt x="1389" y="97"/>
                            </a:lnTo>
                            <a:lnTo>
                              <a:pt x="1283" y="213"/>
                            </a:lnTo>
                            <a:lnTo>
                              <a:pt x="1184" y="321"/>
                            </a:lnTo>
                            <a:lnTo>
                              <a:pt x="1131" y="382"/>
                            </a:lnTo>
                            <a:lnTo>
                              <a:pt x="1096" y="424"/>
                            </a:lnTo>
                            <a:lnTo>
                              <a:pt x="1063" y="464"/>
                            </a:lnTo>
                            <a:lnTo>
                              <a:pt x="1053" y="483"/>
                            </a:lnTo>
                            <a:lnTo>
                              <a:pt x="1036" y="505"/>
                            </a:lnTo>
                            <a:lnTo>
                              <a:pt x="1003" y="537"/>
                            </a:lnTo>
                            <a:lnTo>
                              <a:pt x="1024" y="522"/>
                            </a:lnTo>
                            <a:lnTo>
                              <a:pt x="1042" y="515"/>
                            </a:lnTo>
                            <a:lnTo>
                              <a:pt x="1053" y="512"/>
                            </a:lnTo>
                            <a:lnTo>
                              <a:pt x="1046" y="512"/>
                            </a:lnTo>
                            <a:lnTo>
                              <a:pt x="1036" y="512"/>
                            </a:lnTo>
                            <a:lnTo>
                              <a:pt x="948" y="531"/>
                            </a:lnTo>
                            <a:lnTo>
                              <a:pt x="834" y="577"/>
                            </a:lnTo>
                            <a:lnTo>
                              <a:pt x="710" y="674"/>
                            </a:lnTo>
                            <a:lnTo>
                              <a:pt x="640" y="755"/>
                            </a:lnTo>
                            <a:lnTo>
                              <a:pt x="598" y="819"/>
                            </a:lnTo>
                            <a:lnTo>
                              <a:pt x="572" y="868"/>
                            </a:lnTo>
                            <a:lnTo>
                              <a:pt x="562" y="890"/>
                            </a:lnTo>
                            <a:lnTo>
                              <a:pt x="548" y="907"/>
                            </a:lnTo>
                            <a:lnTo>
                              <a:pt x="527" y="929"/>
                            </a:lnTo>
                            <a:lnTo>
                              <a:pt x="460" y="1004"/>
                            </a:lnTo>
                            <a:lnTo>
                              <a:pt x="421" y="1075"/>
                            </a:lnTo>
                            <a:lnTo>
                              <a:pt x="388" y="1134"/>
                            </a:lnTo>
                            <a:lnTo>
                              <a:pt x="385" y="1150"/>
                            </a:lnTo>
                            <a:lnTo>
                              <a:pt x="378" y="1163"/>
                            </a:lnTo>
                            <a:lnTo>
                              <a:pt x="367" y="1172"/>
                            </a:lnTo>
                            <a:lnTo>
                              <a:pt x="372" y="1169"/>
                            </a:lnTo>
                            <a:lnTo>
                              <a:pt x="385" y="1163"/>
                            </a:lnTo>
                            <a:lnTo>
                              <a:pt x="388" y="1163"/>
                            </a:lnTo>
                            <a:lnTo>
                              <a:pt x="378" y="1163"/>
                            </a:lnTo>
                            <a:lnTo>
                              <a:pt x="372" y="1169"/>
                            </a:lnTo>
                            <a:lnTo>
                              <a:pt x="294" y="1189"/>
                            </a:lnTo>
                            <a:lnTo>
                              <a:pt x="188" y="1238"/>
                            </a:lnTo>
                            <a:lnTo>
                              <a:pt x="74" y="1332"/>
                            </a:lnTo>
                            <a:lnTo>
                              <a:pt x="21" y="1412"/>
                            </a:lnTo>
                            <a:lnTo>
                              <a:pt x="0" y="1500"/>
                            </a:lnTo>
                            <a:lnTo>
                              <a:pt x="4" y="1587"/>
                            </a:lnTo>
                            <a:lnTo>
                              <a:pt x="39" y="1668"/>
                            </a:lnTo>
                            <a:lnTo>
                              <a:pt x="107" y="1736"/>
                            </a:lnTo>
                            <a:lnTo>
                              <a:pt x="195" y="1788"/>
                            </a:lnTo>
                            <a:lnTo>
                              <a:pt x="290" y="1808"/>
                            </a:lnTo>
                            <a:lnTo>
                              <a:pt x="385" y="1805"/>
                            </a:lnTo>
                            <a:lnTo>
                              <a:pt x="474" y="1772"/>
                            </a:lnTo>
                            <a:lnTo>
                              <a:pt x="548" y="17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"/>
                      <p:cNvSpPr/>
                      <p:nvPr/>
                    </p:nvSpPr>
                    <p:spPr>
                      <a:xfrm rot="10800000">
                        <a:off x="4478760" y="7977600"/>
                        <a:ext cx="2581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4" h="3937">
                            <a:moveTo>
                              <a:pt x="42" y="2077"/>
                            </a:moveTo>
                            <a:lnTo>
                              <a:pt x="42" y="2148"/>
                            </a:lnTo>
                            <a:lnTo>
                              <a:pt x="42" y="2197"/>
                            </a:lnTo>
                            <a:lnTo>
                              <a:pt x="42" y="2242"/>
                            </a:lnTo>
                            <a:lnTo>
                              <a:pt x="46" y="2275"/>
                            </a:lnTo>
                            <a:lnTo>
                              <a:pt x="46" y="2317"/>
                            </a:lnTo>
                            <a:lnTo>
                              <a:pt x="46" y="2372"/>
                            </a:lnTo>
                            <a:lnTo>
                              <a:pt x="46" y="2453"/>
                            </a:lnTo>
                            <a:lnTo>
                              <a:pt x="54" y="2508"/>
                            </a:lnTo>
                            <a:lnTo>
                              <a:pt x="60" y="2557"/>
                            </a:lnTo>
                            <a:lnTo>
                              <a:pt x="64" y="2583"/>
                            </a:lnTo>
                            <a:lnTo>
                              <a:pt x="64" y="2621"/>
                            </a:lnTo>
                            <a:lnTo>
                              <a:pt x="64" y="2663"/>
                            </a:lnTo>
                            <a:lnTo>
                              <a:pt x="70" y="2764"/>
                            </a:lnTo>
                            <a:lnTo>
                              <a:pt x="88" y="2832"/>
                            </a:lnTo>
                            <a:lnTo>
                              <a:pt x="106" y="2897"/>
                            </a:lnTo>
                            <a:lnTo>
                              <a:pt x="114" y="2920"/>
                            </a:lnTo>
                            <a:lnTo>
                              <a:pt x="114" y="2936"/>
                            </a:lnTo>
                            <a:lnTo>
                              <a:pt x="114" y="2958"/>
                            </a:lnTo>
                            <a:lnTo>
                              <a:pt x="117" y="3039"/>
                            </a:lnTo>
                            <a:lnTo>
                              <a:pt x="130" y="3105"/>
                            </a:lnTo>
                            <a:lnTo>
                              <a:pt x="142" y="3160"/>
                            </a:lnTo>
                            <a:lnTo>
                              <a:pt x="148" y="3176"/>
                            </a:lnTo>
                            <a:lnTo>
                              <a:pt x="148" y="3191"/>
                            </a:lnTo>
                            <a:lnTo>
                              <a:pt x="148" y="3208"/>
                            </a:lnTo>
                            <a:lnTo>
                              <a:pt x="159" y="3166"/>
                            </a:lnTo>
                            <a:lnTo>
                              <a:pt x="169" y="3133"/>
                            </a:lnTo>
                            <a:lnTo>
                              <a:pt x="187" y="3111"/>
                            </a:lnTo>
                            <a:lnTo>
                              <a:pt x="184" y="3114"/>
                            </a:lnTo>
                            <a:lnTo>
                              <a:pt x="177" y="3121"/>
                            </a:lnTo>
                            <a:lnTo>
                              <a:pt x="130" y="3166"/>
                            </a:lnTo>
                            <a:lnTo>
                              <a:pt x="70" y="3234"/>
                            </a:lnTo>
                            <a:lnTo>
                              <a:pt x="25" y="3328"/>
                            </a:lnTo>
                            <a:lnTo>
                              <a:pt x="7" y="3451"/>
                            </a:lnTo>
                            <a:lnTo>
                              <a:pt x="7" y="3464"/>
                            </a:lnTo>
                            <a:lnTo>
                              <a:pt x="7" y="3480"/>
                            </a:lnTo>
                            <a:lnTo>
                              <a:pt x="7" y="3497"/>
                            </a:lnTo>
                            <a:lnTo>
                              <a:pt x="0" y="3571"/>
                            </a:lnTo>
                            <a:lnTo>
                              <a:pt x="11" y="3668"/>
                            </a:lnTo>
                            <a:lnTo>
                              <a:pt x="46" y="3768"/>
                            </a:lnTo>
                            <a:lnTo>
                              <a:pt x="130" y="3859"/>
                            </a:lnTo>
                            <a:lnTo>
                              <a:pt x="226" y="3915"/>
                            </a:lnTo>
                            <a:lnTo>
                              <a:pt x="301" y="3937"/>
                            </a:lnTo>
                            <a:lnTo>
                              <a:pt x="449" y="3937"/>
                            </a:lnTo>
                            <a:lnTo>
                              <a:pt x="545" y="3907"/>
                            </a:lnTo>
                            <a:lnTo>
                              <a:pt x="622" y="3865"/>
                            </a:lnTo>
                            <a:lnTo>
                              <a:pt x="693" y="3810"/>
                            </a:lnTo>
                            <a:lnTo>
                              <a:pt x="739" y="3740"/>
                            </a:lnTo>
                            <a:lnTo>
                              <a:pt x="774" y="3658"/>
                            </a:lnTo>
                            <a:lnTo>
                              <a:pt x="799" y="3561"/>
                            </a:lnTo>
                            <a:lnTo>
                              <a:pt x="805" y="3555"/>
                            </a:lnTo>
                            <a:lnTo>
                              <a:pt x="805" y="3545"/>
                            </a:lnTo>
                            <a:lnTo>
                              <a:pt x="805" y="3539"/>
                            </a:lnTo>
                            <a:lnTo>
                              <a:pt x="805" y="3545"/>
                            </a:lnTo>
                            <a:lnTo>
                              <a:pt x="792" y="3555"/>
                            </a:lnTo>
                            <a:lnTo>
                              <a:pt x="788" y="3567"/>
                            </a:lnTo>
                            <a:lnTo>
                              <a:pt x="792" y="3561"/>
                            </a:lnTo>
                            <a:lnTo>
                              <a:pt x="799" y="3555"/>
                            </a:lnTo>
                            <a:lnTo>
                              <a:pt x="809" y="3555"/>
                            </a:lnTo>
                            <a:lnTo>
                              <a:pt x="883" y="3522"/>
                            </a:lnTo>
                            <a:lnTo>
                              <a:pt x="958" y="3473"/>
                            </a:lnTo>
                            <a:lnTo>
                              <a:pt x="1046" y="3393"/>
                            </a:lnTo>
                            <a:lnTo>
                              <a:pt x="1095" y="3337"/>
                            </a:lnTo>
                            <a:lnTo>
                              <a:pt x="1131" y="3299"/>
                            </a:lnTo>
                            <a:lnTo>
                              <a:pt x="1158" y="3266"/>
                            </a:lnTo>
                            <a:lnTo>
                              <a:pt x="1184" y="3234"/>
                            </a:lnTo>
                            <a:lnTo>
                              <a:pt x="1209" y="3208"/>
                            </a:lnTo>
                            <a:lnTo>
                              <a:pt x="1248" y="3169"/>
                            </a:lnTo>
                            <a:lnTo>
                              <a:pt x="1321" y="3072"/>
                            </a:lnTo>
                            <a:lnTo>
                              <a:pt x="1368" y="2991"/>
                            </a:lnTo>
                            <a:lnTo>
                              <a:pt x="1392" y="2920"/>
                            </a:lnTo>
                            <a:lnTo>
                              <a:pt x="1392" y="2909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396" y="2903"/>
                            </a:lnTo>
                            <a:lnTo>
                              <a:pt x="1396" y="2897"/>
                            </a:lnTo>
                            <a:lnTo>
                              <a:pt x="1402" y="2894"/>
                            </a:lnTo>
                            <a:lnTo>
                              <a:pt x="1392" y="2903"/>
                            </a:lnTo>
                            <a:lnTo>
                              <a:pt x="1375" y="2914"/>
                            </a:lnTo>
                            <a:lnTo>
                              <a:pt x="1357" y="2920"/>
                            </a:lnTo>
                            <a:lnTo>
                              <a:pt x="1360" y="2920"/>
                            </a:lnTo>
                            <a:lnTo>
                              <a:pt x="1368" y="2914"/>
                            </a:lnTo>
                            <a:lnTo>
                              <a:pt x="1375" y="2914"/>
                            </a:lnTo>
                            <a:lnTo>
                              <a:pt x="1462" y="2894"/>
                            </a:lnTo>
                            <a:lnTo>
                              <a:pt x="1579" y="2848"/>
                            </a:lnTo>
                            <a:lnTo>
                              <a:pt x="1700" y="2751"/>
                            </a:lnTo>
                            <a:lnTo>
                              <a:pt x="1728" y="2726"/>
                            </a:lnTo>
                            <a:lnTo>
                              <a:pt x="1752" y="2709"/>
                            </a:lnTo>
                            <a:lnTo>
                              <a:pt x="1778" y="2693"/>
                            </a:lnTo>
                            <a:lnTo>
                              <a:pt x="1816" y="2660"/>
                            </a:lnTo>
                            <a:lnTo>
                              <a:pt x="1876" y="2615"/>
                            </a:lnTo>
                            <a:lnTo>
                              <a:pt x="1939" y="2547"/>
                            </a:lnTo>
                            <a:lnTo>
                              <a:pt x="2025" y="2437"/>
                            </a:lnTo>
                            <a:lnTo>
                              <a:pt x="2067" y="2350"/>
                            </a:lnTo>
                            <a:lnTo>
                              <a:pt x="2077" y="2278"/>
                            </a:lnTo>
                            <a:lnTo>
                              <a:pt x="2085" y="2275"/>
                            </a:lnTo>
                            <a:lnTo>
                              <a:pt x="2085" y="2262"/>
                            </a:lnTo>
                            <a:lnTo>
                              <a:pt x="2085" y="2268"/>
                            </a:lnTo>
                            <a:lnTo>
                              <a:pt x="2077" y="2275"/>
                            </a:lnTo>
                            <a:lnTo>
                              <a:pt x="2077" y="2278"/>
                            </a:lnTo>
                            <a:lnTo>
                              <a:pt x="2137" y="2213"/>
                            </a:lnTo>
                            <a:lnTo>
                              <a:pt x="2173" y="2165"/>
                            </a:lnTo>
                            <a:lnTo>
                              <a:pt x="2201" y="2123"/>
                            </a:lnTo>
                            <a:lnTo>
                              <a:pt x="2219" y="2093"/>
                            </a:lnTo>
                            <a:lnTo>
                              <a:pt x="2237" y="2074"/>
                            </a:lnTo>
                            <a:lnTo>
                              <a:pt x="2268" y="2041"/>
                            </a:lnTo>
                            <a:lnTo>
                              <a:pt x="2286" y="2026"/>
                            </a:lnTo>
                            <a:lnTo>
                              <a:pt x="2297" y="2013"/>
                            </a:lnTo>
                            <a:lnTo>
                              <a:pt x="2321" y="2002"/>
                            </a:lnTo>
                            <a:lnTo>
                              <a:pt x="2378" y="1964"/>
                            </a:lnTo>
                            <a:lnTo>
                              <a:pt x="2451" y="1916"/>
                            </a:lnTo>
                            <a:lnTo>
                              <a:pt x="2523" y="1844"/>
                            </a:lnTo>
                            <a:lnTo>
                              <a:pt x="2562" y="1808"/>
                            </a:lnTo>
                            <a:lnTo>
                              <a:pt x="2593" y="1776"/>
                            </a:lnTo>
                            <a:lnTo>
                              <a:pt x="2619" y="1747"/>
                            </a:lnTo>
                            <a:lnTo>
                              <a:pt x="2646" y="1720"/>
                            </a:lnTo>
                            <a:lnTo>
                              <a:pt x="2689" y="1682"/>
                            </a:lnTo>
                            <a:lnTo>
                              <a:pt x="2734" y="1634"/>
                            </a:lnTo>
                            <a:lnTo>
                              <a:pt x="2806" y="1537"/>
                            </a:lnTo>
                            <a:lnTo>
                              <a:pt x="2855" y="1455"/>
                            </a:lnTo>
                            <a:lnTo>
                              <a:pt x="2876" y="1377"/>
                            </a:lnTo>
                            <a:lnTo>
                              <a:pt x="2876" y="1374"/>
                            </a:lnTo>
                            <a:lnTo>
                              <a:pt x="2883" y="1361"/>
                            </a:lnTo>
                            <a:lnTo>
                              <a:pt x="2883" y="1358"/>
                            </a:lnTo>
                            <a:lnTo>
                              <a:pt x="2883" y="1361"/>
                            </a:lnTo>
                            <a:lnTo>
                              <a:pt x="2883" y="1368"/>
                            </a:lnTo>
                            <a:lnTo>
                              <a:pt x="2883" y="1361"/>
                            </a:lnTo>
                            <a:lnTo>
                              <a:pt x="2890" y="1358"/>
                            </a:lnTo>
                            <a:lnTo>
                              <a:pt x="2890" y="1352"/>
                            </a:lnTo>
                            <a:lnTo>
                              <a:pt x="2894" y="1352"/>
                            </a:lnTo>
                            <a:lnTo>
                              <a:pt x="2900" y="1345"/>
                            </a:lnTo>
                            <a:lnTo>
                              <a:pt x="2911" y="1342"/>
                            </a:lnTo>
                            <a:lnTo>
                              <a:pt x="2978" y="1310"/>
                            </a:lnTo>
                            <a:lnTo>
                              <a:pt x="3060" y="1258"/>
                            </a:lnTo>
                            <a:lnTo>
                              <a:pt x="3144" y="1183"/>
                            </a:lnTo>
                            <a:lnTo>
                              <a:pt x="3162" y="1167"/>
                            </a:lnTo>
                            <a:lnTo>
                              <a:pt x="3180" y="1157"/>
                            </a:lnTo>
                            <a:lnTo>
                              <a:pt x="3198" y="1144"/>
                            </a:lnTo>
                            <a:lnTo>
                              <a:pt x="3258" y="1109"/>
                            </a:lnTo>
                            <a:lnTo>
                              <a:pt x="3321" y="1057"/>
                            </a:lnTo>
                            <a:lnTo>
                              <a:pt x="3392" y="992"/>
                            </a:lnTo>
                            <a:lnTo>
                              <a:pt x="3481" y="869"/>
                            </a:lnTo>
                            <a:lnTo>
                              <a:pt x="3515" y="758"/>
                            </a:lnTo>
                            <a:lnTo>
                              <a:pt x="3530" y="684"/>
                            </a:lnTo>
                            <a:lnTo>
                              <a:pt x="3530" y="678"/>
                            </a:lnTo>
                            <a:lnTo>
                              <a:pt x="3530" y="671"/>
                            </a:lnTo>
                            <a:lnTo>
                              <a:pt x="3533" y="667"/>
                            </a:lnTo>
                            <a:lnTo>
                              <a:pt x="3530" y="684"/>
                            </a:lnTo>
                            <a:lnTo>
                              <a:pt x="3515" y="694"/>
                            </a:lnTo>
                            <a:lnTo>
                              <a:pt x="3512" y="710"/>
                            </a:lnTo>
                            <a:lnTo>
                              <a:pt x="3569" y="645"/>
                            </a:lnTo>
                            <a:lnTo>
                              <a:pt x="3604" y="597"/>
                            </a:lnTo>
                            <a:lnTo>
                              <a:pt x="3635" y="558"/>
                            </a:lnTo>
                            <a:lnTo>
                              <a:pt x="3653" y="532"/>
                            </a:lnTo>
                            <a:lnTo>
                              <a:pt x="3674" y="509"/>
                            </a:lnTo>
                            <a:lnTo>
                              <a:pt x="3707" y="470"/>
                            </a:lnTo>
                            <a:lnTo>
                              <a:pt x="3759" y="396"/>
                            </a:lnTo>
                            <a:lnTo>
                              <a:pt x="3784" y="308"/>
                            </a:lnTo>
                            <a:lnTo>
                              <a:pt x="3777" y="221"/>
                            </a:lnTo>
                            <a:lnTo>
                              <a:pt x="3741" y="136"/>
                            </a:lnTo>
                            <a:lnTo>
                              <a:pt x="3674" y="65"/>
                            </a:lnTo>
                            <a:lnTo>
                              <a:pt x="3586" y="17"/>
                            </a:lnTo>
                            <a:lnTo>
                              <a:pt x="3494" y="0"/>
                            </a:lnTo>
                            <a:lnTo>
                              <a:pt x="3399" y="3"/>
                            </a:lnTo>
                            <a:lnTo>
                              <a:pt x="3310" y="36"/>
                            </a:lnTo>
                            <a:lnTo>
                              <a:pt x="3232" y="97"/>
                            </a:lnTo>
                            <a:lnTo>
                              <a:pt x="3180" y="156"/>
                            </a:lnTo>
                            <a:lnTo>
                              <a:pt x="3138" y="205"/>
                            </a:lnTo>
                            <a:lnTo>
                              <a:pt x="3109" y="243"/>
                            </a:lnTo>
                            <a:lnTo>
                              <a:pt x="3092" y="269"/>
                            </a:lnTo>
                            <a:lnTo>
                              <a:pt x="3066" y="293"/>
                            </a:lnTo>
                            <a:lnTo>
                              <a:pt x="3035" y="331"/>
                            </a:lnTo>
                            <a:lnTo>
                              <a:pt x="2947" y="454"/>
                            </a:lnTo>
                            <a:lnTo>
                              <a:pt x="2911" y="558"/>
                            </a:lnTo>
                            <a:lnTo>
                              <a:pt x="2900" y="636"/>
                            </a:lnTo>
                            <a:lnTo>
                              <a:pt x="2900" y="645"/>
                            </a:lnTo>
                            <a:lnTo>
                              <a:pt x="2900" y="652"/>
                            </a:lnTo>
                            <a:lnTo>
                              <a:pt x="2900" y="655"/>
                            </a:lnTo>
                            <a:lnTo>
                              <a:pt x="2908" y="639"/>
                            </a:lnTo>
                            <a:lnTo>
                              <a:pt x="2911" y="622"/>
                            </a:lnTo>
                            <a:lnTo>
                              <a:pt x="2918" y="613"/>
                            </a:lnTo>
                            <a:lnTo>
                              <a:pt x="2900" y="629"/>
                            </a:lnTo>
                            <a:lnTo>
                              <a:pt x="2890" y="639"/>
                            </a:lnTo>
                            <a:lnTo>
                              <a:pt x="2866" y="655"/>
                            </a:lnTo>
                            <a:lnTo>
                              <a:pt x="2806" y="687"/>
                            </a:lnTo>
                            <a:lnTo>
                              <a:pt x="2746" y="739"/>
                            </a:lnTo>
                            <a:lnTo>
                              <a:pt x="2671" y="804"/>
                            </a:lnTo>
                            <a:lnTo>
                              <a:pt x="2664" y="813"/>
                            </a:lnTo>
                            <a:lnTo>
                              <a:pt x="2656" y="813"/>
                            </a:lnTo>
                            <a:lnTo>
                              <a:pt x="2653" y="821"/>
                            </a:lnTo>
                            <a:lnTo>
                              <a:pt x="2646" y="821"/>
                            </a:lnTo>
                            <a:lnTo>
                              <a:pt x="2575" y="852"/>
                            </a:lnTo>
                            <a:lnTo>
                              <a:pt x="2498" y="907"/>
                            </a:lnTo>
                            <a:lnTo>
                              <a:pt x="2417" y="976"/>
                            </a:lnTo>
                            <a:lnTo>
                              <a:pt x="2339" y="1073"/>
                            </a:lnTo>
                            <a:lnTo>
                              <a:pt x="2297" y="1161"/>
                            </a:lnTo>
                            <a:lnTo>
                              <a:pt x="2272" y="1231"/>
                            </a:lnTo>
                            <a:lnTo>
                              <a:pt x="2268" y="1241"/>
                            </a:lnTo>
                            <a:lnTo>
                              <a:pt x="2268" y="1248"/>
                            </a:lnTo>
                            <a:lnTo>
                              <a:pt x="2268" y="1255"/>
                            </a:lnTo>
                            <a:lnTo>
                              <a:pt x="2268" y="1248"/>
                            </a:lnTo>
                            <a:lnTo>
                              <a:pt x="2261" y="1255"/>
                            </a:lnTo>
                            <a:lnTo>
                              <a:pt x="2219" y="1297"/>
                            </a:lnTo>
                            <a:lnTo>
                              <a:pt x="2191" y="1325"/>
                            </a:lnTo>
                            <a:lnTo>
                              <a:pt x="2159" y="1352"/>
                            </a:lnTo>
                            <a:lnTo>
                              <a:pt x="2131" y="1383"/>
                            </a:lnTo>
                            <a:lnTo>
                              <a:pt x="2095" y="1416"/>
                            </a:lnTo>
                            <a:lnTo>
                              <a:pt x="2049" y="1465"/>
                            </a:lnTo>
                            <a:lnTo>
                              <a:pt x="2032" y="1488"/>
                            </a:lnTo>
                            <a:lnTo>
                              <a:pt x="2014" y="1497"/>
                            </a:lnTo>
                            <a:lnTo>
                              <a:pt x="1996" y="1510"/>
                            </a:lnTo>
                            <a:lnTo>
                              <a:pt x="1936" y="1546"/>
                            </a:lnTo>
                            <a:lnTo>
                              <a:pt x="1866" y="1595"/>
                            </a:lnTo>
                            <a:lnTo>
                              <a:pt x="1794" y="1665"/>
                            </a:lnTo>
                            <a:lnTo>
                              <a:pt x="1734" y="1731"/>
                            </a:lnTo>
                            <a:lnTo>
                              <a:pt x="1692" y="1779"/>
                            </a:lnTo>
                            <a:lnTo>
                              <a:pt x="1664" y="1825"/>
                            </a:lnTo>
                            <a:lnTo>
                              <a:pt x="1650" y="1844"/>
                            </a:lnTo>
                            <a:lnTo>
                              <a:pt x="1633" y="1873"/>
                            </a:lnTo>
                            <a:lnTo>
                              <a:pt x="1604" y="1899"/>
                            </a:lnTo>
                            <a:lnTo>
                              <a:pt x="1523" y="2010"/>
                            </a:lnTo>
                            <a:lnTo>
                              <a:pt x="1480" y="2099"/>
                            </a:lnTo>
                            <a:lnTo>
                              <a:pt x="1462" y="2171"/>
                            </a:lnTo>
                            <a:lnTo>
                              <a:pt x="1462" y="2178"/>
                            </a:lnTo>
                            <a:lnTo>
                              <a:pt x="1462" y="2181"/>
                            </a:lnTo>
                            <a:lnTo>
                              <a:pt x="1462" y="2187"/>
                            </a:lnTo>
                            <a:lnTo>
                              <a:pt x="1462" y="2181"/>
                            </a:lnTo>
                            <a:lnTo>
                              <a:pt x="1466" y="2171"/>
                            </a:lnTo>
                            <a:lnTo>
                              <a:pt x="1466" y="2165"/>
                            </a:lnTo>
                            <a:lnTo>
                              <a:pt x="1445" y="2193"/>
                            </a:lnTo>
                            <a:lnTo>
                              <a:pt x="1420" y="2213"/>
                            </a:lnTo>
                            <a:lnTo>
                              <a:pt x="1396" y="2229"/>
                            </a:lnTo>
                            <a:lnTo>
                              <a:pt x="1357" y="2259"/>
                            </a:lnTo>
                            <a:lnTo>
                              <a:pt x="1297" y="2307"/>
                            </a:lnTo>
                            <a:lnTo>
                              <a:pt x="1230" y="2372"/>
                            </a:lnTo>
                            <a:lnTo>
                              <a:pt x="1244" y="2362"/>
                            </a:lnTo>
                            <a:lnTo>
                              <a:pt x="1261" y="2350"/>
                            </a:lnTo>
                            <a:lnTo>
                              <a:pt x="1272" y="2347"/>
                            </a:lnTo>
                            <a:lnTo>
                              <a:pt x="1272" y="2350"/>
                            </a:lnTo>
                            <a:lnTo>
                              <a:pt x="1265" y="2350"/>
                            </a:lnTo>
                            <a:lnTo>
                              <a:pt x="1254" y="2350"/>
                            </a:lnTo>
                            <a:lnTo>
                              <a:pt x="1173" y="2366"/>
                            </a:lnTo>
                            <a:lnTo>
                              <a:pt x="1053" y="2414"/>
                            </a:lnTo>
                            <a:lnTo>
                              <a:pt x="929" y="2511"/>
                            </a:lnTo>
                            <a:lnTo>
                              <a:pt x="859" y="2605"/>
                            </a:lnTo>
                            <a:lnTo>
                              <a:pt x="809" y="2693"/>
                            </a:lnTo>
                            <a:lnTo>
                              <a:pt x="788" y="2764"/>
                            </a:lnTo>
                            <a:lnTo>
                              <a:pt x="781" y="2767"/>
                            </a:lnTo>
                            <a:lnTo>
                              <a:pt x="781" y="2781"/>
                            </a:lnTo>
                            <a:lnTo>
                              <a:pt x="774" y="2784"/>
                            </a:lnTo>
                            <a:lnTo>
                              <a:pt x="774" y="2790"/>
                            </a:lnTo>
                            <a:lnTo>
                              <a:pt x="721" y="2845"/>
                            </a:lnTo>
                            <a:lnTo>
                              <a:pt x="685" y="2887"/>
                            </a:lnTo>
                            <a:lnTo>
                              <a:pt x="657" y="2920"/>
                            </a:lnTo>
                            <a:lnTo>
                              <a:pt x="633" y="2949"/>
                            </a:lnTo>
                            <a:lnTo>
                              <a:pt x="608" y="2981"/>
                            </a:lnTo>
                            <a:lnTo>
                              <a:pt x="573" y="3017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69" y="3023"/>
                            </a:lnTo>
                            <a:lnTo>
                              <a:pt x="561" y="3023"/>
                            </a:lnTo>
                            <a:lnTo>
                              <a:pt x="555" y="3030"/>
                            </a:lnTo>
                            <a:lnTo>
                              <a:pt x="551" y="3030"/>
                            </a:lnTo>
                            <a:lnTo>
                              <a:pt x="480" y="3063"/>
                            </a:lnTo>
                            <a:lnTo>
                              <a:pt x="403" y="3111"/>
                            </a:lnTo>
                            <a:lnTo>
                              <a:pt x="314" y="3191"/>
                            </a:lnTo>
                            <a:lnTo>
                              <a:pt x="230" y="3299"/>
                            </a:lnTo>
                            <a:lnTo>
                              <a:pt x="194" y="3409"/>
                            </a:lnTo>
                            <a:lnTo>
                              <a:pt x="177" y="3483"/>
                            </a:lnTo>
                            <a:lnTo>
                              <a:pt x="177" y="3497"/>
                            </a:lnTo>
                            <a:lnTo>
                              <a:pt x="177" y="3500"/>
                            </a:lnTo>
                            <a:lnTo>
                              <a:pt x="205" y="3448"/>
                            </a:lnTo>
                            <a:lnTo>
                              <a:pt x="254" y="3399"/>
                            </a:lnTo>
                            <a:lnTo>
                              <a:pt x="318" y="3370"/>
                            </a:lnTo>
                            <a:lnTo>
                              <a:pt x="385" y="3367"/>
                            </a:lnTo>
                            <a:lnTo>
                              <a:pt x="456" y="3383"/>
                            </a:lnTo>
                            <a:lnTo>
                              <a:pt x="534" y="3418"/>
                            </a:lnTo>
                            <a:lnTo>
                              <a:pt x="590" y="3480"/>
                            </a:lnTo>
                            <a:lnTo>
                              <a:pt x="622" y="3536"/>
                            </a:lnTo>
                            <a:lnTo>
                              <a:pt x="625" y="3571"/>
                            </a:lnTo>
                            <a:lnTo>
                              <a:pt x="625" y="3561"/>
                            </a:lnTo>
                            <a:lnTo>
                              <a:pt x="625" y="3545"/>
                            </a:lnTo>
                            <a:lnTo>
                              <a:pt x="625" y="3536"/>
                            </a:lnTo>
                            <a:lnTo>
                              <a:pt x="633" y="3506"/>
                            </a:lnTo>
                            <a:lnTo>
                              <a:pt x="633" y="3483"/>
                            </a:lnTo>
                            <a:lnTo>
                              <a:pt x="633" y="3451"/>
                            </a:lnTo>
                            <a:lnTo>
                              <a:pt x="625" y="3497"/>
                            </a:lnTo>
                            <a:lnTo>
                              <a:pt x="608" y="3536"/>
                            </a:lnTo>
                            <a:lnTo>
                              <a:pt x="590" y="3555"/>
                            </a:lnTo>
                            <a:lnTo>
                              <a:pt x="597" y="3552"/>
                            </a:lnTo>
                            <a:lnTo>
                              <a:pt x="597" y="3545"/>
                            </a:lnTo>
                            <a:lnTo>
                              <a:pt x="604" y="3539"/>
                            </a:lnTo>
                            <a:lnTo>
                              <a:pt x="657" y="3497"/>
                            </a:lnTo>
                            <a:lnTo>
                              <a:pt x="711" y="3431"/>
                            </a:lnTo>
                            <a:lnTo>
                              <a:pt x="756" y="3334"/>
                            </a:lnTo>
                            <a:lnTo>
                              <a:pt x="774" y="3208"/>
                            </a:lnTo>
                            <a:lnTo>
                              <a:pt x="774" y="3127"/>
                            </a:lnTo>
                            <a:lnTo>
                              <a:pt x="763" y="3063"/>
                            </a:lnTo>
                            <a:lnTo>
                              <a:pt x="753" y="3014"/>
                            </a:lnTo>
                            <a:lnTo>
                              <a:pt x="745" y="2997"/>
                            </a:lnTo>
                            <a:lnTo>
                              <a:pt x="745" y="2981"/>
                            </a:lnTo>
                            <a:lnTo>
                              <a:pt x="739" y="2958"/>
                            </a:lnTo>
                            <a:lnTo>
                              <a:pt x="735" y="2864"/>
                            </a:lnTo>
                            <a:lnTo>
                              <a:pt x="721" y="2790"/>
                            </a:lnTo>
                            <a:lnTo>
                              <a:pt x="703" y="2732"/>
                            </a:lnTo>
                            <a:lnTo>
                              <a:pt x="700" y="2709"/>
                            </a:lnTo>
                            <a:lnTo>
                              <a:pt x="693" y="2693"/>
                            </a:lnTo>
                            <a:lnTo>
                              <a:pt x="693" y="2663"/>
                            </a:lnTo>
                            <a:lnTo>
                              <a:pt x="693" y="2589"/>
                            </a:lnTo>
                            <a:lnTo>
                              <a:pt x="685" y="2530"/>
                            </a:lnTo>
                            <a:lnTo>
                              <a:pt x="682" y="2486"/>
                            </a:lnTo>
                            <a:lnTo>
                              <a:pt x="682" y="2453"/>
                            </a:lnTo>
                            <a:lnTo>
                              <a:pt x="675" y="2421"/>
                            </a:lnTo>
                            <a:lnTo>
                              <a:pt x="675" y="2372"/>
                            </a:lnTo>
                            <a:lnTo>
                              <a:pt x="675" y="2307"/>
                            </a:lnTo>
                            <a:lnTo>
                              <a:pt x="675" y="2253"/>
                            </a:lnTo>
                            <a:lnTo>
                              <a:pt x="668" y="2213"/>
                            </a:lnTo>
                            <a:lnTo>
                              <a:pt x="668" y="2178"/>
                            </a:lnTo>
                            <a:lnTo>
                              <a:pt x="668" y="2132"/>
                            </a:lnTo>
                            <a:lnTo>
                              <a:pt x="668" y="2077"/>
                            </a:lnTo>
                            <a:lnTo>
                              <a:pt x="651" y="1986"/>
                            </a:lnTo>
                            <a:lnTo>
                              <a:pt x="604" y="1913"/>
                            </a:lnTo>
                            <a:lnTo>
                              <a:pt x="537" y="1844"/>
                            </a:lnTo>
                            <a:lnTo>
                              <a:pt x="449" y="1808"/>
                            </a:lnTo>
                            <a:lnTo>
                              <a:pt x="353" y="1792"/>
                            </a:lnTo>
                            <a:lnTo>
                              <a:pt x="254" y="1808"/>
                            </a:lnTo>
                            <a:lnTo>
                              <a:pt x="166" y="1844"/>
                            </a:lnTo>
                            <a:lnTo>
                              <a:pt x="99" y="1913"/>
                            </a:lnTo>
                            <a:lnTo>
                              <a:pt x="54" y="1986"/>
                            </a:lnTo>
                            <a:lnTo>
                              <a:pt x="42" y="207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"/>
                      <p:cNvSpPr/>
                      <p:nvPr/>
                    </p:nvSpPr>
                    <p:spPr>
                      <a:xfrm rot="10800000">
                        <a:off x="4685040" y="8022600"/>
                        <a:ext cx="14076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3" h="1797">
                            <a:moveTo>
                              <a:pt x="310" y="722"/>
                            </a:moveTo>
                            <a:lnTo>
                              <a:pt x="399" y="716"/>
                            </a:lnTo>
                            <a:lnTo>
                              <a:pt x="466" y="709"/>
                            </a:lnTo>
                            <a:lnTo>
                              <a:pt x="520" y="705"/>
                            </a:lnTo>
                            <a:lnTo>
                              <a:pt x="548" y="699"/>
                            </a:lnTo>
                            <a:lnTo>
                              <a:pt x="583" y="699"/>
                            </a:lnTo>
                            <a:lnTo>
                              <a:pt x="632" y="699"/>
                            </a:lnTo>
                            <a:lnTo>
                              <a:pt x="764" y="690"/>
                            </a:lnTo>
                            <a:lnTo>
                              <a:pt x="862" y="660"/>
                            </a:lnTo>
                            <a:lnTo>
                              <a:pt x="940" y="625"/>
                            </a:lnTo>
                            <a:lnTo>
                              <a:pt x="946" y="625"/>
                            </a:lnTo>
                            <a:lnTo>
                              <a:pt x="951" y="619"/>
                            </a:lnTo>
                            <a:lnTo>
                              <a:pt x="957" y="619"/>
                            </a:lnTo>
                            <a:lnTo>
                              <a:pt x="951" y="619"/>
                            </a:lnTo>
                            <a:lnTo>
                              <a:pt x="946" y="619"/>
                            </a:lnTo>
                            <a:lnTo>
                              <a:pt x="951" y="619"/>
                            </a:lnTo>
                            <a:lnTo>
                              <a:pt x="933" y="619"/>
                            </a:lnTo>
                            <a:lnTo>
                              <a:pt x="915" y="611"/>
                            </a:lnTo>
                            <a:lnTo>
                              <a:pt x="897" y="602"/>
                            </a:lnTo>
                            <a:lnTo>
                              <a:pt x="904" y="608"/>
                            </a:lnTo>
                            <a:lnTo>
                              <a:pt x="912" y="611"/>
                            </a:lnTo>
                            <a:lnTo>
                              <a:pt x="975" y="651"/>
                            </a:lnTo>
                            <a:lnTo>
                              <a:pt x="1081" y="690"/>
                            </a:lnTo>
                            <a:lnTo>
                              <a:pt x="1222" y="705"/>
                            </a:lnTo>
                            <a:lnTo>
                              <a:pt x="1388" y="677"/>
                            </a:lnTo>
                            <a:lnTo>
                              <a:pt x="1509" y="619"/>
                            </a:lnTo>
                            <a:lnTo>
                              <a:pt x="1572" y="563"/>
                            </a:lnTo>
                            <a:lnTo>
                              <a:pt x="1579" y="560"/>
                            </a:lnTo>
                            <a:lnTo>
                              <a:pt x="1587" y="553"/>
                            </a:lnTo>
                            <a:lnTo>
                              <a:pt x="1569" y="570"/>
                            </a:lnTo>
                            <a:lnTo>
                              <a:pt x="1533" y="580"/>
                            </a:lnTo>
                            <a:lnTo>
                              <a:pt x="1491" y="586"/>
                            </a:lnTo>
                            <a:lnTo>
                              <a:pt x="1533" y="586"/>
                            </a:lnTo>
                            <a:lnTo>
                              <a:pt x="1572" y="580"/>
                            </a:lnTo>
                            <a:lnTo>
                              <a:pt x="1603" y="580"/>
                            </a:lnTo>
                            <a:lnTo>
                              <a:pt x="1615" y="577"/>
                            </a:lnTo>
                            <a:lnTo>
                              <a:pt x="1621" y="577"/>
                            </a:lnTo>
                            <a:lnTo>
                              <a:pt x="1632" y="577"/>
                            </a:lnTo>
                            <a:lnTo>
                              <a:pt x="1579" y="570"/>
                            </a:lnTo>
                            <a:lnTo>
                              <a:pt x="1519" y="538"/>
                            </a:lnTo>
                            <a:lnTo>
                              <a:pt x="1466" y="489"/>
                            </a:lnTo>
                            <a:lnTo>
                              <a:pt x="1442" y="411"/>
                            </a:lnTo>
                            <a:lnTo>
                              <a:pt x="1442" y="343"/>
                            </a:lnTo>
                            <a:lnTo>
                              <a:pt x="1473" y="288"/>
                            </a:lnTo>
                            <a:lnTo>
                              <a:pt x="1466" y="291"/>
                            </a:lnTo>
                            <a:lnTo>
                              <a:pt x="1459" y="298"/>
                            </a:lnTo>
                            <a:lnTo>
                              <a:pt x="1455" y="304"/>
                            </a:lnTo>
                            <a:lnTo>
                              <a:pt x="1406" y="359"/>
                            </a:lnTo>
                            <a:lnTo>
                              <a:pt x="1353" y="428"/>
                            </a:lnTo>
                            <a:lnTo>
                              <a:pt x="1314" y="525"/>
                            </a:lnTo>
                            <a:lnTo>
                              <a:pt x="1293" y="641"/>
                            </a:lnTo>
                            <a:lnTo>
                              <a:pt x="1300" y="732"/>
                            </a:lnTo>
                            <a:lnTo>
                              <a:pt x="1314" y="803"/>
                            </a:lnTo>
                            <a:lnTo>
                              <a:pt x="1332" y="862"/>
                            </a:lnTo>
                            <a:lnTo>
                              <a:pt x="1335" y="890"/>
                            </a:lnTo>
                            <a:lnTo>
                              <a:pt x="1335" y="910"/>
                            </a:lnTo>
                            <a:lnTo>
                              <a:pt x="1335" y="945"/>
                            </a:lnTo>
                            <a:lnTo>
                              <a:pt x="1335" y="981"/>
                            </a:lnTo>
                            <a:lnTo>
                              <a:pt x="1335" y="1011"/>
                            </a:lnTo>
                            <a:lnTo>
                              <a:pt x="1332" y="1036"/>
                            </a:lnTo>
                            <a:lnTo>
                              <a:pt x="1318" y="1085"/>
                            </a:lnTo>
                            <a:lnTo>
                              <a:pt x="1314" y="1147"/>
                            </a:lnTo>
                            <a:lnTo>
                              <a:pt x="1314" y="1230"/>
                            </a:lnTo>
                            <a:lnTo>
                              <a:pt x="1332" y="1367"/>
                            </a:lnTo>
                            <a:lnTo>
                              <a:pt x="1371" y="1464"/>
                            </a:lnTo>
                            <a:lnTo>
                              <a:pt x="1413" y="1529"/>
                            </a:lnTo>
                            <a:lnTo>
                              <a:pt x="1421" y="1535"/>
                            </a:lnTo>
                            <a:lnTo>
                              <a:pt x="1421" y="1542"/>
                            </a:lnTo>
                            <a:lnTo>
                              <a:pt x="1424" y="1542"/>
                            </a:lnTo>
                            <a:lnTo>
                              <a:pt x="1421" y="1529"/>
                            </a:lnTo>
                            <a:lnTo>
                              <a:pt x="1413" y="1519"/>
                            </a:lnTo>
                            <a:lnTo>
                              <a:pt x="1413" y="1509"/>
                            </a:lnTo>
                            <a:lnTo>
                              <a:pt x="1424" y="1600"/>
                            </a:lnTo>
                            <a:lnTo>
                              <a:pt x="1473" y="1681"/>
                            </a:lnTo>
                            <a:lnTo>
                              <a:pt x="1537" y="1742"/>
                            </a:lnTo>
                            <a:lnTo>
                              <a:pt x="1625" y="1782"/>
                            </a:lnTo>
                            <a:lnTo>
                              <a:pt x="1727" y="1797"/>
                            </a:lnTo>
                            <a:lnTo>
                              <a:pt x="1826" y="1782"/>
                            </a:lnTo>
                            <a:lnTo>
                              <a:pt x="1911" y="1742"/>
                            </a:lnTo>
                            <a:lnTo>
                              <a:pt x="1982" y="1681"/>
                            </a:lnTo>
                            <a:lnTo>
                              <a:pt x="2024" y="1600"/>
                            </a:lnTo>
                            <a:lnTo>
                              <a:pt x="2042" y="1509"/>
                            </a:lnTo>
                            <a:lnTo>
                              <a:pt x="2024" y="1373"/>
                            </a:lnTo>
                            <a:lnTo>
                              <a:pt x="1982" y="1276"/>
                            </a:lnTo>
                            <a:lnTo>
                              <a:pt x="1932" y="1211"/>
                            </a:lnTo>
                            <a:lnTo>
                              <a:pt x="1932" y="1205"/>
                            </a:lnTo>
                            <a:lnTo>
                              <a:pt x="1929" y="1199"/>
                            </a:lnTo>
                            <a:lnTo>
                              <a:pt x="1932" y="1211"/>
                            </a:lnTo>
                            <a:lnTo>
                              <a:pt x="1932" y="1221"/>
                            </a:lnTo>
                            <a:lnTo>
                              <a:pt x="1940" y="1230"/>
                            </a:lnTo>
                            <a:lnTo>
                              <a:pt x="1940" y="1195"/>
                            </a:lnTo>
                            <a:lnTo>
                              <a:pt x="1940" y="1166"/>
                            </a:lnTo>
                            <a:lnTo>
                              <a:pt x="1946" y="1141"/>
                            </a:lnTo>
                            <a:lnTo>
                              <a:pt x="1958" y="1091"/>
                            </a:lnTo>
                            <a:lnTo>
                              <a:pt x="1964" y="1026"/>
                            </a:lnTo>
                            <a:lnTo>
                              <a:pt x="1964" y="945"/>
                            </a:lnTo>
                            <a:lnTo>
                              <a:pt x="1964" y="851"/>
                            </a:lnTo>
                            <a:lnTo>
                              <a:pt x="1950" y="780"/>
                            </a:lnTo>
                            <a:lnTo>
                              <a:pt x="1932" y="722"/>
                            </a:lnTo>
                            <a:lnTo>
                              <a:pt x="1929" y="693"/>
                            </a:lnTo>
                            <a:lnTo>
                              <a:pt x="1929" y="674"/>
                            </a:lnTo>
                            <a:lnTo>
                              <a:pt x="1929" y="641"/>
                            </a:lnTo>
                            <a:lnTo>
                              <a:pt x="1922" y="674"/>
                            </a:lnTo>
                            <a:lnTo>
                              <a:pt x="1911" y="693"/>
                            </a:lnTo>
                            <a:lnTo>
                              <a:pt x="1904" y="705"/>
                            </a:lnTo>
                            <a:lnTo>
                              <a:pt x="1911" y="699"/>
                            </a:lnTo>
                            <a:lnTo>
                              <a:pt x="1922" y="690"/>
                            </a:lnTo>
                            <a:lnTo>
                              <a:pt x="1929" y="677"/>
                            </a:lnTo>
                            <a:lnTo>
                              <a:pt x="2007" y="577"/>
                            </a:lnTo>
                            <a:lnTo>
                              <a:pt x="2052" y="483"/>
                            </a:lnTo>
                            <a:lnTo>
                              <a:pt x="2063" y="392"/>
                            </a:lnTo>
                            <a:lnTo>
                              <a:pt x="2060" y="314"/>
                            </a:lnTo>
                            <a:lnTo>
                              <a:pt x="2034" y="243"/>
                            </a:lnTo>
                            <a:lnTo>
                              <a:pt x="2000" y="177"/>
                            </a:lnTo>
                            <a:lnTo>
                              <a:pt x="1915" y="97"/>
                            </a:lnTo>
                            <a:lnTo>
                              <a:pt x="1826" y="41"/>
                            </a:lnTo>
                            <a:lnTo>
                              <a:pt x="1738" y="9"/>
                            </a:lnTo>
                            <a:lnTo>
                              <a:pt x="1657" y="0"/>
                            </a:lnTo>
                            <a:lnTo>
                              <a:pt x="1587" y="0"/>
                            </a:lnTo>
                            <a:lnTo>
                              <a:pt x="1533" y="6"/>
                            </a:lnTo>
                            <a:lnTo>
                              <a:pt x="1512" y="9"/>
                            </a:lnTo>
                            <a:lnTo>
                              <a:pt x="1501" y="9"/>
                            </a:lnTo>
                            <a:lnTo>
                              <a:pt x="1491" y="9"/>
                            </a:lnTo>
                            <a:lnTo>
                              <a:pt x="1325" y="38"/>
                            </a:lnTo>
                            <a:lnTo>
                              <a:pt x="1205" y="97"/>
                            </a:lnTo>
                            <a:lnTo>
                              <a:pt x="1141" y="152"/>
                            </a:lnTo>
                            <a:lnTo>
                              <a:pt x="1135" y="152"/>
                            </a:lnTo>
                            <a:lnTo>
                              <a:pt x="1130" y="158"/>
                            </a:lnTo>
                            <a:lnTo>
                              <a:pt x="1130" y="162"/>
                            </a:lnTo>
                            <a:lnTo>
                              <a:pt x="1151" y="146"/>
                            </a:lnTo>
                            <a:lnTo>
                              <a:pt x="1184" y="135"/>
                            </a:lnTo>
                            <a:lnTo>
                              <a:pt x="1222" y="129"/>
                            </a:lnTo>
                            <a:lnTo>
                              <a:pt x="1240" y="129"/>
                            </a:lnTo>
                            <a:lnTo>
                              <a:pt x="1258" y="135"/>
                            </a:lnTo>
                            <a:lnTo>
                              <a:pt x="1275" y="146"/>
                            </a:lnTo>
                            <a:lnTo>
                              <a:pt x="1271" y="143"/>
                            </a:lnTo>
                            <a:lnTo>
                              <a:pt x="1265" y="135"/>
                            </a:lnTo>
                            <a:lnTo>
                              <a:pt x="1201" y="97"/>
                            </a:lnTo>
                            <a:lnTo>
                              <a:pt x="1099" y="64"/>
                            </a:lnTo>
                            <a:lnTo>
                              <a:pt x="951" y="41"/>
                            </a:lnTo>
                            <a:lnTo>
                              <a:pt x="819" y="55"/>
                            </a:lnTo>
                            <a:lnTo>
                              <a:pt x="728" y="80"/>
                            </a:lnTo>
                            <a:lnTo>
                              <a:pt x="643" y="119"/>
                            </a:lnTo>
                            <a:lnTo>
                              <a:pt x="636" y="119"/>
                            </a:lnTo>
                            <a:lnTo>
                              <a:pt x="632" y="122"/>
                            </a:lnTo>
                            <a:lnTo>
                              <a:pt x="626" y="122"/>
                            </a:lnTo>
                            <a:lnTo>
                              <a:pt x="632" y="122"/>
                            </a:lnTo>
                            <a:lnTo>
                              <a:pt x="636" y="122"/>
                            </a:lnTo>
                            <a:lnTo>
                              <a:pt x="632" y="122"/>
                            </a:lnTo>
                            <a:lnTo>
                              <a:pt x="544" y="122"/>
                            </a:lnTo>
                            <a:lnTo>
                              <a:pt x="473" y="129"/>
                            </a:lnTo>
                            <a:lnTo>
                              <a:pt x="424" y="135"/>
                            </a:lnTo>
                            <a:lnTo>
                              <a:pt x="388" y="143"/>
                            </a:lnTo>
                            <a:lnTo>
                              <a:pt x="360" y="146"/>
                            </a:lnTo>
                            <a:lnTo>
                              <a:pt x="310" y="146"/>
                            </a:lnTo>
                            <a:lnTo>
                              <a:pt x="216" y="162"/>
                            </a:lnTo>
                            <a:lnTo>
                              <a:pt x="131" y="201"/>
                            </a:lnTo>
                            <a:lnTo>
                              <a:pt x="60" y="259"/>
                            </a:lnTo>
                            <a:lnTo>
                              <a:pt x="21" y="343"/>
                            </a:lnTo>
                            <a:lnTo>
                              <a:pt x="0" y="434"/>
                            </a:lnTo>
                            <a:lnTo>
                              <a:pt x="21" y="525"/>
                            </a:lnTo>
                            <a:lnTo>
                              <a:pt x="60" y="602"/>
                            </a:lnTo>
                            <a:lnTo>
                              <a:pt x="131" y="667"/>
                            </a:lnTo>
                            <a:lnTo>
                              <a:pt x="216" y="705"/>
                            </a:lnTo>
                            <a:lnTo>
                              <a:pt x="310" y="72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 rot="10800000">
                        <a:off x="4824720" y="8045280"/>
                        <a:ext cx="1720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3" h="667">
                            <a:moveTo>
                              <a:pt x="312" y="657"/>
                            </a:moveTo>
                            <a:lnTo>
                              <a:pt x="379" y="657"/>
                            </a:lnTo>
                            <a:lnTo>
                              <a:pt x="424" y="660"/>
                            </a:lnTo>
                            <a:lnTo>
                              <a:pt x="460" y="660"/>
                            </a:lnTo>
                            <a:lnTo>
                              <a:pt x="509" y="660"/>
                            </a:lnTo>
                            <a:lnTo>
                              <a:pt x="563" y="667"/>
                            </a:lnTo>
                            <a:lnTo>
                              <a:pt x="641" y="667"/>
                            </a:lnTo>
                            <a:lnTo>
                              <a:pt x="782" y="651"/>
                            </a:lnTo>
                            <a:lnTo>
                              <a:pt x="888" y="611"/>
                            </a:lnTo>
                            <a:lnTo>
                              <a:pt x="958" y="577"/>
                            </a:lnTo>
                            <a:lnTo>
                              <a:pt x="965" y="577"/>
                            </a:lnTo>
                            <a:lnTo>
                              <a:pt x="969" y="570"/>
                            </a:lnTo>
                            <a:lnTo>
                              <a:pt x="965" y="570"/>
                            </a:lnTo>
                            <a:lnTo>
                              <a:pt x="951" y="577"/>
                            </a:lnTo>
                            <a:lnTo>
                              <a:pt x="948" y="577"/>
                            </a:lnTo>
                            <a:lnTo>
                              <a:pt x="990" y="580"/>
                            </a:lnTo>
                            <a:lnTo>
                              <a:pt x="1018" y="580"/>
                            </a:lnTo>
                            <a:lnTo>
                              <a:pt x="1046" y="586"/>
                            </a:lnTo>
                            <a:lnTo>
                              <a:pt x="1106" y="596"/>
                            </a:lnTo>
                            <a:lnTo>
                              <a:pt x="1177" y="602"/>
                            </a:lnTo>
                            <a:lnTo>
                              <a:pt x="1283" y="608"/>
                            </a:lnTo>
                            <a:lnTo>
                              <a:pt x="1368" y="608"/>
                            </a:lnTo>
                            <a:lnTo>
                              <a:pt x="1439" y="602"/>
                            </a:lnTo>
                            <a:lnTo>
                              <a:pt x="1485" y="596"/>
                            </a:lnTo>
                            <a:lnTo>
                              <a:pt x="1519" y="592"/>
                            </a:lnTo>
                            <a:lnTo>
                              <a:pt x="1555" y="592"/>
                            </a:lnTo>
                            <a:lnTo>
                              <a:pt x="1605" y="586"/>
                            </a:lnTo>
                            <a:lnTo>
                              <a:pt x="1675" y="586"/>
                            </a:lnTo>
                            <a:lnTo>
                              <a:pt x="1735" y="586"/>
                            </a:lnTo>
                            <a:lnTo>
                              <a:pt x="1774" y="586"/>
                            </a:lnTo>
                            <a:lnTo>
                              <a:pt x="1810" y="580"/>
                            </a:lnTo>
                            <a:lnTo>
                              <a:pt x="1852" y="580"/>
                            </a:lnTo>
                            <a:lnTo>
                              <a:pt x="1912" y="580"/>
                            </a:lnTo>
                            <a:lnTo>
                              <a:pt x="1947" y="580"/>
                            </a:lnTo>
                            <a:lnTo>
                              <a:pt x="1965" y="586"/>
                            </a:lnTo>
                            <a:lnTo>
                              <a:pt x="1989" y="586"/>
                            </a:lnTo>
                            <a:lnTo>
                              <a:pt x="2046" y="602"/>
                            </a:lnTo>
                            <a:lnTo>
                              <a:pt x="2121" y="608"/>
                            </a:lnTo>
                            <a:lnTo>
                              <a:pt x="2209" y="611"/>
                            </a:lnTo>
                            <a:lnTo>
                              <a:pt x="2308" y="596"/>
                            </a:lnTo>
                            <a:lnTo>
                              <a:pt x="2396" y="553"/>
                            </a:lnTo>
                            <a:lnTo>
                              <a:pt x="2463" y="492"/>
                            </a:lnTo>
                            <a:lnTo>
                              <a:pt x="2509" y="411"/>
                            </a:lnTo>
                            <a:lnTo>
                              <a:pt x="2523" y="323"/>
                            </a:lnTo>
                            <a:lnTo>
                              <a:pt x="2509" y="232"/>
                            </a:lnTo>
                            <a:lnTo>
                              <a:pt x="2463" y="152"/>
                            </a:lnTo>
                            <a:lnTo>
                              <a:pt x="2396" y="90"/>
                            </a:lnTo>
                            <a:lnTo>
                              <a:pt x="2308" y="49"/>
                            </a:lnTo>
                            <a:lnTo>
                              <a:pt x="2209" y="38"/>
                            </a:lnTo>
                            <a:lnTo>
                              <a:pt x="2176" y="38"/>
                            </a:lnTo>
                            <a:lnTo>
                              <a:pt x="2160" y="32"/>
                            </a:lnTo>
                            <a:lnTo>
                              <a:pt x="2131" y="25"/>
                            </a:lnTo>
                            <a:lnTo>
                              <a:pt x="2071" y="16"/>
                            </a:lnTo>
                            <a:lnTo>
                              <a:pt x="2000" y="9"/>
                            </a:lnTo>
                            <a:lnTo>
                              <a:pt x="1912" y="6"/>
                            </a:lnTo>
                            <a:lnTo>
                              <a:pt x="1841" y="6"/>
                            </a:lnTo>
                            <a:lnTo>
                              <a:pt x="1781" y="6"/>
                            </a:lnTo>
                            <a:lnTo>
                              <a:pt x="1739" y="9"/>
                            </a:lnTo>
                            <a:lnTo>
                              <a:pt x="1703" y="9"/>
                            </a:lnTo>
                            <a:lnTo>
                              <a:pt x="1657" y="9"/>
                            </a:lnTo>
                            <a:lnTo>
                              <a:pt x="1605" y="9"/>
                            </a:lnTo>
                            <a:lnTo>
                              <a:pt x="1516" y="16"/>
                            </a:lnTo>
                            <a:lnTo>
                              <a:pt x="1449" y="22"/>
                            </a:lnTo>
                            <a:lnTo>
                              <a:pt x="1396" y="25"/>
                            </a:lnTo>
                            <a:lnTo>
                              <a:pt x="1368" y="25"/>
                            </a:lnTo>
                            <a:lnTo>
                              <a:pt x="1332" y="32"/>
                            </a:lnTo>
                            <a:lnTo>
                              <a:pt x="1283" y="32"/>
                            </a:lnTo>
                            <a:lnTo>
                              <a:pt x="1244" y="32"/>
                            </a:lnTo>
                            <a:lnTo>
                              <a:pt x="1209" y="25"/>
                            </a:lnTo>
                            <a:lnTo>
                              <a:pt x="1177" y="25"/>
                            </a:lnTo>
                            <a:lnTo>
                              <a:pt x="1124" y="16"/>
                            </a:lnTo>
                            <a:lnTo>
                              <a:pt x="1046" y="6"/>
                            </a:lnTo>
                            <a:lnTo>
                              <a:pt x="948" y="0"/>
                            </a:lnTo>
                            <a:lnTo>
                              <a:pt x="799" y="16"/>
                            </a:lnTo>
                            <a:lnTo>
                              <a:pt x="693" y="55"/>
                            </a:lnTo>
                            <a:lnTo>
                              <a:pt x="626" y="90"/>
                            </a:lnTo>
                            <a:lnTo>
                              <a:pt x="623" y="90"/>
                            </a:lnTo>
                            <a:lnTo>
                              <a:pt x="615" y="97"/>
                            </a:lnTo>
                            <a:lnTo>
                              <a:pt x="608" y="97"/>
                            </a:lnTo>
                            <a:lnTo>
                              <a:pt x="623" y="97"/>
                            </a:lnTo>
                            <a:lnTo>
                              <a:pt x="633" y="90"/>
                            </a:lnTo>
                            <a:lnTo>
                              <a:pt x="641" y="90"/>
                            </a:lnTo>
                            <a:lnTo>
                              <a:pt x="573" y="90"/>
                            </a:lnTo>
                            <a:lnTo>
                              <a:pt x="527" y="87"/>
                            </a:lnTo>
                            <a:lnTo>
                              <a:pt x="491" y="87"/>
                            </a:lnTo>
                            <a:lnTo>
                              <a:pt x="442" y="87"/>
                            </a:lnTo>
                            <a:lnTo>
                              <a:pt x="389" y="80"/>
                            </a:lnTo>
                            <a:lnTo>
                              <a:pt x="312" y="80"/>
                            </a:lnTo>
                            <a:lnTo>
                              <a:pt x="220" y="97"/>
                            </a:lnTo>
                            <a:lnTo>
                              <a:pt x="132" y="143"/>
                            </a:lnTo>
                            <a:lnTo>
                              <a:pt x="65" y="201"/>
                            </a:lnTo>
                            <a:lnTo>
                              <a:pt x="18" y="281"/>
                            </a:lnTo>
                            <a:lnTo>
                              <a:pt x="0" y="369"/>
                            </a:lnTo>
                            <a:lnTo>
                              <a:pt x="18" y="459"/>
                            </a:lnTo>
                            <a:lnTo>
                              <a:pt x="65" y="544"/>
                            </a:lnTo>
                            <a:lnTo>
                              <a:pt x="132" y="602"/>
                            </a:lnTo>
                            <a:lnTo>
                              <a:pt x="220" y="644"/>
                            </a:lnTo>
                            <a:lnTo>
                              <a:pt x="312" y="65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"/>
                      <p:cNvSpPr/>
                      <p:nvPr/>
                    </p:nvSpPr>
                    <p:spPr>
                      <a:xfrm rot="10800000">
                        <a:off x="5016600" y="8044560"/>
                        <a:ext cx="2653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80" h="667">
                            <a:moveTo>
                              <a:pt x="316" y="579"/>
                            </a:moveTo>
                            <a:lnTo>
                              <a:pt x="333" y="579"/>
                            </a:lnTo>
                            <a:lnTo>
                              <a:pt x="343" y="587"/>
                            </a:lnTo>
                            <a:lnTo>
                              <a:pt x="361" y="593"/>
                            </a:lnTo>
                            <a:lnTo>
                              <a:pt x="428" y="612"/>
                            </a:lnTo>
                            <a:lnTo>
                              <a:pt x="520" y="635"/>
                            </a:lnTo>
                            <a:lnTo>
                              <a:pt x="651" y="645"/>
                            </a:lnTo>
                            <a:lnTo>
                              <a:pt x="771" y="642"/>
                            </a:lnTo>
                            <a:lnTo>
                              <a:pt x="867" y="612"/>
                            </a:lnTo>
                            <a:lnTo>
                              <a:pt x="940" y="587"/>
                            </a:lnTo>
                            <a:lnTo>
                              <a:pt x="948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58" y="579"/>
                            </a:lnTo>
                            <a:lnTo>
                              <a:pt x="965" y="579"/>
                            </a:lnTo>
                            <a:lnTo>
                              <a:pt x="973" y="579"/>
                            </a:lnTo>
                            <a:lnTo>
                              <a:pt x="976" y="579"/>
                            </a:lnTo>
                            <a:lnTo>
                              <a:pt x="973" y="576"/>
                            </a:lnTo>
                            <a:lnTo>
                              <a:pt x="965" y="576"/>
                            </a:lnTo>
                            <a:lnTo>
                              <a:pt x="973" y="579"/>
                            </a:lnTo>
                            <a:lnTo>
                              <a:pt x="983" y="587"/>
                            </a:lnTo>
                            <a:lnTo>
                              <a:pt x="1054" y="619"/>
                            </a:lnTo>
                            <a:lnTo>
                              <a:pt x="1160" y="651"/>
                            </a:lnTo>
                            <a:lnTo>
                              <a:pt x="1305" y="667"/>
                            </a:lnTo>
                            <a:lnTo>
                              <a:pt x="1449" y="651"/>
                            </a:lnTo>
                            <a:lnTo>
                              <a:pt x="1552" y="619"/>
                            </a:lnTo>
                            <a:lnTo>
                              <a:pt x="1622" y="587"/>
                            </a:lnTo>
                            <a:lnTo>
                              <a:pt x="1630" y="579"/>
                            </a:lnTo>
                            <a:lnTo>
                              <a:pt x="1633" y="576"/>
                            </a:lnTo>
                            <a:lnTo>
                              <a:pt x="1640" y="576"/>
                            </a:lnTo>
                            <a:lnTo>
                              <a:pt x="1633" y="576"/>
                            </a:lnTo>
                            <a:lnTo>
                              <a:pt x="1622" y="579"/>
                            </a:lnTo>
                            <a:lnTo>
                              <a:pt x="1615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22" y="579"/>
                            </a:lnTo>
                            <a:lnTo>
                              <a:pt x="1630" y="579"/>
                            </a:lnTo>
                            <a:lnTo>
                              <a:pt x="1633" y="587"/>
                            </a:lnTo>
                            <a:lnTo>
                              <a:pt x="1640" y="587"/>
                            </a:lnTo>
                            <a:lnTo>
                              <a:pt x="1718" y="625"/>
                            </a:lnTo>
                            <a:lnTo>
                              <a:pt x="1824" y="651"/>
                            </a:lnTo>
                            <a:lnTo>
                              <a:pt x="1955" y="661"/>
                            </a:lnTo>
                            <a:lnTo>
                              <a:pt x="2053" y="658"/>
                            </a:lnTo>
                            <a:lnTo>
                              <a:pt x="2131" y="645"/>
                            </a:lnTo>
                            <a:lnTo>
                              <a:pt x="2202" y="628"/>
                            </a:lnTo>
                            <a:lnTo>
                              <a:pt x="2227" y="625"/>
                            </a:lnTo>
                            <a:lnTo>
                              <a:pt x="2245" y="619"/>
                            </a:lnTo>
                            <a:lnTo>
                              <a:pt x="2269" y="619"/>
                            </a:lnTo>
                            <a:lnTo>
                              <a:pt x="2382" y="612"/>
                            </a:lnTo>
                            <a:lnTo>
                              <a:pt x="2463" y="596"/>
                            </a:lnTo>
                            <a:lnTo>
                              <a:pt x="2523" y="587"/>
                            </a:lnTo>
                            <a:lnTo>
                              <a:pt x="2544" y="576"/>
                            </a:lnTo>
                            <a:lnTo>
                              <a:pt x="2570" y="576"/>
                            </a:lnTo>
                            <a:lnTo>
                              <a:pt x="2601" y="576"/>
                            </a:lnTo>
                            <a:lnTo>
                              <a:pt x="2619" y="576"/>
                            </a:lnTo>
                            <a:lnTo>
                              <a:pt x="2637" y="576"/>
                            </a:lnTo>
                            <a:lnTo>
                              <a:pt x="2658" y="587"/>
                            </a:lnTo>
                            <a:lnTo>
                              <a:pt x="2725" y="603"/>
                            </a:lnTo>
                            <a:lnTo>
                              <a:pt x="2806" y="619"/>
                            </a:lnTo>
                            <a:lnTo>
                              <a:pt x="2912" y="625"/>
                            </a:lnTo>
                            <a:lnTo>
                              <a:pt x="2954" y="625"/>
                            </a:lnTo>
                            <a:lnTo>
                              <a:pt x="2986" y="625"/>
                            </a:lnTo>
                            <a:lnTo>
                              <a:pt x="3014" y="635"/>
                            </a:lnTo>
                            <a:lnTo>
                              <a:pt x="3068" y="642"/>
                            </a:lnTo>
                            <a:lnTo>
                              <a:pt x="3146" y="651"/>
                            </a:lnTo>
                            <a:lnTo>
                              <a:pt x="3244" y="658"/>
                            </a:lnTo>
                            <a:lnTo>
                              <a:pt x="3357" y="651"/>
                            </a:lnTo>
                            <a:lnTo>
                              <a:pt x="3442" y="635"/>
                            </a:lnTo>
                            <a:lnTo>
                              <a:pt x="3512" y="612"/>
                            </a:lnTo>
                            <a:lnTo>
                              <a:pt x="3534" y="609"/>
                            </a:lnTo>
                            <a:lnTo>
                              <a:pt x="3548" y="603"/>
                            </a:lnTo>
                            <a:lnTo>
                              <a:pt x="3565" y="603"/>
                            </a:lnTo>
                            <a:lnTo>
                              <a:pt x="3661" y="587"/>
                            </a:lnTo>
                            <a:lnTo>
                              <a:pt x="3749" y="548"/>
                            </a:lnTo>
                            <a:lnTo>
                              <a:pt x="3813" y="482"/>
                            </a:lnTo>
                            <a:lnTo>
                              <a:pt x="3863" y="408"/>
                            </a:lnTo>
                            <a:lnTo>
                              <a:pt x="3880" y="314"/>
                            </a:lnTo>
                            <a:lnTo>
                              <a:pt x="3863" y="224"/>
                            </a:lnTo>
                            <a:lnTo>
                              <a:pt x="3813" y="145"/>
                            </a:lnTo>
                            <a:lnTo>
                              <a:pt x="3749" y="81"/>
                            </a:lnTo>
                            <a:lnTo>
                              <a:pt x="3661" y="42"/>
                            </a:lnTo>
                            <a:lnTo>
                              <a:pt x="3565" y="26"/>
                            </a:lnTo>
                            <a:lnTo>
                              <a:pt x="3453" y="32"/>
                            </a:lnTo>
                            <a:lnTo>
                              <a:pt x="3364" y="48"/>
                            </a:lnTo>
                            <a:lnTo>
                              <a:pt x="3294" y="71"/>
                            </a:lnTo>
                            <a:lnTo>
                              <a:pt x="3276" y="81"/>
                            </a:lnTo>
                            <a:lnTo>
                              <a:pt x="3261" y="81"/>
                            </a:lnTo>
                            <a:lnTo>
                              <a:pt x="3244" y="81"/>
                            </a:lnTo>
                            <a:lnTo>
                              <a:pt x="3209" y="81"/>
                            </a:lnTo>
                            <a:lnTo>
                              <a:pt x="3180" y="75"/>
                            </a:lnTo>
                            <a:lnTo>
                              <a:pt x="3149" y="71"/>
                            </a:lnTo>
                            <a:lnTo>
                              <a:pt x="3092" y="58"/>
                            </a:lnTo>
                            <a:lnTo>
                              <a:pt x="3014" y="48"/>
                            </a:lnTo>
                            <a:lnTo>
                              <a:pt x="2912" y="48"/>
                            </a:lnTo>
                            <a:lnTo>
                              <a:pt x="2894" y="48"/>
                            </a:lnTo>
                            <a:lnTo>
                              <a:pt x="2877" y="42"/>
                            </a:lnTo>
                            <a:lnTo>
                              <a:pt x="2855" y="39"/>
                            </a:lnTo>
                            <a:lnTo>
                              <a:pt x="2788" y="17"/>
                            </a:lnTo>
                            <a:lnTo>
                              <a:pt x="2707" y="6"/>
                            </a:lnTo>
                            <a:lnTo>
                              <a:pt x="2601" y="0"/>
                            </a:lnTo>
                            <a:lnTo>
                              <a:pt x="2488" y="6"/>
                            </a:lnTo>
                            <a:lnTo>
                              <a:pt x="2403" y="17"/>
                            </a:lnTo>
                            <a:lnTo>
                              <a:pt x="2347" y="32"/>
                            </a:lnTo>
                            <a:lnTo>
                              <a:pt x="2321" y="39"/>
                            </a:lnTo>
                            <a:lnTo>
                              <a:pt x="2297" y="42"/>
                            </a:lnTo>
                            <a:lnTo>
                              <a:pt x="2269" y="42"/>
                            </a:lnTo>
                            <a:lnTo>
                              <a:pt x="2167" y="48"/>
                            </a:lnTo>
                            <a:lnTo>
                              <a:pt x="2085" y="58"/>
                            </a:lnTo>
                            <a:lnTo>
                              <a:pt x="2018" y="75"/>
                            </a:lnTo>
                            <a:lnTo>
                              <a:pt x="1997" y="81"/>
                            </a:lnTo>
                            <a:lnTo>
                              <a:pt x="1979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7"/>
                            </a:lnTo>
                            <a:lnTo>
                              <a:pt x="1947" y="87"/>
                            </a:lnTo>
                            <a:lnTo>
                              <a:pt x="1955" y="87"/>
                            </a:lnTo>
                            <a:lnTo>
                              <a:pt x="1947" y="87"/>
                            </a:lnTo>
                            <a:lnTo>
                              <a:pt x="1944" y="81"/>
                            </a:lnTo>
                            <a:lnTo>
                              <a:pt x="1937" y="81"/>
                            </a:lnTo>
                            <a:lnTo>
                              <a:pt x="1853" y="42"/>
                            </a:lnTo>
                            <a:lnTo>
                              <a:pt x="1753" y="17"/>
                            </a:lnTo>
                            <a:lnTo>
                              <a:pt x="1622" y="6"/>
                            </a:lnTo>
                            <a:lnTo>
                              <a:pt x="1474" y="23"/>
                            </a:lnTo>
                            <a:lnTo>
                              <a:pt x="1375" y="55"/>
                            </a:lnTo>
                            <a:lnTo>
                              <a:pt x="1305" y="87"/>
                            </a:lnTo>
                            <a:lnTo>
                              <a:pt x="1298" y="90"/>
                            </a:lnTo>
                            <a:lnTo>
                              <a:pt x="1290" y="97"/>
                            </a:lnTo>
                            <a:lnTo>
                              <a:pt x="1287" y="97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05" y="90"/>
                            </a:lnTo>
                            <a:lnTo>
                              <a:pt x="1298" y="90"/>
                            </a:lnTo>
                            <a:lnTo>
                              <a:pt x="1305" y="90"/>
                            </a:lnTo>
                            <a:lnTo>
                              <a:pt x="1308" y="90"/>
                            </a:lnTo>
                            <a:lnTo>
                              <a:pt x="1315" y="97"/>
                            </a:lnTo>
                            <a:lnTo>
                              <a:pt x="1308" y="90"/>
                            </a:lnTo>
                            <a:lnTo>
                              <a:pt x="1305" y="87"/>
                            </a:lnTo>
                            <a:lnTo>
                              <a:pt x="1298" y="87"/>
                            </a:lnTo>
                            <a:lnTo>
                              <a:pt x="1227" y="48"/>
                            </a:lnTo>
                            <a:lnTo>
                              <a:pt x="1121" y="17"/>
                            </a:lnTo>
                            <a:lnTo>
                              <a:pt x="973" y="6"/>
                            </a:lnTo>
                            <a:lnTo>
                              <a:pt x="849" y="9"/>
                            </a:lnTo>
                            <a:lnTo>
                              <a:pt x="753" y="32"/>
                            </a:lnTo>
                            <a:lnTo>
                              <a:pt x="683" y="65"/>
                            </a:lnTo>
                            <a:lnTo>
                              <a:pt x="669" y="65"/>
                            </a:lnTo>
                            <a:lnTo>
                              <a:pt x="665" y="71"/>
                            </a:lnTo>
                            <a:lnTo>
                              <a:pt x="657" y="71"/>
                            </a:lnTo>
                            <a:lnTo>
                              <a:pt x="651" y="71"/>
                            </a:lnTo>
                            <a:lnTo>
                              <a:pt x="633" y="71"/>
                            </a:lnTo>
                            <a:lnTo>
                              <a:pt x="623" y="65"/>
                            </a:lnTo>
                            <a:lnTo>
                              <a:pt x="605" y="58"/>
                            </a:lnTo>
                            <a:lnTo>
                              <a:pt x="538" y="39"/>
                            </a:lnTo>
                            <a:lnTo>
                              <a:pt x="446" y="17"/>
                            </a:lnTo>
                            <a:lnTo>
                              <a:pt x="316" y="6"/>
                            </a:lnTo>
                            <a:lnTo>
                              <a:pt x="213" y="23"/>
                            </a:lnTo>
                            <a:lnTo>
                              <a:pt x="132" y="65"/>
                            </a:lnTo>
                            <a:lnTo>
                              <a:pt x="60" y="126"/>
                            </a:lnTo>
                            <a:lnTo>
                              <a:pt x="18" y="200"/>
                            </a:lnTo>
                            <a:lnTo>
                              <a:pt x="0" y="291"/>
                            </a:lnTo>
                            <a:lnTo>
                              <a:pt x="18" y="385"/>
                            </a:lnTo>
                            <a:lnTo>
                              <a:pt x="60" y="460"/>
                            </a:lnTo>
                            <a:lnTo>
                              <a:pt x="132" y="528"/>
                            </a:lnTo>
                            <a:lnTo>
                              <a:pt x="213" y="570"/>
                            </a:lnTo>
                            <a:lnTo>
                              <a:pt x="316" y="57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 rot="10800000">
                        <a:off x="5281920" y="8044560"/>
                        <a:ext cx="1364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" h="1617">
                            <a:moveTo>
                              <a:pt x="88" y="288"/>
                            </a:moveTo>
                            <a:lnTo>
                              <a:pt x="95" y="386"/>
                            </a:lnTo>
                            <a:lnTo>
                              <a:pt x="113" y="460"/>
                            </a:lnTo>
                            <a:lnTo>
                              <a:pt x="131" y="525"/>
                            </a:lnTo>
                            <a:lnTo>
                              <a:pt x="134" y="541"/>
                            </a:lnTo>
                            <a:lnTo>
                              <a:pt x="134" y="557"/>
                            </a:lnTo>
                            <a:lnTo>
                              <a:pt x="142" y="586"/>
                            </a:lnTo>
                            <a:lnTo>
                              <a:pt x="149" y="541"/>
                            </a:lnTo>
                            <a:lnTo>
                              <a:pt x="159" y="508"/>
                            </a:lnTo>
                            <a:lnTo>
                              <a:pt x="176" y="489"/>
                            </a:lnTo>
                            <a:lnTo>
                              <a:pt x="176" y="492"/>
                            </a:lnTo>
                            <a:lnTo>
                              <a:pt x="170" y="492"/>
                            </a:lnTo>
                            <a:lnTo>
                              <a:pt x="166" y="499"/>
                            </a:lnTo>
                            <a:lnTo>
                              <a:pt x="116" y="541"/>
                            </a:lnTo>
                            <a:lnTo>
                              <a:pt x="64" y="613"/>
                            </a:lnTo>
                            <a:lnTo>
                              <a:pt x="18" y="706"/>
                            </a:lnTo>
                            <a:lnTo>
                              <a:pt x="0" y="829"/>
                            </a:lnTo>
                            <a:lnTo>
                              <a:pt x="18" y="942"/>
                            </a:lnTo>
                            <a:lnTo>
                              <a:pt x="46" y="1030"/>
                            </a:lnTo>
                            <a:lnTo>
                              <a:pt x="77" y="1092"/>
                            </a:lnTo>
                            <a:lnTo>
                              <a:pt x="82" y="1095"/>
                            </a:lnTo>
                            <a:lnTo>
                              <a:pt x="82" y="1102"/>
                            </a:lnTo>
                            <a:lnTo>
                              <a:pt x="77" y="1092"/>
                            </a:lnTo>
                            <a:lnTo>
                              <a:pt x="77" y="1078"/>
                            </a:lnTo>
                            <a:lnTo>
                              <a:pt x="77" y="1075"/>
                            </a:lnTo>
                            <a:lnTo>
                              <a:pt x="77" y="1063"/>
                            </a:lnTo>
                            <a:lnTo>
                              <a:pt x="77" y="1053"/>
                            </a:lnTo>
                            <a:lnTo>
                              <a:pt x="77" y="1047"/>
                            </a:lnTo>
                            <a:lnTo>
                              <a:pt x="77" y="1053"/>
                            </a:lnTo>
                            <a:lnTo>
                              <a:pt x="53" y="1150"/>
                            </a:lnTo>
                            <a:lnTo>
                              <a:pt x="61" y="1244"/>
                            </a:lnTo>
                            <a:lnTo>
                              <a:pt x="88" y="1329"/>
                            </a:lnTo>
                            <a:lnTo>
                              <a:pt x="152" y="1406"/>
                            </a:lnTo>
                            <a:lnTo>
                              <a:pt x="244" y="1471"/>
                            </a:lnTo>
                            <a:lnTo>
                              <a:pt x="354" y="1529"/>
                            </a:lnTo>
                            <a:lnTo>
                              <a:pt x="456" y="1568"/>
                            </a:lnTo>
                            <a:lnTo>
                              <a:pt x="552" y="1584"/>
                            </a:lnTo>
                            <a:lnTo>
                              <a:pt x="668" y="1584"/>
                            </a:lnTo>
                            <a:lnTo>
                              <a:pt x="703" y="1584"/>
                            </a:lnTo>
                            <a:lnTo>
                              <a:pt x="770" y="1591"/>
                            </a:lnTo>
                            <a:lnTo>
                              <a:pt x="816" y="1591"/>
                            </a:lnTo>
                            <a:lnTo>
                              <a:pt x="851" y="1591"/>
                            </a:lnTo>
                            <a:lnTo>
                              <a:pt x="902" y="1594"/>
                            </a:lnTo>
                            <a:lnTo>
                              <a:pt x="957" y="1594"/>
                            </a:lnTo>
                            <a:lnTo>
                              <a:pt x="1042" y="1594"/>
                            </a:lnTo>
                            <a:lnTo>
                              <a:pt x="1095" y="1594"/>
                            </a:lnTo>
                            <a:lnTo>
                              <a:pt x="1138" y="1594"/>
                            </a:lnTo>
                            <a:lnTo>
                              <a:pt x="1165" y="1600"/>
                            </a:lnTo>
                            <a:lnTo>
                              <a:pt x="1219" y="1606"/>
                            </a:lnTo>
                            <a:lnTo>
                              <a:pt x="1279" y="1606"/>
                            </a:lnTo>
                            <a:lnTo>
                              <a:pt x="1357" y="1610"/>
                            </a:lnTo>
                            <a:lnTo>
                              <a:pt x="1421" y="1610"/>
                            </a:lnTo>
                            <a:lnTo>
                              <a:pt x="1466" y="1610"/>
                            </a:lnTo>
                            <a:lnTo>
                              <a:pt x="1508" y="1610"/>
                            </a:lnTo>
                            <a:lnTo>
                              <a:pt x="1551" y="1610"/>
                            </a:lnTo>
                            <a:lnTo>
                              <a:pt x="1611" y="1617"/>
                            </a:lnTo>
                            <a:lnTo>
                              <a:pt x="1686" y="1617"/>
                            </a:lnTo>
                            <a:lnTo>
                              <a:pt x="1788" y="1600"/>
                            </a:lnTo>
                            <a:lnTo>
                              <a:pt x="1869" y="1558"/>
                            </a:lnTo>
                            <a:lnTo>
                              <a:pt x="1940" y="1497"/>
                            </a:lnTo>
                            <a:lnTo>
                              <a:pt x="1982" y="1415"/>
                            </a:lnTo>
                            <a:lnTo>
                              <a:pt x="2000" y="1329"/>
                            </a:lnTo>
                            <a:lnTo>
                              <a:pt x="1982" y="1238"/>
                            </a:lnTo>
                            <a:lnTo>
                              <a:pt x="1940" y="1160"/>
                            </a:lnTo>
                            <a:lnTo>
                              <a:pt x="1869" y="1095"/>
                            </a:lnTo>
                            <a:lnTo>
                              <a:pt x="1788" y="1053"/>
                            </a:lnTo>
                            <a:lnTo>
                              <a:pt x="1686" y="1044"/>
                            </a:lnTo>
                            <a:lnTo>
                              <a:pt x="1622" y="1044"/>
                            </a:lnTo>
                            <a:lnTo>
                              <a:pt x="1575" y="1036"/>
                            </a:lnTo>
                            <a:lnTo>
                              <a:pt x="1533" y="1036"/>
                            </a:lnTo>
                            <a:lnTo>
                              <a:pt x="1491" y="1036"/>
                            </a:lnTo>
                            <a:lnTo>
                              <a:pt x="1431" y="1036"/>
                            </a:lnTo>
                            <a:lnTo>
                              <a:pt x="1357" y="1036"/>
                            </a:lnTo>
                            <a:lnTo>
                              <a:pt x="1304" y="1036"/>
                            </a:lnTo>
                            <a:lnTo>
                              <a:pt x="1261" y="1030"/>
                            </a:lnTo>
                            <a:lnTo>
                              <a:pt x="1230" y="1030"/>
                            </a:lnTo>
                            <a:lnTo>
                              <a:pt x="1177" y="1023"/>
                            </a:lnTo>
                            <a:lnTo>
                              <a:pt x="1120" y="1020"/>
                            </a:lnTo>
                            <a:lnTo>
                              <a:pt x="1042" y="1020"/>
                            </a:lnTo>
                            <a:lnTo>
                              <a:pt x="975" y="1020"/>
                            </a:lnTo>
                            <a:lnTo>
                              <a:pt x="929" y="1020"/>
                            </a:lnTo>
                            <a:lnTo>
                              <a:pt x="894" y="1014"/>
                            </a:lnTo>
                            <a:lnTo>
                              <a:pt x="845" y="1014"/>
                            </a:lnTo>
                            <a:lnTo>
                              <a:pt x="788" y="1014"/>
                            </a:lnTo>
                            <a:lnTo>
                              <a:pt x="703" y="1008"/>
                            </a:lnTo>
                            <a:lnTo>
                              <a:pt x="668" y="1008"/>
                            </a:lnTo>
                            <a:lnTo>
                              <a:pt x="646" y="1008"/>
                            </a:lnTo>
                            <a:lnTo>
                              <a:pt x="622" y="1008"/>
                            </a:lnTo>
                            <a:lnTo>
                              <a:pt x="607" y="1008"/>
                            </a:lnTo>
                            <a:lnTo>
                              <a:pt x="615" y="1014"/>
                            </a:lnTo>
                            <a:lnTo>
                              <a:pt x="625" y="1014"/>
                            </a:lnTo>
                            <a:lnTo>
                              <a:pt x="640" y="1020"/>
                            </a:lnTo>
                            <a:lnTo>
                              <a:pt x="625" y="1014"/>
                            </a:lnTo>
                            <a:lnTo>
                              <a:pt x="604" y="998"/>
                            </a:lnTo>
                            <a:lnTo>
                              <a:pt x="573" y="981"/>
                            </a:lnTo>
                            <a:lnTo>
                              <a:pt x="640" y="1053"/>
                            </a:lnTo>
                            <a:lnTo>
                              <a:pt x="675" y="1150"/>
                            </a:lnTo>
                            <a:lnTo>
                              <a:pt x="668" y="1254"/>
                            </a:lnTo>
                            <a:lnTo>
                              <a:pt x="682" y="1208"/>
                            </a:lnTo>
                            <a:lnTo>
                              <a:pt x="700" y="1150"/>
                            </a:lnTo>
                            <a:lnTo>
                              <a:pt x="703" y="1075"/>
                            </a:lnTo>
                            <a:lnTo>
                              <a:pt x="685" y="956"/>
                            </a:lnTo>
                            <a:lnTo>
                              <a:pt x="658" y="875"/>
                            </a:lnTo>
                            <a:lnTo>
                              <a:pt x="625" y="813"/>
                            </a:lnTo>
                            <a:lnTo>
                              <a:pt x="625" y="807"/>
                            </a:lnTo>
                            <a:lnTo>
                              <a:pt x="622" y="804"/>
                            </a:lnTo>
                            <a:lnTo>
                              <a:pt x="625" y="813"/>
                            </a:lnTo>
                            <a:lnTo>
                              <a:pt x="625" y="820"/>
                            </a:lnTo>
                            <a:lnTo>
                              <a:pt x="625" y="829"/>
                            </a:lnTo>
                            <a:lnTo>
                              <a:pt x="622" y="868"/>
                            </a:lnTo>
                            <a:lnTo>
                              <a:pt x="607" y="901"/>
                            </a:lnTo>
                            <a:lnTo>
                              <a:pt x="590" y="923"/>
                            </a:lnTo>
                            <a:lnTo>
                              <a:pt x="597" y="917"/>
                            </a:lnTo>
                            <a:lnTo>
                              <a:pt x="604" y="910"/>
                            </a:lnTo>
                            <a:lnTo>
                              <a:pt x="650" y="868"/>
                            </a:lnTo>
                            <a:lnTo>
                              <a:pt x="703" y="804"/>
                            </a:lnTo>
                            <a:lnTo>
                              <a:pt x="746" y="706"/>
                            </a:lnTo>
                            <a:lnTo>
                              <a:pt x="770" y="586"/>
                            </a:lnTo>
                            <a:lnTo>
                              <a:pt x="763" y="489"/>
                            </a:lnTo>
                            <a:lnTo>
                              <a:pt x="746" y="411"/>
                            </a:lnTo>
                            <a:lnTo>
                              <a:pt x="728" y="347"/>
                            </a:lnTo>
                            <a:lnTo>
                              <a:pt x="721" y="323"/>
                            </a:lnTo>
                            <a:lnTo>
                              <a:pt x="718" y="307"/>
                            </a:lnTo>
                            <a:lnTo>
                              <a:pt x="718" y="288"/>
                            </a:lnTo>
                            <a:lnTo>
                              <a:pt x="700" y="194"/>
                            </a:lnTo>
                            <a:lnTo>
                              <a:pt x="658" y="120"/>
                            </a:lnTo>
                            <a:lnTo>
                              <a:pt x="586" y="55"/>
                            </a:lnTo>
                            <a:lnTo>
                              <a:pt x="502" y="16"/>
                            </a:lnTo>
                            <a:lnTo>
                              <a:pt x="403" y="0"/>
                            </a:lnTo>
                            <a:lnTo>
                              <a:pt x="300" y="16"/>
                            </a:lnTo>
                            <a:lnTo>
                              <a:pt x="219" y="55"/>
                            </a:lnTo>
                            <a:lnTo>
                              <a:pt x="149" y="120"/>
                            </a:lnTo>
                            <a:lnTo>
                              <a:pt x="106" y="194"/>
                            </a:lnTo>
                            <a:lnTo>
                              <a:pt x="8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 rot="10800000">
                        <a:off x="5365800" y="8078040"/>
                        <a:ext cx="532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8" h="3414">
                            <a:moveTo>
                              <a:pt x="102" y="285"/>
                            </a:moveTo>
                            <a:lnTo>
                              <a:pt x="102" y="279"/>
                            </a:lnTo>
                            <a:lnTo>
                              <a:pt x="102" y="268"/>
                            </a:lnTo>
                            <a:lnTo>
                              <a:pt x="107" y="256"/>
                            </a:lnTo>
                            <a:lnTo>
                              <a:pt x="107" y="262"/>
                            </a:lnTo>
                            <a:lnTo>
                              <a:pt x="102" y="268"/>
                            </a:lnTo>
                            <a:lnTo>
                              <a:pt x="102" y="272"/>
                            </a:lnTo>
                            <a:lnTo>
                              <a:pt x="60" y="334"/>
                            </a:lnTo>
                            <a:lnTo>
                              <a:pt x="25" y="431"/>
                            </a:lnTo>
                            <a:lnTo>
                              <a:pt x="7" y="560"/>
                            </a:lnTo>
                            <a:lnTo>
                              <a:pt x="7" y="616"/>
                            </a:lnTo>
                            <a:lnTo>
                              <a:pt x="7" y="658"/>
                            </a:lnTo>
                            <a:lnTo>
                              <a:pt x="0" y="696"/>
                            </a:lnTo>
                            <a:lnTo>
                              <a:pt x="0" y="735"/>
                            </a:lnTo>
                            <a:lnTo>
                              <a:pt x="0" y="784"/>
                            </a:lnTo>
                            <a:lnTo>
                              <a:pt x="0" y="856"/>
                            </a:lnTo>
                            <a:lnTo>
                              <a:pt x="7" y="962"/>
                            </a:lnTo>
                            <a:lnTo>
                              <a:pt x="35" y="1050"/>
                            </a:lnTo>
                            <a:lnTo>
                              <a:pt x="68" y="1121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8" y="1130"/>
                            </a:lnTo>
                            <a:lnTo>
                              <a:pt x="71" y="1130"/>
                            </a:lnTo>
                            <a:lnTo>
                              <a:pt x="71" y="1124"/>
                            </a:lnTo>
                            <a:lnTo>
                              <a:pt x="71" y="1130"/>
                            </a:lnTo>
                            <a:lnTo>
                              <a:pt x="71" y="1205"/>
                            </a:lnTo>
                            <a:lnTo>
                              <a:pt x="78" y="1266"/>
                            </a:lnTo>
                            <a:lnTo>
                              <a:pt x="84" y="1309"/>
                            </a:lnTo>
                            <a:lnTo>
                              <a:pt x="89" y="1341"/>
                            </a:lnTo>
                            <a:lnTo>
                              <a:pt x="89" y="1380"/>
                            </a:lnTo>
                            <a:lnTo>
                              <a:pt x="89" y="1426"/>
                            </a:lnTo>
                            <a:lnTo>
                              <a:pt x="95" y="1509"/>
                            </a:lnTo>
                            <a:lnTo>
                              <a:pt x="107" y="1581"/>
                            </a:lnTo>
                            <a:lnTo>
                              <a:pt x="120" y="1642"/>
                            </a:lnTo>
                            <a:lnTo>
                              <a:pt x="123" y="1662"/>
                            </a:lnTo>
                            <a:lnTo>
                              <a:pt x="131" y="1685"/>
                            </a:lnTo>
                            <a:lnTo>
                              <a:pt x="131" y="1708"/>
                            </a:lnTo>
                            <a:lnTo>
                              <a:pt x="131" y="1860"/>
                            </a:lnTo>
                            <a:lnTo>
                              <a:pt x="131" y="2015"/>
                            </a:lnTo>
                            <a:lnTo>
                              <a:pt x="131" y="2009"/>
                            </a:lnTo>
                            <a:lnTo>
                              <a:pt x="131" y="1999"/>
                            </a:lnTo>
                            <a:lnTo>
                              <a:pt x="138" y="1989"/>
                            </a:lnTo>
                            <a:lnTo>
                              <a:pt x="138" y="1993"/>
                            </a:lnTo>
                            <a:lnTo>
                              <a:pt x="131" y="1999"/>
                            </a:lnTo>
                            <a:lnTo>
                              <a:pt x="123" y="2006"/>
                            </a:lnTo>
                            <a:lnTo>
                              <a:pt x="84" y="2070"/>
                            </a:lnTo>
                            <a:lnTo>
                              <a:pt x="42" y="2174"/>
                            </a:lnTo>
                            <a:lnTo>
                              <a:pt x="25" y="2310"/>
                            </a:lnTo>
                            <a:lnTo>
                              <a:pt x="25" y="2394"/>
                            </a:lnTo>
                            <a:lnTo>
                              <a:pt x="35" y="2462"/>
                            </a:lnTo>
                            <a:lnTo>
                              <a:pt x="50" y="2514"/>
                            </a:lnTo>
                            <a:lnTo>
                              <a:pt x="53" y="2543"/>
                            </a:lnTo>
                            <a:lnTo>
                              <a:pt x="53" y="2562"/>
                            </a:lnTo>
                            <a:lnTo>
                              <a:pt x="60" y="2595"/>
                            </a:lnTo>
                            <a:lnTo>
                              <a:pt x="71" y="2722"/>
                            </a:lnTo>
                            <a:lnTo>
                              <a:pt x="107" y="2812"/>
                            </a:lnTo>
                            <a:lnTo>
                              <a:pt x="141" y="2880"/>
                            </a:lnTo>
                            <a:lnTo>
                              <a:pt x="149" y="2883"/>
                            </a:lnTo>
                            <a:lnTo>
                              <a:pt x="156" y="2890"/>
                            </a:lnTo>
                            <a:lnTo>
                              <a:pt x="149" y="2883"/>
                            </a:lnTo>
                            <a:lnTo>
                              <a:pt x="141" y="2874"/>
                            </a:lnTo>
                            <a:lnTo>
                              <a:pt x="141" y="2867"/>
                            </a:lnTo>
                            <a:lnTo>
                              <a:pt x="141" y="2938"/>
                            </a:lnTo>
                            <a:lnTo>
                              <a:pt x="149" y="2987"/>
                            </a:lnTo>
                            <a:lnTo>
                              <a:pt x="156" y="3026"/>
                            </a:lnTo>
                            <a:lnTo>
                              <a:pt x="156" y="3052"/>
                            </a:lnTo>
                            <a:lnTo>
                              <a:pt x="159" y="3084"/>
                            </a:lnTo>
                            <a:lnTo>
                              <a:pt x="159" y="3129"/>
                            </a:lnTo>
                            <a:lnTo>
                              <a:pt x="173" y="3220"/>
                            </a:lnTo>
                            <a:lnTo>
                              <a:pt x="219" y="3298"/>
                            </a:lnTo>
                            <a:lnTo>
                              <a:pt x="286" y="3363"/>
                            </a:lnTo>
                            <a:lnTo>
                              <a:pt x="375" y="3399"/>
                            </a:lnTo>
                            <a:lnTo>
                              <a:pt x="473" y="3414"/>
                            </a:lnTo>
                            <a:lnTo>
                              <a:pt x="575" y="3399"/>
                            </a:lnTo>
                            <a:lnTo>
                              <a:pt x="657" y="3363"/>
                            </a:lnTo>
                            <a:lnTo>
                              <a:pt x="728" y="3298"/>
                            </a:lnTo>
                            <a:lnTo>
                              <a:pt x="770" y="3220"/>
                            </a:lnTo>
                            <a:lnTo>
                              <a:pt x="788" y="3129"/>
                            </a:lnTo>
                            <a:lnTo>
                              <a:pt x="788" y="3059"/>
                            </a:lnTo>
                            <a:lnTo>
                              <a:pt x="780" y="3010"/>
                            </a:lnTo>
                            <a:lnTo>
                              <a:pt x="777" y="2971"/>
                            </a:lnTo>
                            <a:lnTo>
                              <a:pt x="777" y="2946"/>
                            </a:lnTo>
                            <a:lnTo>
                              <a:pt x="770" y="2913"/>
                            </a:lnTo>
                            <a:lnTo>
                              <a:pt x="770" y="2867"/>
                            </a:lnTo>
                            <a:lnTo>
                              <a:pt x="759" y="2738"/>
                            </a:lnTo>
                            <a:lnTo>
                              <a:pt x="725" y="2647"/>
                            </a:lnTo>
                            <a:lnTo>
                              <a:pt x="689" y="2585"/>
                            </a:lnTo>
                            <a:lnTo>
                              <a:pt x="682" y="2579"/>
                            </a:lnTo>
                            <a:lnTo>
                              <a:pt x="682" y="2576"/>
                            </a:lnTo>
                            <a:lnTo>
                              <a:pt x="675" y="2576"/>
                            </a:lnTo>
                            <a:lnTo>
                              <a:pt x="682" y="2579"/>
                            </a:lnTo>
                            <a:lnTo>
                              <a:pt x="682" y="2592"/>
                            </a:lnTo>
                            <a:lnTo>
                              <a:pt x="689" y="2595"/>
                            </a:lnTo>
                            <a:lnTo>
                              <a:pt x="682" y="2510"/>
                            </a:lnTo>
                            <a:lnTo>
                              <a:pt x="675" y="2446"/>
                            </a:lnTo>
                            <a:lnTo>
                              <a:pt x="657" y="2391"/>
                            </a:lnTo>
                            <a:lnTo>
                              <a:pt x="653" y="2368"/>
                            </a:lnTo>
                            <a:lnTo>
                              <a:pt x="653" y="2343"/>
                            </a:lnTo>
                            <a:lnTo>
                              <a:pt x="653" y="2310"/>
                            </a:lnTo>
                            <a:lnTo>
                              <a:pt x="647" y="2319"/>
                            </a:lnTo>
                            <a:lnTo>
                              <a:pt x="647" y="2330"/>
                            </a:lnTo>
                            <a:lnTo>
                              <a:pt x="639" y="2336"/>
                            </a:lnTo>
                            <a:lnTo>
                              <a:pt x="647" y="2336"/>
                            </a:lnTo>
                            <a:lnTo>
                              <a:pt x="647" y="2327"/>
                            </a:lnTo>
                            <a:lnTo>
                              <a:pt x="653" y="2319"/>
                            </a:lnTo>
                            <a:lnTo>
                              <a:pt x="692" y="2255"/>
                            </a:lnTo>
                            <a:lnTo>
                              <a:pt x="735" y="2158"/>
                            </a:lnTo>
                            <a:lnTo>
                              <a:pt x="759" y="2015"/>
                            </a:lnTo>
                            <a:lnTo>
                              <a:pt x="759" y="1869"/>
                            </a:lnTo>
                            <a:lnTo>
                              <a:pt x="759" y="1708"/>
                            </a:lnTo>
                            <a:lnTo>
                              <a:pt x="753" y="1627"/>
                            </a:lnTo>
                            <a:lnTo>
                              <a:pt x="741" y="1555"/>
                            </a:lnTo>
                            <a:lnTo>
                              <a:pt x="728" y="1493"/>
                            </a:lnTo>
                            <a:lnTo>
                              <a:pt x="725" y="1474"/>
                            </a:lnTo>
                            <a:lnTo>
                              <a:pt x="717" y="1458"/>
                            </a:lnTo>
                            <a:lnTo>
                              <a:pt x="717" y="1426"/>
                            </a:lnTo>
                            <a:lnTo>
                              <a:pt x="717" y="1348"/>
                            </a:lnTo>
                            <a:lnTo>
                              <a:pt x="710" y="1293"/>
                            </a:lnTo>
                            <a:lnTo>
                              <a:pt x="707" y="1244"/>
                            </a:lnTo>
                            <a:lnTo>
                              <a:pt x="707" y="1211"/>
                            </a:lnTo>
                            <a:lnTo>
                              <a:pt x="699" y="1179"/>
                            </a:lnTo>
                            <a:lnTo>
                              <a:pt x="699" y="1130"/>
                            </a:lnTo>
                            <a:lnTo>
                              <a:pt x="689" y="1024"/>
                            </a:lnTo>
                            <a:lnTo>
                              <a:pt x="665" y="936"/>
                            </a:lnTo>
                            <a:lnTo>
                              <a:pt x="632" y="865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2" y="849"/>
                            </a:lnTo>
                            <a:lnTo>
                              <a:pt x="622" y="856"/>
                            </a:lnTo>
                            <a:lnTo>
                              <a:pt x="629" y="859"/>
                            </a:lnTo>
                            <a:lnTo>
                              <a:pt x="629" y="856"/>
                            </a:lnTo>
                            <a:lnTo>
                              <a:pt x="629" y="793"/>
                            </a:lnTo>
                            <a:lnTo>
                              <a:pt x="629" y="755"/>
                            </a:lnTo>
                            <a:lnTo>
                              <a:pt x="629" y="719"/>
                            </a:lnTo>
                            <a:lnTo>
                              <a:pt x="632" y="680"/>
                            </a:lnTo>
                            <a:lnTo>
                              <a:pt x="632" y="625"/>
                            </a:lnTo>
                            <a:lnTo>
                              <a:pt x="632" y="560"/>
                            </a:lnTo>
                            <a:lnTo>
                              <a:pt x="632" y="570"/>
                            </a:lnTo>
                            <a:lnTo>
                              <a:pt x="629" y="577"/>
                            </a:lnTo>
                            <a:lnTo>
                              <a:pt x="622" y="586"/>
                            </a:lnTo>
                            <a:lnTo>
                              <a:pt x="629" y="583"/>
                            </a:lnTo>
                            <a:lnTo>
                              <a:pt x="629" y="577"/>
                            </a:lnTo>
                            <a:lnTo>
                              <a:pt x="632" y="570"/>
                            </a:lnTo>
                            <a:lnTo>
                              <a:pt x="671" y="511"/>
                            </a:lnTo>
                            <a:lnTo>
                              <a:pt x="710" y="414"/>
                            </a:lnTo>
                            <a:lnTo>
                              <a:pt x="728" y="285"/>
                            </a:lnTo>
                            <a:lnTo>
                              <a:pt x="710" y="201"/>
                            </a:lnTo>
                            <a:lnTo>
                              <a:pt x="665" y="120"/>
                            </a:lnTo>
                            <a:lnTo>
                              <a:pt x="597" y="58"/>
                            </a:lnTo>
                            <a:lnTo>
                              <a:pt x="509" y="16"/>
                            </a:lnTo>
                            <a:lnTo>
                              <a:pt x="413" y="0"/>
                            </a:lnTo>
                            <a:lnTo>
                              <a:pt x="315" y="16"/>
                            </a:lnTo>
                            <a:lnTo>
                              <a:pt x="226" y="58"/>
                            </a:lnTo>
                            <a:lnTo>
                              <a:pt x="159" y="120"/>
                            </a:lnTo>
                            <a:lnTo>
                              <a:pt x="113" y="201"/>
                            </a:lnTo>
                            <a:lnTo>
                              <a:pt x="102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 rot="10800000">
                        <a:off x="5366880" y="8154000"/>
                        <a:ext cx="5256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7" h="2361">
                            <a:moveTo>
                              <a:pt x="148" y="288"/>
                            </a:moveTo>
                            <a:lnTo>
                              <a:pt x="148" y="278"/>
                            </a:lnTo>
                            <a:lnTo>
                              <a:pt x="148" y="265"/>
                            </a:lnTo>
                            <a:lnTo>
                              <a:pt x="156" y="255"/>
                            </a:lnTo>
                            <a:lnTo>
                              <a:pt x="156" y="262"/>
                            </a:lnTo>
                            <a:lnTo>
                              <a:pt x="148" y="265"/>
                            </a:lnTo>
                            <a:lnTo>
                              <a:pt x="148" y="271"/>
                            </a:lnTo>
                            <a:lnTo>
                              <a:pt x="102" y="336"/>
                            </a:lnTo>
                            <a:lnTo>
                              <a:pt x="57" y="440"/>
                            </a:lnTo>
                            <a:lnTo>
                              <a:pt x="39" y="579"/>
                            </a:lnTo>
                            <a:lnTo>
                              <a:pt x="42" y="683"/>
                            </a:lnTo>
                            <a:lnTo>
                              <a:pt x="60" y="764"/>
                            </a:lnTo>
                            <a:lnTo>
                              <a:pt x="85" y="829"/>
                            </a:lnTo>
                            <a:lnTo>
                              <a:pt x="91" y="852"/>
                            </a:lnTo>
                            <a:lnTo>
                              <a:pt x="91" y="865"/>
                            </a:lnTo>
                            <a:lnTo>
                              <a:pt x="91" y="884"/>
                            </a:lnTo>
                            <a:lnTo>
                              <a:pt x="91" y="907"/>
                            </a:lnTo>
                            <a:lnTo>
                              <a:pt x="91" y="916"/>
                            </a:lnTo>
                            <a:lnTo>
                              <a:pt x="85" y="938"/>
                            </a:lnTo>
                            <a:lnTo>
                              <a:pt x="60" y="1004"/>
                            </a:lnTo>
                            <a:lnTo>
                              <a:pt x="42" y="1081"/>
                            </a:lnTo>
                            <a:lnTo>
                              <a:pt x="39" y="1178"/>
                            </a:lnTo>
                            <a:lnTo>
                              <a:pt x="39" y="1214"/>
                            </a:lnTo>
                            <a:lnTo>
                              <a:pt x="32" y="1244"/>
                            </a:lnTo>
                            <a:lnTo>
                              <a:pt x="25" y="1269"/>
                            </a:lnTo>
                            <a:lnTo>
                              <a:pt x="14" y="1318"/>
                            </a:lnTo>
                            <a:lnTo>
                              <a:pt x="7" y="1389"/>
                            </a:lnTo>
                            <a:lnTo>
                              <a:pt x="0" y="1483"/>
                            </a:lnTo>
                            <a:lnTo>
                              <a:pt x="7" y="1581"/>
                            </a:lnTo>
                            <a:lnTo>
                              <a:pt x="25" y="1656"/>
                            </a:lnTo>
                            <a:lnTo>
                              <a:pt x="49" y="1720"/>
                            </a:lnTo>
                            <a:lnTo>
                              <a:pt x="57" y="1736"/>
                            </a:lnTo>
                            <a:lnTo>
                              <a:pt x="57" y="1753"/>
                            </a:lnTo>
                            <a:lnTo>
                              <a:pt x="57" y="1769"/>
                            </a:lnTo>
                            <a:lnTo>
                              <a:pt x="57" y="1817"/>
                            </a:lnTo>
                            <a:lnTo>
                              <a:pt x="57" y="1850"/>
                            </a:lnTo>
                            <a:lnTo>
                              <a:pt x="49" y="1885"/>
                            </a:lnTo>
                            <a:lnTo>
                              <a:pt x="42" y="1927"/>
                            </a:lnTo>
                            <a:lnTo>
                              <a:pt x="39" y="1992"/>
                            </a:lnTo>
                            <a:lnTo>
                              <a:pt x="32" y="2073"/>
                            </a:lnTo>
                            <a:lnTo>
                              <a:pt x="49" y="2167"/>
                            </a:lnTo>
                            <a:lnTo>
                              <a:pt x="96" y="2242"/>
                            </a:lnTo>
                            <a:lnTo>
                              <a:pt x="163" y="2306"/>
                            </a:lnTo>
                            <a:lnTo>
                              <a:pt x="251" y="2345"/>
                            </a:lnTo>
                            <a:lnTo>
                              <a:pt x="346" y="2361"/>
                            </a:lnTo>
                            <a:lnTo>
                              <a:pt x="446" y="2345"/>
                            </a:lnTo>
                            <a:lnTo>
                              <a:pt x="533" y="2306"/>
                            </a:lnTo>
                            <a:lnTo>
                              <a:pt x="600" y="2242"/>
                            </a:lnTo>
                            <a:lnTo>
                              <a:pt x="646" y="2167"/>
                            </a:lnTo>
                            <a:lnTo>
                              <a:pt x="660" y="2073"/>
                            </a:lnTo>
                            <a:lnTo>
                              <a:pt x="660" y="2030"/>
                            </a:lnTo>
                            <a:lnTo>
                              <a:pt x="664" y="1992"/>
                            </a:lnTo>
                            <a:lnTo>
                              <a:pt x="672" y="1966"/>
                            </a:lnTo>
                            <a:lnTo>
                              <a:pt x="678" y="1917"/>
                            </a:lnTo>
                            <a:lnTo>
                              <a:pt x="682" y="1856"/>
                            </a:lnTo>
                            <a:lnTo>
                              <a:pt x="682" y="1769"/>
                            </a:lnTo>
                            <a:lnTo>
                              <a:pt x="678" y="1671"/>
                            </a:lnTo>
                            <a:lnTo>
                              <a:pt x="660" y="1596"/>
                            </a:lnTo>
                            <a:lnTo>
                              <a:pt x="639" y="1532"/>
                            </a:lnTo>
                            <a:lnTo>
                              <a:pt x="636" y="1516"/>
                            </a:lnTo>
                            <a:lnTo>
                              <a:pt x="629" y="1499"/>
                            </a:lnTo>
                            <a:lnTo>
                              <a:pt x="629" y="1483"/>
                            </a:lnTo>
                            <a:lnTo>
                              <a:pt x="629" y="1444"/>
                            </a:lnTo>
                            <a:lnTo>
                              <a:pt x="636" y="1415"/>
                            </a:lnTo>
                            <a:lnTo>
                              <a:pt x="639" y="1389"/>
                            </a:lnTo>
                            <a:lnTo>
                              <a:pt x="654" y="1341"/>
                            </a:lnTo>
                            <a:lnTo>
                              <a:pt x="660" y="1269"/>
                            </a:lnTo>
                            <a:lnTo>
                              <a:pt x="664" y="1178"/>
                            </a:lnTo>
                            <a:lnTo>
                              <a:pt x="664" y="1162"/>
                            </a:lnTo>
                            <a:lnTo>
                              <a:pt x="672" y="1146"/>
                            </a:lnTo>
                            <a:lnTo>
                              <a:pt x="678" y="1130"/>
                            </a:lnTo>
                            <a:lnTo>
                              <a:pt x="699" y="1065"/>
                            </a:lnTo>
                            <a:lnTo>
                              <a:pt x="717" y="987"/>
                            </a:lnTo>
                            <a:lnTo>
                              <a:pt x="717" y="884"/>
                            </a:lnTo>
                            <a:lnTo>
                              <a:pt x="717" y="786"/>
                            </a:lnTo>
                            <a:lnTo>
                              <a:pt x="699" y="706"/>
                            </a:lnTo>
                            <a:lnTo>
                              <a:pt x="678" y="641"/>
                            </a:lnTo>
                            <a:lnTo>
                              <a:pt x="664" y="618"/>
                            </a:lnTo>
                            <a:lnTo>
                              <a:pt x="664" y="602"/>
                            </a:lnTo>
                            <a:lnTo>
                              <a:pt x="664" y="579"/>
                            </a:lnTo>
                            <a:lnTo>
                              <a:pt x="660" y="592"/>
                            </a:lnTo>
                            <a:lnTo>
                              <a:pt x="660" y="602"/>
                            </a:lnTo>
                            <a:lnTo>
                              <a:pt x="654" y="612"/>
                            </a:lnTo>
                            <a:lnTo>
                              <a:pt x="660" y="602"/>
                            </a:lnTo>
                            <a:lnTo>
                              <a:pt x="664" y="595"/>
                            </a:lnTo>
                            <a:lnTo>
                              <a:pt x="714" y="531"/>
                            </a:lnTo>
                            <a:lnTo>
                              <a:pt x="753" y="427"/>
                            </a:lnTo>
                            <a:lnTo>
                              <a:pt x="777" y="288"/>
                            </a:lnTo>
                            <a:lnTo>
                              <a:pt x="760" y="200"/>
                            </a:lnTo>
                            <a:lnTo>
                              <a:pt x="714" y="119"/>
                            </a:lnTo>
                            <a:lnTo>
                              <a:pt x="646" y="55"/>
                            </a:lnTo>
                            <a:lnTo>
                              <a:pt x="558" y="15"/>
                            </a:lnTo>
                            <a:lnTo>
                              <a:pt x="463" y="0"/>
                            </a:lnTo>
                            <a:lnTo>
                              <a:pt x="364" y="15"/>
                            </a:lnTo>
                            <a:lnTo>
                              <a:pt x="275" y="55"/>
                            </a:lnTo>
                            <a:lnTo>
                              <a:pt x="208" y="119"/>
                            </a:lnTo>
                            <a:lnTo>
                              <a:pt x="163" y="200"/>
                            </a:lnTo>
                            <a:lnTo>
                              <a:pt x="148" y="28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 rot="10800000">
                        <a:off x="5149080" y="8202960"/>
                        <a:ext cx="2703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64" h="1834">
                            <a:moveTo>
                              <a:pt x="3650" y="127"/>
                            </a:moveTo>
                            <a:lnTo>
                              <a:pt x="3642" y="127"/>
                            </a:lnTo>
                            <a:lnTo>
                              <a:pt x="3635" y="127"/>
                            </a:lnTo>
                            <a:lnTo>
                              <a:pt x="3642" y="127"/>
                            </a:lnTo>
                            <a:lnTo>
                              <a:pt x="3650" y="127"/>
                            </a:lnTo>
                            <a:lnTo>
                              <a:pt x="3642" y="127"/>
                            </a:lnTo>
                            <a:lnTo>
                              <a:pt x="3632" y="120"/>
                            </a:lnTo>
                            <a:lnTo>
                              <a:pt x="3625" y="120"/>
                            </a:lnTo>
                            <a:lnTo>
                              <a:pt x="3547" y="81"/>
                            </a:lnTo>
                            <a:lnTo>
                              <a:pt x="3441" y="55"/>
                            </a:lnTo>
                            <a:lnTo>
                              <a:pt x="3310" y="42"/>
                            </a:lnTo>
                            <a:lnTo>
                              <a:pt x="3282" y="42"/>
                            </a:lnTo>
                            <a:lnTo>
                              <a:pt x="3264" y="39"/>
                            </a:lnTo>
                            <a:lnTo>
                              <a:pt x="3240" y="33"/>
                            </a:lnTo>
                            <a:lnTo>
                              <a:pt x="3180" y="16"/>
                            </a:lnTo>
                            <a:lnTo>
                              <a:pt x="3098" y="6"/>
                            </a:lnTo>
                            <a:lnTo>
                              <a:pt x="2993" y="0"/>
                            </a:lnTo>
                            <a:lnTo>
                              <a:pt x="2872" y="6"/>
                            </a:lnTo>
                            <a:lnTo>
                              <a:pt x="2777" y="33"/>
                            </a:lnTo>
                            <a:lnTo>
                              <a:pt x="2703" y="61"/>
                            </a:lnTo>
                            <a:lnTo>
                              <a:pt x="2695" y="61"/>
                            </a:lnTo>
                            <a:lnTo>
                              <a:pt x="2689" y="64"/>
                            </a:lnTo>
                            <a:lnTo>
                              <a:pt x="2677" y="64"/>
                            </a:lnTo>
                            <a:lnTo>
                              <a:pt x="2614" y="64"/>
                            </a:lnTo>
                            <a:lnTo>
                              <a:pt x="2565" y="64"/>
                            </a:lnTo>
                            <a:lnTo>
                              <a:pt x="2523" y="64"/>
                            </a:lnTo>
                            <a:lnTo>
                              <a:pt x="2487" y="64"/>
                            </a:lnTo>
                            <a:lnTo>
                              <a:pt x="2441" y="64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5" y="72"/>
                            </a:lnTo>
                            <a:lnTo>
                              <a:pt x="2381" y="72"/>
                            </a:lnTo>
                            <a:lnTo>
                              <a:pt x="2375" y="64"/>
                            </a:lnTo>
                            <a:lnTo>
                              <a:pt x="2370" y="64"/>
                            </a:lnTo>
                            <a:lnTo>
                              <a:pt x="2300" y="39"/>
                            </a:lnTo>
                            <a:lnTo>
                              <a:pt x="2212" y="16"/>
                            </a:lnTo>
                            <a:lnTo>
                              <a:pt x="2098" y="9"/>
                            </a:lnTo>
                            <a:lnTo>
                              <a:pt x="1932" y="33"/>
                            </a:lnTo>
                            <a:lnTo>
                              <a:pt x="1812" y="81"/>
                            </a:lnTo>
                            <a:lnTo>
                              <a:pt x="1742" y="130"/>
                            </a:lnTo>
                            <a:lnTo>
                              <a:pt x="1731" y="136"/>
                            </a:lnTo>
                            <a:lnTo>
                              <a:pt x="1724" y="142"/>
                            </a:lnTo>
                            <a:lnTo>
                              <a:pt x="1742" y="136"/>
                            </a:lnTo>
                            <a:lnTo>
                              <a:pt x="1760" y="130"/>
                            </a:lnTo>
                            <a:lnTo>
                              <a:pt x="1773" y="130"/>
                            </a:lnTo>
                            <a:lnTo>
                              <a:pt x="1742" y="127"/>
                            </a:lnTo>
                            <a:lnTo>
                              <a:pt x="1717" y="127"/>
                            </a:lnTo>
                            <a:lnTo>
                              <a:pt x="1696" y="120"/>
                            </a:lnTo>
                            <a:lnTo>
                              <a:pt x="1628" y="103"/>
                            </a:lnTo>
                            <a:lnTo>
                              <a:pt x="1555" y="94"/>
                            </a:lnTo>
                            <a:lnTo>
                              <a:pt x="1452" y="94"/>
                            </a:lnTo>
                            <a:lnTo>
                              <a:pt x="1428" y="88"/>
                            </a:lnTo>
                            <a:lnTo>
                              <a:pt x="1410" y="88"/>
                            </a:lnTo>
                            <a:lnTo>
                              <a:pt x="1389" y="81"/>
                            </a:lnTo>
                            <a:lnTo>
                              <a:pt x="1318" y="61"/>
                            </a:lnTo>
                            <a:lnTo>
                              <a:pt x="1240" y="48"/>
                            </a:lnTo>
                            <a:lnTo>
                              <a:pt x="1134" y="42"/>
                            </a:lnTo>
                            <a:lnTo>
                              <a:pt x="1007" y="55"/>
                            </a:lnTo>
                            <a:lnTo>
                              <a:pt x="919" y="78"/>
                            </a:lnTo>
                            <a:lnTo>
                              <a:pt x="859" y="103"/>
                            </a:lnTo>
                            <a:lnTo>
                              <a:pt x="855" y="110"/>
                            </a:lnTo>
                            <a:lnTo>
                              <a:pt x="848" y="110"/>
                            </a:lnTo>
                            <a:lnTo>
                              <a:pt x="855" y="110"/>
                            </a:lnTo>
                            <a:lnTo>
                              <a:pt x="859" y="103"/>
                            </a:lnTo>
                            <a:lnTo>
                              <a:pt x="865" y="103"/>
                            </a:lnTo>
                            <a:lnTo>
                              <a:pt x="813" y="103"/>
                            </a:lnTo>
                            <a:lnTo>
                              <a:pt x="771" y="110"/>
                            </a:lnTo>
                            <a:lnTo>
                              <a:pt x="742" y="110"/>
                            </a:lnTo>
                            <a:lnTo>
                              <a:pt x="706" y="110"/>
                            </a:lnTo>
                            <a:lnTo>
                              <a:pt x="682" y="110"/>
                            </a:lnTo>
                            <a:lnTo>
                              <a:pt x="639" y="103"/>
                            </a:lnTo>
                            <a:lnTo>
                              <a:pt x="664" y="110"/>
                            </a:lnTo>
                            <a:lnTo>
                              <a:pt x="682" y="114"/>
                            </a:lnTo>
                            <a:lnTo>
                              <a:pt x="678" y="114"/>
                            </a:lnTo>
                            <a:lnTo>
                              <a:pt x="618" y="81"/>
                            </a:lnTo>
                            <a:lnTo>
                              <a:pt x="516" y="61"/>
                            </a:lnTo>
                            <a:lnTo>
                              <a:pt x="385" y="64"/>
                            </a:lnTo>
                            <a:lnTo>
                              <a:pt x="314" y="94"/>
                            </a:lnTo>
                            <a:lnTo>
                              <a:pt x="233" y="146"/>
                            </a:lnTo>
                            <a:lnTo>
                              <a:pt x="156" y="233"/>
                            </a:lnTo>
                            <a:lnTo>
                              <a:pt x="145" y="257"/>
                            </a:lnTo>
                            <a:lnTo>
                              <a:pt x="130" y="272"/>
                            </a:lnTo>
                            <a:lnTo>
                              <a:pt x="120" y="295"/>
                            </a:lnTo>
                            <a:lnTo>
                              <a:pt x="67" y="363"/>
                            </a:lnTo>
                            <a:lnTo>
                              <a:pt x="32" y="443"/>
                            </a:lnTo>
                            <a:lnTo>
                              <a:pt x="7" y="545"/>
                            </a:lnTo>
                            <a:lnTo>
                              <a:pt x="0" y="667"/>
                            </a:lnTo>
                            <a:lnTo>
                              <a:pt x="7" y="765"/>
                            </a:lnTo>
                            <a:lnTo>
                              <a:pt x="21" y="843"/>
                            </a:lnTo>
                            <a:lnTo>
                              <a:pt x="32" y="891"/>
                            </a:lnTo>
                            <a:lnTo>
                              <a:pt x="42" y="913"/>
                            </a:lnTo>
                            <a:lnTo>
                              <a:pt x="42" y="933"/>
                            </a:lnTo>
                            <a:lnTo>
                              <a:pt x="42" y="962"/>
                            </a:lnTo>
                            <a:lnTo>
                              <a:pt x="42" y="1011"/>
                            </a:lnTo>
                            <a:lnTo>
                              <a:pt x="42" y="1046"/>
                            </a:lnTo>
                            <a:lnTo>
                              <a:pt x="39" y="1082"/>
                            </a:lnTo>
                            <a:lnTo>
                              <a:pt x="32" y="1125"/>
                            </a:lnTo>
                            <a:lnTo>
                              <a:pt x="32" y="1183"/>
                            </a:lnTo>
                            <a:lnTo>
                              <a:pt x="25" y="1261"/>
                            </a:lnTo>
                            <a:lnTo>
                              <a:pt x="32" y="1335"/>
                            </a:lnTo>
                            <a:lnTo>
                              <a:pt x="32" y="1396"/>
                            </a:lnTo>
                            <a:lnTo>
                              <a:pt x="39" y="1438"/>
                            </a:lnTo>
                            <a:lnTo>
                              <a:pt x="42" y="1465"/>
                            </a:lnTo>
                            <a:lnTo>
                              <a:pt x="42" y="1504"/>
                            </a:lnTo>
                            <a:lnTo>
                              <a:pt x="42" y="1549"/>
                            </a:lnTo>
                            <a:lnTo>
                              <a:pt x="60" y="1640"/>
                            </a:lnTo>
                            <a:lnTo>
                              <a:pt x="109" y="1717"/>
                            </a:lnTo>
                            <a:lnTo>
                              <a:pt x="173" y="1783"/>
                            </a:lnTo>
                            <a:lnTo>
                              <a:pt x="258" y="1824"/>
                            </a:lnTo>
                            <a:lnTo>
                              <a:pt x="356" y="1834"/>
                            </a:lnTo>
                            <a:lnTo>
                              <a:pt x="459" y="1824"/>
                            </a:lnTo>
                            <a:lnTo>
                              <a:pt x="548" y="1783"/>
                            </a:lnTo>
                            <a:lnTo>
                              <a:pt x="611" y="1717"/>
                            </a:lnTo>
                            <a:lnTo>
                              <a:pt x="660" y="1640"/>
                            </a:lnTo>
                            <a:lnTo>
                              <a:pt x="672" y="1549"/>
                            </a:lnTo>
                            <a:lnTo>
                              <a:pt x="672" y="1471"/>
                            </a:lnTo>
                            <a:lnTo>
                              <a:pt x="664" y="1416"/>
                            </a:lnTo>
                            <a:lnTo>
                              <a:pt x="660" y="1374"/>
                            </a:lnTo>
                            <a:lnTo>
                              <a:pt x="660" y="1341"/>
                            </a:lnTo>
                            <a:lnTo>
                              <a:pt x="654" y="1309"/>
                            </a:lnTo>
                            <a:lnTo>
                              <a:pt x="654" y="1261"/>
                            </a:lnTo>
                            <a:lnTo>
                              <a:pt x="654" y="1212"/>
                            </a:lnTo>
                            <a:lnTo>
                              <a:pt x="660" y="1173"/>
                            </a:lnTo>
                            <a:lnTo>
                              <a:pt x="660" y="1140"/>
                            </a:lnTo>
                            <a:lnTo>
                              <a:pt x="664" y="1098"/>
                            </a:lnTo>
                            <a:lnTo>
                              <a:pt x="672" y="1037"/>
                            </a:lnTo>
                            <a:lnTo>
                              <a:pt x="672" y="962"/>
                            </a:lnTo>
                            <a:lnTo>
                              <a:pt x="664" y="858"/>
                            </a:lnTo>
                            <a:lnTo>
                              <a:pt x="654" y="788"/>
                            </a:lnTo>
                            <a:lnTo>
                              <a:pt x="639" y="733"/>
                            </a:lnTo>
                            <a:lnTo>
                              <a:pt x="629" y="713"/>
                            </a:lnTo>
                            <a:lnTo>
                              <a:pt x="629" y="697"/>
                            </a:lnTo>
                            <a:lnTo>
                              <a:pt x="629" y="667"/>
                            </a:lnTo>
                            <a:lnTo>
                              <a:pt x="629" y="642"/>
                            </a:lnTo>
                            <a:lnTo>
                              <a:pt x="629" y="625"/>
                            </a:lnTo>
                            <a:lnTo>
                              <a:pt x="629" y="619"/>
                            </a:lnTo>
                            <a:lnTo>
                              <a:pt x="629" y="625"/>
                            </a:lnTo>
                            <a:lnTo>
                              <a:pt x="621" y="628"/>
                            </a:lnTo>
                            <a:lnTo>
                              <a:pt x="621" y="635"/>
                            </a:lnTo>
                            <a:lnTo>
                              <a:pt x="629" y="625"/>
                            </a:lnTo>
                            <a:lnTo>
                              <a:pt x="639" y="612"/>
                            </a:lnTo>
                            <a:lnTo>
                              <a:pt x="646" y="597"/>
                            </a:lnTo>
                            <a:lnTo>
                              <a:pt x="660" y="580"/>
                            </a:lnTo>
                            <a:lnTo>
                              <a:pt x="682" y="554"/>
                            </a:lnTo>
                            <a:lnTo>
                              <a:pt x="699" y="522"/>
                            </a:lnTo>
                            <a:lnTo>
                              <a:pt x="636" y="586"/>
                            </a:lnTo>
                            <a:lnTo>
                              <a:pt x="548" y="625"/>
                            </a:lnTo>
                            <a:lnTo>
                              <a:pt x="446" y="628"/>
                            </a:lnTo>
                            <a:lnTo>
                              <a:pt x="350" y="603"/>
                            </a:lnTo>
                            <a:lnTo>
                              <a:pt x="356" y="609"/>
                            </a:lnTo>
                            <a:lnTo>
                              <a:pt x="399" y="628"/>
                            </a:lnTo>
                            <a:lnTo>
                              <a:pt x="459" y="651"/>
                            </a:lnTo>
                            <a:lnTo>
                              <a:pt x="533" y="674"/>
                            </a:lnTo>
                            <a:lnTo>
                              <a:pt x="636" y="683"/>
                            </a:lnTo>
                            <a:lnTo>
                              <a:pt x="706" y="683"/>
                            </a:lnTo>
                            <a:lnTo>
                              <a:pt x="777" y="683"/>
                            </a:lnTo>
                            <a:lnTo>
                              <a:pt x="802" y="683"/>
                            </a:lnTo>
                            <a:lnTo>
                              <a:pt x="830" y="680"/>
                            </a:lnTo>
                            <a:lnTo>
                              <a:pt x="865" y="680"/>
                            </a:lnTo>
                            <a:lnTo>
                              <a:pt x="986" y="667"/>
                            </a:lnTo>
                            <a:lnTo>
                              <a:pt x="1074" y="645"/>
                            </a:lnTo>
                            <a:lnTo>
                              <a:pt x="1134" y="619"/>
                            </a:lnTo>
                            <a:lnTo>
                              <a:pt x="1137" y="619"/>
                            </a:lnTo>
                            <a:lnTo>
                              <a:pt x="1145" y="619"/>
                            </a:lnTo>
                            <a:lnTo>
                              <a:pt x="1152" y="619"/>
                            </a:lnTo>
                            <a:lnTo>
                              <a:pt x="1145" y="619"/>
                            </a:lnTo>
                            <a:lnTo>
                              <a:pt x="1134" y="619"/>
                            </a:lnTo>
                            <a:lnTo>
                              <a:pt x="1155" y="619"/>
                            </a:lnTo>
                            <a:lnTo>
                              <a:pt x="1179" y="625"/>
                            </a:lnTo>
                            <a:lnTo>
                              <a:pt x="1205" y="628"/>
                            </a:lnTo>
                            <a:lnTo>
                              <a:pt x="1269" y="645"/>
                            </a:lnTo>
                            <a:lnTo>
                              <a:pt x="1353" y="661"/>
                            </a:lnTo>
                            <a:lnTo>
                              <a:pt x="1452" y="667"/>
                            </a:lnTo>
                            <a:lnTo>
                              <a:pt x="1487" y="667"/>
                            </a:lnTo>
                            <a:lnTo>
                              <a:pt x="1512" y="667"/>
                            </a:lnTo>
                            <a:lnTo>
                              <a:pt x="1537" y="674"/>
                            </a:lnTo>
                            <a:lnTo>
                              <a:pt x="1600" y="691"/>
                            </a:lnTo>
                            <a:lnTo>
                              <a:pt x="1678" y="700"/>
                            </a:lnTo>
                            <a:lnTo>
                              <a:pt x="1773" y="706"/>
                            </a:lnTo>
                            <a:lnTo>
                              <a:pt x="1943" y="680"/>
                            </a:lnTo>
                            <a:lnTo>
                              <a:pt x="2056" y="628"/>
                            </a:lnTo>
                            <a:lnTo>
                              <a:pt x="2134" y="580"/>
                            </a:lnTo>
                            <a:lnTo>
                              <a:pt x="2137" y="577"/>
                            </a:lnTo>
                            <a:lnTo>
                              <a:pt x="2144" y="570"/>
                            </a:lnTo>
                            <a:lnTo>
                              <a:pt x="2152" y="570"/>
                            </a:lnTo>
                            <a:lnTo>
                              <a:pt x="2134" y="577"/>
                            </a:lnTo>
                            <a:lnTo>
                              <a:pt x="2116" y="580"/>
                            </a:lnTo>
                            <a:lnTo>
                              <a:pt x="2098" y="586"/>
                            </a:lnTo>
                            <a:lnTo>
                              <a:pt x="2102" y="586"/>
                            </a:lnTo>
                            <a:lnTo>
                              <a:pt x="2098" y="580"/>
                            </a:lnTo>
                            <a:lnTo>
                              <a:pt x="2102" y="586"/>
                            </a:lnTo>
                            <a:lnTo>
                              <a:pt x="2109" y="586"/>
                            </a:lnTo>
                            <a:lnTo>
                              <a:pt x="2180" y="612"/>
                            </a:lnTo>
                            <a:lnTo>
                              <a:pt x="2268" y="635"/>
                            </a:lnTo>
                            <a:lnTo>
                              <a:pt x="2381" y="642"/>
                            </a:lnTo>
                            <a:lnTo>
                              <a:pt x="2448" y="642"/>
                            </a:lnTo>
                            <a:lnTo>
                              <a:pt x="2494" y="642"/>
                            </a:lnTo>
                            <a:lnTo>
                              <a:pt x="2537" y="642"/>
                            </a:lnTo>
                            <a:lnTo>
                              <a:pt x="2572" y="642"/>
                            </a:lnTo>
                            <a:lnTo>
                              <a:pt x="2618" y="642"/>
                            </a:lnTo>
                            <a:lnTo>
                              <a:pt x="2677" y="642"/>
                            </a:lnTo>
                            <a:lnTo>
                              <a:pt x="2801" y="628"/>
                            </a:lnTo>
                            <a:lnTo>
                              <a:pt x="2890" y="609"/>
                            </a:lnTo>
                            <a:lnTo>
                              <a:pt x="2968" y="580"/>
                            </a:lnTo>
                            <a:lnTo>
                              <a:pt x="2975" y="580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78" y="577"/>
                            </a:lnTo>
                            <a:lnTo>
                              <a:pt x="2985" y="577"/>
                            </a:lnTo>
                            <a:lnTo>
                              <a:pt x="2993" y="577"/>
                            </a:lnTo>
                            <a:lnTo>
                              <a:pt x="3020" y="577"/>
                            </a:lnTo>
                            <a:lnTo>
                              <a:pt x="3038" y="580"/>
                            </a:lnTo>
                            <a:lnTo>
                              <a:pt x="3063" y="586"/>
                            </a:lnTo>
                            <a:lnTo>
                              <a:pt x="3123" y="597"/>
                            </a:lnTo>
                            <a:lnTo>
                              <a:pt x="3204" y="612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18" y="619"/>
                            </a:lnTo>
                            <a:lnTo>
                              <a:pt x="3310" y="619"/>
                            </a:lnTo>
                            <a:lnTo>
                              <a:pt x="3318" y="619"/>
                            </a:lnTo>
                            <a:lnTo>
                              <a:pt x="3325" y="619"/>
                            </a:lnTo>
                            <a:lnTo>
                              <a:pt x="3328" y="625"/>
                            </a:lnTo>
                            <a:lnTo>
                              <a:pt x="3413" y="661"/>
                            </a:lnTo>
                            <a:lnTo>
                              <a:pt x="3518" y="691"/>
                            </a:lnTo>
                            <a:lnTo>
                              <a:pt x="3650" y="700"/>
                            </a:lnTo>
                            <a:lnTo>
                              <a:pt x="3744" y="683"/>
                            </a:lnTo>
                            <a:lnTo>
                              <a:pt x="3834" y="645"/>
                            </a:lnTo>
                            <a:lnTo>
                              <a:pt x="3897" y="580"/>
                            </a:lnTo>
                            <a:lnTo>
                              <a:pt x="3946" y="506"/>
                            </a:lnTo>
                            <a:lnTo>
                              <a:pt x="3964" y="412"/>
                            </a:lnTo>
                            <a:lnTo>
                              <a:pt x="3946" y="321"/>
                            </a:lnTo>
                            <a:lnTo>
                              <a:pt x="3897" y="243"/>
                            </a:lnTo>
                            <a:lnTo>
                              <a:pt x="3834" y="178"/>
                            </a:lnTo>
                            <a:lnTo>
                              <a:pt x="3744" y="142"/>
                            </a:lnTo>
                            <a:lnTo>
                              <a:pt x="3650" y="12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pic>
              <p:nvPicPr>
                <p:cNvPr id="72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560" y="5731560"/>
                  <a:ext cx="2765520" cy="266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7" name=""/>
                <p:cNvSpPr txBox="1"/>
                <p:nvPr/>
              </p:nvSpPr>
              <p:spPr>
                <a:xfrm>
                  <a:off x="1363680" y="3559320"/>
                  <a:ext cx="995400" cy="403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ضمة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28" name=""/>
                <p:cNvSpPr txBox="1"/>
                <p:nvPr/>
              </p:nvSpPr>
              <p:spPr>
                <a:xfrm>
                  <a:off x="1032120" y="4715640"/>
                  <a:ext cx="1536840" cy="50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مد بالواو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pic>
            <p:nvPicPr>
              <p:cNvPr id="7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6960" y="1106640"/>
                <a:ext cx="1443240" cy="220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731" name="" descr=""/>
            <p:cNvPicPr/>
            <p:nvPr/>
          </p:nvPicPr>
          <p:blipFill>
            <a:blip r:embed="rId1"/>
            <a:stretch/>
          </p:blipFill>
          <p:spPr>
            <a:xfrm>
              <a:off x="108720" y="0"/>
              <a:ext cx="674928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2" name=""/>
            <p:cNvGrpSpPr/>
            <p:nvPr/>
          </p:nvGrpSpPr>
          <p:grpSpPr>
            <a:xfrm>
              <a:off x="0" y="721440"/>
              <a:ext cx="6640200" cy="8096400"/>
              <a:chOff x="0" y="721440"/>
              <a:chExt cx="6640200" cy="8096400"/>
            </a:xfrm>
          </p:grpSpPr>
          <p:sp>
            <p:nvSpPr>
              <p:cNvPr id="733" name=""/>
              <p:cNvSpPr/>
              <p:nvPr/>
            </p:nvSpPr>
            <p:spPr>
              <a:xfrm>
                <a:off x="487080" y="931680"/>
                <a:ext cx="6095880" cy="7882920"/>
              </a:xfrm>
              <a:custGeom>
                <a:avLst/>
                <a:gdLst>
                  <a:gd name="textAreaLeft" fmla="*/ 297360 w 6095880"/>
                  <a:gd name="textAreaRight" fmla="*/ 5798520 w 6095880"/>
                  <a:gd name="textAreaTop" fmla="*/ 297360 h 7882920"/>
                  <a:gd name="textAreaBottom" fmla="*/ 7585560 h 7882920"/>
                </a:gdLst>
                <a:ahLst/>
                <a:rect l="textAreaLeft" t="textAreaTop" r="textAreaRight" b="textAreaBottom"/>
                <a:pathLst>
                  <a:path w="21600" h="27932">
                    <a:moveTo>
                      <a:pt x="3600" y="0"/>
                    </a:moveTo>
                    <a:arcTo wR="3600" hR="3600" stAng="16200000" swAng="-5400000"/>
                    <a:lnTo>
                      <a:pt x="0" y="24332"/>
                    </a:lnTo>
                    <a:arcTo wR="3600" hR="3600" stAng="10800000" swAng="-5400000"/>
                    <a:lnTo>
                      <a:pt x="18000" y="279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886760" y="721440"/>
                <a:ext cx="3374640" cy="44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وازن بين الكسرة والمد بالياء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4898520" y="5731560"/>
                <a:ext cx="1741680" cy="3086280"/>
                <a:chOff x="4898520" y="5731560"/>
                <a:chExt cx="1741680" cy="3086280"/>
              </a:xfrm>
            </p:grpSpPr>
            <p:sp>
              <p:nvSpPr>
                <p:cNvPr id="736" name=""/>
                <p:cNvSpPr txBox="1"/>
                <p:nvPr/>
              </p:nvSpPr>
              <p:spPr>
                <a:xfrm>
                  <a:off x="5225040" y="5731560"/>
                  <a:ext cx="1294560" cy="403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مد بالياء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pic>
              <p:nvPicPr>
                <p:cNvPr id="7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98520" y="6361920"/>
                  <a:ext cx="1741680" cy="24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8" name=""/>
              <p:cNvGrpSpPr/>
              <p:nvPr/>
            </p:nvGrpSpPr>
            <p:grpSpPr>
              <a:xfrm>
                <a:off x="1959120" y="2473200"/>
                <a:ext cx="2954880" cy="6117120"/>
                <a:chOff x="1959120" y="2473200"/>
                <a:chExt cx="2954880" cy="611712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4356000" y="2473200"/>
                  <a:ext cx="5580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إ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356000" y="291204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ب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356000" y="335124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356000" y="379044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ث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356000" y="422928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ج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356000" y="466884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AE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ح</a:t>
                  </a:r>
                  <a:r>
                    <a:rPr b="0" lang="ar-AE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356000" y="510768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خ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959120" y="2473200"/>
                  <a:ext cx="8272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59120" y="291204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959120" y="335124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959120" y="379044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959120" y="422928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959120" y="466884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959120" y="510768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959120" y="554688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959120" y="5986080"/>
                  <a:ext cx="827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959120" y="6424560"/>
                  <a:ext cx="8272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356000" y="554688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د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356000" y="5986080"/>
                  <a:ext cx="558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ذ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356000" y="6424560"/>
                  <a:ext cx="5580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ر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344840" y="6876000"/>
                  <a:ext cx="555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ز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44840" y="7314840"/>
                  <a:ext cx="555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س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44840" y="7754400"/>
                  <a:ext cx="555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ش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344840" y="8192880"/>
                  <a:ext cx="555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ص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959120" y="6876000"/>
                  <a:ext cx="82296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959120" y="7314840"/>
                  <a:ext cx="82296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959120" y="7754400"/>
                  <a:ext cx="82296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959120" y="8192880"/>
                  <a:ext cx="82296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7" name=""/>
                <p:cNvGrpSpPr/>
                <p:nvPr/>
              </p:nvGrpSpPr>
              <p:grpSpPr>
                <a:xfrm>
                  <a:off x="2902320" y="2494080"/>
                  <a:ext cx="1197360" cy="6096240"/>
                  <a:chOff x="2902320" y="2494080"/>
                  <a:chExt cx="1197360" cy="6096240"/>
                </a:xfrm>
              </p:grpSpPr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2902320" y="2494080"/>
                    <a:ext cx="1197360" cy="332640"/>
                    <a:chOff x="2902320" y="2494080"/>
                    <a:chExt cx="1197360" cy="33264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 rot="10800000">
                      <a:off x="2935080" y="253188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rot="10800000">
                      <a:off x="3284640" y="272124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 rot="10800000">
                      <a:off x="3533760" y="274248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rot="10800000">
                      <a:off x="3240000" y="274320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10800000">
                      <a:off x="3083040" y="270720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 rot="10800000">
                      <a:off x="2902320" y="2614320"/>
                      <a:ext cx="18432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rot="10800000">
                      <a:off x="3044880" y="257688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0800000">
                      <a:off x="3174120" y="2494080"/>
                      <a:ext cx="253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 rot="10800000">
                      <a:off x="3377520" y="253908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rot="10800000">
                      <a:off x="3514680" y="256176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rot="10800000">
                      <a:off x="3703320" y="256140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 rot="10800000">
                      <a:off x="3964680" y="256140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rot="10800000">
                      <a:off x="4047120" y="259452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rot="10800000">
                      <a:off x="4047840" y="267120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 rot="10800000">
                      <a:off x="3833640" y="271980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"/>
                  <p:cNvGrpSpPr/>
                  <p:nvPr/>
                </p:nvGrpSpPr>
                <p:grpSpPr>
                  <a:xfrm>
                    <a:off x="2902320" y="2937600"/>
                    <a:ext cx="1197360" cy="331920"/>
                    <a:chOff x="2902320" y="2937600"/>
                    <a:chExt cx="1197360" cy="331920"/>
                  </a:xfrm>
                </p:grpSpPr>
                <p:sp>
                  <p:nvSpPr>
                    <p:cNvPr id="785" name=""/>
                    <p:cNvSpPr/>
                    <p:nvPr/>
                  </p:nvSpPr>
                  <p:spPr>
                    <a:xfrm rot="10800000">
                      <a:off x="2935080" y="2975400"/>
                      <a:ext cx="1161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 rot="10800000">
                      <a:off x="3284640" y="316404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10800000">
                      <a:off x="3533760" y="318564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10800000">
                      <a:off x="3240000" y="318600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 rot="10800000">
                      <a:off x="3083040" y="3150720"/>
                      <a:ext cx="15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0800000">
                      <a:off x="2902320" y="305748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10800000">
                      <a:off x="3044880" y="302004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 rot="10800000">
                      <a:off x="3174120" y="293760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rot="10800000">
                      <a:off x="3377520" y="298260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rot="10800000">
                      <a:off x="3514680" y="300528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0800000">
                      <a:off x="3703320" y="300456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rot="10800000">
                      <a:off x="3964680" y="300456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rot="10800000">
                      <a:off x="4047120" y="3038040"/>
                      <a:ext cx="52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0800000">
                      <a:off x="4047840" y="311400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rot="10800000">
                      <a:off x="3833640" y="316296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2902320" y="3380760"/>
                    <a:ext cx="1197360" cy="332640"/>
                    <a:chOff x="2902320" y="3380760"/>
                    <a:chExt cx="1197360" cy="33264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 rot="10800000">
                      <a:off x="2935080" y="341856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 rot="10800000">
                      <a:off x="3284640" y="360792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rot="10800000">
                      <a:off x="3533760" y="362916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rot="10800000">
                      <a:off x="3240000" y="362988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10800000">
                      <a:off x="3083040" y="359388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 rot="10800000">
                      <a:off x="2902320" y="3501000"/>
                      <a:ext cx="18432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rot="10800000">
                      <a:off x="3044880" y="346356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rot="10800000">
                      <a:off x="3174120" y="3380760"/>
                      <a:ext cx="253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rot="10800000">
                      <a:off x="3377520" y="342576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rot="10800000">
                      <a:off x="3514680" y="344844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rot="10800000">
                      <a:off x="3703320" y="344808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rot="10800000">
                      <a:off x="3964680" y="344808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10800000">
                      <a:off x="4047120" y="348120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 rot="10800000">
                      <a:off x="4047840" y="355788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10800000">
                      <a:off x="3833640" y="360648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2902320" y="3824280"/>
                    <a:ext cx="1197360" cy="331920"/>
                    <a:chOff x="2902320" y="3824280"/>
                    <a:chExt cx="1197360" cy="33192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rot="10800000">
                      <a:off x="2935080" y="3862080"/>
                      <a:ext cx="1161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rot="10800000">
                      <a:off x="3284640" y="405072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10800000">
                      <a:off x="3533760" y="407232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rot="10800000">
                      <a:off x="3240000" y="407268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 rot="10800000">
                      <a:off x="3083040" y="4037400"/>
                      <a:ext cx="15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10800000">
                      <a:off x="2902320" y="394416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rot="10800000">
                      <a:off x="3044880" y="390672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rot="10800000">
                      <a:off x="3174120" y="382428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10800000">
                      <a:off x="3377520" y="386928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0800000">
                      <a:off x="3514680" y="389196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rot="10800000">
                      <a:off x="3703320" y="389124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10800000">
                      <a:off x="3964680" y="389124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 rot="10800000">
                      <a:off x="4047120" y="3924720"/>
                      <a:ext cx="52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 rot="10800000">
                      <a:off x="4047840" y="400068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10800000">
                      <a:off x="3833640" y="404964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2902320" y="4267440"/>
                    <a:ext cx="1197360" cy="331920"/>
                    <a:chOff x="2902320" y="4267440"/>
                    <a:chExt cx="1197360" cy="33192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 rot="10800000">
                      <a:off x="2935080" y="430452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10800000">
                      <a:off x="3284640" y="449388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 rot="10800000">
                      <a:off x="3533760" y="451512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rot="10800000">
                      <a:off x="3240000" y="451584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10800000">
                      <a:off x="3083040" y="447984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rot="10800000">
                      <a:off x="2902320" y="438732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rot="10800000">
                      <a:off x="3044880" y="434988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rot="10800000">
                      <a:off x="3174120" y="426744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rot="10800000">
                      <a:off x="3377520" y="431208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rot="10800000">
                      <a:off x="3514680" y="433476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rot="10800000">
                      <a:off x="3703320" y="433440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rot="10800000">
                      <a:off x="3964680" y="433404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rot="10800000">
                      <a:off x="4047120" y="436752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 rot="10800000">
                      <a:off x="4047840" y="444384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 rot="10800000">
                      <a:off x="3833640" y="449244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"/>
                  <p:cNvGrpSpPr/>
                  <p:nvPr/>
                </p:nvGrpSpPr>
                <p:grpSpPr>
                  <a:xfrm>
                    <a:off x="2902320" y="4710960"/>
                    <a:ext cx="1197360" cy="332640"/>
                    <a:chOff x="2902320" y="4710960"/>
                    <a:chExt cx="1197360" cy="332640"/>
                  </a:xfrm>
                </p:grpSpPr>
                <p:sp>
                  <p:nvSpPr>
                    <p:cNvPr id="849" name=""/>
                    <p:cNvSpPr/>
                    <p:nvPr/>
                  </p:nvSpPr>
                  <p:spPr>
                    <a:xfrm rot="10800000">
                      <a:off x="2935080" y="474876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 rot="10800000">
                      <a:off x="3284640" y="493812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 rot="10800000">
                      <a:off x="3533760" y="495936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rot="10800000">
                      <a:off x="3240000" y="496008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 rot="10800000">
                      <a:off x="3083040" y="492408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 rot="10800000">
                      <a:off x="2902320" y="4831200"/>
                      <a:ext cx="18432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rot="10800000">
                      <a:off x="3044880" y="479376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 rot="10800000">
                      <a:off x="3174120" y="4710960"/>
                      <a:ext cx="253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 rot="10800000">
                      <a:off x="3377520" y="475596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rot="10800000">
                      <a:off x="3514680" y="477864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 rot="10800000">
                      <a:off x="3703320" y="477828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rot="10800000">
                      <a:off x="3964680" y="477828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0800000">
                      <a:off x="4047120" y="481140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10800000">
                      <a:off x="4047840" y="488808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 rot="10800000">
                      <a:off x="3833640" y="493668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2902320" y="5154480"/>
                    <a:ext cx="1197360" cy="331920"/>
                    <a:chOff x="2902320" y="5154480"/>
                    <a:chExt cx="1197360" cy="331920"/>
                  </a:xfrm>
                </p:grpSpPr>
                <p:sp>
                  <p:nvSpPr>
                    <p:cNvPr id="865" name=""/>
                    <p:cNvSpPr/>
                    <p:nvPr/>
                  </p:nvSpPr>
                  <p:spPr>
                    <a:xfrm rot="10800000">
                      <a:off x="2935080" y="5192280"/>
                      <a:ext cx="1161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10800000">
                      <a:off x="3284640" y="538092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rot="10800000">
                      <a:off x="3533760" y="540252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 rot="10800000">
                      <a:off x="3240000" y="540288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rot="10800000">
                      <a:off x="3083040" y="5367600"/>
                      <a:ext cx="15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rot="10800000">
                      <a:off x="2902320" y="527436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 rot="10800000">
                      <a:off x="3044880" y="523692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 rot="10800000">
                      <a:off x="3174120" y="515448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rot="10800000">
                      <a:off x="3377520" y="519948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 rot="10800000">
                      <a:off x="3514680" y="522216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 rot="10800000">
                      <a:off x="3703320" y="522144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rot="10800000">
                      <a:off x="3964680" y="522144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 rot="10800000">
                      <a:off x="4047120" y="5254920"/>
                      <a:ext cx="52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 rot="10800000">
                      <a:off x="4047840" y="533088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10800000">
                      <a:off x="3833640" y="537984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2902320" y="5597640"/>
                    <a:ext cx="1197360" cy="332640"/>
                    <a:chOff x="2902320" y="5597640"/>
                    <a:chExt cx="1197360" cy="332640"/>
                  </a:xfrm>
                </p:grpSpPr>
                <p:sp>
                  <p:nvSpPr>
                    <p:cNvPr id="881" name=""/>
                    <p:cNvSpPr/>
                    <p:nvPr/>
                  </p:nvSpPr>
                  <p:spPr>
                    <a:xfrm rot="10800000">
                      <a:off x="2935080" y="563544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 rot="10800000">
                      <a:off x="3284640" y="582480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 rot="10800000">
                      <a:off x="3533760" y="584604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rot="10800000">
                      <a:off x="3240000" y="584676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rot="10800000">
                      <a:off x="3083040" y="581076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rot="10800000">
                      <a:off x="2902320" y="5717880"/>
                      <a:ext cx="18432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 rot="10800000">
                      <a:off x="3044880" y="568044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rot="10800000">
                      <a:off x="3174120" y="5597640"/>
                      <a:ext cx="253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rot="10800000">
                      <a:off x="3377520" y="564264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rot="10800000">
                      <a:off x="3514680" y="566532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 rot="10800000">
                      <a:off x="3703320" y="566496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 rot="10800000">
                      <a:off x="3964680" y="566496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10800000">
                      <a:off x="4047120" y="569808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0800000">
                      <a:off x="4047840" y="577476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 rot="10800000">
                      <a:off x="3833640" y="582336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2902320" y="6041160"/>
                    <a:ext cx="1197360" cy="331920"/>
                    <a:chOff x="2902320" y="6041160"/>
                    <a:chExt cx="1197360" cy="33192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 rot="10800000">
                      <a:off x="2935080" y="6078960"/>
                      <a:ext cx="1161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0800000">
                      <a:off x="3284640" y="626760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rot="10800000">
                      <a:off x="3533760" y="628920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rot="10800000">
                      <a:off x="3240000" y="628956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rot="10800000">
                      <a:off x="3083040" y="6254280"/>
                      <a:ext cx="15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 rot="10800000">
                      <a:off x="2902320" y="616104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rot="10800000">
                      <a:off x="3044880" y="612360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rot="10800000">
                      <a:off x="3174120" y="604116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 rot="10800000">
                      <a:off x="3377520" y="608616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 rot="10800000">
                      <a:off x="3514680" y="610884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 rot="10800000">
                      <a:off x="3703320" y="610812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rot="10800000">
                      <a:off x="3964680" y="610812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 rot="10800000">
                      <a:off x="4047120" y="6141600"/>
                      <a:ext cx="52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 rot="10800000">
                      <a:off x="4047840" y="621756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 rot="10800000">
                      <a:off x="3833640" y="626652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2" name=""/>
                  <p:cNvGrpSpPr/>
                  <p:nvPr/>
                </p:nvGrpSpPr>
                <p:grpSpPr>
                  <a:xfrm>
                    <a:off x="2902320" y="6484320"/>
                    <a:ext cx="1197360" cy="331920"/>
                    <a:chOff x="2902320" y="6484320"/>
                    <a:chExt cx="1197360" cy="331920"/>
                  </a:xfrm>
                </p:grpSpPr>
                <p:sp>
                  <p:nvSpPr>
                    <p:cNvPr id="913" name=""/>
                    <p:cNvSpPr/>
                    <p:nvPr/>
                  </p:nvSpPr>
                  <p:spPr>
                    <a:xfrm rot="10800000">
                      <a:off x="2935080" y="652140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 rot="10800000">
                      <a:off x="3284640" y="671076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 rot="10800000">
                      <a:off x="3533760" y="673200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rot="10800000">
                      <a:off x="3240000" y="673272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rot="10800000">
                      <a:off x="3083040" y="669672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 rot="10800000">
                      <a:off x="2902320" y="660420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 rot="10800000">
                      <a:off x="3044880" y="656676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 rot="10800000">
                      <a:off x="3174120" y="648432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rot="10800000">
                      <a:off x="3377520" y="652896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 rot="10800000">
                      <a:off x="3514680" y="655164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 rot="10800000">
                      <a:off x="3703320" y="655128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 rot="10800000">
                      <a:off x="3964680" y="655092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 rot="10800000">
                      <a:off x="4047120" y="658440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 rot="10800000">
                      <a:off x="4047840" y="666072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rot="10800000">
                      <a:off x="3833640" y="670932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2902320" y="6927840"/>
                    <a:ext cx="1197360" cy="332640"/>
                    <a:chOff x="2902320" y="6927840"/>
                    <a:chExt cx="1197360" cy="332640"/>
                  </a:xfrm>
                </p:grpSpPr>
                <p:sp>
                  <p:nvSpPr>
                    <p:cNvPr id="929" name=""/>
                    <p:cNvSpPr/>
                    <p:nvPr/>
                  </p:nvSpPr>
                  <p:spPr>
                    <a:xfrm rot="10800000">
                      <a:off x="2935080" y="696564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 rot="10800000">
                      <a:off x="3284640" y="715500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rot="10800000">
                      <a:off x="3533760" y="717624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rot="10800000">
                      <a:off x="3240000" y="717696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rot="10800000">
                      <a:off x="3083040" y="714096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 rot="10800000">
                      <a:off x="2902320" y="7048080"/>
                      <a:ext cx="18432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 rot="10800000">
                      <a:off x="3044880" y="701064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rot="10800000">
                      <a:off x="3174120" y="6927840"/>
                      <a:ext cx="253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10800000">
                      <a:off x="3377520" y="697284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 rot="10800000">
                      <a:off x="3514680" y="699552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 rot="10800000">
                      <a:off x="3703320" y="699516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10800000">
                      <a:off x="3964680" y="699516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10800000">
                      <a:off x="4047120" y="702828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 rot="10800000">
                      <a:off x="4047840" y="710496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rot="10800000">
                      <a:off x="3833640" y="715356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2902320" y="7371720"/>
                    <a:ext cx="1197360" cy="331920"/>
                    <a:chOff x="2902320" y="7371720"/>
                    <a:chExt cx="1197360" cy="33192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 rot="10800000">
                      <a:off x="2935080" y="7409520"/>
                      <a:ext cx="1161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rot="10800000">
                      <a:off x="3284640" y="759816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rot="10800000">
                      <a:off x="3533760" y="761976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 rot="10800000">
                      <a:off x="3240000" y="762012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 rot="10800000">
                      <a:off x="3083040" y="7584840"/>
                      <a:ext cx="15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 rot="10800000">
                      <a:off x="2902320" y="749160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 rot="10800000">
                      <a:off x="3044880" y="745416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rot="10800000">
                      <a:off x="3174120" y="737172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 rot="10800000">
                      <a:off x="3377520" y="741672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 rot="10800000">
                      <a:off x="3514680" y="743940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rot="10800000">
                      <a:off x="3703320" y="743868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10800000">
                      <a:off x="3964680" y="743868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rot="10800000">
                      <a:off x="4047120" y="7472160"/>
                      <a:ext cx="52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rot="10800000">
                      <a:off x="4047840" y="754812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10800000">
                      <a:off x="3833640" y="759708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2902320" y="7814520"/>
                    <a:ext cx="1197360" cy="332640"/>
                    <a:chOff x="2902320" y="7814520"/>
                    <a:chExt cx="1197360" cy="33264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rot="10800000">
                      <a:off x="2935080" y="7852320"/>
                      <a:ext cx="116100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rot="10800000">
                      <a:off x="3284640" y="804168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 rot="10800000">
                      <a:off x="3533760" y="806292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 rot="10800000">
                      <a:off x="3240000" y="806364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rot="10800000">
                      <a:off x="3083040" y="8027640"/>
                      <a:ext cx="15336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 rot="10800000">
                      <a:off x="2902320" y="7934760"/>
                      <a:ext cx="18432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 rot="10800000">
                      <a:off x="3044880" y="789732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10800000">
                      <a:off x="3174120" y="7814520"/>
                      <a:ext cx="25380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 rot="10800000">
                      <a:off x="3377520" y="785952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 rot="10800000">
                      <a:off x="3514680" y="788220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10800000">
                      <a:off x="3703320" y="788184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 rot="10800000">
                      <a:off x="3964680" y="788184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rot="10800000">
                      <a:off x="4047120" y="7914960"/>
                      <a:ext cx="522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10800000">
                      <a:off x="4047840" y="799164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 rot="10800000">
                      <a:off x="3833640" y="804024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2902320" y="8258400"/>
                    <a:ext cx="1197360" cy="331920"/>
                    <a:chOff x="2902320" y="8258400"/>
                    <a:chExt cx="1197360" cy="33192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 rot="10800000">
                      <a:off x="2935080" y="8296200"/>
                      <a:ext cx="1161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rot="10800000">
                      <a:off x="3284640" y="8484840"/>
                      <a:ext cx="1807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rot="10800000">
                      <a:off x="3533760" y="8506440"/>
                      <a:ext cx="29988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rot="10800000">
                      <a:off x="3240000" y="8506800"/>
                      <a:ext cx="2707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 rot="10800000">
                      <a:off x="3083040" y="8471520"/>
                      <a:ext cx="15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rot="10800000">
                      <a:off x="2902320" y="8378280"/>
                      <a:ext cx="1843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rot="10800000">
                      <a:off x="3044880" y="8340840"/>
                      <a:ext cx="13032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rot="10800000">
                      <a:off x="3174120" y="8258400"/>
                      <a:ext cx="25380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rot="10800000">
                      <a:off x="3377520" y="8303400"/>
                      <a:ext cx="13824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rot="10800000">
                      <a:off x="3514680" y="8326080"/>
                      <a:ext cx="169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rot="10800000">
                      <a:off x="3703320" y="8325360"/>
                      <a:ext cx="261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10800000">
                      <a:off x="3964680" y="8325360"/>
                      <a:ext cx="1339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rot="10800000">
                      <a:off x="4047120" y="8358840"/>
                      <a:ext cx="5220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rot="10800000">
                      <a:off x="4047840" y="8434800"/>
                      <a:ext cx="5184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10800000">
                      <a:off x="3833640" y="8483760"/>
                      <a:ext cx="26604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0" y="896400"/>
                <a:ext cx="1973160" cy="2417400"/>
                <a:chOff x="0" y="896400"/>
                <a:chExt cx="1973160" cy="2417400"/>
              </a:xfrm>
            </p:grpSpPr>
            <p:pic>
              <p:nvPicPr>
                <p:cNvPr id="99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896400"/>
                  <a:ext cx="1973160" cy="241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4" name=""/>
                <p:cNvSpPr txBox="1"/>
                <p:nvPr/>
              </p:nvSpPr>
              <p:spPr>
                <a:xfrm>
                  <a:off x="435240" y="2577960"/>
                  <a:ext cx="1076760" cy="50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كسرة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9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7" name=""/>
            <p:cNvGrpSpPr/>
            <p:nvPr/>
          </p:nvGrpSpPr>
          <p:grpSpPr>
            <a:xfrm>
              <a:off x="0" y="581400"/>
              <a:ext cx="6747480" cy="8197920"/>
              <a:chOff x="0" y="581400"/>
              <a:chExt cx="6747480" cy="8197920"/>
            </a:xfrm>
          </p:grpSpPr>
          <p:sp>
            <p:nvSpPr>
              <p:cNvPr id="998" name=""/>
              <p:cNvSpPr/>
              <p:nvPr/>
            </p:nvSpPr>
            <p:spPr>
              <a:xfrm>
                <a:off x="126360" y="896400"/>
                <a:ext cx="6194520" cy="7882920"/>
              </a:xfrm>
              <a:custGeom>
                <a:avLst/>
                <a:gdLst>
                  <a:gd name="textAreaLeft" fmla="*/ 302400 w 6194520"/>
                  <a:gd name="textAreaRight" fmla="*/ 5892120 w 6194520"/>
                  <a:gd name="textAreaTop" fmla="*/ 302400 h 7882920"/>
                  <a:gd name="textAreaBottom" fmla="*/ 7580520 h 7882920"/>
                </a:gdLst>
                <a:ahLst/>
                <a:rect l="textAreaLeft" t="textAreaTop" r="textAreaRight" b="textAreaBottom"/>
                <a:pathLst>
                  <a:path w="21600" h="27487">
                    <a:moveTo>
                      <a:pt x="3600" y="0"/>
                    </a:moveTo>
                    <a:arcTo wR="3600" hR="3600" stAng="16200000" swAng="-5400000"/>
                    <a:lnTo>
                      <a:pt x="0" y="23887"/>
                    </a:lnTo>
                    <a:arcTo wR="3600" hR="3600" stAng="10800000" swAng="-5400000"/>
                    <a:lnTo>
                      <a:pt x="18000" y="2748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48360" y="686520"/>
                <a:ext cx="3429000" cy="448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وازن بين الكسرة والمد بالياء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ar-SA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1991160" y="1470960"/>
                <a:ext cx="3002040" cy="6151680"/>
                <a:chOff x="1991160" y="1470960"/>
                <a:chExt cx="3002040" cy="615168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4426200" y="1470960"/>
                  <a:ext cx="5670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ض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426200" y="191016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ط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426200" y="234900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ظ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426200" y="278820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ع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426200" y="322740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غ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426200" y="36662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ف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426200" y="41054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ِ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991160" y="1470960"/>
                  <a:ext cx="8406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991160" y="191016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991160" y="234900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91160" y="278820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991160" y="322740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991160" y="36662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991160" y="41054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991160" y="45446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991160" y="4983840"/>
                  <a:ext cx="8406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991160" y="5422320"/>
                  <a:ext cx="8406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426200" y="45446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ك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426200" y="4983840"/>
                  <a:ext cx="56700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ل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426200" y="5422320"/>
                  <a:ext cx="56700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م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415400" y="5873760"/>
                  <a:ext cx="564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ن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415400" y="631260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ـ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415400" y="6751800"/>
                  <a:ext cx="56412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415400" y="7190280"/>
                  <a:ext cx="56412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ي</a:t>
                  </a:r>
                  <a:r>
                    <a:rPr b="0" lang="ar-S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991160" y="5873760"/>
                  <a:ext cx="8362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991160" y="6312600"/>
                  <a:ext cx="836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991160" y="6751800"/>
                  <a:ext cx="836280" cy="375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991160" y="7190280"/>
                  <a:ext cx="836280" cy="37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2986200" y="1526760"/>
                  <a:ext cx="1216440" cy="6095880"/>
                  <a:chOff x="2986200" y="1526760"/>
                  <a:chExt cx="1216440" cy="6095880"/>
                </a:xfrm>
              </p:grpSpPr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2986200" y="1526760"/>
                    <a:ext cx="1216440" cy="332640"/>
                    <a:chOff x="2986200" y="1526760"/>
                    <a:chExt cx="1216440" cy="33264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rot="10800000">
                      <a:off x="3019680" y="156456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0800000">
                      <a:off x="3374640" y="175392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0800000">
                      <a:off x="3627720" y="177516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 rot="10800000">
                      <a:off x="3329280" y="177588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 rot="10800000">
                      <a:off x="3169440" y="173988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10800000">
                      <a:off x="2986200" y="1647000"/>
                      <a:ext cx="1872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rot="10800000">
                      <a:off x="3130920" y="160956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 rot="10800000">
                      <a:off x="3261960" y="1526760"/>
                      <a:ext cx="2581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10800000">
                      <a:off x="3468960" y="157176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 rot="10800000">
                      <a:off x="3608280" y="159444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 rot="10800000">
                      <a:off x="3799800" y="159408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10800000">
                      <a:off x="4065480" y="159408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rot="10800000">
                      <a:off x="4149000" y="162720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rot="10800000">
                      <a:off x="4150080" y="170388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rot="10800000">
                      <a:off x="3932280" y="175248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2986200" y="1970280"/>
                    <a:ext cx="1216440" cy="331920"/>
                    <a:chOff x="2986200" y="1970280"/>
                    <a:chExt cx="1216440" cy="33192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 rot="10800000">
                      <a:off x="3019680" y="2008080"/>
                      <a:ext cx="1179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rot="10800000">
                      <a:off x="3374640" y="219672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0800000">
                      <a:off x="3627720" y="221832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0800000">
                      <a:off x="3329280" y="221868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 rot="10800000">
                      <a:off x="3169440" y="2183400"/>
                      <a:ext cx="1558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rot="10800000">
                      <a:off x="2986200" y="209016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rot="10800000">
                      <a:off x="3130920" y="205272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 rot="10800000">
                      <a:off x="3261960" y="197028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 rot="10800000">
                      <a:off x="3468960" y="201528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rot="10800000">
                      <a:off x="3608280" y="203796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 rot="10800000">
                      <a:off x="3799800" y="203724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 rot="10800000">
                      <a:off x="4065480" y="203724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 rot="10800000">
                      <a:off x="4149000" y="2070720"/>
                      <a:ext cx="532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rot="10800000">
                      <a:off x="4150080" y="214668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0800000">
                      <a:off x="3932280" y="219564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2" name=""/>
                  <p:cNvGrpSpPr/>
                  <p:nvPr/>
                </p:nvGrpSpPr>
                <p:grpSpPr>
                  <a:xfrm>
                    <a:off x="2986200" y="2413080"/>
                    <a:ext cx="1216440" cy="332640"/>
                    <a:chOff x="2986200" y="2413080"/>
                    <a:chExt cx="1216440" cy="332640"/>
                  </a:xfrm>
                </p:grpSpPr>
                <p:sp>
                  <p:nvSpPr>
                    <p:cNvPr id="1063" name=""/>
                    <p:cNvSpPr/>
                    <p:nvPr/>
                  </p:nvSpPr>
                  <p:spPr>
                    <a:xfrm rot="10800000">
                      <a:off x="3019680" y="245088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rot="10800000">
                      <a:off x="3374640" y="264024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rot="10800000">
                      <a:off x="3627720" y="266148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 rot="10800000">
                      <a:off x="3329280" y="266220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 rot="10800000">
                      <a:off x="3169440" y="262620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rot="10800000">
                      <a:off x="2986200" y="2533320"/>
                      <a:ext cx="1872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rot="10800000">
                      <a:off x="3130920" y="249588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rot="10800000">
                      <a:off x="3261960" y="2413080"/>
                      <a:ext cx="2581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rot="10800000">
                      <a:off x="3468960" y="245808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rot="10800000">
                      <a:off x="3608280" y="248076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rot="10800000">
                      <a:off x="3799800" y="248040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rot="10800000">
                      <a:off x="4065480" y="248040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rot="10800000">
                      <a:off x="4149000" y="251352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rot="10800000">
                      <a:off x="4150080" y="259020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rot="10800000">
                      <a:off x="3932280" y="263880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2986200" y="2856960"/>
                    <a:ext cx="1216440" cy="331920"/>
                    <a:chOff x="2986200" y="2856960"/>
                    <a:chExt cx="1216440" cy="33192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 rot="10800000">
                      <a:off x="3019680" y="2894760"/>
                      <a:ext cx="1179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rot="10800000">
                      <a:off x="3374640" y="308340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 rot="10800000">
                      <a:off x="3627720" y="310500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 rot="10800000">
                      <a:off x="3329280" y="310536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rot="10800000">
                      <a:off x="3169440" y="3070080"/>
                      <a:ext cx="1558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 rot="10800000">
                      <a:off x="2986200" y="297684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rot="10800000">
                      <a:off x="3130920" y="293940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 rot="10800000">
                      <a:off x="3261960" y="285696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 rot="10800000">
                      <a:off x="3468960" y="290196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 rot="10800000">
                      <a:off x="3608280" y="292464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 rot="10800000">
                      <a:off x="3799800" y="292392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rot="10800000">
                      <a:off x="4065480" y="292392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 rot="10800000">
                      <a:off x="4149000" y="2957400"/>
                      <a:ext cx="532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 rot="10800000">
                      <a:off x="4150080" y="303336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rot="10800000">
                      <a:off x="3932280" y="308232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4" name=""/>
                  <p:cNvGrpSpPr/>
                  <p:nvPr/>
                </p:nvGrpSpPr>
                <p:grpSpPr>
                  <a:xfrm>
                    <a:off x="2986200" y="3299760"/>
                    <a:ext cx="1216440" cy="331920"/>
                    <a:chOff x="2986200" y="3299760"/>
                    <a:chExt cx="1216440" cy="331920"/>
                  </a:xfrm>
                </p:grpSpPr>
                <p:sp>
                  <p:nvSpPr>
                    <p:cNvPr id="1095" name=""/>
                    <p:cNvSpPr/>
                    <p:nvPr/>
                  </p:nvSpPr>
                  <p:spPr>
                    <a:xfrm rot="10800000">
                      <a:off x="3019680" y="333684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rot="10800000">
                      <a:off x="3374640" y="352620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 rot="10800000">
                      <a:off x="3627720" y="354744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rot="10800000">
                      <a:off x="3329280" y="354816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rot="10800000">
                      <a:off x="3169440" y="351216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rot="10800000">
                      <a:off x="2986200" y="341964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rot="10800000">
                      <a:off x="3130920" y="338220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rot="10800000">
                      <a:off x="3261960" y="329976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rot="10800000">
                      <a:off x="3468960" y="334440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rot="10800000">
                      <a:off x="3608280" y="336708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rot="10800000">
                      <a:off x="3799800" y="336672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rot="10800000">
                      <a:off x="4065480" y="336636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 rot="10800000">
                      <a:off x="4149000" y="339984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rot="10800000">
                      <a:off x="4150080" y="347616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rot="10800000">
                      <a:off x="3932280" y="352476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2986200" y="3743640"/>
                    <a:ext cx="1216440" cy="332640"/>
                    <a:chOff x="2986200" y="3743640"/>
                    <a:chExt cx="1216440" cy="33264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 rot="10800000">
                      <a:off x="3019680" y="378144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rot="10800000">
                      <a:off x="3374640" y="397080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rot="10800000">
                      <a:off x="3627720" y="399204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rot="10800000">
                      <a:off x="3329280" y="399276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rot="10800000">
                      <a:off x="3169440" y="395676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rot="10800000">
                      <a:off x="2986200" y="3863880"/>
                      <a:ext cx="1872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rot="10800000">
                      <a:off x="3130920" y="382644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rot="10800000">
                      <a:off x="3261960" y="3743640"/>
                      <a:ext cx="2581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rot="10800000">
                      <a:off x="3468960" y="378864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rot="10800000">
                      <a:off x="3608280" y="381132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rot="10800000">
                      <a:off x="3799800" y="381096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rot="10800000">
                      <a:off x="4065480" y="381096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rot="10800000">
                      <a:off x="4149000" y="384408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rot="10800000">
                      <a:off x="4150080" y="392076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 rot="10800000">
                      <a:off x="3932280" y="396936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2986200" y="4187160"/>
                    <a:ext cx="1216440" cy="331920"/>
                    <a:chOff x="2986200" y="4187160"/>
                    <a:chExt cx="1216440" cy="33192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 rot="10800000">
                      <a:off x="3019680" y="4224960"/>
                      <a:ext cx="1179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 rot="10800000">
                      <a:off x="3374640" y="441360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rot="10800000">
                      <a:off x="3627720" y="443520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rot="10800000">
                      <a:off x="3329280" y="443556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rot="10800000">
                      <a:off x="3169440" y="4400280"/>
                      <a:ext cx="1558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rot="10800000">
                      <a:off x="2986200" y="430704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rot="10800000">
                      <a:off x="3130920" y="426960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rot="10800000">
                      <a:off x="3261960" y="418716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rot="10800000">
                      <a:off x="3468960" y="423216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rot="10800000">
                      <a:off x="3608280" y="425484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rot="10800000">
                      <a:off x="3799800" y="425412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rot="10800000">
                      <a:off x="4065480" y="425412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rot="10800000">
                      <a:off x="4149000" y="4287600"/>
                      <a:ext cx="532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rot="10800000">
                      <a:off x="4150080" y="436356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rot="10800000">
                      <a:off x="3932280" y="441252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2" name=""/>
                  <p:cNvGrpSpPr/>
                  <p:nvPr/>
                </p:nvGrpSpPr>
                <p:grpSpPr>
                  <a:xfrm>
                    <a:off x="2986200" y="4629960"/>
                    <a:ext cx="1216440" cy="332640"/>
                    <a:chOff x="2986200" y="4629960"/>
                    <a:chExt cx="1216440" cy="332640"/>
                  </a:xfrm>
                </p:grpSpPr>
                <p:sp>
                  <p:nvSpPr>
                    <p:cNvPr id="1143" name=""/>
                    <p:cNvSpPr/>
                    <p:nvPr/>
                  </p:nvSpPr>
                  <p:spPr>
                    <a:xfrm rot="10800000">
                      <a:off x="3019680" y="466776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rot="10800000">
                      <a:off x="3374640" y="485712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 rot="10800000">
                      <a:off x="3627720" y="487836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rot="10800000">
                      <a:off x="3329280" y="487908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rot="10800000">
                      <a:off x="3169440" y="484308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 rot="10800000">
                      <a:off x="2986200" y="4750200"/>
                      <a:ext cx="1872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rot="10800000">
                      <a:off x="3130920" y="471276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rot="10800000">
                      <a:off x="3261960" y="4629960"/>
                      <a:ext cx="2581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 rot="10800000">
                      <a:off x="3468960" y="467496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rot="10800000">
                      <a:off x="3608280" y="469764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rot="10800000">
                      <a:off x="3799800" y="469728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rot="10800000">
                      <a:off x="4065480" y="469728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rot="10800000">
                      <a:off x="4149000" y="473040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rot="10800000">
                      <a:off x="4150080" y="480708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rot="10800000">
                      <a:off x="3932280" y="485568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2986200" y="5073840"/>
                    <a:ext cx="1216440" cy="331920"/>
                    <a:chOff x="2986200" y="5073840"/>
                    <a:chExt cx="1216440" cy="33192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rot="10800000">
                      <a:off x="3019680" y="5111640"/>
                      <a:ext cx="1179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rot="10800000">
                      <a:off x="3374640" y="530028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rot="10800000">
                      <a:off x="3627720" y="532188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 rot="10800000">
                      <a:off x="3329280" y="532224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rot="10800000">
                      <a:off x="3169440" y="5286960"/>
                      <a:ext cx="1558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rot="10800000">
                      <a:off x="2986200" y="519372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rot="10800000">
                      <a:off x="3130920" y="515628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 rot="10800000">
                      <a:off x="3261960" y="507384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rot="10800000">
                      <a:off x="3468960" y="511884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rot="10800000">
                      <a:off x="3608280" y="514152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rot="10800000">
                      <a:off x="3799800" y="514080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rot="10800000">
                      <a:off x="4065480" y="514080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rot="10800000">
                      <a:off x="4149000" y="5174280"/>
                      <a:ext cx="532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 rot="10800000">
                      <a:off x="4150080" y="525024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rot="10800000">
                      <a:off x="3932280" y="529920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2986200" y="5516640"/>
                    <a:ext cx="1216440" cy="331920"/>
                    <a:chOff x="2986200" y="5516640"/>
                    <a:chExt cx="1216440" cy="33192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 rot="10800000">
                      <a:off x="3019680" y="555372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rot="10800000">
                      <a:off x="3374640" y="574308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rot="10800000">
                      <a:off x="3627720" y="576432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rot="10800000">
                      <a:off x="3329280" y="576504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rot="10800000">
                      <a:off x="3169440" y="572904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rot="10800000">
                      <a:off x="2986200" y="563652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 rot="10800000">
                      <a:off x="3130920" y="559908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 rot="10800000">
                      <a:off x="3261960" y="551664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 rot="10800000">
                      <a:off x="3468960" y="556128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 rot="10800000">
                      <a:off x="3608280" y="558396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rot="10800000">
                      <a:off x="3799800" y="558360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rot="10800000">
                      <a:off x="4065480" y="558324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 rot="10800000">
                      <a:off x="4149000" y="561672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rot="10800000">
                      <a:off x="4150080" y="569304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rot="10800000">
                      <a:off x="3932280" y="574164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2986200" y="5960520"/>
                    <a:ext cx="1216440" cy="332640"/>
                    <a:chOff x="2986200" y="5960520"/>
                    <a:chExt cx="1216440" cy="332640"/>
                  </a:xfrm>
                </p:grpSpPr>
                <p:sp>
                  <p:nvSpPr>
                    <p:cNvPr id="1191" name=""/>
                    <p:cNvSpPr/>
                    <p:nvPr/>
                  </p:nvSpPr>
                  <p:spPr>
                    <a:xfrm rot="10800000">
                      <a:off x="3019680" y="599832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rot="10800000">
                      <a:off x="3374640" y="618768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rot="10800000">
                      <a:off x="3627720" y="620892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rot="10800000">
                      <a:off x="3329280" y="620964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rot="10800000">
                      <a:off x="3169440" y="617364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rot="10800000">
                      <a:off x="2986200" y="6080760"/>
                      <a:ext cx="1872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rot="10800000">
                      <a:off x="3130920" y="604332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rot="10800000">
                      <a:off x="3261960" y="5960520"/>
                      <a:ext cx="2581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rot="10800000">
                      <a:off x="3468960" y="600552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rot="10800000">
                      <a:off x="3608280" y="602820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rot="10800000">
                      <a:off x="3799800" y="602784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rot="10800000">
                      <a:off x="4065480" y="602784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rot="10800000">
                      <a:off x="4149000" y="606096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 rot="10800000">
                      <a:off x="4150080" y="613764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rot="10800000">
                      <a:off x="3932280" y="618624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2986200" y="6404040"/>
                    <a:ext cx="1216440" cy="331920"/>
                    <a:chOff x="2986200" y="6404040"/>
                    <a:chExt cx="1216440" cy="331920"/>
                  </a:xfrm>
                </p:grpSpPr>
                <p:sp>
                  <p:nvSpPr>
                    <p:cNvPr id="1207" name=""/>
                    <p:cNvSpPr/>
                    <p:nvPr/>
                  </p:nvSpPr>
                  <p:spPr>
                    <a:xfrm rot="10800000">
                      <a:off x="3019680" y="6441840"/>
                      <a:ext cx="1179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rot="10800000">
                      <a:off x="3374640" y="663048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rot="10800000">
                      <a:off x="3627720" y="665208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 rot="10800000">
                      <a:off x="3329280" y="665244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rot="10800000">
                      <a:off x="3169440" y="6617160"/>
                      <a:ext cx="1558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rot="10800000">
                      <a:off x="2986200" y="652392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 rot="10800000">
                      <a:off x="3130920" y="648648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rot="10800000">
                      <a:off x="3261960" y="640404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rot="10800000">
                      <a:off x="3468960" y="644904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 rot="10800000">
                      <a:off x="3608280" y="647172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rot="10800000">
                      <a:off x="3799800" y="647100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rot="10800000">
                      <a:off x="4065480" y="647100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rot="10800000">
                      <a:off x="4149000" y="6504480"/>
                      <a:ext cx="532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rot="10800000">
                      <a:off x="4150080" y="658044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rot="10800000">
                      <a:off x="3932280" y="662940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2986200" y="6847200"/>
                    <a:ext cx="1216440" cy="332640"/>
                    <a:chOff x="2986200" y="6847200"/>
                    <a:chExt cx="1216440" cy="33264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 rot="10800000">
                      <a:off x="3019680" y="6885000"/>
                      <a:ext cx="11793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rot="10800000">
                      <a:off x="3374640" y="707436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 rot="10800000">
                      <a:off x="3627720" y="709560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rot="10800000">
                      <a:off x="3329280" y="709632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rot="10800000">
                      <a:off x="3169440" y="7060320"/>
                      <a:ext cx="1558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 rot="10800000">
                      <a:off x="2986200" y="6967440"/>
                      <a:ext cx="187200" cy="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rot="10800000">
                      <a:off x="3130920" y="693000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rot="10800000">
                      <a:off x="3261960" y="6847200"/>
                      <a:ext cx="258120" cy="8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840" bIns="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rot="10800000">
                      <a:off x="3468960" y="689220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rot="10800000">
                      <a:off x="3608280" y="691488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rot="10800000">
                      <a:off x="3799800" y="691452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 rot="10800000">
                      <a:off x="4065480" y="691452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rot="10800000">
                      <a:off x="4149000" y="6947640"/>
                      <a:ext cx="5328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rot="10800000">
                      <a:off x="4150080" y="702432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rot="10800000">
                      <a:off x="3932280" y="707292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8" name=""/>
                  <p:cNvGrpSpPr/>
                  <p:nvPr/>
                </p:nvGrpSpPr>
                <p:grpSpPr>
                  <a:xfrm>
                    <a:off x="2986200" y="7290720"/>
                    <a:ext cx="1216440" cy="331920"/>
                    <a:chOff x="2986200" y="7290720"/>
                    <a:chExt cx="1216440" cy="331920"/>
                  </a:xfrm>
                </p:grpSpPr>
                <p:sp>
                  <p:nvSpPr>
                    <p:cNvPr id="1239" name=""/>
                    <p:cNvSpPr/>
                    <p:nvPr/>
                  </p:nvSpPr>
                  <p:spPr>
                    <a:xfrm rot="10800000">
                      <a:off x="3019680" y="7328520"/>
                      <a:ext cx="117936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75" h="11276">
                          <a:moveTo>
                            <a:pt x="720" y="1691"/>
                          </a:moveTo>
                          <a:lnTo>
                            <a:pt x="625" y="1639"/>
                          </a:lnTo>
                          <a:lnTo>
                            <a:pt x="547" y="1569"/>
                          </a:lnTo>
                          <a:lnTo>
                            <a:pt x="483" y="1487"/>
                          </a:lnTo>
                          <a:lnTo>
                            <a:pt x="441" y="1390"/>
                          </a:lnTo>
                          <a:lnTo>
                            <a:pt x="420" y="1287"/>
                          </a:lnTo>
                          <a:lnTo>
                            <a:pt x="423" y="1138"/>
                          </a:lnTo>
                          <a:lnTo>
                            <a:pt x="465" y="1021"/>
                          </a:lnTo>
                          <a:lnTo>
                            <a:pt x="519" y="937"/>
                          </a:lnTo>
                          <a:lnTo>
                            <a:pt x="564" y="889"/>
                          </a:lnTo>
                          <a:lnTo>
                            <a:pt x="554" y="895"/>
                          </a:lnTo>
                          <a:lnTo>
                            <a:pt x="543" y="904"/>
                          </a:lnTo>
                          <a:lnTo>
                            <a:pt x="525" y="917"/>
                          </a:lnTo>
                          <a:lnTo>
                            <a:pt x="441" y="972"/>
                          </a:lnTo>
                          <a:lnTo>
                            <a:pt x="377" y="1031"/>
                          </a:lnTo>
                          <a:lnTo>
                            <a:pt x="325" y="1096"/>
                          </a:lnTo>
                          <a:lnTo>
                            <a:pt x="283" y="1166"/>
                          </a:lnTo>
                          <a:lnTo>
                            <a:pt x="254" y="1238"/>
                          </a:lnTo>
                          <a:lnTo>
                            <a:pt x="236" y="1313"/>
                          </a:lnTo>
                          <a:lnTo>
                            <a:pt x="229" y="1384"/>
                          </a:lnTo>
                          <a:lnTo>
                            <a:pt x="236" y="1459"/>
                          </a:lnTo>
                          <a:lnTo>
                            <a:pt x="254" y="1530"/>
                          </a:lnTo>
                          <a:lnTo>
                            <a:pt x="275" y="1594"/>
                          </a:lnTo>
                          <a:lnTo>
                            <a:pt x="307" y="1659"/>
                          </a:lnTo>
                          <a:lnTo>
                            <a:pt x="342" y="1708"/>
                          </a:lnTo>
                          <a:lnTo>
                            <a:pt x="389" y="1757"/>
                          </a:lnTo>
                          <a:lnTo>
                            <a:pt x="441" y="1808"/>
                          </a:lnTo>
                          <a:lnTo>
                            <a:pt x="509" y="1851"/>
                          </a:lnTo>
                          <a:lnTo>
                            <a:pt x="572" y="1890"/>
                          </a:lnTo>
                          <a:lnTo>
                            <a:pt x="649" y="1915"/>
                          </a:lnTo>
                          <a:lnTo>
                            <a:pt x="738" y="1938"/>
                          </a:lnTo>
                          <a:lnTo>
                            <a:pt x="826" y="1941"/>
                          </a:lnTo>
                          <a:lnTo>
                            <a:pt x="922" y="1938"/>
                          </a:lnTo>
                          <a:lnTo>
                            <a:pt x="1020" y="1915"/>
                          </a:lnTo>
                          <a:lnTo>
                            <a:pt x="1130" y="1873"/>
                          </a:lnTo>
                          <a:lnTo>
                            <a:pt x="1183" y="1844"/>
                          </a:lnTo>
                          <a:lnTo>
                            <a:pt x="1236" y="1808"/>
                          </a:lnTo>
                          <a:lnTo>
                            <a:pt x="1282" y="1769"/>
                          </a:lnTo>
                          <a:lnTo>
                            <a:pt x="1282" y="1776"/>
                          </a:lnTo>
                          <a:lnTo>
                            <a:pt x="1278" y="1776"/>
                          </a:lnTo>
                          <a:lnTo>
                            <a:pt x="1290" y="1769"/>
                          </a:lnTo>
                          <a:lnTo>
                            <a:pt x="1306" y="1763"/>
                          </a:lnTo>
                          <a:lnTo>
                            <a:pt x="1324" y="1753"/>
                          </a:lnTo>
                          <a:lnTo>
                            <a:pt x="1395" y="1721"/>
                          </a:lnTo>
                          <a:lnTo>
                            <a:pt x="1480" y="1675"/>
                          </a:lnTo>
                          <a:lnTo>
                            <a:pt x="1571" y="1611"/>
                          </a:lnTo>
                          <a:lnTo>
                            <a:pt x="1674" y="1530"/>
                          </a:lnTo>
                          <a:lnTo>
                            <a:pt x="1579" y="1601"/>
                          </a:lnTo>
                          <a:lnTo>
                            <a:pt x="1480" y="1650"/>
                          </a:lnTo>
                          <a:lnTo>
                            <a:pt x="1366" y="1682"/>
                          </a:lnTo>
                          <a:lnTo>
                            <a:pt x="1246" y="1691"/>
                          </a:lnTo>
                          <a:lnTo>
                            <a:pt x="1378" y="1691"/>
                          </a:lnTo>
                          <a:lnTo>
                            <a:pt x="1498" y="1682"/>
                          </a:lnTo>
                          <a:lnTo>
                            <a:pt x="1607" y="1650"/>
                          </a:lnTo>
                          <a:lnTo>
                            <a:pt x="1709" y="1601"/>
                          </a:lnTo>
                          <a:lnTo>
                            <a:pt x="1805" y="1530"/>
                          </a:lnTo>
                          <a:lnTo>
                            <a:pt x="1787" y="1545"/>
                          </a:lnTo>
                          <a:lnTo>
                            <a:pt x="1773" y="1556"/>
                          </a:lnTo>
                          <a:lnTo>
                            <a:pt x="1770" y="1556"/>
                          </a:lnTo>
                          <a:lnTo>
                            <a:pt x="1780" y="1553"/>
                          </a:lnTo>
                          <a:lnTo>
                            <a:pt x="1797" y="1539"/>
                          </a:lnTo>
                          <a:lnTo>
                            <a:pt x="1823" y="1536"/>
                          </a:lnTo>
                          <a:lnTo>
                            <a:pt x="1875" y="1514"/>
                          </a:lnTo>
                          <a:lnTo>
                            <a:pt x="1947" y="1481"/>
                          </a:lnTo>
                          <a:lnTo>
                            <a:pt x="2017" y="1439"/>
                          </a:lnTo>
                          <a:lnTo>
                            <a:pt x="2095" y="1390"/>
                          </a:lnTo>
                          <a:lnTo>
                            <a:pt x="2173" y="1323"/>
                          </a:lnTo>
                          <a:lnTo>
                            <a:pt x="2243" y="1248"/>
                          </a:lnTo>
                          <a:lnTo>
                            <a:pt x="2300" y="1150"/>
                          </a:lnTo>
                          <a:lnTo>
                            <a:pt x="2254" y="1225"/>
                          </a:lnTo>
                          <a:lnTo>
                            <a:pt x="2201" y="1287"/>
                          </a:lnTo>
                          <a:lnTo>
                            <a:pt x="2130" y="1338"/>
                          </a:lnTo>
                          <a:lnTo>
                            <a:pt x="2059" y="1390"/>
                          </a:lnTo>
                          <a:lnTo>
                            <a:pt x="1981" y="1423"/>
                          </a:lnTo>
                          <a:lnTo>
                            <a:pt x="1893" y="1442"/>
                          </a:lnTo>
                          <a:lnTo>
                            <a:pt x="1805" y="1456"/>
                          </a:lnTo>
                          <a:lnTo>
                            <a:pt x="1716" y="1456"/>
                          </a:lnTo>
                          <a:lnTo>
                            <a:pt x="1625" y="1442"/>
                          </a:lnTo>
                          <a:lnTo>
                            <a:pt x="1537" y="1417"/>
                          </a:lnTo>
                          <a:lnTo>
                            <a:pt x="1455" y="1378"/>
                          </a:lnTo>
                          <a:lnTo>
                            <a:pt x="1384" y="1335"/>
                          </a:lnTo>
                          <a:lnTo>
                            <a:pt x="1317" y="1280"/>
                          </a:lnTo>
                          <a:lnTo>
                            <a:pt x="1264" y="1216"/>
                          </a:lnTo>
                          <a:lnTo>
                            <a:pt x="1218" y="1144"/>
                          </a:lnTo>
                          <a:lnTo>
                            <a:pt x="1187" y="1069"/>
                          </a:lnTo>
                          <a:lnTo>
                            <a:pt x="1169" y="989"/>
                          </a:lnTo>
                          <a:lnTo>
                            <a:pt x="1158" y="904"/>
                          </a:lnTo>
                          <a:lnTo>
                            <a:pt x="1158" y="1025"/>
                          </a:lnTo>
                          <a:lnTo>
                            <a:pt x="1169" y="927"/>
                          </a:lnTo>
                          <a:lnTo>
                            <a:pt x="1194" y="837"/>
                          </a:lnTo>
                          <a:lnTo>
                            <a:pt x="1239" y="749"/>
                          </a:lnTo>
                          <a:lnTo>
                            <a:pt x="1300" y="668"/>
                          </a:lnTo>
                          <a:lnTo>
                            <a:pt x="1246" y="732"/>
                          </a:lnTo>
                          <a:lnTo>
                            <a:pt x="1187" y="791"/>
                          </a:lnTo>
                          <a:lnTo>
                            <a:pt x="1134" y="856"/>
                          </a:lnTo>
                          <a:lnTo>
                            <a:pt x="1077" y="917"/>
                          </a:lnTo>
                          <a:lnTo>
                            <a:pt x="1020" y="983"/>
                          </a:lnTo>
                          <a:lnTo>
                            <a:pt x="964" y="1041"/>
                          </a:lnTo>
                          <a:lnTo>
                            <a:pt x="911" y="1105"/>
                          </a:lnTo>
                          <a:lnTo>
                            <a:pt x="859" y="1174"/>
                          </a:lnTo>
                          <a:lnTo>
                            <a:pt x="802" y="1238"/>
                          </a:lnTo>
                          <a:lnTo>
                            <a:pt x="745" y="1306"/>
                          </a:lnTo>
                          <a:lnTo>
                            <a:pt x="691" y="1374"/>
                          </a:lnTo>
                          <a:lnTo>
                            <a:pt x="639" y="1439"/>
                          </a:lnTo>
                          <a:lnTo>
                            <a:pt x="582" y="1507"/>
                          </a:lnTo>
                          <a:lnTo>
                            <a:pt x="537" y="1578"/>
                          </a:lnTo>
                          <a:lnTo>
                            <a:pt x="483" y="1650"/>
                          </a:lnTo>
                          <a:lnTo>
                            <a:pt x="431" y="1724"/>
                          </a:lnTo>
                          <a:lnTo>
                            <a:pt x="385" y="1796"/>
                          </a:lnTo>
                          <a:lnTo>
                            <a:pt x="335" y="1873"/>
                          </a:lnTo>
                          <a:lnTo>
                            <a:pt x="328" y="1883"/>
                          </a:lnTo>
                          <a:lnTo>
                            <a:pt x="325" y="1893"/>
                          </a:lnTo>
                          <a:lnTo>
                            <a:pt x="317" y="1899"/>
                          </a:lnTo>
                          <a:lnTo>
                            <a:pt x="325" y="1899"/>
                          </a:lnTo>
                          <a:lnTo>
                            <a:pt x="311" y="1915"/>
                          </a:lnTo>
                          <a:lnTo>
                            <a:pt x="293" y="1938"/>
                          </a:lnTo>
                          <a:lnTo>
                            <a:pt x="275" y="1957"/>
                          </a:lnTo>
                          <a:lnTo>
                            <a:pt x="236" y="2026"/>
                          </a:lnTo>
                          <a:lnTo>
                            <a:pt x="187" y="2094"/>
                          </a:lnTo>
                          <a:lnTo>
                            <a:pt x="141" y="2181"/>
                          </a:lnTo>
                          <a:lnTo>
                            <a:pt x="99" y="2278"/>
                          </a:lnTo>
                          <a:lnTo>
                            <a:pt x="73" y="2388"/>
                          </a:lnTo>
                          <a:lnTo>
                            <a:pt x="63" y="2501"/>
                          </a:lnTo>
                          <a:lnTo>
                            <a:pt x="73" y="2599"/>
                          </a:lnTo>
                          <a:lnTo>
                            <a:pt x="99" y="2686"/>
                          </a:lnTo>
                          <a:lnTo>
                            <a:pt x="141" y="2767"/>
                          </a:lnTo>
                          <a:lnTo>
                            <a:pt x="194" y="2849"/>
                          </a:lnTo>
                          <a:lnTo>
                            <a:pt x="265" y="2913"/>
                          </a:lnTo>
                          <a:lnTo>
                            <a:pt x="342" y="2968"/>
                          </a:lnTo>
                          <a:lnTo>
                            <a:pt x="438" y="3013"/>
                          </a:lnTo>
                          <a:lnTo>
                            <a:pt x="530" y="3040"/>
                          </a:lnTo>
                          <a:lnTo>
                            <a:pt x="632" y="3056"/>
                          </a:lnTo>
                          <a:lnTo>
                            <a:pt x="730" y="3049"/>
                          </a:lnTo>
                          <a:lnTo>
                            <a:pt x="833" y="3033"/>
                          </a:lnTo>
                          <a:lnTo>
                            <a:pt x="929" y="3001"/>
                          </a:lnTo>
                          <a:lnTo>
                            <a:pt x="1017" y="2952"/>
                          </a:lnTo>
                          <a:lnTo>
                            <a:pt x="1095" y="2894"/>
                          </a:lnTo>
                          <a:lnTo>
                            <a:pt x="1158" y="2839"/>
                          </a:lnTo>
                          <a:lnTo>
                            <a:pt x="1229" y="2777"/>
                          </a:lnTo>
                          <a:lnTo>
                            <a:pt x="1306" y="2725"/>
                          </a:lnTo>
                          <a:lnTo>
                            <a:pt x="1388" y="2670"/>
                          </a:lnTo>
                          <a:lnTo>
                            <a:pt x="1473" y="2615"/>
                          </a:lnTo>
                          <a:lnTo>
                            <a:pt x="1553" y="2560"/>
                          </a:lnTo>
                          <a:lnTo>
                            <a:pt x="1643" y="2512"/>
                          </a:lnTo>
                          <a:lnTo>
                            <a:pt x="1734" y="2460"/>
                          </a:lnTo>
                          <a:lnTo>
                            <a:pt x="1826" y="2404"/>
                          </a:lnTo>
                          <a:lnTo>
                            <a:pt x="1904" y="2360"/>
                          </a:lnTo>
                          <a:lnTo>
                            <a:pt x="1981" y="2317"/>
                          </a:lnTo>
                          <a:lnTo>
                            <a:pt x="2059" y="2269"/>
                          </a:lnTo>
                          <a:lnTo>
                            <a:pt x="2137" y="2227"/>
                          </a:lnTo>
                          <a:lnTo>
                            <a:pt x="2218" y="2178"/>
                          </a:lnTo>
                          <a:lnTo>
                            <a:pt x="2296" y="2126"/>
                          </a:lnTo>
                          <a:lnTo>
                            <a:pt x="2373" y="2078"/>
                          </a:lnTo>
                          <a:lnTo>
                            <a:pt x="2448" y="2026"/>
                          </a:lnTo>
                          <a:lnTo>
                            <a:pt x="2526" y="1970"/>
                          </a:lnTo>
                          <a:lnTo>
                            <a:pt x="2604" y="1909"/>
                          </a:lnTo>
                          <a:lnTo>
                            <a:pt x="2674" y="1851"/>
                          </a:lnTo>
                          <a:lnTo>
                            <a:pt x="2685" y="1844"/>
                          </a:lnTo>
                          <a:lnTo>
                            <a:pt x="2698" y="1835"/>
                          </a:lnTo>
                          <a:lnTo>
                            <a:pt x="2702" y="1827"/>
                          </a:lnTo>
                          <a:lnTo>
                            <a:pt x="2770" y="1779"/>
                          </a:lnTo>
                          <a:lnTo>
                            <a:pt x="2840" y="1737"/>
                          </a:lnTo>
                          <a:lnTo>
                            <a:pt x="2921" y="1691"/>
                          </a:lnTo>
                          <a:lnTo>
                            <a:pt x="3017" y="1656"/>
                          </a:lnTo>
                          <a:lnTo>
                            <a:pt x="3123" y="1624"/>
                          </a:lnTo>
                          <a:lnTo>
                            <a:pt x="3243" y="1591"/>
                          </a:lnTo>
                          <a:lnTo>
                            <a:pt x="3367" y="1562"/>
                          </a:lnTo>
                          <a:lnTo>
                            <a:pt x="3278" y="1575"/>
                          </a:lnTo>
                          <a:lnTo>
                            <a:pt x="3190" y="1575"/>
                          </a:lnTo>
                          <a:lnTo>
                            <a:pt x="3105" y="1556"/>
                          </a:lnTo>
                          <a:lnTo>
                            <a:pt x="3024" y="1536"/>
                          </a:lnTo>
                          <a:lnTo>
                            <a:pt x="2939" y="1497"/>
                          </a:lnTo>
                          <a:lnTo>
                            <a:pt x="2868" y="1456"/>
                          </a:lnTo>
                          <a:lnTo>
                            <a:pt x="2812" y="1400"/>
                          </a:lnTo>
                          <a:lnTo>
                            <a:pt x="2752" y="1335"/>
                          </a:lnTo>
                          <a:lnTo>
                            <a:pt x="2710" y="1265"/>
                          </a:lnTo>
                          <a:lnTo>
                            <a:pt x="2674" y="1190"/>
                          </a:lnTo>
                          <a:lnTo>
                            <a:pt x="2649" y="1105"/>
                          </a:lnTo>
                          <a:lnTo>
                            <a:pt x="2646" y="1031"/>
                          </a:lnTo>
                          <a:lnTo>
                            <a:pt x="2649" y="950"/>
                          </a:lnTo>
                          <a:lnTo>
                            <a:pt x="2667" y="872"/>
                          </a:lnTo>
                          <a:lnTo>
                            <a:pt x="2698" y="798"/>
                          </a:lnTo>
                          <a:lnTo>
                            <a:pt x="2737" y="726"/>
                          </a:lnTo>
                          <a:lnTo>
                            <a:pt x="2794" y="662"/>
                          </a:lnTo>
                          <a:lnTo>
                            <a:pt x="2858" y="603"/>
                          </a:lnTo>
                          <a:lnTo>
                            <a:pt x="2776" y="668"/>
                          </a:lnTo>
                          <a:lnTo>
                            <a:pt x="2702" y="726"/>
                          </a:lnTo>
                          <a:lnTo>
                            <a:pt x="2628" y="788"/>
                          </a:lnTo>
                          <a:lnTo>
                            <a:pt x="2557" y="846"/>
                          </a:lnTo>
                          <a:lnTo>
                            <a:pt x="2483" y="904"/>
                          </a:lnTo>
                          <a:lnTo>
                            <a:pt x="2420" y="966"/>
                          </a:lnTo>
                          <a:lnTo>
                            <a:pt x="2356" y="1025"/>
                          </a:lnTo>
                          <a:lnTo>
                            <a:pt x="2289" y="1080"/>
                          </a:lnTo>
                          <a:lnTo>
                            <a:pt x="2225" y="1138"/>
                          </a:lnTo>
                          <a:lnTo>
                            <a:pt x="2165" y="1193"/>
                          </a:lnTo>
                          <a:lnTo>
                            <a:pt x="2105" y="1254"/>
                          </a:lnTo>
                          <a:lnTo>
                            <a:pt x="2045" y="1306"/>
                          </a:lnTo>
                          <a:lnTo>
                            <a:pt x="1989" y="1362"/>
                          </a:lnTo>
                          <a:lnTo>
                            <a:pt x="1935" y="1423"/>
                          </a:lnTo>
                          <a:lnTo>
                            <a:pt x="1875" y="1475"/>
                          </a:lnTo>
                          <a:lnTo>
                            <a:pt x="1823" y="1530"/>
                          </a:lnTo>
                          <a:lnTo>
                            <a:pt x="1770" y="1591"/>
                          </a:lnTo>
                          <a:lnTo>
                            <a:pt x="1709" y="1643"/>
                          </a:lnTo>
                          <a:lnTo>
                            <a:pt x="1656" y="1705"/>
                          </a:lnTo>
                          <a:lnTo>
                            <a:pt x="1604" y="1757"/>
                          </a:lnTo>
                          <a:lnTo>
                            <a:pt x="1550" y="1812"/>
                          </a:lnTo>
                          <a:lnTo>
                            <a:pt x="1490" y="1873"/>
                          </a:lnTo>
                          <a:lnTo>
                            <a:pt x="1438" y="1932"/>
                          </a:lnTo>
                          <a:lnTo>
                            <a:pt x="1384" y="1993"/>
                          </a:lnTo>
                          <a:lnTo>
                            <a:pt x="1324" y="2051"/>
                          </a:lnTo>
                          <a:lnTo>
                            <a:pt x="1264" y="2116"/>
                          </a:lnTo>
                          <a:lnTo>
                            <a:pt x="1204" y="2178"/>
                          </a:lnTo>
                          <a:lnTo>
                            <a:pt x="1140" y="2242"/>
                          </a:lnTo>
                          <a:lnTo>
                            <a:pt x="1080" y="2307"/>
                          </a:lnTo>
                          <a:lnTo>
                            <a:pt x="1017" y="2372"/>
                          </a:lnTo>
                          <a:lnTo>
                            <a:pt x="950" y="2443"/>
                          </a:lnTo>
                          <a:lnTo>
                            <a:pt x="886" y="2509"/>
                          </a:lnTo>
                          <a:lnTo>
                            <a:pt x="823" y="2579"/>
                          </a:lnTo>
                          <a:lnTo>
                            <a:pt x="748" y="2648"/>
                          </a:lnTo>
                          <a:lnTo>
                            <a:pt x="678" y="2719"/>
                          </a:lnTo>
                          <a:lnTo>
                            <a:pt x="607" y="2800"/>
                          </a:lnTo>
                          <a:lnTo>
                            <a:pt x="554" y="2894"/>
                          </a:lnTo>
                          <a:lnTo>
                            <a:pt x="525" y="2991"/>
                          </a:lnTo>
                          <a:lnTo>
                            <a:pt x="512" y="3095"/>
                          </a:lnTo>
                          <a:lnTo>
                            <a:pt x="537" y="2958"/>
                          </a:lnTo>
                          <a:lnTo>
                            <a:pt x="579" y="2861"/>
                          </a:lnTo>
                          <a:lnTo>
                            <a:pt x="607" y="2816"/>
                          </a:lnTo>
                          <a:lnTo>
                            <a:pt x="603" y="2822"/>
                          </a:lnTo>
                          <a:lnTo>
                            <a:pt x="537" y="2910"/>
                          </a:lnTo>
                          <a:lnTo>
                            <a:pt x="491" y="2998"/>
                          </a:lnTo>
                          <a:lnTo>
                            <a:pt x="455" y="3082"/>
                          </a:lnTo>
                          <a:lnTo>
                            <a:pt x="438" y="3170"/>
                          </a:lnTo>
                          <a:lnTo>
                            <a:pt x="431" y="3247"/>
                          </a:lnTo>
                          <a:lnTo>
                            <a:pt x="441" y="3322"/>
                          </a:lnTo>
                          <a:lnTo>
                            <a:pt x="459" y="3393"/>
                          </a:lnTo>
                          <a:lnTo>
                            <a:pt x="483" y="3464"/>
                          </a:lnTo>
                          <a:lnTo>
                            <a:pt x="512" y="3522"/>
                          </a:lnTo>
                          <a:lnTo>
                            <a:pt x="547" y="3577"/>
                          </a:lnTo>
                          <a:lnTo>
                            <a:pt x="582" y="3626"/>
                          </a:lnTo>
                          <a:lnTo>
                            <a:pt x="625" y="3665"/>
                          </a:lnTo>
                          <a:lnTo>
                            <a:pt x="696" y="3717"/>
                          </a:lnTo>
                          <a:lnTo>
                            <a:pt x="781" y="3762"/>
                          </a:lnTo>
                          <a:lnTo>
                            <a:pt x="862" y="3795"/>
                          </a:lnTo>
                          <a:lnTo>
                            <a:pt x="950" y="3817"/>
                          </a:lnTo>
                          <a:lnTo>
                            <a:pt x="1042" y="3827"/>
                          </a:lnTo>
                          <a:lnTo>
                            <a:pt x="1130" y="3820"/>
                          </a:lnTo>
                          <a:lnTo>
                            <a:pt x="1218" y="3804"/>
                          </a:lnTo>
                          <a:lnTo>
                            <a:pt x="1306" y="3772"/>
                          </a:lnTo>
                          <a:lnTo>
                            <a:pt x="1388" y="3733"/>
                          </a:lnTo>
                          <a:lnTo>
                            <a:pt x="1405" y="3717"/>
                          </a:lnTo>
                          <a:lnTo>
                            <a:pt x="1413" y="3717"/>
                          </a:lnTo>
                          <a:lnTo>
                            <a:pt x="1420" y="3714"/>
                          </a:lnTo>
                          <a:lnTo>
                            <a:pt x="1353" y="3746"/>
                          </a:lnTo>
                          <a:lnTo>
                            <a:pt x="1278" y="3765"/>
                          </a:lnTo>
                          <a:lnTo>
                            <a:pt x="1194" y="3781"/>
                          </a:lnTo>
                          <a:lnTo>
                            <a:pt x="1112" y="3781"/>
                          </a:lnTo>
                          <a:lnTo>
                            <a:pt x="1020" y="3778"/>
                          </a:lnTo>
                          <a:lnTo>
                            <a:pt x="940" y="3756"/>
                          </a:lnTo>
                          <a:lnTo>
                            <a:pt x="851" y="3723"/>
                          </a:lnTo>
                          <a:lnTo>
                            <a:pt x="766" y="3674"/>
                          </a:lnTo>
                          <a:lnTo>
                            <a:pt x="691" y="3610"/>
                          </a:lnTo>
                          <a:lnTo>
                            <a:pt x="625" y="3538"/>
                          </a:lnTo>
                          <a:lnTo>
                            <a:pt x="582" y="3464"/>
                          </a:lnTo>
                          <a:lnTo>
                            <a:pt x="547" y="3380"/>
                          </a:lnTo>
                          <a:lnTo>
                            <a:pt x="530" y="3299"/>
                          </a:lnTo>
                          <a:lnTo>
                            <a:pt x="525" y="3218"/>
                          </a:lnTo>
                          <a:lnTo>
                            <a:pt x="537" y="3143"/>
                          </a:lnTo>
                          <a:lnTo>
                            <a:pt x="554" y="3065"/>
                          </a:lnTo>
                          <a:lnTo>
                            <a:pt x="582" y="2998"/>
                          </a:lnTo>
                          <a:lnTo>
                            <a:pt x="625" y="2929"/>
                          </a:lnTo>
                          <a:lnTo>
                            <a:pt x="564" y="3017"/>
                          </a:lnTo>
                          <a:lnTo>
                            <a:pt x="530" y="3104"/>
                          </a:lnTo>
                          <a:lnTo>
                            <a:pt x="509" y="3192"/>
                          </a:lnTo>
                          <a:lnTo>
                            <a:pt x="501" y="3273"/>
                          </a:lnTo>
                          <a:lnTo>
                            <a:pt x="509" y="3347"/>
                          </a:lnTo>
                          <a:lnTo>
                            <a:pt x="525" y="3425"/>
                          </a:lnTo>
                          <a:lnTo>
                            <a:pt x="547" y="3496"/>
                          </a:lnTo>
                          <a:lnTo>
                            <a:pt x="582" y="3555"/>
                          </a:lnTo>
                          <a:lnTo>
                            <a:pt x="625" y="3610"/>
                          </a:lnTo>
                          <a:lnTo>
                            <a:pt x="649" y="3642"/>
                          </a:lnTo>
                          <a:lnTo>
                            <a:pt x="685" y="3674"/>
                          </a:lnTo>
                          <a:lnTo>
                            <a:pt x="730" y="3714"/>
                          </a:lnTo>
                          <a:lnTo>
                            <a:pt x="791" y="3749"/>
                          </a:lnTo>
                          <a:lnTo>
                            <a:pt x="859" y="3781"/>
                          </a:lnTo>
                          <a:lnTo>
                            <a:pt x="940" y="3811"/>
                          </a:lnTo>
                          <a:lnTo>
                            <a:pt x="1028" y="3833"/>
                          </a:lnTo>
                          <a:lnTo>
                            <a:pt x="1134" y="3837"/>
                          </a:lnTo>
                          <a:lnTo>
                            <a:pt x="1246" y="3827"/>
                          </a:lnTo>
                          <a:lnTo>
                            <a:pt x="1371" y="3795"/>
                          </a:lnTo>
                          <a:lnTo>
                            <a:pt x="1402" y="3789"/>
                          </a:lnTo>
                          <a:lnTo>
                            <a:pt x="1423" y="3778"/>
                          </a:lnTo>
                          <a:lnTo>
                            <a:pt x="1448" y="3765"/>
                          </a:lnTo>
                          <a:lnTo>
                            <a:pt x="1543" y="3723"/>
                          </a:lnTo>
                          <a:lnTo>
                            <a:pt x="1631" y="3681"/>
                          </a:lnTo>
                          <a:lnTo>
                            <a:pt x="1721" y="3632"/>
                          </a:lnTo>
                          <a:lnTo>
                            <a:pt x="1805" y="3580"/>
                          </a:lnTo>
                          <a:lnTo>
                            <a:pt x="1886" y="3532"/>
                          </a:lnTo>
                          <a:lnTo>
                            <a:pt x="2006" y="3467"/>
                          </a:lnTo>
                          <a:lnTo>
                            <a:pt x="2116" y="3402"/>
                          </a:lnTo>
                          <a:lnTo>
                            <a:pt x="2225" y="3353"/>
                          </a:lnTo>
                          <a:lnTo>
                            <a:pt x="2218" y="3353"/>
                          </a:lnTo>
                          <a:lnTo>
                            <a:pt x="2218" y="3361"/>
                          </a:lnTo>
                          <a:lnTo>
                            <a:pt x="2211" y="3361"/>
                          </a:lnTo>
                          <a:lnTo>
                            <a:pt x="2300" y="3322"/>
                          </a:lnTo>
                          <a:lnTo>
                            <a:pt x="2391" y="3283"/>
                          </a:lnTo>
                          <a:lnTo>
                            <a:pt x="2480" y="3250"/>
                          </a:lnTo>
                          <a:lnTo>
                            <a:pt x="2568" y="3214"/>
                          </a:lnTo>
                          <a:lnTo>
                            <a:pt x="2656" y="3176"/>
                          </a:lnTo>
                          <a:lnTo>
                            <a:pt x="2744" y="3143"/>
                          </a:lnTo>
                          <a:lnTo>
                            <a:pt x="2833" y="3104"/>
                          </a:lnTo>
                          <a:lnTo>
                            <a:pt x="2911" y="3071"/>
                          </a:lnTo>
                          <a:lnTo>
                            <a:pt x="2988" y="3046"/>
                          </a:lnTo>
                          <a:lnTo>
                            <a:pt x="3069" y="3013"/>
                          </a:lnTo>
                          <a:lnTo>
                            <a:pt x="3147" y="2979"/>
                          </a:lnTo>
                          <a:lnTo>
                            <a:pt x="3225" y="2946"/>
                          </a:lnTo>
                          <a:lnTo>
                            <a:pt x="3303" y="2919"/>
                          </a:lnTo>
                          <a:lnTo>
                            <a:pt x="3377" y="2888"/>
                          </a:lnTo>
                          <a:lnTo>
                            <a:pt x="3461" y="2855"/>
                          </a:lnTo>
                          <a:lnTo>
                            <a:pt x="3539" y="2816"/>
                          </a:lnTo>
                          <a:lnTo>
                            <a:pt x="3614" y="2783"/>
                          </a:lnTo>
                          <a:lnTo>
                            <a:pt x="3692" y="2751"/>
                          </a:lnTo>
                          <a:lnTo>
                            <a:pt x="3777" y="2712"/>
                          </a:lnTo>
                          <a:lnTo>
                            <a:pt x="3850" y="2677"/>
                          </a:lnTo>
                          <a:lnTo>
                            <a:pt x="3928" y="2645"/>
                          </a:lnTo>
                          <a:lnTo>
                            <a:pt x="3999" y="2606"/>
                          </a:lnTo>
                          <a:lnTo>
                            <a:pt x="4076" y="2567"/>
                          </a:lnTo>
                          <a:lnTo>
                            <a:pt x="4154" y="2524"/>
                          </a:lnTo>
                          <a:lnTo>
                            <a:pt x="4232" y="2485"/>
                          </a:lnTo>
                          <a:lnTo>
                            <a:pt x="4302" y="2443"/>
                          </a:lnTo>
                          <a:lnTo>
                            <a:pt x="4380" y="2398"/>
                          </a:lnTo>
                          <a:lnTo>
                            <a:pt x="4455" y="2355"/>
                          </a:lnTo>
                          <a:lnTo>
                            <a:pt x="4528" y="2307"/>
                          </a:lnTo>
                          <a:lnTo>
                            <a:pt x="4600" y="2258"/>
                          </a:lnTo>
                          <a:lnTo>
                            <a:pt x="4673" y="2213"/>
                          </a:lnTo>
                          <a:lnTo>
                            <a:pt x="4748" y="2158"/>
                          </a:lnTo>
                          <a:lnTo>
                            <a:pt x="4818" y="2109"/>
                          </a:lnTo>
                          <a:lnTo>
                            <a:pt x="4889" y="2058"/>
                          </a:lnTo>
                          <a:lnTo>
                            <a:pt x="4953" y="2003"/>
                          </a:lnTo>
                          <a:lnTo>
                            <a:pt x="5023" y="1948"/>
                          </a:lnTo>
                          <a:lnTo>
                            <a:pt x="5091" y="1890"/>
                          </a:lnTo>
                          <a:lnTo>
                            <a:pt x="5161" y="1827"/>
                          </a:lnTo>
                          <a:lnTo>
                            <a:pt x="5066" y="1899"/>
                          </a:lnTo>
                          <a:lnTo>
                            <a:pt x="4967" y="1948"/>
                          </a:lnTo>
                          <a:lnTo>
                            <a:pt x="4854" y="1981"/>
                          </a:lnTo>
                          <a:lnTo>
                            <a:pt x="4733" y="1993"/>
                          </a:lnTo>
                          <a:lnTo>
                            <a:pt x="4865" y="1993"/>
                          </a:lnTo>
                          <a:lnTo>
                            <a:pt x="4985" y="1981"/>
                          </a:lnTo>
                          <a:lnTo>
                            <a:pt x="5091" y="1948"/>
                          </a:lnTo>
                          <a:lnTo>
                            <a:pt x="5197" y="1899"/>
                          </a:lnTo>
                          <a:lnTo>
                            <a:pt x="5292" y="1827"/>
                          </a:lnTo>
                          <a:lnTo>
                            <a:pt x="5330" y="1802"/>
                          </a:lnTo>
                          <a:lnTo>
                            <a:pt x="5398" y="1776"/>
                          </a:lnTo>
                          <a:lnTo>
                            <a:pt x="5462" y="1747"/>
                          </a:lnTo>
                          <a:lnTo>
                            <a:pt x="5497" y="1730"/>
                          </a:lnTo>
                          <a:lnTo>
                            <a:pt x="5546" y="1714"/>
                          </a:lnTo>
                          <a:lnTo>
                            <a:pt x="5585" y="1691"/>
                          </a:lnTo>
                          <a:lnTo>
                            <a:pt x="5497" y="1724"/>
                          </a:lnTo>
                          <a:lnTo>
                            <a:pt x="5408" y="1747"/>
                          </a:lnTo>
                          <a:lnTo>
                            <a:pt x="5314" y="1753"/>
                          </a:lnTo>
                          <a:lnTo>
                            <a:pt x="5224" y="1747"/>
                          </a:lnTo>
                          <a:lnTo>
                            <a:pt x="5143" y="1730"/>
                          </a:lnTo>
                          <a:lnTo>
                            <a:pt x="5055" y="1699"/>
                          </a:lnTo>
                          <a:lnTo>
                            <a:pt x="4977" y="1659"/>
                          </a:lnTo>
                          <a:lnTo>
                            <a:pt x="4907" y="1611"/>
                          </a:lnTo>
                          <a:lnTo>
                            <a:pt x="4847" y="1545"/>
                          </a:lnTo>
                          <a:lnTo>
                            <a:pt x="4793" y="1475"/>
                          </a:lnTo>
                          <a:lnTo>
                            <a:pt x="4751" y="1393"/>
                          </a:lnTo>
                          <a:lnTo>
                            <a:pt x="4723" y="1319"/>
                          </a:lnTo>
                          <a:lnTo>
                            <a:pt x="4709" y="1232"/>
                          </a:lnTo>
                          <a:lnTo>
                            <a:pt x="4715" y="1150"/>
                          </a:lnTo>
                          <a:lnTo>
                            <a:pt x="4730" y="1069"/>
                          </a:lnTo>
                          <a:lnTo>
                            <a:pt x="4759" y="992"/>
                          </a:lnTo>
                          <a:lnTo>
                            <a:pt x="4793" y="920"/>
                          </a:lnTo>
                          <a:lnTo>
                            <a:pt x="4847" y="853"/>
                          </a:lnTo>
                          <a:lnTo>
                            <a:pt x="4910" y="791"/>
                          </a:lnTo>
                          <a:lnTo>
                            <a:pt x="4985" y="735"/>
                          </a:lnTo>
                          <a:lnTo>
                            <a:pt x="4910" y="781"/>
                          </a:lnTo>
                          <a:lnTo>
                            <a:pt x="4836" y="829"/>
                          </a:lnTo>
                          <a:lnTo>
                            <a:pt x="4766" y="872"/>
                          </a:lnTo>
                          <a:lnTo>
                            <a:pt x="4691" y="917"/>
                          </a:lnTo>
                          <a:lnTo>
                            <a:pt x="4621" y="966"/>
                          </a:lnTo>
                          <a:lnTo>
                            <a:pt x="4549" y="1014"/>
                          </a:lnTo>
                          <a:lnTo>
                            <a:pt x="4479" y="1057"/>
                          </a:lnTo>
                          <a:lnTo>
                            <a:pt x="4409" y="1105"/>
                          </a:lnTo>
                          <a:lnTo>
                            <a:pt x="4338" y="1154"/>
                          </a:lnTo>
                          <a:lnTo>
                            <a:pt x="4268" y="1205"/>
                          </a:lnTo>
                          <a:lnTo>
                            <a:pt x="4196" y="1254"/>
                          </a:lnTo>
                          <a:lnTo>
                            <a:pt x="4130" y="1303"/>
                          </a:lnTo>
                          <a:lnTo>
                            <a:pt x="4058" y="1351"/>
                          </a:lnTo>
                          <a:lnTo>
                            <a:pt x="3988" y="1400"/>
                          </a:lnTo>
                          <a:lnTo>
                            <a:pt x="3925" y="1448"/>
                          </a:lnTo>
                          <a:lnTo>
                            <a:pt x="3858" y="1497"/>
                          </a:lnTo>
                          <a:lnTo>
                            <a:pt x="3794" y="1545"/>
                          </a:lnTo>
                          <a:lnTo>
                            <a:pt x="3723" y="1594"/>
                          </a:lnTo>
                          <a:lnTo>
                            <a:pt x="3656" y="1650"/>
                          </a:lnTo>
                          <a:lnTo>
                            <a:pt x="3593" y="1699"/>
                          </a:lnTo>
                          <a:lnTo>
                            <a:pt x="3521" y="1753"/>
                          </a:lnTo>
                          <a:lnTo>
                            <a:pt x="3461" y="1802"/>
                          </a:lnTo>
                          <a:lnTo>
                            <a:pt x="3391" y="1851"/>
                          </a:lnTo>
                          <a:lnTo>
                            <a:pt x="3324" y="1906"/>
                          </a:lnTo>
                          <a:lnTo>
                            <a:pt x="3261" y="1954"/>
                          </a:lnTo>
                          <a:lnTo>
                            <a:pt x="3201" y="2009"/>
                          </a:lnTo>
                          <a:lnTo>
                            <a:pt x="3137" y="2058"/>
                          </a:lnTo>
                          <a:lnTo>
                            <a:pt x="3069" y="2109"/>
                          </a:lnTo>
                          <a:lnTo>
                            <a:pt x="3006" y="2158"/>
                          </a:lnTo>
                          <a:lnTo>
                            <a:pt x="2939" y="2213"/>
                          </a:lnTo>
                          <a:lnTo>
                            <a:pt x="2882" y="2261"/>
                          </a:lnTo>
                          <a:lnTo>
                            <a:pt x="2815" y="2317"/>
                          </a:lnTo>
                          <a:lnTo>
                            <a:pt x="2752" y="2366"/>
                          </a:lnTo>
                          <a:lnTo>
                            <a:pt x="2692" y="2421"/>
                          </a:lnTo>
                          <a:lnTo>
                            <a:pt x="2628" y="2469"/>
                          </a:lnTo>
                          <a:lnTo>
                            <a:pt x="2561" y="2524"/>
                          </a:lnTo>
                          <a:lnTo>
                            <a:pt x="2501" y="2573"/>
                          </a:lnTo>
                          <a:lnTo>
                            <a:pt x="2437" y="2628"/>
                          </a:lnTo>
                          <a:lnTo>
                            <a:pt x="2373" y="2680"/>
                          </a:lnTo>
                          <a:lnTo>
                            <a:pt x="2306" y="2735"/>
                          </a:lnTo>
                          <a:lnTo>
                            <a:pt x="2236" y="2791"/>
                          </a:lnTo>
                          <a:lnTo>
                            <a:pt x="2176" y="2839"/>
                          </a:lnTo>
                          <a:lnTo>
                            <a:pt x="2105" y="2894"/>
                          </a:lnTo>
                          <a:lnTo>
                            <a:pt x="2041" y="2946"/>
                          </a:lnTo>
                          <a:lnTo>
                            <a:pt x="1974" y="3001"/>
                          </a:lnTo>
                          <a:lnTo>
                            <a:pt x="1911" y="3056"/>
                          </a:lnTo>
                          <a:lnTo>
                            <a:pt x="1840" y="3111"/>
                          </a:lnTo>
                          <a:lnTo>
                            <a:pt x="1773" y="3162"/>
                          </a:lnTo>
                          <a:lnTo>
                            <a:pt x="1709" y="3218"/>
                          </a:lnTo>
                          <a:lnTo>
                            <a:pt x="1639" y="3267"/>
                          </a:lnTo>
                          <a:lnTo>
                            <a:pt x="1571" y="3322"/>
                          </a:lnTo>
                          <a:lnTo>
                            <a:pt x="1501" y="3377"/>
                          </a:lnTo>
                          <a:lnTo>
                            <a:pt x="1438" y="3432"/>
                          </a:lnTo>
                          <a:lnTo>
                            <a:pt x="1366" y="3483"/>
                          </a:lnTo>
                          <a:lnTo>
                            <a:pt x="1296" y="3532"/>
                          </a:lnTo>
                          <a:lnTo>
                            <a:pt x="1229" y="3587"/>
                          </a:lnTo>
                          <a:lnTo>
                            <a:pt x="1158" y="3635"/>
                          </a:lnTo>
                          <a:lnTo>
                            <a:pt x="1088" y="3690"/>
                          </a:lnTo>
                          <a:lnTo>
                            <a:pt x="1017" y="3739"/>
                          </a:lnTo>
                          <a:lnTo>
                            <a:pt x="950" y="3789"/>
                          </a:lnTo>
                          <a:lnTo>
                            <a:pt x="880" y="3843"/>
                          </a:lnTo>
                          <a:lnTo>
                            <a:pt x="859" y="3859"/>
                          </a:lnTo>
                          <a:lnTo>
                            <a:pt x="841" y="3869"/>
                          </a:lnTo>
                          <a:lnTo>
                            <a:pt x="823" y="3886"/>
                          </a:lnTo>
                          <a:lnTo>
                            <a:pt x="727" y="3980"/>
                          </a:lnTo>
                          <a:lnTo>
                            <a:pt x="657" y="4060"/>
                          </a:lnTo>
                          <a:lnTo>
                            <a:pt x="589" y="4141"/>
                          </a:lnTo>
                          <a:lnTo>
                            <a:pt x="543" y="4219"/>
                          </a:lnTo>
                          <a:lnTo>
                            <a:pt x="501" y="4287"/>
                          </a:lnTo>
                          <a:lnTo>
                            <a:pt x="473" y="4365"/>
                          </a:lnTo>
                          <a:lnTo>
                            <a:pt x="449" y="4439"/>
                          </a:lnTo>
                          <a:lnTo>
                            <a:pt x="441" y="4452"/>
                          </a:lnTo>
                          <a:lnTo>
                            <a:pt x="438" y="4456"/>
                          </a:lnTo>
                          <a:lnTo>
                            <a:pt x="438" y="4469"/>
                          </a:lnTo>
                          <a:lnTo>
                            <a:pt x="438" y="4462"/>
                          </a:lnTo>
                          <a:lnTo>
                            <a:pt x="431" y="4472"/>
                          </a:lnTo>
                          <a:lnTo>
                            <a:pt x="420" y="4488"/>
                          </a:lnTo>
                          <a:lnTo>
                            <a:pt x="389" y="4527"/>
                          </a:lnTo>
                          <a:lnTo>
                            <a:pt x="335" y="4591"/>
                          </a:lnTo>
                          <a:lnTo>
                            <a:pt x="299" y="4669"/>
                          </a:lnTo>
                          <a:lnTo>
                            <a:pt x="272" y="4744"/>
                          </a:lnTo>
                          <a:lnTo>
                            <a:pt x="257" y="4821"/>
                          </a:lnTo>
                          <a:lnTo>
                            <a:pt x="257" y="4903"/>
                          </a:lnTo>
                          <a:lnTo>
                            <a:pt x="272" y="4984"/>
                          </a:lnTo>
                          <a:lnTo>
                            <a:pt x="293" y="5055"/>
                          </a:lnTo>
                          <a:lnTo>
                            <a:pt x="328" y="5127"/>
                          </a:lnTo>
                          <a:lnTo>
                            <a:pt x="377" y="5197"/>
                          </a:lnTo>
                          <a:lnTo>
                            <a:pt x="438" y="5262"/>
                          </a:lnTo>
                          <a:lnTo>
                            <a:pt x="509" y="5318"/>
                          </a:lnTo>
                          <a:lnTo>
                            <a:pt x="579" y="5353"/>
                          </a:lnTo>
                          <a:lnTo>
                            <a:pt x="660" y="5385"/>
                          </a:lnTo>
                          <a:lnTo>
                            <a:pt x="745" y="5409"/>
                          </a:lnTo>
                          <a:lnTo>
                            <a:pt x="833" y="5421"/>
                          </a:lnTo>
                          <a:lnTo>
                            <a:pt x="914" y="5415"/>
                          </a:lnTo>
                          <a:lnTo>
                            <a:pt x="1003" y="5401"/>
                          </a:lnTo>
                          <a:lnTo>
                            <a:pt x="1095" y="5376"/>
                          </a:lnTo>
                          <a:lnTo>
                            <a:pt x="1183" y="5343"/>
                          </a:lnTo>
                          <a:lnTo>
                            <a:pt x="1272" y="5304"/>
                          </a:lnTo>
                          <a:lnTo>
                            <a:pt x="1360" y="5272"/>
                          </a:lnTo>
                          <a:lnTo>
                            <a:pt x="1448" y="5236"/>
                          </a:lnTo>
                          <a:lnTo>
                            <a:pt x="1537" y="5200"/>
                          </a:lnTo>
                          <a:lnTo>
                            <a:pt x="1625" y="5168"/>
                          </a:lnTo>
                          <a:lnTo>
                            <a:pt x="1709" y="5133"/>
                          </a:lnTo>
                          <a:lnTo>
                            <a:pt x="1797" y="5100"/>
                          </a:lnTo>
                          <a:lnTo>
                            <a:pt x="1879" y="5067"/>
                          </a:lnTo>
                          <a:lnTo>
                            <a:pt x="1963" y="5029"/>
                          </a:lnTo>
                          <a:lnTo>
                            <a:pt x="2045" y="5000"/>
                          </a:lnTo>
                          <a:lnTo>
                            <a:pt x="2137" y="4961"/>
                          </a:lnTo>
                          <a:lnTo>
                            <a:pt x="2218" y="4928"/>
                          </a:lnTo>
                          <a:lnTo>
                            <a:pt x="2296" y="4896"/>
                          </a:lnTo>
                          <a:lnTo>
                            <a:pt x="2378" y="4857"/>
                          </a:lnTo>
                          <a:lnTo>
                            <a:pt x="2455" y="4825"/>
                          </a:lnTo>
                          <a:lnTo>
                            <a:pt x="2536" y="4785"/>
                          </a:lnTo>
                          <a:lnTo>
                            <a:pt x="2614" y="4754"/>
                          </a:lnTo>
                          <a:lnTo>
                            <a:pt x="2698" y="4718"/>
                          </a:lnTo>
                          <a:lnTo>
                            <a:pt x="2776" y="4685"/>
                          </a:lnTo>
                          <a:lnTo>
                            <a:pt x="2851" y="4647"/>
                          </a:lnTo>
                          <a:lnTo>
                            <a:pt x="2928" y="4614"/>
                          </a:lnTo>
                          <a:lnTo>
                            <a:pt x="3006" y="4575"/>
                          </a:lnTo>
                          <a:lnTo>
                            <a:pt x="3084" y="4543"/>
                          </a:lnTo>
                          <a:lnTo>
                            <a:pt x="3158" y="4505"/>
                          </a:lnTo>
                          <a:lnTo>
                            <a:pt x="3232" y="4472"/>
                          </a:lnTo>
                          <a:lnTo>
                            <a:pt x="3307" y="4436"/>
                          </a:lnTo>
                          <a:lnTo>
                            <a:pt x="3377" y="4397"/>
                          </a:lnTo>
                          <a:lnTo>
                            <a:pt x="3455" y="4365"/>
                          </a:lnTo>
                          <a:lnTo>
                            <a:pt x="3525" y="4326"/>
                          </a:lnTo>
                          <a:lnTo>
                            <a:pt x="3603" y="4287"/>
                          </a:lnTo>
                          <a:lnTo>
                            <a:pt x="3674" y="4251"/>
                          </a:lnTo>
                          <a:lnTo>
                            <a:pt x="3744" y="4212"/>
                          </a:lnTo>
                          <a:lnTo>
                            <a:pt x="3816" y="4180"/>
                          </a:lnTo>
                          <a:lnTo>
                            <a:pt x="3889" y="4141"/>
                          </a:lnTo>
                          <a:lnTo>
                            <a:pt x="3960" y="4102"/>
                          </a:lnTo>
                          <a:lnTo>
                            <a:pt x="4030" y="4066"/>
                          </a:lnTo>
                          <a:lnTo>
                            <a:pt x="4102" y="4028"/>
                          </a:lnTo>
                          <a:lnTo>
                            <a:pt x="4172" y="3989"/>
                          </a:lnTo>
                          <a:lnTo>
                            <a:pt x="4242" y="3950"/>
                          </a:lnTo>
                          <a:lnTo>
                            <a:pt x="4310" y="3914"/>
                          </a:lnTo>
                          <a:lnTo>
                            <a:pt x="4380" y="3875"/>
                          </a:lnTo>
                          <a:lnTo>
                            <a:pt x="4444" y="3833"/>
                          </a:lnTo>
                          <a:lnTo>
                            <a:pt x="4515" y="3795"/>
                          </a:lnTo>
                          <a:lnTo>
                            <a:pt x="4582" y="3756"/>
                          </a:lnTo>
                          <a:lnTo>
                            <a:pt x="4652" y="3717"/>
                          </a:lnTo>
                          <a:lnTo>
                            <a:pt x="4715" y="3674"/>
                          </a:lnTo>
                          <a:lnTo>
                            <a:pt x="4787" y="3635"/>
                          </a:lnTo>
                          <a:lnTo>
                            <a:pt x="4854" y="3593"/>
                          </a:lnTo>
                          <a:lnTo>
                            <a:pt x="4917" y="3555"/>
                          </a:lnTo>
                          <a:lnTo>
                            <a:pt x="4985" y="3513"/>
                          </a:lnTo>
                          <a:lnTo>
                            <a:pt x="5055" y="3474"/>
                          </a:lnTo>
                          <a:lnTo>
                            <a:pt x="5119" y="3432"/>
                          </a:lnTo>
                          <a:lnTo>
                            <a:pt x="5185" y="3386"/>
                          </a:lnTo>
                          <a:lnTo>
                            <a:pt x="5249" y="3347"/>
                          </a:lnTo>
                          <a:lnTo>
                            <a:pt x="5314" y="3305"/>
                          </a:lnTo>
                          <a:lnTo>
                            <a:pt x="5380" y="3263"/>
                          </a:lnTo>
                          <a:lnTo>
                            <a:pt x="5444" y="3218"/>
                          </a:lnTo>
                          <a:lnTo>
                            <a:pt x="5511" y="3176"/>
                          </a:lnTo>
                          <a:lnTo>
                            <a:pt x="5574" y="3131"/>
                          </a:lnTo>
                          <a:lnTo>
                            <a:pt x="5642" y="3088"/>
                          </a:lnTo>
                          <a:lnTo>
                            <a:pt x="5706" y="3046"/>
                          </a:lnTo>
                          <a:lnTo>
                            <a:pt x="5769" y="2998"/>
                          </a:lnTo>
                          <a:lnTo>
                            <a:pt x="5836" y="2952"/>
                          </a:lnTo>
                          <a:lnTo>
                            <a:pt x="5899" y="2910"/>
                          </a:lnTo>
                          <a:lnTo>
                            <a:pt x="5966" y="2861"/>
                          </a:lnTo>
                          <a:lnTo>
                            <a:pt x="6031" y="2816"/>
                          </a:lnTo>
                          <a:lnTo>
                            <a:pt x="6098" y="2767"/>
                          </a:lnTo>
                          <a:lnTo>
                            <a:pt x="6161" y="2719"/>
                          </a:lnTo>
                          <a:lnTo>
                            <a:pt x="6225" y="2677"/>
                          </a:lnTo>
                          <a:lnTo>
                            <a:pt x="6291" y="2628"/>
                          </a:lnTo>
                          <a:lnTo>
                            <a:pt x="6352" y="2579"/>
                          </a:lnTo>
                          <a:lnTo>
                            <a:pt x="6415" y="2528"/>
                          </a:lnTo>
                          <a:lnTo>
                            <a:pt x="6486" y="2479"/>
                          </a:lnTo>
                          <a:lnTo>
                            <a:pt x="6546" y="2427"/>
                          </a:lnTo>
                          <a:lnTo>
                            <a:pt x="6610" y="2379"/>
                          </a:lnTo>
                          <a:lnTo>
                            <a:pt x="6677" y="2327"/>
                          </a:lnTo>
                          <a:lnTo>
                            <a:pt x="6740" y="2278"/>
                          </a:lnTo>
                          <a:lnTo>
                            <a:pt x="6807" y="2227"/>
                          </a:lnTo>
                          <a:lnTo>
                            <a:pt x="6871" y="2172"/>
                          </a:lnTo>
                          <a:lnTo>
                            <a:pt x="6942" y="2123"/>
                          </a:lnTo>
                          <a:lnTo>
                            <a:pt x="7002" y="2067"/>
                          </a:lnTo>
                          <a:lnTo>
                            <a:pt x="7072" y="2012"/>
                          </a:lnTo>
                          <a:lnTo>
                            <a:pt x="7140" y="1957"/>
                          </a:lnTo>
                          <a:lnTo>
                            <a:pt x="7204" y="1906"/>
                          </a:lnTo>
                          <a:lnTo>
                            <a:pt x="7161" y="1938"/>
                          </a:lnTo>
                          <a:lnTo>
                            <a:pt x="7114" y="1964"/>
                          </a:lnTo>
                          <a:lnTo>
                            <a:pt x="7065" y="1993"/>
                          </a:lnTo>
                          <a:lnTo>
                            <a:pt x="7157" y="1948"/>
                          </a:lnTo>
                          <a:lnTo>
                            <a:pt x="7231" y="1906"/>
                          </a:lnTo>
                          <a:lnTo>
                            <a:pt x="7298" y="1867"/>
                          </a:lnTo>
                          <a:lnTo>
                            <a:pt x="7334" y="1844"/>
                          </a:lnTo>
                          <a:lnTo>
                            <a:pt x="7362" y="1827"/>
                          </a:lnTo>
                          <a:lnTo>
                            <a:pt x="7394" y="1812"/>
                          </a:lnTo>
                          <a:lnTo>
                            <a:pt x="7302" y="1844"/>
                          </a:lnTo>
                          <a:lnTo>
                            <a:pt x="7214" y="1867"/>
                          </a:lnTo>
                          <a:lnTo>
                            <a:pt x="7122" y="1873"/>
                          </a:lnTo>
                          <a:lnTo>
                            <a:pt x="7178" y="1873"/>
                          </a:lnTo>
                          <a:lnTo>
                            <a:pt x="7249" y="1867"/>
                          </a:lnTo>
                          <a:lnTo>
                            <a:pt x="7334" y="1857"/>
                          </a:lnTo>
                          <a:lnTo>
                            <a:pt x="7430" y="1827"/>
                          </a:lnTo>
                          <a:lnTo>
                            <a:pt x="7535" y="1793"/>
                          </a:lnTo>
                          <a:lnTo>
                            <a:pt x="7635" y="1730"/>
                          </a:lnTo>
                          <a:lnTo>
                            <a:pt x="7740" y="1650"/>
                          </a:lnTo>
                          <a:lnTo>
                            <a:pt x="7871" y="1530"/>
                          </a:lnTo>
                          <a:lnTo>
                            <a:pt x="7931" y="1472"/>
                          </a:lnTo>
                          <a:lnTo>
                            <a:pt x="7976" y="1400"/>
                          </a:lnTo>
                          <a:lnTo>
                            <a:pt x="8009" y="1329"/>
                          </a:lnTo>
                          <a:lnTo>
                            <a:pt x="8033" y="1257"/>
                          </a:lnTo>
                          <a:lnTo>
                            <a:pt x="8044" y="1177"/>
                          </a:lnTo>
                          <a:lnTo>
                            <a:pt x="8044" y="1102"/>
                          </a:lnTo>
                          <a:lnTo>
                            <a:pt x="8033" y="1025"/>
                          </a:lnTo>
                          <a:lnTo>
                            <a:pt x="8009" y="950"/>
                          </a:lnTo>
                          <a:lnTo>
                            <a:pt x="7976" y="878"/>
                          </a:lnTo>
                          <a:lnTo>
                            <a:pt x="7931" y="814"/>
                          </a:lnTo>
                          <a:lnTo>
                            <a:pt x="7871" y="749"/>
                          </a:lnTo>
                          <a:lnTo>
                            <a:pt x="7801" y="694"/>
                          </a:lnTo>
                          <a:lnTo>
                            <a:pt x="7729" y="655"/>
                          </a:lnTo>
                          <a:lnTo>
                            <a:pt x="7651" y="622"/>
                          </a:lnTo>
                          <a:lnTo>
                            <a:pt x="7571" y="603"/>
                          </a:lnTo>
                          <a:lnTo>
                            <a:pt x="7485" y="590"/>
                          </a:lnTo>
                          <a:lnTo>
                            <a:pt x="7404" y="590"/>
                          </a:lnTo>
                          <a:lnTo>
                            <a:pt x="7319" y="603"/>
                          </a:lnTo>
                          <a:lnTo>
                            <a:pt x="7238" y="622"/>
                          </a:lnTo>
                          <a:lnTo>
                            <a:pt x="7161" y="655"/>
                          </a:lnTo>
                          <a:lnTo>
                            <a:pt x="7083" y="694"/>
                          </a:lnTo>
                          <a:lnTo>
                            <a:pt x="7020" y="749"/>
                          </a:lnTo>
                          <a:lnTo>
                            <a:pt x="6825" y="927"/>
                          </a:lnTo>
                          <a:lnTo>
                            <a:pt x="6440" y="1287"/>
                          </a:lnTo>
                          <a:lnTo>
                            <a:pt x="6468" y="1257"/>
                          </a:lnTo>
                          <a:lnTo>
                            <a:pt x="6493" y="1238"/>
                          </a:lnTo>
                          <a:lnTo>
                            <a:pt x="6529" y="1216"/>
                          </a:lnTo>
                          <a:lnTo>
                            <a:pt x="6451" y="1265"/>
                          </a:lnTo>
                          <a:lnTo>
                            <a:pt x="6373" y="1313"/>
                          </a:lnTo>
                          <a:lnTo>
                            <a:pt x="6299" y="1362"/>
                          </a:lnTo>
                          <a:lnTo>
                            <a:pt x="6225" y="1410"/>
                          </a:lnTo>
                          <a:lnTo>
                            <a:pt x="6150" y="1456"/>
                          </a:lnTo>
                          <a:lnTo>
                            <a:pt x="6080" y="1504"/>
                          </a:lnTo>
                          <a:lnTo>
                            <a:pt x="6002" y="1553"/>
                          </a:lnTo>
                          <a:lnTo>
                            <a:pt x="5932" y="1601"/>
                          </a:lnTo>
                          <a:lnTo>
                            <a:pt x="5860" y="1650"/>
                          </a:lnTo>
                          <a:lnTo>
                            <a:pt x="5787" y="1699"/>
                          </a:lnTo>
                          <a:lnTo>
                            <a:pt x="5716" y="1747"/>
                          </a:lnTo>
                          <a:lnTo>
                            <a:pt x="5645" y="1796"/>
                          </a:lnTo>
                          <a:lnTo>
                            <a:pt x="5574" y="1851"/>
                          </a:lnTo>
                          <a:lnTo>
                            <a:pt x="5504" y="1899"/>
                          </a:lnTo>
                          <a:lnTo>
                            <a:pt x="5433" y="1948"/>
                          </a:lnTo>
                          <a:lnTo>
                            <a:pt x="5366" y="1996"/>
                          </a:lnTo>
                          <a:lnTo>
                            <a:pt x="5296" y="2045"/>
                          </a:lnTo>
                          <a:lnTo>
                            <a:pt x="5232" y="2100"/>
                          </a:lnTo>
                          <a:lnTo>
                            <a:pt x="5161" y="2148"/>
                          </a:lnTo>
                          <a:lnTo>
                            <a:pt x="5094" y="2197"/>
                          </a:lnTo>
                          <a:lnTo>
                            <a:pt x="5023" y="2252"/>
                          </a:lnTo>
                          <a:lnTo>
                            <a:pt x="4959" y="2301"/>
                          </a:lnTo>
                          <a:lnTo>
                            <a:pt x="4893" y="2349"/>
                          </a:lnTo>
                          <a:lnTo>
                            <a:pt x="4829" y="2404"/>
                          </a:lnTo>
                          <a:lnTo>
                            <a:pt x="4759" y="2453"/>
                          </a:lnTo>
                          <a:lnTo>
                            <a:pt x="4699" y="2509"/>
                          </a:lnTo>
                          <a:lnTo>
                            <a:pt x="4635" y="2557"/>
                          </a:lnTo>
                          <a:lnTo>
                            <a:pt x="4564" y="2612"/>
                          </a:lnTo>
                          <a:lnTo>
                            <a:pt x="4504" y="2661"/>
                          </a:lnTo>
                          <a:lnTo>
                            <a:pt x="4437" y="2709"/>
                          </a:lnTo>
                          <a:lnTo>
                            <a:pt x="4373" y="2761"/>
                          </a:lnTo>
                          <a:lnTo>
                            <a:pt x="4310" y="2816"/>
                          </a:lnTo>
                          <a:lnTo>
                            <a:pt x="4242" y="2864"/>
                          </a:lnTo>
                          <a:lnTo>
                            <a:pt x="4183" y="2919"/>
                          </a:lnTo>
                          <a:lnTo>
                            <a:pt x="4118" y="2968"/>
                          </a:lnTo>
                          <a:lnTo>
                            <a:pt x="4058" y="3023"/>
                          </a:lnTo>
                          <a:lnTo>
                            <a:pt x="3995" y="3071"/>
                          </a:lnTo>
                          <a:lnTo>
                            <a:pt x="3935" y="3127"/>
                          </a:lnTo>
                          <a:lnTo>
                            <a:pt x="3871" y="3179"/>
                          </a:lnTo>
                          <a:lnTo>
                            <a:pt x="3811" y="3231"/>
                          </a:lnTo>
                          <a:lnTo>
                            <a:pt x="3752" y="3283"/>
                          </a:lnTo>
                          <a:lnTo>
                            <a:pt x="3687" y="3331"/>
                          </a:lnTo>
                          <a:lnTo>
                            <a:pt x="3627" y="3386"/>
                          </a:lnTo>
                          <a:lnTo>
                            <a:pt x="3568" y="3435"/>
                          </a:lnTo>
                          <a:lnTo>
                            <a:pt x="3504" y="3490"/>
                          </a:lnTo>
                          <a:lnTo>
                            <a:pt x="3445" y="3545"/>
                          </a:lnTo>
                          <a:lnTo>
                            <a:pt x="3384" y="3593"/>
                          </a:lnTo>
                          <a:lnTo>
                            <a:pt x="3324" y="3649"/>
                          </a:lnTo>
                          <a:lnTo>
                            <a:pt x="3261" y="3701"/>
                          </a:lnTo>
                          <a:lnTo>
                            <a:pt x="3201" y="3749"/>
                          </a:lnTo>
                          <a:lnTo>
                            <a:pt x="3141" y="3804"/>
                          </a:lnTo>
                          <a:lnTo>
                            <a:pt x="3084" y="3853"/>
                          </a:lnTo>
                          <a:lnTo>
                            <a:pt x="3024" y="3908"/>
                          </a:lnTo>
                          <a:lnTo>
                            <a:pt x="2963" y="3956"/>
                          </a:lnTo>
                          <a:lnTo>
                            <a:pt x="2903" y="4011"/>
                          </a:lnTo>
                          <a:lnTo>
                            <a:pt x="2847" y="4060"/>
                          </a:lnTo>
                          <a:lnTo>
                            <a:pt x="2788" y="4115"/>
                          </a:lnTo>
                          <a:lnTo>
                            <a:pt x="2727" y="4167"/>
                          </a:lnTo>
                          <a:lnTo>
                            <a:pt x="2667" y="4223"/>
                          </a:lnTo>
                          <a:lnTo>
                            <a:pt x="2604" y="4277"/>
                          </a:lnTo>
                          <a:lnTo>
                            <a:pt x="2544" y="4332"/>
                          </a:lnTo>
                          <a:lnTo>
                            <a:pt x="2480" y="4384"/>
                          </a:lnTo>
                          <a:lnTo>
                            <a:pt x="2412" y="4439"/>
                          </a:lnTo>
                          <a:lnTo>
                            <a:pt x="2356" y="4494"/>
                          </a:lnTo>
                          <a:lnTo>
                            <a:pt x="2289" y="4549"/>
                          </a:lnTo>
                          <a:lnTo>
                            <a:pt x="2228" y="4602"/>
                          </a:lnTo>
                          <a:lnTo>
                            <a:pt x="2165" y="4657"/>
                          </a:lnTo>
                          <a:lnTo>
                            <a:pt x="2098" y="4712"/>
                          </a:lnTo>
                          <a:lnTo>
                            <a:pt x="2041" y="4766"/>
                          </a:lnTo>
                          <a:lnTo>
                            <a:pt x="1974" y="4821"/>
                          </a:lnTo>
                          <a:lnTo>
                            <a:pt x="1911" y="4879"/>
                          </a:lnTo>
                          <a:lnTo>
                            <a:pt x="1844" y="4935"/>
                          </a:lnTo>
                          <a:lnTo>
                            <a:pt x="1780" y="4987"/>
                          </a:lnTo>
                          <a:lnTo>
                            <a:pt x="1716" y="5039"/>
                          </a:lnTo>
                          <a:lnTo>
                            <a:pt x="1649" y="5094"/>
                          </a:lnTo>
                          <a:lnTo>
                            <a:pt x="1586" y="5149"/>
                          </a:lnTo>
                          <a:lnTo>
                            <a:pt x="1519" y="5200"/>
                          </a:lnTo>
                          <a:lnTo>
                            <a:pt x="1455" y="5255"/>
                          </a:lnTo>
                          <a:lnTo>
                            <a:pt x="1388" y="5318"/>
                          </a:lnTo>
                          <a:lnTo>
                            <a:pt x="1324" y="5369"/>
                          </a:lnTo>
                          <a:lnTo>
                            <a:pt x="1254" y="5424"/>
                          </a:lnTo>
                          <a:lnTo>
                            <a:pt x="1187" y="5479"/>
                          </a:lnTo>
                          <a:lnTo>
                            <a:pt x="1122" y="5534"/>
                          </a:lnTo>
                          <a:lnTo>
                            <a:pt x="1059" y="5586"/>
                          </a:lnTo>
                          <a:lnTo>
                            <a:pt x="985" y="5641"/>
                          </a:lnTo>
                          <a:lnTo>
                            <a:pt x="922" y="5697"/>
                          </a:lnTo>
                          <a:lnTo>
                            <a:pt x="851" y="5752"/>
                          </a:lnTo>
                          <a:lnTo>
                            <a:pt x="841" y="5761"/>
                          </a:lnTo>
                          <a:lnTo>
                            <a:pt x="833" y="5768"/>
                          </a:lnTo>
                          <a:lnTo>
                            <a:pt x="823" y="5777"/>
                          </a:lnTo>
                          <a:lnTo>
                            <a:pt x="826" y="5771"/>
                          </a:lnTo>
                          <a:lnTo>
                            <a:pt x="833" y="5768"/>
                          </a:lnTo>
                          <a:lnTo>
                            <a:pt x="816" y="5777"/>
                          </a:lnTo>
                          <a:lnTo>
                            <a:pt x="784" y="5794"/>
                          </a:lnTo>
                          <a:lnTo>
                            <a:pt x="763" y="5810"/>
                          </a:lnTo>
                          <a:lnTo>
                            <a:pt x="703" y="5843"/>
                          </a:lnTo>
                          <a:lnTo>
                            <a:pt x="642" y="5874"/>
                          </a:lnTo>
                          <a:lnTo>
                            <a:pt x="572" y="5920"/>
                          </a:lnTo>
                          <a:lnTo>
                            <a:pt x="509" y="5968"/>
                          </a:lnTo>
                          <a:lnTo>
                            <a:pt x="441" y="6026"/>
                          </a:lnTo>
                          <a:lnTo>
                            <a:pt x="377" y="6092"/>
                          </a:lnTo>
                          <a:lnTo>
                            <a:pt x="317" y="6169"/>
                          </a:lnTo>
                          <a:lnTo>
                            <a:pt x="265" y="6257"/>
                          </a:lnTo>
                          <a:lnTo>
                            <a:pt x="223" y="6347"/>
                          </a:lnTo>
                          <a:lnTo>
                            <a:pt x="201" y="6435"/>
                          </a:lnTo>
                          <a:lnTo>
                            <a:pt x="194" y="6523"/>
                          </a:lnTo>
                          <a:lnTo>
                            <a:pt x="201" y="6607"/>
                          </a:lnTo>
                          <a:lnTo>
                            <a:pt x="223" y="6691"/>
                          </a:lnTo>
                          <a:lnTo>
                            <a:pt x="257" y="6772"/>
                          </a:lnTo>
                          <a:lnTo>
                            <a:pt x="307" y="6847"/>
                          </a:lnTo>
                          <a:lnTo>
                            <a:pt x="371" y="6911"/>
                          </a:lnTo>
                          <a:lnTo>
                            <a:pt x="441" y="6973"/>
                          </a:lnTo>
                          <a:lnTo>
                            <a:pt x="525" y="7015"/>
                          </a:lnTo>
                          <a:lnTo>
                            <a:pt x="607" y="7048"/>
                          </a:lnTo>
                          <a:lnTo>
                            <a:pt x="703" y="7070"/>
                          </a:lnTo>
                          <a:lnTo>
                            <a:pt x="798" y="7077"/>
                          </a:lnTo>
                          <a:lnTo>
                            <a:pt x="893" y="7070"/>
                          </a:lnTo>
                          <a:lnTo>
                            <a:pt x="985" y="7048"/>
                          </a:lnTo>
                          <a:lnTo>
                            <a:pt x="1095" y="7008"/>
                          </a:lnTo>
                          <a:lnTo>
                            <a:pt x="1187" y="6966"/>
                          </a:lnTo>
                          <a:lnTo>
                            <a:pt x="1278" y="6924"/>
                          </a:lnTo>
                          <a:lnTo>
                            <a:pt x="1360" y="6875"/>
                          </a:lnTo>
                          <a:lnTo>
                            <a:pt x="1430" y="6820"/>
                          </a:lnTo>
                          <a:lnTo>
                            <a:pt x="1501" y="6772"/>
                          </a:lnTo>
                          <a:lnTo>
                            <a:pt x="1561" y="6717"/>
                          </a:lnTo>
                          <a:lnTo>
                            <a:pt x="1621" y="6668"/>
                          </a:lnTo>
                          <a:lnTo>
                            <a:pt x="1674" y="6620"/>
                          </a:lnTo>
                          <a:lnTo>
                            <a:pt x="1643" y="6642"/>
                          </a:lnTo>
                          <a:lnTo>
                            <a:pt x="1614" y="6668"/>
                          </a:lnTo>
                          <a:lnTo>
                            <a:pt x="1579" y="6684"/>
                          </a:lnTo>
                          <a:lnTo>
                            <a:pt x="1660" y="6642"/>
                          </a:lnTo>
                          <a:lnTo>
                            <a:pt x="1745" y="6597"/>
                          </a:lnTo>
                          <a:lnTo>
                            <a:pt x="1833" y="6555"/>
                          </a:lnTo>
                          <a:lnTo>
                            <a:pt x="1921" y="6516"/>
                          </a:lnTo>
                          <a:lnTo>
                            <a:pt x="2017" y="6474"/>
                          </a:lnTo>
                          <a:lnTo>
                            <a:pt x="2113" y="6435"/>
                          </a:lnTo>
                          <a:lnTo>
                            <a:pt x="2201" y="6396"/>
                          </a:lnTo>
                          <a:lnTo>
                            <a:pt x="2282" y="6357"/>
                          </a:lnTo>
                          <a:lnTo>
                            <a:pt x="2373" y="6322"/>
                          </a:lnTo>
                          <a:lnTo>
                            <a:pt x="2455" y="6283"/>
                          </a:lnTo>
                          <a:lnTo>
                            <a:pt x="2544" y="6241"/>
                          </a:lnTo>
                          <a:lnTo>
                            <a:pt x="2632" y="6195"/>
                          </a:lnTo>
                          <a:lnTo>
                            <a:pt x="2720" y="6147"/>
                          </a:lnTo>
                          <a:lnTo>
                            <a:pt x="2812" y="6092"/>
                          </a:lnTo>
                          <a:lnTo>
                            <a:pt x="2886" y="6050"/>
                          </a:lnTo>
                          <a:lnTo>
                            <a:pt x="2963" y="6001"/>
                          </a:lnTo>
                          <a:lnTo>
                            <a:pt x="3041" y="5956"/>
                          </a:lnTo>
                          <a:lnTo>
                            <a:pt x="3119" y="5913"/>
                          </a:lnTo>
                          <a:lnTo>
                            <a:pt x="3193" y="5865"/>
                          </a:lnTo>
                          <a:lnTo>
                            <a:pt x="3268" y="5823"/>
                          </a:lnTo>
                          <a:lnTo>
                            <a:pt x="3342" y="5777"/>
                          </a:lnTo>
                          <a:lnTo>
                            <a:pt x="3419" y="5735"/>
                          </a:lnTo>
                          <a:lnTo>
                            <a:pt x="3490" y="5689"/>
                          </a:lnTo>
                          <a:lnTo>
                            <a:pt x="3560" y="5641"/>
                          </a:lnTo>
                          <a:lnTo>
                            <a:pt x="3632" y="5603"/>
                          </a:lnTo>
                          <a:lnTo>
                            <a:pt x="3705" y="5554"/>
                          </a:lnTo>
                          <a:lnTo>
                            <a:pt x="3777" y="5512"/>
                          </a:lnTo>
                          <a:lnTo>
                            <a:pt x="3847" y="5470"/>
                          </a:lnTo>
                          <a:lnTo>
                            <a:pt x="3918" y="5424"/>
                          </a:lnTo>
                          <a:lnTo>
                            <a:pt x="3988" y="5382"/>
                          </a:lnTo>
                          <a:lnTo>
                            <a:pt x="4058" y="5337"/>
                          </a:lnTo>
                          <a:lnTo>
                            <a:pt x="4126" y="5294"/>
                          </a:lnTo>
                          <a:lnTo>
                            <a:pt x="4196" y="5252"/>
                          </a:lnTo>
                          <a:lnTo>
                            <a:pt x="4268" y="5207"/>
                          </a:lnTo>
                          <a:lnTo>
                            <a:pt x="4331" y="5165"/>
                          </a:lnTo>
                          <a:lnTo>
                            <a:pt x="4401" y="5119"/>
                          </a:lnTo>
                          <a:lnTo>
                            <a:pt x="4468" y="5078"/>
                          </a:lnTo>
                          <a:lnTo>
                            <a:pt x="4539" y="5036"/>
                          </a:lnTo>
                          <a:lnTo>
                            <a:pt x="4603" y="4993"/>
                          </a:lnTo>
                          <a:lnTo>
                            <a:pt x="4673" y="4951"/>
                          </a:lnTo>
                          <a:lnTo>
                            <a:pt x="4741" y="4903"/>
                          </a:lnTo>
                          <a:lnTo>
                            <a:pt x="4811" y="4857"/>
                          </a:lnTo>
                          <a:lnTo>
                            <a:pt x="4875" y="4815"/>
                          </a:lnTo>
                          <a:lnTo>
                            <a:pt x="4949" y="4766"/>
                          </a:lnTo>
                          <a:lnTo>
                            <a:pt x="5013" y="4721"/>
                          </a:lnTo>
                          <a:lnTo>
                            <a:pt x="5083" y="4672"/>
                          </a:lnTo>
                          <a:lnTo>
                            <a:pt x="5146" y="4624"/>
                          </a:lnTo>
                          <a:lnTo>
                            <a:pt x="5221" y="4575"/>
                          </a:lnTo>
                          <a:lnTo>
                            <a:pt x="5292" y="4527"/>
                          </a:lnTo>
                          <a:lnTo>
                            <a:pt x="5363" y="4478"/>
                          </a:lnTo>
                          <a:lnTo>
                            <a:pt x="5348" y="4488"/>
                          </a:lnTo>
                          <a:lnTo>
                            <a:pt x="5338" y="4494"/>
                          </a:lnTo>
                          <a:lnTo>
                            <a:pt x="5327" y="4500"/>
                          </a:lnTo>
                          <a:lnTo>
                            <a:pt x="5408" y="4452"/>
                          </a:lnTo>
                          <a:lnTo>
                            <a:pt x="5493" y="4397"/>
                          </a:lnTo>
                          <a:lnTo>
                            <a:pt x="5574" y="4342"/>
                          </a:lnTo>
                          <a:lnTo>
                            <a:pt x="5652" y="4287"/>
                          </a:lnTo>
                          <a:lnTo>
                            <a:pt x="5733" y="4235"/>
                          </a:lnTo>
                          <a:lnTo>
                            <a:pt x="5804" y="4180"/>
                          </a:lnTo>
                          <a:lnTo>
                            <a:pt x="5882" y="4125"/>
                          </a:lnTo>
                          <a:lnTo>
                            <a:pt x="5959" y="4069"/>
                          </a:lnTo>
                          <a:lnTo>
                            <a:pt x="6031" y="4018"/>
                          </a:lnTo>
                          <a:lnTo>
                            <a:pt x="6108" y="3963"/>
                          </a:lnTo>
                          <a:lnTo>
                            <a:pt x="6179" y="3908"/>
                          </a:lnTo>
                          <a:lnTo>
                            <a:pt x="6257" y="3853"/>
                          </a:lnTo>
                          <a:lnTo>
                            <a:pt x="6334" y="3795"/>
                          </a:lnTo>
                          <a:lnTo>
                            <a:pt x="6405" y="3739"/>
                          </a:lnTo>
                          <a:lnTo>
                            <a:pt x="6483" y="3684"/>
                          </a:lnTo>
                          <a:lnTo>
                            <a:pt x="6553" y="3632"/>
                          </a:lnTo>
                          <a:lnTo>
                            <a:pt x="6628" y="3580"/>
                          </a:lnTo>
                          <a:lnTo>
                            <a:pt x="6705" y="3529"/>
                          </a:lnTo>
                          <a:lnTo>
                            <a:pt x="6783" y="3480"/>
                          </a:lnTo>
                          <a:lnTo>
                            <a:pt x="6861" y="3425"/>
                          </a:lnTo>
                          <a:lnTo>
                            <a:pt x="6942" y="3377"/>
                          </a:lnTo>
                          <a:lnTo>
                            <a:pt x="6956" y="3370"/>
                          </a:lnTo>
                          <a:lnTo>
                            <a:pt x="6966" y="3361"/>
                          </a:lnTo>
                          <a:lnTo>
                            <a:pt x="6984" y="3347"/>
                          </a:lnTo>
                          <a:lnTo>
                            <a:pt x="7062" y="3283"/>
                          </a:lnTo>
                          <a:lnTo>
                            <a:pt x="7140" y="3218"/>
                          </a:lnTo>
                          <a:lnTo>
                            <a:pt x="7214" y="3153"/>
                          </a:lnTo>
                          <a:lnTo>
                            <a:pt x="7280" y="3088"/>
                          </a:lnTo>
                          <a:lnTo>
                            <a:pt x="7345" y="3023"/>
                          </a:lnTo>
                          <a:lnTo>
                            <a:pt x="7404" y="2958"/>
                          </a:lnTo>
                          <a:lnTo>
                            <a:pt x="7482" y="2877"/>
                          </a:lnTo>
                          <a:lnTo>
                            <a:pt x="7560" y="2806"/>
                          </a:lnTo>
                          <a:lnTo>
                            <a:pt x="7630" y="2742"/>
                          </a:lnTo>
                          <a:lnTo>
                            <a:pt x="7705" y="2686"/>
                          </a:lnTo>
                          <a:lnTo>
                            <a:pt x="7779" y="2645"/>
                          </a:lnTo>
                          <a:lnTo>
                            <a:pt x="7789" y="2637"/>
                          </a:lnTo>
                          <a:lnTo>
                            <a:pt x="7797" y="2637"/>
                          </a:lnTo>
                          <a:lnTo>
                            <a:pt x="7801" y="2631"/>
                          </a:lnTo>
                          <a:lnTo>
                            <a:pt x="7885" y="2589"/>
                          </a:lnTo>
                          <a:lnTo>
                            <a:pt x="7966" y="2543"/>
                          </a:lnTo>
                          <a:lnTo>
                            <a:pt x="8044" y="2495"/>
                          </a:lnTo>
                          <a:lnTo>
                            <a:pt x="8121" y="2453"/>
                          </a:lnTo>
                          <a:lnTo>
                            <a:pt x="8203" y="2404"/>
                          </a:lnTo>
                          <a:lnTo>
                            <a:pt x="8274" y="2355"/>
                          </a:lnTo>
                          <a:lnTo>
                            <a:pt x="8352" y="2307"/>
                          </a:lnTo>
                          <a:lnTo>
                            <a:pt x="8422" y="2258"/>
                          </a:lnTo>
                          <a:lnTo>
                            <a:pt x="8500" y="2203"/>
                          </a:lnTo>
                          <a:lnTo>
                            <a:pt x="8570" y="2155"/>
                          </a:lnTo>
                          <a:lnTo>
                            <a:pt x="8634" y="2100"/>
                          </a:lnTo>
                          <a:lnTo>
                            <a:pt x="8712" y="2045"/>
                          </a:lnTo>
                          <a:lnTo>
                            <a:pt x="8783" y="1996"/>
                          </a:lnTo>
                          <a:lnTo>
                            <a:pt x="8850" y="1941"/>
                          </a:lnTo>
                          <a:lnTo>
                            <a:pt x="8916" y="1890"/>
                          </a:lnTo>
                          <a:lnTo>
                            <a:pt x="8988" y="1835"/>
                          </a:lnTo>
                          <a:lnTo>
                            <a:pt x="9072" y="1769"/>
                          </a:lnTo>
                          <a:lnTo>
                            <a:pt x="9154" y="1708"/>
                          </a:lnTo>
                          <a:lnTo>
                            <a:pt x="9235" y="1643"/>
                          </a:lnTo>
                          <a:lnTo>
                            <a:pt x="9320" y="1585"/>
                          </a:lnTo>
                          <a:lnTo>
                            <a:pt x="9401" y="1520"/>
                          </a:lnTo>
                          <a:lnTo>
                            <a:pt x="9489" y="1459"/>
                          </a:lnTo>
                          <a:lnTo>
                            <a:pt x="9453" y="1481"/>
                          </a:lnTo>
                          <a:lnTo>
                            <a:pt x="9419" y="1504"/>
                          </a:lnTo>
                          <a:lnTo>
                            <a:pt x="9390" y="1520"/>
                          </a:lnTo>
                          <a:lnTo>
                            <a:pt x="9450" y="1487"/>
                          </a:lnTo>
                          <a:lnTo>
                            <a:pt x="9503" y="1459"/>
                          </a:lnTo>
                          <a:lnTo>
                            <a:pt x="9549" y="1432"/>
                          </a:lnTo>
                          <a:lnTo>
                            <a:pt x="9580" y="1417"/>
                          </a:lnTo>
                          <a:lnTo>
                            <a:pt x="9601" y="1400"/>
                          </a:lnTo>
                          <a:lnTo>
                            <a:pt x="9627" y="1390"/>
                          </a:lnTo>
                          <a:lnTo>
                            <a:pt x="9616" y="1393"/>
                          </a:lnTo>
                          <a:lnTo>
                            <a:pt x="9598" y="1393"/>
                          </a:lnTo>
                          <a:lnTo>
                            <a:pt x="9567" y="1400"/>
                          </a:lnTo>
                          <a:lnTo>
                            <a:pt x="9471" y="1390"/>
                          </a:lnTo>
                          <a:lnTo>
                            <a:pt x="9372" y="1368"/>
                          </a:lnTo>
                          <a:lnTo>
                            <a:pt x="9284" y="1329"/>
                          </a:lnTo>
                          <a:lnTo>
                            <a:pt x="9199" y="1287"/>
                          </a:lnTo>
                          <a:lnTo>
                            <a:pt x="9128" y="1222"/>
                          </a:lnTo>
                          <a:lnTo>
                            <a:pt x="9072" y="1150"/>
                          </a:lnTo>
                          <a:lnTo>
                            <a:pt x="9022" y="1069"/>
                          </a:lnTo>
                          <a:lnTo>
                            <a:pt x="8988" y="983"/>
                          </a:lnTo>
                          <a:lnTo>
                            <a:pt x="8970" y="895"/>
                          </a:lnTo>
                          <a:lnTo>
                            <a:pt x="8970" y="804"/>
                          </a:lnTo>
                          <a:lnTo>
                            <a:pt x="8988" y="716"/>
                          </a:lnTo>
                          <a:lnTo>
                            <a:pt x="9016" y="629"/>
                          </a:lnTo>
                          <a:lnTo>
                            <a:pt x="9058" y="549"/>
                          </a:lnTo>
                          <a:lnTo>
                            <a:pt x="9125" y="477"/>
                          </a:lnTo>
                          <a:lnTo>
                            <a:pt x="9065" y="535"/>
                          </a:lnTo>
                          <a:lnTo>
                            <a:pt x="9004" y="597"/>
                          </a:lnTo>
                          <a:lnTo>
                            <a:pt x="8944" y="655"/>
                          </a:lnTo>
                          <a:lnTo>
                            <a:pt x="8889" y="710"/>
                          </a:lnTo>
                          <a:lnTo>
                            <a:pt x="8832" y="771"/>
                          </a:lnTo>
                          <a:lnTo>
                            <a:pt x="8772" y="823"/>
                          </a:lnTo>
                          <a:lnTo>
                            <a:pt x="8708" y="885"/>
                          </a:lnTo>
                          <a:lnTo>
                            <a:pt x="8648" y="937"/>
                          </a:lnTo>
                          <a:lnTo>
                            <a:pt x="8588" y="998"/>
                          </a:lnTo>
                          <a:lnTo>
                            <a:pt x="8524" y="1053"/>
                          </a:lnTo>
                          <a:lnTo>
                            <a:pt x="8464" y="1105"/>
                          </a:lnTo>
                          <a:lnTo>
                            <a:pt x="8397" y="1160"/>
                          </a:lnTo>
                          <a:lnTo>
                            <a:pt x="8341" y="1216"/>
                          </a:lnTo>
                          <a:lnTo>
                            <a:pt x="8274" y="1271"/>
                          </a:lnTo>
                          <a:lnTo>
                            <a:pt x="8210" y="1323"/>
                          </a:lnTo>
                          <a:lnTo>
                            <a:pt x="8150" y="1378"/>
                          </a:lnTo>
                          <a:lnTo>
                            <a:pt x="8087" y="1432"/>
                          </a:lnTo>
                          <a:lnTo>
                            <a:pt x="8019" y="1487"/>
                          </a:lnTo>
                          <a:lnTo>
                            <a:pt x="7955" y="1539"/>
                          </a:lnTo>
                          <a:lnTo>
                            <a:pt x="7888" y="1594"/>
                          </a:lnTo>
                          <a:lnTo>
                            <a:pt x="7825" y="1650"/>
                          </a:lnTo>
                          <a:lnTo>
                            <a:pt x="7758" y="1705"/>
                          </a:lnTo>
                          <a:lnTo>
                            <a:pt x="7695" y="1757"/>
                          </a:lnTo>
                          <a:lnTo>
                            <a:pt x="7630" y="1808"/>
                          </a:lnTo>
                          <a:lnTo>
                            <a:pt x="7563" y="1860"/>
                          </a:lnTo>
                          <a:lnTo>
                            <a:pt x="7500" y="1915"/>
                          </a:lnTo>
                          <a:lnTo>
                            <a:pt x="7433" y="1970"/>
                          </a:lnTo>
                          <a:lnTo>
                            <a:pt x="7369" y="2026"/>
                          </a:lnTo>
                          <a:lnTo>
                            <a:pt x="7302" y="2078"/>
                          </a:lnTo>
                          <a:lnTo>
                            <a:pt x="7238" y="2133"/>
                          </a:lnTo>
                          <a:lnTo>
                            <a:pt x="7175" y="2181"/>
                          </a:lnTo>
                          <a:lnTo>
                            <a:pt x="7108" y="2236"/>
                          </a:lnTo>
                          <a:lnTo>
                            <a:pt x="7044" y="2291"/>
                          </a:lnTo>
                          <a:lnTo>
                            <a:pt x="6977" y="2343"/>
                          </a:lnTo>
                          <a:lnTo>
                            <a:pt x="6914" y="2398"/>
                          </a:lnTo>
                          <a:lnTo>
                            <a:pt x="6846" y="2453"/>
                          </a:lnTo>
                          <a:lnTo>
                            <a:pt x="6783" y="2509"/>
                          </a:lnTo>
                          <a:lnTo>
                            <a:pt x="6719" y="2560"/>
                          </a:lnTo>
                          <a:lnTo>
                            <a:pt x="6652" y="2615"/>
                          </a:lnTo>
                          <a:lnTo>
                            <a:pt x="6589" y="2677"/>
                          </a:lnTo>
                          <a:lnTo>
                            <a:pt x="6529" y="2728"/>
                          </a:lnTo>
                          <a:lnTo>
                            <a:pt x="6461" y="2783"/>
                          </a:lnTo>
                          <a:lnTo>
                            <a:pt x="6397" y="2839"/>
                          </a:lnTo>
                          <a:lnTo>
                            <a:pt x="6334" y="2897"/>
                          </a:lnTo>
                          <a:lnTo>
                            <a:pt x="6267" y="2958"/>
                          </a:lnTo>
                          <a:lnTo>
                            <a:pt x="6203" y="3013"/>
                          </a:lnTo>
                          <a:lnTo>
                            <a:pt x="6137" y="3071"/>
                          </a:lnTo>
                          <a:lnTo>
                            <a:pt x="6080" y="3131"/>
                          </a:lnTo>
                          <a:lnTo>
                            <a:pt x="6013" y="3192"/>
                          </a:lnTo>
                          <a:lnTo>
                            <a:pt x="5949" y="3250"/>
                          </a:lnTo>
                          <a:lnTo>
                            <a:pt x="5889" y="3311"/>
                          </a:lnTo>
                          <a:lnTo>
                            <a:pt x="5826" y="3370"/>
                          </a:lnTo>
                          <a:lnTo>
                            <a:pt x="5766" y="3432"/>
                          </a:lnTo>
                          <a:lnTo>
                            <a:pt x="5698" y="3496"/>
                          </a:lnTo>
                          <a:lnTo>
                            <a:pt x="5642" y="3555"/>
                          </a:lnTo>
                          <a:lnTo>
                            <a:pt x="5645" y="3548"/>
                          </a:lnTo>
                          <a:lnTo>
                            <a:pt x="5645" y="3545"/>
                          </a:lnTo>
                          <a:lnTo>
                            <a:pt x="4949" y="4245"/>
                          </a:lnTo>
                          <a:lnTo>
                            <a:pt x="4882" y="4309"/>
                          </a:lnTo>
                          <a:lnTo>
                            <a:pt x="4822" y="4368"/>
                          </a:lnTo>
                          <a:lnTo>
                            <a:pt x="4766" y="4430"/>
                          </a:lnTo>
                          <a:lnTo>
                            <a:pt x="4705" y="4488"/>
                          </a:lnTo>
                          <a:lnTo>
                            <a:pt x="4645" y="4549"/>
                          </a:lnTo>
                          <a:lnTo>
                            <a:pt x="4582" y="4608"/>
                          </a:lnTo>
                          <a:lnTo>
                            <a:pt x="4522" y="4669"/>
                          </a:lnTo>
                          <a:lnTo>
                            <a:pt x="4461" y="4727"/>
                          </a:lnTo>
                          <a:lnTo>
                            <a:pt x="4401" y="4785"/>
                          </a:lnTo>
                          <a:lnTo>
                            <a:pt x="4345" y="4848"/>
                          </a:lnTo>
                          <a:lnTo>
                            <a:pt x="4284" y="4906"/>
                          </a:lnTo>
                          <a:lnTo>
                            <a:pt x="4225" y="4967"/>
                          </a:lnTo>
                          <a:lnTo>
                            <a:pt x="4165" y="5019"/>
                          </a:lnTo>
                          <a:lnTo>
                            <a:pt x="4108" y="5078"/>
                          </a:lnTo>
                          <a:lnTo>
                            <a:pt x="4042" y="5136"/>
                          </a:lnTo>
                          <a:lnTo>
                            <a:pt x="3981" y="5191"/>
                          </a:lnTo>
                          <a:lnTo>
                            <a:pt x="3925" y="5252"/>
                          </a:lnTo>
                          <a:lnTo>
                            <a:pt x="3858" y="5310"/>
                          </a:lnTo>
                          <a:lnTo>
                            <a:pt x="3798" y="5369"/>
                          </a:lnTo>
                          <a:lnTo>
                            <a:pt x="3734" y="5424"/>
                          </a:lnTo>
                          <a:lnTo>
                            <a:pt x="3674" y="5486"/>
                          </a:lnTo>
                          <a:lnTo>
                            <a:pt x="3614" y="5544"/>
                          </a:lnTo>
                          <a:lnTo>
                            <a:pt x="3550" y="5600"/>
                          </a:lnTo>
                          <a:lnTo>
                            <a:pt x="3487" y="5658"/>
                          </a:lnTo>
                          <a:lnTo>
                            <a:pt x="3419" y="5713"/>
                          </a:lnTo>
                          <a:lnTo>
                            <a:pt x="3359" y="5771"/>
                          </a:lnTo>
                          <a:lnTo>
                            <a:pt x="3295" y="5832"/>
                          </a:lnTo>
                          <a:lnTo>
                            <a:pt x="3232" y="5888"/>
                          </a:lnTo>
                          <a:lnTo>
                            <a:pt x="3165" y="5946"/>
                          </a:lnTo>
                          <a:lnTo>
                            <a:pt x="3102" y="6001"/>
                          </a:lnTo>
                          <a:lnTo>
                            <a:pt x="3030" y="6059"/>
                          </a:lnTo>
                          <a:lnTo>
                            <a:pt x="3051" y="6040"/>
                          </a:lnTo>
                          <a:lnTo>
                            <a:pt x="3084" y="6023"/>
                          </a:lnTo>
                          <a:lnTo>
                            <a:pt x="3105" y="6004"/>
                          </a:lnTo>
                          <a:lnTo>
                            <a:pt x="2996" y="6076"/>
                          </a:lnTo>
                          <a:lnTo>
                            <a:pt x="2900" y="6147"/>
                          </a:lnTo>
                          <a:lnTo>
                            <a:pt x="2812" y="6211"/>
                          </a:lnTo>
                          <a:lnTo>
                            <a:pt x="2734" y="6260"/>
                          </a:lnTo>
                          <a:lnTo>
                            <a:pt x="2664" y="6316"/>
                          </a:lnTo>
                          <a:lnTo>
                            <a:pt x="2593" y="6357"/>
                          </a:lnTo>
                          <a:lnTo>
                            <a:pt x="2557" y="6380"/>
                          </a:lnTo>
                          <a:lnTo>
                            <a:pt x="2526" y="6402"/>
                          </a:lnTo>
                          <a:lnTo>
                            <a:pt x="2497" y="6429"/>
                          </a:lnTo>
                          <a:lnTo>
                            <a:pt x="2593" y="6371"/>
                          </a:lnTo>
                          <a:lnTo>
                            <a:pt x="2681" y="6338"/>
                          </a:lnTo>
                          <a:lnTo>
                            <a:pt x="2744" y="6325"/>
                          </a:lnTo>
                          <a:lnTo>
                            <a:pt x="2737" y="6325"/>
                          </a:lnTo>
                          <a:lnTo>
                            <a:pt x="2734" y="6325"/>
                          </a:lnTo>
                          <a:lnTo>
                            <a:pt x="2620" y="6338"/>
                          </a:lnTo>
                          <a:lnTo>
                            <a:pt x="2518" y="6357"/>
                          </a:lnTo>
                          <a:lnTo>
                            <a:pt x="2420" y="6402"/>
                          </a:lnTo>
                          <a:lnTo>
                            <a:pt x="2335" y="6461"/>
                          </a:lnTo>
                          <a:lnTo>
                            <a:pt x="1957" y="6772"/>
                          </a:lnTo>
                          <a:lnTo>
                            <a:pt x="1893" y="6827"/>
                          </a:lnTo>
                          <a:lnTo>
                            <a:pt x="1823" y="6886"/>
                          </a:lnTo>
                          <a:lnTo>
                            <a:pt x="1755" y="6941"/>
                          </a:lnTo>
                          <a:lnTo>
                            <a:pt x="1685" y="6993"/>
                          </a:lnTo>
                          <a:lnTo>
                            <a:pt x="1621" y="7048"/>
                          </a:lnTo>
                          <a:lnTo>
                            <a:pt x="1553" y="7102"/>
                          </a:lnTo>
                          <a:lnTo>
                            <a:pt x="1483" y="7157"/>
                          </a:lnTo>
                          <a:lnTo>
                            <a:pt x="1420" y="7206"/>
                          </a:lnTo>
                          <a:lnTo>
                            <a:pt x="1349" y="7261"/>
                          </a:lnTo>
                          <a:lnTo>
                            <a:pt x="1282" y="7309"/>
                          </a:lnTo>
                          <a:lnTo>
                            <a:pt x="1212" y="7361"/>
                          </a:lnTo>
                          <a:lnTo>
                            <a:pt x="1140" y="7411"/>
                          </a:lnTo>
                          <a:lnTo>
                            <a:pt x="1070" y="7463"/>
                          </a:lnTo>
                          <a:lnTo>
                            <a:pt x="999" y="7511"/>
                          </a:lnTo>
                          <a:lnTo>
                            <a:pt x="922" y="7560"/>
                          </a:lnTo>
                          <a:lnTo>
                            <a:pt x="851" y="7602"/>
                          </a:lnTo>
                          <a:lnTo>
                            <a:pt x="816" y="7624"/>
                          </a:lnTo>
                          <a:lnTo>
                            <a:pt x="784" y="7646"/>
                          </a:lnTo>
                          <a:lnTo>
                            <a:pt x="756" y="7673"/>
                          </a:lnTo>
                          <a:lnTo>
                            <a:pt x="714" y="7712"/>
                          </a:lnTo>
                          <a:lnTo>
                            <a:pt x="667" y="7748"/>
                          </a:lnTo>
                          <a:lnTo>
                            <a:pt x="625" y="7786"/>
                          </a:lnTo>
                          <a:lnTo>
                            <a:pt x="561" y="7842"/>
                          </a:lnTo>
                          <a:lnTo>
                            <a:pt x="494" y="7900"/>
                          </a:lnTo>
                          <a:lnTo>
                            <a:pt x="431" y="7961"/>
                          </a:lnTo>
                          <a:lnTo>
                            <a:pt x="360" y="8019"/>
                          </a:lnTo>
                          <a:lnTo>
                            <a:pt x="293" y="8091"/>
                          </a:lnTo>
                          <a:lnTo>
                            <a:pt x="229" y="8162"/>
                          </a:lnTo>
                          <a:lnTo>
                            <a:pt x="169" y="8237"/>
                          </a:lnTo>
                          <a:lnTo>
                            <a:pt x="109" y="8318"/>
                          </a:lnTo>
                          <a:lnTo>
                            <a:pt x="63" y="8405"/>
                          </a:lnTo>
                          <a:lnTo>
                            <a:pt x="28" y="8492"/>
                          </a:lnTo>
                          <a:lnTo>
                            <a:pt x="3" y="8580"/>
                          </a:lnTo>
                          <a:lnTo>
                            <a:pt x="0" y="8668"/>
                          </a:lnTo>
                          <a:lnTo>
                            <a:pt x="10" y="8749"/>
                          </a:lnTo>
                          <a:lnTo>
                            <a:pt x="34" y="8832"/>
                          </a:lnTo>
                          <a:lnTo>
                            <a:pt x="70" y="8917"/>
                          </a:lnTo>
                          <a:lnTo>
                            <a:pt x="123" y="8985"/>
                          </a:lnTo>
                          <a:lnTo>
                            <a:pt x="187" y="9053"/>
                          </a:lnTo>
                          <a:lnTo>
                            <a:pt x="257" y="9111"/>
                          </a:lnTo>
                          <a:lnTo>
                            <a:pt x="346" y="9153"/>
                          </a:lnTo>
                          <a:lnTo>
                            <a:pt x="431" y="9186"/>
                          </a:lnTo>
                          <a:lnTo>
                            <a:pt x="525" y="9202"/>
                          </a:lnTo>
                          <a:lnTo>
                            <a:pt x="621" y="9208"/>
                          </a:lnTo>
                          <a:lnTo>
                            <a:pt x="714" y="9199"/>
                          </a:lnTo>
                          <a:lnTo>
                            <a:pt x="802" y="9169"/>
                          </a:lnTo>
                          <a:lnTo>
                            <a:pt x="896" y="9137"/>
                          </a:lnTo>
                          <a:lnTo>
                            <a:pt x="974" y="9102"/>
                          </a:lnTo>
                          <a:lnTo>
                            <a:pt x="1052" y="9056"/>
                          </a:lnTo>
                          <a:lnTo>
                            <a:pt x="1130" y="9017"/>
                          </a:lnTo>
                          <a:lnTo>
                            <a:pt x="1200" y="8975"/>
                          </a:lnTo>
                          <a:lnTo>
                            <a:pt x="1278" y="8937"/>
                          </a:lnTo>
                          <a:lnTo>
                            <a:pt x="1353" y="8895"/>
                          </a:lnTo>
                          <a:lnTo>
                            <a:pt x="1430" y="8852"/>
                          </a:lnTo>
                          <a:lnTo>
                            <a:pt x="1508" y="8813"/>
                          </a:lnTo>
                          <a:lnTo>
                            <a:pt x="1586" y="8768"/>
                          </a:lnTo>
                          <a:lnTo>
                            <a:pt x="1656" y="8726"/>
                          </a:lnTo>
                          <a:lnTo>
                            <a:pt x="1734" y="8687"/>
                          </a:lnTo>
                          <a:lnTo>
                            <a:pt x="1805" y="8644"/>
                          </a:lnTo>
                          <a:lnTo>
                            <a:pt x="1879" y="8599"/>
                          </a:lnTo>
                          <a:lnTo>
                            <a:pt x="1957" y="8558"/>
                          </a:lnTo>
                          <a:lnTo>
                            <a:pt x="2028" y="8515"/>
                          </a:lnTo>
                          <a:lnTo>
                            <a:pt x="2098" y="8470"/>
                          </a:lnTo>
                          <a:lnTo>
                            <a:pt x="2176" y="8428"/>
                          </a:lnTo>
                          <a:lnTo>
                            <a:pt x="2246" y="8382"/>
                          </a:lnTo>
                          <a:lnTo>
                            <a:pt x="2324" y="8340"/>
                          </a:lnTo>
                          <a:lnTo>
                            <a:pt x="2394" y="8298"/>
                          </a:lnTo>
                          <a:lnTo>
                            <a:pt x="2466" y="8253"/>
                          </a:lnTo>
                          <a:lnTo>
                            <a:pt x="2544" y="8210"/>
                          </a:lnTo>
                          <a:lnTo>
                            <a:pt x="2614" y="8165"/>
                          </a:lnTo>
                          <a:lnTo>
                            <a:pt x="2685" y="8116"/>
                          </a:lnTo>
                          <a:lnTo>
                            <a:pt x="2755" y="8074"/>
                          </a:lnTo>
                          <a:lnTo>
                            <a:pt x="2830" y="8030"/>
                          </a:lnTo>
                          <a:lnTo>
                            <a:pt x="2900" y="7980"/>
                          </a:lnTo>
                          <a:lnTo>
                            <a:pt x="2970" y="7939"/>
                          </a:lnTo>
                          <a:lnTo>
                            <a:pt x="3048" y="7897"/>
                          </a:lnTo>
                          <a:lnTo>
                            <a:pt x="3112" y="7848"/>
                          </a:lnTo>
                          <a:lnTo>
                            <a:pt x="3183" y="7803"/>
                          </a:lnTo>
                          <a:lnTo>
                            <a:pt x="3253" y="7754"/>
                          </a:lnTo>
                          <a:lnTo>
                            <a:pt x="3324" y="7712"/>
                          </a:lnTo>
                          <a:lnTo>
                            <a:pt x="3395" y="7663"/>
                          </a:lnTo>
                          <a:lnTo>
                            <a:pt x="3469" y="7618"/>
                          </a:lnTo>
                          <a:lnTo>
                            <a:pt x="3539" y="7569"/>
                          </a:lnTo>
                          <a:lnTo>
                            <a:pt x="3603" y="7521"/>
                          </a:lnTo>
                          <a:lnTo>
                            <a:pt x="3674" y="7478"/>
                          </a:lnTo>
                          <a:lnTo>
                            <a:pt x="3744" y="7427"/>
                          </a:lnTo>
                          <a:lnTo>
                            <a:pt x="3811" y="7378"/>
                          </a:lnTo>
                          <a:lnTo>
                            <a:pt x="3882" y="7336"/>
                          </a:lnTo>
                          <a:lnTo>
                            <a:pt x="3953" y="7287"/>
                          </a:lnTo>
                          <a:lnTo>
                            <a:pt x="4016" y="7239"/>
                          </a:lnTo>
                          <a:lnTo>
                            <a:pt x="4091" y="7190"/>
                          </a:lnTo>
                          <a:lnTo>
                            <a:pt x="4154" y="7142"/>
                          </a:lnTo>
                          <a:lnTo>
                            <a:pt x="4225" y="7096"/>
                          </a:lnTo>
                          <a:lnTo>
                            <a:pt x="4289" y="7048"/>
                          </a:lnTo>
                          <a:lnTo>
                            <a:pt x="4362" y="6999"/>
                          </a:lnTo>
                          <a:lnTo>
                            <a:pt x="4426" y="6950"/>
                          </a:lnTo>
                          <a:lnTo>
                            <a:pt x="4489" y="6902"/>
                          </a:lnTo>
                          <a:lnTo>
                            <a:pt x="4564" y="6853"/>
                          </a:lnTo>
                          <a:lnTo>
                            <a:pt x="4627" y="6805"/>
                          </a:lnTo>
                          <a:lnTo>
                            <a:pt x="4691" y="6759"/>
                          </a:lnTo>
                          <a:lnTo>
                            <a:pt x="4759" y="6707"/>
                          </a:lnTo>
                          <a:lnTo>
                            <a:pt x="4829" y="6662"/>
                          </a:lnTo>
                          <a:lnTo>
                            <a:pt x="4893" y="6613"/>
                          </a:lnTo>
                          <a:lnTo>
                            <a:pt x="4959" y="6559"/>
                          </a:lnTo>
                          <a:lnTo>
                            <a:pt x="5023" y="6516"/>
                          </a:lnTo>
                          <a:lnTo>
                            <a:pt x="5091" y="6468"/>
                          </a:lnTo>
                          <a:lnTo>
                            <a:pt x="5154" y="6419"/>
                          </a:lnTo>
                          <a:lnTo>
                            <a:pt x="5224" y="6364"/>
                          </a:lnTo>
                          <a:lnTo>
                            <a:pt x="5292" y="6316"/>
                          </a:lnTo>
                          <a:lnTo>
                            <a:pt x="5356" y="6273"/>
                          </a:lnTo>
                          <a:lnTo>
                            <a:pt x="5423" y="6219"/>
                          </a:lnTo>
                          <a:lnTo>
                            <a:pt x="5486" y="6169"/>
                          </a:lnTo>
                          <a:lnTo>
                            <a:pt x="5546" y="6120"/>
                          </a:lnTo>
                          <a:lnTo>
                            <a:pt x="5610" y="6072"/>
                          </a:lnTo>
                          <a:lnTo>
                            <a:pt x="5677" y="6023"/>
                          </a:lnTo>
                          <a:lnTo>
                            <a:pt x="5740" y="5971"/>
                          </a:lnTo>
                          <a:lnTo>
                            <a:pt x="5804" y="5923"/>
                          </a:lnTo>
                          <a:lnTo>
                            <a:pt x="5871" y="5874"/>
                          </a:lnTo>
                          <a:lnTo>
                            <a:pt x="5935" y="5826"/>
                          </a:lnTo>
                          <a:lnTo>
                            <a:pt x="5995" y="5777"/>
                          </a:lnTo>
                          <a:lnTo>
                            <a:pt x="6062" y="5729"/>
                          </a:lnTo>
                          <a:lnTo>
                            <a:pt x="6125" y="5680"/>
                          </a:lnTo>
                          <a:lnTo>
                            <a:pt x="6189" y="5625"/>
                          </a:lnTo>
                          <a:lnTo>
                            <a:pt x="6249" y="5576"/>
                          </a:lnTo>
                          <a:lnTo>
                            <a:pt x="6316" y="5528"/>
                          </a:lnTo>
                          <a:lnTo>
                            <a:pt x="6373" y="5479"/>
                          </a:lnTo>
                          <a:lnTo>
                            <a:pt x="6440" y="5431"/>
                          </a:lnTo>
                          <a:lnTo>
                            <a:pt x="6504" y="5382"/>
                          </a:lnTo>
                          <a:lnTo>
                            <a:pt x="6563" y="5334"/>
                          </a:lnTo>
                          <a:lnTo>
                            <a:pt x="6628" y="5285"/>
                          </a:lnTo>
                          <a:lnTo>
                            <a:pt x="6688" y="5236"/>
                          </a:lnTo>
                          <a:lnTo>
                            <a:pt x="6755" y="5185"/>
                          </a:lnTo>
                          <a:lnTo>
                            <a:pt x="6811" y="5136"/>
                          </a:lnTo>
                          <a:lnTo>
                            <a:pt x="6878" y="5084"/>
                          </a:lnTo>
                          <a:lnTo>
                            <a:pt x="6938" y="5036"/>
                          </a:lnTo>
                          <a:lnTo>
                            <a:pt x="7002" y="4987"/>
                          </a:lnTo>
                          <a:lnTo>
                            <a:pt x="6994" y="4993"/>
                          </a:lnTo>
                          <a:lnTo>
                            <a:pt x="6991" y="5000"/>
                          </a:lnTo>
                          <a:lnTo>
                            <a:pt x="6984" y="5003"/>
                          </a:lnTo>
                          <a:lnTo>
                            <a:pt x="7065" y="4945"/>
                          </a:lnTo>
                          <a:lnTo>
                            <a:pt x="7157" y="4890"/>
                          </a:lnTo>
                          <a:lnTo>
                            <a:pt x="7249" y="4831"/>
                          </a:lnTo>
                          <a:lnTo>
                            <a:pt x="7345" y="4776"/>
                          </a:lnTo>
                          <a:lnTo>
                            <a:pt x="7447" y="4718"/>
                          </a:lnTo>
                          <a:lnTo>
                            <a:pt x="7528" y="4669"/>
                          </a:lnTo>
                          <a:lnTo>
                            <a:pt x="7613" y="4621"/>
                          </a:lnTo>
                          <a:lnTo>
                            <a:pt x="7687" y="4569"/>
                          </a:lnTo>
                          <a:lnTo>
                            <a:pt x="7772" y="4520"/>
                          </a:lnTo>
                          <a:lnTo>
                            <a:pt x="7853" y="4469"/>
                          </a:lnTo>
                          <a:lnTo>
                            <a:pt x="7937" y="4414"/>
                          </a:lnTo>
                          <a:lnTo>
                            <a:pt x="8015" y="4351"/>
                          </a:lnTo>
                          <a:lnTo>
                            <a:pt x="8090" y="4300"/>
                          </a:lnTo>
                          <a:lnTo>
                            <a:pt x="8160" y="4245"/>
                          </a:lnTo>
                          <a:lnTo>
                            <a:pt x="8238" y="4190"/>
                          </a:lnTo>
                          <a:lnTo>
                            <a:pt x="8308" y="4132"/>
                          </a:lnTo>
                          <a:lnTo>
                            <a:pt x="8380" y="4077"/>
                          </a:lnTo>
                          <a:lnTo>
                            <a:pt x="8454" y="4018"/>
                          </a:lnTo>
                          <a:lnTo>
                            <a:pt x="8524" y="3963"/>
                          </a:lnTo>
                          <a:lnTo>
                            <a:pt x="8588" y="3902"/>
                          </a:lnTo>
                          <a:lnTo>
                            <a:pt x="8659" y="3850"/>
                          </a:lnTo>
                          <a:lnTo>
                            <a:pt x="8726" y="3789"/>
                          </a:lnTo>
                          <a:lnTo>
                            <a:pt x="8790" y="3733"/>
                          </a:lnTo>
                          <a:lnTo>
                            <a:pt x="8853" y="3674"/>
                          </a:lnTo>
                          <a:lnTo>
                            <a:pt x="8923" y="3616"/>
                          </a:lnTo>
                          <a:lnTo>
                            <a:pt x="8988" y="3555"/>
                          </a:lnTo>
                          <a:lnTo>
                            <a:pt x="9058" y="3499"/>
                          </a:lnTo>
                          <a:lnTo>
                            <a:pt x="9128" y="3441"/>
                          </a:lnTo>
                          <a:lnTo>
                            <a:pt x="9196" y="3386"/>
                          </a:lnTo>
                          <a:lnTo>
                            <a:pt x="9266" y="3328"/>
                          </a:lnTo>
                          <a:lnTo>
                            <a:pt x="9330" y="3273"/>
                          </a:lnTo>
                          <a:lnTo>
                            <a:pt x="9401" y="3218"/>
                          </a:lnTo>
                          <a:lnTo>
                            <a:pt x="9471" y="3162"/>
                          </a:lnTo>
                          <a:lnTo>
                            <a:pt x="9546" y="3111"/>
                          </a:lnTo>
                          <a:lnTo>
                            <a:pt x="9616" y="3056"/>
                          </a:lnTo>
                          <a:lnTo>
                            <a:pt x="9598" y="3071"/>
                          </a:lnTo>
                          <a:lnTo>
                            <a:pt x="9574" y="3088"/>
                          </a:lnTo>
                          <a:lnTo>
                            <a:pt x="9546" y="3098"/>
                          </a:lnTo>
                          <a:lnTo>
                            <a:pt x="9627" y="3056"/>
                          </a:lnTo>
                          <a:lnTo>
                            <a:pt x="9708" y="3013"/>
                          </a:lnTo>
                          <a:lnTo>
                            <a:pt x="9785" y="2962"/>
                          </a:lnTo>
                          <a:lnTo>
                            <a:pt x="9871" y="2919"/>
                          </a:lnTo>
                          <a:lnTo>
                            <a:pt x="9948" y="2871"/>
                          </a:lnTo>
                          <a:lnTo>
                            <a:pt x="10019" y="2822"/>
                          </a:lnTo>
                          <a:lnTo>
                            <a:pt x="10093" y="2774"/>
                          </a:lnTo>
                          <a:lnTo>
                            <a:pt x="10167" y="2725"/>
                          </a:lnTo>
                          <a:lnTo>
                            <a:pt x="10242" y="2677"/>
                          </a:lnTo>
                          <a:lnTo>
                            <a:pt x="10312" y="2628"/>
                          </a:lnTo>
                          <a:lnTo>
                            <a:pt x="10387" y="2579"/>
                          </a:lnTo>
                          <a:lnTo>
                            <a:pt x="10450" y="2524"/>
                          </a:lnTo>
                          <a:lnTo>
                            <a:pt x="10520" y="2476"/>
                          </a:lnTo>
                          <a:lnTo>
                            <a:pt x="10592" y="2421"/>
                          </a:lnTo>
                          <a:lnTo>
                            <a:pt x="10658" y="2372"/>
                          </a:lnTo>
                          <a:lnTo>
                            <a:pt x="10729" y="2317"/>
                          </a:lnTo>
                          <a:lnTo>
                            <a:pt x="10792" y="2269"/>
                          </a:lnTo>
                          <a:lnTo>
                            <a:pt x="10860" y="2220"/>
                          </a:lnTo>
                          <a:lnTo>
                            <a:pt x="10835" y="2236"/>
                          </a:lnTo>
                          <a:lnTo>
                            <a:pt x="10810" y="2252"/>
                          </a:lnTo>
                          <a:lnTo>
                            <a:pt x="10782" y="2269"/>
                          </a:lnTo>
                          <a:lnTo>
                            <a:pt x="10976" y="2158"/>
                          </a:lnTo>
                          <a:lnTo>
                            <a:pt x="11054" y="2116"/>
                          </a:lnTo>
                          <a:lnTo>
                            <a:pt x="11132" y="2078"/>
                          </a:lnTo>
                          <a:lnTo>
                            <a:pt x="11206" y="2035"/>
                          </a:lnTo>
                          <a:lnTo>
                            <a:pt x="11283" y="1993"/>
                          </a:lnTo>
                          <a:lnTo>
                            <a:pt x="11354" y="1954"/>
                          </a:lnTo>
                          <a:lnTo>
                            <a:pt x="11432" y="1909"/>
                          </a:lnTo>
                          <a:lnTo>
                            <a:pt x="11503" y="1867"/>
                          </a:lnTo>
                          <a:lnTo>
                            <a:pt x="11581" y="1824"/>
                          </a:lnTo>
                          <a:lnTo>
                            <a:pt x="11659" y="1779"/>
                          </a:lnTo>
                          <a:lnTo>
                            <a:pt x="11729" y="1737"/>
                          </a:lnTo>
                          <a:lnTo>
                            <a:pt x="11800" y="1688"/>
                          </a:lnTo>
                          <a:lnTo>
                            <a:pt x="11877" y="1643"/>
                          </a:lnTo>
                          <a:lnTo>
                            <a:pt x="11948" y="1594"/>
                          </a:lnTo>
                          <a:lnTo>
                            <a:pt x="12018" y="1545"/>
                          </a:lnTo>
                          <a:lnTo>
                            <a:pt x="12090" y="1504"/>
                          </a:lnTo>
                          <a:lnTo>
                            <a:pt x="12160" y="1448"/>
                          </a:lnTo>
                          <a:lnTo>
                            <a:pt x="12231" y="1400"/>
                          </a:lnTo>
                          <a:lnTo>
                            <a:pt x="12301" y="1345"/>
                          </a:lnTo>
                          <a:lnTo>
                            <a:pt x="12368" y="1290"/>
                          </a:lnTo>
                          <a:lnTo>
                            <a:pt x="12439" y="1238"/>
                          </a:lnTo>
                          <a:lnTo>
                            <a:pt x="12509" y="1177"/>
                          </a:lnTo>
                          <a:lnTo>
                            <a:pt x="12576" y="1118"/>
                          </a:lnTo>
                          <a:lnTo>
                            <a:pt x="12648" y="1057"/>
                          </a:lnTo>
                          <a:lnTo>
                            <a:pt x="12552" y="1128"/>
                          </a:lnTo>
                          <a:lnTo>
                            <a:pt x="12449" y="1177"/>
                          </a:lnTo>
                          <a:lnTo>
                            <a:pt x="12333" y="1209"/>
                          </a:lnTo>
                          <a:lnTo>
                            <a:pt x="12213" y="1222"/>
                          </a:lnTo>
                          <a:lnTo>
                            <a:pt x="12350" y="1209"/>
                          </a:lnTo>
                          <a:lnTo>
                            <a:pt x="12467" y="1177"/>
                          </a:lnTo>
                          <a:lnTo>
                            <a:pt x="12563" y="1135"/>
                          </a:lnTo>
                          <a:lnTo>
                            <a:pt x="12633" y="1086"/>
                          </a:lnTo>
                          <a:lnTo>
                            <a:pt x="12687" y="1047"/>
                          </a:lnTo>
                          <a:lnTo>
                            <a:pt x="12693" y="1047"/>
                          </a:lnTo>
                          <a:lnTo>
                            <a:pt x="12693" y="1041"/>
                          </a:lnTo>
                          <a:lnTo>
                            <a:pt x="12700" y="1041"/>
                          </a:lnTo>
                          <a:lnTo>
                            <a:pt x="12651" y="1069"/>
                          </a:lnTo>
                          <a:lnTo>
                            <a:pt x="12576" y="1089"/>
                          </a:lnTo>
                          <a:lnTo>
                            <a:pt x="12474" y="1102"/>
                          </a:lnTo>
                          <a:lnTo>
                            <a:pt x="12379" y="1096"/>
                          </a:lnTo>
                          <a:lnTo>
                            <a:pt x="12283" y="1073"/>
                          </a:lnTo>
                          <a:lnTo>
                            <a:pt x="12195" y="1041"/>
                          </a:lnTo>
                          <a:lnTo>
                            <a:pt x="12121" y="992"/>
                          </a:lnTo>
                          <a:lnTo>
                            <a:pt x="12047" y="937"/>
                          </a:lnTo>
                          <a:lnTo>
                            <a:pt x="11983" y="869"/>
                          </a:lnTo>
                          <a:lnTo>
                            <a:pt x="11937" y="791"/>
                          </a:lnTo>
                          <a:lnTo>
                            <a:pt x="11902" y="710"/>
                          </a:lnTo>
                          <a:lnTo>
                            <a:pt x="11877" y="622"/>
                          </a:lnTo>
                          <a:lnTo>
                            <a:pt x="11877" y="535"/>
                          </a:lnTo>
                          <a:lnTo>
                            <a:pt x="11880" y="450"/>
                          </a:lnTo>
                          <a:lnTo>
                            <a:pt x="11906" y="364"/>
                          </a:lnTo>
                          <a:lnTo>
                            <a:pt x="11948" y="282"/>
                          </a:lnTo>
                          <a:lnTo>
                            <a:pt x="12000" y="204"/>
                          </a:lnTo>
                          <a:lnTo>
                            <a:pt x="11326" y="998"/>
                          </a:lnTo>
                          <a:lnTo>
                            <a:pt x="11273" y="1063"/>
                          </a:lnTo>
                          <a:lnTo>
                            <a:pt x="11220" y="1128"/>
                          </a:lnTo>
                          <a:lnTo>
                            <a:pt x="11167" y="1193"/>
                          </a:lnTo>
                          <a:lnTo>
                            <a:pt x="11114" y="1257"/>
                          </a:lnTo>
                          <a:lnTo>
                            <a:pt x="11054" y="1323"/>
                          </a:lnTo>
                          <a:lnTo>
                            <a:pt x="11001" y="1384"/>
                          </a:lnTo>
                          <a:lnTo>
                            <a:pt x="10948" y="1448"/>
                          </a:lnTo>
                          <a:lnTo>
                            <a:pt x="10895" y="1507"/>
                          </a:lnTo>
                          <a:lnTo>
                            <a:pt x="10842" y="1575"/>
                          </a:lnTo>
                          <a:lnTo>
                            <a:pt x="10785" y="1633"/>
                          </a:lnTo>
                          <a:lnTo>
                            <a:pt x="10733" y="1699"/>
                          </a:lnTo>
                          <a:lnTo>
                            <a:pt x="10680" y="1757"/>
                          </a:lnTo>
                          <a:lnTo>
                            <a:pt x="10626" y="1824"/>
                          </a:lnTo>
                          <a:lnTo>
                            <a:pt x="10574" y="1883"/>
                          </a:lnTo>
                          <a:lnTo>
                            <a:pt x="10520" y="1941"/>
                          </a:lnTo>
                          <a:lnTo>
                            <a:pt x="10475" y="2009"/>
                          </a:lnTo>
                          <a:lnTo>
                            <a:pt x="10421" y="2067"/>
                          </a:lnTo>
                          <a:lnTo>
                            <a:pt x="10365" y="2126"/>
                          </a:lnTo>
                          <a:lnTo>
                            <a:pt x="10312" y="2188"/>
                          </a:lnTo>
                          <a:lnTo>
                            <a:pt x="10259" y="2246"/>
                          </a:lnTo>
                          <a:lnTo>
                            <a:pt x="10206" y="2307"/>
                          </a:lnTo>
                          <a:lnTo>
                            <a:pt x="10161" y="2366"/>
                          </a:lnTo>
                          <a:lnTo>
                            <a:pt x="10107" y="2427"/>
                          </a:lnTo>
                          <a:lnTo>
                            <a:pt x="10055" y="2485"/>
                          </a:lnTo>
                          <a:lnTo>
                            <a:pt x="10001" y="2543"/>
                          </a:lnTo>
                          <a:lnTo>
                            <a:pt x="9948" y="2599"/>
                          </a:lnTo>
                          <a:lnTo>
                            <a:pt x="9899" y="2661"/>
                          </a:lnTo>
                          <a:lnTo>
                            <a:pt x="9845" y="2719"/>
                          </a:lnTo>
                          <a:lnTo>
                            <a:pt x="9793" y="2777"/>
                          </a:lnTo>
                          <a:lnTo>
                            <a:pt x="9747" y="2839"/>
                          </a:lnTo>
                          <a:lnTo>
                            <a:pt x="9691" y="2894"/>
                          </a:lnTo>
                          <a:lnTo>
                            <a:pt x="9637" y="2952"/>
                          </a:lnTo>
                          <a:lnTo>
                            <a:pt x="9585" y="3013"/>
                          </a:lnTo>
                          <a:lnTo>
                            <a:pt x="9538" y="3065"/>
                          </a:lnTo>
                          <a:lnTo>
                            <a:pt x="9478" y="3127"/>
                          </a:lnTo>
                          <a:lnTo>
                            <a:pt x="9432" y="3179"/>
                          </a:lnTo>
                          <a:lnTo>
                            <a:pt x="9380" y="3240"/>
                          </a:lnTo>
                          <a:lnTo>
                            <a:pt x="9326" y="3295"/>
                          </a:lnTo>
                          <a:lnTo>
                            <a:pt x="9270" y="3353"/>
                          </a:lnTo>
                          <a:lnTo>
                            <a:pt x="9217" y="3409"/>
                          </a:lnTo>
                          <a:lnTo>
                            <a:pt x="9164" y="3467"/>
                          </a:lnTo>
                          <a:lnTo>
                            <a:pt x="9111" y="3522"/>
                          </a:lnTo>
                          <a:lnTo>
                            <a:pt x="9058" y="3577"/>
                          </a:lnTo>
                          <a:lnTo>
                            <a:pt x="9004" y="3635"/>
                          </a:lnTo>
                          <a:lnTo>
                            <a:pt x="8952" y="3690"/>
                          </a:lnTo>
                          <a:lnTo>
                            <a:pt x="8899" y="3749"/>
                          </a:lnTo>
                          <a:lnTo>
                            <a:pt x="8850" y="3804"/>
                          </a:lnTo>
                          <a:lnTo>
                            <a:pt x="8796" y="3859"/>
                          </a:lnTo>
                          <a:lnTo>
                            <a:pt x="8744" y="3917"/>
                          </a:lnTo>
                          <a:lnTo>
                            <a:pt x="8684" y="3972"/>
                          </a:lnTo>
                          <a:lnTo>
                            <a:pt x="8630" y="4028"/>
                          </a:lnTo>
                          <a:lnTo>
                            <a:pt x="8578" y="4086"/>
                          </a:lnTo>
                          <a:lnTo>
                            <a:pt x="8518" y="4141"/>
                          </a:lnTo>
                          <a:lnTo>
                            <a:pt x="8464" y="4196"/>
                          </a:lnTo>
                          <a:lnTo>
                            <a:pt x="8404" y="4251"/>
                          </a:lnTo>
                          <a:lnTo>
                            <a:pt x="8352" y="4309"/>
                          </a:lnTo>
                          <a:lnTo>
                            <a:pt x="8292" y="4365"/>
                          </a:lnTo>
                          <a:lnTo>
                            <a:pt x="8238" y="4420"/>
                          </a:lnTo>
                          <a:lnTo>
                            <a:pt x="8178" y="4472"/>
                          </a:lnTo>
                          <a:lnTo>
                            <a:pt x="8121" y="4533"/>
                          </a:lnTo>
                          <a:lnTo>
                            <a:pt x="8061" y="4585"/>
                          </a:lnTo>
                          <a:lnTo>
                            <a:pt x="8002" y="4640"/>
                          </a:lnTo>
                          <a:lnTo>
                            <a:pt x="7942" y="4696"/>
                          </a:lnTo>
                          <a:lnTo>
                            <a:pt x="7885" y="4754"/>
                          </a:lnTo>
                          <a:lnTo>
                            <a:pt x="7825" y="4809"/>
                          </a:lnTo>
                          <a:lnTo>
                            <a:pt x="7765" y="4864"/>
                          </a:lnTo>
                          <a:lnTo>
                            <a:pt x="7705" y="4922"/>
                          </a:lnTo>
                          <a:lnTo>
                            <a:pt x="7648" y="4977"/>
                          </a:lnTo>
                          <a:lnTo>
                            <a:pt x="7581" y="5029"/>
                          </a:lnTo>
                          <a:lnTo>
                            <a:pt x="7521" y="5084"/>
                          </a:lnTo>
                          <a:lnTo>
                            <a:pt x="7457" y="5136"/>
                          </a:lnTo>
                          <a:lnTo>
                            <a:pt x="7394" y="5197"/>
                          </a:lnTo>
                          <a:lnTo>
                            <a:pt x="7334" y="5252"/>
                          </a:lnTo>
                          <a:lnTo>
                            <a:pt x="7267" y="5304"/>
                          </a:lnTo>
                          <a:lnTo>
                            <a:pt x="7204" y="5366"/>
                          </a:lnTo>
                          <a:lnTo>
                            <a:pt x="7140" y="5421"/>
                          </a:lnTo>
                          <a:lnTo>
                            <a:pt x="7072" y="5479"/>
                          </a:lnTo>
                          <a:lnTo>
                            <a:pt x="7009" y="5534"/>
                          </a:lnTo>
                          <a:lnTo>
                            <a:pt x="6942" y="5586"/>
                          </a:lnTo>
                          <a:lnTo>
                            <a:pt x="6871" y="5648"/>
                          </a:lnTo>
                          <a:lnTo>
                            <a:pt x="6807" y="5703"/>
                          </a:lnTo>
                          <a:lnTo>
                            <a:pt x="6737" y="5761"/>
                          </a:lnTo>
                          <a:lnTo>
                            <a:pt x="6662" y="5823"/>
                          </a:lnTo>
                          <a:lnTo>
                            <a:pt x="6599" y="5874"/>
                          </a:lnTo>
                          <a:lnTo>
                            <a:pt x="6529" y="5929"/>
                          </a:lnTo>
                          <a:lnTo>
                            <a:pt x="6521" y="5940"/>
                          </a:lnTo>
                          <a:lnTo>
                            <a:pt x="6511" y="5946"/>
                          </a:lnTo>
                          <a:lnTo>
                            <a:pt x="6504" y="5956"/>
                          </a:lnTo>
                          <a:lnTo>
                            <a:pt x="6451" y="6001"/>
                          </a:lnTo>
                          <a:lnTo>
                            <a:pt x="6387" y="6050"/>
                          </a:lnTo>
                          <a:lnTo>
                            <a:pt x="6316" y="6098"/>
                          </a:lnTo>
                          <a:lnTo>
                            <a:pt x="6239" y="6147"/>
                          </a:lnTo>
                          <a:lnTo>
                            <a:pt x="6154" y="6202"/>
                          </a:lnTo>
                          <a:lnTo>
                            <a:pt x="6073" y="6257"/>
                          </a:lnTo>
                          <a:lnTo>
                            <a:pt x="5984" y="6305"/>
                          </a:lnTo>
                          <a:lnTo>
                            <a:pt x="5889" y="6357"/>
                          </a:lnTo>
                          <a:lnTo>
                            <a:pt x="5800" y="6413"/>
                          </a:lnTo>
                          <a:lnTo>
                            <a:pt x="5716" y="6461"/>
                          </a:lnTo>
                          <a:lnTo>
                            <a:pt x="5634" y="6507"/>
                          </a:lnTo>
                          <a:lnTo>
                            <a:pt x="5550" y="6555"/>
                          </a:lnTo>
                          <a:lnTo>
                            <a:pt x="5468" y="6604"/>
                          </a:lnTo>
                          <a:lnTo>
                            <a:pt x="5390" y="6653"/>
                          </a:lnTo>
                          <a:lnTo>
                            <a:pt x="5309" y="6707"/>
                          </a:lnTo>
                          <a:lnTo>
                            <a:pt x="5232" y="6756"/>
                          </a:lnTo>
                          <a:lnTo>
                            <a:pt x="5161" y="6808"/>
                          </a:lnTo>
                          <a:lnTo>
                            <a:pt x="5083" y="6860"/>
                          </a:lnTo>
                          <a:lnTo>
                            <a:pt x="5019" y="6911"/>
                          </a:lnTo>
                          <a:lnTo>
                            <a:pt x="4953" y="6966"/>
                          </a:lnTo>
                          <a:lnTo>
                            <a:pt x="4889" y="7021"/>
                          </a:lnTo>
                          <a:lnTo>
                            <a:pt x="4899" y="7008"/>
                          </a:lnTo>
                          <a:lnTo>
                            <a:pt x="4910" y="6999"/>
                          </a:lnTo>
                          <a:lnTo>
                            <a:pt x="4928" y="6989"/>
                          </a:lnTo>
                          <a:lnTo>
                            <a:pt x="4889" y="7021"/>
                          </a:lnTo>
                          <a:lnTo>
                            <a:pt x="4836" y="7060"/>
                          </a:lnTo>
                          <a:lnTo>
                            <a:pt x="4783" y="7096"/>
                          </a:lnTo>
                          <a:lnTo>
                            <a:pt x="4715" y="7142"/>
                          </a:lnTo>
                          <a:lnTo>
                            <a:pt x="4652" y="7190"/>
                          </a:lnTo>
                          <a:lnTo>
                            <a:pt x="4582" y="7245"/>
                          </a:lnTo>
                          <a:lnTo>
                            <a:pt x="4504" y="7297"/>
                          </a:lnTo>
                          <a:lnTo>
                            <a:pt x="4426" y="7352"/>
                          </a:lnTo>
                          <a:lnTo>
                            <a:pt x="4345" y="7407"/>
                          </a:lnTo>
                          <a:lnTo>
                            <a:pt x="4260" y="7466"/>
                          </a:lnTo>
                          <a:lnTo>
                            <a:pt x="4179" y="7530"/>
                          </a:lnTo>
                          <a:lnTo>
                            <a:pt x="4091" y="7591"/>
                          </a:lnTo>
                          <a:lnTo>
                            <a:pt x="3999" y="7651"/>
                          </a:lnTo>
                          <a:lnTo>
                            <a:pt x="3910" y="7715"/>
                          </a:lnTo>
                          <a:lnTo>
                            <a:pt x="3822" y="7779"/>
                          </a:lnTo>
                          <a:lnTo>
                            <a:pt x="3726" y="7848"/>
                          </a:lnTo>
                          <a:lnTo>
                            <a:pt x="3638" y="7906"/>
                          </a:lnTo>
                          <a:lnTo>
                            <a:pt x="3550" y="7971"/>
                          </a:lnTo>
                          <a:lnTo>
                            <a:pt x="3461" y="8030"/>
                          </a:lnTo>
                          <a:lnTo>
                            <a:pt x="3377" y="8091"/>
                          </a:lnTo>
                          <a:lnTo>
                            <a:pt x="3303" y="8146"/>
                          </a:lnTo>
                          <a:lnTo>
                            <a:pt x="3225" y="8198"/>
                          </a:lnTo>
                          <a:lnTo>
                            <a:pt x="3154" y="8253"/>
                          </a:lnTo>
                          <a:lnTo>
                            <a:pt x="3084" y="8301"/>
                          </a:lnTo>
                          <a:lnTo>
                            <a:pt x="3017" y="8350"/>
                          </a:lnTo>
                          <a:lnTo>
                            <a:pt x="2963" y="8395"/>
                          </a:lnTo>
                          <a:lnTo>
                            <a:pt x="2911" y="8431"/>
                          </a:lnTo>
                          <a:lnTo>
                            <a:pt x="2864" y="8467"/>
                          </a:lnTo>
                          <a:lnTo>
                            <a:pt x="2798" y="8525"/>
                          </a:lnTo>
                          <a:lnTo>
                            <a:pt x="2752" y="8583"/>
                          </a:lnTo>
                          <a:lnTo>
                            <a:pt x="2710" y="8652"/>
                          </a:lnTo>
                          <a:lnTo>
                            <a:pt x="2674" y="8719"/>
                          </a:lnTo>
                          <a:lnTo>
                            <a:pt x="2656" y="8790"/>
                          </a:lnTo>
                          <a:lnTo>
                            <a:pt x="2646" y="8868"/>
                          </a:lnTo>
                          <a:lnTo>
                            <a:pt x="2649" y="8943"/>
                          </a:lnTo>
                          <a:lnTo>
                            <a:pt x="2664" y="9014"/>
                          </a:lnTo>
                          <a:lnTo>
                            <a:pt x="2685" y="9089"/>
                          </a:lnTo>
                          <a:lnTo>
                            <a:pt x="2720" y="9160"/>
                          </a:lnTo>
                          <a:lnTo>
                            <a:pt x="2770" y="9225"/>
                          </a:lnTo>
                          <a:lnTo>
                            <a:pt x="2830" y="9286"/>
                          </a:lnTo>
                          <a:lnTo>
                            <a:pt x="2886" y="9335"/>
                          </a:lnTo>
                          <a:lnTo>
                            <a:pt x="2957" y="9377"/>
                          </a:lnTo>
                          <a:lnTo>
                            <a:pt x="3035" y="9409"/>
                          </a:lnTo>
                          <a:lnTo>
                            <a:pt x="3112" y="9432"/>
                          </a:lnTo>
                          <a:lnTo>
                            <a:pt x="3193" y="9442"/>
                          </a:lnTo>
                          <a:lnTo>
                            <a:pt x="3278" y="9442"/>
                          </a:lnTo>
                          <a:lnTo>
                            <a:pt x="3359" y="9435"/>
                          </a:lnTo>
                          <a:lnTo>
                            <a:pt x="3437" y="9416"/>
                          </a:lnTo>
                          <a:lnTo>
                            <a:pt x="3515" y="9387"/>
                          </a:lnTo>
                          <a:lnTo>
                            <a:pt x="3593" y="9344"/>
                          </a:lnTo>
                          <a:lnTo>
                            <a:pt x="3674" y="9296"/>
                          </a:lnTo>
                          <a:lnTo>
                            <a:pt x="3759" y="9241"/>
                          </a:lnTo>
                          <a:lnTo>
                            <a:pt x="3832" y="9186"/>
                          </a:lnTo>
                          <a:lnTo>
                            <a:pt x="3918" y="9137"/>
                          </a:lnTo>
                          <a:lnTo>
                            <a:pt x="3999" y="9086"/>
                          </a:lnTo>
                          <a:lnTo>
                            <a:pt x="4076" y="9031"/>
                          </a:lnTo>
                          <a:lnTo>
                            <a:pt x="4161" y="8981"/>
                          </a:lnTo>
                          <a:lnTo>
                            <a:pt x="4235" y="8926"/>
                          </a:lnTo>
                          <a:lnTo>
                            <a:pt x="4320" y="8878"/>
                          </a:lnTo>
                          <a:lnTo>
                            <a:pt x="4398" y="8823"/>
                          </a:lnTo>
                          <a:lnTo>
                            <a:pt x="4473" y="8774"/>
                          </a:lnTo>
                          <a:lnTo>
                            <a:pt x="4549" y="8719"/>
                          </a:lnTo>
                          <a:lnTo>
                            <a:pt x="4627" y="8671"/>
                          </a:lnTo>
                          <a:lnTo>
                            <a:pt x="4705" y="8616"/>
                          </a:lnTo>
                          <a:lnTo>
                            <a:pt x="4783" y="8567"/>
                          </a:lnTo>
                          <a:lnTo>
                            <a:pt x="4857" y="8519"/>
                          </a:lnTo>
                          <a:lnTo>
                            <a:pt x="4935" y="8467"/>
                          </a:lnTo>
                          <a:lnTo>
                            <a:pt x="5013" y="8415"/>
                          </a:lnTo>
                          <a:lnTo>
                            <a:pt x="5091" y="8363"/>
                          </a:lnTo>
                          <a:lnTo>
                            <a:pt x="5161" y="8315"/>
                          </a:lnTo>
                          <a:lnTo>
                            <a:pt x="5232" y="8259"/>
                          </a:lnTo>
                          <a:lnTo>
                            <a:pt x="5309" y="8210"/>
                          </a:lnTo>
                          <a:lnTo>
                            <a:pt x="5380" y="8162"/>
                          </a:lnTo>
                          <a:lnTo>
                            <a:pt x="5458" y="8113"/>
                          </a:lnTo>
                          <a:lnTo>
                            <a:pt x="5528" y="8058"/>
                          </a:lnTo>
                          <a:lnTo>
                            <a:pt x="5600" y="8010"/>
                          </a:lnTo>
                          <a:lnTo>
                            <a:pt x="5670" y="7961"/>
                          </a:lnTo>
                          <a:lnTo>
                            <a:pt x="5740" y="7906"/>
                          </a:lnTo>
                          <a:lnTo>
                            <a:pt x="5811" y="7858"/>
                          </a:lnTo>
                          <a:lnTo>
                            <a:pt x="5882" y="7809"/>
                          </a:lnTo>
                          <a:lnTo>
                            <a:pt x="5953" y="7760"/>
                          </a:lnTo>
                          <a:lnTo>
                            <a:pt x="6023" y="7705"/>
                          </a:lnTo>
                          <a:lnTo>
                            <a:pt x="6098" y="7657"/>
                          </a:lnTo>
                          <a:lnTo>
                            <a:pt x="6161" y="7608"/>
                          </a:lnTo>
                          <a:lnTo>
                            <a:pt x="6231" y="7560"/>
                          </a:lnTo>
                          <a:lnTo>
                            <a:pt x="6299" y="7511"/>
                          </a:lnTo>
                          <a:lnTo>
                            <a:pt x="6369" y="7463"/>
                          </a:lnTo>
                          <a:lnTo>
                            <a:pt x="6433" y="7407"/>
                          </a:lnTo>
                          <a:lnTo>
                            <a:pt x="6500" y="7358"/>
                          </a:lnTo>
                          <a:lnTo>
                            <a:pt x="6563" y="7309"/>
                          </a:lnTo>
                          <a:lnTo>
                            <a:pt x="6628" y="7261"/>
                          </a:lnTo>
                          <a:lnTo>
                            <a:pt x="6695" y="7209"/>
                          </a:lnTo>
                          <a:lnTo>
                            <a:pt x="6758" y="7161"/>
                          </a:lnTo>
                          <a:lnTo>
                            <a:pt x="6825" y="7112"/>
                          </a:lnTo>
                          <a:lnTo>
                            <a:pt x="6888" y="7063"/>
                          </a:lnTo>
                          <a:lnTo>
                            <a:pt x="6956" y="7015"/>
                          </a:lnTo>
                          <a:lnTo>
                            <a:pt x="7020" y="6966"/>
                          </a:lnTo>
                          <a:lnTo>
                            <a:pt x="7080" y="6918"/>
                          </a:lnTo>
                          <a:lnTo>
                            <a:pt x="7143" y="6869"/>
                          </a:lnTo>
                          <a:lnTo>
                            <a:pt x="7204" y="6820"/>
                          </a:lnTo>
                          <a:lnTo>
                            <a:pt x="7264" y="6775"/>
                          </a:lnTo>
                          <a:lnTo>
                            <a:pt x="7327" y="6727"/>
                          </a:lnTo>
                          <a:lnTo>
                            <a:pt x="7387" y="6678"/>
                          </a:lnTo>
                          <a:lnTo>
                            <a:pt x="7447" y="6629"/>
                          </a:lnTo>
                          <a:lnTo>
                            <a:pt x="7503" y="6581"/>
                          </a:lnTo>
                          <a:lnTo>
                            <a:pt x="7563" y="6532"/>
                          </a:lnTo>
                          <a:lnTo>
                            <a:pt x="7623" y="6490"/>
                          </a:lnTo>
                          <a:lnTo>
                            <a:pt x="7684" y="6441"/>
                          </a:lnTo>
                          <a:lnTo>
                            <a:pt x="7740" y="6390"/>
                          </a:lnTo>
                          <a:lnTo>
                            <a:pt x="7801" y="6341"/>
                          </a:lnTo>
                          <a:lnTo>
                            <a:pt x="7853" y="6299"/>
                          </a:lnTo>
                          <a:lnTo>
                            <a:pt x="7913" y="6250"/>
                          </a:lnTo>
                          <a:lnTo>
                            <a:pt x="7966" y="6202"/>
                          </a:lnTo>
                          <a:lnTo>
                            <a:pt x="8027" y="6156"/>
                          </a:lnTo>
                          <a:lnTo>
                            <a:pt x="8079" y="6108"/>
                          </a:lnTo>
                          <a:lnTo>
                            <a:pt x="8139" y="6059"/>
                          </a:lnTo>
                          <a:lnTo>
                            <a:pt x="8193" y="6017"/>
                          </a:lnTo>
                          <a:lnTo>
                            <a:pt x="8245" y="5968"/>
                          </a:lnTo>
                          <a:lnTo>
                            <a:pt x="8298" y="5920"/>
                          </a:lnTo>
                          <a:lnTo>
                            <a:pt x="8352" y="5874"/>
                          </a:lnTo>
                          <a:lnTo>
                            <a:pt x="8404" y="5826"/>
                          </a:lnTo>
                          <a:lnTo>
                            <a:pt x="8458" y="5783"/>
                          </a:lnTo>
                          <a:lnTo>
                            <a:pt x="8507" y="5735"/>
                          </a:lnTo>
                          <a:lnTo>
                            <a:pt x="8560" y="5689"/>
                          </a:lnTo>
                          <a:lnTo>
                            <a:pt x="8612" y="5641"/>
                          </a:lnTo>
                          <a:lnTo>
                            <a:pt x="8659" y="5600"/>
                          </a:lnTo>
                          <a:lnTo>
                            <a:pt x="8712" y="5550"/>
                          </a:lnTo>
                          <a:lnTo>
                            <a:pt x="8702" y="5561"/>
                          </a:lnTo>
                          <a:lnTo>
                            <a:pt x="8694" y="5567"/>
                          </a:lnTo>
                          <a:lnTo>
                            <a:pt x="8690" y="5570"/>
                          </a:lnTo>
                          <a:lnTo>
                            <a:pt x="8744" y="5534"/>
                          </a:lnTo>
                          <a:lnTo>
                            <a:pt x="8800" y="5489"/>
                          </a:lnTo>
                          <a:lnTo>
                            <a:pt x="8864" y="5447"/>
                          </a:lnTo>
                          <a:lnTo>
                            <a:pt x="8934" y="5409"/>
                          </a:lnTo>
                          <a:lnTo>
                            <a:pt x="9004" y="5366"/>
                          </a:lnTo>
                          <a:lnTo>
                            <a:pt x="9090" y="5327"/>
                          </a:lnTo>
                          <a:lnTo>
                            <a:pt x="9170" y="5285"/>
                          </a:lnTo>
                          <a:lnTo>
                            <a:pt x="9260" y="5240"/>
                          </a:lnTo>
                          <a:lnTo>
                            <a:pt x="9354" y="5200"/>
                          </a:lnTo>
                          <a:lnTo>
                            <a:pt x="9443" y="5158"/>
                          </a:lnTo>
                          <a:lnTo>
                            <a:pt x="9538" y="5119"/>
                          </a:lnTo>
                          <a:lnTo>
                            <a:pt x="9634" y="5078"/>
                          </a:lnTo>
                          <a:lnTo>
                            <a:pt x="9733" y="5036"/>
                          </a:lnTo>
                          <a:lnTo>
                            <a:pt x="9828" y="5000"/>
                          </a:lnTo>
                          <a:lnTo>
                            <a:pt x="9909" y="4961"/>
                          </a:lnTo>
                          <a:lnTo>
                            <a:pt x="10001" y="4928"/>
                          </a:lnTo>
                          <a:lnTo>
                            <a:pt x="10089" y="4890"/>
                          </a:lnTo>
                          <a:lnTo>
                            <a:pt x="10171" y="4854"/>
                          </a:lnTo>
                          <a:lnTo>
                            <a:pt x="10255" y="4815"/>
                          </a:lnTo>
                          <a:lnTo>
                            <a:pt x="10344" y="4776"/>
                          </a:lnTo>
                          <a:lnTo>
                            <a:pt x="10426" y="4737"/>
                          </a:lnTo>
                          <a:lnTo>
                            <a:pt x="10510" y="4702"/>
                          </a:lnTo>
                          <a:lnTo>
                            <a:pt x="10592" y="4663"/>
                          </a:lnTo>
                          <a:lnTo>
                            <a:pt x="10676" y="4621"/>
                          </a:lnTo>
                          <a:lnTo>
                            <a:pt x="10750" y="4582"/>
                          </a:lnTo>
                          <a:lnTo>
                            <a:pt x="10835" y="4536"/>
                          </a:lnTo>
                          <a:lnTo>
                            <a:pt x="10912" y="4494"/>
                          </a:lnTo>
                          <a:lnTo>
                            <a:pt x="10984" y="4452"/>
                          </a:lnTo>
                          <a:lnTo>
                            <a:pt x="11062" y="4403"/>
                          </a:lnTo>
                          <a:lnTo>
                            <a:pt x="11132" y="4358"/>
                          </a:lnTo>
                          <a:lnTo>
                            <a:pt x="11195" y="4317"/>
                          </a:lnTo>
                          <a:lnTo>
                            <a:pt x="11266" y="4261"/>
                          </a:lnTo>
                          <a:lnTo>
                            <a:pt x="11326" y="4212"/>
                          </a:lnTo>
                          <a:lnTo>
                            <a:pt x="11390" y="4163"/>
                          </a:lnTo>
                          <a:lnTo>
                            <a:pt x="11442" y="4109"/>
                          </a:lnTo>
                          <a:lnTo>
                            <a:pt x="11503" y="4054"/>
                          </a:lnTo>
                          <a:lnTo>
                            <a:pt x="11563" y="4002"/>
                          </a:lnTo>
                          <a:lnTo>
                            <a:pt x="11616" y="3941"/>
                          </a:lnTo>
                          <a:lnTo>
                            <a:pt x="11675" y="3886"/>
                          </a:lnTo>
                          <a:lnTo>
                            <a:pt x="11735" y="3827"/>
                          </a:lnTo>
                          <a:lnTo>
                            <a:pt x="11792" y="3772"/>
                          </a:lnTo>
                          <a:lnTo>
                            <a:pt x="11852" y="3717"/>
                          </a:lnTo>
                          <a:lnTo>
                            <a:pt x="11912" y="3659"/>
                          </a:lnTo>
                          <a:lnTo>
                            <a:pt x="11973" y="3604"/>
                          </a:lnTo>
                          <a:lnTo>
                            <a:pt x="12029" y="3545"/>
                          </a:lnTo>
                          <a:lnTo>
                            <a:pt x="12090" y="3490"/>
                          </a:lnTo>
                          <a:lnTo>
                            <a:pt x="12156" y="3435"/>
                          </a:lnTo>
                          <a:lnTo>
                            <a:pt x="12213" y="3377"/>
                          </a:lnTo>
                          <a:lnTo>
                            <a:pt x="12273" y="3322"/>
                          </a:lnTo>
                          <a:lnTo>
                            <a:pt x="12340" y="3267"/>
                          </a:lnTo>
                          <a:lnTo>
                            <a:pt x="12397" y="3214"/>
                          </a:lnTo>
                          <a:lnTo>
                            <a:pt x="12464" y="3159"/>
                          </a:lnTo>
                          <a:lnTo>
                            <a:pt x="12527" y="3104"/>
                          </a:lnTo>
                          <a:lnTo>
                            <a:pt x="12594" y="3049"/>
                          </a:lnTo>
                          <a:lnTo>
                            <a:pt x="12658" y="3001"/>
                          </a:lnTo>
                          <a:lnTo>
                            <a:pt x="12721" y="2946"/>
                          </a:lnTo>
                          <a:lnTo>
                            <a:pt x="12789" y="2897"/>
                          </a:lnTo>
                          <a:lnTo>
                            <a:pt x="12852" y="2845"/>
                          </a:lnTo>
                          <a:lnTo>
                            <a:pt x="12919" y="2797"/>
                          </a:lnTo>
                          <a:lnTo>
                            <a:pt x="12991" y="2745"/>
                          </a:lnTo>
                          <a:lnTo>
                            <a:pt x="13061" y="2697"/>
                          </a:lnTo>
                          <a:lnTo>
                            <a:pt x="13124" y="2648"/>
                          </a:lnTo>
                          <a:lnTo>
                            <a:pt x="13199" y="2599"/>
                          </a:lnTo>
                          <a:lnTo>
                            <a:pt x="13269" y="2557"/>
                          </a:lnTo>
                          <a:lnTo>
                            <a:pt x="13340" y="2512"/>
                          </a:lnTo>
                          <a:lnTo>
                            <a:pt x="13410" y="2463"/>
                          </a:lnTo>
                          <a:lnTo>
                            <a:pt x="13481" y="2421"/>
                          </a:lnTo>
                          <a:lnTo>
                            <a:pt x="13559" y="2382"/>
                          </a:lnTo>
                          <a:lnTo>
                            <a:pt x="13630" y="2340"/>
                          </a:lnTo>
                          <a:lnTo>
                            <a:pt x="13707" y="2294"/>
                          </a:lnTo>
                          <a:lnTo>
                            <a:pt x="13781" y="2258"/>
                          </a:lnTo>
                          <a:lnTo>
                            <a:pt x="13856" y="2220"/>
                          </a:lnTo>
                          <a:lnTo>
                            <a:pt x="13764" y="2258"/>
                          </a:lnTo>
                          <a:lnTo>
                            <a:pt x="13676" y="2278"/>
                          </a:lnTo>
                          <a:lnTo>
                            <a:pt x="13580" y="2285"/>
                          </a:lnTo>
                          <a:lnTo>
                            <a:pt x="13492" y="2278"/>
                          </a:lnTo>
                          <a:lnTo>
                            <a:pt x="13404" y="2261"/>
                          </a:lnTo>
                          <a:lnTo>
                            <a:pt x="13315" y="2230"/>
                          </a:lnTo>
                          <a:lnTo>
                            <a:pt x="13238" y="2194"/>
                          </a:lnTo>
                          <a:lnTo>
                            <a:pt x="13160" y="2139"/>
                          </a:lnTo>
                          <a:lnTo>
                            <a:pt x="13096" y="2075"/>
                          </a:lnTo>
                          <a:lnTo>
                            <a:pt x="13043" y="1996"/>
                          </a:lnTo>
                          <a:lnTo>
                            <a:pt x="13007" y="1915"/>
                          </a:lnTo>
                          <a:lnTo>
                            <a:pt x="12976" y="1835"/>
                          </a:lnTo>
                          <a:lnTo>
                            <a:pt x="12973" y="1753"/>
                          </a:lnTo>
                          <a:lnTo>
                            <a:pt x="12976" y="1666"/>
                          </a:lnTo>
                          <a:lnTo>
                            <a:pt x="12997" y="1585"/>
                          </a:lnTo>
                          <a:lnTo>
                            <a:pt x="13025" y="1504"/>
                          </a:lnTo>
                          <a:lnTo>
                            <a:pt x="13071" y="1426"/>
                          </a:lnTo>
                          <a:lnTo>
                            <a:pt x="13131" y="1362"/>
                          </a:lnTo>
                          <a:lnTo>
                            <a:pt x="13089" y="1393"/>
                          </a:lnTo>
                          <a:lnTo>
                            <a:pt x="13054" y="1439"/>
                          </a:lnTo>
                          <a:lnTo>
                            <a:pt x="13007" y="1475"/>
                          </a:lnTo>
                          <a:lnTo>
                            <a:pt x="12965" y="1520"/>
                          </a:lnTo>
                          <a:lnTo>
                            <a:pt x="12923" y="1562"/>
                          </a:lnTo>
                          <a:lnTo>
                            <a:pt x="12877" y="1611"/>
                          </a:lnTo>
                          <a:lnTo>
                            <a:pt x="12831" y="1659"/>
                          </a:lnTo>
                          <a:lnTo>
                            <a:pt x="12781" y="1705"/>
                          </a:lnTo>
                          <a:lnTo>
                            <a:pt x="12729" y="1757"/>
                          </a:lnTo>
                          <a:lnTo>
                            <a:pt x="12683" y="1808"/>
                          </a:lnTo>
                          <a:lnTo>
                            <a:pt x="12630" y="1860"/>
                          </a:lnTo>
                          <a:lnTo>
                            <a:pt x="12576" y="1915"/>
                          </a:lnTo>
                          <a:lnTo>
                            <a:pt x="12521" y="1970"/>
                          </a:lnTo>
                          <a:lnTo>
                            <a:pt x="12464" y="2026"/>
                          </a:lnTo>
                          <a:lnTo>
                            <a:pt x="12410" y="2084"/>
                          </a:lnTo>
                          <a:lnTo>
                            <a:pt x="12350" y="2139"/>
                          </a:lnTo>
                          <a:lnTo>
                            <a:pt x="12290" y="2197"/>
                          </a:lnTo>
                          <a:lnTo>
                            <a:pt x="12231" y="2258"/>
                          </a:lnTo>
                          <a:lnTo>
                            <a:pt x="12166" y="2324"/>
                          </a:lnTo>
                          <a:lnTo>
                            <a:pt x="12106" y="2388"/>
                          </a:lnTo>
                          <a:lnTo>
                            <a:pt x="12043" y="2446"/>
                          </a:lnTo>
                          <a:lnTo>
                            <a:pt x="11976" y="2512"/>
                          </a:lnTo>
                          <a:lnTo>
                            <a:pt x="11912" y="2579"/>
                          </a:lnTo>
                          <a:lnTo>
                            <a:pt x="11846" y="2645"/>
                          </a:lnTo>
                          <a:lnTo>
                            <a:pt x="11782" y="2712"/>
                          </a:lnTo>
                          <a:lnTo>
                            <a:pt x="11711" y="2777"/>
                          </a:lnTo>
                          <a:lnTo>
                            <a:pt x="11644" y="2849"/>
                          </a:lnTo>
                          <a:lnTo>
                            <a:pt x="11574" y="2919"/>
                          </a:lnTo>
                          <a:lnTo>
                            <a:pt x="11503" y="2991"/>
                          </a:lnTo>
                          <a:lnTo>
                            <a:pt x="11439" y="3062"/>
                          </a:lnTo>
                          <a:lnTo>
                            <a:pt x="11369" y="3131"/>
                          </a:lnTo>
                          <a:lnTo>
                            <a:pt x="11291" y="3201"/>
                          </a:lnTo>
                          <a:lnTo>
                            <a:pt x="11220" y="3279"/>
                          </a:lnTo>
                          <a:lnTo>
                            <a:pt x="11150" y="3347"/>
                          </a:lnTo>
                          <a:lnTo>
                            <a:pt x="11078" y="3425"/>
                          </a:lnTo>
                          <a:lnTo>
                            <a:pt x="11001" y="3499"/>
                          </a:lnTo>
                          <a:lnTo>
                            <a:pt x="10930" y="3571"/>
                          </a:lnTo>
                          <a:lnTo>
                            <a:pt x="10852" y="3649"/>
                          </a:lnTo>
                          <a:lnTo>
                            <a:pt x="10775" y="3723"/>
                          </a:lnTo>
                          <a:lnTo>
                            <a:pt x="10704" y="3801"/>
                          </a:lnTo>
                          <a:lnTo>
                            <a:pt x="10626" y="3875"/>
                          </a:lnTo>
                          <a:lnTo>
                            <a:pt x="10549" y="3950"/>
                          </a:lnTo>
                          <a:lnTo>
                            <a:pt x="10475" y="4035"/>
                          </a:lnTo>
                          <a:lnTo>
                            <a:pt x="10397" y="4109"/>
                          </a:lnTo>
                          <a:lnTo>
                            <a:pt x="10319" y="4183"/>
                          </a:lnTo>
                          <a:lnTo>
                            <a:pt x="10242" y="4261"/>
                          </a:lnTo>
                          <a:lnTo>
                            <a:pt x="10167" y="4342"/>
                          </a:lnTo>
                          <a:lnTo>
                            <a:pt x="10089" y="4420"/>
                          </a:lnTo>
                          <a:lnTo>
                            <a:pt x="10011" y="4500"/>
                          </a:lnTo>
                          <a:lnTo>
                            <a:pt x="9934" y="4575"/>
                          </a:lnTo>
                          <a:lnTo>
                            <a:pt x="9856" y="4657"/>
                          </a:lnTo>
                          <a:lnTo>
                            <a:pt x="9782" y="4734"/>
                          </a:lnTo>
                          <a:lnTo>
                            <a:pt x="9704" y="4809"/>
                          </a:lnTo>
                          <a:lnTo>
                            <a:pt x="9627" y="4890"/>
                          </a:lnTo>
                          <a:lnTo>
                            <a:pt x="9549" y="4967"/>
                          </a:lnTo>
                          <a:lnTo>
                            <a:pt x="9471" y="5039"/>
                          </a:lnTo>
                          <a:lnTo>
                            <a:pt x="9398" y="5119"/>
                          </a:lnTo>
                          <a:lnTo>
                            <a:pt x="9320" y="5197"/>
                          </a:lnTo>
                          <a:lnTo>
                            <a:pt x="9242" y="5272"/>
                          </a:lnTo>
                          <a:lnTo>
                            <a:pt x="9164" y="5353"/>
                          </a:lnTo>
                          <a:lnTo>
                            <a:pt x="9090" y="5431"/>
                          </a:lnTo>
                          <a:lnTo>
                            <a:pt x="9012" y="5506"/>
                          </a:lnTo>
                          <a:lnTo>
                            <a:pt x="8934" y="5583"/>
                          </a:lnTo>
                          <a:lnTo>
                            <a:pt x="8864" y="5658"/>
                          </a:lnTo>
                          <a:lnTo>
                            <a:pt x="8790" y="5735"/>
                          </a:lnTo>
                          <a:lnTo>
                            <a:pt x="8712" y="5810"/>
                          </a:lnTo>
                          <a:lnTo>
                            <a:pt x="8641" y="5888"/>
                          </a:lnTo>
                          <a:lnTo>
                            <a:pt x="8570" y="5956"/>
                          </a:lnTo>
                          <a:lnTo>
                            <a:pt x="8500" y="6034"/>
                          </a:lnTo>
                          <a:lnTo>
                            <a:pt x="8422" y="6108"/>
                          </a:lnTo>
                          <a:lnTo>
                            <a:pt x="8352" y="6179"/>
                          </a:lnTo>
                          <a:lnTo>
                            <a:pt x="8281" y="6250"/>
                          </a:lnTo>
                          <a:lnTo>
                            <a:pt x="8210" y="6322"/>
                          </a:lnTo>
                          <a:lnTo>
                            <a:pt x="8139" y="6390"/>
                          </a:lnTo>
                          <a:lnTo>
                            <a:pt x="8072" y="6461"/>
                          </a:lnTo>
                          <a:lnTo>
                            <a:pt x="8002" y="6532"/>
                          </a:lnTo>
                          <a:lnTo>
                            <a:pt x="7937" y="6604"/>
                          </a:lnTo>
                          <a:lnTo>
                            <a:pt x="7867" y="6668"/>
                          </a:lnTo>
                          <a:lnTo>
                            <a:pt x="7801" y="6739"/>
                          </a:lnTo>
                          <a:lnTo>
                            <a:pt x="7737" y="6805"/>
                          </a:lnTo>
                          <a:lnTo>
                            <a:pt x="7669" y="6869"/>
                          </a:lnTo>
                          <a:lnTo>
                            <a:pt x="7613" y="6935"/>
                          </a:lnTo>
                          <a:lnTo>
                            <a:pt x="7545" y="6993"/>
                          </a:lnTo>
                          <a:lnTo>
                            <a:pt x="7482" y="7060"/>
                          </a:lnTo>
                          <a:lnTo>
                            <a:pt x="7422" y="7118"/>
                          </a:lnTo>
                          <a:lnTo>
                            <a:pt x="7362" y="7177"/>
                          </a:lnTo>
                          <a:lnTo>
                            <a:pt x="7302" y="7239"/>
                          </a:lnTo>
                          <a:lnTo>
                            <a:pt x="7249" y="7297"/>
                          </a:lnTo>
                          <a:lnTo>
                            <a:pt x="7192" y="7352"/>
                          </a:lnTo>
                          <a:lnTo>
                            <a:pt x="7140" y="7411"/>
                          </a:lnTo>
                          <a:lnTo>
                            <a:pt x="7080" y="7466"/>
                          </a:lnTo>
                          <a:lnTo>
                            <a:pt x="7030" y="7521"/>
                          </a:lnTo>
                          <a:lnTo>
                            <a:pt x="6977" y="7569"/>
                          </a:lnTo>
                          <a:lnTo>
                            <a:pt x="6924" y="7624"/>
                          </a:lnTo>
                          <a:lnTo>
                            <a:pt x="6878" y="7673"/>
                          </a:lnTo>
                          <a:lnTo>
                            <a:pt x="6828" y="7721"/>
                          </a:lnTo>
                          <a:lnTo>
                            <a:pt x="6783" y="7770"/>
                          </a:lnTo>
                          <a:lnTo>
                            <a:pt x="6740" y="7812"/>
                          </a:lnTo>
                          <a:lnTo>
                            <a:pt x="6695" y="7858"/>
                          </a:lnTo>
                          <a:lnTo>
                            <a:pt x="6652" y="7900"/>
                          </a:lnTo>
                          <a:lnTo>
                            <a:pt x="6610" y="7939"/>
                          </a:lnTo>
                          <a:lnTo>
                            <a:pt x="6574" y="7980"/>
                          </a:lnTo>
                          <a:lnTo>
                            <a:pt x="6535" y="8019"/>
                          </a:lnTo>
                          <a:lnTo>
                            <a:pt x="6500" y="8058"/>
                          </a:lnTo>
                          <a:lnTo>
                            <a:pt x="6468" y="8091"/>
                          </a:lnTo>
                          <a:lnTo>
                            <a:pt x="6433" y="8123"/>
                          </a:lnTo>
                          <a:lnTo>
                            <a:pt x="6405" y="8155"/>
                          </a:lnTo>
                          <a:lnTo>
                            <a:pt x="6373" y="8182"/>
                          </a:lnTo>
                          <a:lnTo>
                            <a:pt x="6345" y="8210"/>
                          </a:lnTo>
                          <a:lnTo>
                            <a:pt x="6320" y="8237"/>
                          </a:lnTo>
                          <a:lnTo>
                            <a:pt x="6299" y="8265"/>
                          </a:lnTo>
                          <a:lnTo>
                            <a:pt x="6274" y="8285"/>
                          </a:lnTo>
                          <a:lnTo>
                            <a:pt x="6257" y="8307"/>
                          </a:lnTo>
                          <a:lnTo>
                            <a:pt x="6231" y="8324"/>
                          </a:lnTo>
                          <a:lnTo>
                            <a:pt x="6221" y="8340"/>
                          </a:lnTo>
                          <a:lnTo>
                            <a:pt x="6203" y="8356"/>
                          </a:lnTo>
                          <a:lnTo>
                            <a:pt x="6189" y="8367"/>
                          </a:lnTo>
                          <a:lnTo>
                            <a:pt x="6179" y="8379"/>
                          </a:lnTo>
                          <a:lnTo>
                            <a:pt x="6171" y="8389"/>
                          </a:lnTo>
                          <a:lnTo>
                            <a:pt x="6168" y="8395"/>
                          </a:lnTo>
                          <a:lnTo>
                            <a:pt x="6161" y="8398"/>
                          </a:lnTo>
                          <a:lnTo>
                            <a:pt x="6154" y="8398"/>
                          </a:lnTo>
                          <a:lnTo>
                            <a:pt x="6101" y="8470"/>
                          </a:lnTo>
                          <a:lnTo>
                            <a:pt x="6055" y="8541"/>
                          </a:lnTo>
                          <a:lnTo>
                            <a:pt x="6023" y="8622"/>
                          </a:lnTo>
                          <a:lnTo>
                            <a:pt x="6005" y="8703"/>
                          </a:lnTo>
                          <a:lnTo>
                            <a:pt x="6002" y="8784"/>
                          </a:lnTo>
                          <a:lnTo>
                            <a:pt x="6013" y="8868"/>
                          </a:lnTo>
                          <a:lnTo>
                            <a:pt x="6031" y="8943"/>
                          </a:lnTo>
                          <a:lnTo>
                            <a:pt x="6065" y="9017"/>
                          </a:lnTo>
                          <a:lnTo>
                            <a:pt x="6115" y="9095"/>
                          </a:lnTo>
                          <a:lnTo>
                            <a:pt x="6171" y="9160"/>
                          </a:lnTo>
                          <a:lnTo>
                            <a:pt x="6242" y="9215"/>
                          </a:lnTo>
                          <a:lnTo>
                            <a:pt x="6320" y="9263"/>
                          </a:lnTo>
                          <a:lnTo>
                            <a:pt x="6405" y="9296"/>
                          </a:lnTo>
                          <a:lnTo>
                            <a:pt x="6493" y="9319"/>
                          </a:lnTo>
                          <a:lnTo>
                            <a:pt x="6581" y="9322"/>
                          </a:lnTo>
                          <a:lnTo>
                            <a:pt x="6670" y="9322"/>
                          </a:lnTo>
                          <a:lnTo>
                            <a:pt x="6758" y="9305"/>
                          </a:lnTo>
                          <a:lnTo>
                            <a:pt x="6843" y="9280"/>
                          </a:lnTo>
                          <a:lnTo>
                            <a:pt x="6924" y="9241"/>
                          </a:lnTo>
                          <a:lnTo>
                            <a:pt x="7002" y="9192"/>
                          </a:lnTo>
                          <a:lnTo>
                            <a:pt x="7083" y="9121"/>
                          </a:lnTo>
                          <a:lnTo>
                            <a:pt x="7175" y="9053"/>
                          </a:lnTo>
                          <a:lnTo>
                            <a:pt x="7264" y="8981"/>
                          </a:lnTo>
                          <a:lnTo>
                            <a:pt x="7358" y="8910"/>
                          </a:lnTo>
                          <a:lnTo>
                            <a:pt x="7447" y="8846"/>
                          </a:lnTo>
                          <a:lnTo>
                            <a:pt x="7535" y="8774"/>
                          </a:lnTo>
                          <a:lnTo>
                            <a:pt x="7623" y="8703"/>
                          </a:lnTo>
                          <a:lnTo>
                            <a:pt x="7711" y="8632"/>
                          </a:lnTo>
                          <a:lnTo>
                            <a:pt x="7801" y="8564"/>
                          </a:lnTo>
                          <a:lnTo>
                            <a:pt x="7888" y="8492"/>
                          </a:lnTo>
                          <a:lnTo>
                            <a:pt x="7976" y="8428"/>
                          </a:lnTo>
                          <a:lnTo>
                            <a:pt x="8061" y="8356"/>
                          </a:lnTo>
                          <a:lnTo>
                            <a:pt x="8150" y="8292"/>
                          </a:lnTo>
                          <a:lnTo>
                            <a:pt x="8235" y="8221"/>
                          </a:lnTo>
                          <a:lnTo>
                            <a:pt x="8323" y="8155"/>
                          </a:lnTo>
                          <a:lnTo>
                            <a:pt x="8404" y="8091"/>
                          </a:lnTo>
                          <a:lnTo>
                            <a:pt x="8489" y="8025"/>
                          </a:lnTo>
                          <a:lnTo>
                            <a:pt x="8570" y="7964"/>
                          </a:lnTo>
                          <a:lnTo>
                            <a:pt x="8648" y="7900"/>
                          </a:lnTo>
                          <a:lnTo>
                            <a:pt x="8729" y="7842"/>
                          </a:lnTo>
                          <a:lnTo>
                            <a:pt x="8807" y="7779"/>
                          </a:lnTo>
                          <a:lnTo>
                            <a:pt x="8874" y="7721"/>
                          </a:lnTo>
                          <a:lnTo>
                            <a:pt x="8952" y="7666"/>
                          </a:lnTo>
                          <a:lnTo>
                            <a:pt x="9022" y="7608"/>
                          </a:lnTo>
                          <a:lnTo>
                            <a:pt x="9094" y="7553"/>
                          </a:lnTo>
                          <a:lnTo>
                            <a:pt x="9164" y="7505"/>
                          </a:lnTo>
                          <a:lnTo>
                            <a:pt x="9231" y="7449"/>
                          </a:lnTo>
                          <a:lnTo>
                            <a:pt x="9291" y="7407"/>
                          </a:lnTo>
                          <a:lnTo>
                            <a:pt x="9354" y="7358"/>
                          </a:lnTo>
                          <a:lnTo>
                            <a:pt x="9414" y="7309"/>
                          </a:lnTo>
                          <a:lnTo>
                            <a:pt x="9471" y="7264"/>
                          </a:lnTo>
                          <a:lnTo>
                            <a:pt x="9528" y="7226"/>
                          </a:lnTo>
                          <a:lnTo>
                            <a:pt x="9574" y="7190"/>
                          </a:lnTo>
                          <a:lnTo>
                            <a:pt x="9627" y="7151"/>
                          </a:lnTo>
                          <a:lnTo>
                            <a:pt x="9673" y="7118"/>
                          </a:lnTo>
                          <a:lnTo>
                            <a:pt x="9715" y="7087"/>
                          </a:lnTo>
                          <a:lnTo>
                            <a:pt x="9751" y="7054"/>
                          </a:lnTo>
                          <a:lnTo>
                            <a:pt x="9793" y="7032"/>
                          </a:lnTo>
                          <a:lnTo>
                            <a:pt x="9821" y="7005"/>
                          </a:lnTo>
                          <a:lnTo>
                            <a:pt x="9853" y="6983"/>
                          </a:lnTo>
                          <a:lnTo>
                            <a:pt x="9881" y="6966"/>
                          </a:lnTo>
                          <a:lnTo>
                            <a:pt x="9905" y="6950"/>
                          </a:lnTo>
                          <a:lnTo>
                            <a:pt x="9923" y="6935"/>
                          </a:lnTo>
                          <a:lnTo>
                            <a:pt x="9941" y="6927"/>
                          </a:lnTo>
                          <a:lnTo>
                            <a:pt x="9871" y="6960"/>
                          </a:lnTo>
                          <a:lnTo>
                            <a:pt x="9793" y="6983"/>
                          </a:lnTo>
                          <a:lnTo>
                            <a:pt x="9715" y="6999"/>
                          </a:lnTo>
                          <a:lnTo>
                            <a:pt x="9627" y="6999"/>
                          </a:lnTo>
                          <a:lnTo>
                            <a:pt x="9538" y="6993"/>
                          </a:lnTo>
                          <a:lnTo>
                            <a:pt x="9450" y="6973"/>
                          </a:lnTo>
                          <a:lnTo>
                            <a:pt x="9362" y="6941"/>
                          </a:lnTo>
                          <a:lnTo>
                            <a:pt x="9277" y="6892"/>
                          </a:lnTo>
                          <a:lnTo>
                            <a:pt x="9206" y="6830"/>
                          </a:lnTo>
                          <a:lnTo>
                            <a:pt x="9146" y="6759"/>
                          </a:lnTo>
                          <a:lnTo>
                            <a:pt x="9100" y="6684"/>
                          </a:lnTo>
                          <a:lnTo>
                            <a:pt x="9065" y="6607"/>
                          </a:lnTo>
                          <a:lnTo>
                            <a:pt x="9047" y="6526"/>
                          </a:lnTo>
                          <a:lnTo>
                            <a:pt x="9040" y="6445"/>
                          </a:lnTo>
                          <a:lnTo>
                            <a:pt x="9047" y="6364"/>
                          </a:lnTo>
                          <a:lnTo>
                            <a:pt x="9072" y="6283"/>
                          </a:lnTo>
                          <a:lnTo>
                            <a:pt x="9107" y="6202"/>
                          </a:lnTo>
                          <a:lnTo>
                            <a:pt x="9154" y="6131"/>
                          </a:lnTo>
                          <a:lnTo>
                            <a:pt x="9170" y="6108"/>
                          </a:lnTo>
                          <a:lnTo>
                            <a:pt x="9188" y="6092"/>
                          </a:lnTo>
                          <a:lnTo>
                            <a:pt x="9206" y="6076"/>
                          </a:lnTo>
                          <a:lnTo>
                            <a:pt x="9242" y="6043"/>
                          </a:lnTo>
                          <a:lnTo>
                            <a:pt x="9266" y="6026"/>
                          </a:lnTo>
                          <a:lnTo>
                            <a:pt x="9277" y="6023"/>
                          </a:lnTo>
                          <a:lnTo>
                            <a:pt x="9199" y="6059"/>
                          </a:lnTo>
                          <a:lnTo>
                            <a:pt x="9065" y="6131"/>
                          </a:lnTo>
                          <a:lnTo>
                            <a:pt x="8928" y="6202"/>
                          </a:lnTo>
                          <a:lnTo>
                            <a:pt x="8800" y="6267"/>
                          </a:lnTo>
                          <a:lnTo>
                            <a:pt x="8676" y="6325"/>
                          </a:lnTo>
                          <a:lnTo>
                            <a:pt x="8570" y="6380"/>
                          </a:lnTo>
                          <a:lnTo>
                            <a:pt x="8471" y="6435"/>
                          </a:lnTo>
                          <a:lnTo>
                            <a:pt x="8380" y="6484"/>
                          </a:lnTo>
                          <a:lnTo>
                            <a:pt x="8305" y="6526"/>
                          </a:lnTo>
                          <a:lnTo>
                            <a:pt x="8235" y="6571"/>
                          </a:lnTo>
                          <a:lnTo>
                            <a:pt x="8168" y="6613"/>
                          </a:lnTo>
                          <a:lnTo>
                            <a:pt x="8121" y="6659"/>
                          </a:lnTo>
                          <a:lnTo>
                            <a:pt x="8072" y="6701"/>
                          </a:lnTo>
                          <a:lnTo>
                            <a:pt x="8033" y="6743"/>
                          </a:lnTo>
                          <a:lnTo>
                            <a:pt x="8002" y="6788"/>
                          </a:lnTo>
                          <a:lnTo>
                            <a:pt x="7976" y="6836"/>
                          </a:lnTo>
                          <a:lnTo>
                            <a:pt x="7959" y="6886"/>
                          </a:lnTo>
                          <a:lnTo>
                            <a:pt x="7949" y="6941"/>
                          </a:lnTo>
                          <a:lnTo>
                            <a:pt x="7942" y="6993"/>
                          </a:lnTo>
                          <a:lnTo>
                            <a:pt x="7942" y="7060"/>
                          </a:lnTo>
                          <a:lnTo>
                            <a:pt x="7949" y="6950"/>
                          </a:lnTo>
                          <a:lnTo>
                            <a:pt x="7984" y="6847"/>
                          </a:lnTo>
                          <a:lnTo>
                            <a:pt x="8044" y="6750"/>
                          </a:lnTo>
                          <a:lnTo>
                            <a:pt x="8115" y="6668"/>
                          </a:lnTo>
                          <a:lnTo>
                            <a:pt x="8090" y="6684"/>
                          </a:lnTo>
                          <a:lnTo>
                            <a:pt x="8061" y="6711"/>
                          </a:lnTo>
                          <a:lnTo>
                            <a:pt x="8033" y="6739"/>
                          </a:lnTo>
                          <a:lnTo>
                            <a:pt x="7991" y="6772"/>
                          </a:lnTo>
                          <a:lnTo>
                            <a:pt x="7942" y="6805"/>
                          </a:lnTo>
                          <a:lnTo>
                            <a:pt x="7888" y="6844"/>
                          </a:lnTo>
                          <a:lnTo>
                            <a:pt x="7835" y="6886"/>
                          </a:lnTo>
                          <a:lnTo>
                            <a:pt x="7779" y="6927"/>
                          </a:lnTo>
                          <a:lnTo>
                            <a:pt x="7711" y="6973"/>
                          </a:lnTo>
                          <a:lnTo>
                            <a:pt x="7641" y="7021"/>
                          </a:lnTo>
                          <a:lnTo>
                            <a:pt x="7571" y="7077"/>
                          </a:lnTo>
                          <a:lnTo>
                            <a:pt x="7493" y="7126"/>
                          </a:lnTo>
                          <a:lnTo>
                            <a:pt x="7415" y="7184"/>
                          </a:lnTo>
                          <a:lnTo>
                            <a:pt x="7341" y="7239"/>
                          </a:lnTo>
                          <a:lnTo>
                            <a:pt x="7256" y="7297"/>
                          </a:lnTo>
                          <a:lnTo>
                            <a:pt x="7175" y="7352"/>
                          </a:lnTo>
                          <a:lnTo>
                            <a:pt x="7083" y="7417"/>
                          </a:lnTo>
                          <a:lnTo>
                            <a:pt x="6994" y="7478"/>
                          </a:lnTo>
                          <a:lnTo>
                            <a:pt x="6906" y="7537"/>
                          </a:lnTo>
                          <a:lnTo>
                            <a:pt x="6818" y="7595"/>
                          </a:lnTo>
                          <a:lnTo>
                            <a:pt x="6722" y="7663"/>
                          </a:lnTo>
                          <a:lnTo>
                            <a:pt x="6634" y="7721"/>
                          </a:lnTo>
                          <a:lnTo>
                            <a:pt x="6546" y="7786"/>
                          </a:lnTo>
                          <a:lnTo>
                            <a:pt x="6457" y="7848"/>
                          </a:lnTo>
                          <a:lnTo>
                            <a:pt x="6369" y="7906"/>
                          </a:lnTo>
                          <a:lnTo>
                            <a:pt x="6281" y="7964"/>
                          </a:lnTo>
                          <a:lnTo>
                            <a:pt x="6197" y="8019"/>
                          </a:lnTo>
                          <a:lnTo>
                            <a:pt x="6108" y="8081"/>
                          </a:lnTo>
                          <a:lnTo>
                            <a:pt x="6023" y="8133"/>
                          </a:lnTo>
                          <a:lnTo>
                            <a:pt x="5949" y="8188"/>
                          </a:lnTo>
                          <a:lnTo>
                            <a:pt x="5871" y="8243"/>
                          </a:lnTo>
                          <a:lnTo>
                            <a:pt x="5794" y="8292"/>
                          </a:lnTo>
                          <a:lnTo>
                            <a:pt x="5723" y="8340"/>
                          </a:lnTo>
                          <a:lnTo>
                            <a:pt x="5652" y="8382"/>
                          </a:lnTo>
                          <a:lnTo>
                            <a:pt x="5585" y="8428"/>
                          </a:lnTo>
                          <a:lnTo>
                            <a:pt x="5528" y="8467"/>
                          </a:lnTo>
                          <a:lnTo>
                            <a:pt x="5475" y="8502"/>
                          </a:lnTo>
                          <a:lnTo>
                            <a:pt x="5426" y="8534"/>
                          </a:lnTo>
                          <a:lnTo>
                            <a:pt x="5380" y="8564"/>
                          </a:lnTo>
                          <a:lnTo>
                            <a:pt x="5338" y="8589"/>
                          </a:lnTo>
                          <a:lnTo>
                            <a:pt x="5302" y="8613"/>
                          </a:lnTo>
                          <a:lnTo>
                            <a:pt x="5387" y="8567"/>
                          </a:lnTo>
                          <a:lnTo>
                            <a:pt x="5468" y="8541"/>
                          </a:lnTo>
                          <a:lnTo>
                            <a:pt x="5550" y="8525"/>
                          </a:lnTo>
                          <a:lnTo>
                            <a:pt x="5642" y="8515"/>
                          </a:lnTo>
                          <a:lnTo>
                            <a:pt x="5723" y="8525"/>
                          </a:lnTo>
                          <a:lnTo>
                            <a:pt x="5811" y="8541"/>
                          </a:lnTo>
                          <a:lnTo>
                            <a:pt x="5896" y="8567"/>
                          </a:lnTo>
                          <a:lnTo>
                            <a:pt x="5971" y="8606"/>
                          </a:lnTo>
                          <a:lnTo>
                            <a:pt x="6037" y="8661"/>
                          </a:lnTo>
                          <a:lnTo>
                            <a:pt x="6101" y="8719"/>
                          </a:lnTo>
                          <a:lnTo>
                            <a:pt x="6154" y="8784"/>
                          </a:lnTo>
                          <a:lnTo>
                            <a:pt x="6197" y="8862"/>
                          </a:lnTo>
                          <a:lnTo>
                            <a:pt x="6221" y="8937"/>
                          </a:lnTo>
                          <a:lnTo>
                            <a:pt x="6239" y="9017"/>
                          </a:lnTo>
                          <a:lnTo>
                            <a:pt x="6239" y="9095"/>
                          </a:lnTo>
                          <a:lnTo>
                            <a:pt x="6225" y="9177"/>
                          </a:lnTo>
                          <a:lnTo>
                            <a:pt x="6207" y="9250"/>
                          </a:lnTo>
                          <a:lnTo>
                            <a:pt x="6171" y="9329"/>
                          </a:lnTo>
                          <a:lnTo>
                            <a:pt x="6119" y="9393"/>
                          </a:lnTo>
                          <a:lnTo>
                            <a:pt x="6062" y="9459"/>
                          </a:lnTo>
                          <a:lnTo>
                            <a:pt x="6101" y="9419"/>
                          </a:lnTo>
                          <a:lnTo>
                            <a:pt x="6150" y="9384"/>
                          </a:lnTo>
                          <a:lnTo>
                            <a:pt x="6197" y="9344"/>
                          </a:lnTo>
                          <a:lnTo>
                            <a:pt x="6242" y="9305"/>
                          </a:lnTo>
                          <a:lnTo>
                            <a:pt x="6299" y="9271"/>
                          </a:lnTo>
                          <a:lnTo>
                            <a:pt x="6352" y="9225"/>
                          </a:lnTo>
                          <a:lnTo>
                            <a:pt x="6405" y="9186"/>
                          </a:lnTo>
                          <a:lnTo>
                            <a:pt x="6461" y="9144"/>
                          </a:lnTo>
                          <a:lnTo>
                            <a:pt x="6521" y="9102"/>
                          </a:lnTo>
                          <a:lnTo>
                            <a:pt x="6589" y="9063"/>
                          </a:lnTo>
                          <a:lnTo>
                            <a:pt x="6644" y="9017"/>
                          </a:lnTo>
                          <a:lnTo>
                            <a:pt x="6712" y="8975"/>
                          </a:lnTo>
                          <a:lnTo>
                            <a:pt x="6783" y="8933"/>
                          </a:lnTo>
                          <a:lnTo>
                            <a:pt x="6846" y="8884"/>
                          </a:lnTo>
                          <a:lnTo>
                            <a:pt x="6921" y="8840"/>
                          </a:lnTo>
                          <a:lnTo>
                            <a:pt x="6991" y="8797"/>
                          </a:lnTo>
                          <a:lnTo>
                            <a:pt x="7065" y="8752"/>
                          </a:lnTo>
                          <a:lnTo>
                            <a:pt x="7140" y="8703"/>
                          </a:lnTo>
                          <a:lnTo>
                            <a:pt x="7214" y="8661"/>
                          </a:lnTo>
                          <a:lnTo>
                            <a:pt x="7292" y="8613"/>
                          </a:lnTo>
                          <a:lnTo>
                            <a:pt x="7376" y="8567"/>
                          </a:lnTo>
                          <a:lnTo>
                            <a:pt x="7451" y="8519"/>
                          </a:lnTo>
                          <a:lnTo>
                            <a:pt x="7535" y="8470"/>
                          </a:lnTo>
                          <a:lnTo>
                            <a:pt x="7613" y="8428"/>
                          </a:lnTo>
                          <a:lnTo>
                            <a:pt x="7695" y="8379"/>
                          </a:lnTo>
                          <a:lnTo>
                            <a:pt x="7779" y="8331"/>
                          </a:lnTo>
                          <a:lnTo>
                            <a:pt x="7867" y="8282"/>
                          </a:lnTo>
                          <a:lnTo>
                            <a:pt x="7949" y="8237"/>
                          </a:lnTo>
                          <a:lnTo>
                            <a:pt x="8033" y="8188"/>
                          </a:lnTo>
                          <a:lnTo>
                            <a:pt x="8121" y="8139"/>
                          </a:lnTo>
                          <a:lnTo>
                            <a:pt x="8203" y="8091"/>
                          </a:lnTo>
                          <a:lnTo>
                            <a:pt x="8292" y="8042"/>
                          </a:lnTo>
                          <a:lnTo>
                            <a:pt x="8376" y="7994"/>
                          </a:lnTo>
                          <a:lnTo>
                            <a:pt x="8464" y="7945"/>
                          </a:lnTo>
                          <a:lnTo>
                            <a:pt x="8552" y="7897"/>
                          </a:lnTo>
                          <a:lnTo>
                            <a:pt x="8634" y="7848"/>
                          </a:lnTo>
                          <a:lnTo>
                            <a:pt x="8726" y="7803"/>
                          </a:lnTo>
                          <a:lnTo>
                            <a:pt x="8814" y="7748"/>
                          </a:lnTo>
                          <a:lnTo>
                            <a:pt x="8892" y="7705"/>
                          </a:lnTo>
                          <a:lnTo>
                            <a:pt x="8980" y="7657"/>
                          </a:lnTo>
                          <a:lnTo>
                            <a:pt x="9065" y="7608"/>
                          </a:lnTo>
                          <a:lnTo>
                            <a:pt x="9146" y="7563"/>
                          </a:lnTo>
                          <a:lnTo>
                            <a:pt x="9235" y="7514"/>
                          </a:lnTo>
                          <a:lnTo>
                            <a:pt x="9320" y="7466"/>
                          </a:lnTo>
                          <a:lnTo>
                            <a:pt x="9401" y="7423"/>
                          </a:lnTo>
                          <a:lnTo>
                            <a:pt x="9486" y="7375"/>
                          </a:lnTo>
                          <a:lnTo>
                            <a:pt x="9574" y="7326"/>
                          </a:lnTo>
                          <a:lnTo>
                            <a:pt x="9655" y="7281"/>
                          </a:lnTo>
                          <a:lnTo>
                            <a:pt x="9733" y="7232"/>
                          </a:lnTo>
                          <a:lnTo>
                            <a:pt x="9818" y="7190"/>
                          </a:lnTo>
                          <a:lnTo>
                            <a:pt x="9892" y="7142"/>
                          </a:lnTo>
                          <a:lnTo>
                            <a:pt x="9977" y="7096"/>
                          </a:lnTo>
                          <a:lnTo>
                            <a:pt x="10055" y="7048"/>
                          </a:lnTo>
                          <a:lnTo>
                            <a:pt x="10128" y="7005"/>
                          </a:lnTo>
                          <a:lnTo>
                            <a:pt x="10206" y="6960"/>
                          </a:lnTo>
                          <a:lnTo>
                            <a:pt x="10284" y="6911"/>
                          </a:lnTo>
                          <a:lnTo>
                            <a:pt x="10361" y="6869"/>
                          </a:lnTo>
                          <a:lnTo>
                            <a:pt x="10439" y="6827"/>
                          </a:lnTo>
                          <a:lnTo>
                            <a:pt x="10510" y="6781"/>
                          </a:lnTo>
                          <a:lnTo>
                            <a:pt x="10580" y="6739"/>
                          </a:lnTo>
                          <a:lnTo>
                            <a:pt x="10658" y="6691"/>
                          </a:lnTo>
                          <a:lnTo>
                            <a:pt x="10722" y="6645"/>
                          </a:lnTo>
                          <a:lnTo>
                            <a:pt x="10792" y="6604"/>
                          </a:lnTo>
                          <a:lnTo>
                            <a:pt x="10860" y="6559"/>
                          </a:lnTo>
                          <a:lnTo>
                            <a:pt x="10930" y="6516"/>
                          </a:lnTo>
                          <a:lnTo>
                            <a:pt x="10994" y="6474"/>
                          </a:lnTo>
                          <a:lnTo>
                            <a:pt x="11054" y="6435"/>
                          </a:lnTo>
                          <a:lnTo>
                            <a:pt x="11117" y="6390"/>
                          </a:lnTo>
                          <a:lnTo>
                            <a:pt x="11177" y="6347"/>
                          </a:lnTo>
                          <a:lnTo>
                            <a:pt x="11245" y="6305"/>
                          </a:lnTo>
                          <a:lnTo>
                            <a:pt x="11298" y="6267"/>
                          </a:lnTo>
                          <a:lnTo>
                            <a:pt x="11354" y="6225"/>
                          </a:lnTo>
                          <a:lnTo>
                            <a:pt x="11407" y="6179"/>
                          </a:lnTo>
                          <a:lnTo>
                            <a:pt x="11464" y="6140"/>
                          </a:lnTo>
                          <a:lnTo>
                            <a:pt x="11517" y="6098"/>
                          </a:lnTo>
                          <a:lnTo>
                            <a:pt x="11569" y="6059"/>
                          </a:lnTo>
                          <a:lnTo>
                            <a:pt x="11616" y="6017"/>
                          </a:lnTo>
                          <a:lnTo>
                            <a:pt x="11662" y="5978"/>
                          </a:lnTo>
                          <a:lnTo>
                            <a:pt x="11729" y="5920"/>
                          </a:lnTo>
                          <a:lnTo>
                            <a:pt x="11800" y="5858"/>
                          </a:lnTo>
                          <a:lnTo>
                            <a:pt x="11863" y="5803"/>
                          </a:lnTo>
                          <a:lnTo>
                            <a:pt x="11937" y="5745"/>
                          </a:lnTo>
                          <a:lnTo>
                            <a:pt x="12000" y="5686"/>
                          </a:lnTo>
                          <a:lnTo>
                            <a:pt x="12064" y="5625"/>
                          </a:lnTo>
                          <a:lnTo>
                            <a:pt x="12132" y="5570"/>
                          </a:lnTo>
                          <a:lnTo>
                            <a:pt x="12195" y="5512"/>
                          </a:lnTo>
                          <a:lnTo>
                            <a:pt x="12262" y="5453"/>
                          </a:lnTo>
                          <a:lnTo>
                            <a:pt x="12326" y="5392"/>
                          </a:lnTo>
                          <a:lnTo>
                            <a:pt x="12392" y="5337"/>
                          </a:lnTo>
                          <a:lnTo>
                            <a:pt x="12457" y="5279"/>
                          </a:lnTo>
                          <a:lnTo>
                            <a:pt x="12521" y="5221"/>
                          </a:lnTo>
                          <a:lnTo>
                            <a:pt x="12587" y="5165"/>
                          </a:lnTo>
                          <a:lnTo>
                            <a:pt x="12648" y="5103"/>
                          </a:lnTo>
                          <a:lnTo>
                            <a:pt x="12711" y="5052"/>
                          </a:lnTo>
                          <a:lnTo>
                            <a:pt x="12771" y="4993"/>
                          </a:lnTo>
                          <a:lnTo>
                            <a:pt x="12835" y="4935"/>
                          </a:lnTo>
                          <a:lnTo>
                            <a:pt x="12901" y="4873"/>
                          </a:lnTo>
                          <a:lnTo>
                            <a:pt x="12965" y="4815"/>
                          </a:lnTo>
                          <a:lnTo>
                            <a:pt x="13033" y="4754"/>
                          </a:lnTo>
                          <a:lnTo>
                            <a:pt x="13096" y="4696"/>
                          </a:lnTo>
                          <a:lnTo>
                            <a:pt x="13167" y="4637"/>
                          </a:lnTo>
                          <a:lnTo>
                            <a:pt x="13233" y="4575"/>
                          </a:lnTo>
                          <a:lnTo>
                            <a:pt x="13297" y="4517"/>
                          </a:lnTo>
                          <a:lnTo>
                            <a:pt x="13368" y="4456"/>
                          </a:lnTo>
                          <a:lnTo>
                            <a:pt x="13435" y="4397"/>
                          </a:lnTo>
                          <a:lnTo>
                            <a:pt x="13506" y="4336"/>
                          </a:lnTo>
                          <a:lnTo>
                            <a:pt x="13570" y="4277"/>
                          </a:lnTo>
                          <a:lnTo>
                            <a:pt x="13640" y="4212"/>
                          </a:lnTo>
                          <a:lnTo>
                            <a:pt x="13711" y="4151"/>
                          </a:lnTo>
                          <a:lnTo>
                            <a:pt x="13781" y="4093"/>
                          </a:lnTo>
                          <a:lnTo>
                            <a:pt x="13848" y="4035"/>
                          </a:lnTo>
                          <a:lnTo>
                            <a:pt x="13824" y="4054"/>
                          </a:lnTo>
                          <a:lnTo>
                            <a:pt x="13806" y="4069"/>
                          </a:lnTo>
                          <a:lnTo>
                            <a:pt x="13778" y="4086"/>
                          </a:lnTo>
                          <a:lnTo>
                            <a:pt x="13890" y="4018"/>
                          </a:lnTo>
                          <a:lnTo>
                            <a:pt x="13990" y="3947"/>
                          </a:lnTo>
                          <a:lnTo>
                            <a:pt x="14079" y="3881"/>
                          </a:lnTo>
                          <a:lnTo>
                            <a:pt x="14149" y="3827"/>
                          </a:lnTo>
                          <a:lnTo>
                            <a:pt x="14219" y="3778"/>
                          </a:lnTo>
                          <a:lnTo>
                            <a:pt x="14297" y="3733"/>
                          </a:lnTo>
                          <a:lnTo>
                            <a:pt x="14191" y="3781"/>
                          </a:lnTo>
                          <a:lnTo>
                            <a:pt x="14079" y="3817"/>
                          </a:lnTo>
                          <a:lnTo>
                            <a:pt x="13962" y="3827"/>
                          </a:lnTo>
                          <a:lnTo>
                            <a:pt x="14092" y="3827"/>
                          </a:lnTo>
                          <a:lnTo>
                            <a:pt x="14146" y="3820"/>
                          </a:lnTo>
                          <a:lnTo>
                            <a:pt x="14209" y="3817"/>
                          </a:lnTo>
                          <a:lnTo>
                            <a:pt x="14287" y="3795"/>
                          </a:lnTo>
                          <a:lnTo>
                            <a:pt x="14368" y="3765"/>
                          </a:lnTo>
                          <a:lnTo>
                            <a:pt x="14456" y="3717"/>
                          </a:lnTo>
                          <a:lnTo>
                            <a:pt x="14541" y="3659"/>
                          </a:lnTo>
                          <a:lnTo>
                            <a:pt x="14619" y="3571"/>
                          </a:lnTo>
                          <a:lnTo>
                            <a:pt x="14692" y="3464"/>
                          </a:lnTo>
                          <a:lnTo>
                            <a:pt x="14692" y="3458"/>
                          </a:lnTo>
                          <a:lnTo>
                            <a:pt x="14655" y="3516"/>
                          </a:lnTo>
                          <a:lnTo>
                            <a:pt x="14594" y="3577"/>
                          </a:lnTo>
                          <a:lnTo>
                            <a:pt x="14516" y="3626"/>
                          </a:lnTo>
                          <a:lnTo>
                            <a:pt x="14428" y="3668"/>
                          </a:lnTo>
                          <a:lnTo>
                            <a:pt x="14329" y="3698"/>
                          </a:lnTo>
                          <a:lnTo>
                            <a:pt x="14219" y="3707"/>
                          </a:lnTo>
                          <a:lnTo>
                            <a:pt x="14347" y="3707"/>
                          </a:lnTo>
                          <a:lnTo>
                            <a:pt x="14421" y="3701"/>
                          </a:lnTo>
                          <a:lnTo>
                            <a:pt x="14513" y="3690"/>
                          </a:lnTo>
                          <a:lnTo>
                            <a:pt x="14594" y="3665"/>
                          </a:lnTo>
                          <a:lnTo>
                            <a:pt x="14682" y="3626"/>
                          </a:lnTo>
                          <a:lnTo>
                            <a:pt x="14770" y="3565"/>
                          </a:lnTo>
                          <a:lnTo>
                            <a:pt x="14855" y="3490"/>
                          </a:lnTo>
                          <a:lnTo>
                            <a:pt x="14936" y="3393"/>
                          </a:lnTo>
                          <a:lnTo>
                            <a:pt x="14944" y="3386"/>
                          </a:lnTo>
                          <a:lnTo>
                            <a:pt x="14936" y="3393"/>
                          </a:lnTo>
                          <a:lnTo>
                            <a:pt x="14926" y="3409"/>
                          </a:lnTo>
                          <a:lnTo>
                            <a:pt x="14902" y="3425"/>
                          </a:lnTo>
                          <a:lnTo>
                            <a:pt x="14824" y="3483"/>
                          </a:lnTo>
                          <a:lnTo>
                            <a:pt x="14736" y="3532"/>
                          </a:lnTo>
                          <a:lnTo>
                            <a:pt x="14640" y="3565"/>
                          </a:lnTo>
                          <a:lnTo>
                            <a:pt x="14548" y="3580"/>
                          </a:lnTo>
                          <a:lnTo>
                            <a:pt x="14445" y="3587"/>
                          </a:lnTo>
                          <a:lnTo>
                            <a:pt x="14347" y="3577"/>
                          </a:lnTo>
                          <a:lnTo>
                            <a:pt x="14245" y="3545"/>
                          </a:lnTo>
                          <a:lnTo>
                            <a:pt x="14156" y="3499"/>
                          </a:lnTo>
                          <a:lnTo>
                            <a:pt x="14074" y="3447"/>
                          </a:lnTo>
                          <a:lnTo>
                            <a:pt x="14001" y="3380"/>
                          </a:lnTo>
                          <a:lnTo>
                            <a:pt x="13947" y="3305"/>
                          </a:lnTo>
                          <a:lnTo>
                            <a:pt x="13908" y="3218"/>
                          </a:lnTo>
                          <a:lnTo>
                            <a:pt x="13884" y="3131"/>
                          </a:lnTo>
                          <a:lnTo>
                            <a:pt x="13874" y="3033"/>
                          </a:lnTo>
                          <a:lnTo>
                            <a:pt x="13874" y="3040"/>
                          </a:lnTo>
                          <a:lnTo>
                            <a:pt x="13874" y="3046"/>
                          </a:lnTo>
                          <a:lnTo>
                            <a:pt x="13874" y="3049"/>
                          </a:lnTo>
                          <a:lnTo>
                            <a:pt x="13859" y="3079"/>
                          </a:lnTo>
                          <a:lnTo>
                            <a:pt x="13824" y="3120"/>
                          </a:lnTo>
                          <a:lnTo>
                            <a:pt x="13796" y="3162"/>
                          </a:lnTo>
                          <a:lnTo>
                            <a:pt x="13764" y="3192"/>
                          </a:lnTo>
                          <a:lnTo>
                            <a:pt x="13742" y="3231"/>
                          </a:lnTo>
                          <a:lnTo>
                            <a:pt x="13718" y="3263"/>
                          </a:lnTo>
                          <a:lnTo>
                            <a:pt x="13725" y="3250"/>
                          </a:lnTo>
                          <a:lnTo>
                            <a:pt x="13728" y="3240"/>
                          </a:lnTo>
                          <a:lnTo>
                            <a:pt x="13742" y="3234"/>
                          </a:lnTo>
                          <a:lnTo>
                            <a:pt x="12516" y="4679"/>
                          </a:lnTo>
                          <a:lnTo>
                            <a:pt x="11283" y="6131"/>
                          </a:lnTo>
                          <a:lnTo>
                            <a:pt x="11280" y="6137"/>
                          </a:lnTo>
                          <a:lnTo>
                            <a:pt x="11273" y="6140"/>
                          </a:lnTo>
                          <a:lnTo>
                            <a:pt x="11238" y="6189"/>
                          </a:lnTo>
                          <a:lnTo>
                            <a:pt x="11189" y="6244"/>
                          </a:lnTo>
                          <a:lnTo>
                            <a:pt x="11150" y="6292"/>
                          </a:lnTo>
                          <a:lnTo>
                            <a:pt x="11099" y="6347"/>
                          </a:lnTo>
                          <a:lnTo>
                            <a:pt x="11047" y="6396"/>
                          </a:lnTo>
                          <a:lnTo>
                            <a:pt x="10994" y="6451"/>
                          </a:lnTo>
                          <a:lnTo>
                            <a:pt x="10941" y="6510"/>
                          </a:lnTo>
                          <a:lnTo>
                            <a:pt x="10881" y="6565"/>
                          </a:lnTo>
                          <a:lnTo>
                            <a:pt x="10824" y="6620"/>
                          </a:lnTo>
                          <a:lnTo>
                            <a:pt x="10764" y="6678"/>
                          </a:lnTo>
                          <a:lnTo>
                            <a:pt x="10697" y="6739"/>
                          </a:lnTo>
                          <a:lnTo>
                            <a:pt x="10634" y="6792"/>
                          </a:lnTo>
                          <a:lnTo>
                            <a:pt x="10566" y="6853"/>
                          </a:lnTo>
                          <a:lnTo>
                            <a:pt x="10502" y="6911"/>
                          </a:lnTo>
                          <a:lnTo>
                            <a:pt x="10432" y="6973"/>
                          </a:lnTo>
                          <a:lnTo>
                            <a:pt x="10361" y="7032"/>
                          </a:lnTo>
                          <a:lnTo>
                            <a:pt x="10291" y="7093"/>
                          </a:lnTo>
                          <a:lnTo>
                            <a:pt x="10221" y="7157"/>
                          </a:lnTo>
                          <a:lnTo>
                            <a:pt x="10146" y="7215"/>
                          </a:lnTo>
                          <a:lnTo>
                            <a:pt x="10071" y="7278"/>
                          </a:lnTo>
                          <a:lnTo>
                            <a:pt x="10001" y="7336"/>
                          </a:lnTo>
                          <a:lnTo>
                            <a:pt x="9927" y="7394"/>
                          </a:lnTo>
                          <a:lnTo>
                            <a:pt x="9853" y="7463"/>
                          </a:lnTo>
                          <a:lnTo>
                            <a:pt x="9782" y="7521"/>
                          </a:lnTo>
                          <a:lnTo>
                            <a:pt x="9704" y="7579"/>
                          </a:lnTo>
                          <a:lnTo>
                            <a:pt x="9627" y="7640"/>
                          </a:lnTo>
                          <a:lnTo>
                            <a:pt x="9556" y="7705"/>
                          </a:lnTo>
                          <a:lnTo>
                            <a:pt x="9478" y="7764"/>
                          </a:lnTo>
                          <a:lnTo>
                            <a:pt x="9408" y="7825"/>
                          </a:lnTo>
                          <a:lnTo>
                            <a:pt x="9337" y="7883"/>
                          </a:lnTo>
                          <a:lnTo>
                            <a:pt x="9266" y="7948"/>
                          </a:lnTo>
                          <a:lnTo>
                            <a:pt x="9196" y="8003"/>
                          </a:lnTo>
                          <a:lnTo>
                            <a:pt x="9125" y="8065"/>
                          </a:lnTo>
                          <a:lnTo>
                            <a:pt x="9058" y="8123"/>
                          </a:lnTo>
                          <a:lnTo>
                            <a:pt x="8994" y="8182"/>
                          </a:lnTo>
                          <a:lnTo>
                            <a:pt x="8928" y="8243"/>
                          </a:lnTo>
                          <a:lnTo>
                            <a:pt x="8864" y="8298"/>
                          </a:lnTo>
                          <a:lnTo>
                            <a:pt x="8807" y="8356"/>
                          </a:lnTo>
                          <a:lnTo>
                            <a:pt x="8744" y="8415"/>
                          </a:lnTo>
                          <a:lnTo>
                            <a:pt x="8684" y="8470"/>
                          </a:lnTo>
                          <a:lnTo>
                            <a:pt x="8630" y="8525"/>
                          </a:lnTo>
                          <a:lnTo>
                            <a:pt x="8570" y="8580"/>
                          </a:lnTo>
                          <a:lnTo>
                            <a:pt x="8518" y="8632"/>
                          </a:lnTo>
                          <a:lnTo>
                            <a:pt x="8464" y="8687"/>
                          </a:lnTo>
                          <a:lnTo>
                            <a:pt x="8415" y="8741"/>
                          </a:lnTo>
                          <a:lnTo>
                            <a:pt x="8369" y="8797"/>
                          </a:lnTo>
                          <a:lnTo>
                            <a:pt x="8323" y="8852"/>
                          </a:lnTo>
                          <a:lnTo>
                            <a:pt x="8274" y="8920"/>
                          </a:lnTo>
                          <a:lnTo>
                            <a:pt x="8238" y="8992"/>
                          </a:lnTo>
                          <a:lnTo>
                            <a:pt x="8210" y="9069"/>
                          </a:lnTo>
                          <a:lnTo>
                            <a:pt x="8196" y="9150"/>
                          </a:lnTo>
                          <a:lnTo>
                            <a:pt x="8196" y="9225"/>
                          </a:lnTo>
                          <a:lnTo>
                            <a:pt x="8210" y="9305"/>
                          </a:lnTo>
                          <a:lnTo>
                            <a:pt x="8238" y="9384"/>
                          </a:lnTo>
                          <a:lnTo>
                            <a:pt x="8274" y="9451"/>
                          </a:lnTo>
                          <a:lnTo>
                            <a:pt x="8323" y="9523"/>
                          </a:lnTo>
                          <a:lnTo>
                            <a:pt x="8380" y="9584"/>
                          </a:lnTo>
                          <a:lnTo>
                            <a:pt x="8454" y="9636"/>
                          </a:lnTo>
                          <a:lnTo>
                            <a:pt x="8524" y="9681"/>
                          </a:lnTo>
                          <a:lnTo>
                            <a:pt x="8606" y="9714"/>
                          </a:lnTo>
                          <a:lnTo>
                            <a:pt x="8690" y="9730"/>
                          </a:lnTo>
                          <a:lnTo>
                            <a:pt x="8772" y="9739"/>
                          </a:lnTo>
                          <a:lnTo>
                            <a:pt x="8856" y="9736"/>
                          </a:lnTo>
                          <a:lnTo>
                            <a:pt x="8941" y="9724"/>
                          </a:lnTo>
                          <a:lnTo>
                            <a:pt x="9022" y="9698"/>
                          </a:lnTo>
                          <a:lnTo>
                            <a:pt x="9107" y="9659"/>
                          </a:lnTo>
                          <a:lnTo>
                            <a:pt x="9178" y="9617"/>
                          </a:lnTo>
                          <a:lnTo>
                            <a:pt x="9235" y="9572"/>
                          </a:lnTo>
                          <a:lnTo>
                            <a:pt x="9295" y="9523"/>
                          </a:lnTo>
                          <a:lnTo>
                            <a:pt x="9362" y="9481"/>
                          </a:lnTo>
                          <a:lnTo>
                            <a:pt x="9419" y="9435"/>
                          </a:lnTo>
                          <a:lnTo>
                            <a:pt x="9486" y="9387"/>
                          </a:lnTo>
                          <a:lnTo>
                            <a:pt x="9549" y="9344"/>
                          </a:lnTo>
                          <a:lnTo>
                            <a:pt x="9616" y="9296"/>
                          </a:lnTo>
                          <a:lnTo>
                            <a:pt x="9679" y="9247"/>
                          </a:lnTo>
                          <a:lnTo>
                            <a:pt x="9747" y="9202"/>
                          </a:lnTo>
                          <a:lnTo>
                            <a:pt x="9818" y="9153"/>
                          </a:lnTo>
                          <a:lnTo>
                            <a:pt x="9881" y="9105"/>
                          </a:lnTo>
                          <a:lnTo>
                            <a:pt x="9952" y="9056"/>
                          </a:lnTo>
                          <a:lnTo>
                            <a:pt x="10022" y="9008"/>
                          </a:lnTo>
                          <a:lnTo>
                            <a:pt x="10093" y="8959"/>
                          </a:lnTo>
                          <a:lnTo>
                            <a:pt x="10167" y="8910"/>
                          </a:lnTo>
                          <a:lnTo>
                            <a:pt x="10237" y="8856"/>
                          </a:lnTo>
                          <a:lnTo>
                            <a:pt x="10312" y="8807"/>
                          </a:lnTo>
                          <a:lnTo>
                            <a:pt x="10387" y="8758"/>
                          </a:lnTo>
                          <a:lnTo>
                            <a:pt x="10460" y="8703"/>
                          </a:lnTo>
                          <a:lnTo>
                            <a:pt x="10531" y="8655"/>
                          </a:lnTo>
                          <a:lnTo>
                            <a:pt x="10609" y="8606"/>
                          </a:lnTo>
                          <a:lnTo>
                            <a:pt x="10680" y="8550"/>
                          </a:lnTo>
                          <a:lnTo>
                            <a:pt x="10758" y="8502"/>
                          </a:lnTo>
                          <a:lnTo>
                            <a:pt x="10835" y="8450"/>
                          </a:lnTo>
                          <a:lnTo>
                            <a:pt x="10912" y="8398"/>
                          </a:lnTo>
                          <a:lnTo>
                            <a:pt x="10987" y="8347"/>
                          </a:lnTo>
                          <a:lnTo>
                            <a:pt x="11072" y="8292"/>
                          </a:lnTo>
                          <a:lnTo>
                            <a:pt x="11143" y="8243"/>
                          </a:lnTo>
                          <a:lnTo>
                            <a:pt x="11213" y="8194"/>
                          </a:lnTo>
                          <a:lnTo>
                            <a:pt x="11291" y="8146"/>
                          </a:lnTo>
                          <a:lnTo>
                            <a:pt x="11361" y="8091"/>
                          </a:lnTo>
                          <a:lnTo>
                            <a:pt x="11432" y="8042"/>
                          </a:lnTo>
                          <a:lnTo>
                            <a:pt x="11509" y="7994"/>
                          </a:lnTo>
                          <a:lnTo>
                            <a:pt x="11581" y="7945"/>
                          </a:lnTo>
                          <a:lnTo>
                            <a:pt x="11651" y="7897"/>
                          </a:lnTo>
                          <a:lnTo>
                            <a:pt x="11729" y="7842"/>
                          </a:lnTo>
                          <a:lnTo>
                            <a:pt x="11800" y="7793"/>
                          </a:lnTo>
                          <a:lnTo>
                            <a:pt x="11877" y="7745"/>
                          </a:lnTo>
                          <a:lnTo>
                            <a:pt x="11948" y="7696"/>
                          </a:lnTo>
                          <a:lnTo>
                            <a:pt x="12018" y="7640"/>
                          </a:lnTo>
                          <a:lnTo>
                            <a:pt x="12090" y="7591"/>
                          </a:lnTo>
                          <a:lnTo>
                            <a:pt x="12166" y="7543"/>
                          </a:lnTo>
                          <a:lnTo>
                            <a:pt x="12238" y="7488"/>
                          </a:lnTo>
                          <a:lnTo>
                            <a:pt x="12308" y="7439"/>
                          </a:lnTo>
                          <a:lnTo>
                            <a:pt x="12379" y="7391"/>
                          </a:lnTo>
                          <a:lnTo>
                            <a:pt x="12449" y="7342"/>
                          </a:lnTo>
                          <a:lnTo>
                            <a:pt x="12521" y="7287"/>
                          </a:lnTo>
                          <a:lnTo>
                            <a:pt x="12594" y="7239"/>
                          </a:lnTo>
                          <a:lnTo>
                            <a:pt x="12665" y="7190"/>
                          </a:lnTo>
                          <a:lnTo>
                            <a:pt x="12736" y="7142"/>
                          </a:lnTo>
                          <a:lnTo>
                            <a:pt x="12807" y="7093"/>
                          </a:lnTo>
                          <a:lnTo>
                            <a:pt x="12870" y="7038"/>
                          </a:lnTo>
                          <a:lnTo>
                            <a:pt x="12940" y="6989"/>
                          </a:lnTo>
                          <a:lnTo>
                            <a:pt x="13007" y="6941"/>
                          </a:lnTo>
                          <a:lnTo>
                            <a:pt x="13079" y="6892"/>
                          </a:lnTo>
                          <a:lnTo>
                            <a:pt x="13142" y="6844"/>
                          </a:lnTo>
                          <a:lnTo>
                            <a:pt x="13217" y="6792"/>
                          </a:lnTo>
                          <a:lnTo>
                            <a:pt x="13280" y="6739"/>
                          </a:lnTo>
                          <a:lnTo>
                            <a:pt x="13344" y="6691"/>
                          </a:lnTo>
                          <a:lnTo>
                            <a:pt x="13410" y="6642"/>
                          </a:lnTo>
                          <a:lnTo>
                            <a:pt x="13474" y="6590"/>
                          </a:lnTo>
                          <a:lnTo>
                            <a:pt x="13541" y="6542"/>
                          </a:lnTo>
                          <a:lnTo>
                            <a:pt x="13604" y="6493"/>
                          </a:lnTo>
                          <a:lnTo>
                            <a:pt x="13664" y="6445"/>
                          </a:lnTo>
                          <a:lnTo>
                            <a:pt x="13728" y="6396"/>
                          </a:lnTo>
                          <a:lnTo>
                            <a:pt x="13788" y="6347"/>
                          </a:lnTo>
                          <a:lnTo>
                            <a:pt x="13856" y="6299"/>
                          </a:lnTo>
                          <a:lnTo>
                            <a:pt x="13912" y="6250"/>
                          </a:lnTo>
                          <a:lnTo>
                            <a:pt x="13972" y="6202"/>
                          </a:lnTo>
                          <a:lnTo>
                            <a:pt x="14032" y="6156"/>
                          </a:lnTo>
                          <a:lnTo>
                            <a:pt x="14085" y="6108"/>
                          </a:lnTo>
                          <a:lnTo>
                            <a:pt x="14146" y="6059"/>
                          </a:lnTo>
                          <a:lnTo>
                            <a:pt x="14202" y="6010"/>
                          </a:lnTo>
                          <a:lnTo>
                            <a:pt x="14255" y="5968"/>
                          </a:lnTo>
                          <a:lnTo>
                            <a:pt x="14311" y="5920"/>
                          </a:lnTo>
                          <a:lnTo>
                            <a:pt x="14305" y="5923"/>
                          </a:lnTo>
                          <a:lnTo>
                            <a:pt x="14294" y="5937"/>
                          </a:lnTo>
                          <a:lnTo>
                            <a:pt x="14279" y="5940"/>
                          </a:lnTo>
                          <a:lnTo>
                            <a:pt x="14531" y="5752"/>
                          </a:lnTo>
                          <a:lnTo>
                            <a:pt x="15442" y="5055"/>
                          </a:lnTo>
                          <a:lnTo>
                            <a:pt x="15460" y="5045"/>
                          </a:lnTo>
                          <a:lnTo>
                            <a:pt x="15470" y="5029"/>
                          </a:lnTo>
                          <a:lnTo>
                            <a:pt x="15481" y="5019"/>
                          </a:lnTo>
                          <a:lnTo>
                            <a:pt x="15541" y="4970"/>
                          </a:lnTo>
                          <a:lnTo>
                            <a:pt x="15601" y="4919"/>
                          </a:lnTo>
                          <a:lnTo>
                            <a:pt x="15665" y="4864"/>
                          </a:lnTo>
                          <a:lnTo>
                            <a:pt x="15725" y="4815"/>
                          </a:lnTo>
                          <a:lnTo>
                            <a:pt x="15788" y="4760"/>
                          </a:lnTo>
                          <a:lnTo>
                            <a:pt x="15855" y="4702"/>
                          </a:lnTo>
                          <a:lnTo>
                            <a:pt x="15915" y="4640"/>
                          </a:lnTo>
                          <a:lnTo>
                            <a:pt x="15979" y="4582"/>
                          </a:lnTo>
                          <a:lnTo>
                            <a:pt x="16046" y="4511"/>
                          </a:lnTo>
                          <a:lnTo>
                            <a:pt x="16109" y="4445"/>
                          </a:lnTo>
                          <a:lnTo>
                            <a:pt x="16169" y="4368"/>
                          </a:lnTo>
                          <a:lnTo>
                            <a:pt x="16226" y="4293"/>
                          </a:lnTo>
                          <a:lnTo>
                            <a:pt x="16286" y="4206"/>
                          </a:lnTo>
                          <a:lnTo>
                            <a:pt x="16233" y="4277"/>
                          </a:lnTo>
                          <a:lnTo>
                            <a:pt x="16174" y="4332"/>
                          </a:lnTo>
                          <a:lnTo>
                            <a:pt x="16102" y="4381"/>
                          </a:lnTo>
                          <a:lnTo>
                            <a:pt x="16032" y="4423"/>
                          </a:lnTo>
                          <a:lnTo>
                            <a:pt x="15951" y="4452"/>
                          </a:lnTo>
                          <a:lnTo>
                            <a:pt x="15866" y="4469"/>
                          </a:lnTo>
                          <a:lnTo>
                            <a:pt x="15785" y="4472"/>
                          </a:lnTo>
                          <a:lnTo>
                            <a:pt x="15696" y="4472"/>
                          </a:lnTo>
                          <a:lnTo>
                            <a:pt x="15608" y="4456"/>
                          </a:lnTo>
                          <a:lnTo>
                            <a:pt x="15523" y="4430"/>
                          </a:lnTo>
                          <a:lnTo>
                            <a:pt x="15445" y="4390"/>
                          </a:lnTo>
                          <a:lnTo>
                            <a:pt x="15375" y="4342"/>
                          </a:lnTo>
                          <a:lnTo>
                            <a:pt x="15315" y="4287"/>
                          </a:lnTo>
                          <a:lnTo>
                            <a:pt x="15262" y="4223"/>
                          </a:lnTo>
                          <a:lnTo>
                            <a:pt x="15223" y="4157"/>
                          </a:lnTo>
                          <a:lnTo>
                            <a:pt x="15191" y="4083"/>
                          </a:lnTo>
                          <a:lnTo>
                            <a:pt x="15174" y="4005"/>
                          </a:lnTo>
                          <a:lnTo>
                            <a:pt x="15162" y="3924"/>
                          </a:lnTo>
                          <a:lnTo>
                            <a:pt x="15162" y="4044"/>
                          </a:lnTo>
                          <a:lnTo>
                            <a:pt x="15174" y="3941"/>
                          </a:lnTo>
                          <a:lnTo>
                            <a:pt x="15205" y="3843"/>
                          </a:lnTo>
                          <a:lnTo>
                            <a:pt x="15258" y="3749"/>
                          </a:lnTo>
                          <a:lnTo>
                            <a:pt x="15209" y="3817"/>
                          </a:lnTo>
                          <a:lnTo>
                            <a:pt x="15162" y="3886"/>
                          </a:lnTo>
                          <a:lnTo>
                            <a:pt x="15113" y="3950"/>
                          </a:lnTo>
                          <a:lnTo>
                            <a:pt x="15068" y="4021"/>
                          </a:lnTo>
                          <a:lnTo>
                            <a:pt x="15021" y="4086"/>
                          </a:lnTo>
                          <a:lnTo>
                            <a:pt x="14972" y="4151"/>
                          </a:lnTo>
                          <a:lnTo>
                            <a:pt x="14926" y="4223"/>
                          </a:lnTo>
                          <a:lnTo>
                            <a:pt x="14876" y="4287"/>
                          </a:lnTo>
                          <a:lnTo>
                            <a:pt x="14830" y="4351"/>
                          </a:lnTo>
                          <a:lnTo>
                            <a:pt x="14785" y="4423"/>
                          </a:lnTo>
                          <a:lnTo>
                            <a:pt x="14736" y="4488"/>
                          </a:lnTo>
                          <a:lnTo>
                            <a:pt x="14689" y="4553"/>
                          </a:lnTo>
                          <a:lnTo>
                            <a:pt x="14640" y="4621"/>
                          </a:lnTo>
                          <a:lnTo>
                            <a:pt x="14594" y="4685"/>
                          </a:lnTo>
                          <a:lnTo>
                            <a:pt x="14548" y="4751"/>
                          </a:lnTo>
                          <a:lnTo>
                            <a:pt x="14499" y="4815"/>
                          </a:lnTo>
                          <a:lnTo>
                            <a:pt x="14453" y="4879"/>
                          </a:lnTo>
                          <a:lnTo>
                            <a:pt x="14403" y="4945"/>
                          </a:lnTo>
                          <a:lnTo>
                            <a:pt x="14357" y="5006"/>
                          </a:lnTo>
                          <a:lnTo>
                            <a:pt x="14305" y="5071"/>
                          </a:lnTo>
                          <a:lnTo>
                            <a:pt x="14255" y="5136"/>
                          </a:lnTo>
                          <a:lnTo>
                            <a:pt x="14209" y="5200"/>
                          </a:lnTo>
                          <a:lnTo>
                            <a:pt x="14163" y="5262"/>
                          </a:lnTo>
                          <a:lnTo>
                            <a:pt x="14113" y="5327"/>
                          </a:lnTo>
                          <a:lnTo>
                            <a:pt x="14061" y="5392"/>
                          </a:lnTo>
                          <a:lnTo>
                            <a:pt x="14014" y="5457"/>
                          </a:lnTo>
                          <a:lnTo>
                            <a:pt x="13965" y="5518"/>
                          </a:lnTo>
                          <a:lnTo>
                            <a:pt x="13919" y="5583"/>
                          </a:lnTo>
                          <a:lnTo>
                            <a:pt x="13866" y="5648"/>
                          </a:lnTo>
                          <a:lnTo>
                            <a:pt x="13817" y="5713"/>
                          </a:lnTo>
                          <a:lnTo>
                            <a:pt x="13771" y="5771"/>
                          </a:lnTo>
                          <a:lnTo>
                            <a:pt x="13725" y="5839"/>
                          </a:lnTo>
                          <a:lnTo>
                            <a:pt x="13672" y="5897"/>
                          </a:lnTo>
                          <a:lnTo>
                            <a:pt x="13622" y="5962"/>
                          </a:lnTo>
                          <a:lnTo>
                            <a:pt x="13576" y="6026"/>
                          </a:lnTo>
                          <a:lnTo>
                            <a:pt x="13527" y="6089"/>
                          </a:lnTo>
                          <a:lnTo>
                            <a:pt x="13474" y="6153"/>
                          </a:lnTo>
                          <a:lnTo>
                            <a:pt x="13428" y="6219"/>
                          </a:lnTo>
                          <a:lnTo>
                            <a:pt x="13375" y="6277"/>
                          </a:lnTo>
                          <a:lnTo>
                            <a:pt x="13326" y="6341"/>
                          </a:lnTo>
                          <a:lnTo>
                            <a:pt x="13280" y="6402"/>
                          </a:lnTo>
                          <a:lnTo>
                            <a:pt x="13227" y="6468"/>
                          </a:lnTo>
                          <a:lnTo>
                            <a:pt x="13178" y="6526"/>
                          </a:lnTo>
                          <a:lnTo>
                            <a:pt x="13131" y="6590"/>
                          </a:lnTo>
                          <a:lnTo>
                            <a:pt x="13079" y="6653"/>
                          </a:lnTo>
                          <a:lnTo>
                            <a:pt x="13033" y="6717"/>
                          </a:lnTo>
                          <a:lnTo>
                            <a:pt x="12976" y="6775"/>
                          </a:lnTo>
                          <a:lnTo>
                            <a:pt x="12930" y="6844"/>
                          </a:lnTo>
                          <a:lnTo>
                            <a:pt x="12877" y="6902"/>
                          </a:lnTo>
                          <a:lnTo>
                            <a:pt x="12831" y="6966"/>
                          </a:lnTo>
                          <a:lnTo>
                            <a:pt x="12778" y="7029"/>
                          </a:lnTo>
                          <a:lnTo>
                            <a:pt x="12729" y="7093"/>
                          </a:lnTo>
                          <a:lnTo>
                            <a:pt x="12675" y="7151"/>
                          </a:lnTo>
                          <a:lnTo>
                            <a:pt x="12630" y="7215"/>
                          </a:lnTo>
                          <a:lnTo>
                            <a:pt x="12576" y="7281"/>
                          </a:lnTo>
                          <a:lnTo>
                            <a:pt x="12527" y="7342"/>
                          </a:lnTo>
                          <a:lnTo>
                            <a:pt x="12474" y="7407"/>
                          </a:lnTo>
                          <a:lnTo>
                            <a:pt x="12421" y="7466"/>
                          </a:lnTo>
                          <a:lnTo>
                            <a:pt x="12376" y="7530"/>
                          </a:lnTo>
                          <a:lnTo>
                            <a:pt x="12319" y="7591"/>
                          </a:lnTo>
                          <a:lnTo>
                            <a:pt x="12273" y="7657"/>
                          </a:lnTo>
                          <a:lnTo>
                            <a:pt x="12220" y="7715"/>
                          </a:lnTo>
                          <a:lnTo>
                            <a:pt x="12166" y="7779"/>
                          </a:lnTo>
                          <a:lnTo>
                            <a:pt x="12114" y="7848"/>
                          </a:lnTo>
                          <a:lnTo>
                            <a:pt x="12064" y="7906"/>
                          </a:lnTo>
                          <a:lnTo>
                            <a:pt x="12012" y="7971"/>
                          </a:lnTo>
                          <a:lnTo>
                            <a:pt x="11958" y="8036"/>
                          </a:lnTo>
                          <a:lnTo>
                            <a:pt x="11912" y="8097"/>
                          </a:lnTo>
                          <a:lnTo>
                            <a:pt x="10764" y="9513"/>
                          </a:lnTo>
                          <a:lnTo>
                            <a:pt x="10750" y="9523"/>
                          </a:lnTo>
                          <a:lnTo>
                            <a:pt x="10740" y="9539"/>
                          </a:lnTo>
                          <a:lnTo>
                            <a:pt x="10733" y="9556"/>
                          </a:lnTo>
                          <a:lnTo>
                            <a:pt x="10694" y="9611"/>
                          </a:lnTo>
                          <a:lnTo>
                            <a:pt x="10652" y="9672"/>
                          </a:lnTo>
                          <a:lnTo>
                            <a:pt x="10605" y="9730"/>
                          </a:lnTo>
                          <a:lnTo>
                            <a:pt x="10563" y="9788"/>
                          </a:lnTo>
                          <a:lnTo>
                            <a:pt x="10520" y="9850"/>
                          </a:lnTo>
                          <a:lnTo>
                            <a:pt x="10475" y="9915"/>
                          </a:lnTo>
                          <a:lnTo>
                            <a:pt x="10432" y="9979"/>
                          </a:lnTo>
                          <a:lnTo>
                            <a:pt x="10390" y="10051"/>
                          </a:lnTo>
                          <a:lnTo>
                            <a:pt x="10348" y="10122"/>
                          </a:lnTo>
                          <a:lnTo>
                            <a:pt x="10312" y="10197"/>
                          </a:lnTo>
                          <a:lnTo>
                            <a:pt x="10276" y="10275"/>
                          </a:lnTo>
                          <a:lnTo>
                            <a:pt x="10249" y="10355"/>
                          </a:lnTo>
                          <a:lnTo>
                            <a:pt x="10224" y="10440"/>
                          </a:lnTo>
                          <a:lnTo>
                            <a:pt x="10206" y="10534"/>
                          </a:lnTo>
                          <a:lnTo>
                            <a:pt x="10203" y="10624"/>
                          </a:lnTo>
                          <a:lnTo>
                            <a:pt x="10195" y="10725"/>
                          </a:lnTo>
                          <a:lnTo>
                            <a:pt x="10203" y="10816"/>
                          </a:lnTo>
                          <a:lnTo>
                            <a:pt x="10224" y="10910"/>
                          </a:lnTo>
                          <a:lnTo>
                            <a:pt x="10266" y="10991"/>
                          </a:lnTo>
                          <a:lnTo>
                            <a:pt x="10319" y="11065"/>
                          </a:lnTo>
                          <a:lnTo>
                            <a:pt x="10387" y="11130"/>
                          </a:lnTo>
                          <a:lnTo>
                            <a:pt x="10460" y="11185"/>
                          </a:lnTo>
                          <a:lnTo>
                            <a:pt x="10549" y="11227"/>
                          </a:lnTo>
                          <a:lnTo>
                            <a:pt x="10644" y="11259"/>
                          </a:lnTo>
                          <a:lnTo>
                            <a:pt x="10740" y="11276"/>
                          </a:lnTo>
                          <a:lnTo>
                            <a:pt x="10842" y="11276"/>
                          </a:lnTo>
                          <a:lnTo>
                            <a:pt x="10933" y="11259"/>
                          </a:lnTo>
                          <a:lnTo>
                            <a:pt x="11029" y="11240"/>
                          </a:lnTo>
                          <a:lnTo>
                            <a:pt x="11117" y="11195"/>
                          </a:lnTo>
                          <a:lnTo>
                            <a:pt x="11195" y="11143"/>
                          </a:lnTo>
                          <a:lnTo>
                            <a:pt x="11255" y="11094"/>
                          </a:lnTo>
                          <a:lnTo>
                            <a:pt x="11316" y="11043"/>
                          </a:lnTo>
                          <a:lnTo>
                            <a:pt x="11372" y="10994"/>
                          </a:lnTo>
                          <a:lnTo>
                            <a:pt x="11425" y="10945"/>
                          </a:lnTo>
                          <a:lnTo>
                            <a:pt x="11485" y="10903"/>
                          </a:lnTo>
                          <a:lnTo>
                            <a:pt x="11545" y="10848"/>
                          </a:lnTo>
                          <a:lnTo>
                            <a:pt x="11605" y="10806"/>
                          </a:lnTo>
                          <a:lnTo>
                            <a:pt x="11662" y="10757"/>
                          </a:lnTo>
                          <a:lnTo>
                            <a:pt x="11722" y="10703"/>
                          </a:lnTo>
                          <a:lnTo>
                            <a:pt x="11782" y="10654"/>
                          </a:lnTo>
                          <a:lnTo>
                            <a:pt x="11842" y="10605"/>
                          </a:lnTo>
                          <a:lnTo>
                            <a:pt x="11902" y="10557"/>
                          </a:lnTo>
                          <a:lnTo>
                            <a:pt x="11958" y="10508"/>
                          </a:lnTo>
                          <a:lnTo>
                            <a:pt x="12018" y="10452"/>
                          </a:lnTo>
                          <a:lnTo>
                            <a:pt x="12078" y="10404"/>
                          </a:lnTo>
                          <a:lnTo>
                            <a:pt x="12132" y="10355"/>
                          </a:lnTo>
                          <a:lnTo>
                            <a:pt x="12192" y="10300"/>
                          </a:lnTo>
                          <a:lnTo>
                            <a:pt x="12248" y="10252"/>
                          </a:lnTo>
                          <a:lnTo>
                            <a:pt x="12316" y="10197"/>
                          </a:lnTo>
                          <a:lnTo>
                            <a:pt x="12376" y="10142"/>
                          </a:lnTo>
                          <a:lnTo>
                            <a:pt x="12431" y="10093"/>
                          </a:lnTo>
                          <a:lnTo>
                            <a:pt x="12492" y="10038"/>
                          </a:lnTo>
                          <a:lnTo>
                            <a:pt x="12552" y="9987"/>
                          </a:lnTo>
                          <a:lnTo>
                            <a:pt x="12612" y="9931"/>
                          </a:lnTo>
                          <a:lnTo>
                            <a:pt x="12675" y="9876"/>
                          </a:lnTo>
                          <a:lnTo>
                            <a:pt x="12736" y="9821"/>
                          </a:lnTo>
                          <a:lnTo>
                            <a:pt x="12796" y="9769"/>
                          </a:lnTo>
                          <a:lnTo>
                            <a:pt x="12852" y="9714"/>
                          </a:lnTo>
                          <a:lnTo>
                            <a:pt x="12919" y="9659"/>
                          </a:lnTo>
                          <a:lnTo>
                            <a:pt x="12976" y="9604"/>
                          </a:lnTo>
                          <a:lnTo>
                            <a:pt x="13036" y="9551"/>
                          </a:lnTo>
                          <a:lnTo>
                            <a:pt x="13103" y="9490"/>
                          </a:lnTo>
                          <a:lnTo>
                            <a:pt x="13160" y="9435"/>
                          </a:lnTo>
                          <a:lnTo>
                            <a:pt x="13227" y="9377"/>
                          </a:lnTo>
                          <a:lnTo>
                            <a:pt x="13290" y="9322"/>
                          </a:lnTo>
                          <a:lnTo>
                            <a:pt x="13350" y="9263"/>
                          </a:lnTo>
                          <a:lnTo>
                            <a:pt x="13417" y="9208"/>
                          </a:lnTo>
                          <a:lnTo>
                            <a:pt x="13474" y="9150"/>
                          </a:lnTo>
                          <a:lnTo>
                            <a:pt x="13541" y="9089"/>
                          </a:lnTo>
                          <a:lnTo>
                            <a:pt x="13604" y="9031"/>
                          </a:lnTo>
                          <a:lnTo>
                            <a:pt x="13672" y="8969"/>
                          </a:lnTo>
                          <a:lnTo>
                            <a:pt x="13728" y="8910"/>
                          </a:lnTo>
                          <a:lnTo>
                            <a:pt x="13796" y="8852"/>
                          </a:lnTo>
                          <a:lnTo>
                            <a:pt x="13859" y="8784"/>
                          </a:lnTo>
                          <a:lnTo>
                            <a:pt x="13926" y="8726"/>
                          </a:lnTo>
                          <a:lnTo>
                            <a:pt x="13990" y="8668"/>
                          </a:lnTo>
                          <a:lnTo>
                            <a:pt x="14053" y="8599"/>
                          </a:lnTo>
                          <a:lnTo>
                            <a:pt x="14121" y="8541"/>
                          </a:lnTo>
                          <a:lnTo>
                            <a:pt x="14191" y="8476"/>
                          </a:lnTo>
                          <a:lnTo>
                            <a:pt x="14255" y="8412"/>
                          </a:lnTo>
                          <a:lnTo>
                            <a:pt x="14322" y="8347"/>
                          </a:lnTo>
                          <a:lnTo>
                            <a:pt x="14385" y="8285"/>
                          </a:lnTo>
                          <a:lnTo>
                            <a:pt x="14456" y="8213"/>
                          </a:lnTo>
                          <a:lnTo>
                            <a:pt x="14523" y="8149"/>
                          </a:lnTo>
                          <a:lnTo>
                            <a:pt x="14594" y="8085"/>
                          </a:lnTo>
                          <a:lnTo>
                            <a:pt x="14587" y="8091"/>
                          </a:lnTo>
                          <a:lnTo>
                            <a:pt x="14583" y="8097"/>
                          </a:lnTo>
                          <a:lnTo>
                            <a:pt x="14665" y="8019"/>
                          </a:lnTo>
                          <a:lnTo>
                            <a:pt x="14753" y="7948"/>
                          </a:lnTo>
                          <a:lnTo>
                            <a:pt x="14848" y="7873"/>
                          </a:lnTo>
                          <a:lnTo>
                            <a:pt x="14936" y="7796"/>
                          </a:lnTo>
                          <a:lnTo>
                            <a:pt x="15021" y="7731"/>
                          </a:lnTo>
                          <a:lnTo>
                            <a:pt x="15102" y="7666"/>
                          </a:lnTo>
                          <a:lnTo>
                            <a:pt x="15188" y="7595"/>
                          </a:lnTo>
                          <a:lnTo>
                            <a:pt x="15269" y="7527"/>
                          </a:lnTo>
                          <a:lnTo>
                            <a:pt x="15357" y="7446"/>
                          </a:lnTo>
                          <a:lnTo>
                            <a:pt x="15375" y="7427"/>
                          </a:lnTo>
                          <a:lnTo>
                            <a:pt x="15393" y="7407"/>
                          </a:lnTo>
                          <a:lnTo>
                            <a:pt x="15410" y="7391"/>
                          </a:lnTo>
                          <a:lnTo>
                            <a:pt x="15470" y="7313"/>
                          </a:lnTo>
                          <a:lnTo>
                            <a:pt x="15523" y="7245"/>
                          </a:lnTo>
                          <a:lnTo>
                            <a:pt x="15576" y="7174"/>
                          </a:lnTo>
                          <a:lnTo>
                            <a:pt x="15636" y="7096"/>
                          </a:lnTo>
                          <a:lnTo>
                            <a:pt x="15683" y="7029"/>
                          </a:lnTo>
                          <a:lnTo>
                            <a:pt x="15735" y="6957"/>
                          </a:lnTo>
                          <a:lnTo>
                            <a:pt x="15785" y="6879"/>
                          </a:lnTo>
                          <a:lnTo>
                            <a:pt x="15831" y="6808"/>
                          </a:lnTo>
                          <a:lnTo>
                            <a:pt x="15883" y="6739"/>
                          </a:lnTo>
                          <a:lnTo>
                            <a:pt x="15933" y="6668"/>
                          </a:lnTo>
                          <a:lnTo>
                            <a:pt x="15979" y="6590"/>
                          </a:lnTo>
                          <a:lnTo>
                            <a:pt x="16032" y="6516"/>
                          </a:lnTo>
                          <a:lnTo>
                            <a:pt x="16081" y="6445"/>
                          </a:lnTo>
                          <a:lnTo>
                            <a:pt x="16127" y="6374"/>
                          </a:lnTo>
                          <a:lnTo>
                            <a:pt x="16180" y="6305"/>
                          </a:lnTo>
                          <a:lnTo>
                            <a:pt x="16226" y="6234"/>
                          </a:lnTo>
                          <a:lnTo>
                            <a:pt x="16283" y="6169"/>
                          </a:lnTo>
                          <a:lnTo>
                            <a:pt x="16328" y="6104"/>
                          </a:lnTo>
                          <a:lnTo>
                            <a:pt x="16382" y="6040"/>
                          </a:lnTo>
                          <a:lnTo>
                            <a:pt x="16434" y="5978"/>
                          </a:lnTo>
                          <a:lnTo>
                            <a:pt x="16488" y="5920"/>
                          </a:lnTo>
                          <a:lnTo>
                            <a:pt x="16540" y="5858"/>
                          </a:lnTo>
                          <a:lnTo>
                            <a:pt x="16600" y="5803"/>
                          </a:lnTo>
                          <a:lnTo>
                            <a:pt x="16660" y="5752"/>
                          </a:lnTo>
                          <a:lnTo>
                            <a:pt x="16721" y="5697"/>
                          </a:lnTo>
                          <a:lnTo>
                            <a:pt x="16784" y="5648"/>
                          </a:lnTo>
                          <a:lnTo>
                            <a:pt x="16847" y="5600"/>
                          </a:lnTo>
                          <a:lnTo>
                            <a:pt x="16915" y="5554"/>
                          </a:lnTo>
                          <a:lnTo>
                            <a:pt x="16986" y="5518"/>
                          </a:lnTo>
                          <a:lnTo>
                            <a:pt x="17064" y="5470"/>
                          </a:lnTo>
                          <a:lnTo>
                            <a:pt x="17124" y="5409"/>
                          </a:lnTo>
                          <a:lnTo>
                            <a:pt x="17176" y="5349"/>
                          </a:lnTo>
                          <a:lnTo>
                            <a:pt x="17215" y="5285"/>
                          </a:lnTo>
                          <a:lnTo>
                            <a:pt x="17247" y="5207"/>
                          </a:lnTo>
                          <a:lnTo>
                            <a:pt x="17268" y="5133"/>
                          </a:lnTo>
                          <a:lnTo>
                            <a:pt x="17275" y="5055"/>
                          </a:lnTo>
                          <a:lnTo>
                            <a:pt x="17268" y="4984"/>
                          </a:lnTo>
                          <a:lnTo>
                            <a:pt x="17251" y="4906"/>
                          </a:lnTo>
                          <a:lnTo>
                            <a:pt x="17230" y="4831"/>
                          </a:lnTo>
                          <a:lnTo>
                            <a:pt x="17187" y="4760"/>
                          </a:lnTo>
                          <a:lnTo>
                            <a:pt x="17134" y="4688"/>
                          </a:lnTo>
                          <a:lnTo>
                            <a:pt x="17074" y="4637"/>
                          </a:lnTo>
                          <a:lnTo>
                            <a:pt x="17003" y="4585"/>
                          </a:lnTo>
                          <a:lnTo>
                            <a:pt x="16933" y="4549"/>
                          </a:lnTo>
                          <a:lnTo>
                            <a:pt x="16855" y="4520"/>
                          </a:lnTo>
                          <a:lnTo>
                            <a:pt x="16774" y="4505"/>
                          </a:lnTo>
                          <a:lnTo>
                            <a:pt x="16686" y="4494"/>
                          </a:lnTo>
                          <a:lnTo>
                            <a:pt x="16600" y="4500"/>
                          </a:lnTo>
                          <a:lnTo>
                            <a:pt x="16519" y="4517"/>
                          </a:lnTo>
                          <a:lnTo>
                            <a:pt x="16434" y="4536"/>
                          </a:lnTo>
                          <a:lnTo>
                            <a:pt x="16357" y="4575"/>
                          </a:lnTo>
                          <a:lnTo>
                            <a:pt x="16276" y="4624"/>
                          </a:lnTo>
                          <a:lnTo>
                            <a:pt x="16190" y="4672"/>
                          </a:lnTo>
                          <a:lnTo>
                            <a:pt x="16117" y="4727"/>
                          </a:lnTo>
                          <a:lnTo>
                            <a:pt x="16046" y="4782"/>
                          </a:lnTo>
                          <a:lnTo>
                            <a:pt x="15972" y="4838"/>
                          </a:lnTo>
                          <a:lnTo>
                            <a:pt x="15901" y="4890"/>
                          </a:lnTo>
                          <a:lnTo>
                            <a:pt x="15831" y="4945"/>
                          </a:lnTo>
                          <a:lnTo>
                            <a:pt x="15771" y="5003"/>
                          </a:lnTo>
                          <a:lnTo>
                            <a:pt x="15707" y="5061"/>
                          </a:lnTo>
                          <a:lnTo>
                            <a:pt x="15647" y="5119"/>
                          </a:lnTo>
                          <a:lnTo>
                            <a:pt x="15590" y="5181"/>
                          </a:lnTo>
                          <a:lnTo>
                            <a:pt x="15533" y="5240"/>
                          </a:lnTo>
                          <a:lnTo>
                            <a:pt x="15478" y="5304"/>
                          </a:lnTo>
                          <a:lnTo>
                            <a:pt x="15424" y="5366"/>
                          </a:lnTo>
                          <a:lnTo>
                            <a:pt x="15367" y="5431"/>
                          </a:lnTo>
                          <a:lnTo>
                            <a:pt x="15322" y="5495"/>
                          </a:lnTo>
                          <a:lnTo>
                            <a:pt x="15269" y="5561"/>
                          </a:lnTo>
                          <a:lnTo>
                            <a:pt x="15223" y="5625"/>
                          </a:lnTo>
                          <a:lnTo>
                            <a:pt x="15174" y="5689"/>
                          </a:lnTo>
                          <a:lnTo>
                            <a:pt x="15128" y="5755"/>
                          </a:lnTo>
                          <a:lnTo>
                            <a:pt x="15086" y="5823"/>
                          </a:lnTo>
                          <a:lnTo>
                            <a:pt x="15039" y="5891"/>
                          </a:lnTo>
                          <a:lnTo>
                            <a:pt x="14990" y="5956"/>
                          </a:lnTo>
                          <a:lnTo>
                            <a:pt x="14951" y="6023"/>
                          </a:lnTo>
                          <a:lnTo>
                            <a:pt x="14902" y="6089"/>
                          </a:lnTo>
                          <a:lnTo>
                            <a:pt x="14848" y="6173"/>
                          </a:lnTo>
                          <a:lnTo>
                            <a:pt x="14788" y="6257"/>
                          </a:lnTo>
                          <a:lnTo>
                            <a:pt x="14736" y="6338"/>
                          </a:lnTo>
                          <a:lnTo>
                            <a:pt x="14676" y="6419"/>
                          </a:lnTo>
                          <a:lnTo>
                            <a:pt x="14622" y="6493"/>
                          </a:lnTo>
                          <a:lnTo>
                            <a:pt x="14565" y="6574"/>
                          </a:lnTo>
                          <a:lnTo>
                            <a:pt x="14505" y="6653"/>
                          </a:lnTo>
                          <a:lnTo>
                            <a:pt x="14445" y="6723"/>
                          </a:lnTo>
                          <a:lnTo>
                            <a:pt x="14463" y="6707"/>
                          </a:lnTo>
                          <a:lnTo>
                            <a:pt x="14481" y="6684"/>
                          </a:lnTo>
                          <a:lnTo>
                            <a:pt x="14505" y="6668"/>
                          </a:lnTo>
                          <a:lnTo>
                            <a:pt x="14417" y="6743"/>
                          </a:lnTo>
                          <a:lnTo>
                            <a:pt x="14329" y="6814"/>
                          </a:lnTo>
                          <a:lnTo>
                            <a:pt x="14237" y="6892"/>
                          </a:lnTo>
                          <a:lnTo>
                            <a:pt x="14146" y="6966"/>
                          </a:lnTo>
                          <a:lnTo>
                            <a:pt x="14061" y="7032"/>
                          </a:lnTo>
                          <a:lnTo>
                            <a:pt x="13983" y="7096"/>
                          </a:lnTo>
                          <a:lnTo>
                            <a:pt x="13895" y="7167"/>
                          </a:lnTo>
                          <a:lnTo>
                            <a:pt x="13814" y="7239"/>
                          </a:lnTo>
                          <a:lnTo>
                            <a:pt x="13728" y="7320"/>
                          </a:lnTo>
                          <a:lnTo>
                            <a:pt x="13725" y="7320"/>
                          </a:lnTo>
                          <a:lnTo>
                            <a:pt x="13718" y="7326"/>
                          </a:lnTo>
                          <a:lnTo>
                            <a:pt x="13718" y="7329"/>
                          </a:lnTo>
                          <a:lnTo>
                            <a:pt x="13648" y="7394"/>
                          </a:lnTo>
                          <a:lnTo>
                            <a:pt x="13580" y="7463"/>
                          </a:lnTo>
                          <a:lnTo>
                            <a:pt x="13510" y="7527"/>
                          </a:lnTo>
                          <a:lnTo>
                            <a:pt x="13446" y="7585"/>
                          </a:lnTo>
                          <a:lnTo>
                            <a:pt x="13378" y="7651"/>
                          </a:lnTo>
                          <a:lnTo>
                            <a:pt x="13315" y="7715"/>
                          </a:lnTo>
                          <a:lnTo>
                            <a:pt x="13251" y="7779"/>
                          </a:lnTo>
                          <a:lnTo>
                            <a:pt x="13178" y="7842"/>
                          </a:lnTo>
                          <a:lnTo>
                            <a:pt x="13121" y="7906"/>
                          </a:lnTo>
                          <a:lnTo>
                            <a:pt x="13050" y="7964"/>
                          </a:lnTo>
                          <a:lnTo>
                            <a:pt x="12983" y="8025"/>
                          </a:lnTo>
                          <a:lnTo>
                            <a:pt x="12919" y="8091"/>
                          </a:lnTo>
                          <a:lnTo>
                            <a:pt x="12859" y="8146"/>
                          </a:lnTo>
                          <a:lnTo>
                            <a:pt x="12796" y="8210"/>
                          </a:lnTo>
                          <a:lnTo>
                            <a:pt x="12729" y="8269"/>
                          </a:lnTo>
                          <a:lnTo>
                            <a:pt x="12665" y="8324"/>
                          </a:lnTo>
                          <a:lnTo>
                            <a:pt x="12605" y="8382"/>
                          </a:lnTo>
                          <a:lnTo>
                            <a:pt x="12537" y="8444"/>
                          </a:lnTo>
                          <a:lnTo>
                            <a:pt x="12482" y="8502"/>
                          </a:lnTo>
                          <a:lnTo>
                            <a:pt x="12414" y="8558"/>
                          </a:lnTo>
                          <a:lnTo>
                            <a:pt x="12358" y="8616"/>
                          </a:lnTo>
                          <a:lnTo>
                            <a:pt x="12290" y="8671"/>
                          </a:lnTo>
                          <a:lnTo>
                            <a:pt x="12231" y="8726"/>
                          </a:lnTo>
                          <a:lnTo>
                            <a:pt x="12174" y="8784"/>
                          </a:lnTo>
                          <a:lnTo>
                            <a:pt x="12106" y="8840"/>
                          </a:lnTo>
                          <a:lnTo>
                            <a:pt x="12047" y="8895"/>
                          </a:lnTo>
                          <a:lnTo>
                            <a:pt x="11983" y="8949"/>
                          </a:lnTo>
                          <a:lnTo>
                            <a:pt x="11924" y="9001"/>
                          </a:lnTo>
                          <a:lnTo>
                            <a:pt x="11863" y="9056"/>
                          </a:lnTo>
                          <a:lnTo>
                            <a:pt x="11807" y="9111"/>
                          </a:lnTo>
                          <a:lnTo>
                            <a:pt x="11747" y="9166"/>
                          </a:lnTo>
                          <a:lnTo>
                            <a:pt x="11683" y="9218"/>
                          </a:lnTo>
                          <a:lnTo>
                            <a:pt x="11623" y="9274"/>
                          </a:lnTo>
                          <a:lnTo>
                            <a:pt x="11563" y="9322"/>
                          </a:lnTo>
                          <a:lnTo>
                            <a:pt x="11503" y="9377"/>
                          </a:lnTo>
                          <a:lnTo>
                            <a:pt x="11442" y="9426"/>
                          </a:lnTo>
                          <a:lnTo>
                            <a:pt x="11386" y="9481"/>
                          </a:lnTo>
                          <a:lnTo>
                            <a:pt x="11326" y="9529"/>
                          </a:lnTo>
                          <a:lnTo>
                            <a:pt x="11266" y="9584"/>
                          </a:lnTo>
                          <a:lnTo>
                            <a:pt x="11206" y="9633"/>
                          </a:lnTo>
                          <a:lnTo>
                            <a:pt x="11150" y="9681"/>
                          </a:lnTo>
                          <a:lnTo>
                            <a:pt x="11096" y="9730"/>
                          </a:lnTo>
                          <a:lnTo>
                            <a:pt x="11036" y="9785"/>
                          </a:lnTo>
                          <a:lnTo>
                            <a:pt x="10976" y="9833"/>
                          </a:lnTo>
                          <a:lnTo>
                            <a:pt x="10916" y="9882"/>
                          </a:lnTo>
                          <a:lnTo>
                            <a:pt x="10860" y="9931"/>
                          </a:lnTo>
                          <a:lnTo>
                            <a:pt x="10800" y="9979"/>
                          </a:lnTo>
                          <a:lnTo>
                            <a:pt x="10746" y="10028"/>
                          </a:lnTo>
                          <a:lnTo>
                            <a:pt x="10686" y="10076"/>
                          </a:lnTo>
                          <a:lnTo>
                            <a:pt x="10626" y="10126"/>
                          </a:lnTo>
                          <a:lnTo>
                            <a:pt x="10566" y="10170"/>
                          </a:lnTo>
                          <a:lnTo>
                            <a:pt x="10514" y="10219"/>
                          </a:lnTo>
                          <a:lnTo>
                            <a:pt x="10457" y="10269"/>
                          </a:lnTo>
                          <a:lnTo>
                            <a:pt x="10397" y="10310"/>
                          </a:lnTo>
                          <a:lnTo>
                            <a:pt x="10478" y="10255"/>
                          </a:lnTo>
                          <a:lnTo>
                            <a:pt x="10563" y="10219"/>
                          </a:lnTo>
                          <a:lnTo>
                            <a:pt x="10658" y="10190"/>
                          </a:lnTo>
                          <a:lnTo>
                            <a:pt x="10750" y="10175"/>
                          </a:lnTo>
                          <a:lnTo>
                            <a:pt x="10852" y="10175"/>
                          </a:lnTo>
                          <a:lnTo>
                            <a:pt x="10948" y="10190"/>
                          </a:lnTo>
                          <a:lnTo>
                            <a:pt x="11044" y="10223"/>
                          </a:lnTo>
                          <a:lnTo>
                            <a:pt x="11132" y="10269"/>
                          </a:lnTo>
                          <a:lnTo>
                            <a:pt x="11206" y="10323"/>
                          </a:lnTo>
                          <a:lnTo>
                            <a:pt x="11273" y="10391"/>
                          </a:lnTo>
                          <a:lnTo>
                            <a:pt x="11326" y="10463"/>
                          </a:lnTo>
                          <a:lnTo>
                            <a:pt x="11369" y="10543"/>
                          </a:lnTo>
                          <a:lnTo>
                            <a:pt x="11390" y="10637"/>
                          </a:lnTo>
                          <a:lnTo>
                            <a:pt x="11397" y="10725"/>
                          </a:lnTo>
                          <a:lnTo>
                            <a:pt x="11415" y="10654"/>
                          </a:lnTo>
                          <a:lnTo>
                            <a:pt x="11449" y="10573"/>
                          </a:lnTo>
                          <a:lnTo>
                            <a:pt x="11517" y="10476"/>
                          </a:lnTo>
                          <a:lnTo>
                            <a:pt x="11605" y="10355"/>
                          </a:lnTo>
                          <a:lnTo>
                            <a:pt x="11659" y="10284"/>
                          </a:lnTo>
                          <a:lnTo>
                            <a:pt x="11711" y="10203"/>
                          </a:lnTo>
                          <a:lnTo>
                            <a:pt x="11764" y="10122"/>
                          </a:lnTo>
                          <a:lnTo>
                            <a:pt x="11757" y="10139"/>
                          </a:lnTo>
                          <a:lnTo>
                            <a:pt x="11747" y="10154"/>
                          </a:lnTo>
                          <a:lnTo>
                            <a:pt x="11735" y="10164"/>
                          </a:lnTo>
                          <a:lnTo>
                            <a:pt x="12877" y="8758"/>
                          </a:lnTo>
                          <a:lnTo>
                            <a:pt x="12923" y="8693"/>
                          </a:lnTo>
                          <a:lnTo>
                            <a:pt x="12976" y="8632"/>
                          </a:lnTo>
                          <a:lnTo>
                            <a:pt x="13033" y="8567"/>
                          </a:lnTo>
                          <a:lnTo>
                            <a:pt x="13079" y="8509"/>
                          </a:lnTo>
                          <a:lnTo>
                            <a:pt x="13131" y="8444"/>
                          </a:lnTo>
                          <a:lnTo>
                            <a:pt x="13184" y="8379"/>
                          </a:lnTo>
                          <a:lnTo>
                            <a:pt x="13238" y="8318"/>
                          </a:lnTo>
                          <a:lnTo>
                            <a:pt x="13287" y="8253"/>
                          </a:lnTo>
                          <a:lnTo>
                            <a:pt x="13340" y="8194"/>
                          </a:lnTo>
                          <a:lnTo>
                            <a:pt x="13386" y="8130"/>
                          </a:lnTo>
                          <a:lnTo>
                            <a:pt x="13438" y="8068"/>
                          </a:lnTo>
                          <a:lnTo>
                            <a:pt x="13492" y="8003"/>
                          </a:lnTo>
                          <a:lnTo>
                            <a:pt x="13541" y="7945"/>
                          </a:lnTo>
                          <a:lnTo>
                            <a:pt x="13588" y="7880"/>
                          </a:lnTo>
                          <a:lnTo>
                            <a:pt x="13640" y="7818"/>
                          </a:lnTo>
                          <a:lnTo>
                            <a:pt x="13690" y="7754"/>
                          </a:lnTo>
                          <a:lnTo>
                            <a:pt x="13742" y="7696"/>
                          </a:lnTo>
                          <a:lnTo>
                            <a:pt x="13796" y="7627"/>
                          </a:lnTo>
                          <a:lnTo>
                            <a:pt x="13841" y="7569"/>
                          </a:lnTo>
                          <a:lnTo>
                            <a:pt x="13895" y="7505"/>
                          </a:lnTo>
                          <a:lnTo>
                            <a:pt x="13944" y="7446"/>
                          </a:lnTo>
                          <a:lnTo>
                            <a:pt x="13997" y="7378"/>
                          </a:lnTo>
                          <a:lnTo>
                            <a:pt x="14043" y="7320"/>
                          </a:lnTo>
                          <a:lnTo>
                            <a:pt x="14092" y="7255"/>
                          </a:lnTo>
                          <a:lnTo>
                            <a:pt x="14146" y="7190"/>
                          </a:lnTo>
                          <a:lnTo>
                            <a:pt x="14191" y="7129"/>
                          </a:lnTo>
                          <a:lnTo>
                            <a:pt x="14237" y="7063"/>
                          </a:lnTo>
                          <a:lnTo>
                            <a:pt x="14294" y="7005"/>
                          </a:lnTo>
                          <a:lnTo>
                            <a:pt x="14339" y="6941"/>
                          </a:lnTo>
                          <a:lnTo>
                            <a:pt x="14393" y="6879"/>
                          </a:lnTo>
                          <a:lnTo>
                            <a:pt x="14438" y="6814"/>
                          </a:lnTo>
                          <a:lnTo>
                            <a:pt x="14487" y="6756"/>
                          </a:lnTo>
                          <a:lnTo>
                            <a:pt x="14541" y="6691"/>
                          </a:lnTo>
                          <a:lnTo>
                            <a:pt x="14587" y="6626"/>
                          </a:lnTo>
                          <a:lnTo>
                            <a:pt x="14637" y="6565"/>
                          </a:lnTo>
                          <a:lnTo>
                            <a:pt x="14689" y="6499"/>
                          </a:lnTo>
                          <a:lnTo>
                            <a:pt x="14736" y="6435"/>
                          </a:lnTo>
                          <a:lnTo>
                            <a:pt x="14785" y="6374"/>
                          </a:lnTo>
                          <a:lnTo>
                            <a:pt x="14830" y="6308"/>
                          </a:lnTo>
                          <a:lnTo>
                            <a:pt x="14884" y="6244"/>
                          </a:lnTo>
                          <a:lnTo>
                            <a:pt x="14930" y="6186"/>
                          </a:lnTo>
                          <a:lnTo>
                            <a:pt x="14979" y="6120"/>
                          </a:lnTo>
                          <a:lnTo>
                            <a:pt x="15025" y="6056"/>
                          </a:lnTo>
                          <a:lnTo>
                            <a:pt x="15078" y="5988"/>
                          </a:lnTo>
                          <a:lnTo>
                            <a:pt x="15128" y="5929"/>
                          </a:lnTo>
                          <a:lnTo>
                            <a:pt x="15174" y="5865"/>
                          </a:lnTo>
                          <a:lnTo>
                            <a:pt x="15223" y="5800"/>
                          </a:lnTo>
                          <a:lnTo>
                            <a:pt x="15276" y="5735"/>
                          </a:lnTo>
                          <a:lnTo>
                            <a:pt x="15322" y="5670"/>
                          </a:lnTo>
                          <a:lnTo>
                            <a:pt x="15367" y="5603"/>
                          </a:lnTo>
                          <a:lnTo>
                            <a:pt x="15417" y="5537"/>
                          </a:lnTo>
                          <a:lnTo>
                            <a:pt x="15463" y="5473"/>
                          </a:lnTo>
                          <a:lnTo>
                            <a:pt x="15512" y="5409"/>
                          </a:lnTo>
                          <a:lnTo>
                            <a:pt x="15559" y="5343"/>
                          </a:lnTo>
                          <a:lnTo>
                            <a:pt x="15611" y="5279"/>
                          </a:lnTo>
                          <a:lnTo>
                            <a:pt x="15661" y="5207"/>
                          </a:lnTo>
                          <a:lnTo>
                            <a:pt x="15707" y="5142"/>
                          </a:lnTo>
                          <a:lnTo>
                            <a:pt x="15753" y="5078"/>
                          </a:lnTo>
                          <a:lnTo>
                            <a:pt x="15802" y="5013"/>
                          </a:lnTo>
                          <a:lnTo>
                            <a:pt x="15848" y="4951"/>
                          </a:lnTo>
                          <a:lnTo>
                            <a:pt x="15897" y="4879"/>
                          </a:lnTo>
                          <a:lnTo>
                            <a:pt x="15943" y="4815"/>
                          </a:lnTo>
                          <a:lnTo>
                            <a:pt x="15990" y="4744"/>
                          </a:lnTo>
                          <a:lnTo>
                            <a:pt x="16039" y="4679"/>
                          </a:lnTo>
                          <a:lnTo>
                            <a:pt x="16092" y="4608"/>
                          </a:lnTo>
                          <a:lnTo>
                            <a:pt x="16135" y="4543"/>
                          </a:lnTo>
                          <a:lnTo>
                            <a:pt x="16187" y="4472"/>
                          </a:lnTo>
                          <a:lnTo>
                            <a:pt x="16226" y="4403"/>
                          </a:lnTo>
                          <a:lnTo>
                            <a:pt x="16283" y="4336"/>
                          </a:lnTo>
                          <a:lnTo>
                            <a:pt x="16328" y="4245"/>
                          </a:lnTo>
                          <a:lnTo>
                            <a:pt x="16357" y="4148"/>
                          </a:lnTo>
                          <a:lnTo>
                            <a:pt x="16371" y="4044"/>
                          </a:lnTo>
                          <a:lnTo>
                            <a:pt x="16371" y="3924"/>
                          </a:lnTo>
                          <a:lnTo>
                            <a:pt x="16364" y="3843"/>
                          </a:lnTo>
                          <a:lnTo>
                            <a:pt x="16346" y="3762"/>
                          </a:lnTo>
                          <a:lnTo>
                            <a:pt x="16318" y="3690"/>
                          </a:lnTo>
                          <a:lnTo>
                            <a:pt x="16268" y="3620"/>
                          </a:lnTo>
                          <a:lnTo>
                            <a:pt x="16223" y="3561"/>
                          </a:lnTo>
                          <a:lnTo>
                            <a:pt x="16156" y="3499"/>
                          </a:lnTo>
                          <a:lnTo>
                            <a:pt x="16092" y="3458"/>
                          </a:lnTo>
                          <a:lnTo>
                            <a:pt x="16014" y="3419"/>
                          </a:lnTo>
                          <a:lnTo>
                            <a:pt x="15933" y="3393"/>
                          </a:lnTo>
                          <a:lnTo>
                            <a:pt x="15845" y="3377"/>
                          </a:lnTo>
                          <a:lnTo>
                            <a:pt x="15753" y="3370"/>
                          </a:lnTo>
                          <a:lnTo>
                            <a:pt x="15671" y="3377"/>
                          </a:lnTo>
                          <a:lnTo>
                            <a:pt x="15583" y="3399"/>
                          </a:lnTo>
                          <a:lnTo>
                            <a:pt x="15505" y="3425"/>
                          </a:lnTo>
                          <a:lnTo>
                            <a:pt x="15427" y="3467"/>
                          </a:lnTo>
                          <a:lnTo>
                            <a:pt x="15364" y="3516"/>
                          </a:lnTo>
                          <a:lnTo>
                            <a:pt x="15304" y="3571"/>
                          </a:lnTo>
                          <a:lnTo>
                            <a:pt x="15251" y="3642"/>
                          </a:lnTo>
                          <a:lnTo>
                            <a:pt x="15198" y="3714"/>
                          </a:lnTo>
                          <a:lnTo>
                            <a:pt x="15138" y="3781"/>
                          </a:lnTo>
                          <a:lnTo>
                            <a:pt x="15074" y="3853"/>
                          </a:lnTo>
                          <a:lnTo>
                            <a:pt x="15004" y="3917"/>
                          </a:lnTo>
                          <a:lnTo>
                            <a:pt x="14926" y="3989"/>
                          </a:lnTo>
                          <a:lnTo>
                            <a:pt x="14842" y="4060"/>
                          </a:lnTo>
                          <a:lnTo>
                            <a:pt x="14770" y="4118"/>
                          </a:lnTo>
                          <a:lnTo>
                            <a:pt x="14707" y="4180"/>
                          </a:lnTo>
                          <a:lnTo>
                            <a:pt x="14637" y="4245"/>
                          </a:lnTo>
                          <a:lnTo>
                            <a:pt x="14647" y="4235"/>
                          </a:lnTo>
                          <a:lnTo>
                            <a:pt x="14658" y="4223"/>
                          </a:lnTo>
                          <a:lnTo>
                            <a:pt x="14671" y="4206"/>
                          </a:lnTo>
                          <a:lnTo>
                            <a:pt x="13760" y="4906"/>
                          </a:lnTo>
                          <a:lnTo>
                            <a:pt x="13510" y="5094"/>
                          </a:lnTo>
                          <a:lnTo>
                            <a:pt x="13498" y="5100"/>
                          </a:lnTo>
                          <a:lnTo>
                            <a:pt x="13492" y="5110"/>
                          </a:lnTo>
                          <a:lnTo>
                            <a:pt x="13481" y="5116"/>
                          </a:lnTo>
                          <a:lnTo>
                            <a:pt x="13428" y="5165"/>
                          </a:lnTo>
                          <a:lnTo>
                            <a:pt x="13375" y="5207"/>
                          </a:lnTo>
                          <a:lnTo>
                            <a:pt x="13315" y="5255"/>
                          </a:lnTo>
                          <a:lnTo>
                            <a:pt x="13262" y="5304"/>
                          </a:lnTo>
                          <a:lnTo>
                            <a:pt x="13202" y="5353"/>
                          </a:lnTo>
                          <a:lnTo>
                            <a:pt x="13142" y="5398"/>
                          </a:lnTo>
                          <a:lnTo>
                            <a:pt x="13085" y="5447"/>
                          </a:lnTo>
                          <a:lnTo>
                            <a:pt x="13025" y="5495"/>
                          </a:lnTo>
                          <a:lnTo>
                            <a:pt x="12965" y="5544"/>
                          </a:lnTo>
                          <a:lnTo>
                            <a:pt x="12901" y="5592"/>
                          </a:lnTo>
                          <a:lnTo>
                            <a:pt x="12841" y="5641"/>
                          </a:lnTo>
                          <a:lnTo>
                            <a:pt x="12778" y="5689"/>
                          </a:lnTo>
                          <a:lnTo>
                            <a:pt x="12711" y="5738"/>
                          </a:lnTo>
                          <a:lnTo>
                            <a:pt x="12648" y="5787"/>
                          </a:lnTo>
                          <a:lnTo>
                            <a:pt x="12581" y="5839"/>
                          </a:lnTo>
                          <a:lnTo>
                            <a:pt x="12516" y="5888"/>
                          </a:lnTo>
                          <a:lnTo>
                            <a:pt x="12449" y="5937"/>
                          </a:lnTo>
                          <a:lnTo>
                            <a:pt x="12386" y="5985"/>
                          </a:lnTo>
                          <a:lnTo>
                            <a:pt x="12316" y="6040"/>
                          </a:lnTo>
                          <a:lnTo>
                            <a:pt x="12248" y="6089"/>
                          </a:lnTo>
                          <a:lnTo>
                            <a:pt x="12178" y="6137"/>
                          </a:lnTo>
                          <a:lnTo>
                            <a:pt x="12106" y="6186"/>
                          </a:lnTo>
                          <a:lnTo>
                            <a:pt x="12036" y="6241"/>
                          </a:lnTo>
                          <a:lnTo>
                            <a:pt x="11966" y="6289"/>
                          </a:lnTo>
                          <a:lnTo>
                            <a:pt x="11895" y="6338"/>
                          </a:lnTo>
                          <a:lnTo>
                            <a:pt x="11824" y="6386"/>
                          </a:lnTo>
                          <a:lnTo>
                            <a:pt x="11753" y="6435"/>
                          </a:lnTo>
                          <a:lnTo>
                            <a:pt x="11683" y="6490"/>
                          </a:lnTo>
                          <a:lnTo>
                            <a:pt x="11608" y="6539"/>
                          </a:lnTo>
                          <a:lnTo>
                            <a:pt x="11538" y="6590"/>
                          </a:lnTo>
                          <a:lnTo>
                            <a:pt x="11464" y="6642"/>
                          </a:lnTo>
                          <a:lnTo>
                            <a:pt x="11390" y="6691"/>
                          </a:lnTo>
                          <a:lnTo>
                            <a:pt x="11316" y="6743"/>
                          </a:lnTo>
                          <a:lnTo>
                            <a:pt x="11245" y="6792"/>
                          </a:lnTo>
                          <a:lnTo>
                            <a:pt x="11171" y="6847"/>
                          </a:lnTo>
                          <a:lnTo>
                            <a:pt x="11096" y="6895"/>
                          </a:lnTo>
                          <a:lnTo>
                            <a:pt x="11018" y="6944"/>
                          </a:lnTo>
                          <a:lnTo>
                            <a:pt x="10948" y="6999"/>
                          </a:lnTo>
                          <a:lnTo>
                            <a:pt x="10870" y="7048"/>
                          </a:lnTo>
                          <a:lnTo>
                            <a:pt x="10792" y="7102"/>
                          </a:lnTo>
                          <a:lnTo>
                            <a:pt x="10722" y="7151"/>
                          </a:lnTo>
                          <a:lnTo>
                            <a:pt x="10644" y="7200"/>
                          </a:lnTo>
                          <a:lnTo>
                            <a:pt x="10574" y="7248"/>
                          </a:lnTo>
                          <a:lnTo>
                            <a:pt x="10496" y="7303"/>
                          </a:lnTo>
                          <a:lnTo>
                            <a:pt x="10426" y="7352"/>
                          </a:lnTo>
                          <a:lnTo>
                            <a:pt x="10348" y="7407"/>
                          </a:lnTo>
                          <a:lnTo>
                            <a:pt x="10273" y="7455"/>
                          </a:lnTo>
                          <a:lnTo>
                            <a:pt x="10203" y="7511"/>
                          </a:lnTo>
                          <a:lnTo>
                            <a:pt x="10125" y="7560"/>
                          </a:lnTo>
                          <a:lnTo>
                            <a:pt x="10047" y="7608"/>
                          </a:lnTo>
                          <a:lnTo>
                            <a:pt x="9969" y="7663"/>
                          </a:lnTo>
                          <a:lnTo>
                            <a:pt x="9899" y="7712"/>
                          </a:lnTo>
                          <a:lnTo>
                            <a:pt x="9821" y="7764"/>
                          </a:lnTo>
                          <a:lnTo>
                            <a:pt x="9751" y="7812"/>
                          </a:lnTo>
                          <a:lnTo>
                            <a:pt x="9679" y="7864"/>
                          </a:lnTo>
                          <a:lnTo>
                            <a:pt x="9609" y="7912"/>
                          </a:lnTo>
                          <a:lnTo>
                            <a:pt x="9531" y="7961"/>
                          </a:lnTo>
                          <a:lnTo>
                            <a:pt x="9461" y="8010"/>
                          </a:lnTo>
                          <a:lnTo>
                            <a:pt x="9390" y="8058"/>
                          </a:lnTo>
                          <a:lnTo>
                            <a:pt x="9320" y="8107"/>
                          </a:lnTo>
                          <a:lnTo>
                            <a:pt x="9252" y="8155"/>
                          </a:lnTo>
                          <a:lnTo>
                            <a:pt x="9182" y="8204"/>
                          </a:lnTo>
                          <a:lnTo>
                            <a:pt x="9118" y="8253"/>
                          </a:lnTo>
                          <a:lnTo>
                            <a:pt x="9047" y="8301"/>
                          </a:lnTo>
                          <a:lnTo>
                            <a:pt x="8980" y="8347"/>
                          </a:lnTo>
                          <a:lnTo>
                            <a:pt x="8916" y="8395"/>
                          </a:lnTo>
                          <a:lnTo>
                            <a:pt x="8853" y="8444"/>
                          </a:lnTo>
                          <a:lnTo>
                            <a:pt x="8790" y="8486"/>
                          </a:lnTo>
                          <a:lnTo>
                            <a:pt x="8726" y="8534"/>
                          </a:lnTo>
                          <a:lnTo>
                            <a:pt x="8666" y="8580"/>
                          </a:lnTo>
                          <a:lnTo>
                            <a:pt x="8599" y="8628"/>
                          </a:lnTo>
                          <a:lnTo>
                            <a:pt x="8542" y="8671"/>
                          </a:lnTo>
                          <a:lnTo>
                            <a:pt x="8475" y="8716"/>
                          </a:lnTo>
                          <a:lnTo>
                            <a:pt x="8415" y="8758"/>
                          </a:lnTo>
                          <a:lnTo>
                            <a:pt x="8492" y="8716"/>
                          </a:lnTo>
                          <a:lnTo>
                            <a:pt x="8570" y="8677"/>
                          </a:lnTo>
                          <a:lnTo>
                            <a:pt x="8655" y="8652"/>
                          </a:lnTo>
                          <a:lnTo>
                            <a:pt x="8744" y="8638"/>
                          </a:lnTo>
                          <a:lnTo>
                            <a:pt x="8825" y="8632"/>
                          </a:lnTo>
                          <a:lnTo>
                            <a:pt x="8906" y="8644"/>
                          </a:lnTo>
                          <a:lnTo>
                            <a:pt x="8988" y="8668"/>
                          </a:lnTo>
                          <a:lnTo>
                            <a:pt x="9072" y="8693"/>
                          </a:lnTo>
                          <a:lnTo>
                            <a:pt x="9146" y="8735"/>
                          </a:lnTo>
                          <a:lnTo>
                            <a:pt x="9214" y="8790"/>
                          </a:lnTo>
                          <a:lnTo>
                            <a:pt x="9277" y="8852"/>
                          </a:lnTo>
                          <a:lnTo>
                            <a:pt x="9326" y="8920"/>
                          </a:lnTo>
                          <a:lnTo>
                            <a:pt x="9362" y="8992"/>
                          </a:lnTo>
                          <a:lnTo>
                            <a:pt x="9383" y="9069"/>
                          </a:lnTo>
                          <a:lnTo>
                            <a:pt x="9398" y="9150"/>
                          </a:lnTo>
                          <a:lnTo>
                            <a:pt x="9398" y="9225"/>
                          </a:lnTo>
                          <a:lnTo>
                            <a:pt x="9383" y="9305"/>
                          </a:lnTo>
                          <a:lnTo>
                            <a:pt x="9362" y="9384"/>
                          </a:lnTo>
                          <a:lnTo>
                            <a:pt x="9320" y="9451"/>
                          </a:lnTo>
                          <a:lnTo>
                            <a:pt x="9270" y="9523"/>
                          </a:lnTo>
                          <a:lnTo>
                            <a:pt x="9312" y="9481"/>
                          </a:lnTo>
                          <a:lnTo>
                            <a:pt x="9362" y="9426"/>
                          </a:lnTo>
                          <a:lnTo>
                            <a:pt x="9401" y="9377"/>
                          </a:lnTo>
                          <a:lnTo>
                            <a:pt x="9453" y="9329"/>
                          </a:lnTo>
                          <a:lnTo>
                            <a:pt x="9510" y="9274"/>
                          </a:lnTo>
                          <a:lnTo>
                            <a:pt x="9564" y="9225"/>
                          </a:lnTo>
                          <a:lnTo>
                            <a:pt x="9619" y="9166"/>
                          </a:lnTo>
                          <a:lnTo>
                            <a:pt x="9679" y="9111"/>
                          </a:lnTo>
                          <a:lnTo>
                            <a:pt x="9747" y="9056"/>
                          </a:lnTo>
                          <a:lnTo>
                            <a:pt x="9803" y="8998"/>
                          </a:lnTo>
                          <a:lnTo>
                            <a:pt x="9871" y="8937"/>
                          </a:lnTo>
                          <a:lnTo>
                            <a:pt x="9941" y="8884"/>
                          </a:lnTo>
                          <a:lnTo>
                            <a:pt x="10005" y="8823"/>
                          </a:lnTo>
                          <a:lnTo>
                            <a:pt x="10076" y="8765"/>
                          </a:lnTo>
                          <a:lnTo>
                            <a:pt x="10146" y="8703"/>
                          </a:lnTo>
                          <a:lnTo>
                            <a:pt x="10221" y="8644"/>
                          </a:lnTo>
                          <a:lnTo>
                            <a:pt x="10294" y="8580"/>
                          </a:lnTo>
                          <a:lnTo>
                            <a:pt x="10365" y="8519"/>
                          </a:lnTo>
                          <a:lnTo>
                            <a:pt x="10439" y="8461"/>
                          </a:lnTo>
                          <a:lnTo>
                            <a:pt x="10514" y="8398"/>
                          </a:lnTo>
                          <a:lnTo>
                            <a:pt x="10584" y="8340"/>
                          </a:lnTo>
                          <a:lnTo>
                            <a:pt x="10658" y="8282"/>
                          </a:lnTo>
                          <a:lnTo>
                            <a:pt x="10729" y="8221"/>
                          </a:lnTo>
                          <a:lnTo>
                            <a:pt x="10800" y="8165"/>
                          </a:lnTo>
                          <a:lnTo>
                            <a:pt x="10870" y="8107"/>
                          </a:lnTo>
                          <a:lnTo>
                            <a:pt x="10941" y="8049"/>
                          </a:lnTo>
                          <a:lnTo>
                            <a:pt x="11011" y="7987"/>
                          </a:lnTo>
                          <a:lnTo>
                            <a:pt x="11078" y="7928"/>
                          </a:lnTo>
                          <a:lnTo>
                            <a:pt x="11150" y="7867"/>
                          </a:lnTo>
                          <a:lnTo>
                            <a:pt x="11220" y="7812"/>
                          </a:lnTo>
                          <a:lnTo>
                            <a:pt x="11283" y="7754"/>
                          </a:lnTo>
                          <a:lnTo>
                            <a:pt x="11351" y="7696"/>
                          </a:lnTo>
                          <a:lnTo>
                            <a:pt x="11421" y="7634"/>
                          </a:lnTo>
                          <a:lnTo>
                            <a:pt x="11485" y="7576"/>
                          </a:lnTo>
                          <a:lnTo>
                            <a:pt x="11552" y="7521"/>
                          </a:lnTo>
                          <a:lnTo>
                            <a:pt x="11608" y="7463"/>
                          </a:lnTo>
                          <a:lnTo>
                            <a:pt x="11675" y="7400"/>
                          </a:lnTo>
                          <a:lnTo>
                            <a:pt x="11735" y="7345"/>
                          </a:lnTo>
                          <a:lnTo>
                            <a:pt x="11792" y="7287"/>
                          </a:lnTo>
                          <a:lnTo>
                            <a:pt x="11852" y="7232"/>
                          </a:lnTo>
                          <a:lnTo>
                            <a:pt x="11912" y="7174"/>
                          </a:lnTo>
                          <a:lnTo>
                            <a:pt x="11966" y="7118"/>
                          </a:lnTo>
                          <a:lnTo>
                            <a:pt x="12018" y="7060"/>
                          </a:lnTo>
                          <a:lnTo>
                            <a:pt x="12072" y="7005"/>
                          </a:lnTo>
                          <a:lnTo>
                            <a:pt x="12121" y="6950"/>
                          </a:lnTo>
                          <a:lnTo>
                            <a:pt x="12166" y="6895"/>
                          </a:lnTo>
                          <a:lnTo>
                            <a:pt x="12213" y="6844"/>
                          </a:lnTo>
                          <a:lnTo>
                            <a:pt x="12256" y="6788"/>
                          </a:lnTo>
                          <a:lnTo>
                            <a:pt x="12248" y="6792"/>
                          </a:lnTo>
                          <a:lnTo>
                            <a:pt x="12244" y="6798"/>
                          </a:lnTo>
                          <a:lnTo>
                            <a:pt x="13471" y="5353"/>
                          </a:lnTo>
                          <a:lnTo>
                            <a:pt x="14692" y="3902"/>
                          </a:lnTo>
                          <a:lnTo>
                            <a:pt x="14707" y="3898"/>
                          </a:lnTo>
                          <a:lnTo>
                            <a:pt x="14710" y="3886"/>
                          </a:lnTo>
                          <a:lnTo>
                            <a:pt x="14718" y="3875"/>
                          </a:lnTo>
                          <a:lnTo>
                            <a:pt x="14736" y="3850"/>
                          </a:lnTo>
                          <a:lnTo>
                            <a:pt x="14753" y="3827"/>
                          </a:lnTo>
                          <a:lnTo>
                            <a:pt x="14778" y="3801"/>
                          </a:lnTo>
                          <a:lnTo>
                            <a:pt x="14813" y="3749"/>
                          </a:lnTo>
                          <a:lnTo>
                            <a:pt x="14855" y="3690"/>
                          </a:lnTo>
                          <a:lnTo>
                            <a:pt x="14894" y="3632"/>
                          </a:lnTo>
                          <a:lnTo>
                            <a:pt x="14936" y="3565"/>
                          </a:lnTo>
                          <a:lnTo>
                            <a:pt x="14972" y="3496"/>
                          </a:lnTo>
                          <a:lnTo>
                            <a:pt x="15008" y="3419"/>
                          </a:lnTo>
                          <a:lnTo>
                            <a:pt x="15039" y="3331"/>
                          </a:lnTo>
                          <a:lnTo>
                            <a:pt x="15060" y="3240"/>
                          </a:lnTo>
                          <a:lnTo>
                            <a:pt x="15074" y="3143"/>
                          </a:lnTo>
                          <a:lnTo>
                            <a:pt x="15078" y="3033"/>
                          </a:lnTo>
                          <a:lnTo>
                            <a:pt x="15068" y="2943"/>
                          </a:lnTo>
                          <a:lnTo>
                            <a:pt x="15042" y="2855"/>
                          </a:lnTo>
                          <a:lnTo>
                            <a:pt x="15004" y="2767"/>
                          </a:lnTo>
                          <a:lnTo>
                            <a:pt x="14951" y="2693"/>
                          </a:lnTo>
                          <a:lnTo>
                            <a:pt x="14876" y="2628"/>
                          </a:lnTo>
                          <a:lnTo>
                            <a:pt x="14803" y="2567"/>
                          </a:lnTo>
                          <a:lnTo>
                            <a:pt x="14707" y="2524"/>
                          </a:lnTo>
                          <a:lnTo>
                            <a:pt x="14611" y="2495"/>
                          </a:lnTo>
                          <a:lnTo>
                            <a:pt x="14513" y="2485"/>
                          </a:lnTo>
                          <a:lnTo>
                            <a:pt x="14411" y="2485"/>
                          </a:lnTo>
                          <a:lnTo>
                            <a:pt x="14311" y="2509"/>
                          </a:lnTo>
                          <a:lnTo>
                            <a:pt x="14216" y="2534"/>
                          </a:lnTo>
                          <a:lnTo>
                            <a:pt x="14131" y="2583"/>
                          </a:lnTo>
                          <a:lnTo>
                            <a:pt x="14050" y="2645"/>
                          </a:lnTo>
                          <a:lnTo>
                            <a:pt x="13983" y="2709"/>
                          </a:lnTo>
                          <a:lnTo>
                            <a:pt x="13944" y="2767"/>
                          </a:lnTo>
                          <a:lnTo>
                            <a:pt x="13912" y="2813"/>
                          </a:lnTo>
                          <a:lnTo>
                            <a:pt x="13908" y="2816"/>
                          </a:lnTo>
                          <a:lnTo>
                            <a:pt x="13962" y="2751"/>
                          </a:lnTo>
                          <a:lnTo>
                            <a:pt x="14035" y="2693"/>
                          </a:lnTo>
                          <a:lnTo>
                            <a:pt x="14128" y="2648"/>
                          </a:lnTo>
                          <a:lnTo>
                            <a:pt x="14234" y="2615"/>
                          </a:lnTo>
                          <a:lnTo>
                            <a:pt x="14347" y="2599"/>
                          </a:lnTo>
                          <a:lnTo>
                            <a:pt x="14219" y="2599"/>
                          </a:lnTo>
                          <a:lnTo>
                            <a:pt x="14163" y="2606"/>
                          </a:lnTo>
                          <a:lnTo>
                            <a:pt x="14095" y="2612"/>
                          </a:lnTo>
                          <a:lnTo>
                            <a:pt x="14019" y="2631"/>
                          </a:lnTo>
                          <a:lnTo>
                            <a:pt x="13937" y="2661"/>
                          </a:lnTo>
                          <a:lnTo>
                            <a:pt x="13856" y="2709"/>
                          </a:lnTo>
                          <a:lnTo>
                            <a:pt x="13764" y="2767"/>
                          </a:lnTo>
                          <a:lnTo>
                            <a:pt x="13690" y="2855"/>
                          </a:lnTo>
                          <a:lnTo>
                            <a:pt x="13615" y="2962"/>
                          </a:lnTo>
                          <a:lnTo>
                            <a:pt x="13612" y="2968"/>
                          </a:lnTo>
                          <a:lnTo>
                            <a:pt x="13654" y="2910"/>
                          </a:lnTo>
                          <a:lnTo>
                            <a:pt x="13711" y="2855"/>
                          </a:lnTo>
                          <a:lnTo>
                            <a:pt x="13788" y="2800"/>
                          </a:lnTo>
                          <a:lnTo>
                            <a:pt x="13877" y="2758"/>
                          </a:lnTo>
                          <a:lnTo>
                            <a:pt x="13980" y="2728"/>
                          </a:lnTo>
                          <a:lnTo>
                            <a:pt x="14092" y="2719"/>
                          </a:lnTo>
                          <a:lnTo>
                            <a:pt x="13962" y="2719"/>
                          </a:lnTo>
                          <a:lnTo>
                            <a:pt x="13841" y="2728"/>
                          </a:lnTo>
                          <a:lnTo>
                            <a:pt x="13728" y="2761"/>
                          </a:lnTo>
                          <a:lnTo>
                            <a:pt x="13630" y="2813"/>
                          </a:lnTo>
                          <a:lnTo>
                            <a:pt x="13516" y="2888"/>
                          </a:lnTo>
                          <a:lnTo>
                            <a:pt x="13417" y="2952"/>
                          </a:lnTo>
                          <a:lnTo>
                            <a:pt x="13326" y="3017"/>
                          </a:lnTo>
                          <a:lnTo>
                            <a:pt x="13255" y="3071"/>
                          </a:lnTo>
                          <a:lnTo>
                            <a:pt x="13178" y="3120"/>
                          </a:lnTo>
                          <a:lnTo>
                            <a:pt x="13106" y="3170"/>
                          </a:lnTo>
                          <a:lnTo>
                            <a:pt x="13085" y="3186"/>
                          </a:lnTo>
                          <a:lnTo>
                            <a:pt x="13061" y="3201"/>
                          </a:lnTo>
                          <a:lnTo>
                            <a:pt x="13036" y="3218"/>
                          </a:lnTo>
                          <a:lnTo>
                            <a:pt x="12965" y="3279"/>
                          </a:lnTo>
                          <a:lnTo>
                            <a:pt x="12901" y="3338"/>
                          </a:lnTo>
                          <a:lnTo>
                            <a:pt x="12831" y="3399"/>
                          </a:lnTo>
                          <a:lnTo>
                            <a:pt x="12763" y="3458"/>
                          </a:lnTo>
                          <a:lnTo>
                            <a:pt x="12693" y="3516"/>
                          </a:lnTo>
                          <a:lnTo>
                            <a:pt x="12630" y="3577"/>
                          </a:lnTo>
                          <a:lnTo>
                            <a:pt x="12563" y="3632"/>
                          </a:lnTo>
                          <a:lnTo>
                            <a:pt x="12492" y="3690"/>
                          </a:lnTo>
                          <a:lnTo>
                            <a:pt x="12428" y="3749"/>
                          </a:lnTo>
                          <a:lnTo>
                            <a:pt x="12368" y="3811"/>
                          </a:lnTo>
                          <a:lnTo>
                            <a:pt x="12301" y="3866"/>
                          </a:lnTo>
                          <a:lnTo>
                            <a:pt x="12238" y="3924"/>
                          </a:lnTo>
                          <a:lnTo>
                            <a:pt x="12174" y="3983"/>
                          </a:lnTo>
                          <a:lnTo>
                            <a:pt x="12106" y="4044"/>
                          </a:lnTo>
                          <a:lnTo>
                            <a:pt x="12047" y="4099"/>
                          </a:lnTo>
                          <a:lnTo>
                            <a:pt x="11983" y="4157"/>
                          </a:lnTo>
                          <a:lnTo>
                            <a:pt x="11919" y="4212"/>
                          </a:lnTo>
                          <a:lnTo>
                            <a:pt x="11859" y="4271"/>
                          </a:lnTo>
                          <a:lnTo>
                            <a:pt x="11789" y="4332"/>
                          </a:lnTo>
                          <a:lnTo>
                            <a:pt x="11722" y="4390"/>
                          </a:lnTo>
                          <a:lnTo>
                            <a:pt x="11659" y="4452"/>
                          </a:lnTo>
                          <a:lnTo>
                            <a:pt x="11591" y="4511"/>
                          </a:lnTo>
                          <a:lnTo>
                            <a:pt x="11527" y="4569"/>
                          </a:lnTo>
                          <a:lnTo>
                            <a:pt x="11464" y="4637"/>
                          </a:lnTo>
                          <a:lnTo>
                            <a:pt x="11390" y="4696"/>
                          </a:lnTo>
                          <a:lnTo>
                            <a:pt x="11326" y="4754"/>
                          </a:lnTo>
                          <a:lnTo>
                            <a:pt x="11262" y="4815"/>
                          </a:lnTo>
                          <a:lnTo>
                            <a:pt x="11189" y="4873"/>
                          </a:lnTo>
                          <a:lnTo>
                            <a:pt x="11117" y="4935"/>
                          </a:lnTo>
                          <a:lnTo>
                            <a:pt x="11054" y="4993"/>
                          </a:lnTo>
                          <a:lnTo>
                            <a:pt x="10984" y="5052"/>
                          </a:lnTo>
                          <a:lnTo>
                            <a:pt x="10912" y="5110"/>
                          </a:lnTo>
                          <a:lnTo>
                            <a:pt x="10842" y="5168"/>
                          </a:lnTo>
                          <a:lnTo>
                            <a:pt x="10800" y="5207"/>
                          </a:lnTo>
                          <a:lnTo>
                            <a:pt x="10750" y="5246"/>
                          </a:lnTo>
                          <a:lnTo>
                            <a:pt x="10704" y="5285"/>
                          </a:lnTo>
                          <a:lnTo>
                            <a:pt x="10652" y="5321"/>
                          </a:lnTo>
                          <a:lnTo>
                            <a:pt x="10598" y="5359"/>
                          </a:lnTo>
                          <a:lnTo>
                            <a:pt x="10545" y="5401"/>
                          </a:lnTo>
                          <a:lnTo>
                            <a:pt x="10486" y="5440"/>
                          </a:lnTo>
                          <a:lnTo>
                            <a:pt x="10426" y="5486"/>
                          </a:lnTo>
                          <a:lnTo>
                            <a:pt x="10365" y="5522"/>
                          </a:lnTo>
                          <a:lnTo>
                            <a:pt x="10302" y="5567"/>
                          </a:lnTo>
                          <a:lnTo>
                            <a:pt x="10242" y="5609"/>
                          </a:lnTo>
                          <a:lnTo>
                            <a:pt x="10171" y="5655"/>
                          </a:lnTo>
                          <a:lnTo>
                            <a:pt x="10107" y="5697"/>
                          </a:lnTo>
                          <a:lnTo>
                            <a:pt x="10037" y="5738"/>
                          </a:lnTo>
                          <a:lnTo>
                            <a:pt x="9966" y="5783"/>
                          </a:lnTo>
                          <a:lnTo>
                            <a:pt x="9892" y="5826"/>
                          </a:lnTo>
                          <a:lnTo>
                            <a:pt x="9821" y="5874"/>
                          </a:lnTo>
                          <a:lnTo>
                            <a:pt x="9747" y="5920"/>
                          </a:lnTo>
                          <a:lnTo>
                            <a:pt x="9669" y="5962"/>
                          </a:lnTo>
                          <a:lnTo>
                            <a:pt x="9591" y="6010"/>
                          </a:lnTo>
                          <a:lnTo>
                            <a:pt x="9513" y="6056"/>
                          </a:lnTo>
                          <a:lnTo>
                            <a:pt x="9435" y="6104"/>
                          </a:lnTo>
                          <a:lnTo>
                            <a:pt x="9354" y="6147"/>
                          </a:lnTo>
                          <a:lnTo>
                            <a:pt x="9277" y="6195"/>
                          </a:lnTo>
                          <a:lnTo>
                            <a:pt x="9196" y="6241"/>
                          </a:lnTo>
                          <a:lnTo>
                            <a:pt x="9111" y="6289"/>
                          </a:lnTo>
                          <a:lnTo>
                            <a:pt x="9030" y="6332"/>
                          </a:lnTo>
                          <a:lnTo>
                            <a:pt x="8944" y="6380"/>
                          </a:lnTo>
                          <a:lnTo>
                            <a:pt x="8864" y="6429"/>
                          </a:lnTo>
                          <a:lnTo>
                            <a:pt x="8783" y="6474"/>
                          </a:lnTo>
                          <a:lnTo>
                            <a:pt x="8702" y="6523"/>
                          </a:lnTo>
                          <a:lnTo>
                            <a:pt x="8612" y="6571"/>
                          </a:lnTo>
                          <a:lnTo>
                            <a:pt x="8528" y="6620"/>
                          </a:lnTo>
                          <a:lnTo>
                            <a:pt x="8446" y="6662"/>
                          </a:lnTo>
                          <a:lnTo>
                            <a:pt x="8358" y="6711"/>
                          </a:lnTo>
                          <a:lnTo>
                            <a:pt x="8274" y="6759"/>
                          </a:lnTo>
                          <a:lnTo>
                            <a:pt x="8185" y="6805"/>
                          </a:lnTo>
                          <a:lnTo>
                            <a:pt x="8105" y="6853"/>
                          </a:lnTo>
                          <a:lnTo>
                            <a:pt x="8015" y="6902"/>
                          </a:lnTo>
                          <a:lnTo>
                            <a:pt x="7931" y="6950"/>
                          </a:lnTo>
                          <a:lnTo>
                            <a:pt x="7843" y="6999"/>
                          </a:lnTo>
                          <a:lnTo>
                            <a:pt x="7758" y="7048"/>
                          </a:lnTo>
                          <a:lnTo>
                            <a:pt x="7669" y="7093"/>
                          </a:lnTo>
                          <a:lnTo>
                            <a:pt x="7588" y="7142"/>
                          </a:lnTo>
                          <a:lnTo>
                            <a:pt x="7503" y="7190"/>
                          </a:lnTo>
                          <a:lnTo>
                            <a:pt x="7422" y="7232"/>
                          </a:lnTo>
                          <a:lnTo>
                            <a:pt x="7341" y="7281"/>
                          </a:lnTo>
                          <a:lnTo>
                            <a:pt x="7256" y="7326"/>
                          </a:lnTo>
                          <a:lnTo>
                            <a:pt x="7175" y="7375"/>
                          </a:lnTo>
                          <a:lnTo>
                            <a:pt x="7090" y="7417"/>
                          </a:lnTo>
                          <a:lnTo>
                            <a:pt x="7012" y="7466"/>
                          </a:lnTo>
                          <a:lnTo>
                            <a:pt x="6931" y="7511"/>
                          </a:lnTo>
                          <a:lnTo>
                            <a:pt x="6854" y="7560"/>
                          </a:lnTo>
                          <a:lnTo>
                            <a:pt x="6776" y="7602"/>
                          </a:lnTo>
                          <a:lnTo>
                            <a:pt x="6701" y="7651"/>
                          </a:lnTo>
                          <a:lnTo>
                            <a:pt x="6623" y="7696"/>
                          </a:lnTo>
                          <a:lnTo>
                            <a:pt x="6546" y="7737"/>
                          </a:lnTo>
                          <a:lnTo>
                            <a:pt x="6475" y="7786"/>
                          </a:lnTo>
                          <a:lnTo>
                            <a:pt x="6397" y="7828"/>
                          </a:lnTo>
                          <a:lnTo>
                            <a:pt x="6327" y="7873"/>
                          </a:lnTo>
                          <a:lnTo>
                            <a:pt x="6257" y="7916"/>
                          </a:lnTo>
                          <a:lnTo>
                            <a:pt x="6189" y="7961"/>
                          </a:lnTo>
                          <a:lnTo>
                            <a:pt x="6119" y="8003"/>
                          </a:lnTo>
                          <a:lnTo>
                            <a:pt x="6055" y="8049"/>
                          </a:lnTo>
                          <a:lnTo>
                            <a:pt x="5984" y="8091"/>
                          </a:lnTo>
                          <a:lnTo>
                            <a:pt x="5917" y="8133"/>
                          </a:lnTo>
                          <a:lnTo>
                            <a:pt x="5860" y="8179"/>
                          </a:lnTo>
                          <a:lnTo>
                            <a:pt x="5794" y="8221"/>
                          </a:lnTo>
                          <a:lnTo>
                            <a:pt x="5733" y="8265"/>
                          </a:lnTo>
                          <a:lnTo>
                            <a:pt x="5677" y="8307"/>
                          </a:lnTo>
                          <a:lnTo>
                            <a:pt x="5616" y="8350"/>
                          </a:lnTo>
                          <a:lnTo>
                            <a:pt x="5564" y="8389"/>
                          </a:lnTo>
                          <a:lnTo>
                            <a:pt x="5504" y="8431"/>
                          </a:lnTo>
                          <a:lnTo>
                            <a:pt x="5450" y="8476"/>
                          </a:lnTo>
                          <a:lnTo>
                            <a:pt x="5405" y="8515"/>
                          </a:lnTo>
                          <a:lnTo>
                            <a:pt x="5348" y="8558"/>
                          </a:lnTo>
                          <a:lnTo>
                            <a:pt x="5302" y="8596"/>
                          </a:lnTo>
                          <a:lnTo>
                            <a:pt x="5257" y="8638"/>
                          </a:lnTo>
                          <a:lnTo>
                            <a:pt x="5207" y="8677"/>
                          </a:lnTo>
                          <a:lnTo>
                            <a:pt x="5146" y="8741"/>
                          </a:lnTo>
                          <a:lnTo>
                            <a:pt x="5101" y="8813"/>
                          </a:lnTo>
                          <a:lnTo>
                            <a:pt x="5073" y="8884"/>
                          </a:lnTo>
                          <a:lnTo>
                            <a:pt x="5048" y="8965"/>
                          </a:lnTo>
                          <a:lnTo>
                            <a:pt x="5037" y="9040"/>
                          </a:lnTo>
                          <a:lnTo>
                            <a:pt x="5037" y="9121"/>
                          </a:lnTo>
                          <a:lnTo>
                            <a:pt x="5055" y="9199"/>
                          </a:lnTo>
                          <a:lnTo>
                            <a:pt x="5076" y="9280"/>
                          </a:lnTo>
                          <a:lnTo>
                            <a:pt x="5119" y="9351"/>
                          </a:lnTo>
                          <a:lnTo>
                            <a:pt x="5172" y="9419"/>
                          </a:lnTo>
                          <a:lnTo>
                            <a:pt x="5232" y="9481"/>
                          </a:lnTo>
                          <a:lnTo>
                            <a:pt x="5302" y="9529"/>
                          </a:lnTo>
                          <a:lnTo>
                            <a:pt x="5380" y="9568"/>
                          </a:lnTo>
                          <a:lnTo>
                            <a:pt x="5462" y="9600"/>
                          </a:lnTo>
                          <a:lnTo>
                            <a:pt x="5546" y="9617"/>
                          </a:lnTo>
                          <a:lnTo>
                            <a:pt x="5634" y="9620"/>
                          </a:lnTo>
                          <a:lnTo>
                            <a:pt x="5723" y="9617"/>
                          </a:lnTo>
                          <a:lnTo>
                            <a:pt x="5804" y="9600"/>
                          </a:lnTo>
                          <a:lnTo>
                            <a:pt x="5896" y="9568"/>
                          </a:lnTo>
                          <a:lnTo>
                            <a:pt x="5971" y="9529"/>
                          </a:lnTo>
                          <a:lnTo>
                            <a:pt x="5995" y="9513"/>
                          </a:lnTo>
                          <a:lnTo>
                            <a:pt x="6023" y="9497"/>
                          </a:lnTo>
                          <a:lnTo>
                            <a:pt x="6065" y="9471"/>
                          </a:lnTo>
                          <a:lnTo>
                            <a:pt x="6108" y="9442"/>
                          </a:lnTo>
                          <a:lnTo>
                            <a:pt x="6154" y="9409"/>
                          </a:lnTo>
                          <a:lnTo>
                            <a:pt x="6207" y="9377"/>
                          </a:lnTo>
                          <a:lnTo>
                            <a:pt x="6267" y="9338"/>
                          </a:lnTo>
                          <a:lnTo>
                            <a:pt x="6327" y="9302"/>
                          </a:lnTo>
                          <a:lnTo>
                            <a:pt x="6390" y="9250"/>
                          </a:lnTo>
                          <a:lnTo>
                            <a:pt x="6461" y="9208"/>
                          </a:lnTo>
                          <a:lnTo>
                            <a:pt x="6535" y="9160"/>
                          </a:lnTo>
                          <a:lnTo>
                            <a:pt x="6610" y="9111"/>
                          </a:lnTo>
                          <a:lnTo>
                            <a:pt x="6695" y="9056"/>
                          </a:lnTo>
                          <a:lnTo>
                            <a:pt x="6776" y="9001"/>
                          </a:lnTo>
                          <a:lnTo>
                            <a:pt x="6861" y="8943"/>
                          </a:lnTo>
                          <a:lnTo>
                            <a:pt x="6942" y="8884"/>
                          </a:lnTo>
                          <a:lnTo>
                            <a:pt x="7030" y="8829"/>
                          </a:lnTo>
                          <a:lnTo>
                            <a:pt x="7122" y="8765"/>
                          </a:lnTo>
                          <a:lnTo>
                            <a:pt x="7214" y="8703"/>
                          </a:lnTo>
                          <a:lnTo>
                            <a:pt x="7302" y="8644"/>
                          </a:lnTo>
                          <a:lnTo>
                            <a:pt x="7397" y="8580"/>
                          </a:lnTo>
                          <a:lnTo>
                            <a:pt x="7485" y="8519"/>
                          </a:lnTo>
                          <a:lnTo>
                            <a:pt x="7581" y="8453"/>
                          </a:lnTo>
                          <a:lnTo>
                            <a:pt x="7669" y="8389"/>
                          </a:lnTo>
                          <a:lnTo>
                            <a:pt x="7765" y="8324"/>
                          </a:lnTo>
                          <a:lnTo>
                            <a:pt x="7853" y="8265"/>
                          </a:lnTo>
                          <a:lnTo>
                            <a:pt x="7942" y="8204"/>
                          </a:lnTo>
                          <a:lnTo>
                            <a:pt x="8033" y="8139"/>
                          </a:lnTo>
                          <a:lnTo>
                            <a:pt x="8121" y="8081"/>
                          </a:lnTo>
                          <a:lnTo>
                            <a:pt x="8203" y="8019"/>
                          </a:lnTo>
                          <a:lnTo>
                            <a:pt x="8281" y="7964"/>
                          </a:lnTo>
                          <a:lnTo>
                            <a:pt x="8362" y="7912"/>
                          </a:lnTo>
                          <a:lnTo>
                            <a:pt x="8440" y="7851"/>
                          </a:lnTo>
                          <a:lnTo>
                            <a:pt x="8510" y="7803"/>
                          </a:lnTo>
                          <a:lnTo>
                            <a:pt x="8578" y="7748"/>
                          </a:lnTo>
                          <a:lnTo>
                            <a:pt x="8648" y="7705"/>
                          </a:lnTo>
                          <a:lnTo>
                            <a:pt x="8708" y="7657"/>
                          </a:lnTo>
                          <a:lnTo>
                            <a:pt x="8762" y="7611"/>
                          </a:lnTo>
                          <a:lnTo>
                            <a:pt x="8814" y="7576"/>
                          </a:lnTo>
                          <a:lnTo>
                            <a:pt x="8856" y="7537"/>
                          </a:lnTo>
                          <a:lnTo>
                            <a:pt x="8899" y="7505"/>
                          </a:lnTo>
                          <a:lnTo>
                            <a:pt x="8934" y="7472"/>
                          </a:lnTo>
                          <a:lnTo>
                            <a:pt x="8962" y="7446"/>
                          </a:lnTo>
                          <a:lnTo>
                            <a:pt x="9040" y="7361"/>
                          </a:lnTo>
                          <a:lnTo>
                            <a:pt x="9094" y="7264"/>
                          </a:lnTo>
                          <a:lnTo>
                            <a:pt x="9128" y="7161"/>
                          </a:lnTo>
                          <a:lnTo>
                            <a:pt x="9143" y="7060"/>
                          </a:lnTo>
                          <a:lnTo>
                            <a:pt x="9125" y="7177"/>
                          </a:lnTo>
                          <a:lnTo>
                            <a:pt x="9090" y="7281"/>
                          </a:lnTo>
                          <a:lnTo>
                            <a:pt x="9033" y="7361"/>
                          </a:lnTo>
                          <a:lnTo>
                            <a:pt x="8980" y="7423"/>
                          </a:lnTo>
                          <a:lnTo>
                            <a:pt x="8934" y="7466"/>
                          </a:lnTo>
                          <a:lnTo>
                            <a:pt x="8988" y="7433"/>
                          </a:lnTo>
                          <a:lnTo>
                            <a:pt x="9076" y="7384"/>
                          </a:lnTo>
                          <a:lnTo>
                            <a:pt x="9182" y="7329"/>
                          </a:lnTo>
                          <a:lnTo>
                            <a:pt x="9295" y="7278"/>
                          </a:lnTo>
                          <a:lnTo>
                            <a:pt x="9401" y="7215"/>
                          </a:lnTo>
                          <a:lnTo>
                            <a:pt x="9503" y="7167"/>
                          </a:lnTo>
                          <a:lnTo>
                            <a:pt x="9673" y="7087"/>
                          </a:lnTo>
                          <a:lnTo>
                            <a:pt x="9800" y="7021"/>
                          </a:lnTo>
                          <a:lnTo>
                            <a:pt x="9892" y="6973"/>
                          </a:lnTo>
                          <a:lnTo>
                            <a:pt x="9966" y="6927"/>
                          </a:lnTo>
                          <a:lnTo>
                            <a:pt x="10019" y="6892"/>
                          </a:lnTo>
                          <a:lnTo>
                            <a:pt x="10058" y="6853"/>
                          </a:lnTo>
                          <a:lnTo>
                            <a:pt x="10083" y="6836"/>
                          </a:lnTo>
                          <a:lnTo>
                            <a:pt x="10100" y="6814"/>
                          </a:lnTo>
                          <a:lnTo>
                            <a:pt x="10118" y="6792"/>
                          </a:lnTo>
                          <a:lnTo>
                            <a:pt x="10167" y="6723"/>
                          </a:lnTo>
                          <a:lnTo>
                            <a:pt x="10206" y="6645"/>
                          </a:lnTo>
                          <a:lnTo>
                            <a:pt x="10231" y="6565"/>
                          </a:lnTo>
                          <a:lnTo>
                            <a:pt x="10242" y="6490"/>
                          </a:lnTo>
                          <a:lnTo>
                            <a:pt x="10242" y="6405"/>
                          </a:lnTo>
                          <a:lnTo>
                            <a:pt x="10231" y="6325"/>
                          </a:lnTo>
                          <a:lnTo>
                            <a:pt x="10206" y="6250"/>
                          </a:lnTo>
                          <a:lnTo>
                            <a:pt x="10167" y="6179"/>
                          </a:lnTo>
                          <a:lnTo>
                            <a:pt x="10118" y="6108"/>
                          </a:lnTo>
                          <a:lnTo>
                            <a:pt x="10055" y="6043"/>
                          </a:lnTo>
                          <a:lnTo>
                            <a:pt x="9987" y="5995"/>
                          </a:lnTo>
                          <a:lnTo>
                            <a:pt x="9923" y="5956"/>
                          </a:lnTo>
                          <a:lnTo>
                            <a:pt x="9853" y="5929"/>
                          </a:lnTo>
                          <a:lnTo>
                            <a:pt x="9782" y="5907"/>
                          </a:lnTo>
                          <a:lnTo>
                            <a:pt x="9708" y="5897"/>
                          </a:lnTo>
                          <a:lnTo>
                            <a:pt x="9634" y="5897"/>
                          </a:lnTo>
                          <a:lnTo>
                            <a:pt x="9556" y="5907"/>
                          </a:lnTo>
                          <a:lnTo>
                            <a:pt x="9471" y="5923"/>
                          </a:lnTo>
                          <a:lnTo>
                            <a:pt x="9390" y="5952"/>
                          </a:lnTo>
                          <a:lnTo>
                            <a:pt x="9309" y="5995"/>
                          </a:lnTo>
                          <a:lnTo>
                            <a:pt x="9217" y="6040"/>
                          </a:lnTo>
                          <a:lnTo>
                            <a:pt x="9128" y="6098"/>
                          </a:lnTo>
                          <a:lnTo>
                            <a:pt x="9058" y="6153"/>
                          </a:lnTo>
                          <a:lnTo>
                            <a:pt x="8977" y="6211"/>
                          </a:lnTo>
                          <a:lnTo>
                            <a:pt x="8874" y="6289"/>
                          </a:lnTo>
                          <a:lnTo>
                            <a:pt x="8772" y="6371"/>
                          </a:lnTo>
                          <a:lnTo>
                            <a:pt x="7719" y="7174"/>
                          </a:lnTo>
                          <a:lnTo>
                            <a:pt x="6213" y="8356"/>
                          </a:lnTo>
                          <a:lnTo>
                            <a:pt x="6291" y="8301"/>
                          </a:lnTo>
                          <a:lnTo>
                            <a:pt x="6369" y="8265"/>
                          </a:lnTo>
                          <a:lnTo>
                            <a:pt x="6457" y="8237"/>
                          </a:lnTo>
                          <a:lnTo>
                            <a:pt x="6546" y="8227"/>
                          </a:lnTo>
                          <a:lnTo>
                            <a:pt x="6634" y="8221"/>
                          </a:lnTo>
                          <a:lnTo>
                            <a:pt x="6722" y="8230"/>
                          </a:lnTo>
                          <a:lnTo>
                            <a:pt x="6807" y="8253"/>
                          </a:lnTo>
                          <a:lnTo>
                            <a:pt x="6888" y="8285"/>
                          </a:lnTo>
                          <a:lnTo>
                            <a:pt x="6966" y="8331"/>
                          </a:lnTo>
                          <a:lnTo>
                            <a:pt x="7038" y="8389"/>
                          </a:lnTo>
                          <a:lnTo>
                            <a:pt x="7097" y="8453"/>
                          </a:lnTo>
                          <a:lnTo>
                            <a:pt x="7143" y="8525"/>
                          </a:lnTo>
                          <a:lnTo>
                            <a:pt x="7178" y="8599"/>
                          </a:lnTo>
                          <a:lnTo>
                            <a:pt x="7196" y="8683"/>
                          </a:lnTo>
                          <a:lnTo>
                            <a:pt x="7210" y="8765"/>
                          </a:lnTo>
                          <a:lnTo>
                            <a:pt x="7204" y="8846"/>
                          </a:lnTo>
                          <a:lnTo>
                            <a:pt x="7186" y="8926"/>
                          </a:lnTo>
                          <a:lnTo>
                            <a:pt x="7157" y="9001"/>
                          </a:lnTo>
                          <a:lnTo>
                            <a:pt x="7108" y="9072"/>
                          </a:lnTo>
                          <a:lnTo>
                            <a:pt x="7054" y="9144"/>
                          </a:lnTo>
                          <a:lnTo>
                            <a:pt x="7054" y="9137"/>
                          </a:lnTo>
                          <a:lnTo>
                            <a:pt x="7062" y="9137"/>
                          </a:lnTo>
                          <a:lnTo>
                            <a:pt x="7065" y="9128"/>
                          </a:lnTo>
                          <a:lnTo>
                            <a:pt x="7072" y="9121"/>
                          </a:lnTo>
                          <a:lnTo>
                            <a:pt x="7083" y="9111"/>
                          </a:lnTo>
                          <a:lnTo>
                            <a:pt x="7097" y="9102"/>
                          </a:lnTo>
                          <a:lnTo>
                            <a:pt x="7114" y="9086"/>
                          </a:lnTo>
                          <a:lnTo>
                            <a:pt x="7132" y="9063"/>
                          </a:lnTo>
                          <a:lnTo>
                            <a:pt x="7150" y="9047"/>
                          </a:lnTo>
                          <a:lnTo>
                            <a:pt x="7168" y="9023"/>
                          </a:lnTo>
                          <a:lnTo>
                            <a:pt x="7192" y="9001"/>
                          </a:lnTo>
                          <a:lnTo>
                            <a:pt x="7214" y="8981"/>
                          </a:lnTo>
                          <a:lnTo>
                            <a:pt x="7238" y="8953"/>
                          </a:lnTo>
                          <a:lnTo>
                            <a:pt x="7267" y="8926"/>
                          </a:lnTo>
                          <a:lnTo>
                            <a:pt x="7298" y="8895"/>
                          </a:lnTo>
                          <a:lnTo>
                            <a:pt x="7327" y="8868"/>
                          </a:lnTo>
                          <a:lnTo>
                            <a:pt x="7362" y="8829"/>
                          </a:lnTo>
                          <a:lnTo>
                            <a:pt x="7394" y="8797"/>
                          </a:lnTo>
                          <a:lnTo>
                            <a:pt x="7433" y="8758"/>
                          </a:lnTo>
                          <a:lnTo>
                            <a:pt x="7469" y="8719"/>
                          </a:lnTo>
                          <a:lnTo>
                            <a:pt x="7511" y="8683"/>
                          </a:lnTo>
                          <a:lnTo>
                            <a:pt x="7545" y="8638"/>
                          </a:lnTo>
                          <a:lnTo>
                            <a:pt x="7596" y="8596"/>
                          </a:lnTo>
                          <a:lnTo>
                            <a:pt x="7635" y="8550"/>
                          </a:lnTo>
                          <a:lnTo>
                            <a:pt x="7677" y="8509"/>
                          </a:lnTo>
                          <a:lnTo>
                            <a:pt x="7723" y="8461"/>
                          </a:lnTo>
                          <a:lnTo>
                            <a:pt x="7772" y="8415"/>
                          </a:lnTo>
                          <a:lnTo>
                            <a:pt x="7818" y="8363"/>
                          </a:lnTo>
                          <a:lnTo>
                            <a:pt x="7871" y="8315"/>
                          </a:lnTo>
                          <a:lnTo>
                            <a:pt x="7924" y="8259"/>
                          </a:lnTo>
                          <a:lnTo>
                            <a:pt x="7976" y="8204"/>
                          </a:lnTo>
                          <a:lnTo>
                            <a:pt x="8033" y="8149"/>
                          </a:lnTo>
                          <a:lnTo>
                            <a:pt x="8087" y="8097"/>
                          </a:lnTo>
                          <a:lnTo>
                            <a:pt x="8142" y="8036"/>
                          </a:lnTo>
                          <a:lnTo>
                            <a:pt x="8196" y="7980"/>
                          </a:lnTo>
                          <a:lnTo>
                            <a:pt x="8256" y="7922"/>
                          </a:lnTo>
                          <a:lnTo>
                            <a:pt x="8316" y="7864"/>
                          </a:lnTo>
                          <a:lnTo>
                            <a:pt x="8376" y="7803"/>
                          </a:lnTo>
                          <a:lnTo>
                            <a:pt x="8440" y="7737"/>
                          </a:lnTo>
                          <a:lnTo>
                            <a:pt x="8500" y="7673"/>
                          </a:lnTo>
                          <a:lnTo>
                            <a:pt x="8563" y="7608"/>
                          </a:lnTo>
                          <a:lnTo>
                            <a:pt x="8630" y="7543"/>
                          </a:lnTo>
                          <a:lnTo>
                            <a:pt x="8694" y="7478"/>
                          </a:lnTo>
                          <a:lnTo>
                            <a:pt x="8762" y="7411"/>
                          </a:lnTo>
                          <a:lnTo>
                            <a:pt x="8825" y="7342"/>
                          </a:lnTo>
                          <a:lnTo>
                            <a:pt x="8889" y="7278"/>
                          </a:lnTo>
                          <a:lnTo>
                            <a:pt x="8959" y="7206"/>
                          </a:lnTo>
                          <a:lnTo>
                            <a:pt x="9030" y="7135"/>
                          </a:lnTo>
                          <a:lnTo>
                            <a:pt x="9100" y="7063"/>
                          </a:lnTo>
                          <a:lnTo>
                            <a:pt x="9164" y="6993"/>
                          </a:lnTo>
                          <a:lnTo>
                            <a:pt x="9242" y="6924"/>
                          </a:lnTo>
                          <a:lnTo>
                            <a:pt x="9312" y="6847"/>
                          </a:lnTo>
                          <a:lnTo>
                            <a:pt x="9383" y="6775"/>
                          </a:lnTo>
                          <a:lnTo>
                            <a:pt x="9453" y="6701"/>
                          </a:lnTo>
                          <a:lnTo>
                            <a:pt x="9531" y="6629"/>
                          </a:lnTo>
                          <a:lnTo>
                            <a:pt x="9601" y="6555"/>
                          </a:lnTo>
                          <a:lnTo>
                            <a:pt x="9673" y="6477"/>
                          </a:lnTo>
                          <a:lnTo>
                            <a:pt x="9751" y="6402"/>
                          </a:lnTo>
                          <a:lnTo>
                            <a:pt x="9828" y="6325"/>
                          </a:lnTo>
                          <a:lnTo>
                            <a:pt x="9905" y="6250"/>
                          </a:lnTo>
                          <a:lnTo>
                            <a:pt x="9977" y="6173"/>
                          </a:lnTo>
                          <a:lnTo>
                            <a:pt x="10055" y="6092"/>
                          </a:lnTo>
                          <a:lnTo>
                            <a:pt x="10128" y="6017"/>
                          </a:lnTo>
                          <a:lnTo>
                            <a:pt x="10206" y="5940"/>
                          </a:lnTo>
                          <a:lnTo>
                            <a:pt x="10284" y="5865"/>
                          </a:lnTo>
                          <a:lnTo>
                            <a:pt x="10361" y="5783"/>
                          </a:lnTo>
                          <a:lnTo>
                            <a:pt x="10439" y="5706"/>
                          </a:lnTo>
                          <a:lnTo>
                            <a:pt x="10514" y="5625"/>
                          </a:lnTo>
                          <a:lnTo>
                            <a:pt x="10592" y="5550"/>
                          </a:lnTo>
                          <a:lnTo>
                            <a:pt x="10668" y="5473"/>
                          </a:lnTo>
                          <a:lnTo>
                            <a:pt x="10746" y="5392"/>
                          </a:lnTo>
                          <a:lnTo>
                            <a:pt x="10824" y="5318"/>
                          </a:lnTo>
                          <a:lnTo>
                            <a:pt x="10899" y="5236"/>
                          </a:lnTo>
                          <a:lnTo>
                            <a:pt x="10976" y="5158"/>
                          </a:lnTo>
                          <a:lnTo>
                            <a:pt x="11054" y="5084"/>
                          </a:lnTo>
                          <a:lnTo>
                            <a:pt x="11132" y="5003"/>
                          </a:lnTo>
                          <a:lnTo>
                            <a:pt x="11206" y="4928"/>
                          </a:lnTo>
                          <a:lnTo>
                            <a:pt x="11291" y="4854"/>
                          </a:lnTo>
                          <a:lnTo>
                            <a:pt x="11369" y="4776"/>
                          </a:lnTo>
                          <a:lnTo>
                            <a:pt x="11439" y="4702"/>
                          </a:lnTo>
                          <a:lnTo>
                            <a:pt x="11517" y="4621"/>
                          </a:lnTo>
                          <a:lnTo>
                            <a:pt x="11591" y="4549"/>
                          </a:lnTo>
                          <a:lnTo>
                            <a:pt x="11669" y="4469"/>
                          </a:lnTo>
                          <a:lnTo>
                            <a:pt x="11740" y="4390"/>
                          </a:lnTo>
                          <a:lnTo>
                            <a:pt x="11817" y="4320"/>
                          </a:lnTo>
                          <a:lnTo>
                            <a:pt x="11888" y="4245"/>
                          </a:lnTo>
                          <a:lnTo>
                            <a:pt x="11966" y="4167"/>
                          </a:lnTo>
                          <a:lnTo>
                            <a:pt x="12036" y="4099"/>
                          </a:lnTo>
                          <a:lnTo>
                            <a:pt x="12114" y="4021"/>
                          </a:lnTo>
                          <a:lnTo>
                            <a:pt x="12184" y="3950"/>
                          </a:lnTo>
                          <a:lnTo>
                            <a:pt x="12256" y="3875"/>
                          </a:lnTo>
                          <a:lnTo>
                            <a:pt x="12326" y="3804"/>
                          </a:lnTo>
                          <a:lnTo>
                            <a:pt x="12392" y="3733"/>
                          </a:lnTo>
                          <a:lnTo>
                            <a:pt x="12464" y="3665"/>
                          </a:lnTo>
                          <a:lnTo>
                            <a:pt x="12534" y="3593"/>
                          </a:lnTo>
                          <a:lnTo>
                            <a:pt x="12605" y="3529"/>
                          </a:lnTo>
                          <a:lnTo>
                            <a:pt x="12669" y="3458"/>
                          </a:lnTo>
                          <a:lnTo>
                            <a:pt x="12736" y="3393"/>
                          </a:lnTo>
                          <a:lnTo>
                            <a:pt x="12799" y="3328"/>
                          </a:lnTo>
                          <a:lnTo>
                            <a:pt x="12866" y="3263"/>
                          </a:lnTo>
                          <a:lnTo>
                            <a:pt x="12930" y="3198"/>
                          </a:lnTo>
                          <a:lnTo>
                            <a:pt x="12997" y="3131"/>
                          </a:lnTo>
                          <a:lnTo>
                            <a:pt x="13054" y="3071"/>
                          </a:lnTo>
                          <a:lnTo>
                            <a:pt x="13121" y="3007"/>
                          </a:lnTo>
                          <a:lnTo>
                            <a:pt x="13178" y="2946"/>
                          </a:lnTo>
                          <a:lnTo>
                            <a:pt x="13238" y="2888"/>
                          </a:lnTo>
                          <a:lnTo>
                            <a:pt x="13297" y="2832"/>
                          </a:lnTo>
                          <a:lnTo>
                            <a:pt x="13350" y="2774"/>
                          </a:lnTo>
                          <a:lnTo>
                            <a:pt x="13410" y="2719"/>
                          </a:lnTo>
                          <a:lnTo>
                            <a:pt x="13464" y="2661"/>
                          </a:lnTo>
                          <a:lnTo>
                            <a:pt x="13516" y="2612"/>
                          </a:lnTo>
                          <a:lnTo>
                            <a:pt x="13570" y="2557"/>
                          </a:lnTo>
                          <a:lnTo>
                            <a:pt x="13615" y="2509"/>
                          </a:lnTo>
                          <a:lnTo>
                            <a:pt x="13672" y="2460"/>
                          </a:lnTo>
                          <a:lnTo>
                            <a:pt x="13718" y="2404"/>
                          </a:lnTo>
                          <a:lnTo>
                            <a:pt x="13764" y="2360"/>
                          </a:lnTo>
                          <a:lnTo>
                            <a:pt x="13806" y="2310"/>
                          </a:lnTo>
                          <a:lnTo>
                            <a:pt x="13856" y="2269"/>
                          </a:lnTo>
                          <a:lnTo>
                            <a:pt x="13895" y="2227"/>
                          </a:lnTo>
                          <a:lnTo>
                            <a:pt x="13937" y="2188"/>
                          </a:lnTo>
                          <a:lnTo>
                            <a:pt x="13980" y="2148"/>
                          </a:lnTo>
                          <a:lnTo>
                            <a:pt x="14014" y="2106"/>
                          </a:lnTo>
                          <a:lnTo>
                            <a:pt x="14074" y="2042"/>
                          </a:lnTo>
                          <a:lnTo>
                            <a:pt x="14121" y="1964"/>
                          </a:lnTo>
                          <a:lnTo>
                            <a:pt x="14156" y="1883"/>
                          </a:lnTo>
                          <a:lnTo>
                            <a:pt x="14173" y="1802"/>
                          </a:lnTo>
                          <a:lnTo>
                            <a:pt x="14173" y="1714"/>
                          </a:lnTo>
                          <a:lnTo>
                            <a:pt x="14163" y="1627"/>
                          </a:lnTo>
                          <a:lnTo>
                            <a:pt x="14146" y="1545"/>
                          </a:lnTo>
                          <a:lnTo>
                            <a:pt x="14103" y="1472"/>
                          </a:lnTo>
                          <a:lnTo>
                            <a:pt x="14050" y="1393"/>
                          </a:lnTo>
                          <a:lnTo>
                            <a:pt x="13983" y="1329"/>
                          </a:lnTo>
                          <a:lnTo>
                            <a:pt x="13912" y="1274"/>
                          </a:lnTo>
                          <a:lnTo>
                            <a:pt x="13830" y="1232"/>
                          </a:lnTo>
                          <a:lnTo>
                            <a:pt x="13746" y="1205"/>
                          </a:lnTo>
                          <a:lnTo>
                            <a:pt x="13654" y="1190"/>
                          </a:lnTo>
                          <a:lnTo>
                            <a:pt x="13562" y="1183"/>
                          </a:lnTo>
                          <a:lnTo>
                            <a:pt x="13471" y="1190"/>
                          </a:lnTo>
                          <a:lnTo>
                            <a:pt x="13378" y="1209"/>
                          </a:lnTo>
                          <a:lnTo>
                            <a:pt x="13290" y="1248"/>
                          </a:lnTo>
                          <a:lnTo>
                            <a:pt x="13209" y="1287"/>
                          </a:lnTo>
                          <a:lnTo>
                            <a:pt x="13131" y="1323"/>
                          </a:lnTo>
                          <a:lnTo>
                            <a:pt x="13054" y="1368"/>
                          </a:lnTo>
                          <a:lnTo>
                            <a:pt x="12976" y="1410"/>
                          </a:lnTo>
                          <a:lnTo>
                            <a:pt x="12901" y="1448"/>
                          </a:lnTo>
                          <a:lnTo>
                            <a:pt x="12831" y="1491"/>
                          </a:lnTo>
                          <a:lnTo>
                            <a:pt x="12753" y="1539"/>
                          </a:lnTo>
                          <a:lnTo>
                            <a:pt x="12683" y="1585"/>
                          </a:lnTo>
                          <a:lnTo>
                            <a:pt x="12612" y="1627"/>
                          </a:lnTo>
                          <a:lnTo>
                            <a:pt x="12537" y="1675"/>
                          </a:lnTo>
                          <a:lnTo>
                            <a:pt x="12467" y="1721"/>
                          </a:lnTo>
                          <a:lnTo>
                            <a:pt x="12397" y="1769"/>
                          </a:lnTo>
                          <a:lnTo>
                            <a:pt x="12326" y="1818"/>
                          </a:lnTo>
                          <a:lnTo>
                            <a:pt x="12262" y="1867"/>
                          </a:lnTo>
                          <a:lnTo>
                            <a:pt x="12192" y="1915"/>
                          </a:lnTo>
                          <a:lnTo>
                            <a:pt x="12124" y="1964"/>
                          </a:lnTo>
                          <a:lnTo>
                            <a:pt x="12054" y="2012"/>
                          </a:lnTo>
                          <a:lnTo>
                            <a:pt x="11990" y="2067"/>
                          </a:lnTo>
                          <a:lnTo>
                            <a:pt x="11924" y="2116"/>
                          </a:lnTo>
                          <a:lnTo>
                            <a:pt x="11859" y="2172"/>
                          </a:lnTo>
                          <a:lnTo>
                            <a:pt x="11800" y="2220"/>
                          </a:lnTo>
                          <a:lnTo>
                            <a:pt x="11735" y="2275"/>
                          </a:lnTo>
                          <a:lnTo>
                            <a:pt x="11669" y="2327"/>
                          </a:lnTo>
                          <a:lnTo>
                            <a:pt x="11605" y="2382"/>
                          </a:lnTo>
                          <a:lnTo>
                            <a:pt x="11545" y="2430"/>
                          </a:lnTo>
                          <a:lnTo>
                            <a:pt x="11485" y="2485"/>
                          </a:lnTo>
                          <a:lnTo>
                            <a:pt x="11425" y="2540"/>
                          </a:lnTo>
                          <a:lnTo>
                            <a:pt x="11361" y="2595"/>
                          </a:lnTo>
                          <a:lnTo>
                            <a:pt x="11301" y="2648"/>
                          </a:lnTo>
                          <a:lnTo>
                            <a:pt x="11245" y="2703"/>
                          </a:lnTo>
                          <a:lnTo>
                            <a:pt x="11185" y="2758"/>
                          </a:lnTo>
                          <a:lnTo>
                            <a:pt x="11125" y="2816"/>
                          </a:lnTo>
                          <a:lnTo>
                            <a:pt x="11065" y="2871"/>
                          </a:lnTo>
                          <a:lnTo>
                            <a:pt x="11011" y="2926"/>
                          </a:lnTo>
                          <a:lnTo>
                            <a:pt x="10951" y="2979"/>
                          </a:lnTo>
                          <a:lnTo>
                            <a:pt x="10895" y="3033"/>
                          </a:lnTo>
                          <a:lnTo>
                            <a:pt x="10835" y="3088"/>
                          </a:lnTo>
                          <a:lnTo>
                            <a:pt x="10782" y="3146"/>
                          </a:lnTo>
                          <a:lnTo>
                            <a:pt x="10722" y="3201"/>
                          </a:lnTo>
                          <a:lnTo>
                            <a:pt x="10668" y="3256"/>
                          </a:lnTo>
                          <a:lnTo>
                            <a:pt x="10616" y="3311"/>
                          </a:lnTo>
                          <a:lnTo>
                            <a:pt x="10566" y="3353"/>
                          </a:lnTo>
                          <a:lnTo>
                            <a:pt x="10514" y="3399"/>
                          </a:lnTo>
                          <a:lnTo>
                            <a:pt x="10460" y="3435"/>
                          </a:lnTo>
                          <a:lnTo>
                            <a:pt x="10397" y="3480"/>
                          </a:lnTo>
                          <a:lnTo>
                            <a:pt x="10330" y="3522"/>
                          </a:lnTo>
                          <a:lnTo>
                            <a:pt x="10259" y="3561"/>
                          </a:lnTo>
                          <a:lnTo>
                            <a:pt x="10185" y="3604"/>
                          </a:lnTo>
                          <a:lnTo>
                            <a:pt x="10107" y="3649"/>
                          </a:lnTo>
                          <a:lnTo>
                            <a:pt x="10022" y="3684"/>
                          </a:lnTo>
                          <a:lnTo>
                            <a:pt x="9941" y="3723"/>
                          </a:lnTo>
                          <a:lnTo>
                            <a:pt x="9853" y="3765"/>
                          </a:lnTo>
                          <a:lnTo>
                            <a:pt x="9769" y="3804"/>
                          </a:lnTo>
                          <a:lnTo>
                            <a:pt x="9679" y="3843"/>
                          </a:lnTo>
                          <a:lnTo>
                            <a:pt x="9591" y="3881"/>
                          </a:lnTo>
                          <a:lnTo>
                            <a:pt x="9496" y="3917"/>
                          </a:lnTo>
                          <a:lnTo>
                            <a:pt x="9408" y="3956"/>
                          </a:lnTo>
                          <a:lnTo>
                            <a:pt x="9320" y="3996"/>
                          </a:lnTo>
                          <a:lnTo>
                            <a:pt x="9235" y="4035"/>
                          </a:lnTo>
                          <a:lnTo>
                            <a:pt x="9146" y="4069"/>
                          </a:lnTo>
                          <a:lnTo>
                            <a:pt x="9065" y="4109"/>
                          </a:lnTo>
                          <a:lnTo>
                            <a:pt x="8977" y="4141"/>
                          </a:lnTo>
                          <a:lnTo>
                            <a:pt x="8892" y="4180"/>
                          </a:lnTo>
                          <a:lnTo>
                            <a:pt x="8814" y="4219"/>
                          </a:lnTo>
                          <a:lnTo>
                            <a:pt x="8729" y="4254"/>
                          </a:lnTo>
                          <a:lnTo>
                            <a:pt x="8655" y="4293"/>
                          </a:lnTo>
                          <a:lnTo>
                            <a:pt x="8578" y="4332"/>
                          </a:lnTo>
                          <a:lnTo>
                            <a:pt x="8492" y="4368"/>
                          </a:lnTo>
                          <a:lnTo>
                            <a:pt x="8415" y="4406"/>
                          </a:lnTo>
                          <a:lnTo>
                            <a:pt x="8344" y="4452"/>
                          </a:lnTo>
                          <a:lnTo>
                            <a:pt x="8274" y="4488"/>
                          </a:lnTo>
                          <a:lnTo>
                            <a:pt x="8203" y="4533"/>
                          </a:lnTo>
                          <a:lnTo>
                            <a:pt x="8132" y="4575"/>
                          </a:lnTo>
                          <a:lnTo>
                            <a:pt x="8069" y="4621"/>
                          </a:lnTo>
                          <a:lnTo>
                            <a:pt x="8002" y="4663"/>
                          </a:lnTo>
                          <a:lnTo>
                            <a:pt x="7942" y="4712"/>
                          </a:lnTo>
                          <a:lnTo>
                            <a:pt x="7885" y="4754"/>
                          </a:lnTo>
                          <a:lnTo>
                            <a:pt x="7871" y="4766"/>
                          </a:lnTo>
                          <a:lnTo>
                            <a:pt x="7867" y="4770"/>
                          </a:lnTo>
                          <a:lnTo>
                            <a:pt x="7861" y="4776"/>
                          </a:lnTo>
                          <a:lnTo>
                            <a:pt x="7807" y="4821"/>
                          </a:lnTo>
                          <a:lnTo>
                            <a:pt x="7758" y="4870"/>
                          </a:lnTo>
                          <a:lnTo>
                            <a:pt x="7711" y="4912"/>
                          </a:lnTo>
                          <a:lnTo>
                            <a:pt x="7659" y="4954"/>
                          </a:lnTo>
                          <a:lnTo>
                            <a:pt x="7606" y="5000"/>
                          </a:lnTo>
                          <a:lnTo>
                            <a:pt x="7553" y="5045"/>
                          </a:lnTo>
                          <a:lnTo>
                            <a:pt x="7503" y="5087"/>
                          </a:lnTo>
                          <a:lnTo>
                            <a:pt x="7451" y="5136"/>
                          </a:lnTo>
                          <a:lnTo>
                            <a:pt x="7397" y="5181"/>
                          </a:lnTo>
                          <a:lnTo>
                            <a:pt x="7345" y="5230"/>
                          </a:lnTo>
                          <a:lnTo>
                            <a:pt x="7292" y="5272"/>
                          </a:lnTo>
                          <a:lnTo>
                            <a:pt x="7238" y="5318"/>
                          </a:lnTo>
                          <a:lnTo>
                            <a:pt x="7178" y="5366"/>
                          </a:lnTo>
                          <a:lnTo>
                            <a:pt x="7126" y="5415"/>
                          </a:lnTo>
                          <a:lnTo>
                            <a:pt x="7065" y="5457"/>
                          </a:lnTo>
                          <a:lnTo>
                            <a:pt x="7012" y="5506"/>
                          </a:lnTo>
                          <a:lnTo>
                            <a:pt x="6956" y="5550"/>
                          </a:lnTo>
                          <a:lnTo>
                            <a:pt x="6903" y="5600"/>
                          </a:lnTo>
                          <a:lnTo>
                            <a:pt x="6843" y="5648"/>
                          </a:lnTo>
                          <a:lnTo>
                            <a:pt x="6783" y="5697"/>
                          </a:lnTo>
                          <a:lnTo>
                            <a:pt x="6722" y="5738"/>
                          </a:lnTo>
                          <a:lnTo>
                            <a:pt x="6662" y="5787"/>
                          </a:lnTo>
                          <a:lnTo>
                            <a:pt x="6607" y="5839"/>
                          </a:lnTo>
                          <a:lnTo>
                            <a:pt x="6546" y="5888"/>
                          </a:lnTo>
                          <a:lnTo>
                            <a:pt x="6486" y="5929"/>
                          </a:lnTo>
                          <a:lnTo>
                            <a:pt x="6426" y="5978"/>
                          </a:lnTo>
                          <a:lnTo>
                            <a:pt x="6363" y="6026"/>
                          </a:lnTo>
                          <a:lnTo>
                            <a:pt x="6303" y="6076"/>
                          </a:lnTo>
                          <a:lnTo>
                            <a:pt x="6239" y="6125"/>
                          </a:lnTo>
                          <a:lnTo>
                            <a:pt x="6179" y="6169"/>
                          </a:lnTo>
                          <a:lnTo>
                            <a:pt x="6115" y="6219"/>
                          </a:lnTo>
                          <a:lnTo>
                            <a:pt x="6047" y="6267"/>
                          </a:lnTo>
                          <a:lnTo>
                            <a:pt x="5987" y="6316"/>
                          </a:lnTo>
                          <a:lnTo>
                            <a:pt x="5924" y="6364"/>
                          </a:lnTo>
                          <a:lnTo>
                            <a:pt x="5860" y="6413"/>
                          </a:lnTo>
                          <a:lnTo>
                            <a:pt x="5794" y="6461"/>
                          </a:lnTo>
                          <a:lnTo>
                            <a:pt x="5723" y="6510"/>
                          </a:lnTo>
                          <a:lnTo>
                            <a:pt x="5663" y="6559"/>
                          </a:lnTo>
                          <a:lnTo>
                            <a:pt x="5592" y="6607"/>
                          </a:lnTo>
                          <a:lnTo>
                            <a:pt x="5528" y="6659"/>
                          </a:lnTo>
                          <a:lnTo>
                            <a:pt x="5458" y="6707"/>
                          </a:lnTo>
                          <a:lnTo>
                            <a:pt x="5390" y="6759"/>
                          </a:lnTo>
                          <a:lnTo>
                            <a:pt x="5320" y="6808"/>
                          </a:lnTo>
                          <a:lnTo>
                            <a:pt x="5257" y="6860"/>
                          </a:lnTo>
                          <a:lnTo>
                            <a:pt x="5185" y="6908"/>
                          </a:lnTo>
                          <a:lnTo>
                            <a:pt x="5112" y="6957"/>
                          </a:lnTo>
                          <a:lnTo>
                            <a:pt x="5041" y="7005"/>
                          </a:lnTo>
                          <a:lnTo>
                            <a:pt x="4970" y="7054"/>
                          </a:lnTo>
                          <a:lnTo>
                            <a:pt x="4899" y="7109"/>
                          </a:lnTo>
                          <a:lnTo>
                            <a:pt x="4836" y="7157"/>
                          </a:lnTo>
                          <a:lnTo>
                            <a:pt x="4759" y="7206"/>
                          </a:lnTo>
                          <a:lnTo>
                            <a:pt x="4688" y="7255"/>
                          </a:lnTo>
                          <a:lnTo>
                            <a:pt x="4617" y="7309"/>
                          </a:lnTo>
                          <a:lnTo>
                            <a:pt x="4539" y="7358"/>
                          </a:lnTo>
                          <a:lnTo>
                            <a:pt x="4468" y="7407"/>
                          </a:lnTo>
                          <a:lnTo>
                            <a:pt x="4391" y="7463"/>
                          </a:lnTo>
                          <a:lnTo>
                            <a:pt x="4320" y="7511"/>
                          </a:lnTo>
                          <a:lnTo>
                            <a:pt x="4242" y="7560"/>
                          </a:lnTo>
                          <a:lnTo>
                            <a:pt x="4165" y="7611"/>
                          </a:lnTo>
                          <a:lnTo>
                            <a:pt x="4094" y="7663"/>
                          </a:lnTo>
                          <a:lnTo>
                            <a:pt x="4016" y="7715"/>
                          </a:lnTo>
                          <a:lnTo>
                            <a:pt x="3942" y="7764"/>
                          </a:lnTo>
                          <a:lnTo>
                            <a:pt x="3865" y="7812"/>
                          </a:lnTo>
                          <a:lnTo>
                            <a:pt x="3787" y="7867"/>
                          </a:lnTo>
                          <a:lnTo>
                            <a:pt x="3709" y="7916"/>
                          </a:lnTo>
                          <a:lnTo>
                            <a:pt x="3627" y="7971"/>
                          </a:lnTo>
                          <a:lnTo>
                            <a:pt x="3550" y="8019"/>
                          </a:lnTo>
                          <a:lnTo>
                            <a:pt x="3472" y="8074"/>
                          </a:lnTo>
                          <a:lnTo>
                            <a:pt x="3391" y="8123"/>
                          </a:lnTo>
                          <a:lnTo>
                            <a:pt x="3313" y="8179"/>
                          </a:lnTo>
                          <a:lnTo>
                            <a:pt x="3232" y="8227"/>
                          </a:lnTo>
                          <a:lnTo>
                            <a:pt x="3147" y="8282"/>
                          </a:lnTo>
                          <a:lnTo>
                            <a:pt x="3069" y="8334"/>
                          </a:lnTo>
                          <a:lnTo>
                            <a:pt x="2988" y="8382"/>
                          </a:lnTo>
                          <a:lnTo>
                            <a:pt x="2903" y="8437"/>
                          </a:lnTo>
                          <a:lnTo>
                            <a:pt x="2981" y="8398"/>
                          </a:lnTo>
                          <a:lnTo>
                            <a:pt x="3059" y="8367"/>
                          </a:lnTo>
                          <a:lnTo>
                            <a:pt x="3141" y="8347"/>
                          </a:lnTo>
                          <a:lnTo>
                            <a:pt x="3219" y="8340"/>
                          </a:lnTo>
                          <a:lnTo>
                            <a:pt x="3303" y="8340"/>
                          </a:lnTo>
                          <a:lnTo>
                            <a:pt x="3384" y="8350"/>
                          </a:lnTo>
                          <a:lnTo>
                            <a:pt x="3461" y="8373"/>
                          </a:lnTo>
                          <a:lnTo>
                            <a:pt x="3539" y="8405"/>
                          </a:lnTo>
                          <a:lnTo>
                            <a:pt x="3603" y="8450"/>
                          </a:lnTo>
                          <a:lnTo>
                            <a:pt x="3671" y="8499"/>
                          </a:lnTo>
                          <a:lnTo>
                            <a:pt x="3726" y="8558"/>
                          </a:lnTo>
                          <a:lnTo>
                            <a:pt x="3777" y="8622"/>
                          </a:lnTo>
                          <a:lnTo>
                            <a:pt x="3811" y="8693"/>
                          </a:lnTo>
                          <a:lnTo>
                            <a:pt x="3832" y="8768"/>
                          </a:lnTo>
                          <a:lnTo>
                            <a:pt x="3847" y="8840"/>
                          </a:lnTo>
                          <a:lnTo>
                            <a:pt x="3850" y="8917"/>
                          </a:lnTo>
                          <a:lnTo>
                            <a:pt x="3840" y="8992"/>
                          </a:lnTo>
                          <a:lnTo>
                            <a:pt x="3822" y="9063"/>
                          </a:lnTo>
                          <a:lnTo>
                            <a:pt x="3794" y="9134"/>
                          </a:lnTo>
                          <a:lnTo>
                            <a:pt x="3752" y="9199"/>
                          </a:lnTo>
                          <a:lnTo>
                            <a:pt x="3699" y="9263"/>
                          </a:lnTo>
                          <a:lnTo>
                            <a:pt x="3632" y="9319"/>
                          </a:lnTo>
                          <a:lnTo>
                            <a:pt x="3674" y="9286"/>
                          </a:lnTo>
                          <a:lnTo>
                            <a:pt x="3726" y="9247"/>
                          </a:lnTo>
                          <a:lnTo>
                            <a:pt x="3780" y="9202"/>
                          </a:lnTo>
                          <a:lnTo>
                            <a:pt x="3847" y="9160"/>
                          </a:lnTo>
                          <a:lnTo>
                            <a:pt x="3910" y="9111"/>
                          </a:lnTo>
                          <a:lnTo>
                            <a:pt x="3981" y="9063"/>
                          </a:lnTo>
                          <a:lnTo>
                            <a:pt x="4058" y="9008"/>
                          </a:lnTo>
                          <a:lnTo>
                            <a:pt x="4136" y="8953"/>
                          </a:lnTo>
                          <a:lnTo>
                            <a:pt x="4218" y="8895"/>
                          </a:lnTo>
                          <a:lnTo>
                            <a:pt x="4302" y="8832"/>
                          </a:lnTo>
                          <a:lnTo>
                            <a:pt x="4384" y="8774"/>
                          </a:lnTo>
                          <a:lnTo>
                            <a:pt x="4473" y="8716"/>
                          </a:lnTo>
                          <a:lnTo>
                            <a:pt x="4564" y="8652"/>
                          </a:lnTo>
                          <a:lnTo>
                            <a:pt x="4652" y="8589"/>
                          </a:lnTo>
                          <a:lnTo>
                            <a:pt x="4741" y="8525"/>
                          </a:lnTo>
                          <a:lnTo>
                            <a:pt x="4836" y="8461"/>
                          </a:lnTo>
                          <a:lnTo>
                            <a:pt x="4925" y="8395"/>
                          </a:lnTo>
                          <a:lnTo>
                            <a:pt x="5013" y="8334"/>
                          </a:lnTo>
                          <a:lnTo>
                            <a:pt x="5094" y="8269"/>
                          </a:lnTo>
                          <a:lnTo>
                            <a:pt x="5185" y="8213"/>
                          </a:lnTo>
                          <a:lnTo>
                            <a:pt x="5260" y="8155"/>
                          </a:lnTo>
                          <a:lnTo>
                            <a:pt x="5338" y="8100"/>
                          </a:lnTo>
                          <a:lnTo>
                            <a:pt x="5408" y="8049"/>
                          </a:lnTo>
                          <a:lnTo>
                            <a:pt x="5479" y="7997"/>
                          </a:lnTo>
                          <a:lnTo>
                            <a:pt x="5546" y="7955"/>
                          </a:lnTo>
                          <a:lnTo>
                            <a:pt x="5600" y="7912"/>
                          </a:lnTo>
                          <a:lnTo>
                            <a:pt x="5652" y="7873"/>
                          </a:lnTo>
                          <a:lnTo>
                            <a:pt x="5698" y="7834"/>
                          </a:lnTo>
                          <a:lnTo>
                            <a:pt x="5712" y="7825"/>
                          </a:lnTo>
                          <a:lnTo>
                            <a:pt x="5730" y="7812"/>
                          </a:lnTo>
                          <a:lnTo>
                            <a:pt x="5740" y="7803"/>
                          </a:lnTo>
                          <a:lnTo>
                            <a:pt x="5794" y="7754"/>
                          </a:lnTo>
                          <a:lnTo>
                            <a:pt x="5860" y="7712"/>
                          </a:lnTo>
                          <a:lnTo>
                            <a:pt x="5924" y="7663"/>
                          </a:lnTo>
                          <a:lnTo>
                            <a:pt x="6002" y="7608"/>
                          </a:lnTo>
                          <a:lnTo>
                            <a:pt x="6083" y="7560"/>
                          </a:lnTo>
                          <a:lnTo>
                            <a:pt x="6171" y="7505"/>
                          </a:lnTo>
                          <a:lnTo>
                            <a:pt x="6264" y="7449"/>
                          </a:lnTo>
                          <a:lnTo>
                            <a:pt x="6352" y="7400"/>
                          </a:lnTo>
                          <a:lnTo>
                            <a:pt x="6444" y="7345"/>
                          </a:lnTo>
                          <a:lnTo>
                            <a:pt x="6529" y="7297"/>
                          </a:lnTo>
                          <a:lnTo>
                            <a:pt x="6607" y="7248"/>
                          </a:lnTo>
                          <a:lnTo>
                            <a:pt x="6688" y="7200"/>
                          </a:lnTo>
                          <a:lnTo>
                            <a:pt x="6773" y="7151"/>
                          </a:lnTo>
                          <a:lnTo>
                            <a:pt x="6854" y="7102"/>
                          </a:lnTo>
                          <a:lnTo>
                            <a:pt x="6931" y="7054"/>
                          </a:lnTo>
                          <a:lnTo>
                            <a:pt x="7009" y="6999"/>
                          </a:lnTo>
                          <a:lnTo>
                            <a:pt x="7083" y="6950"/>
                          </a:lnTo>
                          <a:lnTo>
                            <a:pt x="7157" y="6895"/>
                          </a:lnTo>
                          <a:lnTo>
                            <a:pt x="7228" y="6847"/>
                          </a:lnTo>
                          <a:lnTo>
                            <a:pt x="7292" y="6792"/>
                          </a:lnTo>
                          <a:lnTo>
                            <a:pt x="7358" y="6739"/>
                          </a:lnTo>
                          <a:lnTo>
                            <a:pt x="7345" y="6743"/>
                          </a:lnTo>
                          <a:lnTo>
                            <a:pt x="7341" y="6750"/>
                          </a:lnTo>
                          <a:lnTo>
                            <a:pt x="7327" y="6759"/>
                          </a:lnTo>
                          <a:lnTo>
                            <a:pt x="7397" y="6701"/>
                          </a:lnTo>
                          <a:lnTo>
                            <a:pt x="7469" y="6642"/>
                          </a:lnTo>
                          <a:lnTo>
                            <a:pt x="7539" y="6587"/>
                          </a:lnTo>
                          <a:lnTo>
                            <a:pt x="7606" y="6526"/>
                          </a:lnTo>
                          <a:lnTo>
                            <a:pt x="7677" y="6474"/>
                          </a:lnTo>
                          <a:lnTo>
                            <a:pt x="7740" y="6413"/>
                          </a:lnTo>
                          <a:lnTo>
                            <a:pt x="7814" y="6357"/>
                          </a:lnTo>
                          <a:lnTo>
                            <a:pt x="7878" y="6299"/>
                          </a:lnTo>
                          <a:lnTo>
                            <a:pt x="7942" y="6244"/>
                          </a:lnTo>
                          <a:lnTo>
                            <a:pt x="8009" y="6186"/>
                          </a:lnTo>
                          <a:lnTo>
                            <a:pt x="8072" y="6131"/>
                          </a:lnTo>
                          <a:lnTo>
                            <a:pt x="8139" y="6072"/>
                          </a:lnTo>
                          <a:lnTo>
                            <a:pt x="8203" y="6017"/>
                          </a:lnTo>
                          <a:lnTo>
                            <a:pt x="8271" y="5956"/>
                          </a:lnTo>
                          <a:lnTo>
                            <a:pt x="8334" y="5904"/>
                          </a:lnTo>
                          <a:lnTo>
                            <a:pt x="8394" y="5843"/>
                          </a:lnTo>
                          <a:lnTo>
                            <a:pt x="8458" y="5787"/>
                          </a:lnTo>
                          <a:lnTo>
                            <a:pt x="8518" y="5735"/>
                          </a:lnTo>
                          <a:lnTo>
                            <a:pt x="8581" y="5674"/>
                          </a:lnTo>
                          <a:lnTo>
                            <a:pt x="8641" y="5622"/>
                          </a:lnTo>
                          <a:lnTo>
                            <a:pt x="8702" y="5561"/>
                          </a:lnTo>
                          <a:lnTo>
                            <a:pt x="8765" y="5506"/>
                          </a:lnTo>
                          <a:lnTo>
                            <a:pt x="8825" y="5447"/>
                          </a:lnTo>
                          <a:lnTo>
                            <a:pt x="8874" y="5392"/>
                          </a:lnTo>
                          <a:lnTo>
                            <a:pt x="8941" y="5337"/>
                          </a:lnTo>
                          <a:lnTo>
                            <a:pt x="8994" y="5279"/>
                          </a:lnTo>
                          <a:lnTo>
                            <a:pt x="9051" y="5224"/>
                          </a:lnTo>
                          <a:lnTo>
                            <a:pt x="9111" y="5165"/>
                          </a:lnTo>
                          <a:lnTo>
                            <a:pt x="9170" y="5110"/>
                          </a:lnTo>
                          <a:lnTo>
                            <a:pt x="9231" y="5055"/>
                          </a:lnTo>
                          <a:lnTo>
                            <a:pt x="9284" y="5000"/>
                          </a:lnTo>
                          <a:lnTo>
                            <a:pt x="9344" y="4945"/>
                          </a:lnTo>
                          <a:lnTo>
                            <a:pt x="9398" y="4890"/>
                          </a:lnTo>
                          <a:lnTo>
                            <a:pt x="9453" y="4831"/>
                          </a:lnTo>
                          <a:lnTo>
                            <a:pt x="9510" y="4776"/>
                          </a:lnTo>
                          <a:lnTo>
                            <a:pt x="9567" y="4721"/>
                          </a:lnTo>
                          <a:lnTo>
                            <a:pt x="9619" y="4663"/>
                          </a:lnTo>
                          <a:lnTo>
                            <a:pt x="9673" y="4608"/>
                          </a:lnTo>
                          <a:lnTo>
                            <a:pt x="9733" y="4549"/>
                          </a:lnTo>
                          <a:lnTo>
                            <a:pt x="9785" y="4494"/>
                          </a:lnTo>
                          <a:lnTo>
                            <a:pt x="9839" y="4439"/>
                          </a:lnTo>
                          <a:lnTo>
                            <a:pt x="9892" y="4381"/>
                          </a:lnTo>
                          <a:lnTo>
                            <a:pt x="9948" y="4326"/>
                          </a:lnTo>
                          <a:lnTo>
                            <a:pt x="10005" y="4268"/>
                          </a:lnTo>
                          <a:lnTo>
                            <a:pt x="10058" y="4212"/>
                          </a:lnTo>
                          <a:lnTo>
                            <a:pt x="10107" y="4151"/>
                          </a:lnTo>
                          <a:lnTo>
                            <a:pt x="10167" y="4099"/>
                          </a:lnTo>
                          <a:lnTo>
                            <a:pt x="10213" y="4038"/>
                          </a:lnTo>
                          <a:lnTo>
                            <a:pt x="10266" y="3983"/>
                          </a:lnTo>
                          <a:lnTo>
                            <a:pt x="10319" y="3924"/>
                          </a:lnTo>
                          <a:lnTo>
                            <a:pt x="10372" y="3869"/>
                          </a:lnTo>
                          <a:lnTo>
                            <a:pt x="10426" y="3811"/>
                          </a:lnTo>
                          <a:lnTo>
                            <a:pt x="10478" y="3756"/>
                          </a:lnTo>
                          <a:lnTo>
                            <a:pt x="10531" y="3698"/>
                          </a:lnTo>
                          <a:lnTo>
                            <a:pt x="10580" y="3642"/>
                          </a:lnTo>
                          <a:lnTo>
                            <a:pt x="10634" y="3580"/>
                          </a:lnTo>
                          <a:lnTo>
                            <a:pt x="10686" y="3522"/>
                          </a:lnTo>
                          <a:lnTo>
                            <a:pt x="10733" y="3467"/>
                          </a:lnTo>
                          <a:lnTo>
                            <a:pt x="10785" y="3409"/>
                          </a:lnTo>
                          <a:lnTo>
                            <a:pt x="10842" y="3347"/>
                          </a:lnTo>
                          <a:lnTo>
                            <a:pt x="10895" y="3295"/>
                          </a:lnTo>
                          <a:lnTo>
                            <a:pt x="10941" y="3234"/>
                          </a:lnTo>
                          <a:lnTo>
                            <a:pt x="10994" y="3176"/>
                          </a:lnTo>
                          <a:lnTo>
                            <a:pt x="11047" y="3120"/>
                          </a:lnTo>
                          <a:lnTo>
                            <a:pt x="11096" y="3062"/>
                          </a:lnTo>
                          <a:lnTo>
                            <a:pt x="11150" y="3001"/>
                          </a:lnTo>
                          <a:lnTo>
                            <a:pt x="11195" y="2943"/>
                          </a:lnTo>
                          <a:lnTo>
                            <a:pt x="11249" y="2880"/>
                          </a:lnTo>
                          <a:lnTo>
                            <a:pt x="11301" y="2822"/>
                          </a:lnTo>
                          <a:lnTo>
                            <a:pt x="11351" y="2761"/>
                          </a:lnTo>
                          <a:lnTo>
                            <a:pt x="11403" y="2709"/>
                          </a:lnTo>
                          <a:lnTo>
                            <a:pt x="11457" y="2648"/>
                          </a:lnTo>
                          <a:lnTo>
                            <a:pt x="11503" y="2589"/>
                          </a:lnTo>
                          <a:lnTo>
                            <a:pt x="11556" y="2528"/>
                          </a:lnTo>
                          <a:lnTo>
                            <a:pt x="11605" y="2469"/>
                          </a:lnTo>
                          <a:lnTo>
                            <a:pt x="11659" y="2411"/>
                          </a:lnTo>
                          <a:lnTo>
                            <a:pt x="11711" y="2349"/>
                          </a:lnTo>
                          <a:lnTo>
                            <a:pt x="11757" y="2291"/>
                          </a:lnTo>
                          <a:lnTo>
                            <a:pt x="11810" y="2227"/>
                          </a:lnTo>
                          <a:lnTo>
                            <a:pt x="11863" y="2164"/>
                          </a:lnTo>
                          <a:lnTo>
                            <a:pt x="11919" y="2106"/>
                          </a:lnTo>
                          <a:lnTo>
                            <a:pt x="11966" y="2045"/>
                          </a:lnTo>
                          <a:lnTo>
                            <a:pt x="12018" y="1987"/>
                          </a:lnTo>
                          <a:lnTo>
                            <a:pt x="12072" y="1921"/>
                          </a:lnTo>
                          <a:lnTo>
                            <a:pt x="12124" y="1860"/>
                          </a:lnTo>
                          <a:lnTo>
                            <a:pt x="12174" y="1802"/>
                          </a:lnTo>
                          <a:lnTo>
                            <a:pt x="12227" y="1737"/>
                          </a:lnTo>
                          <a:lnTo>
                            <a:pt x="12280" y="1675"/>
                          </a:lnTo>
                          <a:lnTo>
                            <a:pt x="12947" y="889"/>
                          </a:lnTo>
                          <a:lnTo>
                            <a:pt x="13001" y="814"/>
                          </a:lnTo>
                          <a:lnTo>
                            <a:pt x="13043" y="732"/>
                          </a:lnTo>
                          <a:lnTo>
                            <a:pt x="13067" y="652"/>
                          </a:lnTo>
                          <a:lnTo>
                            <a:pt x="13079" y="564"/>
                          </a:lnTo>
                          <a:lnTo>
                            <a:pt x="13071" y="477"/>
                          </a:lnTo>
                          <a:lnTo>
                            <a:pt x="13054" y="389"/>
                          </a:lnTo>
                          <a:lnTo>
                            <a:pt x="13018" y="308"/>
                          </a:lnTo>
                          <a:lnTo>
                            <a:pt x="12965" y="234"/>
                          </a:lnTo>
                          <a:lnTo>
                            <a:pt x="12905" y="162"/>
                          </a:lnTo>
                          <a:lnTo>
                            <a:pt x="12835" y="107"/>
                          </a:lnTo>
                          <a:lnTo>
                            <a:pt x="12753" y="59"/>
                          </a:lnTo>
                          <a:lnTo>
                            <a:pt x="12665" y="27"/>
                          </a:lnTo>
                          <a:lnTo>
                            <a:pt x="12576" y="4"/>
                          </a:lnTo>
                          <a:lnTo>
                            <a:pt x="12474" y="0"/>
                          </a:lnTo>
                          <a:lnTo>
                            <a:pt x="12340" y="10"/>
                          </a:lnTo>
                          <a:lnTo>
                            <a:pt x="12213" y="36"/>
                          </a:lnTo>
                          <a:lnTo>
                            <a:pt x="12114" y="75"/>
                          </a:lnTo>
                          <a:lnTo>
                            <a:pt x="12029" y="117"/>
                          </a:lnTo>
                          <a:lnTo>
                            <a:pt x="11966" y="162"/>
                          </a:lnTo>
                          <a:lnTo>
                            <a:pt x="11919" y="201"/>
                          </a:lnTo>
                          <a:lnTo>
                            <a:pt x="11912" y="201"/>
                          </a:lnTo>
                          <a:lnTo>
                            <a:pt x="11912" y="204"/>
                          </a:lnTo>
                          <a:lnTo>
                            <a:pt x="11906" y="204"/>
                          </a:lnTo>
                          <a:lnTo>
                            <a:pt x="11958" y="173"/>
                          </a:lnTo>
                          <a:lnTo>
                            <a:pt x="12061" y="133"/>
                          </a:lnTo>
                          <a:lnTo>
                            <a:pt x="12213" y="117"/>
                          </a:lnTo>
                          <a:lnTo>
                            <a:pt x="12096" y="124"/>
                          </a:lnTo>
                          <a:lnTo>
                            <a:pt x="11990" y="156"/>
                          </a:lnTo>
                          <a:lnTo>
                            <a:pt x="11880" y="204"/>
                          </a:lnTo>
                          <a:lnTo>
                            <a:pt x="11792" y="276"/>
                          </a:lnTo>
                          <a:lnTo>
                            <a:pt x="11729" y="331"/>
                          </a:lnTo>
                          <a:lnTo>
                            <a:pt x="11662" y="386"/>
                          </a:lnTo>
                          <a:lnTo>
                            <a:pt x="11605" y="438"/>
                          </a:lnTo>
                          <a:lnTo>
                            <a:pt x="11538" y="493"/>
                          </a:lnTo>
                          <a:lnTo>
                            <a:pt x="11467" y="541"/>
                          </a:lnTo>
                          <a:lnTo>
                            <a:pt x="11403" y="587"/>
                          </a:lnTo>
                          <a:lnTo>
                            <a:pt x="11337" y="635"/>
                          </a:lnTo>
                          <a:lnTo>
                            <a:pt x="11266" y="684"/>
                          </a:lnTo>
                          <a:lnTo>
                            <a:pt x="11195" y="726"/>
                          </a:lnTo>
                          <a:lnTo>
                            <a:pt x="11125" y="775"/>
                          </a:lnTo>
                          <a:lnTo>
                            <a:pt x="11054" y="820"/>
                          </a:lnTo>
                          <a:lnTo>
                            <a:pt x="10984" y="862"/>
                          </a:lnTo>
                          <a:lnTo>
                            <a:pt x="10906" y="904"/>
                          </a:lnTo>
                          <a:lnTo>
                            <a:pt x="10835" y="950"/>
                          </a:lnTo>
                          <a:lnTo>
                            <a:pt x="10758" y="992"/>
                          </a:lnTo>
                          <a:lnTo>
                            <a:pt x="10680" y="1037"/>
                          </a:lnTo>
                          <a:lnTo>
                            <a:pt x="10598" y="1080"/>
                          </a:lnTo>
                          <a:lnTo>
                            <a:pt x="10520" y="1122"/>
                          </a:lnTo>
                          <a:lnTo>
                            <a:pt x="10442" y="1166"/>
                          </a:lnTo>
                          <a:lnTo>
                            <a:pt x="10361" y="1209"/>
                          </a:lnTo>
                          <a:lnTo>
                            <a:pt x="10167" y="1319"/>
                          </a:lnTo>
                          <a:lnTo>
                            <a:pt x="10135" y="1335"/>
                          </a:lnTo>
                          <a:lnTo>
                            <a:pt x="10110" y="1351"/>
                          </a:lnTo>
                          <a:lnTo>
                            <a:pt x="10089" y="1368"/>
                          </a:lnTo>
                          <a:lnTo>
                            <a:pt x="10011" y="1426"/>
                          </a:lnTo>
                          <a:lnTo>
                            <a:pt x="9941" y="1481"/>
                          </a:lnTo>
                          <a:lnTo>
                            <a:pt x="9863" y="1539"/>
                          </a:lnTo>
                          <a:lnTo>
                            <a:pt x="9793" y="1594"/>
                          </a:lnTo>
                          <a:lnTo>
                            <a:pt x="9715" y="1650"/>
                          </a:lnTo>
                          <a:lnTo>
                            <a:pt x="9637" y="1705"/>
                          </a:lnTo>
                          <a:lnTo>
                            <a:pt x="9567" y="1757"/>
                          </a:lnTo>
                          <a:lnTo>
                            <a:pt x="9489" y="1808"/>
                          </a:lnTo>
                          <a:lnTo>
                            <a:pt x="9419" y="1860"/>
                          </a:lnTo>
                          <a:lnTo>
                            <a:pt x="9337" y="1909"/>
                          </a:lnTo>
                          <a:lnTo>
                            <a:pt x="9266" y="1957"/>
                          </a:lnTo>
                          <a:lnTo>
                            <a:pt x="9188" y="2009"/>
                          </a:lnTo>
                          <a:lnTo>
                            <a:pt x="9107" y="2051"/>
                          </a:lnTo>
                          <a:lnTo>
                            <a:pt x="9030" y="2100"/>
                          </a:lnTo>
                          <a:lnTo>
                            <a:pt x="8944" y="2142"/>
                          </a:lnTo>
                          <a:lnTo>
                            <a:pt x="8923" y="2155"/>
                          </a:lnTo>
                          <a:lnTo>
                            <a:pt x="8899" y="2172"/>
                          </a:lnTo>
                          <a:lnTo>
                            <a:pt x="8874" y="2188"/>
                          </a:lnTo>
                          <a:lnTo>
                            <a:pt x="8807" y="2242"/>
                          </a:lnTo>
                          <a:lnTo>
                            <a:pt x="8729" y="2294"/>
                          </a:lnTo>
                          <a:lnTo>
                            <a:pt x="8655" y="2355"/>
                          </a:lnTo>
                          <a:lnTo>
                            <a:pt x="8581" y="2411"/>
                          </a:lnTo>
                          <a:lnTo>
                            <a:pt x="8510" y="2469"/>
                          </a:lnTo>
                          <a:lnTo>
                            <a:pt x="8440" y="2524"/>
                          </a:lnTo>
                          <a:lnTo>
                            <a:pt x="8369" y="2583"/>
                          </a:lnTo>
                          <a:lnTo>
                            <a:pt x="8298" y="2637"/>
                          </a:lnTo>
                          <a:lnTo>
                            <a:pt x="8235" y="2697"/>
                          </a:lnTo>
                          <a:lnTo>
                            <a:pt x="8168" y="2758"/>
                          </a:lnTo>
                          <a:lnTo>
                            <a:pt x="8105" y="2813"/>
                          </a:lnTo>
                          <a:lnTo>
                            <a:pt x="8033" y="2871"/>
                          </a:lnTo>
                          <a:lnTo>
                            <a:pt x="7966" y="2929"/>
                          </a:lnTo>
                          <a:lnTo>
                            <a:pt x="7895" y="2985"/>
                          </a:lnTo>
                          <a:lnTo>
                            <a:pt x="7825" y="3046"/>
                          </a:lnTo>
                          <a:lnTo>
                            <a:pt x="7758" y="3104"/>
                          </a:lnTo>
                          <a:lnTo>
                            <a:pt x="7687" y="3159"/>
                          </a:lnTo>
                          <a:lnTo>
                            <a:pt x="7623" y="3218"/>
                          </a:lnTo>
                          <a:lnTo>
                            <a:pt x="7553" y="3273"/>
                          </a:lnTo>
                          <a:lnTo>
                            <a:pt x="7482" y="3328"/>
                          </a:lnTo>
                          <a:lnTo>
                            <a:pt x="7415" y="3380"/>
                          </a:lnTo>
                          <a:lnTo>
                            <a:pt x="7341" y="3435"/>
                          </a:lnTo>
                          <a:lnTo>
                            <a:pt x="7267" y="3483"/>
                          </a:lnTo>
                          <a:lnTo>
                            <a:pt x="7178" y="3548"/>
                          </a:lnTo>
                          <a:lnTo>
                            <a:pt x="7090" y="3610"/>
                          </a:lnTo>
                          <a:lnTo>
                            <a:pt x="6994" y="3665"/>
                          </a:lnTo>
                          <a:lnTo>
                            <a:pt x="6903" y="3723"/>
                          </a:lnTo>
                          <a:lnTo>
                            <a:pt x="6800" y="3781"/>
                          </a:lnTo>
                          <a:lnTo>
                            <a:pt x="6719" y="3833"/>
                          </a:lnTo>
                          <a:lnTo>
                            <a:pt x="6634" y="3881"/>
                          </a:lnTo>
                          <a:lnTo>
                            <a:pt x="6553" y="3930"/>
                          </a:lnTo>
                          <a:lnTo>
                            <a:pt x="6468" y="3980"/>
                          </a:lnTo>
                          <a:lnTo>
                            <a:pt x="6390" y="4035"/>
                          </a:lnTo>
                          <a:lnTo>
                            <a:pt x="6309" y="4086"/>
                          </a:lnTo>
                          <a:lnTo>
                            <a:pt x="6231" y="4141"/>
                          </a:lnTo>
                          <a:lnTo>
                            <a:pt x="6221" y="4148"/>
                          </a:lnTo>
                          <a:lnTo>
                            <a:pt x="6213" y="4151"/>
                          </a:lnTo>
                          <a:lnTo>
                            <a:pt x="6213" y="4157"/>
                          </a:lnTo>
                          <a:lnTo>
                            <a:pt x="6150" y="4206"/>
                          </a:lnTo>
                          <a:lnTo>
                            <a:pt x="6083" y="4261"/>
                          </a:lnTo>
                          <a:lnTo>
                            <a:pt x="6020" y="4309"/>
                          </a:lnTo>
                          <a:lnTo>
                            <a:pt x="5953" y="4358"/>
                          </a:lnTo>
                          <a:lnTo>
                            <a:pt x="5889" y="4414"/>
                          </a:lnTo>
                          <a:lnTo>
                            <a:pt x="5826" y="4462"/>
                          </a:lnTo>
                          <a:lnTo>
                            <a:pt x="5766" y="4511"/>
                          </a:lnTo>
                          <a:lnTo>
                            <a:pt x="5698" y="4566"/>
                          </a:lnTo>
                          <a:lnTo>
                            <a:pt x="5634" y="4614"/>
                          </a:lnTo>
                          <a:lnTo>
                            <a:pt x="5567" y="4663"/>
                          </a:lnTo>
                          <a:lnTo>
                            <a:pt x="5504" y="4712"/>
                          </a:lnTo>
                          <a:lnTo>
                            <a:pt x="5444" y="4766"/>
                          </a:lnTo>
                          <a:lnTo>
                            <a:pt x="5380" y="4815"/>
                          </a:lnTo>
                          <a:lnTo>
                            <a:pt x="5314" y="4864"/>
                          </a:lnTo>
                          <a:lnTo>
                            <a:pt x="5249" y="4912"/>
                          </a:lnTo>
                          <a:lnTo>
                            <a:pt x="5185" y="4961"/>
                          </a:lnTo>
                          <a:lnTo>
                            <a:pt x="5119" y="5013"/>
                          </a:lnTo>
                          <a:lnTo>
                            <a:pt x="5055" y="5061"/>
                          </a:lnTo>
                          <a:lnTo>
                            <a:pt x="4995" y="5110"/>
                          </a:lnTo>
                          <a:lnTo>
                            <a:pt x="4928" y="5158"/>
                          </a:lnTo>
                          <a:lnTo>
                            <a:pt x="4865" y="5207"/>
                          </a:lnTo>
                          <a:lnTo>
                            <a:pt x="4801" y="5255"/>
                          </a:lnTo>
                          <a:lnTo>
                            <a:pt x="4733" y="5304"/>
                          </a:lnTo>
                          <a:lnTo>
                            <a:pt x="4670" y="5353"/>
                          </a:lnTo>
                          <a:lnTo>
                            <a:pt x="4603" y="5401"/>
                          </a:lnTo>
                          <a:lnTo>
                            <a:pt x="4539" y="5453"/>
                          </a:lnTo>
                          <a:lnTo>
                            <a:pt x="4473" y="5501"/>
                          </a:lnTo>
                          <a:lnTo>
                            <a:pt x="4409" y="5550"/>
                          </a:lnTo>
                          <a:lnTo>
                            <a:pt x="4345" y="5600"/>
                          </a:lnTo>
                          <a:lnTo>
                            <a:pt x="4278" y="5648"/>
                          </a:lnTo>
                          <a:lnTo>
                            <a:pt x="4214" y="5697"/>
                          </a:lnTo>
                          <a:lnTo>
                            <a:pt x="4147" y="5745"/>
                          </a:lnTo>
                          <a:lnTo>
                            <a:pt x="4084" y="5794"/>
                          </a:lnTo>
                          <a:lnTo>
                            <a:pt x="4016" y="5843"/>
                          </a:lnTo>
                          <a:lnTo>
                            <a:pt x="3953" y="5891"/>
                          </a:lnTo>
                          <a:lnTo>
                            <a:pt x="3882" y="5940"/>
                          </a:lnTo>
                          <a:lnTo>
                            <a:pt x="3816" y="5985"/>
                          </a:lnTo>
                          <a:lnTo>
                            <a:pt x="3752" y="6034"/>
                          </a:lnTo>
                          <a:lnTo>
                            <a:pt x="3687" y="6082"/>
                          </a:lnTo>
                          <a:lnTo>
                            <a:pt x="3621" y="6131"/>
                          </a:lnTo>
                          <a:lnTo>
                            <a:pt x="3557" y="6173"/>
                          </a:lnTo>
                          <a:lnTo>
                            <a:pt x="3487" y="6225"/>
                          </a:lnTo>
                          <a:lnTo>
                            <a:pt x="3419" y="6273"/>
                          </a:lnTo>
                          <a:lnTo>
                            <a:pt x="3356" y="6316"/>
                          </a:lnTo>
                          <a:lnTo>
                            <a:pt x="3285" y="6364"/>
                          </a:lnTo>
                          <a:lnTo>
                            <a:pt x="3219" y="6413"/>
                          </a:lnTo>
                          <a:lnTo>
                            <a:pt x="3154" y="6458"/>
                          </a:lnTo>
                          <a:lnTo>
                            <a:pt x="3084" y="6507"/>
                          </a:lnTo>
                          <a:lnTo>
                            <a:pt x="3017" y="6548"/>
                          </a:lnTo>
                          <a:lnTo>
                            <a:pt x="2946" y="6597"/>
                          </a:lnTo>
                          <a:lnTo>
                            <a:pt x="2882" y="6642"/>
                          </a:lnTo>
                          <a:lnTo>
                            <a:pt x="2812" y="6684"/>
                          </a:lnTo>
                          <a:lnTo>
                            <a:pt x="2744" y="6733"/>
                          </a:lnTo>
                          <a:lnTo>
                            <a:pt x="2674" y="6775"/>
                          </a:lnTo>
                          <a:lnTo>
                            <a:pt x="2610" y="6827"/>
                          </a:lnTo>
                          <a:lnTo>
                            <a:pt x="2536" y="6869"/>
                          </a:lnTo>
                          <a:lnTo>
                            <a:pt x="2472" y="6911"/>
                          </a:lnTo>
                          <a:lnTo>
                            <a:pt x="2402" y="6957"/>
                          </a:lnTo>
                          <a:lnTo>
                            <a:pt x="2331" y="7005"/>
                          </a:lnTo>
                          <a:lnTo>
                            <a:pt x="2261" y="7048"/>
                          </a:lnTo>
                          <a:lnTo>
                            <a:pt x="2194" y="7093"/>
                          </a:lnTo>
                          <a:lnTo>
                            <a:pt x="2123" y="7135"/>
                          </a:lnTo>
                          <a:lnTo>
                            <a:pt x="2052" y="7177"/>
                          </a:lnTo>
                          <a:lnTo>
                            <a:pt x="1981" y="7223"/>
                          </a:lnTo>
                          <a:lnTo>
                            <a:pt x="1911" y="7264"/>
                          </a:lnTo>
                          <a:lnTo>
                            <a:pt x="1844" y="7309"/>
                          </a:lnTo>
                          <a:lnTo>
                            <a:pt x="1770" y="7352"/>
                          </a:lnTo>
                          <a:lnTo>
                            <a:pt x="1703" y="7394"/>
                          </a:lnTo>
                          <a:lnTo>
                            <a:pt x="1625" y="7439"/>
                          </a:lnTo>
                          <a:lnTo>
                            <a:pt x="1553" y="7482"/>
                          </a:lnTo>
                          <a:lnTo>
                            <a:pt x="1483" y="7521"/>
                          </a:lnTo>
                          <a:lnTo>
                            <a:pt x="1413" y="7563"/>
                          </a:lnTo>
                          <a:lnTo>
                            <a:pt x="1342" y="7608"/>
                          </a:lnTo>
                          <a:lnTo>
                            <a:pt x="1272" y="7651"/>
                          </a:lnTo>
                          <a:lnTo>
                            <a:pt x="1194" y="7689"/>
                          </a:lnTo>
                          <a:lnTo>
                            <a:pt x="1122" y="7731"/>
                          </a:lnTo>
                          <a:lnTo>
                            <a:pt x="1052" y="7770"/>
                          </a:lnTo>
                          <a:lnTo>
                            <a:pt x="982" y="7812"/>
                          </a:lnTo>
                          <a:lnTo>
                            <a:pt x="904" y="7858"/>
                          </a:lnTo>
                          <a:lnTo>
                            <a:pt x="833" y="7897"/>
                          </a:lnTo>
                          <a:lnTo>
                            <a:pt x="756" y="7931"/>
                          </a:lnTo>
                          <a:lnTo>
                            <a:pt x="685" y="7977"/>
                          </a:lnTo>
                          <a:lnTo>
                            <a:pt x="607" y="8013"/>
                          </a:lnTo>
                          <a:lnTo>
                            <a:pt x="530" y="8058"/>
                          </a:lnTo>
                          <a:lnTo>
                            <a:pt x="459" y="8097"/>
                          </a:lnTo>
                          <a:lnTo>
                            <a:pt x="385" y="8133"/>
                          </a:lnTo>
                          <a:lnTo>
                            <a:pt x="307" y="8171"/>
                          </a:lnTo>
                          <a:lnTo>
                            <a:pt x="395" y="8133"/>
                          </a:lnTo>
                          <a:lnTo>
                            <a:pt x="491" y="8113"/>
                          </a:lnTo>
                          <a:lnTo>
                            <a:pt x="582" y="8100"/>
                          </a:lnTo>
                          <a:lnTo>
                            <a:pt x="678" y="8107"/>
                          </a:lnTo>
                          <a:lnTo>
                            <a:pt x="766" y="8123"/>
                          </a:lnTo>
                          <a:lnTo>
                            <a:pt x="859" y="8155"/>
                          </a:lnTo>
                          <a:lnTo>
                            <a:pt x="940" y="8198"/>
                          </a:lnTo>
                          <a:lnTo>
                            <a:pt x="1017" y="8253"/>
                          </a:lnTo>
                          <a:lnTo>
                            <a:pt x="1080" y="8324"/>
                          </a:lnTo>
                          <a:lnTo>
                            <a:pt x="1134" y="8395"/>
                          </a:lnTo>
                          <a:lnTo>
                            <a:pt x="1169" y="8476"/>
                          </a:lnTo>
                          <a:lnTo>
                            <a:pt x="1194" y="8564"/>
                          </a:lnTo>
                          <a:lnTo>
                            <a:pt x="1204" y="8644"/>
                          </a:lnTo>
                          <a:lnTo>
                            <a:pt x="1200" y="8732"/>
                          </a:lnTo>
                          <a:lnTo>
                            <a:pt x="1176" y="8816"/>
                          </a:lnTo>
                          <a:lnTo>
                            <a:pt x="1140" y="8904"/>
                          </a:lnTo>
                          <a:lnTo>
                            <a:pt x="1187" y="8829"/>
                          </a:lnTo>
                          <a:lnTo>
                            <a:pt x="1261" y="8758"/>
                          </a:lnTo>
                          <a:lnTo>
                            <a:pt x="1349" y="8677"/>
                          </a:lnTo>
                          <a:lnTo>
                            <a:pt x="1441" y="8599"/>
                          </a:lnTo>
                          <a:lnTo>
                            <a:pt x="1498" y="8550"/>
                          </a:lnTo>
                          <a:lnTo>
                            <a:pt x="1550" y="8502"/>
                          </a:lnTo>
                          <a:lnTo>
                            <a:pt x="1607" y="8453"/>
                          </a:lnTo>
                          <a:lnTo>
                            <a:pt x="1579" y="8476"/>
                          </a:lnTo>
                          <a:lnTo>
                            <a:pt x="1550" y="8502"/>
                          </a:lnTo>
                          <a:lnTo>
                            <a:pt x="1516" y="8525"/>
                          </a:lnTo>
                          <a:lnTo>
                            <a:pt x="1597" y="8470"/>
                          </a:lnTo>
                          <a:lnTo>
                            <a:pt x="1674" y="8421"/>
                          </a:lnTo>
                          <a:lnTo>
                            <a:pt x="1745" y="8373"/>
                          </a:lnTo>
                          <a:lnTo>
                            <a:pt x="1823" y="8324"/>
                          </a:lnTo>
                          <a:lnTo>
                            <a:pt x="1897" y="8269"/>
                          </a:lnTo>
                          <a:lnTo>
                            <a:pt x="1971" y="8221"/>
                          </a:lnTo>
                          <a:lnTo>
                            <a:pt x="2041" y="8171"/>
                          </a:lnTo>
                          <a:lnTo>
                            <a:pt x="2105" y="8116"/>
                          </a:lnTo>
                          <a:lnTo>
                            <a:pt x="2176" y="8065"/>
                          </a:lnTo>
                          <a:lnTo>
                            <a:pt x="2246" y="8013"/>
                          </a:lnTo>
                          <a:lnTo>
                            <a:pt x="2313" y="7961"/>
                          </a:lnTo>
                          <a:lnTo>
                            <a:pt x="2378" y="7906"/>
                          </a:lnTo>
                          <a:lnTo>
                            <a:pt x="2444" y="7858"/>
                          </a:lnTo>
                          <a:lnTo>
                            <a:pt x="2508" y="7803"/>
                          </a:lnTo>
                          <a:lnTo>
                            <a:pt x="2575" y="7748"/>
                          </a:lnTo>
                          <a:lnTo>
                            <a:pt x="2638" y="7696"/>
                          </a:lnTo>
                          <a:lnTo>
                            <a:pt x="2702" y="7640"/>
                          </a:lnTo>
                          <a:lnTo>
                            <a:pt x="2770" y="7591"/>
                          </a:lnTo>
                          <a:lnTo>
                            <a:pt x="3129" y="7294"/>
                          </a:lnTo>
                          <a:lnTo>
                            <a:pt x="3041" y="7352"/>
                          </a:lnTo>
                          <a:lnTo>
                            <a:pt x="2946" y="7394"/>
                          </a:lnTo>
                          <a:lnTo>
                            <a:pt x="2840" y="7423"/>
                          </a:lnTo>
                          <a:lnTo>
                            <a:pt x="2734" y="7433"/>
                          </a:lnTo>
                          <a:lnTo>
                            <a:pt x="2788" y="7427"/>
                          </a:lnTo>
                          <a:lnTo>
                            <a:pt x="2858" y="7427"/>
                          </a:lnTo>
                          <a:lnTo>
                            <a:pt x="2946" y="7411"/>
                          </a:lnTo>
                          <a:lnTo>
                            <a:pt x="3041" y="7391"/>
                          </a:lnTo>
                          <a:lnTo>
                            <a:pt x="3141" y="7352"/>
                          </a:lnTo>
                          <a:lnTo>
                            <a:pt x="3250" y="7294"/>
                          </a:lnTo>
                          <a:lnTo>
                            <a:pt x="3349" y="7209"/>
                          </a:lnTo>
                          <a:lnTo>
                            <a:pt x="3321" y="7232"/>
                          </a:lnTo>
                          <a:lnTo>
                            <a:pt x="3289" y="7261"/>
                          </a:lnTo>
                          <a:lnTo>
                            <a:pt x="3261" y="7281"/>
                          </a:lnTo>
                          <a:lnTo>
                            <a:pt x="3373" y="7206"/>
                          </a:lnTo>
                          <a:lnTo>
                            <a:pt x="3472" y="7135"/>
                          </a:lnTo>
                          <a:lnTo>
                            <a:pt x="3560" y="7077"/>
                          </a:lnTo>
                          <a:lnTo>
                            <a:pt x="3632" y="7021"/>
                          </a:lnTo>
                          <a:lnTo>
                            <a:pt x="3705" y="6973"/>
                          </a:lnTo>
                          <a:lnTo>
                            <a:pt x="3777" y="6924"/>
                          </a:lnTo>
                          <a:lnTo>
                            <a:pt x="3804" y="6908"/>
                          </a:lnTo>
                          <a:lnTo>
                            <a:pt x="3829" y="6886"/>
                          </a:lnTo>
                          <a:lnTo>
                            <a:pt x="3850" y="6869"/>
                          </a:lnTo>
                          <a:lnTo>
                            <a:pt x="3918" y="6814"/>
                          </a:lnTo>
                          <a:lnTo>
                            <a:pt x="3981" y="6756"/>
                          </a:lnTo>
                          <a:lnTo>
                            <a:pt x="4048" y="6701"/>
                          </a:lnTo>
                          <a:lnTo>
                            <a:pt x="4112" y="6642"/>
                          </a:lnTo>
                          <a:lnTo>
                            <a:pt x="4179" y="6587"/>
                          </a:lnTo>
                          <a:lnTo>
                            <a:pt x="4235" y="6526"/>
                          </a:lnTo>
                          <a:lnTo>
                            <a:pt x="4302" y="6474"/>
                          </a:lnTo>
                          <a:lnTo>
                            <a:pt x="4362" y="6419"/>
                          </a:lnTo>
                          <a:lnTo>
                            <a:pt x="4426" y="6357"/>
                          </a:lnTo>
                          <a:lnTo>
                            <a:pt x="4486" y="6305"/>
                          </a:lnTo>
                          <a:lnTo>
                            <a:pt x="4546" y="6250"/>
                          </a:lnTo>
                          <a:lnTo>
                            <a:pt x="4610" y="6189"/>
                          </a:lnTo>
                          <a:lnTo>
                            <a:pt x="4670" y="6137"/>
                          </a:lnTo>
                          <a:lnTo>
                            <a:pt x="4730" y="6076"/>
                          </a:lnTo>
                          <a:lnTo>
                            <a:pt x="4787" y="6023"/>
                          </a:lnTo>
                          <a:lnTo>
                            <a:pt x="4847" y="5968"/>
                          </a:lnTo>
                          <a:lnTo>
                            <a:pt x="4907" y="5907"/>
                          </a:lnTo>
                          <a:lnTo>
                            <a:pt x="4967" y="5855"/>
                          </a:lnTo>
                          <a:lnTo>
                            <a:pt x="5023" y="5794"/>
                          </a:lnTo>
                          <a:lnTo>
                            <a:pt x="5076" y="5738"/>
                          </a:lnTo>
                          <a:lnTo>
                            <a:pt x="5136" y="5680"/>
                          </a:lnTo>
                          <a:lnTo>
                            <a:pt x="5197" y="5625"/>
                          </a:lnTo>
                          <a:lnTo>
                            <a:pt x="5257" y="5567"/>
                          </a:lnTo>
                          <a:lnTo>
                            <a:pt x="5309" y="5512"/>
                          </a:lnTo>
                          <a:lnTo>
                            <a:pt x="5366" y="5453"/>
                          </a:lnTo>
                          <a:lnTo>
                            <a:pt x="5426" y="5392"/>
                          </a:lnTo>
                          <a:lnTo>
                            <a:pt x="5486" y="5337"/>
                          </a:lnTo>
                          <a:lnTo>
                            <a:pt x="5546" y="5279"/>
                          </a:lnTo>
                          <a:lnTo>
                            <a:pt x="5606" y="5224"/>
                          </a:lnTo>
                          <a:lnTo>
                            <a:pt x="5659" y="5165"/>
                          </a:lnTo>
                          <a:lnTo>
                            <a:pt x="5716" y="5103"/>
                          </a:lnTo>
                          <a:lnTo>
                            <a:pt x="5776" y="5045"/>
                          </a:lnTo>
                          <a:lnTo>
                            <a:pt x="5836" y="4993"/>
                          </a:lnTo>
                          <a:lnTo>
                            <a:pt x="6529" y="4300"/>
                          </a:lnTo>
                          <a:lnTo>
                            <a:pt x="6535" y="4300"/>
                          </a:lnTo>
                          <a:lnTo>
                            <a:pt x="6535" y="4293"/>
                          </a:lnTo>
                          <a:lnTo>
                            <a:pt x="6539" y="4293"/>
                          </a:lnTo>
                          <a:lnTo>
                            <a:pt x="6599" y="4235"/>
                          </a:lnTo>
                          <a:lnTo>
                            <a:pt x="6659" y="4174"/>
                          </a:lnTo>
                          <a:lnTo>
                            <a:pt x="6719" y="4115"/>
                          </a:lnTo>
                          <a:lnTo>
                            <a:pt x="6776" y="4060"/>
                          </a:lnTo>
                          <a:lnTo>
                            <a:pt x="6836" y="4002"/>
                          </a:lnTo>
                          <a:lnTo>
                            <a:pt x="6896" y="3941"/>
                          </a:lnTo>
                          <a:lnTo>
                            <a:pt x="6956" y="3886"/>
                          </a:lnTo>
                          <a:lnTo>
                            <a:pt x="7020" y="3827"/>
                          </a:lnTo>
                          <a:lnTo>
                            <a:pt x="7080" y="3772"/>
                          </a:lnTo>
                          <a:lnTo>
                            <a:pt x="7140" y="3717"/>
                          </a:lnTo>
                          <a:lnTo>
                            <a:pt x="7204" y="3665"/>
                          </a:lnTo>
                          <a:lnTo>
                            <a:pt x="7264" y="3610"/>
                          </a:lnTo>
                          <a:lnTo>
                            <a:pt x="7327" y="3555"/>
                          </a:lnTo>
                          <a:lnTo>
                            <a:pt x="7387" y="3499"/>
                          </a:lnTo>
                          <a:lnTo>
                            <a:pt x="7451" y="3447"/>
                          </a:lnTo>
                          <a:lnTo>
                            <a:pt x="7518" y="3393"/>
                          </a:lnTo>
                          <a:lnTo>
                            <a:pt x="7581" y="3338"/>
                          </a:lnTo>
                          <a:lnTo>
                            <a:pt x="7641" y="3283"/>
                          </a:lnTo>
                          <a:lnTo>
                            <a:pt x="7705" y="3231"/>
                          </a:lnTo>
                          <a:lnTo>
                            <a:pt x="7772" y="3176"/>
                          </a:lnTo>
                          <a:lnTo>
                            <a:pt x="7835" y="3120"/>
                          </a:lnTo>
                          <a:lnTo>
                            <a:pt x="7903" y="3065"/>
                          </a:lnTo>
                          <a:lnTo>
                            <a:pt x="7966" y="3013"/>
                          </a:lnTo>
                          <a:lnTo>
                            <a:pt x="8033" y="2958"/>
                          </a:lnTo>
                          <a:lnTo>
                            <a:pt x="8105" y="2910"/>
                          </a:lnTo>
                          <a:lnTo>
                            <a:pt x="8168" y="2849"/>
                          </a:lnTo>
                          <a:lnTo>
                            <a:pt x="8235" y="2797"/>
                          </a:lnTo>
                          <a:lnTo>
                            <a:pt x="8298" y="2745"/>
                          </a:lnTo>
                          <a:lnTo>
                            <a:pt x="8362" y="2693"/>
                          </a:lnTo>
                          <a:lnTo>
                            <a:pt x="8429" y="2637"/>
                          </a:lnTo>
                          <a:lnTo>
                            <a:pt x="8492" y="2583"/>
                          </a:lnTo>
                          <a:lnTo>
                            <a:pt x="8552" y="2528"/>
                          </a:lnTo>
                          <a:lnTo>
                            <a:pt x="8616" y="2479"/>
                          </a:lnTo>
                          <a:lnTo>
                            <a:pt x="8684" y="2427"/>
                          </a:lnTo>
                          <a:lnTo>
                            <a:pt x="8754" y="2372"/>
                          </a:lnTo>
                          <a:lnTo>
                            <a:pt x="8814" y="2317"/>
                          </a:lnTo>
                          <a:lnTo>
                            <a:pt x="8874" y="2261"/>
                          </a:lnTo>
                          <a:lnTo>
                            <a:pt x="8941" y="2210"/>
                          </a:lnTo>
                          <a:lnTo>
                            <a:pt x="9004" y="2155"/>
                          </a:lnTo>
                          <a:lnTo>
                            <a:pt x="9072" y="2100"/>
                          </a:lnTo>
                          <a:lnTo>
                            <a:pt x="9136" y="2042"/>
                          </a:lnTo>
                          <a:lnTo>
                            <a:pt x="9199" y="1987"/>
                          </a:lnTo>
                          <a:lnTo>
                            <a:pt x="9260" y="1925"/>
                          </a:lnTo>
                          <a:lnTo>
                            <a:pt x="9326" y="1873"/>
                          </a:lnTo>
                          <a:lnTo>
                            <a:pt x="9390" y="1812"/>
                          </a:lnTo>
                          <a:lnTo>
                            <a:pt x="9453" y="1757"/>
                          </a:lnTo>
                          <a:lnTo>
                            <a:pt x="9521" y="1699"/>
                          </a:lnTo>
                          <a:lnTo>
                            <a:pt x="9580" y="1639"/>
                          </a:lnTo>
                          <a:lnTo>
                            <a:pt x="9645" y="1578"/>
                          </a:lnTo>
                          <a:lnTo>
                            <a:pt x="9708" y="1520"/>
                          </a:lnTo>
                          <a:lnTo>
                            <a:pt x="9775" y="1459"/>
                          </a:lnTo>
                          <a:lnTo>
                            <a:pt x="9835" y="1400"/>
                          </a:lnTo>
                          <a:lnTo>
                            <a:pt x="9892" y="1338"/>
                          </a:lnTo>
                          <a:lnTo>
                            <a:pt x="9959" y="1274"/>
                          </a:lnTo>
                          <a:lnTo>
                            <a:pt x="10019" y="1216"/>
                          </a:lnTo>
                          <a:lnTo>
                            <a:pt x="10083" y="1138"/>
                          </a:lnTo>
                          <a:lnTo>
                            <a:pt x="10125" y="1057"/>
                          </a:lnTo>
                          <a:lnTo>
                            <a:pt x="10153" y="975"/>
                          </a:lnTo>
                          <a:lnTo>
                            <a:pt x="10171" y="885"/>
                          </a:lnTo>
                          <a:lnTo>
                            <a:pt x="10171" y="798"/>
                          </a:lnTo>
                          <a:lnTo>
                            <a:pt x="10153" y="704"/>
                          </a:lnTo>
                          <a:lnTo>
                            <a:pt x="10118" y="619"/>
                          </a:lnTo>
                          <a:lnTo>
                            <a:pt x="10071" y="535"/>
                          </a:lnTo>
                          <a:lnTo>
                            <a:pt x="10011" y="467"/>
                          </a:lnTo>
                          <a:lnTo>
                            <a:pt x="9934" y="406"/>
                          </a:lnTo>
                          <a:lnTo>
                            <a:pt x="9856" y="356"/>
                          </a:lnTo>
                          <a:lnTo>
                            <a:pt x="9769" y="325"/>
                          </a:lnTo>
                          <a:lnTo>
                            <a:pt x="9669" y="298"/>
                          </a:lnTo>
                          <a:lnTo>
                            <a:pt x="9567" y="292"/>
                          </a:lnTo>
                          <a:lnTo>
                            <a:pt x="9435" y="298"/>
                          </a:lnTo>
                          <a:lnTo>
                            <a:pt x="9320" y="318"/>
                          </a:lnTo>
                          <a:lnTo>
                            <a:pt x="9217" y="353"/>
                          </a:lnTo>
                          <a:lnTo>
                            <a:pt x="9125" y="386"/>
                          </a:lnTo>
                          <a:lnTo>
                            <a:pt x="9033" y="422"/>
                          </a:lnTo>
                          <a:lnTo>
                            <a:pt x="8962" y="461"/>
                          </a:lnTo>
                          <a:lnTo>
                            <a:pt x="8906" y="499"/>
                          </a:lnTo>
                          <a:lnTo>
                            <a:pt x="8881" y="509"/>
                          </a:lnTo>
                          <a:lnTo>
                            <a:pt x="8864" y="519"/>
                          </a:lnTo>
                          <a:lnTo>
                            <a:pt x="8853" y="532"/>
                          </a:lnTo>
                          <a:lnTo>
                            <a:pt x="8817" y="549"/>
                          </a:lnTo>
                          <a:lnTo>
                            <a:pt x="8783" y="564"/>
                          </a:lnTo>
                          <a:lnTo>
                            <a:pt x="8754" y="587"/>
                          </a:lnTo>
                          <a:lnTo>
                            <a:pt x="8673" y="646"/>
                          </a:lnTo>
                          <a:lnTo>
                            <a:pt x="8595" y="704"/>
                          </a:lnTo>
                          <a:lnTo>
                            <a:pt x="8518" y="759"/>
                          </a:lnTo>
                          <a:lnTo>
                            <a:pt x="8440" y="820"/>
                          </a:lnTo>
                          <a:lnTo>
                            <a:pt x="8369" y="872"/>
                          </a:lnTo>
                          <a:lnTo>
                            <a:pt x="8292" y="927"/>
                          </a:lnTo>
                          <a:lnTo>
                            <a:pt x="8220" y="983"/>
                          </a:lnTo>
                          <a:lnTo>
                            <a:pt x="8142" y="1047"/>
                          </a:lnTo>
                          <a:lnTo>
                            <a:pt x="8061" y="1105"/>
                          </a:lnTo>
                          <a:lnTo>
                            <a:pt x="7984" y="1166"/>
                          </a:lnTo>
                          <a:lnTo>
                            <a:pt x="7906" y="1222"/>
                          </a:lnTo>
                          <a:lnTo>
                            <a:pt x="7832" y="1280"/>
                          </a:lnTo>
                          <a:lnTo>
                            <a:pt x="7754" y="1335"/>
                          </a:lnTo>
                          <a:lnTo>
                            <a:pt x="7684" y="1384"/>
                          </a:lnTo>
                          <a:lnTo>
                            <a:pt x="7606" y="1439"/>
                          </a:lnTo>
                          <a:lnTo>
                            <a:pt x="7528" y="1487"/>
                          </a:lnTo>
                          <a:lnTo>
                            <a:pt x="7451" y="1536"/>
                          </a:lnTo>
                          <a:lnTo>
                            <a:pt x="7376" y="1578"/>
                          </a:lnTo>
                          <a:lnTo>
                            <a:pt x="7298" y="1624"/>
                          </a:lnTo>
                          <a:lnTo>
                            <a:pt x="7214" y="1666"/>
                          </a:lnTo>
                          <a:lnTo>
                            <a:pt x="7228" y="1659"/>
                          </a:lnTo>
                          <a:lnTo>
                            <a:pt x="7231" y="1656"/>
                          </a:lnTo>
                          <a:lnTo>
                            <a:pt x="7238" y="1656"/>
                          </a:lnTo>
                          <a:lnTo>
                            <a:pt x="7143" y="1705"/>
                          </a:lnTo>
                          <a:lnTo>
                            <a:pt x="7048" y="1757"/>
                          </a:lnTo>
                          <a:lnTo>
                            <a:pt x="6966" y="1812"/>
                          </a:lnTo>
                          <a:lnTo>
                            <a:pt x="6882" y="1873"/>
                          </a:lnTo>
                          <a:lnTo>
                            <a:pt x="6807" y="1932"/>
                          </a:lnTo>
                          <a:lnTo>
                            <a:pt x="6740" y="1993"/>
                          </a:lnTo>
                          <a:lnTo>
                            <a:pt x="6677" y="2051"/>
                          </a:lnTo>
                          <a:lnTo>
                            <a:pt x="6610" y="2116"/>
                          </a:lnTo>
                          <a:lnTo>
                            <a:pt x="6553" y="2172"/>
                          </a:lnTo>
                          <a:lnTo>
                            <a:pt x="6500" y="2230"/>
                          </a:lnTo>
                          <a:lnTo>
                            <a:pt x="6405" y="2327"/>
                          </a:lnTo>
                          <a:lnTo>
                            <a:pt x="6316" y="2415"/>
                          </a:lnTo>
                          <a:lnTo>
                            <a:pt x="6231" y="2485"/>
                          </a:lnTo>
                          <a:lnTo>
                            <a:pt x="6242" y="2476"/>
                          </a:lnTo>
                          <a:lnTo>
                            <a:pt x="6257" y="2463"/>
                          </a:lnTo>
                          <a:lnTo>
                            <a:pt x="6274" y="2460"/>
                          </a:lnTo>
                          <a:lnTo>
                            <a:pt x="6186" y="2512"/>
                          </a:lnTo>
                          <a:lnTo>
                            <a:pt x="6101" y="2560"/>
                          </a:lnTo>
                          <a:lnTo>
                            <a:pt x="6023" y="2615"/>
                          </a:lnTo>
                          <a:lnTo>
                            <a:pt x="5942" y="2670"/>
                          </a:lnTo>
                          <a:lnTo>
                            <a:pt x="5864" y="2725"/>
                          </a:lnTo>
                          <a:lnTo>
                            <a:pt x="5787" y="2777"/>
                          </a:lnTo>
                          <a:lnTo>
                            <a:pt x="5712" y="2832"/>
                          </a:lnTo>
                          <a:lnTo>
                            <a:pt x="5642" y="2888"/>
                          </a:lnTo>
                          <a:lnTo>
                            <a:pt x="5564" y="2943"/>
                          </a:lnTo>
                          <a:lnTo>
                            <a:pt x="5493" y="2998"/>
                          </a:lnTo>
                          <a:lnTo>
                            <a:pt x="5423" y="3049"/>
                          </a:lnTo>
                          <a:lnTo>
                            <a:pt x="5345" y="3104"/>
                          </a:lnTo>
                          <a:lnTo>
                            <a:pt x="5267" y="3162"/>
                          </a:lnTo>
                          <a:lnTo>
                            <a:pt x="5190" y="3218"/>
                          </a:lnTo>
                          <a:lnTo>
                            <a:pt x="5119" y="3273"/>
                          </a:lnTo>
                          <a:lnTo>
                            <a:pt x="5041" y="3328"/>
                          </a:lnTo>
                          <a:lnTo>
                            <a:pt x="4967" y="3380"/>
                          </a:lnTo>
                          <a:lnTo>
                            <a:pt x="4893" y="3432"/>
                          </a:lnTo>
                          <a:lnTo>
                            <a:pt x="4818" y="3483"/>
                          </a:lnTo>
                          <a:lnTo>
                            <a:pt x="4741" y="3532"/>
                          </a:lnTo>
                          <a:lnTo>
                            <a:pt x="4656" y="3580"/>
                          </a:lnTo>
                          <a:lnTo>
                            <a:pt x="4645" y="3587"/>
                          </a:lnTo>
                          <a:lnTo>
                            <a:pt x="4635" y="3601"/>
                          </a:lnTo>
                          <a:lnTo>
                            <a:pt x="4621" y="3604"/>
                          </a:lnTo>
                          <a:lnTo>
                            <a:pt x="4549" y="3652"/>
                          </a:lnTo>
                          <a:lnTo>
                            <a:pt x="4479" y="3701"/>
                          </a:lnTo>
                          <a:lnTo>
                            <a:pt x="4416" y="3749"/>
                          </a:lnTo>
                          <a:lnTo>
                            <a:pt x="4345" y="3801"/>
                          </a:lnTo>
                          <a:lnTo>
                            <a:pt x="4271" y="3850"/>
                          </a:lnTo>
                          <a:lnTo>
                            <a:pt x="4200" y="3898"/>
                          </a:lnTo>
                          <a:lnTo>
                            <a:pt x="4130" y="3941"/>
                          </a:lnTo>
                          <a:lnTo>
                            <a:pt x="4066" y="3989"/>
                          </a:lnTo>
                          <a:lnTo>
                            <a:pt x="3995" y="4035"/>
                          </a:lnTo>
                          <a:lnTo>
                            <a:pt x="3925" y="4083"/>
                          </a:lnTo>
                          <a:lnTo>
                            <a:pt x="3850" y="4125"/>
                          </a:lnTo>
                          <a:lnTo>
                            <a:pt x="3787" y="4167"/>
                          </a:lnTo>
                          <a:lnTo>
                            <a:pt x="3716" y="4219"/>
                          </a:lnTo>
                          <a:lnTo>
                            <a:pt x="3645" y="4261"/>
                          </a:lnTo>
                          <a:lnTo>
                            <a:pt x="3575" y="4303"/>
                          </a:lnTo>
                          <a:lnTo>
                            <a:pt x="3504" y="4351"/>
                          </a:lnTo>
                          <a:lnTo>
                            <a:pt x="3437" y="4397"/>
                          </a:lnTo>
                          <a:lnTo>
                            <a:pt x="3359" y="4439"/>
                          </a:lnTo>
                          <a:lnTo>
                            <a:pt x="3289" y="4484"/>
                          </a:lnTo>
                          <a:lnTo>
                            <a:pt x="3219" y="4527"/>
                          </a:lnTo>
                          <a:lnTo>
                            <a:pt x="3147" y="4575"/>
                          </a:lnTo>
                          <a:lnTo>
                            <a:pt x="3077" y="4621"/>
                          </a:lnTo>
                          <a:lnTo>
                            <a:pt x="2999" y="4663"/>
                          </a:lnTo>
                          <a:lnTo>
                            <a:pt x="2928" y="4712"/>
                          </a:lnTo>
                          <a:lnTo>
                            <a:pt x="2851" y="4754"/>
                          </a:lnTo>
                          <a:lnTo>
                            <a:pt x="2776" y="4799"/>
                          </a:lnTo>
                          <a:lnTo>
                            <a:pt x="2702" y="4848"/>
                          </a:lnTo>
                          <a:lnTo>
                            <a:pt x="2628" y="4890"/>
                          </a:lnTo>
                          <a:lnTo>
                            <a:pt x="2550" y="4939"/>
                          </a:lnTo>
                          <a:lnTo>
                            <a:pt x="2466" y="4984"/>
                          </a:lnTo>
                          <a:lnTo>
                            <a:pt x="2391" y="5029"/>
                          </a:lnTo>
                          <a:lnTo>
                            <a:pt x="2313" y="5071"/>
                          </a:lnTo>
                          <a:lnTo>
                            <a:pt x="2228" y="5119"/>
                          </a:lnTo>
                          <a:lnTo>
                            <a:pt x="2147" y="5168"/>
                          </a:lnTo>
                          <a:lnTo>
                            <a:pt x="2062" y="5221"/>
                          </a:lnTo>
                          <a:lnTo>
                            <a:pt x="1981" y="5262"/>
                          </a:lnTo>
                          <a:lnTo>
                            <a:pt x="1886" y="5304"/>
                          </a:lnTo>
                          <a:lnTo>
                            <a:pt x="1797" y="5349"/>
                          </a:lnTo>
                          <a:lnTo>
                            <a:pt x="1703" y="5392"/>
                          </a:lnTo>
                          <a:lnTo>
                            <a:pt x="1607" y="5431"/>
                          </a:lnTo>
                          <a:lnTo>
                            <a:pt x="1519" y="5470"/>
                          </a:lnTo>
                          <a:lnTo>
                            <a:pt x="1438" y="5501"/>
                          </a:lnTo>
                          <a:lnTo>
                            <a:pt x="1349" y="5537"/>
                          </a:lnTo>
                          <a:lnTo>
                            <a:pt x="1261" y="5583"/>
                          </a:lnTo>
                          <a:lnTo>
                            <a:pt x="1176" y="5625"/>
                          </a:lnTo>
                          <a:lnTo>
                            <a:pt x="1088" y="5670"/>
                          </a:lnTo>
                          <a:lnTo>
                            <a:pt x="999" y="5719"/>
                          </a:lnTo>
                          <a:lnTo>
                            <a:pt x="914" y="5768"/>
                          </a:lnTo>
                          <a:lnTo>
                            <a:pt x="880" y="5787"/>
                          </a:lnTo>
                          <a:lnTo>
                            <a:pt x="851" y="5810"/>
                          </a:lnTo>
                          <a:lnTo>
                            <a:pt x="823" y="5839"/>
                          </a:lnTo>
                          <a:lnTo>
                            <a:pt x="730" y="5913"/>
                          </a:lnTo>
                          <a:lnTo>
                            <a:pt x="660" y="5968"/>
                          </a:lnTo>
                          <a:lnTo>
                            <a:pt x="603" y="6001"/>
                          </a:lnTo>
                          <a:lnTo>
                            <a:pt x="696" y="5978"/>
                          </a:lnTo>
                          <a:lnTo>
                            <a:pt x="791" y="5971"/>
                          </a:lnTo>
                          <a:lnTo>
                            <a:pt x="886" y="5978"/>
                          </a:lnTo>
                          <a:lnTo>
                            <a:pt x="982" y="6001"/>
                          </a:lnTo>
                          <a:lnTo>
                            <a:pt x="1063" y="6026"/>
                          </a:lnTo>
                          <a:lnTo>
                            <a:pt x="1148" y="6076"/>
                          </a:lnTo>
                          <a:lnTo>
                            <a:pt x="1218" y="6131"/>
                          </a:lnTo>
                          <a:lnTo>
                            <a:pt x="1282" y="6202"/>
                          </a:lnTo>
                          <a:lnTo>
                            <a:pt x="1332" y="6273"/>
                          </a:lnTo>
                          <a:lnTo>
                            <a:pt x="1371" y="6354"/>
                          </a:lnTo>
                          <a:lnTo>
                            <a:pt x="1388" y="6441"/>
                          </a:lnTo>
                          <a:lnTo>
                            <a:pt x="1395" y="6526"/>
                          </a:lnTo>
                          <a:lnTo>
                            <a:pt x="1388" y="6613"/>
                          </a:lnTo>
                          <a:lnTo>
                            <a:pt x="1366" y="6701"/>
                          </a:lnTo>
                          <a:lnTo>
                            <a:pt x="1335" y="6759"/>
                          </a:lnTo>
                          <a:lnTo>
                            <a:pt x="1306" y="6792"/>
                          </a:lnTo>
                          <a:lnTo>
                            <a:pt x="1296" y="6808"/>
                          </a:lnTo>
                          <a:lnTo>
                            <a:pt x="1314" y="6792"/>
                          </a:lnTo>
                          <a:lnTo>
                            <a:pt x="1349" y="6775"/>
                          </a:lnTo>
                          <a:lnTo>
                            <a:pt x="1378" y="6759"/>
                          </a:lnTo>
                          <a:lnTo>
                            <a:pt x="1473" y="6707"/>
                          </a:lnTo>
                          <a:lnTo>
                            <a:pt x="1571" y="6642"/>
                          </a:lnTo>
                          <a:lnTo>
                            <a:pt x="1674" y="6559"/>
                          </a:lnTo>
                          <a:lnTo>
                            <a:pt x="1660" y="6571"/>
                          </a:lnTo>
                          <a:lnTo>
                            <a:pt x="1649" y="6574"/>
                          </a:lnTo>
                          <a:lnTo>
                            <a:pt x="1643" y="6587"/>
                          </a:lnTo>
                          <a:lnTo>
                            <a:pt x="1709" y="6532"/>
                          </a:lnTo>
                          <a:lnTo>
                            <a:pt x="1780" y="6477"/>
                          </a:lnTo>
                          <a:lnTo>
                            <a:pt x="1844" y="6426"/>
                          </a:lnTo>
                          <a:lnTo>
                            <a:pt x="1911" y="6371"/>
                          </a:lnTo>
                          <a:lnTo>
                            <a:pt x="1981" y="6316"/>
                          </a:lnTo>
                          <a:lnTo>
                            <a:pt x="2045" y="6260"/>
                          </a:lnTo>
                          <a:lnTo>
                            <a:pt x="2113" y="6205"/>
                          </a:lnTo>
                          <a:lnTo>
                            <a:pt x="2176" y="6153"/>
                          </a:lnTo>
                          <a:lnTo>
                            <a:pt x="2243" y="6098"/>
                          </a:lnTo>
                          <a:lnTo>
                            <a:pt x="2306" y="6043"/>
                          </a:lnTo>
                          <a:lnTo>
                            <a:pt x="2373" y="5985"/>
                          </a:lnTo>
                          <a:lnTo>
                            <a:pt x="2437" y="5929"/>
                          </a:lnTo>
                          <a:lnTo>
                            <a:pt x="2501" y="5874"/>
                          </a:lnTo>
                          <a:lnTo>
                            <a:pt x="2568" y="5823"/>
                          </a:lnTo>
                          <a:lnTo>
                            <a:pt x="2628" y="5768"/>
                          </a:lnTo>
                          <a:lnTo>
                            <a:pt x="2692" y="5713"/>
                          </a:lnTo>
                          <a:lnTo>
                            <a:pt x="2755" y="5658"/>
                          </a:lnTo>
                          <a:lnTo>
                            <a:pt x="2815" y="5603"/>
                          </a:lnTo>
                          <a:lnTo>
                            <a:pt x="2882" y="5550"/>
                          </a:lnTo>
                          <a:lnTo>
                            <a:pt x="2946" y="5501"/>
                          </a:lnTo>
                          <a:lnTo>
                            <a:pt x="3006" y="5447"/>
                          </a:lnTo>
                          <a:lnTo>
                            <a:pt x="3069" y="5392"/>
                          </a:lnTo>
                          <a:lnTo>
                            <a:pt x="3129" y="5337"/>
                          </a:lnTo>
                          <a:lnTo>
                            <a:pt x="3193" y="5285"/>
                          </a:lnTo>
                          <a:lnTo>
                            <a:pt x="3253" y="5230"/>
                          </a:lnTo>
                          <a:lnTo>
                            <a:pt x="3321" y="5175"/>
                          </a:lnTo>
                          <a:lnTo>
                            <a:pt x="3377" y="5119"/>
                          </a:lnTo>
                          <a:lnTo>
                            <a:pt x="3437" y="5067"/>
                          </a:lnTo>
                          <a:lnTo>
                            <a:pt x="3497" y="5013"/>
                          </a:lnTo>
                          <a:lnTo>
                            <a:pt x="3560" y="4961"/>
                          </a:lnTo>
                          <a:lnTo>
                            <a:pt x="3621" y="4912"/>
                          </a:lnTo>
                          <a:lnTo>
                            <a:pt x="3687" y="4857"/>
                          </a:lnTo>
                          <a:lnTo>
                            <a:pt x="3744" y="4802"/>
                          </a:lnTo>
                          <a:lnTo>
                            <a:pt x="3811" y="4751"/>
                          </a:lnTo>
                          <a:lnTo>
                            <a:pt x="3871" y="4696"/>
                          </a:lnTo>
                          <a:lnTo>
                            <a:pt x="3928" y="4640"/>
                          </a:lnTo>
                          <a:lnTo>
                            <a:pt x="3995" y="4585"/>
                          </a:lnTo>
                          <a:lnTo>
                            <a:pt x="4052" y="4533"/>
                          </a:lnTo>
                          <a:lnTo>
                            <a:pt x="4112" y="4478"/>
                          </a:lnTo>
                          <a:lnTo>
                            <a:pt x="4179" y="4430"/>
                          </a:lnTo>
                          <a:lnTo>
                            <a:pt x="4235" y="4375"/>
                          </a:lnTo>
                          <a:lnTo>
                            <a:pt x="4302" y="4320"/>
                          </a:lnTo>
                          <a:lnTo>
                            <a:pt x="4362" y="4268"/>
                          </a:lnTo>
                          <a:lnTo>
                            <a:pt x="4419" y="4219"/>
                          </a:lnTo>
                          <a:lnTo>
                            <a:pt x="4479" y="4163"/>
                          </a:lnTo>
                          <a:lnTo>
                            <a:pt x="4546" y="4115"/>
                          </a:lnTo>
                          <a:lnTo>
                            <a:pt x="4603" y="4060"/>
                          </a:lnTo>
                          <a:lnTo>
                            <a:pt x="4670" y="4005"/>
                          </a:lnTo>
                          <a:lnTo>
                            <a:pt x="4730" y="3950"/>
                          </a:lnTo>
                          <a:lnTo>
                            <a:pt x="4793" y="3902"/>
                          </a:lnTo>
                          <a:lnTo>
                            <a:pt x="4854" y="3850"/>
                          </a:lnTo>
                          <a:lnTo>
                            <a:pt x="4910" y="3801"/>
                          </a:lnTo>
                          <a:lnTo>
                            <a:pt x="4977" y="3749"/>
                          </a:lnTo>
                          <a:lnTo>
                            <a:pt x="5041" y="3698"/>
                          </a:lnTo>
                          <a:lnTo>
                            <a:pt x="5101" y="3649"/>
                          </a:lnTo>
                          <a:lnTo>
                            <a:pt x="5169" y="3593"/>
                          </a:lnTo>
                          <a:lnTo>
                            <a:pt x="5232" y="3545"/>
                          </a:lnTo>
                          <a:lnTo>
                            <a:pt x="5292" y="3490"/>
                          </a:lnTo>
                          <a:lnTo>
                            <a:pt x="5356" y="3441"/>
                          </a:lnTo>
                          <a:lnTo>
                            <a:pt x="5423" y="3393"/>
                          </a:lnTo>
                          <a:lnTo>
                            <a:pt x="5486" y="3338"/>
                          </a:lnTo>
                          <a:lnTo>
                            <a:pt x="5546" y="3289"/>
                          </a:lnTo>
                          <a:lnTo>
                            <a:pt x="5610" y="3240"/>
                          </a:lnTo>
                          <a:lnTo>
                            <a:pt x="5677" y="3192"/>
                          </a:lnTo>
                          <a:lnTo>
                            <a:pt x="5740" y="3143"/>
                          </a:lnTo>
                          <a:lnTo>
                            <a:pt x="5804" y="3088"/>
                          </a:lnTo>
                          <a:lnTo>
                            <a:pt x="5871" y="3040"/>
                          </a:lnTo>
                          <a:lnTo>
                            <a:pt x="5935" y="2991"/>
                          </a:lnTo>
                          <a:lnTo>
                            <a:pt x="6005" y="2943"/>
                          </a:lnTo>
                          <a:lnTo>
                            <a:pt x="6073" y="2894"/>
                          </a:lnTo>
                          <a:lnTo>
                            <a:pt x="6137" y="2845"/>
                          </a:lnTo>
                          <a:lnTo>
                            <a:pt x="6207" y="2797"/>
                          </a:lnTo>
                          <a:lnTo>
                            <a:pt x="6274" y="2745"/>
                          </a:lnTo>
                          <a:lnTo>
                            <a:pt x="6345" y="2697"/>
                          </a:lnTo>
                          <a:lnTo>
                            <a:pt x="6408" y="2654"/>
                          </a:lnTo>
                          <a:lnTo>
                            <a:pt x="6483" y="2606"/>
                          </a:lnTo>
                          <a:lnTo>
                            <a:pt x="6553" y="2557"/>
                          </a:lnTo>
                          <a:lnTo>
                            <a:pt x="6623" y="2509"/>
                          </a:lnTo>
                          <a:lnTo>
                            <a:pt x="6695" y="2460"/>
                          </a:lnTo>
                          <a:lnTo>
                            <a:pt x="6765" y="2415"/>
                          </a:lnTo>
                          <a:lnTo>
                            <a:pt x="6836" y="2366"/>
                          </a:lnTo>
                          <a:lnTo>
                            <a:pt x="6906" y="2317"/>
                          </a:lnTo>
                          <a:lnTo>
                            <a:pt x="6977" y="2275"/>
                          </a:lnTo>
                          <a:lnTo>
                            <a:pt x="7054" y="2227"/>
                          </a:lnTo>
                          <a:lnTo>
                            <a:pt x="7126" y="2178"/>
                          </a:lnTo>
                          <a:lnTo>
                            <a:pt x="7204" y="2133"/>
                          </a:lnTo>
                          <a:lnTo>
                            <a:pt x="7231" y="2109"/>
                          </a:lnTo>
                          <a:lnTo>
                            <a:pt x="7264" y="2090"/>
                          </a:lnTo>
                          <a:lnTo>
                            <a:pt x="7292" y="2061"/>
                          </a:lnTo>
                          <a:lnTo>
                            <a:pt x="7677" y="1708"/>
                          </a:lnTo>
                          <a:lnTo>
                            <a:pt x="7871" y="1530"/>
                          </a:lnTo>
                          <a:lnTo>
                            <a:pt x="7801" y="1585"/>
                          </a:lnTo>
                          <a:lnTo>
                            <a:pt x="7729" y="1627"/>
                          </a:lnTo>
                          <a:lnTo>
                            <a:pt x="7651" y="1659"/>
                          </a:lnTo>
                          <a:lnTo>
                            <a:pt x="7571" y="1682"/>
                          </a:lnTo>
                          <a:lnTo>
                            <a:pt x="7485" y="1691"/>
                          </a:lnTo>
                          <a:lnTo>
                            <a:pt x="7404" y="1691"/>
                          </a:lnTo>
                          <a:lnTo>
                            <a:pt x="7319" y="1682"/>
                          </a:lnTo>
                          <a:lnTo>
                            <a:pt x="7238" y="1659"/>
                          </a:lnTo>
                          <a:lnTo>
                            <a:pt x="7161" y="1627"/>
                          </a:lnTo>
                          <a:lnTo>
                            <a:pt x="7083" y="1585"/>
                          </a:lnTo>
                          <a:lnTo>
                            <a:pt x="7020" y="1530"/>
                          </a:lnTo>
                          <a:lnTo>
                            <a:pt x="6960" y="1472"/>
                          </a:lnTo>
                          <a:lnTo>
                            <a:pt x="6914" y="1400"/>
                          </a:lnTo>
                          <a:lnTo>
                            <a:pt x="6878" y="1329"/>
                          </a:lnTo>
                          <a:lnTo>
                            <a:pt x="6854" y="1257"/>
                          </a:lnTo>
                          <a:lnTo>
                            <a:pt x="6843" y="1177"/>
                          </a:lnTo>
                          <a:lnTo>
                            <a:pt x="6843" y="1102"/>
                          </a:lnTo>
                          <a:lnTo>
                            <a:pt x="6854" y="1025"/>
                          </a:lnTo>
                          <a:lnTo>
                            <a:pt x="6878" y="950"/>
                          </a:lnTo>
                          <a:lnTo>
                            <a:pt x="6914" y="878"/>
                          </a:lnTo>
                          <a:lnTo>
                            <a:pt x="6960" y="814"/>
                          </a:lnTo>
                          <a:lnTo>
                            <a:pt x="7020" y="749"/>
                          </a:lnTo>
                          <a:lnTo>
                            <a:pt x="6888" y="869"/>
                          </a:lnTo>
                          <a:lnTo>
                            <a:pt x="6984" y="807"/>
                          </a:lnTo>
                          <a:lnTo>
                            <a:pt x="7072" y="775"/>
                          </a:lnTo>
                          <a:lnTo>
                            <a:pt x="7140" y="765"/>
                          </a:lnTo>
                          <a:lnTo>
                            <a:pt x="7132" y="765"/>
                          </a:lnTo>
                          <a:lnTo>
                            <a:pt x="7126" y="765"/>
                          </a:lnTo>
                          <a:lnTo>
                            <a:pt x="7122" y="765"/>
                          </a:lnTo>
                          <a:lnTo>
                            <a:pt x="7030" y="775"/>
                          </a:lnTo>
                          <a:lnTo>
                            <a:pt x="6938" y="791"/>
                          </a:lnTo>
                          <a:lnTo>
                            <a:pt x="6854" y="823"/>
                          </a:lnTo>
                          <a:lnTo>
                            <a:pt x="6765" y="869"/>
                          </a:lnTo>
                          <a:lnTo>
                            <a:pt x="6688" y="911"/>
                          </a:lnTo>
                          <a:lnTo>
                            <a:pt x="6628" y="950"/>
                          </a:lnTo>
                          <a:lnTo>
                            <a:pt x="6589" y="972"/>
                          </a:lnTo>
                          <a:lnTo>
                            <a:pt x="6556" y="989"/>
                          </a:lnTo>
                          <a:lnTo>
                            <a:pt x="6529" y="1005"/>
                          </a:lnTo>
                          <a:lnTo>
                            <a:pt x="6483" y="1025"/>
                          </a:lnTo>
                          <a:lnTo>
                            <a:pt x="6440" y="1053"/>
                          </a:lnTo>
                          <a:lnTo>
                            <a:pt x="6397" y="1086"/>
                          </a:lnTo>
                          <a:lnTo>
                            <a:pt x="6334" y="1138"/>
                          </a:lnTo>
                          <a:lnTo>
                            <a:pt x="6264" y="1193"/>
                          </a:lnTo>
                          <a:lnTo>
                            <a:pt x="6197" y="1248"/>
                          </a:lnTo>
                          <a:lnTo>
                            <a:pt x="6132" y="1303"/>
                          </a:lnTo>
                          <a:lnTo>
                            <a:pt x="6065" y="1351"/>
                          </a:lnTo>
                          <a:lnTo>
                            <a:pt x="6002" y="1407"/>
                          </a:lnTo>
                          <a:lnTo>
                            <a:pt x="5935" y="1456"/>
                          </a:lnTo>
                          <a:lnTo>
                            <a:pt x="5871" y="1504"/>
                          </a:lnTo>
                          <a:lnTo>
                            <a:pt x="5804" y="1556"/>
                          </a:lnTo>
                          <a:lnTo>
                            <a:pt x="5740" y="1608"/>
                          </a:lnTo>
                          <a:lnTo>
                            <a:pt x="5677" y="1656"/>
                          </a:lnTo>
                          <a:lnTo>
                            <a:pt x="5610" y="1705"/>
                          </a:lnTo>
                          <a:lnTo>
                            <a:pt x="5546" y="1753"/>
                          </a:lnTo>
                          <a:lnTo>
                            <a:pt x="5486" y="1802"/>
                          </a:lnTo>
                          <a:lnTo>
                            <a:pt x="5423" y="1844"/>
                          </a:lnTo>
                          <a:lnTo>
                            <a:pt x="5356" y="1893"/>
                          </a:lnTo>
                          <a:lnTo>
                            <a:pt x="5292" y="1941"/>
                          </a:lnTo>
                          <a:lnTo>
                            <a:pt x="5224" y="1993"/>
                          </a:lnTo>
                          <a:lnTo>
                            <a:pt x="5161" y="2035"/>
                          </a:lnTo>
                          <a:lnTo>
                            <a:pt x="5094" y="2078"/>
                          </a:lnTo>
                          <a:lnTo>
                            <a:pt x="5031" y="2126"/>
                          </a:lnTo>
                          <a:lnTo>
                            <a:pt x="4967" y="2172"/>
                          </a:lnTo>
                          <a:lnTo>
                            <a:pt x="4899" y="2213"/>
                          </a:lnTo>
                          <a:lnTo>
                            <a:pt x="4836" y="2258"/>
                          </a:lnTo>
                          <a:lnTo>
                            <a:pt x="4769" y="2301"/>
                          </a:lnTo>
                          <a:lnTo>
                            <a:pt x="4705" y="2343"/>
                          </a:lnTo>
                          <a:lnTo>
                            <a:pt x="4639" y="2388"/>
                          </a:lnTo>
                          <a:lnTo>
                            <a:pt x="4575" y="2430"/>
                          </a:lnTo>
                          <a:lnTo>
                            <a:pt x="4507" y="2476"/>
                          </a:lnTo>
                          <a:lnTo>
                            <a:pt x="4444" y="2512"/>
                          </a:lnTo>
                          <a:lnTo>
                            <a:pt x="4373" y="2557"/>
                          </a:lnTo>
                          <a:lnTo>
                            <a:pt x="4310" y="2599"/>
                          </a:lnTo>
                          <a:lnTo>
                            <a:pt x="4242" y="2637"/>
                          </a:lnTo>
                          <a:lnTo>
                            <a:pt x="4172" y="2680"/>
                          </a:lnTo>
                          <a:lnTo>
                            <a:pt x="4108" y="2719"/>
                          </a:lnTo>
                          <a:lnTo>
                            <a:pt x="4042" y="2761"/>
                          </a:lnTo>
                          <a:lnTo>
                            <a:pt x="3970" y="2800"/>
                          </a:lnTo>
                          <a:lnTo>
                            <a:pt x="3907" y="2839"/>
                          </a:lnTo>
                          <a:lnTo>
                            <a:pt x="3832" y="2880"/>
                          </a:lnTo>
                          <a:lnTo>
                            <a:pt x="3769" y="2919"/>
                          </a:lnTo>
                          <a:lnTo>
                            <a:pt x="3699" y="2958"/>
                          </a:lnTo>
                          <a:lnTo>
                            <a:pt x="3627" y="2998"/>
                          </a:lnTo>
                          <a:lnTo>
                            <a:pt x="3557" y="3033"/>
                          </a:lnTo>
                          <a:lnTo>
                            <a:pt x="3490" y="3071"/>
                          </a:lnTo>
                          <a:lnTo>
                            <a:pt x="3419" y="3111"/>
                          </a:lnTo>
                          <a:lnTo>
                            <a:pt x="3349" y="3146"/>
                          </a:lnTo>
                          <a:lnTo>
                            <a:pt x="3278" y="3186"/>
                          </a:lnTo>
                          <a:lnTo>
                            <a:pt x="3207" y="3225"/>
                          </a:lnTo>
                          <a:lnTo>
                            <a:pt x="3137" y="3263"/>
                          </a:lnTo>
                          <a:lnTo>
                            <a:pt x="3066" y="3299"/>
                          </a:lnTo>
                          <a:lnTo>
                            <a:pt x="2988" y="3331"/>
                          </a:lnTo>
                          <a:lnTo>
                            <a:pt x="2918" y="3370"/>
                          </a:lnTo>
                          <a:lnTo>
                            <a:pt x="2840" y="3409"/>
                          </a:lnTo>
                          <a:lnTo>
                            <a:pt x="2770" y="3447"/>
                          </a:lnTo>
                          <a:lnTo>
                            <a:pt x="2692" y="3480"/>
                          </a:lnTo>
                          <a:lnTo>
                            <a:pt x="2614" y="3516"/>
                          </a:lnTo>
                          <a:lnTo>
                            <a:pt x="2544" y="3555"/>
                          </a:lnTo>
                          <a:lnTo>
                            <a:pt x="2466" y="3587"/>
                          </a:lnTo>
                          <a:lnTo>
                            <a:pt x="2391" y="3626"/>
                          </a:lnTo>
                          <a:lnTo>
                            <a:pt x="2313" y="3659"/>
                          </a:lnTo>
                          <a:lnTo>
                            <a:pt x="2236" y="3698"/>
                          </a:lnTo>
                          <a:lnTo>
                            <a:pt x="2155" y="3729"/>
                          </a:lnTo>
                          <a:lnTo>
                            <a:pt x="2077" y="3765"/>
                          </a:lnTo>
                          <a:lnTo>
                            <a:pt x="1999" y="3801"/>
                          </a:lnTo>
                          <a:lnTo>
                            <a:pt x="1918" y="3837"/>
                          </a:lnTo>
                          <a:lnTo>
                            <a:pt x="1833" y="3869"/>
                          </a:lnTo>
                          <a:lnTo>
                            <a:pt x="1752" y="3908"/>
                          </a:lnTo>
                          <a:lnTo>
                            <a:pt x="1674" y="3941"/>
                          </a:lnTo>
                          <a:lnTo>
                            <a:pt x="1589" y="3980"/>
                          </a:lnTo>
                          <a:lnTo>
                            <a:pt x="1508" y="4011"/>
                          </a:lnTo>
                          <a:lnTo>
                            <a:pt x="1420" y="4044"/>
                          </a:lnTo>
                          <a:lnTo>
                            <a:pt x="1335" y="4083"/>
                          </a:lnTo>
                          <a:lnTo>
                            <a:pt x="1246" y="4115"/>
                          </a:lnTo>
                          <a:lnTo>
                            <a:pt x="1166" y="4151"/>
                          </a:lnTo>
                          <a:lnTo>
                            <a:pt x="1077" y="4183"/>
                          </a:lnTo>
                          <a:lnTo>
                            <a:pt x="985" y="4223"/>
                          </a:lnTo>
                          <a:lnTo>
                            <a:pt x="896" y="4254"/>
                          </a:lnTo>
                          <a:lnTo>
                            <a:pt x="808" y="4293"/>
                          </a:lnTo>
                          <a:lnTo>
                            <a:pt x="720" y="4326"/>
                          </a:lnTo>
                          <a:lnTo>
                            <a:pt x="625" y="4358"/>
                          </a:lnTo>
                          <a:lnTo>
                            <a:pt x="714" y="4336"/>
                          </a:lnTo>
                          <a:lnTo>
                            <a:pt x="802" y="4320"/>
                          </a:lnTo>
                          <a:lnTo>
                            <a:pt x="886" y="4320"/>
                          </a:lnTo>
                          <a:lnTo>
                            <a:pt x="974" y="4332"/>
                          </a:lnTo>
                          <a:lnTo>
                            <a:pt x="1059" y="4348"/>
                          </a:lnTo>
                          <a:lnTo>
                            <a:pt x="1140" y="4381"/>
                          </a:lnTo>
                          <a:lnTo>
                            <a:pt x="1212" y="4423"/>
                          </a:lnTo>
                          <a:lnTo>
                            <a:pt x="1282" y="4472"/>
                          </a:lnTo>
                          <a:lnTo>
                            <a:pt x="1342" y="4536"/>
                          </a:lnTo>
                          <a:lnTo>
                            <a:pt x="1388" y="4608"/>
                          </a:lnTo>
                          <a:lnTo>
                            <a:pt x="1423" y="4685"/>
                          </a:lnTo>
                          <a:lnTo>
                            <a:pt x="1448" y="4760"/>
                          </a:lnTo>
                          <a:lnTo>
                            <a:pt x="1459" y="4838"/>
                          </a:lnTo>
                          <a:lnTo>
                            <a:pt x="1459" y="4919"/>
                          </a:lnTo>
                          <a:lnTo>
                            <a:pt x="1448" y="5000"/>
                          </a:lnTo>
                          <a:lnTo>
                            <a:pt x="1420" y="5067"/>
                          </a:lnTo>
                          <a:lnTo>
                            <a:pt x="1384" y="5142"/>
                          </a:lnTo>
                          <a:lnTo>
                            <a:pt x="1332" y="5207"/>
                          </a:lnTo>
                          <a:lnTo>
                            <a:pt x="1405" y="5116"/>
                          </a:lnTo>
                          <a:lnTo>
                            <a:pt x="1473" y="5029"/>
                          </a:lnTo>
                          <a:lnTo>
                            <a:pt x="1519" y="4951"/>
                          </a:lnTo>
                          <a:lnTo>
                            <a:pt x="1553" y="4873"/>
                          </a:lnTo>
                          <a:lnTo>
                            <a:pt x="1579" y="4809"/>
                          </a:lnTo>
                          <a:lnTo>
                            <a:pt x="1604" y="4751"/>
                          </a:lnTo>
                          <a:lnTo>
                            <a:pt x="1604" y="4737"/>
                          </a:lnTo>
                          <a:lnTo>
                            <a:pt x="1607" y="4734"/>
                          </a:lnTo>
                          <a:lnTo>
                            <a:pt x="1607" y="4727"/>
                          </a:lnTo>
                          <a:lnTo>
                            <a:pt x="1607" y="4734"/>
                          </a:lnTo>
                          <a:lnTo>
                            <a:pt x="1604" y="4737"/>
                          </a:lnTo>
                          <a:lnTo>
                            <a:pt x="1597" y="4744"/>
                          </a:lnTo>
                          <a:lnTo>
                            <a:pt x="1607" y="4737"/>
                          </a:lnTo>
                          <a:lnTo>
                            <a:pt x="1625" y="4712"/>
                          </a:lnTo>
                          <a:lnTo>
                            <a:pt x="1674" y="4669"/>
                          </a:lnTo>
                          <a:lnTo>
                            <a:pt x="1656" y="4685"/>
                          </a:lnTo>
                          <a:lnTo>
                            <a:pt x="1631" y="4702"/>
                          </a:lnTo>
                          <a:lnTo>
                            <a:pt x="1614" y="4718"/>
                          </a:lnTo>
                          <a:lnTo>
                            <a:pt x="1685" y="4663"/>
                          </a:lnTo>
                          <a:lnTo>
                            <a:pt x="1755" y="4614"/>
                          </a:lnTo>
                          <a:lnTo>
                            <a:pt x="1826" y="4566"/>
                          </a:lnTo>
                          <a:lnTo>
                            <a:pt x="1897" y="4511"/>
                          </a:lnTo>
                          <a:lnTo>
                            <a:pt x="1971" y="4456"/>
                          </a:lnTo>
                          <a:lnTo>
                            <a:pt x="2041" y="4406"/>
                          </a:lnTo>
                          <a:lnTo>
                            <a:pt x="2105" y="4351"/>
                          </a:lnTo>
                          <a:lnTo>
                            <a:pt x="2176" y="4300"/>
                          </a:lnTo>
                          <a:lnTo>
                            <a:pt x="2246" y="4251"/>
                          </a:lnTo>
                          <a:lnTo>
                            <a:pt x="2313" y="4196"/>
                          </a:lnTo>
                          <a:lnTo>
                            <a:pt x="2384" y="4141"/>
                          </a:lnTo>
                          <a:lnTo>
                            <a:pt x="2448" y="4086"/>
                          </a:lnTo>
                          <a:lnTo>
                            <a:pt x="2515" y="4035"/>
                          </a:lnTo>
                          <a:lnTo>
                            <a:pt x="2586" y="3983"/>
                          </a:lnTo>
                          <a:lnTo>
                            <a:pt x="2649" y="3930"/>
                          </a:lnTo>
                          <a:lnTo>
                            <a:pt x="2716" y="3875"/>
                          </a:lnTo>
                          <a:lnTo>
                            <a:pt x="2788" y="3820"/>
                          </a:lnTo>
                          <a:lnTo>
                            <a:pt x="2851" y="3765"/>
                          </a:lnTo>
                          <a:lnTo>
                            <a:pt x="2918" y="3717"/>
                          </a:lnTo>
                          <a:lnTo>
                            <a:pt x="2981" y="3665"/>
                          </a:lnTo>
                          <a:lnTo>
                            <a:pt x="3048" y="3610"/>
                          </a:lnTo>
                          <a:lnTo>
                            <a:pt x="3112" y="3555"/>
                          </a:lnTo>
                          <a:lnTo>
                            <a:pt x="3175" y="3499"/>
                          </a:lnTo>
                          <a:lnTo>
                            <a:pt x="3243" y="3447"/>
                          </a:lnTo>
                          <a:lnTo>
                            <a:pt x="3303" y="3399"/>
                          </a:lnTo>
                          <a:lnTo>
                            <a:pt x="3373" y="3338"/>
                          </a:lnTo>
                          <a:lnTo>
                            <a:pt x="3437" y="3283"/>
                          </a:lnTo>
                          <a:lnTo>
                            <a:pt x="3508" y="3231"/>
                          </a:lnTo>
                          <a:lnTo>
                            <a:pt x="3575" y="3176"/>
                          </a:lnTo>
                          <a:lnTo>
                            <a:pt x="3645" y="3120"/>
                          </a:lnTo>
                          <a:lnTo>
                            <a:pt x="3709" y="3065"/>
                          </a:lnTo>
                          <a:lnTo>
                            <a:pt x="3777" y="3013"/>
                          </a:lnTo>
                          <a:lnTo>
                            <a:pt x="3847" y="2958"/>
                          </a:lnTo>
                          <a:lnTo>
                            <a:pt x="3910" y="2904"/>
                          </a:lnTo>
                          <a:lnTo>
                            <a:pt x="3978" y="2849"/>
                          </a:lnTo>
                          <a:lnTo>
                            <a:pt x="4048" y="2797"/>
                          </a:lnTo>
                          <a:lnTo>
                            <a:pt x="4112" y="2742"/>
                          </a:lnTo>
                          <a:lnTo>
                            <a:pt x="4179" y="2686"/>
                          </a:lnTo>
                          <a:lnTo>
                            <a:pt x="4250" y="2637"/>
                          </a:lnTo>
                          <a:lnTo>
                            <a:pt x="4313" y="2583"/>
                          </a:lnTo>
                          <a:lnTo>
                            <a:pt x="4384" y="2528"/>
                          </a:lnTo>
                          <a:lnTo>
                            <a:pt x="4451" y="2479"/>
                          </a:lnTo>
                          <a:lnTo>
                            <a:pt x="4515" y="2430"/>
                          </a:lnTo>
                          <a:lnTo>
                            <a:pt x="4585" y="2379"/>
                          </a:lnTo>
                          <a:lnTo>
                            <a:pt x="4652" y="2327"/>
                          </a:lnTo>
                          <a:lnTo>
                            <a:pt x="4723" y="2278"/>
                          </a:lnTo>
                          <a:lnTo>
                            <a:pt x="4793" y="2227"/>
                          </a:lnTo>
                          <a:lnTo>
                            <a:pt x="4857" y="2178"/>
                          </a:lnTo>
                          <a:lnTo>
                            <a:pt x="4928" y="2126"/>
                          </a:lnTo>
                          <a:lnTo>
                            <a:pt x="4995" y="2078"/>
                          </a:lnTo>
                          <a:lnTo>
                            <a:pt x="5066" y="2029"/>
                          </a:lnTo>
                          <a:lnTo>
                            <a:pt x="5136" y="1987"/>
                          </a:lnTo>
                          <a:lnTo>
                            <a:pt x="5207" y="1938"/>
                          </a:lnTo>
                          <a:lnTo>
                            <a:pt x="5278" y="1890"/>
                          </a:lnTo>
                          <a:lnTo>
                            <a:pt x="5348" y="1844"/>
                          </a:lnTo>
                          <a:lnTo>
                            <a:pt x="5426" y="1796"/>
                          </a:lnTo>
                          <a:lnTo>
                            <a:pt x="5497" y="1753"/>
                          </a:lnTo>
                          <a:lnTo>
                            <a:pt x="5567" y="1708"/>
                          </a:lnTo>
                          <a:lnTo>
                            <a:pt x="5642" y="1666"/>
                          </a:lnTo>
                          <a:lnTo>
                            <a:pt x="5716" y="1611"/>
                          </a:lnTo>
                          <a:lnTo>
                            <a:pt x="5782" y="1553"/>
                          </a:lnTo>
                          <a:lnTo>
                            <a:pt x="5836" y="1481"/>
                          </a:lnTo>
                          <a:lnTo>
                            <a:pt x="5871" y="1410"/>
                          </a:lnTo>
                          <a:lnTo>
                            <a:pt x="5899" y="1329"/>
                          </a:lnTo>
                          <a:lnTo>
                            <a:pt x="5914" y="1248"/>
                          </a:lnTo>
                          <a:lnTo>
                            <a:pt x="5917" y="1166"/>
                          </a:lnTo>
                          <a:lnTo>
                            <a:pt x="5899" y="1086"/>
                          </a:lnTo>
                          <a:lnTo>
                            <a:pt x="5878" y="1005"/>
                          </a:lnTo>
                          <a:lnTo>
                            <a:pt x="5836" y="927"/>
                          </a:lnTo>
                          <a:lnTo>
                            <a:pt x="5782" y="856"/>
                          </a:lnTo>
                          <a:lnTo>
                            <a:pt x="5723" y="791"/>
                          </a:lnTo>
                          <a:lnTo>
                            <a:pt x="5652" y="743"/>
                          </a:lnTo>
                          <a:lnTo>
                            <a:pt x="5567" y="701"/>
                          </a:lnTo>
                          <a:lnTo>
                            <a:pt x="5486" y="671"/>
                          </a:lnTo>
                          <a:lnTo>
                            <a:pt x="5405" y="655"/>
                          </a:lnTo>
                          <a:lnTo>
                            <a:pt x="5309" y="652"/>
                          </a:lnTo>
                          <a:lnTo>
                            <a:pt x="5221" y="655"/>
                          </a:lnTo>
                          <a:lnTo>
                            <a:pt x="5130" y="671"/>
                          </a:lnTo>
                          <a:lnTo>
                            <a:pt x="5041" y="704"/>
                          </a:lnTo>
                          <a:lnTo>
                            <a:pt x="5023" y="716"/>
                          </a:lnTo>
                          <a:lnTo>
                            <a:pt x="4995" y="726"/>
                          </a:lnTo>
                          <a:lnTo>
                            <a:pt x="4967" y="735"/>
                          </a:lnTo>
                          <a:lnTo>
                            <a:pt x="4893" y="771"/>
                          </a:lnTo>
                          <a:lnTo>
                            <a:pt x="4805" y="807"/>
                          </a:lnTo>
                          <a:lnTo>
                            <a:pt x="4715" y="856"/>
                          </a:lnTo>
                          <a:lnTo>
                            <a:pt x="4621" y="904"/>
                          </a:lnTo>
                          <a:lnTo>
                            <a:pt x="4528" y="972"/>
                          </a:lnTo>
                          <a:lnTo>
                            <a:pt x="4437" y="1047"/>
                          </a:lnTo>
                          <a:lnTo>
                            <a:pt x="4528" y="975"/>
                          </a:lnTo>
                          <a:lnTo>
                            <a:pt x="4635" y="927"/>
                          </a:lnTo>
                          <a:lnTo>
                            <a:pt x="4748" y="895"/>
                          </a:lnTo>
                          <a:lnTo>
                            <a:pt x="4865" y="885"/>
                          </a:lnTo>
                          <a:lnTo>
                            <a:pt x="4733" y="885"/>
                          </a:lnTo>
                          <a:lnTo>
                            <a:pt x="4617" y="895"/>
                          </a:lnTo>
                          <a:lnTo>
                            <a:pt x="4504" y="927"/>
                          </a:lnTo>
                          <a:lnTo>
                            <a:pt x="4398" y="975"/>
                          </a:lnTo>
                          <a:lnTo>
                            <a:pt x="4310" y="1047"/>
                          </a:lnTo>
                          <a:lnTo>
                            <a:pt x="4242" y="1102"/>
                          </a:lnTo>
                          <a:lnTo>
                            <a:pt x="4183" y="1154"/>
                          </a:lnTo>
                          <a:lnTo>
                            <a:pt x="4118" y="1205"/>
                          </a:lnTo>
                          <a:lnTo>
                            <a:pt x="4052" y="1254"/>
                          </a:lnTo>
                          <a:lnTo>
                            <a:pt x="3988" y="1303"/>
                          </a:lnTo>
                          <a:lnTo>
                            <a:pt x="3918" y="1351"/>
                          </a:lnTo>
                          <a:lnTo>
                            <a:pt x="3850" y="1393"/>
                          </a:lnTo>
                          <a:lnTo>
                            <a:pt x="3780" y="1439"/>
                          </a:lnTo>
                          <a:lnTo>
                            <a:pt x="3709" y="1481"/>
                          </a:lnTo>
                          <a:lnTo>
                            <a:pt x="3632" y="1520"/>
                          </a:lnTo>
                          <a:lnTo>
                            <a:pt x="3560" y="1562"/>
                          </a:lnTo>
                          <a:lnTo>
                            <a:pt x="3487" y="1601"/>
                          </a:lnTo>
                          <a:lnTo>
                            <a:pt x="3409" y="1639"/>
                          </a:lnTo>
                          <a:lnTo>
                            <a:pt x="3331" y="1675"/>
                          </a:lnTo>
                          <a:lnTo>
                            <a:pt x="3253" y="1714"/>
                          </a:lnTo>
                          <a:lnTo>
                            <a:pt x="3175" y="1753"/>
                          </a:lnTo>
                          <a:lnTo>
                            <a:pt x="3102" y="1785"/>
                          </a:lnTo>
                          <a:lnTo>
                            <a:pt x="3017" y="1824"/>
                          </a:lnTo>
                          <a:lnTo>
                            <a:pt x="2939" y="1857"/>
                          </a:lnTo>
                          <a:lnTo>
                            <a:pt x="2858" y="1890"/>
                          </a:lnTo>
                          <a:lnTo>
                            <a:pt x="2776" y="1925"/>
                          </a:lnTo>
                          <a:lnTo>
                            <a:pt x="2692" y="1957"/>
                          </a:lnTo>
                          <a:lnTo>
                            <a:pt x="2610" y="1993"/>
                          </a:lnTo>
                          <a:lnTo>
                            <a:pt x="2526" y="2026"/>
                          </a:lnTo>
                          <a:lnTo>
                            <a:pt x="2444" y="2058"/>
                          </a:lnTo>
                          <a:lnTo>
                            <a:pt x="2356" y="2090"/>
                          </a:lnTo>
                          <a:lnTo>
                            <a:pt x="2264" y="2126"/>
                          </a:lnTo>
                          <a:lnTo>
                            <a:pt x="2173" y="2164"/>
                          </a:lnTo>
                          <a:lnTo>
                            <a:pt x="2080" y="2203"/>
                          </a:lnTo>
                          <a:lnTo>
                            <a:pt x="1981" y="2242"/>
                          </a:lnTo>
                          <a:lnTo>
                            <a:pt x="1893" y="2278"/>
                          </a:lnTo>
                          <a:lnTo>
                            <a:pt x="1797" y="2317"/>
                          </a:lnTo>
                          <a:lnTo>
                            <a:pt x="1703" y="2355"/>
                          </a:lnTo>
                          <a:lnTo>
                            <a:pt x="1699" y="2360"/>
                          </a:lnTo>
                          <a:lnTo>
                            <a:pt x="1692" y="2360"/>
                          </a:lnTo>
                          <a:lnTo>
                            <a:pt x="1685" y="2366"/>
                          </a:lnTo>
                          <a:lnTo>
                            <a:pt x="1597" y="2411"/>
                          </a:lnTo>
                          <a:lnTo>
                            <a:pt x="1508" y="2453"/>
                          </a:lnTo>
                          <a:lnTo>
                            <a:pt x="1420" y="2501"/>
                          </a:lnTo>
                          <a:lnTo>
                            <a:pt x="1335" y="2543"/>
                          </a:lnTo>
                          <a:lnTo>
                            <a:pt x="1254" y="2599"/>
                          </a:lnTo>
                          <a:lnTo>
                            <a:pt x="1134" y="2664"/>
                          </a:lnTo>
                          <a:lnTo>
                            <a:pt x="1017" y="2725"/>
                          </a:lnTo>
                          <a:lnTo>
                            <a:pt x="914" y="2777"/>
                          </a:lnTo>
                          <a:lnTo>
                            <a:pt x="940" y="2767"/>
                          </a:lnTo>
                          <a:lnTo>
                            <a:pt x="964" y="2758"/>
                          </a:lnTo>
                          <a:lnTo>
                            <a:pt x="992" y="2745"/>
                          </a:lnTo>
                          <a:lnTo>
                            <a:pt x="1059" y="2735"/>
                          </a:lnTo>
                          <a:lnTo>
                            <a:pt x="1140" y="2728"/>
                          </a:lnTo>
                          <a:lnTo>
                            <a:pt x="1236" y="2742"/>
                          </a:lnTo>
                          <a:lnTo>
                            <a:pt x="1324" y="2767"/>
                          </a:lnTo>
                          <a:lnTo>
                            <a:pt x="1420" y="2806"/>
                          </a:lnTo>
                          <a:lnTo>
                            <a:pt x="1508" y="2871"/>
                          </a:lnTo>
                          <a:lnTo>
                            <a:pt x="1589" y="2946"/>
                          </a:lnTo>
                          <a:lnTo>
                            <a:pt x="1643" y="3030"/>
                          </a:lnTo>
                          <a:lnTo>
                            <a:pt x="1677" y="3104"/>
                          </a:lnTo>
                          <a:lnTo>
                            <a:pt x="1703" y="3192"/>
                          </a:lnTo>
                          <a:lnTo>
                            <a:pt x="1709" y="3273"/>
                          </a:lnTo>
                          <a:lnTo>
                            <a:pt x="1703" y="3353"/>
                          </a:lnTo>
                          <a:lnTo>
                            <a:pt x="1685" y="3432"/>
                          </a:lnTo>
                          <a:lnTo>
                            <a:pt x="1656" y="3496"/>
                          </a:lnTo>
                          <a:lnTo>
                            <a:pt x="1621" y="3561"/>
                          </a:lnTo>
                          <a:lnTo>
                            <a:pt x="1667" y="3480"/>
                          </a:lnTo>
                          <a:lnTo>
                            <a:pt x="1703" y="3399"/>
                          </a:lnTo>
                          <a:lnTo>
                            <a:pt x="1727" y="3315"/>
                          </a:lnTo>
                          <a:lnTo>
                            <a:pt x="1734" y="3234"/>
                          </a:lnTo>
                          <a:lnTo>
                            <a:pt x="1727" y="3159"/>
                          </a:lnTo>
                          <a:lnTo>
                            <a:pt x="1709" y="3088"/>
                          </a:lnTo>
                          <a:lnTo>
                            <a:pt x="1685" y="3017"/>
                          </a:lnTo>
                          <a:lnTo>
                            <a:pt x="1649" y="2952"/>
                          </a:lnTo>
                          <a:lnTo>
                            <a:pt x="1607" y="2894"/>
                          </a:lnTo>
                          <a:lnTo>
                            <a:pt x="1561" y="2845"/>
                          </a:lnTo>
                          <a:lnTo>
                            <a:pt x="1526" y="2816"/>
                          </a:lnTo>
                          <a:lnTo>
                            <a:pt x="1483" y="2783"/>
                          </a:lnTo>
                          <a:lnTo>
                            <a:pt x="1430" y="2751"/>
                          </a:lnTo>
                          <a:lnTo>
                            <a:pt x="1371" y="2725"/>
                          </a:lnTo>
                          <a:lnTo>
                            <a:pt x="1300" y="2697"/>
                          </a:lnTo>
                          <a:lnTo>
                            <a:pt x="1222" y="2680"/>
                          </a:lnTo>
                          <a:lnTo>
                            <a:pt x="1140" y="2677"/>
                          </a:lnTo>
                          <a:lnTo>
                            <a:pt x="1046" y="2686"/>
                          </a:lnTo>
                          <a:lnTo>
                            <a:pt x="946" y="2709"/>
                          </a:lnTo>
                          <a:lnTo>
                            <a:pt x="833" y="2751"/>
                          </a:lnTo>
                          <a:lnTo>
                            <a:pt x="720" y="2813"/>
                          </a:lnTo>
                          <a:lnTo>
                            <a:pt x="802" y="2767"/>
                          </a:lnTo>
                          <a:lnTo>
                            <a:pt x="886" y="2742"/>
                          </a:lnTo>
                          <a:lnTo>
                            <a:pt x="974" y="2725"/>
                          </a:lnTo>
                          <a:lnTo>
                            <a:pt x="1070" y="2719"/>
                          </a:lnTo>
                          <a:lnTo>
                            <a:pt x="1158" y="2728"/>
                          </a:lnTo>
                          <a:lnTo>
                            <a:pt x="1246" y="2745"/>
                          </a:lnTo>
                          <a:lnTo>
                            <a:pt x="1332" y="2783"/>
                          </a:lnTo>
                          <a:lnTo>
                            <a:pt x="1405" y="2829"/>
                          </a:lnTo>
                          <a:lnTo>
                            <a:pt x="1480" y="2880"/>
                          </a:lnTo>
                          <a:lnTo>
                            <a:pt x="1543" y="2958"/>
                          </a:lnTo>
                          <a:lnTo>
                            <a:pt x="1589" y="3040"/>
                          </a:lnTo>
                          <a:lnTo>
                            <a:pt x="1625" y="3127"/>
                          </a:lnTo>
                          <a:lnTo>
                            <a:pt x="1639" y="3214"/>
                          </a:lnTo>
                          <a:lnTo>
                            <a:pt x="1631" y="3295"/>
                          </a:lnTo>
                          <a:lnTo>
                            <a:pt x="1614" y="3377"/>
                          </a:lnTo>
                          <a:lnTo>
                            <a:pt x="1586" y="3451"/>
                          </a:lnTo>
                          <a:lnTo>
                            <a:pt x="1543" y="3516"/>
                          </a:lnTo>
                          <a:lnTo>
                            <a:pt x="1550" y="3513"/>
                          </a:lnTo>
                          <a:lnTo>
                            <a:pt x="1586" y="3467"/>
                          </a:lnTo>
                          <a:lnTo>
                            <a:pt x="1625" y="3402"/>
                          </a:lnTo>
                          <a:lnTo>
                            <a:pt x="1674" y="3322"/>
                          </a:lnTo>
                          <a:lnTo>
                            <a:pt x="1709" y="3214"/>
                          </a:lnTo>
                          <a:lnTo>
                            <a:pt x="1721" y="3095"/>
                          </a:lnTo>
                          <a:lnTo>
                            <a:pt x="1709" y="3198"/>
                          </a:lnTo>
                          <a:lnTo>
                            <a:pt x="1677" y="3295"/>
                          </a:lnTo>
                          <a:lnTo>
                            <a:pt x="1625" y="3386"/>
                          </a:lnTo>
                          <a:lnTo>
                            <a:pt x="1561" y="3467"/>
                          </a:lnTo>
                          <a:lnTo>
                            <a:pt x="1625" y="3402"/>
                          </a:lnTo>
                          <a:lnTo>
                            <a:pt x="1699" y="3331"/>
                          </a:lnTo>
                          <a:lnTo>
                            <a:pt x="1763" y="3267"/>
                          </a:lnTo>
                          <a:lnTo>
                            <a:pt x="1826" y="3201"/>
                          </a:lnTo>
                          <a:lnTo>
                            <a:pt x="1886" y="3137"/>
                          </a:lnTo>
                          <a:lnTo>
                            <a:pt x="1953" y="3071"/>
                          </a:lnTo>
                          <a:lnTo>
                            <a:pt x="2010" y="3013"/>
                          </a:lnTo>
                          <a:lnTo>
                            <a:pt x="2070" y="2952"/>
                          </a:lnTo>
                          <a:lnTo>
                            <a:pt x="2123" y="2894"/>
                          </a:lnTo>
                          <a:lnTo>
                            <a:pt x="2183" y="2832"/>
                          </a:lnTo>
                          <a:lnTo>
                            <a:pt x="2236" y="2774"/>
                          </a:lnTo>
                          <a:lnTo>
                            <a:pt x="2296" y="2712"/>
                          </a:lnTo>
                          <a:lnTo>
                            <a:pt x="2356" y="2654"/>
                          </a:lnTo>
                          <a:lnTo>
                            <a:pt x="2409" y="2589"/>
                          </a:lnTo>
                          <a:lnTo>
                            <a:pt x="2466" y="2528"/>
                          </a:lnTo>
                          <a:lnTo>
                            <a:pt x="2518" y="2469"/>
                          </a:lnTo>
                          <a:lnTo>
                            <a:pt x="2578" y="2415"/>
                          </a:lnTo>
                          <a:lnTo>
                            <a:pt x="2632" y="2355"/>
                          </a:lnTo>
                          <a:lnTo>
                            <a:pt x="2692" y="2294"/>
                          </a:lnTo>
                          <a:lnTo>
                            <a:pt x="2744" y="2242"/>
                          </a:lnTo>
                          <a:lnTo>
                            <a:pt x="2804" y="2188"/>
                          </a:lnTo>
                          <a:lnTo>
                            <a:pt x="2858" y="2133"/>
                          </a:lnTo>
                          <a:lnTo>
                            <a:pt x="2918" y="2075"/>
                          </a:lnTo>
                          <a:lnTo>
                            <a:pt x="2975" y="2019"/>
                          </a:lnTo>
                          <a:lnTo>
                            <a:pt x="3035" y="1964"/>
                          </a:lnTo>
                          <a:lnTo>
                            <a:pt x="3095" y="1906"/>
                          </a:lnTo>
                          <a:lnTo>
                            <a:pt x="3154" y="1851"/>
                          </a:lnTo>
                          <a:lnTo>
                            <a:pt x="3219" y="1793"/>
                          </a:lnTo>
                          <a:lnTo>
                            <a:pt x="3285" y="1737"/>
                          </a:lnTo>
                          <a:lnTo>
                            <a:pt x="3349" y="1682"/>
                          </a:lnTo>
                          <a:lnTo>
                            <a:pt x="3419" y="1624"/>
                          </a:lnTo>
                          <a:lnTo>
                            <a:pt x="3490" y="1562"/>
                          </a:lnTo>
                          <a:lnTo>
                            <a:pt x="3560" y="1504"/>
                          </a:lnTo>
                          <a:lnTo>
                            <a:pt x="3638" y="1442"/>
                          </a:lnTo>
                          <a:lnTo>
                            <a:pt x="3705" y="1384"/>
                          </a:lnTo>
                          <a:lnTo>
                            <a:pt x="3759" y="1319"/>
                          </a:lnTo>
                          <a:lnTo>
                            <a:pt x="3798" y="1248"/>
                          </a:lnTo>
                          <a:lnTo>
                            <a:pt x="3829" y="1174"/>
                          </a:lnTo>
                          <a:lnTo>
                            <a:pt x="3847" y="1096"/>
                          </a:lnTo>
                          <a:lnTo>
                            <a:pt x="3850" y="1021"/>
                          </a:lnTo>
                          <a:lnTo>
                            <a:pt x="3847" y="937"/>
                          </a:lnTo>
                          <a:lnTo>
                            <a:pt x="3822" y="856"/>
                          </a:lnTo>
                          <a:lnTo>
                            <a:pt x="3794" y="781"/>
                          </a:lnTo>
                          <a:lnTo>
                            <a:pt x="3744" y="710"/>
                          </a:lnTo>
                          <a:lnTo>
                            <a:pt x="3692" y="646"/>
                          </a:lnTo>
                          <a:lnTo>
                            <a:pt x="3627" y="590"/>
                          </a:lnTo>
                          <a:lnTo>
                            <a:pt x="3557" y="549"/>
                          </a:lnTo>
                          <a:lnTo>
                            <a:pt x="3479" y="516"/>
                          </a:lnTo>
                          <a:lnTo>
                            <a:pt x="3395" y="486"/>
                          </a:lnTo>
                          <a:lnTo>
                            <a:pt x="3307" y="470"/>
                          </a:lnTo>
                          <a:lnTo>
                            <a:pt x="3219" y="470"/>
                          </a:lnTo>
                          <a:lnTo>
                            <a:pt x="3129" y="483"/>
                          </a:lnTo>
                          <a:lnTo>
                            <a:pt x="3030" y="499"/>
                          </a:lnTo>
                          <a:lnTo>
                            <a:pt x="2928" y="525"/>
                          </a:lnTo>
                          <a:lnTo>
                            <a:pt x="2833" y="549"/>
                          </a:lnTo>
                          <a:lnTo>
                            <a:pt x="2744" y="574"/>
                          </a:lnTo>
                          <a:lnTo>
                            <a:pt x="2649" y="603"/>
                          </a:lnTo>
                          <a:lnTo>
                            <a:pt x="2568" y="635"/>
                          </a:lnTo>
                          <a:lnTo>
                            <a:pt x="2480" y="662"/>
                          </a:lnTo>
                          <a:lnTo>
                            <a:pt x="2394" y="701"/>
                          </a:lnTo>
                          <a:lnTo>
                            <a:pt x="2318" y="732"/>
                          </a:lnTo>
                          <a:lnTo>
                            <a:pt x="2243" y="775"/>
                          </a:lnTo>
                          <a:lnTo>
                            <a:pt x="2173" y="814"/>
                          </a:lnTo>
                          <a:lnTo>
                            <a:pt x="2098" y="856"/>
                          </a:lnTo>
                          <a:lnTo>
                            <a:pt x="2035" y="901"/>
                          </a:lnTo>
                          <a:lnTo>
                            <a:pt x="1971" y="950"/>
                          </a:lnTo>
                          <a:lnTo>
                            <a:pt x="1911" y="998"/>
                          </a:lnTo>
                          <a:lnTo>
                            <a:pt x="1851" y="1047"/>
                          </a:lnTo>
                          <a:lnTo>
                            <a:pt x="1861" y="1037"/>
                          </a:lnTo>
                          <a:lnTo>
                            <a:pt x="1875" y="1031"/>
                          </a:lnTo>
                          <a:lnTo>
                            <a:pt x="1886" y="1021"/>
                          </a:lnTo>
                          <a:lnTo>
                            <a:pt x="1815" y="1073"/>
                          </a:lnTo>
                          <a:lnTo>
                            <a:pt x="1745" y="1128"/>
                          </a:lnTo>
                          <a:lnTo>
                            <a:pt x="1667" y="1177"/>
                          </a:lnTo>
                          <a:lnTo>
                            <a:pt x="1589" y="1225"/>
                          </a:lnTo>
                          <a:lnTo>
                            <a:pt x="1516" y="1274"/>
                          </a:lnTo>
                          <a:lnTo>
                            <a:pt x="1430" y="1323"/>
                          </a:lnTo>
                          <a:lnTo>
                            <a:pt x="1353" y="1374"/>
                          </a:lnTo>
                          <a:lnTo>
                            <a:pt x="1272" y="1423"/>
                          </a:lnTo>
                          <a:lnTo>
                            <a:pt x="1187" y="1472"/>
                          </a:lnTo>
                          <a:lnTo>
                            <a:pt x="1112" y="1514"/>
                          </a:lnTo>
                          <a:lnTo>
                            <a:pt x="1042" y="1556"/>
                          </a:lnTo>
                          <a:lnTo>
                            <a:pt x="964" y="1601"/>
                          </a:lnTo>
                          <a:lnTo>
                            <a:pt x="886" y="1643"/>
                          </a:lnTo>
                          <a:lnTo>
                            <a:pt x="808" y="1688"/>
                          </a:lnTo>
                          <a:lnTo>
                            <a:pt x="738" y="1737"/>
                          </a:lnTo>
                          <a:lnTo>
                            <a:pt x="660" y="1785"/>
                          </a:lnTo>
                          <a:lnTo>
                            <a:pt x="589" y="1835"/>
                          </a:lnTo>
                          <a:lnTo>
                            <a:pt x="519" y="1883"/>
                          </a:lnTo>
                          <a:lnTo>
                            <a:pt x="449" y="1938"/>
                          </a:lnTo>
                          <a:lnTo>
                            <a:pt x="377" y="1993"/>
                          </a:lnTo>
                          <a:lnTo>
                            <a:pt x="307" y="2051"/>
                          </a:lnTo>
                          <a:lnTo>
                            <a:pt x="239" y="2109"/>
                          </a:lnTo>
                          <a:lnTo>
                            <a:pt x="317" y="2051"/>
                          </a:lnTo>
                          <a:lnTo>
                            <a:pt x="406" y="2003"/>
                          </a:lnTo>
                          <a:lnTo>
                            <a:pt x="501" y="1970"/>
                          </a:lnTo>
                          <a:lnTo>
                            <a:pt x="597" y="1954"/>
                          </a:lnTo>
                          <a:lnTo>
                            <a:pt x="696" y="1954"/>
                          </a:lnTo>
                          <a:lnTo>
                            <a:pt x="798" y="1964"/>
                          </a:lnTo>
                          <a:lnTo>
                            <a:pt x="896" y="1993"/>
                          </a:lnTo>
                          <a:lnTo>
                            <a:pt x="985" y="2035"/>
                          </a:lnTo>
                          <a:lnTo>
                            <a:pt x="1070" y="2094"/>
                          </a:lnTo>
                          <a:lnTo>
                            <a:pt x="1134" y="2158"/>
                          </a:lnTo>
                          <a:lnTo>
                            <a:pt x="1194" y="2236"/>
                          </a:lnTo>
                          <a:lnTo>
                            <a:pt x="1236" y="2317"/>
                          </a:lnTo>
                          <a:lnTo>
                            <a:pt x="1261" y="2411"/>
                          </a:lnTo>
                          <a:lnTo>
                            <a:pt x="1272" y="2501"/>
                          </a:lnTo>
                          <a:lnTo>
                            <a:pt x="1261" y="2573"/>
                          </a:lnTo>
                          <a:lnTo>
                            <a:pt x="1246" y="2615"/>
                          </a:lnTo>
                          <a:lnTo>
                            <a:pt x="1239" y="2631"/>
                          </a:lnTo>
                          <a:lnTo>
                            <a:pt x="1254" y="2615"/>
                          </a:lnTo>
                          <a:lnTo>
                            <a:pt x="1264" y="2595"/>
                          </a:lnTo>
                          <a:lnTo>
                            <a:pt x="1282" y="2573"/>
                          </a:lnTo>
                          <a:lnTo>
                            <a:pt x="1317" y="2518"/>
                          </a:lnTo>
                          <a:lnTo>
                            <a:pt x="1360" y="2460"/>
                          </a:lnTo>
                          <a:lnTo>
                            <a:pt x="1395" y="2395"/>
                          </a:lnTo>
                          <a:lnTo>
                            <a:pt x="1395" y="2404"/>
                          </a:lnTo>
                          <a:lnTo>
                            <a:pt x="1388" y="2415"/>
                          </a:lnTo>
                          <a:lnTo>
                            <a:pt x="1384" y="2421"/>
                          </a:lnTo>
                          <a:lnTo>
                            <a:pt x="1430" y="2349"/>
                          </a:lnTo>
                          <a:lnTo>
                            <a:pt x="1480" y="2275"/>
                          </a:lnTo>
                          <a:lnTo>
                            <a:pt x="1532" y="2203"/>
                          </a:lnTo>
                          <a:lnTo>
                            <a:pt x="1579" y="2133"/>
                          </a:lnTo>
                          <a:lnTo>
                            <a:pt x="1631" y="2061"/>
                          </a:lnTo>
                          <a:lnTo>
                            <a:pt x="1692" y="1993"/>
                          </a:lnTo>
                          <a:lnTo>
                            <a:pt x="1745" y="1921"/>
                          </a:lnTo>
                          <a:lnTo>
                            <a:pt x="1805" y="1857"/>
                          </a:lnTo>
                          <a:lnTo>
                            <a:pt x="1861" y="1785"/>
                          </a:lnTo>
                          <a:lnTo>
                            <a:pt x="1921" y="1721"/>
                          </a:lnTo>
                          <a:lnTo>
                            <a:pt x="1981" y="1650"/>
                          </a:lnTo>
                          <a:lnTo>
                            <a:pt x="2041" y="1585"/>
                          </a:lnTo>
                          <a:lnTo>
                            <a:pt x="2098" y="1514"/>
                          </a:lnTo>
                          <a:lnTo>
                            <a:pt x="2165" y="1448"/>
                          </a:lnTo>
                          <a:lnTo>
                            <a:pt x="2225" y="1378"/>
                          </a:lnTo>
                          <a:lnTo>
                            <a:pt x="2282" y="1296"/>
                          </a:lnTo>
                          <a:lnTo>
                            <a:pt x="2331" y="1209"/>
                          </a:lnTo>
                          <a:lnTo>
                            <a:pt x="2356" y="1118"/>
                          </a:lnTo>
                          <a:lnTo>
                            <a:pt x="2367" y="1025"/>
                          </a:lnTo>
                          <a:lnTo>
                            <a:pt x="2367" y="904"/>
                          </a:lnTo>
                          <a:lnTo>
                            <a:pt x="2360" y="820"/>
                          </a:lnTo>
                          <a:lnTo>
                            <a:pt x="2335" y="743"/>
                          </a:lnTo>
                          <a:lnTo>
                            <a:pt x="2306" y="662"/>
                          </a:lnTo>
                          <a:lnTo>
                            <a:pt x="2261" y="597"/>
                          </a:lnTo>
                          <a:lnTo>
                            <a:pt x="2207" y="532"/>
                          </a:lnTo>
                          <a:lnTo>
                            <a:pt x="2140" y="477"/>
                          </a:lnTo>
                          <a:lnTo>
                            <a:pt x="2070" y="428"/>
                          </a:lnTo>
                          <a:lnTo>
                            <a:pt x="1989" y="389"/>
                          </a:lnTo>
                          <a:lnTo>
                            <a:pt x="1904" y="370"/>
                          </a:lnTo>
                          <a:lnTo>
                            <a:pt x="1809" y="353"/>
                          </a:lnTo>
                          <a:lnTo>
                            <a:pt x="1721" y="353"/>
                          </a:lnTo>
                          <a:lnTo>
                            <a:pt x="1631" y="370"/>
                          </a:lnTo>
                          <a:lnTo>
                            <a:pt x="1550" y="389"/>
                          </a:lnTo>
                          <a:lnTo>
                            <a:pt x="1473" y="422"/>
                          </a:lnTo>
                          <a:lnTo>
                            <a:pt x="1395" y="467"/>
                          </a:lnTo>
                          <a:lnTo>
                            <a:pt x="1332" y="519"/>
                          </a:lnTo>
                          <a:lnTo>
                            <a:pt x="1272" y="587"/>
                          </a:lnTo>
                          <a:lnTo>
                            <a:pt x="1222" y="655"/>
                          </a:lnTo>
                          <a:lnTo>
                            <a:pt x="1290" y="574"/>
                          </a:lnTo>
                          <a:lnTo>
                            <a:pt x="1349" y="525"/>
                          </a:lnTo>
                          <a:lnTo>
                            <a:pt x="1371" y="509"/>
                          </a:lnTo>
                          <a:lnTo>
                            <a:pt x="1360" y="516"/>
                          </a:lnTo>
                          <a:lnTo>
                            <a:pt x="1349" y="519"/>
                          </a:lnTo>
                          <a:lnTo>
                            <a:pt x="1332" y="525"/>
                          </a:lnTo>
                          <a:lnTo>
                            <a:pt x="1254" y="558"/>
                          </a:lnTo>
                          <a:lnTo>
                            <a:pt x="1158" y="603"/>
                          </a:lnTo>
                          <a:lnTo>
                            <a:pt x="1059" y="668"/>
                          </a:lnTo>
                          <a:lnTo>
                            <a:pt x="950" y="749"/>
                          </a:lnTo>
                          <a:lnTo>
                            <a:pt x="1042" y="684"/>
                          </a:lnTo>
                          <a:lnTo>
                            <a:pt x="1148" y="629"/>
                          </a:lnTo>
                          <a:lnTo>
                            <a:pt x="1261" y="603"/>
                          </a:lnTo>
                          <a:lnTo>
                            <a:pt x="1378" y="590"/>
                          </a:lnTo>
                          <a:lnTo>
                            <a:pt x="1246" y="590"/>
                          </a:lnTo>
                          <a:lnTo>
                            <a:pt x="1130" y="603"/>
                          </a:lnTo>
                          <a:lnTo>
                            <a:pt x="1017" y="629"/>
                          </a:lnTo>
                          <a:lnTo>
                            <a:pt x="911" y="684"/>
                          </a:lnTo>
                          <a:lnTo>
                            <a:pt x="823" y="749"/>
                          </a:lnTo>
                          <a:lnTo>
                            <a:pt x="826" y="743"/>
                          </a:lnTo>
                          <a:lnTo>
                            <a:pt x="833" y="743"/>
                          </a:lnTo>
                          <a:lnTo>
                            <a:pt x="823" y="749"/>
                          </a:lnTo>
                          <a:lnTo>
                            <a:pt x="802" y="759"/>
                          </a:lnTo>
                          <a:lnTo>
                            <a:pt x="784" y="765"/>
                          </a:lnTo>
                          <a:lnTo>
                            <a:pt x="709" y="804"/>
                          </a:lnTo>
                          <a:lnTo>
                            <a:pt x="625" y="846"/>
                          </a:lnTo>
                          <a:lnTo>
                            <a:pt x="530" y="904"/>
                          </a:lnTo>
                          <a:lnTo>
                            <a:pt x="431" y="989"/>
                          </a:lnTo>
                          <a:lnTo>
                            <a:pt x="483" y="950"/>
                          </a:lnTo>
                          <a:lnTo>
                            <a:pt x="530" y="911"/>
                          </a:lnTo>
                          <a:lnTo>
                            <a:pt x="589" y="885"/>
                          </a:lnTo>
                          <a:lnTo>
                            <a:pt x="582" y="885"/>
                          </a:lnTo>
                          <a:lnTo>
                            <a:pt x="579" y="889"/>
                          </a:lnTo>
                          <a:lnTo>
                            <a:pt x="572" y="889"/>
                          </a:lnTo>
                          <a:lnTo>
                            <a:pt x="660" y="856"/>
                          </a:lnTo>
                          <a:lnTo>
                            <a:pt x="748" y="840"/>
                          </a:lnTo>
                          <a:lnTo>
                            <a:pt x="841" y="837"/>
                          </a:lnTo>
                          <a:lnTo>
                            <a:pt x="929" y="840"/>
                          </a:lnTo>
                          <a:lnTo>
                            <a:pt x="1017" y="856"/>
                          </a:lnTo>
                          <a:lnTo>
                            <a:pt x="1098" y="889"/>
                          </a:lnTo>
                          <a:lnTo>
                            <a:pt x="1176" y="934"/>
                          </a:lnTo>
                          <a:lnTo>
                            <a:pt x="1246" y="989"/>
                          </a:lnTo>
                          <a:lnTo>
                            <a:pt x="1306" y="1047"/>
                          </a:lnTo>
                          <a:lnTo>
                            <a:pt x="1360" y="1122"/>
                          </a:lnTo>
                          <a:lnTo>
                            <a:pt x="1395" y="1199"/>
                          </a:lnTo>
                          <a:lnTo>
                            <a:pt x="1423" y="1280"/>
                          </a:lnTo>
                          <a:lnTo>
                            <a:pt x="1438" y="1362"/>
                          </a:lnTo>
                          <a:lnTo>
                            <a:pt x="1430" y="1442"/>
                          </a:lnTo>
                          <a:lnTo>
                            <a:pt x="1420" y="1523"/>
                          </a:lnTo>
                          <a:lnTo>
                            <a:pt x="1388" y="1601"/>
                          </a:lnTo>
                          <a:lnTo>
                            <a:pt x="1353" y="1675"/>
                          </a:lnTo>
                          <a:lnTo>
                            <a:pt x="1300" y="1741"/>
                          </a:lnTo>
                          <a:lnTo>
                            <a:pt x="1236" y="1802"/>
                          </a:lnTo>
                          <a:lnTo>
                            <a:pt x="1158" y="1857"/>
                          </a:lnTo>
                          <a:lnTo>
                            <a:pt x="1204" y="1827"/>
                          </a:lnTo>
                          <a:lnTo>
                            <a:pt x="1261" y="1793"/>
                          </a:lnTo>
                          <a:lnTo>
                            <a:pt x="1317" y="1753"/>
                          </a:lnTo>
                          <a:lnTo>
                            <a:pt x="1384" y="1705"/>
                          </a:lnTo>
                          <a:lnTo>
                            <a:pt x="1448" y="1643"/>
                          </a:lnTo>
                          <a:lnTo>
                            <a:pt x="1501" y="1575"/>
                          </a:lnTo>
                          <a:lnTo>
                            <a:pt x="1550" y="1497"/>
                          </a:lnTo>
                          <a:lnTo>
                            <a:pt x="1589" y="1410"/>
                          </a:lnTo>
                          <a:lnTo>
                            <a:pt x="1614" y="1313"/>
                          </a:lnTo>
                          <a:lnTo>
                            <a:pt x="1614" y="1205"/>
                          </a:lnTo>
                          <a:lnTo>
                            <a:pt x="1607" y="1118"/>
                          </a:lnTo>
                          <a:lnTo>
                            <a:pt x="1579" y="1031"/>
                          </a:lnTo>
                          <a:lnTo>
                            <a:pt x="1537" y="950"/>
                          </a:lnTo>
                          <a:lnTo>
                            <a:pt x="1483" y="872"/>
                          </a:lnTo>
                          <a:lnTo>
                            <a:pt x="1420" y="807"/>
                          </a:lnTo>
                          <a:lnTo>
                            <a:pt x="1342" y="752"/>
                          </a:lnTo>
                          <a:lnTo>
                            <a:pt x="1261" y="704"/>
                          </a:lnTo>
                          <a:lnTo>
                            <a:pt x="1176" y="671"/>
                          </a:lnTo>
                          <a:lnTo>
                            <a:pt x="1095" y="655"/>
                          </a:lnTo>
                          <a:lnTo>
                            <a:pt x="1003" y="652"/>
                          </a:lnTo>
                          <a:lnTo>
                            <a:pt x="922" y="652"/>
                          </a:lnTo>
                          <a:lnTo>
                            <a:pt x="841" y="668"/>
                          </a:lnTo>
                          <a:lnTo>
                            <a:pt x="763" y="687"/>
                          </a:lnTo>
                          <a:lnTo>
                            <a:pt x="685" y="726"/>
                          </a:lnTo>
                          <a:lnTo>
                            <a:pt x="615" y="771"/>
                          </a:lnTo>
                          <a:lnTo>
                            <a:pt x="547" y="820"/>
                          </a:lnTo>
                          <a:lnTo>
                            <a:pt x="494" y="885"/>
                          </a:lnTo>
                          <a:lnTo>
                            <a:pt x="449" y="953"/>
                          </a:lnTo>
                          <a:lnTo>
                            <a:pt x="413" y="1031"/>
                          </a:lnTo>
                          <a:lnTo>
                            <a:pt x="395" y="1105"/>
                          </a:lnTo>
                          <a:lnTo>
                            <a:pt x="389" y="1183"/>
                          </a:lnTo>
                          <a:lnTo>
                            <a:pt x="389" y="1265"/>
                          </a:lnTo>
                          <a:lnTo>
                            <a:pt x="406" y="1338"/>
                          </a:lnTo>
                          <a:lnTo>
                            <a:pt x="431" y="1410"/>
                          </a:lnTo>
                          <a:lnTo>
                            <a:pt x="465" y="1481"/>
                          </a:lnTo>
                          <a:lnTo>
                            <a:pt x="519" y="1545"/>
                          </a:lnTo>
                          <a:lnTo>
                            <a:pt x="572" y="1601"/>
                          </a:lnTo>
                          <a:lnTo>
                            <a:pt x="642" y="1656"/>
                          </a:lnTo>
                          <a:lnTo>
                            <a:pt x="720" y="1691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rot="10800000">
                      <a:off x="3374640" y="7517160"/>
                      <a:ext cx="1836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5" h="3707">
                          <a:moveTo>
                            <a:pt x="1251" y="558"/>
                          </a:moveTo>
                          <a:lnTo>
                            <a:pt x="1392" y="586"/>
                          </a:lnTo>
                          <a:lnTo>
                            <a:pt x="1516" y="586"/>
                          </a:lnTo>
                          <a:lnTo>
                            <a:pt x="1635" y="547"/>
                          </a:lnTo>
                          <a:lnTo>
                            <a:pt x="1516" y="577"/>
                          </a:lnTo>
                          <a:lnTo>
                            <a:pt x="1409" y="558"/>
                          </a:lnTo>
                          <a:lnTo>
                            <a:pt x="1314" y="515"/>
                          </a:lnTo>
                          <a:lnTo>
                            <a:pt x="1243" y="443"/>
                          </a:lnTo>
                          <a:lnTo>
                            <a:pt x="1251" y="450"/>
                          </a:lnTo>
                          <a:lnTo>
                            <a:pt x="1258" y="459"/>
                          </a:lnTo>
                          <a:lnTo>
                            <a:pt x="1261" y="473"/>
                          </a:lnTo>
                          <a:lnTo>
                            <a:pt x="1285" y="508"/>
                          </a:lnTo>
                          <a:lnTo>
                            <a:pt x="1314" y="541"/>
                          </a:lnTo>
                          <a:lnTo>
                            <a:pt x="1350" y="577"/>
                          </a:lnTo>
                          <a:lnTo>
                            <a:pt x="1357" y="577"/>
                          </a:lnTo>
                          <a:lnTo>
                            <a:pt x="1332" y="547"/>
                          </a:lnTo>
                          <a:lnTo>
                            <a:pt x="1321" y="508"/>
                          </a:lnTo>
                          <a:lnTo>
                            <a:pt x="1321" y="473"/>
                          </a:lnTo>
                          <a:lnTo>
                            <a:pt x="1311" y="505"/>
                          </a:lnTo>
                          <a:lnTo>
                            <a:pt x="1285" y="541"/>
                          </a:lnTo>
                          <a:lnTo>
                            <a:pt x="1261" y="586"/>
                          </a:lnTo>
                          <a:lnTo>
                            <a:pt x="1215" y="661"/>
                          </a:lnTo>
                          <a:lnTo>
                            <a:pt x="1173" y="741"/>
                          </a:lnTo>
                          <a:lnTo>
                            <a:pt x="1137" y="842"/>
                          </a:lnTo>
                          <a:lnTo>
                            <a:pt x="1109" y="943"/>
                          </a:lnTo>
                          <a:lnTo>
                            <a:pt x="1095" y="1053"/>
                          </a:lnTo>
                          <a:lnTo>
                            <a:pt x="1119" y="1150"/>
                          </a:lnTo>
                          <a:lnTo>
                            <a:pt x="1173" y="1238"/>
                          </a:lnTo>
                          <a:lnTo>
                            <a:pt x="1251" y="1296"/>
                          </a:lnTo>
                          <a:lnTo>
                            <a:pt x="1350" y="1335"/>
                          </a:lnTo>
                          <a:lnTo>
                            <a:pt x="1459" y="1351"/>
                          </a:lnTo>
                          <a:lnTo>
                            <a:pt x="1565" y="1351"/>
                          </a:lnTo>
                          <a:lnTo>
                            <a:pt x="1671" y="1351"/>
                          </a:lnTo>
                          <a:lnTo>
                            <a:pt x="1767" y="1335"/>
                          </a:lnTo>
                          <a:lnTo>
                            <a:pt x="1866" y="1318"/>
                          </a:lnTo>
                          <a:lnTo>
                            <a:pt x="1954" y="1296"/>
                          </a:lnTo>
                          <a:lnTo>
                            <a:pt x="2042" y="1280"/>
                          </a:lnTo>
                          <a:lnTo>
                            <a:pt x="2162" y="1253"/>
                          </a:lnTo>
                          <a:lnTo>
                            <a:pt x="2279" y="1231"/>
                          </a:lnTo>
                          <a:lnTo>
                            <a:pt x="2381" y="1221"/>
                          </a:lnTo>
                          <a:lnTo>
                            <a:pt x="2261" y="1199"/>
                          </a:lnTo>
                          <a:lnTo>
                            <a:pt x="2162" y="1140"/>
                          </a:lnTo>
                          <a:lnTo>
                            <a:pt x="2092" y="1046"/>
                          </a:lnTo>
                          <a:lnTo>
                            <a:pt x="2066" y="932"/>
                          </a:lnTo>
                          <a:lnTo>
                            <a:pt x="2092" y="826"/>
                          </a:lnTo>
                          <a:lnTo>
                            <a:pt x="2162" y="732"/>
                          </a:lnTo>
                          <a:lnTo>
                            <a:pt x="2162" y="725"/>
                          </a:lnTo>
                          <a:lnTo>
                            <a:pt x="2162" y="732"/>
                          </a:lnTo>
                          <a:lnTo>
                            <a:pt x="2155" y="738"/>
                          </a:lnTo>
                          <a:lnTo>
                            <a:pt x="2144" y="738"/>
                          </a:lnTo>
                          <a:lnTo>
                            <a:pt x="2092" y="771"/>
                          </a:lnTo>
                          <a:lnTo>
                            <a:pt x="2024" y="835"/>
                          </a:lnTo>
                          <a:lnTo>
                            <a:pt x="1968" y="926"/>
                          </a:lnTo>
                          <a:lnTo>
                            <a:pt x="1936" y="1053"/>
                          </a:lnTo>
                          <a:lnTo>
                            <a:pt x="1943" y="1037"/>
                          </a:lnTo>
                          <a:lnTo>
                            <a:pt x="1943" y="1030"/>
                          </a:lnTo>
                          <a:lnTo>
                            <a:pt x="1943" y="1026"/>
                          </a:lnTo>
                          <a:lnTo>
                            <a:pt x="1933" y="1059"/>
                          </a:lnTo>
                          <a:lnTo>
                            <a:pt x="1908" y="1095"/>
                          </a:lnTo>
                          <a:lnTo>
                            <a:pt x="1883" y="1140"/>
                          </a:lnTo>
                          <a:lnTo>
                            <a:pt x="1848" y="1189"/>
                          </a:lnTo>
                          <a:lnTo>
                            <a:pt x="1806" y="1247"/>
                          </a:lnTo>
                          <a:lnTo>
                            <a:pt x="1760" y="1308"/>
                          </a:lnTo>
                          <a:lnTo>
                            <a:pt x="1706" y="1374"/>
                          </a:lnTo>
                          <a:lnTo>
                            <a:pt x="1653" y="1438"/>
                          </a:lnTo>
                          <a:lnTo>
                            <a:pt x="1593" y="1513"/>
                          </a:lnTo>
                          <a:lnTo>
                            <a:pt x="1529" y="1584"/>
                          </a:lnTo>
                          <a:lnTo>
                            <a:pt x="1462" y="1662"/>
                          </a:lnTo>
                          <a:lnTo>
                            <a:pt x="1399" y="1736"/>
                          </a:lnTo>
                          <a:lnTo>
                            <a:pt x="1329" y="1814"/>
                          </a:lnTo>
                          <a:lnTo>
                            <a:pt x="1258" y="1888"/>
                          </a:lnTo>
                          <a:lnTo>
                            <a:pt x="1191" y="1963"/>
                          </a:lnTo>
                          <a:lnTo>
                            <a:pt x="1119" y="2041"/>
                          </a:lnTo>
                          <a:lnTo>
                            <a:pt x="1056" y="2115"/>
                          </a:lnTo>
                          <a:lnTo>
                            <a:pt x="989" y="2187"/>
                          </a:lnTo>
                          <a:lnTo>
                            <a:pt x="926" y="2251"/>
                          </a:lnTo>
                          <a:lnTo>
                            <a:pt x="866" y="2316"/>
                          </a:lnTo>
                          <a:lnTo>
                            <a:pt x="812" y="2378"/>
                          </a:lnTo>
                          <a:lnTo>
                            <a:pt x="706" y="2498"/>
                          </a:lnTo>
                          <a:lnTo>
                            <a:pt x="604" y="2601"/>
                          </a:lnTo>
                          <a:lnTo>
                            <a:pt x="522" y="2698"/>
                          </a:lnTo>
                          <a:lnTo>
                            <a:pt x="438" y="2783"/>
                          </a:lnTo>
                          <a:lnTo>
                            <a:pt x="368" y="2867"/>
                          </a:lnTo>
                          <a:lnTo>
                            <a:pt x="304" y="2935"/>
                          </a:lnTo>
                          <a:lnTo>
                            <a:pt x="251" y="3003"/>
                          </a:lnTo>
                          <a:lnTo>
                            <a:pt x="197" y="3061"/>
                          </a:lnTo>
                          <a:lnTo>
                            <a:pt x="155" y="3116"/>
                          </a:lnTo>
                          <a:lnTo>
                            <a:pt x="120" y="3165"/>
                          </a:lnTo>
                          <a:lnTo>
                            <a:pt x="88" y="3207"/>
                          </a:lnTo>
                          <a:lnTo>
                            <a:pt x="60" y="3246"/>
                          </a:lnTo>
                          <a:lnTo>
                            <a:pt x="42" y="3285"/>
                          </a:lnTo>
                          <a:lnTo>
                            <a:pt x="25" y="3317"/>
                          </a:lnTo>
                          <a:lnTo>
                            <a:pt x="0" y="3405"/>
                          </a:lnTo>
                          <a:lnTo>
                            <a:pt x="15" y="3489"/>
                          </a:lnTo>
                          <a:lnTo>
                            <a:pt x="49" y="3570"/>
                          </a:lnTo>
                          <a:lnTo>
                            <a:pt x="113" y="3641"/>
                          </a:lnTo>
                          <a:lnTo>
                            <a:pt x="197" y="3690"/>
                          </a:lnTo>
                          <a:lnTo>
                            <a:pt x="296" y="3707"/>
                          </a:lnTo>
                          <a:lnTo>
                            <a:pt x="392" y="3704"/>
                          </a:lnTo>
                          <a:lnTo>
                            <a:pt x="480" y="3664"/>
                          </a:lnTo>
                          <a:lnTo>
                            <a:pt x="558" y="3610"/>
                          </a:lnTo>
                          <a:lnTo>
                            <a:pt x="604" y="3528"/>
                          </a:lnTo>
                          <a:lnTo>
                            <a:pt x="604" y="3535"/>
                          </a:lnTo>
                          <a:lnTo>
                            <a:pt x="622" y="3502"/>
                          </a:lnTo>
                          <a:lnTo>
                            <a:pt x="654" y="3464"/>
                          </a:lnTo>
                          <a:lnTo>
                            <a:pt x="693" y="3414"/>
                          </a:lnTo>
                          <a:lnTo>
                            <a:pt x="742" y="3353"/>
                          </a:lnTo>
                          <a:lnTo>
                            <a:pt x="802" y="3288"/>
                          </a:lnTo>
                          <a:lnTo>
                            <a:pt x="859" y="3220"/>
                          </a:lnTo>
                          <a:lnTo>
                            <a:pt x="929" y="3149"/>
                          </a:lnTo>
                          <a:lnTo>
                            <a:pt x="1004" y="3068"/>
                          </a:lnTo>
                          <a:lnTo>
                            <a:pt x="1074" y="2991"/>
                          </a:lnTo>
                          <a:lnTo>
                            <a:pt x="1145" y="2909"/>
                          </a:lnTo>
                          <a:lnTo>
                            <a:pt x="1222" y="2828"/>
                          </a:lnTo>
                          <a:lnTo>
                            <a:pt x="1293" y="2751"/>
                          </a:lnTo>
                          <a:lnTo>
                            <a:pt x="1399" y="2634"/>
                          </a:lnTo>
                          <a:lnTo>
                            <a:pt x="1498" y="2524"/>
                          </a:lnTo>
                          <a:lnTo>
                            <a:pt x="1593" y="2420"/>
                          </a:lnTo>
                          <a:lnTo>
                            <a:pt x="1689" y="2316"/>
                          </a:lnTo>
                          <a:lnTo>
                            <a:pt x="1770" y="2219"/>
                          </a:lnTo>
                          <a:lnTo>
                            <a:pt x="1855" y="2132"/>
                          </a:lnTo>
                          <a:lnTo>
                            <a:pt x="1933" y="2048"/>
                          </a:lnTo>
                          <a:lnTo>
                            <a:pt x="2003" y="1963"/>
                          </a:lnTo>
                          <a:lnTo>
                            <a:pt x="2066" y="1888"/>
                          </a:lnTo>
                          <a:lnTo>
                            <a:pt x="2134" y="1814"/>
                          </a:lnTo>
                          <a:lnTo>
                            <a:pt x="2186" y="1746"/>
                          </a:lnTo>
                          <a:lnTo>
                            <a:pt x="2240" y="1678"/>
                          </a:lnTo>
                          <a:lnTo>
                            <a:pt x="2286" y="1617"/>
                          </a:lnTo>
                          <a:lnTo>
                            <a:pt x="2336" y="1559"/>
                          </a:lnTo>
                          <a:lnTo>
                            <a:pt x="2370" y="1503"/>
                          </a:lnTo>
                          <a:lnTo>
                            <a:pt x="2406" y="1448"/>
                          </a:lnTo>
                          <a:lnTo>
                            <a:pt x="2441" y="1399"/>
                          </a:lnTo>
                          <a:lnTo>
                            <a:pt x="2469" y="1351"/>
                          </a:lnTo>
                          <a:lnTo>
                            <a:pt x="2494" y="1308"/>
                          </a:lnTo>
                          <a:lnTo>
                            <a:pt x="2512" y="1269"/>
                          </a:lnTo>
                          <a:lnTo>
                            <a:pt x="2529" y="1228"/>
                          </a:lnTo>
                          <a:lnTo>
                            <a:pt x="2541" y="1189"/>
                          </a:lnTo>
                          <a:lnTo>
                            <a:pt x="2554" y="1150"/>
                          </a:lnTo>
                          <a:lnTo>
                            <a:pt x="2557" y="1117"/>
                          </a:lnTo>
                          <a:lnTo>
                            <a:pt x="2565" y="1086"/>
                          </a:lnTo>
                          <a:lnTo>
                            <a:pt x="2565" y="1053"/>
                          </a:lnTo>
                          <a:lnTo>
                            <a:pt x="2554" y="1134"/>
                          </a:lnTo>
                          <a:lnTo>
                            <a:pt x="2512" y="1195"/>
                          </a:lnTo>
                          <a:lnTo>
                            <a:pt x="2469" y="1231"/>
                          </a:lnTo>
                          <a:lnTo>
                            <a:pt x="2476" y="1231"/>
                          </a:lnTo>
                          <a:lnTo>
                            <a:pt x="2476" y="1228"/>
                          </a:lnTo>
                          <a:lnTo>
                            <a:pt x="2512" y="1211"/>
                          </a:lnTo>
                          <a:lnTo>
                            <a:pt x="2554" y="1180"/>
                          </a:lnTo>
                          <a:lnTo>
                            <a:pt x="2607" y="1140"/>
                          </a:lnTo>
                          <a:lnTo>
                            <a:pt x="2671" y="1043"/>
                          </a:lnTo>
                          <a:lnTo>
                            <a:pt x="2695" y="932"/>
                          </a:lnTo>
                          <a:lnTo>
                            <a:pt x="2671" y="826"/>
                          </a:lnTo>
                          <a:lnTo>
                            <a:pt x="2607" y="732"/>
                          </a:lnTo>
                          <a:lnTo>
                            <a:pt x="2505" y="667"/>
                          </a:lnTo>
                          <a:lnTo>
                            <a:pt x="2381" y="644"/>
                          </a:lnTo>
                          <a:lnTo>
                            <a:pt x="2279" y="650"/>
                          </a:lnTo>
                          <a:lnTo>
                            <a:pt x="2173" y="661"/>
                          </a:lnTo>
                          <a:lnTo>
                            <a:pt x="2074" y="683"/>
                          </a:lnTo>
                          <a:lnTo>
                            <a:pt x="1978" y="699"/>
                          </a:lnTo>
                          <a:lnTo>
                            <a:pt x="1890" y="722"/>
                          </a:lnTo>
                          <a:lnTo>
                            <a:pt x="1770" y="749"/>
                          </a:lnTo>
                          <a:lnTo>
                            <a:pt x="1664" y="771"/>
                          </a:lnTo>
                          <a:lnTo>
                            <a:pt x="1565" y="777"/>
                          </a:lnTo>
                          <a:lnTo>
                            <a:pt x="1477" y="771"/>
                          </a:lnTo>
                          <a:lnTo>
                            <a:pt x="1576" y="810"/>
                          </a:lnTo>
                          <a:lnTo>
                            <a:pt x="1661" y="874"/>
                          </a:lnTo>
                          <a:lnTo>
                            <a:pt x="1706" y="956"/>
                          </a:lnTo>
                          <a:lnTo>
                            <a:pt x="1731" y="1053"/>
                          </a:lnTo>
                          <a:lnTo>
                            <a:pt x="1742" y="998"/>
                          </a:lnTo>
                          <a:lnTo>
                            <a:pt x="1770" y="926"/>
                          </a:lnTo>
                          <a:lnTo>
                            <a:pt x="1812" y="858"/>
                          </a:lnTo>
                          <a:lnTo>
                            <a:pt x="1840" y="810"/>
                          </a:lnTo>
                          <a:lnTo>
                            <a:pt x="1866" y="758"/>
                          </a:lnTo>
                          <a:lnTo>
                            <a:pt x="1897" y="699"/>
                          </a:lnTo>
                          <a:lnTo>
                            <a:pt x="1918" y="628"/>
                          </a:lnTo>
                          <a:lnTo>
                            <a:pt x="1936" y="558"/>
                          </a:lnTo>
                          <a:lnTo>
                            <a:pt x="1943" y="489"/>
                          </a:lnTo>
                          <a:lnTo>
                            <a:pt x="1943" y="411"/>
                          </a:lnTo>
                          <a:lnTo>
                            <a:pt x="1918" y="337"/>
                          </a:lnTo>
                          <a:lnTo>
                            <a:pt x="1879" y="259"/>
                          </a:lnTo>
                          <a:lnTo>
                            <a:pt x="1819" y="185"/>
                          </a:lnTo>
                          <a:lnTo>
                            <a:pt x="1731" y="113"/>
                          </a:lnTo>
                          <a:lnTo>
                            <a:pt x="1767" y="139"/>
                          </a:lnTo>
                          <a:lnTo>
                            <a:pt x="1802" y="178"/>
                          </a:lnTo>
                          <a:lnTo>
                            <a:pt x="1823" y="216"/>
                          </a:lnTo>
                          <a:lnTo>
                            <a:pt x="1784" y="139"/>
                          </a:lnTo>
                          <a:lnTo>
                            <a:pt x="1713" y="71"/>
                          </a:lnTo>
                          <a:lnTo>
                            <a:pt x="1604" y="16"/>
                          </a:lnTo>
                          <a:lnTo>
                            <a:pt x="1540" y="0"/>
                          </a:lnTo>
                          <a:lnTo>
                            <a:pt x="1452" y="6"/>
                          </a:lnTo>
                          <a:lnTo>
                            <a:pt x="1350" y="32"/>
                          </a:lnTo>
                          <a:lnTo>
                            <a:pt x="1399" y="22"/>
                          </a:lnTo>
                          <a:lnTo>
                            <a:pt x="1435" y="16"/>
                          </a:lnTo>
                          <a:lnTo>
                            <a:pt x="1462" y="16"/>
                          </a:lnTo>
                          <a:lnTo>
                            <a:pt x="1459" y="16"/>
                          </a:lnTo>
                          <a:lnTo>
                            <a:pt x="1452" y="9"/>
                          </a:lnTo>
                          <a:lnTo>
                            <a:pt x="1350" y="0"/>
                          </a:lnTo>
                          <a:lnTo>
                            <a:pt x="1258" y="9"/>
                          </a:lnTo>
                          <a:lnTo>
                            <a:pt x="1166" y="48"/>
                          </a:lnTo>
                          <a:lnTo>
                            <a:pt x="1095" y="113"/>
                          </a:lnTo>
                          <a:lnTo>
                            <a:pt x="1049" y="194"/>
                          </a:lnTo>
                          <a:lnTo>
                            <a:pt x="1038" y="288"/>
                          </a:lnTo>
                          <a:lnTo>
                            <a:pt x="1049" y="376"/>
                          </a:lnTo>
                          <a:lnTo>
                            <a:pt x="1095" y="450"/>
                          </a:lnTo>
                          <a:lnTo>
                            <a:pt x="1162" y="515"/>
                          </a:lnTo>
                          <a:lnTo>
                            <a:pt x="1251" y="558"/>
                          </a:lnTo>
                          <a:close/>
                        </a:path>
                      </a:pathLst>
                    </a:custGeom>
                    <a:solidFill>
                      <a:srgbClr val="00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 rot="10800000">
                      <a:off x="3627720" y="7538760"/>
                      <a:ext cx="3045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62" h="723">
                          <a:moveTo>
                            <a:pt x="4147" y="33"/>
                          </a:moveTo>
                          <a:lnTo>
                            <a:pt x="4108" y="33"/>
                          </a:lnTo>
                          <a:lnTo>
                            <a:pt x="4077" y="33"/>
                          </a:lnTo>
                          <a:lnTo>
                            <a:pt x="4042" y="27"/>
                          </a:lnTo>
                          <a:lnTo>
                            <a:pt x="3988" y="17"/>
                          </a:lnTo>
                          <a:lnTo>
                            <a:pt x="3918" y="10"/>
                          </a:lnTo>
                          <a:lnTo>
                            <a:pt x="3822" y="3"/>
                          </a:lnTo>
                          <a:lnTo>
                            <a:pt x="3674" y="27"/>
                          </a:lnTo>
                          <a:lnTo>
                            <a:pt x="3562" y="66"/>
                          </a:lnTo>
                          <a:lnTo>
                            <a:pt x="3490" y="104"/>
                          </a:lnTo>
                          <a:lnTo>
                            <a:pt x="3487" y="108"/>
                          </a:lnTo>
                          <a:lnTo>
                            <a:pt x="3473" y="108"/>
                          </a:lnTo>
                          <a:lnTo>
                            <a:pt x="3473" y="114"/>
                          </a:lnTo>
                          <a:lnTo>
                            <a:pt x="3480" y="108"/>
                          </a:lnTo>
                          <a:lnTo>
                            <a:pt x="3487" y="108"/>
                          </a:lnTo>
                          <a:lnTo>
                            <a:pt x="3497" y="108"/>
                          </a:lnTo>
                          <a:lnTo>
                            <a:pt x="3490" y="108"/>
                          </a:lnTo>
                          <a:lnTo>
                            <a:pt x="3497" y="108"/>
                          </a:lnTo>
                          <a:lnTo>
                            <a:pt x="3505" y="108"/>
                          </a:lnTo>
                          <a:lnTo>
                            <a:pt x="3508" y="114"/>
                          </a:lnTo>
                          <a:lnTo>
                            <a:pt x="3508" y="108"/>
                          </a:lnTo>
                          <a:lnTo>
                            <a:pt x="3505" y="108"/>
                          </a:lnTo>
                          <a:lnTo>
                            <a:pt x="3497" y="104"/>
                          </a:lnTo>
                          <a:lnTo>
                            <a:pt x="3427" y="72"/>
                          </a:lnTo>
                          <a:lnTo>
                            <a:pt x="3321" y="33"/>
                          </a:lnTo>
                          <a:lnTo>
                            <a:pt x="3176" y="17"/>
                          </a:lnTo>
                          <a:lnTo>
                            <a:pt x="3024" y="33"/>
                          </a:lnTo>
                          <a:lnTo>
                            <a:pt x="2911" y="75"/>
                          </a:lnTo>
                          <a:lnTo>
                            <a:pt x="2840" y="114"/>
                          </a:lnTo>
                          <a:lnTo>
                            <a:pt x="2833" y="121"/>
                          </a:lnTo>
                          <a:lnTo>
                            <a:pt x="2830" y="121"/>
                          </a:lnTo>
                          <a:lnTo>
                            <a:pt x="2823" y="124"/>
                          </a:lnTo>
                          <a:lnTo>
                            <a:pt x="2830" y="121"/>
                          </a:lnTo>
                          <a:lnTo>
                            <a:pt x="2840" y="121"/>
                          </a:lnTo>
                          <a:lnTo>
                            <a:pt x="2848" y="114"/>
                          </a:lnTo>
                          <a:lnTo>
                            <a:pt x="2848" y="121"/>
                          </a:lnTo>
                          <a:lnTo>
                            <a:pt x="2794" y="114"/>
                          </a:lnTo>
                          <a:lnTo>
                            <a:pt x="2755" y="114"/>
                          </a:lnTo>
                          <a:lnTo>
                            <a:pt x="2721" y="108"/>
                          </a:lnTo>
                          <a:lnTo>
                            <a:pt x="2674" y="108"/>
                          </a:lnTo>
                          <a:lnTo>
                            <a:pt x="2614" y="104"/>
                          </a:lnTo>
                          <a:lnTo>
                            <a:pt x="2526" y="97"/>
                          </a:lnTo>
                          <a:lnTo>
                            <a:pt x="2462" y="97"/>
                          </a:lnTo>
                          <a:lnTo>
                            <a:pt x="2413" y="97"/>
                          </a:lnTo>
                          <a:lnTo>
                            <a:pt x="2374" y="97"/>
                          </a:lnTo>
                          <a:lnTo>
                            <a:pt x="2324" y="97"/>
                          </a:lnTo>
                          <a:lnTo>
                            <a:pt x="2272" y="97"/>
                          </a:lnTo>
                          <a:lnTo>
                            <a:pt x="2201" y="91"/>
                          </a:lnTo>
                          <a:lnTo>
                            <a:pt x="2137" y="91"/>
                          </a:lnTo>
                          <a:lnTo>
                            <a:pt x="2088" y="91"/>
                          </a:lnTo>
                          <a:lnTo>
                            <a:pt x="2052" y="91"/>
                          </a:lnTo>
                          <a:lnTo>
                            <a:pt x="2007" y="91"/>
                          </a:lnTo>
                          <a:lnTo>
                            <a:pt x="1953" y="91"/>
                          </a:lnTo>
                          <a:lnTo>
                            <a:pt x="1880" y="91"/>
                          </a:lnTo>
                          <a:lnTo>
                            <a:pt x="1875" y="91"/>
                          </a:lnTo>
                          <a:lnTo>
                            <a:pt x="1880" y="91"/>
                          </a:lnTo>
                          <a:lnTo>
                            <a:pt x="1887" y="91"/>
                          </a:lnTo>
                          <a:lnTo>
                            <a:pt x="1893" y="97"/>
                          </a:lnTo>
                          <a:lnTo>
                            <a:pt x="1887" y="91"/>
                          </a:lnTo>
                          <a:lnTo>
                            <a:pt x="1880" y="88"/>
                          </a:lnTo>
                          <a:lnTo>
                            <a:pt x="1875" y="88"/>
                          </a:lnTo>
                          <a:lnTo>
                            <a:pt x="1805" y="55"/>
                          </a:lnTo>
                          <a:lnTo>
                            <a:pt x="1699" y="17"/>
                          </a:lnTo>
                          <a:lnTo>
                            <a:pt x="1555" y="0"/>
                          </a:lnTo>
                          <a:lnTo>
                            <a:pt x="1385" y="27"/>
                          </a:lnTo>
                          <a:lnTo>
                            <a:pt x="1265" y="82"/>
                          </a:lnTo>
                          <a:lnTo>
                            <a:pt x="1187" y="136"/>
                          </a:lnTo>
                          <a:lnTo>
                            <a:pt x="1184" y="140"/>
                          </a:lnTo>
                          <a:lnTo>
                            <a:pt x="1176" y="140"/>
                          </a:lnTo>
                          <a:lnTo>
                            <a:pt x="1176" y="146"/>
                          </a:lnTo>
                          <a:lnTo>
                            <a:pt x="1194" y="136"/>
                          </a:lnTo>
                          <a:lnTo>
                            <a:pt x="1212" y="130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236" y="124"/>
                          </a:lnTo>
                          <a:lnTo>
                            <a:pt x="1239" y="130"/>
                          </a:lnTo>
                          <a:lnTo>
                            <a:pt x="1239" y="124"/>
                          </a:lnTo>
                          <a:lnTo>
                            <a:pt x="1236" y="124"/>
                          </a:lnTo>
                          <a:lnTo>
                            <a:pt x="1229" y="124"/>
                          </a:lnTo>
                          <a:lnTo>
                            <a:pt x="1166" y="91"/>
                          </a:lnTo>
                          <a:lnTo>
                            <a:pt x="1063" y="72"/>
                          </a:lnTo>
                          <a:lnTo>
                            <a:pt x="933" y="55"/>
                          </a:lnTo>
                          <a:lnTo>
                            <a:pt x="826" y="66"/>
                          </a:lnTo>
                          <a:lnTo>
                            <a:pt x="738" y="82"/>
                          </a:lnTo>
                          <a:lnTo>
                            <a:pt x="668" y="104"/>
                          </a:lnTo>
                          <a:lnTo>
                            <a:pt x="650" y="108"/>
                          </a:lnTo>
                          <a:lnTo>
                            <a:pt x="632" y="108"/>
                          </a:lnTo>
                          <a:lnTo>
                            <a:pt x="615" y="108"/>
                          </a:lnTo>
                          <a:lnTo>
                            <a:pt x="527" y="114"/>
                          </a:lnTo>
                          <a:lnTo>
                            <a:pt x="455" y="124"/>
                          </a:lnTo>
                          <a:lnTo>
                            <a:pt x="389" y="136"/>
                          </a:lnTo>
                          <a:lnTo>
                            <a:pt x="364" y="140"/>
                          </a:lnTo>
                          <a:lnTo>
                            <a:pt x="343" y="140"/>
                          </a:lnTo>
                          <a:lnTo>
                            <a:pt x="311" y="146"/>
                          </a:lnTo>
                          <a:lnTo>
                            <a:pt x="219" y="163"/>
                          </a:lnTo>
                          <a:lnTo>
                            <a:pt x="127" y="201"/>
                          </a:lnTo>
                          <a:lnTo>
                            <a:pt x="63" y="260"/>
                          </a:lnTo>
                          <a:lnTo>
                            <a:pt x="18" y="340"/>
                          </a:lnTo>
                          <a:lnTo>
                            <a:pt x="0" y="434"/>
                          </a:lnTo>
                          <a:lnTo>
                            <a:pt x="18" y="522"/>
                          </a:lnTo>
                          <a:lnTo>
                            <a:pt x="63" y="603"/>
                          </a:lnTo>
                          <a:lnTo>
                            <a:pt x="127" y="668"/>
                          </a:lnTo>
                          <a:lnTo>
                            <a:pt x="219" y="707"/>
                          </a:lnTo>
                          <a:lnTo>
                            <a:pt x="311" y="723"/>
                          </a:lnTo>
                          <a:lnTo>
                            <a:pt x="406" y="716"/>
                          </a:lnTo>
                          <a:lnTo>
                            <a:pt x="477" y="707"/>
                          </a:lnTo>
                          <a:lnTo>
                            <a:pt x="544" y="694"/>
                          </a:lnTo>
                          <a:lnTo>
                            <a:pt x="566" y="691"/>
                          </a:lnTo>
                          <a:lnTo>
                            <a:pt x="590" y="685"/>
                          </a:lnTo>
                          <a:lnTo>
                            <a:pt x="615" y="685"/>
                          </a:lnTo>
                          <a:lnTo>
                            <a:pt x="728" y="677"/>
                          </a:lnTo>
                          <a:lnTo>
                            <a:pt x="816" y="661"/>
                          </a:lnTo>
                          <a:lnTo>
                            <a:pt x="886" y="639"/>
                          </a:lnTo>
                          <a:lnTo>
                            <a:pt x="904" y="636"/>
                          </a:lnTo>
                          <a:lnTo>
                            <a:pt x="915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33" y="629"/>
                          </a:lnTo>
                          <a:lnTo>
                            <a:pt x="929" y="629"/>
                          </a:lnTo>
                          <a:lnTo>
                            <a:pt x="933" y="629"/>
                          </a:lnTo>
                          <a:lnTo>
                            <a:pt x="940" y="629"/>
                          </a:lnTo>
                          <a:lnTo>
                            <a:pt x="947" y="636"/>
                          </a:lnTo>
                          <a:lnTo>
                            <a:pt x="1003" y="661"/>
                          </a:lnTo>
                          <a:lnTo>
                            <a:pt x="1106" y="691"/>
                          </a:lnTo>
                          <a:lnTo>
                            <a:pt x="1236" y="700"/>
                          </a:lnTo>
                          <a:lnTo>
                            <a:pt x="1402" y="677"/>
                          </a:lnTo>
                          <a:lnTo>
                            <a:pt x="1519" y="622"/>
                          </a:lnTo>
                          <a:lnTo>
                            <a:pt x="1597" y="571"/>
                          </a:lnTo>
                          <a:lnTo>
                            <a:pt x="1604" y="564"/>
                          </a:lnTo>
                          <a:lnTo>
                            <a:pt x="1607" y="564"/>
                          </a:lnTo>
                          <a:lnTo>
                            <a:pt x="1615" y="558"/>
                          </a:lnTo>
                          <a:lnTo>
                            <a:pt x="1597" y="571"/>
                          </a:lnTo>
                          <a:lnTo>
                            <a:pt x="1572" y="574"/>
                          </a:lnTo>
                          <a:lnTo>
                            <a:pt x="1555" y="574"/>
                          </a:lnTo>
                          <a:lnTo>
                            <a:pt x="1561" y="574"/>
                          </a:lnTo>
                          <a:lnTo>
                            <a:pt x="1555" y="574"/>
                          </a:lnTo>
                          <a:lnTo>
                            <a:pt x="1551" y="574"/>
                          </a:lnTo>
                          <a:lnTo>
                            <a:pt x="1543" y="574"/>
                          </a:lnTo>
                          <a:lnTo>
                            <a:pt x="1555" y="580"/>
                          </a:lnTo>
                          <a:lnTo>
                            <a:pt x="1561" y="580"/>
                          </a:lnTo>
                          <a:lnTo>
                            <a:pt x="1633" y="619"/>
                          </a:lnTo>
                          <a:lnTo>
                            <a:pt x="1738" y="652"/>
                          </a:lnTo>
                          <a:lnTo>
                            <a:pt x="1880" y="668"/>
                          </a:lnTo>
                          <a:lnTo>
                            <a:pt x="1947" y="668"/>
                          </a:lnTo>
                          <a:lnTo>
                            <a:pt x="1992" y="668"/>
                          </a:lnTo>
                          <a:lnTo>
                            <a:pt x="2028" y="668"/>
                          </a:lnTo>
                          <a:lnTo>
                            <a:pt x="2077" y="668"/>
                          </a:lnTo>
                          <a:lnTo>
                            <a:pt x="2130" y="668"/>
                          </a:lnTo>
                          <a:lnTo>
                            <a:pt x="2201" y="668"/>
                          </a:lnTo>
                          <a:lnTo>
                            <a:pt x="2264" y="674"/>
                          </a:lnTo>
                          <a:lnTo>
                            <a:pt x="2314" y="674"/>
                          </a:lnTo>
                          <a:lnTo>
                            <a:pt x="2357" y="674"/>
                          </a:lnTo>
                          <a:lnTo>
                            <a:pt x="2402" y="674"/>
                          </a:lnTo>
                          <a:lnTo>
                            <a:pt x="2456" y="674"/>
                          </a:lnTo>
                          <a:lnTo>
                            <a:pt x="2526" y="674"/>
                          </a:lnTo>
                          <a:lnTo>
                            <a:pt x="2579" y="677"/>
                          </a:lnTo>
                          <a:lnTo>
                            <a:pt x="2614" y="677"/>
                          </a:lnTo>
                          <a:lnTo>
                            <a:pt x="2649" y="685"/>
                          </a:lnTo>
                          <a:lnTo>
                            <a:pt x="2700" y="685"/>
                          </a:lnTo>
                          <a:lnTo>
                            <a:pt x="2755" y="691"/>
                          </a:lnTo>
                          <a:lnTo>
                            <a:pt x="2848" y="694"/>
                          </a:lnTo>
                          <a:lnTo>
                            <a:pt x="2996" y="674"/>
                          </a:lnTo>
                          <a:lnTo>
                            <a:pt x="3105" y="636"/>
                          </a:lnTo>
                          <a:lnTo>
                            <a:pt x="3176" y="597"/>
                          </a:lnTo>
                          <a:lnTo>
                            <a:pt x="3190" y="591"/>
                          </a:lnTo>
                          <a:lnTo>
                            <a:pt x="3194" y="587"/>
                          </a:lnTo>
                          <a:lnTo>
                            <a:pt x="3190" y="591"/>
                          </a:lnTo>
                          <a:lnTo>
                            <a:pt x="3183" y="591"/>
                          </a:lnTo>
                          <a:lnTo>
                            <a:pt x="3173" y="591"/>
                          </a:lnTo>
                          <a:lnTo>
                            <a:pt x="3176" y="591"/>
                          </a:lnTo>
                          <a:lnTo>
                            <a:pt x="3173" y="591"/>
                          </a:lnTo>
                          <a:lnTo>
                            <a:pt x="3165" y="591"/>
                          </a:lnTo>
                          <a:lnTo>
                            <a:pt x="3155" y="587"/>
                          </a:lnTo>
                          <a:lnTo>
                            <a:pt x="3158" y="591"/>
                          </a:lnTo>
                          <a:lnTo>
                            <a:pt x="3165" y="591"/>
                          </a:lnTo>
                          <a:lnTo>
                            <a:pt x="3173" y="597"/>
                          </a:lnTo>
                          <a:lnTo>
                            <a:pt x="3243" y="629"/>
                          </a:lnTo>
                          <a:lnTo>
                            <a:pt x="3349" y="668"/>
                          </a:lnTo>
                          <a:lnTo>
                            <a:pt x="3490" y="685"/>
                          </a:lnTo>
                          <a:lnTo>
                            <a:pt x="3646" y="668"/>
                          </a:lnTo>
                          <a:lnTo>
                            <a:pt x="3759" y="622"/>
                          </a:lnTo>
                          <a:lnTo>
                            <a:pt x="3830" y="587"/>
                          </a:lnTo>
                          <a:lnTo>
                            <a:pt x="3840" y="580"/>
                          </a:lnTo>
                          <a:lnTo>
                            <a:pt x="3840" y="574"/>
                          </a:lnTo>
                          <a:lnTo>
                            <a:pt x="3847" y="574"/>
                          </a:lnTo>
                          <a:lnTo>
                            <a:pt x="3840" y="580"/>
                          </a:lnTo>
                          <a:lnTo>
                            <a:pt x="3830" y="580"/>
                          </a:lnTo>
                          <a:lnTo>
                            <a:pt x="3822" y="580"/>
                          </a:lnTo>
                          <a:lnTo>
                            <a:pt x="3872" y="587"/>
                          </a:lnTo>
                          <a:lnTo>
                            <a:pt x="3900" y="587"/>
                          </a:lnTo>
                          <a:lnTo>
                            <a:pt x="3928" y="591"/>
                          </a:lnTo>
                          <a:lnTo>
                            <a:pt x="3981" y="597"/>
                          </a:lnTo>
                          <a:lnTo>
                            <a:pt x="4052" y="606"/>
                          </a:lnTo>
                          <a:lnTo>
                            <a:pt x="4147" y="613"/>
                          </a:lnTo>
                          <a:lnTo>
                            <a:pt x="4243" y="597"/>
                          </a:lnTo>
                          <a:lnTo>
                            <a:pt x="4331" y="555"/>
                          </a:lnTo>
                          <a:lnTo>
                            <a:pt x="4398" y="493"/>
                          </a:lnTo>
                          <a:lnTo>
                            <a:pt x="4445" y="412"/>
                          </a:lnTo>
                          <a:lnTo>
                            <a:pt x="4462" y="324"/>
                          </a:lnTo>
                          <a:lnTo>
                            <a:pt x="4445" y="234"/>
                          </a:lnTo>
                          <a:lnTo>
                            <a:pt x="4398" y="152"/>
                          </a:lnTo>
                          <a:lnTo>
                            <a:pt x="4331" y="88"/>
                          </a:lnTo>
                          <a:lnTo>
                            <a:pt x="4243" y="49"/>
                          </a:lnTo>
                          <a:lnTo>
                            <a:pt x="414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 rot="10800000">
                      <a:off x="3329280" y="7539120"/>
                      <a:ext cx="275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27" h="4080">
                          <a:moveTo>
                            <a:pt x="3963" y="2663"/>
                          </a:moveTo>
                          <a:lnTo>
                            <a:pt x="3975" y="2682"/>
                          </a:lnTo>
                          <a:lnTo>
                            <a:pt x="3981" y="2706"/>
                          </a:lnTo>
                          <a:lnTo>
                            <a:pt x="3988" y="2728"/>
                          </a:lnTo>
                          <a:lnTo>
                            <a:pt x="3988" y="2721"/>
                          </a:lnTo>
                          <a:lnTo>
                            <a:pt x="3988" y="2712"/>
                          </a:lnTo>
                          <a:lnTo>
                            <a:pt x="3988" y="2706"/>
                          </a:lnTo>
                          <a:lnTo>
                            <a:pt x="3988" y="2648"/>
                          </a:lnTo>
                          <a:lnTo>
                            <a:pt x="3981" y="2560"/>
                          </a:lnTo>
                          <a:lnTo>
                            <a:pt x="3946" y="2463"/>
                          </a:lnTo>
                          <a:lnTo>
                            <a:pt x="3875" y="2358"/>
                          </a:lnTo>
                          <a:lnTo>
                            <a:pt x="3815" y="2294"/>
                          </a:lnTo>
                          <a:lnTo>
                            <a:pt x="3770" y="2245"/>
                          </a:lnTo>
                          <a:lnTo>
                            <a:pt x="3716" y="2209"/>
                          </a:lnTo>
                          <a:lnTo>
                            <a:pt x="3698" y="2193"/>
                          </a:lnTo>
                          <a:lnTo>
                            <a:pt x="3685" y="2184"/>
                          </a:lnTo>
                          <a:lnTo>
                            <a:pt x="3664" y="2161"/>
                          </a:lnTo>
                          <a:lnTo>
                            <a:pt x="3607" y="2096"/>
                          </a:lnTo>
                          <a:lnTo>
                            <a:pt x="3561" y="2054"/>
                          </a:lnTo>
                          <a:lnTo>
                            <a:pt x="3519" y="2021"/>
                          </a:lnTo>
                          <a:lnTo>
                            <a:pt x="3501" y="1999"/>
                          </a:lnTo>
                          <a:lnTo>
                            <a:pt x="3472" y="1976"/>
                          </a:lnTo>
                          <a:lnTo>
                            <a:pt x="3444" y="1941"/>
                          </a:lnTo>
                          <a:lnTo>
                            <a:pt x="3360" y="1860"/>
                          </a:lnTo>
                          <a:lnTo>
                            <a:pt x="3288" y="1808"/>
                          </a:lnTo>
                          <a:lnTo>
                            <a:pt x="3228" y="1775"/>
                          </a:lnTo>
                          <a:lnTo>
                            <a:pt x="3225" y="1772"/>
                          </a:lnTo>
                          <a:lnTo>
                            <a:pt x="3218" y="1766"/>
                          </a:lnTo>
                          <a:lnTo>
                            <a:pt x="3212" y="1766"/>
                          </a:lnTo>
                          <a:lnTo>
                            <a:pt x="3207" y="1759"/>
                          </a:lnTo>
                          <a:lnTo>
                            <a:pt x="3200" y="1756"/>
                          </a:lnTo>
                          <a:lnTo>
                            <a:pt x="3165" y="1708"/>
                          </a:lnTo>
                          <a:lnTo>
                            <a:pt x="3134" y="1675"/>
                          </a:lnTo>
                          <a:lnTo>
                            <a:pt x="3112" y="1646"/>
                          </a:lnTo>
                          <a:lnTo>
                            <a:pt x="3088" y="1620"/>
                          </a:lnTo>
                          <a:lnTo>
                            <a:pt x="3059" y="1581"/>
                          </a:lnTo>
                          <a:lnTo>
                            <a:pt x="3017" y="1532"/>
                          </a:lnTo>
                          <a:lnTo>
                            <a:pt x="2971" y="1477"/>
                          </a:lnTo>
                          <a:lnTo>
                            <a:pt x="2929" y="1442"/>
                          </a:lnTo>
                          <a:lnTo>
                            <a:pt x="2896" y="1413"/>
                          </a:lnTo>
                          <a:lnTo>
                            <a:pt x="2879" y="1390"/>
                          </a:lnTo>
                          <a:lnTo>
                            <a:pt x="2857" y="1371"/>
                          </a:lnTo>
                          <a:lnTo>
                            <a:pt x="2826" y="1332"/>
                          </a:lnTo>
                          <a:lnTo>
                            <a:pt x="2781" y="1283"/>
                          </a:lnTo>
                          <a:lnTo>
                            <a:pt x="2745" y="1244"/>
                          </a:lnTo>
                          <a:lnTo>
                            <a:pt x="2713" y="1219"/>
                          </a:lnTo>
                          <a:lnTo>
                            <a:pt x="2691" y="1195"/>
                          </a:lnTo>
                          <a:lnTo>
                            <a:pt x="2674" y="1173"/>
                          </a:lnTo>
                          <a:lnTo>
                            <a:pt x="2642" y="1141"/>
                          </a:lnTo>
                          <a:lnTo>
                            <a:pt x="2621" y="1114"/>
                          </a:lnTo>
                          <a:lnTo>
                            <a:pt x="2607" y="1092"/>
                          </a:lnTo>
                          <a:lnTo>
                            <a:pt x="2597" y="1073"/>
                          </a:lnTo>
                          <a:lnTo>
                            <a:pt x="2568" y="1017"/>
                          </a:lnTo>
                          <a:lnTo>
                            <a:pt x="2526" y="962"/>
                          </a:lnTo>
                          <a:lnTo>
                            <a:pt x="2473" y="891"/>
                          </a:lnTo>
                          <a:lnTo>
                            <a:pt x="2459" y="874"/>
                          </a:lnTo>
                          <a:lnTo>
                            <a:pt x="2455" y="859"/>
                          </a:lnTo>
                          <a:lnTo>
                            <a:pt x="2441" y="843"/>
                          </a:lnTo>
                          <a:lnTo>
                            <a:pt x="2420" y="777"/>
                          </a:lnTo>
                          <a:lnTo>
                            <a:pt x="2377" y="713"/>
                          </a:lnTo>
                          <a:lnTo>
                            <a:pt x="2317" y="632"/>
                          </a:lnTo>
                          <a:lnTo>
                            <a:pt x="2317" y="625"/>
                          </a:lnTo>
                          <a:lnTo>
                            <a:pt x="2317" y="638"/>
                          </a:lnTo>
                          <a:lnTo>
                            <a:pt x="2324" y="648"/>
                          </a:lnTo>
                          <a:lnTo>
                            <a:pt x="2332" y="655"/>
                          </a:lnTo>
                          <a:lnTo>
                            <a:pt x="2324" y="648"/>
                          </a:lnTo>
                          <a:lnTo>
                            <a:pt x="2324" y="641"/>
                          </a:lnTo>
                          <a:lnTo>
                            <a:pt x="2314" y="583"/>
                          </a:lnTo>
                          <a:lnTo>
                            <a:pt x="2275" y="495"/>
                          </a:lnTo>
                          <a:lnTo>
                            <a:pt x="2204" y="392"/>
                          </a:lnTo>
                          <a:lnTo>
                            <a:pt x="2088" y="295"/>
                          </a:lnTo>
                          <a:lnTo>
                            <a:pt x="1968" y="246"/>
                          </a:lnTo>
                          <a:lnTo>
                            <a:pt x="1886" y="224"/>
                          </a:lnTo>
                          <a:lnTo>
                            <a:pt x="1880" y="224"/>
                          </a:lnTo>
                          <a:lnTo>
                            <a:pt x="1872" y="224"/>
                          </a:lnTo>
                          <a:lnTo>
                            <a:pt x="1868" y="224"/>
                          </a:lnTo>
                          <a:lnTo>
                            <a:pt x="1897" y="237"/>
                          </a:lnTo>
                          <a:lnTo>
                            <a:pt x="1922" y="246"/>
                          </a:lnTo>
                          <a:lnTo>
                            <a:pt x="1946" y="269"/>
                          </a:lnTo>
                          <a:lnTo>
                            <a:pt x="1974" y="312"/>
                          </a:lnTo>
                          <a:lnTo>
                            <a:pt x="1985" y="343"/>
                          </a:lnTo>
                          <a:lnTo>
                            <a:pt x="1985" y="366"/>
                          </a:lnTo>
                          <a:lnTo>
                            <a:pt x="1985" y="360"/>
                          </a:lnTo>
                          <a:lnTo>
                            <a:pt x="1985" y="353"/>
                          </a:lnTo>
                          <a:lnTo>
                            <a:pt x="1992" y="350"/>
                          </a:lnTo>
                          <a:lnTo>
                            <a:pt x="1985" y="224"/>
                          </a:lnTo>
                          <a:lnTo>
                            <a:pt x="1946" y="136"/>
                          </a:lnTo>
                          <a:lnTo>
                            <a:pt x="1886" y="72"/>
                          </a:lnTo>
                          <a:lnTo>
                            <a:pt x="1833" y="39"/>
                          </a:lnTo>
                          <a:lnTo>
                            <a:pt x="1790" y="19"/>
                          </a:lnTo>
                          <a:lnTo>
                            <a:pt x="1748" y="6"/>
                          </a:lnTo>
                          <a:lnTo>
                            <a:pt x="1685" y="0"/>
                          </a:lnTo>
                          <a:lnTo>
                            <a:pt x="1597" y="13"/>
                          </a:lnTo>
                          <a:lnTo>
                            <a:pt x="1501" y="52"/>
                          </a:lnTo>
                          <a:lnTo>
                            <a:pt x="1398" y="143"/>
                          </a:lnTo>
                          <a:lnTo>
                            <a:pt x="1328" y="246"/>
                          </a:lnTo>
                          <a:lnTo>
                            <a:pt x="1283" y="334"/>
                          </a:lnTo>
                          <a:lnTo>
                            <a:pt x="1257" y="431"/>
                          </a:lnTo>
                          <a:lnTo>
                            <a:pt x="1257" y="551"/>
                          </a:lnTo>
                          <a:lnTo>
                            <a:pt x="1257" y="583"/>
                          </a:lnTo>
                          <a:lnTo>
                            <a:pt x="1271" y="713"/>
                          </a:lnTo>
                          <a:lnTo>
                            <a:pt x="1307" y="804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53" y="882"/>
                          </a:lnTo>
                          <a:lnTo>
                            <a:pt x="1353" y="888"/>
                          </a:lnTo>
                          <a:lnTo>
                            <a:pt x="1353" y="882"/>
                          </a:lnTo>
                          <a:lnTo>
                            <a:pt x="1346" y="871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6" y="874"/>
                          </a:lnTo>
                          <a:lnTo>
                            <a:pt x="1346" y="882"/>
                          </a:lnTo>
                          <a:lnTo>
                            <a:pt x="1343" y="888"/>
                          </a:lnTo>
                          <a:lnTo>
                            <a:pt x="1343" y="891"/>
                          </a:lnTo>
                          <a:lnTo>
                            <a:pt x="1299" y="968"/>
                          </a:lnTo>
                          <a:lnTo>
                            <a:pt x="1271" y="1066"/>
                          </a:lnTo>
                          <a:lnTo>
                            <a:pt x="1257" y="1186"/>
                          </a:lnTo>
                          <a:lnTo>
                            <a:pt x="1265" y="1277"/>
                          </a:lnTo>
                          <a:lnTo>
                            <a:pt x="1271" y="1341"/>
                          </a:lnTo>
                          <a:lnTo>
                            <a:pt x="1283" y="1396"/>
                          </a:lnTo>
                          <a:lnTo>
                            <a:pt x="1289" y="1426"/>
                          </a:lnTo>
                          <a:lnTo>
                            <a:pt x="1293" y="1451"/>
                          </a:lnTo>
                          <a:lnTo>
                            <a:pt x="1293" y="1490"/>
                          </a:lnTo>
                          <a:lnTo>
                            <a:pt x="1293" y="1642"/>
                          </a:lnTo>
                          <a:lnTo>
                            <a:pt x="1293" y="1789"/>
                          </a:lnTo>
                          <a:lnTo>
                            <a:pt x="1293" y="1869"/>
                          </a:lnTo>
                          <a:lnTo>
                            <a:pt x="1299" y="1924"/>
                          </a:lnTo>
                          <a:lnTo>
                            <a:pt x="1307" y="1973"/>
                          </a:lnTo>
                          <a:lnTo>
                            <a:pt x="1310" y="1999"/>
                          </a:lnTo>
                          <a:lnTo>
                            <a:pt x="1310" y="2032"/>
                          </a:lnTo>
                          <a:lnTo>
                            <a:pt x="1317" y="2077"/>
                          </a:lnTo>
                          <a:lnTo>
                            <a:pt x="1317" y="2161"/>
                          </a:lnTo>
                          <a:lnTo>
                            <a:pt x="1325" y="2223"/>
                          </a:lnTo>
                          <a:lnTo>
                            <a:pt x="1335" y="2272"/>
                          </a:lnTo>
                          <a:lnTo>
                            <a:pt x="1335" y="2294"/>
                          </a:lnTo>
                          <a:lnTo>
                            <a:pt x="1343" y="2320"/>
                          </a:lnTo>
                          <a:lnTo>
                            <a:pt x="1343" y="2352"/>
                          </a:lnTo>
                          <a:lnTo>
                            <a:pt x="1343" y="2358"/>
                          </a:lnTo>
                          <a:lnTo>
                            <a:pt x="1346" y="2346"/>
                          </a:lnTo>
                          <a:lnTo>
                            <a:pt x="1346" y="2336"/>
                          </a:lnTo>
                          <a:lnTo>
                            <a:pt x="1353" y="2330"/>
                          </a:lnTo>
                          <a:lnTo>
                            <a:pt x="1346" y="2336"/>
                          </a:lnTo>
                          <a:lnTo>
                            <a:pt x="1343" y="2346"/>
                          </a:lnTo>
                          <a:lnTo>
                            <a:pt x="1289" y="2417"/>
                          </a:lnTo>
                          <a:lnTo>
                            <a:pt x="1236" y="2527"/>
                          </a:lnTo>
                          <a:lnTo>
                            <a:pt x="1215" y="2679"/>
                          </a:lnTo>
                          <a:lnTo>
                            <a:pt x="1236" y="2825"/>
                          </a:lnTo>
                          <a:lnTo>
                            <a:pt x="1293" y="2928"/>
                          </a:lnTo>
                          <a:lnTo>
                            <a:pt x="1346" y="2997"/>
                          </a:lnTo>
                          <a:lnTo>
                            <a:pt x="1353" y="2997"/>
                          </a:lnTo>
                          <a:lnTo>
                            <a:pt x="1353" y="3003"/>
                          </a:lnTo>
                          <a:lnTo>
                            <a:pt x="1353" y="3010"/>
                          </a:lnTo>
                          <a:lnTo>
                            <a:pt x="1346" y="2994"/>
                          </a:lnTo>
                          <a:lnTo>
                            <a:pt x="1343" y="2971"/>
                          </a:lnTo>
                          <a:lnTo>
                            <a:pt x="1335" y="2949"/>
                          </a:lnTo>
                          <a:lnTo>
                            <a:pt x="1335" y="2939"/>
                          </a:lnTo>
                          <a:lnTo>
                            <a:pt x="1343" y="2922"/>
                          </a:lnTo>
                          <a:lnTo>
                            <a:pt x="1353" y="2906"/>
                          </a:lnTo>
                          <a:lnTo>
                            <a:pt x="1346" y="2913"/>
                          </a:lnTo>
                          <a:lnTo>
                            <a:pt x="1346" y="2916"/>
                          </a:lnTo>
                          <a:lnTo>
                            <a:pt x="1343" y="2922"/>
                          </a:lnTo>
                          <a:lnTo>
                            <a:pt x="1293" y="2981"/>
                          </a:lnTo>
                          <a:lnTo>
                            <a:pt x="1247" y="3085"/>
                          </a:lnTo>
                          <a:lnTo>
                            <a:pt x="1229" y="3227"/>
                          </a:lnTo>
                          <a:lnTo>
                            <a:pt x="1236" y="3334"/>
                          </a:lnTo>
                          <a:lnTo>
                            <a:pt x="1257" y="3412"/>
                          </a:lnTo>
                          <a:lnTo>
                            <a:pt x="1275" y="3470"/>
                          </a:lnTo>
                          <a:lnTo>
                            <a:pt x="1283" y="3486"/>
                          </a:lnTo>
                          <a:lnTo>
                            <a:pt x="1289" y="3499"/>
                          </a:lnTo>
                          <a:lnTo>
                            <a:pt x="1289" y="3509"/>
                          </a:lnTo>
                          <a:lnTo>
                            <a:pt x="1293" y="3596"/>
                          </a:lnTo>
                          <a:lnTo>
                            <a:pt x="1310" y="3668"/>
                          </a:lnTo>
                          <a:lnTo>
                            <a:pt x="1328" y="3716"/>
                          </a:lnTo>
                          <a:lnTo>
                            <a:pt x="1335" y="3719"/>
                          </a:lnTo>
                          <a:lnTo>
                            <a:pt x="1325" y="3638"/>
                          </a:lnTo>
                          <a:lnTo>
                            <a:pt x="1346" y="3558"/>
                          </a:lnTo>
                          <a:lnTo>
                            <a:pt x="1388" y="3503"/>
                          </a:lnTo>
                          <a:lnTo>
                            <a:pt x="1434" y="3483"/>
                          </a:lnTo>
                          <a:lnTo>
                            <a:pt x="1501" y="3477"/>
                          </a:lnTo>
                          <a:lnTo>
                            <a:pt x="1564" y="3486"/>
                          </a:lnTo>
                          <a:lnTo>
                            <a:pt x="1561" y="3486"/>
                          </a:lnTo>
                          <a:lnTo>
                            <a:pt x="1554" y="3483"/>
                          </a:lnTo>
                          <a:lnTo>
                            <a:pt x="1494" y="3461"/>
                          </a:lnTo>
                          <a:lnTo>
                            <a:pt x="1406" y="3437"/>
                          </a:lnTo>
                          <a:lnTo>
                            <a:pt x="1289" y="3428"/>
                          </a:lnTo>
                          <a:lnTo>
                            <a:pt x="1180" y="3431"/>
                          </a:lnTo>
                          <a:lnTo>
                            <a:pt x="1109" y="3444"/>
                          </a:lnTo>
                          <a:lnTo>
                            <a:pt x="1052" y="3450"/>
                          </a:lnTo>
                          <a:lnTo>
                            <a:pt x="1021" y="3461"/>
                          </a:lnTo>
                          <a:lnTo>
                            <a:pt x="992" y="3461"/>
                          </a:lnTo>
                          <a:lnTo>
                            <a:pt x="957" y="3461"/>
                          </a:lnTo>
                          <a:lnTo>
                            <a:pt x="844" y="3467"/>
                          </a:lnTo>
                          <a:lnTo>
                            <a:pt x="766" y="3483"/>
                          </a:lnTo>
                          <a:lnTo>
                            <a:pt x="707" y="3492"/>
                          </a:lnTo>
                          <a:lnTo>
                            <a:pt x="686" y="3499"/>
                          </a:lnTo>
                          <a:lnTo>
                            <a:pt x="668" y="3503"/>
                          </a:lnTo>
                          <a:lnTo>
                            <a:pt x="636" y="3503"/>
                          </a:lnTo>
                          <a:lnTo>
                            <a:pt x="608" y="3503"/>
                          </a:lnTo>
                          <a:lnTo>
                            <a:pt x="583" y="3499"/>
                          </a:lnTo>
                          <a:lnTo>
                            <a:pt x="558" y="3492"/>
                          </a:lnTo>
                          <a:lnTo>
                            <a:pt x="502" y="3483"/>
                          </a:lnTo>
                          <a:lnTo>
                            <a:pt x="416" y="3467"/>
                          </a:lnTo>
                          <a:lnTo>
                            <a:pt x="310" y="3461"/>
                          </a:lnTo>
                          <a:lnTo>
                            <a:pt x="211" y="3477"/>
                          </a:lnTo>
                          <a:lnTo>
                            <a:pt x="123" y="3516"/>
                          </a:lnTo>
                          <a:lnTo>
                            <a:pt x="60" y="3580"/>
                          </a:lnTo>
                          <a:lnTo>
                            <a:pt x="17" y="3655"/>
                          </a:lnTo>
                          <a:lnTo>
                            <a:pt x="0" y="3749"/>
                          </a:lnTo>
                          <a:lnTo>
                            <a:pt x="17" y="3840"/>
                          </a:lnTo>
                          <a:lnTo>
                            <a:pt x="60" y="3917"/>
                          </a:lnTo>
                          <a:lnTo>
                            <a:pt x="123" y="3982"/>
                          </a:lnTo>
                          <a:lnTo>
                            <a:pt x="211" y="4024"/>
                          </a:lnTo>
                          <a:lnTo>
                            <a:pt x="310" y="4034"/>
                          </a:lnTo>
                          <a:lnTo>
                            <a:pt x="339" y="4034"/>
                          </a:lnTo>
                          <a:lnTo>
                            <a:pt x="360" y="4040"/>
                          </a:lnTo>
                          <a:lnTo>
                            <a:pt x="388" y="4047"/>
                          </a:lnTo>
                          <a:lnTo>
                            <a:pt x="448" y="4063"/>
                          </a:lnTo>
                          <a:lnTo>
                            <a:pt x="523" y="4072"/>
                          </a:lnTo>
                          <a:lnTo>
                            <a:pt x="636" y="4080"/>
                          </a:lnTo>
                          <a:lnTo>
                            <a:pt x="741" y="4072"/>
                          </a:lnTo>
                          <a:lnTo>
                            <a:pt x="826" y="4063"/>
                          </a:lnTo>
                          <a:lnTo>
                            <a:pt x="879" y="4047"/>
                          </a:lnTo>
                          <a:lnTo>
                            <a:pt x="904" y="4040"/>
                          </a:lnTo>
                          <a:lnTo>
                            <a:pt x="925" y="4040"/>
                          </a:lnTo>
                          <a:lnTo>
                            <a:pt x="957" y="4034"/>
                          </a:lnTo>
                          <a:lnTo>
                            <a:pt x="1057" y="4034"/>
                          </a:lnTo>
                          <a:lnTo>
                            <a:pt x="1133" y="4024"/>
                          </a:lnTo>
                          <a:lnTo>
                            <a:pt x="1187" y="4014"/>
                          </a:lnTo>
                          <a:lnTo>
                            <a:pt x="1215" y="4008"/>
                          </a:lnTo>
                          <a:lnTo>
                            <a:pt x="1247" y="4001"/>
                          </a:lnTo>
                          <a:lnTo>
                            <a:pt x="1289" y="4001"/>
                          </a:lnTo>
                          <a:lnTo>
                            <a:pt x="1283" y="4001"/>
                          </a:lnTo>
                          <a:lnTo>
                            <a:pt x="1289" y="4001"/>
                          </a:lnTo>
                          <a:lnTo>
                            <a:pt x="1293" y="4008"/>
                          </a:lnTo>
                          <a:lnTo>
                            <a:pt x="1299" y="4008"/>
                          </a:lnTo>
                          <a:lnTo>
                            <a:pt x="1353" y="4031"/>
                          </a:lnTo>
                          <a:lnTo>
                            <a:pt x="1434" y="4047"/>
                          </a:lnTo>
                          <a:lnTo>
                            <a:pt x="1537" y="4050"/>
                          </a:lnTo>
                          <a:lnTo>
                            <a:pt x="1653" y="4024"/>
                          </a:lnTo>
                          <a:lnTo>
                            <a:pt x="1784" y="3950"/>
                          </a:lnTo>
                          <a:lnTo>
                            <a:pt x="1851" y="3895"/>
                          </a:lnTo>
                          <a:lnTo>
                            <a:pt x="1904" y="3823"/>
                          </a:lnTo>
                          <a:lnTo>
                            <a:pt x="1940" y="3735"/>
                          </a:lnTo>
                          <a:lnTo>
                            <a:pt x="1946" y="3629"/>
                          </a:lnTo>
                          <a:lnTo>
                            <a:pt x="1914" y="3509"/>
                          </a:lnTo>
                          <a:lnTo>
                            <a:pt x="1914" y="3503"/>
                          </a:lnTo>
                          <a:lnTo>
                            <a:pt x="1911" y="3499"/>
                          </a:lnTo>
                          <a:lnTo>
                            <a:pt x="1911" y="3503"/>
                          </a:lnTo>
                          <a:lnTo>
                            <a:pt x="1914" y="3503"/>
                          </a:lnTo>
                          <a:lnTo>
                            <a:pt x="1914" y="3509"/>
                          </a:lnTo>
                          <a:lnTo>
                            <a:pt x="1904" y="3398"/>
                          </a:lnTo>
                          <a:lnTo>
                            <a:pt x="1886" y="3324"/>
                          </a:lnTo>
                          <a:lnTo>
                            <a:pt x="1862" y="3266"/>
                          </a:lnTo>
                          <a:lnTo>
                            <a:pt x="1854" y="3250"/>
                          </a:lnTo>
                          <a:lnTo>
                            <a:pt x="1854" y="3237"/>
                          </a:lnTo>
                          <a:lnTo>
                            <a:pt x="1854" y="3227"/>
                          </a:lnTo>
                          <a:lnTo>
                            <a:pt x="1851" y="3243"/>
                          </a:lnTo>
                          <a:lnTo>
                            <a:pt x="1851" y="3253"/>
                          </a:lnTo>
                          <a:lnTo>
                            <a:pt x="1837" y="3270"/>
                          </a:lnTo>
                          <a:lnTo>
                            <a:pt x="1844" y="3270"/>
                          </a:lnTo>
                          <a:lnTo>
                            <a:pt x="1844" y="3266"/>
                          </a:lnTo>
                          <a:lnTo>
                            <a:pt x="1851" y="3259"/>
                          </a:lnTo>
                          <a:lnTo>
                            <a:pt x="1897" y="3195"/>
                          </a:lnTo>
                          <a:lnTo>
                            <a:pt x="1946" y="3091"/>
                          </a:lnTo>
                          <a:lnTo>
                            <a:pt x="1964" y="2949"/>
                          </a:lnTo>
                          <a:lnTo>
                            <a:pt x="1940" y="2803"/>
                          </a:lnTo>
                          <a:lnTo>
                            <a:pt x="1886" y="2699"/>
                          </a:lnTo>
                          <a:lnTo>
                            <a:pt x="1833" y="2627"/>
                          </a:lnTo>
                          <a:lnTo>
                            <a:pt x="1826" y="2624"/>
                          </a:lnTo>
                          <a:lnTo>
                            <a:pt x="1819" y="2618"/>
                          </a:lnTo>
                          <a:lnTo>
                            <a:pt x="1833" y="2634"/>
                          </a:lnTo>
                          <a:lnTo>
                            <a:pt x="1837" y="2657"/>
                          </a:lnTo>
                          <a:lnTo>
                            <a:pt x="1844" y="2679"/>
                          </a:lnTo>
                          <a:lnTo>
                            <a:pt x="1844" y="2673"/>
                          </a:lnTo>
                          <a:lnTo>
                            <a:pt x="1837" y="2682"/>
                          </a:lnTo>
                          <a:lnTo>
                            <a:pt x="1837" y="2696"/>
                          </a:lnTo>
                          <a:lnTo>
                            <a:pt x="1833" y="2706"/>
                          </a:lnTo>
                          <a:lnTo>
                            <a:pt x="1833" y="2699"/>
                          </a:lnTo>
                          <a:lnTo>
                            <a:pt x="1837" y="2696"/>
                          </a:lnTo>
                          <a:lnTo>
                            <a:pt x="1844" y="2689"/>
                          </a:lnTo>
                          <a:lnTo>
                            <a:pt x="1897" y="2612"/>
                          </a:lnTo>
                          <a:lnTo>
                            <a:pt x="1946" y="2505"/>
                          </a:lnTo>
                          <a:lnTo>
                            <a:pt x="1968" y="2352"/>
                          </a:lnTo>
                          <a:lnTo>
                            <a:pt x="1968" y="2272"/>
                          </a:lnTo>
                          <a:lnTo>
                            <a:pt x="1964" y="2206"/>
                          </a:lnTo>
                          <a:lnTo>
                            <a:pt x="1950" y="2161"/>
                          </a:lnTo>
                          <a:lnTo>
                            <a:pt x="1946" y="2135"/>
                          </a:lnTo>
                          <a:lnTo>
                            <a:pt x="1946" y="2112"/>
                          </a:lnTo>
                          <a:lnTo>
                            <a:pt x="1946" y="2077"/>
                          </a:lnTo>
                          <a:lnTo>
                            <a:pt x="1940" y="1993"/>
                          </a:lnTo>
                          <a:lnTo>
                            <a:pt x="1932" y="1941"/>
                          </a:lnTo>
                          <a:lnTo>
                            <a:pt x="1929" y="1892"/>
                          </a:lnTo>
                          <a:lnTo>
                            <a:pt x="1929" y="1863"/>
                          </a:lnTo>
                          <a:lnTo>
                            <a:pt x="1922" y="1830"/>
                          </a:lnTo>
                          <a:lnTo>
                            <a:pt x="1922" y="1789"/>
                          </a:lnTo>
                          <a:lnTo>
                            <a:pt x="1922" y="1642"/>
                          </a:lnTo>
                          <a:lnTo>
                            <a:pt x="1922" y="1490"/>
                          </a:lnTo>
                          <a:lnTo>
                            <a:pt x="1914" y="1402"/>
                          </a:lnTo>
                          <a:lnTo>
                            <a:pt x="1911" y="1332"/>
                          </a:lnTo>
                          <a:lnTo>
                            <a:pt x="1897" y="1283"/>
                          </a:lnTo>
                          <a:lnTo>
                            <a:pt x="1893" y="1257"/>
                          </a:lnTo>
                          <a:lnTo>
                            <a:pt x="1886" y="1225"/>
                          </a:lnTo>
                          <a:lnTo>
                            <a:pt x="1886" y="1186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86" y="1180"/>
                          </a:lnTo>
                          <a:lnTo>
                            <a:pt x="1886" y="1173"/>
                          </a:lnTo>
                          <a:lnTo>
                            <a:pt x="1893" y="1170"/>
                          </a:lnTo>
                          <a:lnTo>
                            <a:pt x="1897" y="1163"/>
                          </a:lnTo>
                          <a:lnTo>
                            <a:pt x="1932" y="1089"/>
                          </a:lnTo>
                          <a:lnTo>
                            <a:pt x="1964" y="995"/>
                          </a:lnTo>
                          <a:lnTo>
                            <a:pt x="1974" y="871"/>
                          </a:lnTo>
                          <a:lnTo>
                            <a:pt x="1964" y="738"/>
                          </a:lnTo>
                          <a:lnTo>
                            <a:pt x="1922" y="641"/>
                          </a:lnTo>
                          <a:lnTo>
                            <a:pt x="1886" y="583"/>
                          </a:lnTo>
                          <a:lnTo>
                            <a:pt x="1886" y="570"/>
                          </a:lnTo>
                          <a:lnTo>
                            <a:pt x="1880" y="567"/>
                          </a:lnTo>
                          <a:lnTo>
                            <a:pt x="1872" y="567"/>
                          </a:lnTo>
                          <a:lnTo>
                            <a:pt x="1880" y="570"/>
                          </a:lnTo>
                          <a:lnTo>
                            <a:pt x="1880" y="577"/>
                          </a:lnTo>
                          <a:lnTo>
                            <a:pt x="1886" y="583"/>
                          </a:lnTo>
                          <a:lnTo>
                            <a:pt x="1886" y="544"/>
                          </a:lnTo>
                          <a:lnTo>
                            <a:pt x="1886" y="522"/>
                          </a:lnTo>
                          <a:lnTo>
                            <a:pt x="1886" y="506"/>
                          </a:lnTo>
                          <a:lnTo>
                            <a:pt x="1886" y="495"/>
                          </a:lnTo>
                          <a:lnTo>
                            <a:pt x="1880" y="506"/>
                          </a:lnTo>
                          <a:lnTo>
                            <a:pt x="1872" y="522"/>
                          </a:lnTo>
                          <a:lnTo>
                            <a:pt x="1868" y="534"/>
                          </a:lnTo>
                          <a:lnTo>
                            <a:pt x="1880" y="519"/>
                          </a:lnTo>
                          <a:lnTo>
                            <a:pt x="1897" y="495"/>
                          </a:lnTo>
                          <a:lnTo>
                            <a:pt x="1911" y="479"/>
                          </a:lnTo>
                          <a:lnTo>
                            <a:pt x="1826" y="544"/>
                          </a:lnTo>
                          <a:lnTo>
                            <a:pt x="1702" y="577"/>
                          </a:lnTo>
                          <a:lnTo>
                            <a:pt x="1561" y="554"/>
                          </a:lnTo>
                          <a:lnTo>
                            <a:pt x="1449" y="479"/>
                          </a:lnTo>
                          <a:lnTo>
                            <a:pt x="1381" y="376"/>
                          </a:lnTo>
                          <a:lnTo>
                            <a:pt x="1371" y="272"/>
                          </a:lnTo>
                          <a:lnTo>
                            <a:pt x="1364" y="279"/>
                          </a:lnTo>
                          <a:lnTo>
                            <a:pt x="1359" y="337"/>
                          </a:lnTo>
                          <a:lnTo>
                            <a:pt x="1364" y="425"/>
                          </a:lnTo>
                          <a:lnTo>
                            <a:pt x="1388" y="522"/>
                          </a:lnTo>
                          <a:lnTo>
                            <a:pt x="1455" y="625"/>
                          </a:lnTo>
                          <a:lnTo>
                            <a:pt x="1572" y="729"/>
                          </a:lnTo>
                          <a:lnTo>
                            <a:pt x="1692" y="777"/>
                          </a:lnTo>
                          <a:lnTo>
                            <a:pt x="1780" y="794"/>
                          </a:lnTo>
                          <a:lnTo>
                            <a:pt x="1784" y="794"/>
                          </a:lnTo>
                          <a:lnTo>
                            <a:pt x="1790" y="794"/>
                          </a:lnTo>
                          <a:lnTo>
                            <a:pt x="1766" y="788"/>
                          </a:lnTo>
                          <a:lnTo>
                            <a:pt x="1738" y="771"/>
                          </a:lnTo>
                          <a:lnTo>
                            <a:pt x="1714" y="752"/>
                          </a:lnTo>
                          <a:lnTo>
                            <a:pt x="1709" y="746"/>
                          </a:lnTo>
                          <a:lnTo>
                            <a:pt x="1709" y="735"/>
                          </a:lnTo>
                          <a:lnTo>
                            <a:pt x="1702" y="722"/>
                          </a:lnTo>
                          <a:lnTo>
                            <a:pt x="1709" y="729"/>
                          </a:lnTo>
                          <a:lnTo>
                            <a:pt x="1709" y="735"/>
                          </a:lnTo>
                          <a:lnTo>
                            <a:pt x="1709" y="738"/>
                          </a:lnTo>
                          <a:lnTo>
                            <a:pt x="1720" y="800"/>
                          </a:lnTo>
                          <a:lnTo>
                            <a:pt x="1756" y="888"/>
                          </a:lnTo>
                          <a:lnTo>
                            <a:pt x="1826" y="985"/>
                          </a:lnTo>
                          <a:lnTo>
                            <a:pt x="1837" y="1001"/>
                          </a:lnTo>
                          <a:lnTo>
                            <a:pt x="1844" y="1017"/>
                          </a:lnTo>
                          <a:lnTo>
                            <a:pt x="1851" y="1034"/>
                          </a:lnTo>
                          <a:lnTo>
                            <a:pt x="1880" y="1098"/>
                          </a:lnTo>
                          <a:lnTo>
                            <a:pt x="1922" y="1170"/>
                          </a:lnTo>
                          <a:lnTo>
                            <a:pt x="1982" y="1250"/>
                          </a:lnTo>
                          <a:lnTo>
                            <a:pt x="2003" y="1274"/>
                          </a:lnTo>
                          <a:lnTo>
                            <a:pt x="2017" y="1293"/>
                          </a:lnTo>
                          <a:lnTo>
                            <a:pt x="2028" y="1322"/>
                          </a:lnTo>
                          <a:lnTo>
                            <a:pt x="2056" y="1371"/>
                          </a:lnTo>
                          <a:lnTo>
                            <a:pt x="2091" y="1429"/>
                          </a:lnTo>
                          <a:lnTo>
                            <a:pt x="2151" y="1500"/>
                          </a:lnTo>
                          <a:lnTo>
                            <a:pt x="2200" y="1548"/>
                          </a:lnTo>
                          <a:lnTo>
                            <a:pt x="2236" y="1587"/>
                          </a:lnTo>
                          <a:lnTo>
                            <a:pt x="2257" y="1614"/>
                          </a:lnTo>
                          <a:lnTo>
                            <a:pt x="2282" y="1636"/>
                          </a:lnTo>
                          <a:lnTo>
                            <a:pt x="2306" y="1659"/>
                          </a:lnTo>
                          <a:lnTo>
                            <a:pt x="2332" y="1692"/>
                          </a:lnTo>
                          <a:lnTo>
                            <a:pt x="2377" y="1744"/>
                          </a:lnTo>
                          <a:lnTo>
                            <a:pt x="2420" y="1782"/>
                          </a:lnTo>
                          <a:lnTo>
                            <a:pt x="2448" y="1808"/>
                          </a:lnTo>
                          <a:lnTo>
                            <a:pt x="2473" y="1830"/>
                          </a:lnTo>
                          <a:lnTo>
                            <a:pt x="2494" y="1860"/>
                          </a:lnTo>
                          <a:lnTo>
                            <a:pt x="2526" y="1892"/>
                          </a:lnTo>
                          <a:lnTo>
                            <a:pt x="2561" y="1935"/>
                          </a:lnTo>
                          <a:lnTo>
                            <a:pt x="2589" y="1966"/>
                          </a:lnTo>
                          <a:lnTo>
                            <a:pt x="2614" y="1993"/>
                          </a:lnTo>
                          <a:lnTo>
                            <a:pt x="2639" y="2026"/>
                          </a:lnTo>
                          <a:lnTo>
                            <a:pt x="2667" y="2060"/>
                          </a:lnTo>
                          <a:lnTo>
                            <a:pt x="2709" y="2109"/>
                          </a:lnTo>
                          <a:lnTo>
                            <a:pt x="2791" y="2190"/>
                          </a:lnTo>
                          <a:lnTo>
                            <a:pt x="2862" y="2245"/>
                          </a:lnTo>
                          <a:lnTo>
                            <a:pt x="2921" y="2278"/>
                          </a:lnTo>
                          <a:lnTo>
                            <a:pt x="2929" y="2278"/>
                          </a:lnTo>
                          <a:lnTo>
                            <a:pt x="2932" y="2281"/>
                          </a:lnTo>
                          <a:lnTo>
                            <a:pt x="2939" y="2287"/>
                          </a:lnTo>
                          <a:lnTo>
                            <a:pt x="2947" y="2294"/>
                          </a:lnTo>
                          <a:lnTo>
                            <a:pt x="2950" y="2297"/>
                          </a:lnTo>
                          <a:lnTo>
                            <a:pt x="3010" y="2362"/>
                          </a:lnTo>
                          <a:lnTo>
                            <a:pt x="3052" y="2408"/>
                          </a:lnTo>
                          <a:lnTo>
                            <a:pt x="3095" y="2440"/>
                          </a:lnTo>
                          <a:lnTo>
                            <a:pt x="3116" y="2463"/>
                          </a:lnTo>
                          <a:lnTo>
                            <a:pt x="3140" y="2482"/>
                          </a:lnTo>
                          <a:lnTo>
                            <a:pt x="3168" y="2521"/>
                          </a:lnTo>
                          <a:lnTo>
                            <a:pt x="3228" y="2579"/>
                          </a:lnTo>
                          <a:lnTo>
                            <a:pt x="3282" y="2627"/>
                          </a:lnTo>
                          <a:lnTo>
                            <a:pt x="3331" y="2663"/>
                          </a:lnTo>
                          <a:lnTo>
                            <a:pt x="3349" y="2679"/>
                          </a:lnTo>
                          <a:lnTo>
                            <a:pt x="3366" y="2689"/>
                          </a:lnTo>
                          <a:lnTo>
                            <a:pt x="3384" y="2712"/>
                          </a:lnTo>
                          <a:lnTo>
                            <a:pt x="3370" y="2696"/>
                          </a:lnTo>
                          <a:lnTo>
                            <a:pt x="3366" y="2673"/>
                          </a:lnTo>
                          <a:lnTo>
                            <a:pt x="3360" y="2651"/>
                          </a:lnTo>
                          <a:lnTo>
                            <a:pt x="3360" y="2657"/>
                          </a:lnTo>
                          <a:lnTo>
                            <a:pt x="3360" y="2663"/>
                          </a:lnTo>
                          <a:lnTo>
                            <a:pt x="3360" y="2667"/>
                          </a:lnTo>
                          <a:lnTo>
                            <a:pt x="3360" y="2731"/>
                          </a:lnTo>
                          <a:lnTo>
                            <a:pt x="3366" y="2812"/>
                          </a:lnTo>
                          <a:lnTo>
                            <a:pt x="3402" y="2913"/>
                          </a:lnTo>
                          <a:lnTo>
                            <a:pt x="3466" y="3019"/>
                          </a:lnTo>
                          <a:lnTo>
                            <a:pt x="3544" y="3082"/>
                          </a:lnTo>
                          <a:lnTo>
                            <a:pt x="3631" y="3116"/>
                          </a:lnTo>
                          <a:lnTo>
                            <a:pt x="3727" y="3130"/>
                          </a:lnTo>
                          <a:lnTo>
                            <a:pt x="3822" y="3113"/>
                          </a:lnTo>
                          <a:lnTo>
                            <a:pt x="3911" y="3068"/>
                          </a:lnTo>
                          <a:lnTo>
                            <a:pt x="3975" y="2997"/>
                          </a:lnTo>
                          <a:lnTo>
                            <a:pt x="4017" y="2916"/>
                          </a:lnTo>
                          <a:lnTo>
                            <a:pt x="4027" y="2828"/>
                          </a:lnTo>
                          <a:lnTo>
                            <a:pt x="4009" y="2745"/>
                          </a:lnTo>
                          <a:lnTo>
                            <a:pt x="3963" y="26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rot="10800000">
                      <a:off x="3169440" y="7503840"/>
                      <a:ext cx="1558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9" h="2673">
                          <a:moveTo>
                            <a:pt x="2215" y="2206"/>
                          </a:moveTo>
                          <a:lnTo>
                            <a:pt x="2180" y="2161"/>
                          </a:lnTo>
                          <a:lnTo>
                            <a:pt x="2155" y="2128"/>
                          </a:lnTo>
                          <a:lnTo>
                            <a:pt x="2131" y="2103"/>
                          </a:lnTo>
                          <a:lnTo>
                            <a:pt x="2109" y="2070"/>
                          </a:lnTo>
                          <a:lnTo>
                            <a:pt x="2074" y="2025"/>
                          </a:lnTo>
                          <a:lnTo>
                            <a:pt x="2031" y="1976"/>
                          </a:lnTo>
                          <a:lnTo>
                            <a:pt x="2004" y="1940"/>
                          </a:lnTo>
                          <a:lnTo>
                            <a:pt x="1986" y="1918"/>
                          </a:lnTo>
                          <a:lnTo>
                            <a:pt x="1968" y="1889"/>
                          </a:lnTo>
                          <a:lnTo>
                            <a:pt x="1944" y="1847"/>
                          </a:lnTo>
                          <a:lnTo>
                            <a:pt x="1908" y="1791"/>
                          </a:lnTo>
                          <a:lnTo>
                            <a:pt x="1848" y="1727"/>
                          </a:lnTo>
                          <a:lnTo>
                            <a:pt x="1823" y="1694"/>
                          </a:lnTo>
                          <a:lnTo>
                            <a:pt x="1805" y="1672"/>
                          </a:lnTo>
                          <a:lnTo>
                            <a:pt x="1795" y="1652"/>
                          </a:lnTo>
                          <a:lnTo>
                            <a:pt x="1766" y="1603"/>
                          </a:lnTo>
                          <a:lnTo>
                            <a:pt x="1732" y="1555"/>
                          </a:lnTo>
                          <a:lnTo>
                            <a:pt x="1682" y="1487"/>
                          </a:lnTo>
                          <a:lnTo>
                            <a:pt x="1629" y="1436"/>
                          </a:lnTo>
                          <a:lnTo>
                            <a:pt x="1594" y="1396"/>
                          </a:lnTo>
                          <a:lnTo>
                            <a:pt x="1565" y="1364"/>
                          </a:lnTo>
                          <a:lnTo>
                            <a:pt x="1540" y="1338"/>
                          </a:lnTo>
                          <a:lnTo>
                            <a:pt x="1512" y="1309"/>
                          </a:lnTo>
                          <a:lnTo>
                            <a:pt x="1474" y="1267"/>
                          </a:lnTo>
                          <a:lnTo>
                            <a:pt x="1403" y="1196"/>
                          </a:lnTo>
                          <a:lnTo>
                            <a:pt x="1347" y="1147"/>
                          </a:lnTo>
                          <a:lnTo>
                            <a:pt x="1293" y="1114"/>
                          </a:lnTo>
                          <a:lnTo>
                            <a:pt x="1275" y="1099"/>
                          </a:lnTo>
                          <a:lnTo>
                            <a:pt x="1262" y="1086"/>
                          </a:lnTo>
                          <a:lnTo>
                            <a:pt x="1244" y="1069"/>
                          </a:lnTo>
                          <a:lnTo>
                            <a:pt x="1220" y="1044"/>
                          </a:lnTo>
                          <a:lnTo>
                            <a:pt x="1173" y="989"/>
                          </a:lnTo>
                          <a:lnTo>
                            <a:pt x="1148" y="962"/>
                          </a:lnTo>
                          <a:lnTo>
                            <a:pt x="1049" y="842"/>
                          </a:lnTo>
                          <a:lnTo>
                            <a:pt x="1025" y="817"/>
                          </a:lnTo>
                          <a:lnTo>
                            <a:pt x="1007" y="793"/>
                          </a:lnTo>
                          <a:lnTo>
                            <a:pt x="997" y="768"/>
                          </a:lnTo>
                          <a:lnTo>
                            <a:pt x="972" y="729"/>
                          </a:lnTo>
                          <a:lnTo>
                            <a:pt x="937" y="674"/>
                          </a:lnTo>
                          <a:lnTo>
                            <a:pt x="883" y="610"/>
                          </a:lnTo>
                          <a:lnTo>
                            <a:pt x="841" y="561"/>
                          </a:lnTo>
                          <a:lnTo>
                            <a:pt x="805" y="522"/>
                          </a:lnTo>
                          <a:lnTo>
                            <a:pt x="777" y="489"/>
                          </a:lnTo>
                          <a:lnTo>
                            <a:pt x="753" y="463"/>
                          </a:lnTo>
                          <a:lnTo>
                            <a:pt x="724" y="425"/>
                          </a:lnTo>
                          <a:lnTo>
                            <a:pt x="682" y="383"/>
                          </a:lnTo>
                          <a:lnTo>
                            <a:pt x="682" y="376"/>
                          </a:lnTo>
                          <a:lnTo>
                            <a:pt x="682" y="383"/>
                          </a:lnTo>
                          <a:lnTo>
                            <a:pt x="689" y="392"/>
                          </a:lnTo>
                          <a:lnTo>
                            <a:pt x="689" y="398"/>
                          </a:lnTo>
                          <a:lnTo>
                            <a:pt x="689" y="392"/>
                          </a:lnTo>
                          <a:lnTo>
                            <a:pt x="689" y="386"/>
                          </a:lnTo>
                          <a:lnTo>
                            <a:pt x="689" y="383"/>
                          </a:lnTo>
                          <a:lnTo>
                            <a:pt x="675" y="317"/>
                          </a:lnTo>
                          <a:lnTo>
                            <a:pt x="636" y="217"/>
                          </a:lnTo>
                          <a:lnTo>
                            <a:pt x="562" y="110"/>
                          </a:lnTo>
                          <a:lnTo>
                            <a:pt x="488" y="49"/>
                          </a:lnTo>
                          <a:lnTo>
                            <a:pt x="400" y="13"/>
                          </a:lnTo>
                          <a:lnTo>
                            <a:pt x="304" y="0"/>
                          </a:lnTo>
                          <a:lnTo>
                            <a:pt x="208" y="16"/>
                          </a:lnTo>
                          <a:lnTo>
                            <a:pt x="120" y="62"/>
                          </a:lnTo>
                          <a:lnTo>
                            <a:pt x="53" y="133"/>
                          </a:lnTo>
                          <a:lnTo>
                            <a:pt x="14" y="214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71" y="467"/>
                          </a:lnTo>
                          <a:lnTo>
                            <a:pt x="67" y="463"/>
                          </a:lnTo>
                          <a:lnTo>
                            <a:pt x="67" y="457"/>
                          </a:lnTo>
                          <a:lnTo>
                            <a:pt x="60" y="447"/>
                          </a:lnTo>
                          <a:lnTo>
                            <a:pt x="60" y="450"/>
                          </a:lnTo>
                          <a:lnTo>
                            <a:pt x="67" y="457"/>
                          </a:lnTo>
                          <a:lnTo>
                            <a:pt x="67" y="463"/>
                          </a:lnTo>
                          <a:lnTo>
                            <a:pt x="78" y="535"/>
                          </a:lnTo>
                          <a:lnTo>
                            <a:pt x="114" y="626"/>
                          </a:lnTo>
                          <a:lnTo>
                            <a:pt x="192" y="735"/>
                          </a:lnTo>
                          <a:lnTo>
                            <a:pt x="234" y="787"/>
                          </a:lnTo>
                          <a:lnTo>
                            <a:pt x="268" y="826"/>
                          </a:lnTo>
                          <a:lnTo>
                            <a:pt x="290" y="853"/>
                          </a:lnTo>
                          <a:lnTo>
                            <a:pt x="322" y="884"/>
                          </a:lnTo>
                          <a:lnTo>
                            <a:pt x="350" y="917"/>
                          </a:lnTo>
                          <a:lnTo>
                            <a:pt x="392" y="962"/>
                          </a:lnTo>
                          <a:lnTo>
                            <a:pt x="418" y="995"/>
                          </a:lnTo>
                          <a:lnTo>
                            <a:pt x="428" y="1017"/>
                          </a:lnTo>
                          <a:lnTo>
                            <a:pt x="446" y="1037"/>
                          </a:lnTo>
                          <a:lnTo>
                            <a:pt x="470" y="1082"/>
                          </a:lnTo>
                          <a:lnTo>
                            <a:pt x="506" y="1130"/>
                          </a:lnTo>
                          <a:lnTo>
                            <a:pt x="558" y="1202"/>
                          </a:lnTo>
                          <a:lnTo>
                            <a:pt x="579" y="1229"/>
                          </a:lnTo>
                          <a:lnTo>
                            <a:pt x="629" y="1283"/>
                          </a:lnTo>
                          <a:lnTo>
                            <a:pt x="654" y="1315"/>
                          </a:lnTo>
                          <a:lnTo>
                            <a:pt x="753" y="1429"/>
                          </a:lnTo>
                          <a:lnTo>
                            <a:pt x="816" y="1500"/>
                          </a:lnTo>
                          <a:lnTo>
                            <a:pt x="877" y="1549"/>
                          </a:lnTo>
                          <a:lnTo>
                            <a:pt x="937" y="1588"/>
                          </a:lnTo>
                          <a:lnTo>
                            <a:pt x="955" y="1597"/>
                          </a:lnTo>
                          <a:lnTo>
                            <a:pt x="965" y="1607"/>
                          </a:lnTo>
                          <a:lnTo>
                            <a:pt x="979" y="1623"/>
                          </a:lnTo>
                          <a:lnTo>
                            <a:pt x="1031" y="1678"/>
                          </a:lnTo>
                          <a:lnTo>
                            <a:pt x="1067" y="1721"/>
                          </a:lnTo>
                          <a:lnTo>
                            <a:pt x="1096" y="1749"/>
                          </a:lnTo>
                          <a:lnTo>
                            <a:pt x="1127" y="1776"/>
                          </a:lnTo>
                          <a:lnTo>
                            <a:pt x="1148" y="1808"/>
                          </a:lnTo>
                          <a:lnTo>
                            <a:pt x="1184" y="1847"/>
                          </a:lnTo>
                          <a:lnTo>
                            <a:pt x="1215" y="1879"/>
                          </a:lnTo>
                          <a:lnTo>
                            <a:pt x="1226" y="1902"/>
                          </a:lnTo>
                          <a:lnTo>
                            <a:pt x="1244" y="1921"/>
                          </a:lnTo>
                          <a:lnTo>
                            <a:pt x="1275" y="1973"/>
                          </a:lnTo>
                          <a:lnTo>
                            <a:pt x="1311" y="2022"/>
                          </a:lnTo>
                          <a:lnTo>
                            <a:pt x="1357" y="2087"/>
                          </a:lnTo>
                          <a:lnTo>
                            <a:pt x="1386" y="2119"/>
                          </a:lnTo>
                          <a:lnTo>
                            <a:pt x="1403" y="2142"/>
                          </a:lnTo>
                          <a:lnTo>
                            <a:pt x="1420" y="2167"/>
                          </a:lnTo>
                          <a:lnTo>
                            <a:pt x="1446" y="2210"/>
                          </a:lnTo>
                          <a:lnTo>
                            <a:pt x="1480" y="2265"/>
                          </a:lnTo>
                          <a:lnTo>
                            <a:pt x="1534" y="2330"/>
                          </a:lnTo>
                          <a:lnTo>
                            <a:pt x="1569" y="2375"/>
                          </a:lnTo>
                          <a:lnTo>
                            <a:pt x="1600" y="2407"/>
                          </a:lnTo>
                          <a:lnTo>
                            <a:pt x="1618" y="2433"/>
                          </a:lnTo>
                          <a:lnTo>
                            <a:pt x="1646" y="2465"/>
                          </a:lnTo>
                          <a:lnTo>
                            <a:pt x="1675" y="2504"/>
                          </a:lnTo>
                          <a:lnTo>
                            <a:pt x="1724" y="2559"/>
                          </a:lnTo>
                          <a:lnTo>
                            <a:pt x="1795" y="2625"/>
                          </a:lnTo>
                          <a:lnTo>
                            <a:pt x="1883" y="2657"/>
                          </a:lnTo>
                          <a:lnTo>
                            <a:pt x="1979" y="2673"/>
                          </a:lnTo>
                          <a:lnTo>
                            <a:pt x="2074" y="2650"/>
                          </a:lnTo>
                          <a:lnTo>
                            <a:pt x="2163" y="2609"/>
                          </a:lnTo>
                          <a:lnTo>
                            <a:pt x="2233" y="2543"/>
                          </a:lnTo>
                          <a:lnTo>
                            <a:pt x="2269" y="2459"/>
                          </a:lnTo>
                          <a:lnTo>
                            <a:pt x="2279" y="2368"/>
                          </a:lnTo>
                          <a:lnTo>
                            <a:pt x="2261" y="2281"/>
                          </a:lnTo>
                          <a:lnTo>
                            <a:pt x="2215" y="220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 rot="10800000">
                      <a:off x="2986200" y="7410600"/>
                      <a:ext cx="1872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9" h="4591">
                          <a:moveTo>
                            <a:pt x="1184" y="4491"/>
                          </a:moveTo>
                          <a:lnTo>
                            <a:pt x="1244" y="4426"/>
                          </a:lnTo>
                          <a:lnTo>
                            <a:pt x="1279" y="4374"/>
                          </a:lnTo>
                          <a:lnTo>
                            <a:pt x="1314" y="4319"/>
                          </a:lnTo>
                          <a:lnTo>
                            <a:pt x="1326" y="4303"/>
                          </a:lnTo>
                          <a:lnTo>
                            <a:pt x="1339" y="4287"/>
                          </a:lnTo>
                          <a:lnTo>
                            <a:pt x="1357" y="4265"/>
                          </a:lnTo>
                          <a:lnTo>
                            <a:pt x="1392" y="4225"/>
                          </a:lnTo>
                          <a:lnTo>
                            <a:pt x="1414" y="4199"/>
                          </a:lnTo>
                          <a:lnTo>
                            <a:pt x="1438" y="4177"/>
                          </a:lnTo>
                          <a:lnTo>
                            <a:pt x="1470" y="4150"/>
                          </a:lnTo>
                          <a:lnTo>
                            <a:pt x="1505" y="4118"/>
                          </a:lnTo>
                          <a:lnTo>
                            <a:pt x="1552" y="4069"/>
                          </a:lnTo>
                          <a:lnTo>
                            <a:pt x="1604" y="4008"/>
                          </a:lnTo>
                          <a:lnTo>
                            <a:pt x="1640" y="3959"/>
                          </a:lnTo>
                          <a:lnTo>
                            <a:pt x="1672" y="3917"/>
                          </a:lnTo>
                          <a:lnTo>
                            <a:pt x="1682" y="3901"/>
                          </a:lnTo>
                          <a:lnTo>
                            <a:pt x="1700" y="3878"/>
                          </a:lnTo>
                          <a:lnTo>
                            <a:pt x="1718" y="3856"/>
                          </a:lnTo>
                          <a:lnTo>
                            <a:pt x="1788" y="3771"/>
                          </a:lnTo>
                          <a:lnTo>
                            <a:pt x="1833" y="3687"/>
                          </a:lnTo>
                          <a:lnTo>
                            <a:pt x="1859" y="3619"/>
                          </a:lnTo>
                          <a:lnTo>
                            <a:pt x="1866" y="360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6" y="3603"/>
                          </a:lnTo>
                          <a:lnTo>
                            <a:pt x="1866" y="3597"/>
                          </a:lnTo>
                          <a:lnTo>
                            <a:pt x="1869" y="3590"/>
                          </a:lnTo>
                          <a:lnTo>
                            <a:pt x="1851" y="3607"/>
                          </a:lnTo>
                          <a:lnTo>
                            <a:pt x="1830" y="3619"/>
                          </a:lnTo>
                          <a:lnTo>
                            <a:pt x="1812" y="3622"/>
                          </a:lnTo>
                          <a:lnTo>
                            <a:pt x="1817" y="3622"/>
                          </a:lnTo>
                          <a:lnTo>
                            <a:pt x="1823" y="3622"/>
                          </a:lnTo>
                          <a:lnTo>
                            <a:pt x="1901" y="3603"/>
                          </a:lnTo>
                          <a:lnTo>
                            <a:pt x="2007" y="3558"/>
                          </a:lnTo>
                          <a:lnTo>
                            <a:pt x="2128" y="3470"/>
                          </a:lnTo>
                          <a:lnTo>
                            <a:pt x="2180" y="3412"/>
                          </a:lnTo>
                          <a:lnTo>
                            <a:pt x="2216" y="3370"/>
                          </a:lnTo>
                          <a:lnTo>
                            <a:pt x="2243" y="3331"/>
                          </a:lnTo>
                          <a:lnTo>
                            <a:pt x="2261" y="3301"/>
                          </a:lnTo>
                          <a:lnTo>
                            <a:pt x="2286" y="3276"/>
                          </a:lnTo>
                          <a:lnTo>
                            <a:pt x="2321" y="3237"/>
                          </a:lnTo>
                          <a:lnTo>
                            <a:pt x="2375" y="3179"/>
                          </a:lnTo>
                          <a:lnTo>
                            <a:pt x="2409" y="3130"/>
                          </a:lnTo>
                          <a:lnTo>
                            <a:pt x="2438" y="3085"/>
                          </a:lnTo>
                          <a:lnTo>
                            <a:pt x="2453" y="3065"/>
                          </a:lnTo>
                          <a:lnTo>
                            <a:pt x="2463" y="3049"/>
                          </a:lnTo>
                          <a:lnTo>
                            <a:pt x="2481" y="3033"/>
                          </a:lnTo>
                          <a:lnTo>
                            <a:pt x="2456" y="3049"/>
                          </a:lnTo>
                          <a:lnTo>
                            <a:pt x="2445" y="3065"/>
                          </a:lnTo>
                          <a:lnTo>
                            <a:pt x="2435" y="3065"/>
                          </a:lnTo>
                          <a:lnTo>
                            <a:pt x="2438" y="3065"/>
                          </a:lnTo>
                          <a:lnTo>
                            <a:pt x="2453" y="3059"/>
                          </a:lnTo>
                          <a:lnTo>
                            <a:pt x="2456" y="3052"/>
                          </a:lnTo>
                          <a:lnTo>
                            <a:pt x="2593" y="2988"/>
                          </a:lnTo>
                          <a:lnTo>
                            <a:pt x="2674" y="2916"/>
                          </a:lnTo>
                          <a:lnTo>
                            <a:pt x="2728" y="2836"/>
                          </a:lnTo>
                          <a:lnTo>
                            <a:pt x="2749" y="2761"/>
                          </a:lnTo>
                          <a:lnTo>
                            <a:pt x="2749" y="2696"/>
                          </a:lnTo>
                          <a:lnTo>
                            <a:pt x="2742" y="2640"/>
                          </a:lnTo>
                          <a:lnTo>
                            <a:pt x="2692" y="2511"/>
                          </a:lnTo>
                          <a:lnTo>
                            <a:pt x="2622" y="2414"/>
                          </a:lnTo>
                          <a:lnTo>
                            <a:pt x="2547" y="2352"/>
                          </a:lnTo>
                          <a:lnTo>
                            <a:pt x="2481" y="2314"/>
                          </a:lnTo>
                          <a:lnTo>
                            <a:pt x="2456" y="2300"/>
                          </a:lnTo>
                          <a:lnTo>
                            <a:pt x="2445" y="2291"/>
                          </a:lnTo>
                          <a:lnTo>
                            <a:pt x="2435" y="2281"/>
                          </a:lnTo>
                          <a:lnTo>
                            <a:pt x="2329" y="2184"/>
                          </a:lnTo>
                          <a:lnTo>
                            <a:pt x="2227" y="2129"/>
                          </a:lnTo>
                          <a:lnTo>
                            <a:pt x="2149" y="2100"/>
                          </a:lnTo>
                          <a:lnTo>
                            <a:pt x="2138" y="2100"/>
                          </a:lnTo>
                          <a:lnTo>
                            <a:pt x="2131" y="2096"/>
                          </a:lnTo>
                          <a:lnTo>
                            <a:pt x="2138" y="2100"/>
                          </a:lnTo>
                          <a:lnTo>
                            <a:pt x="2149" y="2106"/>
                          </a:lnTo>
                          <a:lnTo>
                            <a:pt x="2155" y="2112"/>
                          </a:lnTo>
                          <a:lnTo>
                            <a:pt x="2162" y="2123"/>
                          </a:lnTo>
                          <a:lnTo>
                            <a:pt x="2167" y="2139"/>
                          </a:lnTo>
                          <a:lnTo>
                            <a:pt x="2173" y="2151"/>
                          </a:lnTo>
                          <a:lnTo>
                            <a:pt x="2173" y="2145"/>
                          </a:lnTo>
                          <a:lnTo>
                            <a:pt x="2173" y="2139"/>
                          </a:lnTo>
                          <a:lnTo>
                            <a:pt x="2173" y="2129"/>
                          </a:lnTo>
                          <a:lnTo>
                            <a:pt x="2162" y="2048"/>
                          </a:lnTo>
                          <a:lnTo>
                            <a:pt x="2131" y="1938"/>
                          </a:lnTo>
                          <a:lnTo>
                            <a:pt x="2050" y="1814"/>
                          </a:lnTo>
                          <a:lnTo>
                            <a:pt x="2017" y="1786"/>
                          </a:lnTo>
                          <a:lnTo>
                            <a:pt x="1972" y="1727"/>
                          </a:lnTo>
                          <a:lnTo>
                            <a:pt x="1947" y="1698"/>
                          </a:lnTo>
                          <a:lnTo>
                            <a:pt x="1851" y="1591"/>
                          </a:lnTo>
                          <a:lnTo>
                            <a:pt x="1781" y="1513"/>
                          </a:lnTo>
                          <a:lnTo>
                            <a:pt x="1718" y="1465"/>
                          </a:lnTo>
                          <a:lnTo>
                            <a:pt x="1658" y="1429"/>
                          </a:lnTo>
                          <a:lnTo>
                            <a:pt x="1633" y="1416"/>
                          </a:lnTo>
                          <a:lnTo>
                            <a:pt x="1629" y="1407"/>
                          </a:lnTo>
                          <a:lnTo>
                            <a:pt x="1612" y="1396"/>
                          </a:lnTo>
                          <a:lnTo>
                            <a:pt x="1570" y="1348"/>
                          </a:lnTo>
                          <a:lnTo>
                            <a:pt x="1541" y="1310"/>
                          </a:lnTo>
                          <a:lnTo>
                            <a:pt x="1516" y="1280"/>
                          </a:lnTo>
                          <a:lnTo>
                            <a:pt x="1488" y="1247"/>
                          </a:lnTo>
                          <a:lnTo>
                            <a:pt x="1456" y="1211"/>
                          </a:lnTo>
                          <a:lnTo>
                            <a:pt x="1410" y="1157"/>
                          </a:lnTo>
                          <a:lnTo>
                            <a:pt x="1332" y="1076"/>
                          </a:lnTo>
                          <a:lnTo>
                            <a:pt x="1262" y="1028"/>
                          </a:lnTo>
                          <a:lnTo>
                            <a:pt x="1191" y="989"/>
                          </a:lnTo>
                          <a:lnTo>
                            <a:pt x="1184" y="982"/>
                          </a:lnTo>
                          <a:lnTo>
                            <a:pt x="1176" y="979"/>
                          </a:lnTo>
                          <a:lnTo>
                            <a:pt x="1173" y="979"/>
                          </a:lnTo>
                          <a:lnTo>
                            <a:pt x="1166" y="965"/>
                          </a:lnTo>
                          <a:lnTo>
                            <a:pt x="1160" y="962"/>
                          </a:lnTo>
                          <a:lnTo>
                            <a:pt x="1160" y="965"/>
                          </a:lnTo>
                          <a:lnTo>
                            <a:pt x="1160" y="962"/>
                          </a:lnTo>
                          <a:lnTo>
                            <a:pt x="1160" y="956"/>
                          </a:lnTo>
                          <a:lnTo>
                            <a:pt x="1160" y="950"/>
                          </a:lnTo>
                          <a:lnTo>
                            <a:pt x="1139" y="875"/>
                          </a:lnTo>
                          <a:lnTo>
                            <a:pt x="1103" y="788"/>
                          </a:lnTo>
                          <a:lnTo>
                            <a:pt x="1032" y="691"/>
                          </a:lnTo>
                          <a:lnTo>
                            <a:pt x="993" y="652"/>
                          </a:lnTo>
                          <a:lnTo>
                            <a:pt x="976" y="619"/>
                          </a:lnTo>
                          <a:lnTo>
                            <a:pt x="958" y="597"/>
                          </a:lnTo>
                          <a:lnTo>
                            <a:pt x="937" y="561"/>
                          </a:lnTo>
                          <a:lnTo>
                            <a:pt x="901" y="516"/>
                          </a:lnTo>
                          <a:lnTo>
                            <a:pt x="852" y="457"/>
                          </a:lnTo>
                          <a:lnTo>
                            <a:pt x="806" y="401"/>
                          </a:lnTo>
                          <a:lnTo>
                            <a:pt x="757" y="347"/>
                          </a:lnTo>
                          <a:lnTo>
                            <a:pt x="711" y="288"/>
                          </a:lnTo>
                          <a:lnTo>
                            <a:pt x="664" y="227"/>
                          </a:lnTo>
                          <a:lnTo>
                            <a:pt x="612" y="169"/>
                          </a:lnTo>
                          <a:lnTo>
                            <a:pt x="562" y="113"/>
                          </a:lnTo>
                          <a:lnTo>
                            <a:pt x="485" y="49"/>
                          </a:lnTo>
                          <a:lnTo>
                            <a:pt x="396" y="10"/>
                          </a:lnTo>
                          <a:lnTo>
                            <a:pt x="301" y="0"/>
                          </a:lnTo>
                          <a:lnTo>
                            <a:pt x="209" y="16"/>
                          </a:lnTo>
                          <a:lnTo>
                            <a:pt x="117" y="58"/>
                          </a:lnTo>
                          <a:lnTo>
                            <a:pt x="54" y="130"/>
                          </a:lnTo>
                          <a:lnTo>
                            <a:pt x="11" y="210"/>
                          </a:lnTo>
                          <a:lnTo>
                            <a:pt x="0" y="298"/>
                          </a:lnTo>
                          <a:lnTo>
                            <a:pt x="18" y="386"/>
                          </a:lnTo>
                          <a:lnTo>
                            <a:pt x="64" y="467"/>
                          </a:lnTo>
                          <a:lnTo>
                            <a:pt x="114" y="522"/>
                          </a:lnTo>
                          <a:lnTo>
                            <a:pt x="160" y="580"/>
                          </a:lnTo>
                          <a:lnTo>
                            <a:pt x="209" y="635"/>
                          </a:lnTo>
                          <a:lnTo>
                            <a:pt x="255" y="694"/>
                          </a:lnTo>
                          <a:lnTo>
                            <a:pt x="308" y="755"/>
                          </a:lnTo>
                          <a:lnTo>
                            <a:pt x="353" y="813"/>
                          </a:lnTo>
                          <a:lnTo>
                            <a:pt x="392" y="852"/>
                          </a:lnTo>
                          <a:lnTo>
                            <a:pt x="410" y="878"/>
                          </a:lnTo>
                          <a:lnTo>
                            <a:pt x="428" y="907"/>
                          </a:lnTo>
                          <a:lnTo>
                            <a:pt x="456" y="940"/>
                          </a:lnTo>
                          <a:lnTo>
                            <a:pt x="485" y="989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47"/>
                          </a:lnTo>
                          <a:lnTo>
                            <a:pt x="537" y="1047"/>
                          </a:lnTo>
                          <a:lnTo>
                            <a:pt x="537" y="1044"/>
                          </a:lnTo>
                          <a:lnTo>
                            <a:pt x="537" y="1047"/>
                          </a:lnTo>
                          <a:lnTo>
                            <a:pt x="545" y="1053"/>
                          </a:lnTo>
                          <a:lnTo>
                            <a:pt x="545" y="1063"/>
                          </a:lnTo>
                          <a:lnTo>
                            <a:pt x="562" y="1141"/>
                          </a:lnTo>
                          <a:lnTo>
                            <a:pt x="605" y="1228"/>
                          </a:lnTo>
                          <a:lnTo>
                            <a:pt x="669" y="1326"/>
                          </a:lnTo>
                          <a:lnTo>
                            <a:pt x="753" y="1399"/>
                          </a:lnTo>
                          <a:lnTo>
                            <a:pt x="823" y="1455"/>
                          </a:lnTo>
                          <a:lnTo>
                            <a:pt x="895" y="1493"/>
                          </a:lnTo>
                          <a:lnTo>
                            <a:pt x="901" y="1497"/>
                          </a:lnTo>
                          <a:lnTo>
                            <a:pt x="905" y="1497"/>
                          </a:lnTo>
                          <a:lnTo>
                            <a:pt x="912" y="1497"/>
                          </a:lnTo>
                          <a:lnTo>
                            <a:pt x="905" y="1497"/>
                          </a:lnTo>
                          <a:lnTo>
                            <a:pt x="912" y="1504"/>
                          </a:lnTo>
                          <a:lnTo>
                            <a:pt x="919" y="1513"/>
                          </a:lnTo>
                          <a:lnTo>
                            <a:pt x="958" y="1559"/>
                          </a:lnTo>
                          <a:lnTo>
                            <a:pt x="989" y="1598"/>
                          </a:lnTo>
                          <a:lnTo>
                            <a:pt x="1018" y="1630"/>
                          </a:lnTo>
                          <a:lnTo>
                            <a:pt x="1043" y="1662"/>
                          </a:lnTo>
                          <a:lnTo>
                            <a:pt x="1078" y="1698"/>
                          </a:lnTo>
                          <a:lnTo>
                            <a:pt x="1121" y="1750"/>
                          </a:lnTo>
                          <a:lnTo>
                            <a:pt x="1191" y="1824"/>
                          </a:lnTo>
                          <a:lnTo>
                            <a:pt x="1254" y="1879"/>
                          </a:lnTo>
                          <a:lnTo>
                            <a:pt x="1321" y="1912"/>
                          </a:lnTo>
                          <a:lnTo>
                            <a:pt x="1339" y="1929"/>
                          </a:lnTo>
                          <a:lnTo>
                            <a:pt x="1350" y="1932"/>
                          </a:lnTo>
                          <a:lnTo>
                            <a:pt x="1360" y="1951"/>
                          </a:lnTo>
                          <a:lnTo>
                            <a:pt x="1386" y="1977"/>
                          </a:lnTo>
                          <a:lnTo>
                            <a:pt x="1431" y="2032"/>
                          </a:lnTo>
                          <a:lnTo>
                            <a:pt x="1463" y="2064"/>
                          </a:lnTo>
                          <a:lnTo>
                            <a:pt x="1558" y="2171"/>
                          </a:lnTo>
                          <a:lnTo>
                            <a:pt x="1552" y="2161"/>
                          </a:lnTo>
                          <a:lnTo>
                            <a:pt x="1544" y="2145"/>
                          </a:lnTo>
                          <a:lnTo>
                            <a:pt x="1541" y="2132"/>
                          </a:lnTo>
                          <a:lnTo>
                            <a:pt x="1544" y="2139"/>
                          </a:lnTo>
                          <a:lnTo>
                            <a:pt x="1544" y="2145"/>
                          </a:lnTo>
                          <a:lnTo>
                            <a:pt x="1544" y="2155"/>
                          </a:lnTo>
                          <a:lnTo>
                            <a:pt x="1552" y="2236"/>
                          </a:lnTo>
                          <a:lnTo>
                            <a:pt x="1580" y="2343"/>
                          </a:lnTo>
                          <a:lnTo>
                            <a:pt x="1664" y="2466"/>
                          </a:lnTo>
                          <a:lnTo>
                            <a:pt x="1770" y="2566"/>
                          </a:lnTo>
                          <a:lnTo>
                            <a:pt x="1876" y="2618"/>
                          </a:lnTo>
                          <a:lnTo>
                            <a:pt x="1954" y="2648"/>
                          </a:lnTo>
                          <a:lnTo>
                            <a:pt x="1962" y="2648"/>
                          </a:lnTo>
                          <a:lnTo>
                            <a:pt x="1965" y="2648"/>
                          </a:lnTo>
                          <a:lnTo>
                            <a:pt x="1972" y="2651"/>
                          </a:lnTo>
                          <a:lnTo>
                            <a:pt x="1962" y="2648"/>
                          </a:lnTo>
                          <a:lnTo>
                            <a:pt x="1947" y="2640"/>
                          </a:lnTo>
                          <a:lnTo>
                            <a:pt x="1944" y="2631"/>
                          </a:lnTo>
                          <a:lnTo>
                            <a:pt x="1944" y="2634"/>
                          </a:lnTo>
                          <a:lnTo>
                            <a:pt x="2017" y="2706"/>
                          </a:lnTo>
                          <a:lnTo>
                            <a:pt x="2085" y="2761"/>
                          </a:lnTo>
                          <a:lnTo>
                            <a:pt x="2145" y="2793"/>
                          </a:lnTo>
                          <a:lnTo>
                            <a:pt x="2149" y="2800"/>
                          </a:lnTo>
                          <a:lnTo>
                            <a:pt x="2155" y="2803"/>
                          </a:lnTo>
                          <a:lnTo>
                            <a:pt x="2162" y="2809"/>
                          </a:lnTo>
                          <a:lnTo>
                            <a:pt x="2149" y="2793"/>
                          </a:lnTo>
                          <a:lnTo>
                            <a:pt x="2138" y="2777"/>
                          </a:lnTo>
                          <a:lnTo>
                            <a:pt x="2128" y="2761"/>
                          </a:lnTo>
                          <a:lnTo>
                            <a:pt x="2131" y="2761"/>
                          </a:lnTo>
                          <a:lnTo>
                            <a:pt x="2131" y="2651"/>
                          </a:lnTo>
                          <a:lnTo>
                            <a:pt x="2180" y="2566"/>
                          </a:lnTo>
                          <a:lnTo>
                            <a:pt x="2251" y="2511"/>
                          </a:lnTo>
                          <a:lnTo>
                            <a:pt x="2243" y="2515"/>
                          </a:lnTo>
                          <a:lnTo>
                            <a:pt x="2237" y="2515"/>
                          </a:lnTo>
                          <a:lnTo>
                            <a:pt x="2227" y="2521"/>
                          </a:lnTo>
                          <a:lnTo>
                            <a:pt x="2162" y="2551"/>
                          </a:lnTo>
                          <a:lnTo>
                            <a:pt x="2085" y="2585"/>
                          </a:lnTo>
                          <a:lnTo>
                            <a:pt x="2007" y="2651"/>
                          </a:lnTo>
                          <a:lnTo>
                            <a:pt x="1954" y="2712"/>
                          </a:lnTo>
                          <a:lnTo>
                            <a:pt x="1919" y="2761"/>
                          </a:lnTo>
                          <a:lnTo>
                            <a:pt x="1890" y="2803"/>
                          </a:lnTo>
                          <a:lnTo>
                            <a:pt x="1884" y="2825"/>
                          </a:lnTo>
                          <a:lnTo>
                            <a:pt x="1866" y="2836"/>
                          </a:lnTo>
                          <a:lnTo>
                            <a:pt x="1848" y="2858"/>
                          </a:lnTo>
                          <a:lnTo>
                            <a:pt x="1796" y="2916"/>
                          </a:lnTo>
                          <a:lnTo>
                            <a:pt x="1760" y="2961"/>
                          </a:lnTo>
                          <a:lnTo>
                            <a:pt x="1728" y="3000"/>
                          </a:lnTo>
                          <a:lnTo>
                            <a:pt x="1710" y="3027"/>
                          </a:lnTo>
                          <a:lnTo>
                            <a:pt x="1689" y="3052"/>
                          </a:lnTo>
                          <a:lnTo>
                            <a:pt x="1650" y="3091"/>
                          </a:lnTo>
                          <a:lnTo>
                            <a:pt x="1672" y="3075"/>
                          </a:lnTo>
                          <a:lnTo>
                            <a:pt x="1693" y="3065"/>
                          </a:lnTo>
                          <a:lnTo>
                            <a:pt x="1710" y="3059"/>
                          </a:lnTo>
                          <a:lnTo>
                            <a:pt x="1707" y="3059"/>
                          </a:lnTo>
                          <a:lnTo>
                            <a:pt x="1700" y="3059"/>
                          </a:lnTo>
                          <a:lnTo>
                            <a:pt x="1622" y="3082"/>
                          </a:lnTo>
                          <a:lnTo>
                            <a:pt x="1516" y="3124"/>
                          </a:lnTo>
                          <a:lnTo>
                            <a:pt x="1396" y="3211"/>
                          </a:lnTo>
                          <a:lnTo>
                            <a:pt x="1326" y="3301"/>
                          </a:lnTo>
                          <a:lnTo>
                            <a:pt x="1287" y="3386"/>
                          </a:lnTo>
                          <a:lnTo>
                            <a:pt x="1254" y="3455"/>
                          </a:lnTo>
                          <a:lnTo>
                            <a:pt x="1254" y="3461"/>
                          </a:lnTo>
                          <a:lnTo>
                            <a:pt x="1254" y="3467"/>
                          </a:lnTo>
                          <a:lnTo>
                            <a:pt x="1251" y="3470"/>
                          </a:lnTo>
                          <a:lnTo>
                            <a:pt x="1254" y="3470"/>
                          </a:lnTo>
                          <a:lnTo>
                            <a:pt x="1251" y="3477"/>
                          </a:lnTo>
                          <a:lnTo>
                            <a:pt x="1244" y="3477"/>
                          </a:lnTo>
                          <a:lnTo>
                            <a:pt x="1194" y="3535"/>
                          </a:lnTo>
                          <a:lnTo>
                            <a:pt x="1155" y="3587"/>
                          </a:lnTo>
                          <a:lnTo>
                            <a:pt x="1124" y="3629"/>
                          </a:lnTo>
                          <a:lnTo>
                            <a:pt x="1113" y="3652"/>
                          </a:lnTo>
                          <a:lnTo>
                            <a:pt x="1103" y="3668"/>
                          </a:lnTo>
                          <a:lnTo>
                            <a:pt x="1078" y="3687"/>
                          </a:lnTo>
                          <a:lnTo>
                            <a:pt x="1049" y="3726"/>
                          </a:lnTo>
                          <a:lnTo>
                            <a:pt x="1018" y="3749"/>
                          </a:lnTo>
                          <a:lnTo>
                            <a:pt x="993" y="3771"/>
                          </a:lnTo>
                          <a:lnTo>
                            <a:pt x="965" y="3798"/>
                          </a:lnTo>
                          <a:lnTo>
                            <a:pt x="929" y="3837"/>
                          </a:lnTo>
                          <a:lnTo>
                            <a:pt x="883" y="3885"/>
                          </a:lnTo>
                          <a:lnTo>
                            <a:pt x="823" y="3950"/>
                          </a:lnTo>
                          <a:lnTo>
                            <a:pt x="781" y="4005"/>
                          </a:lnTo>
                          <a:lnTo>
                            <a:pt x="753" y="4057"/>
                          </a:lnTo>
                          <a:lnTo>
                            <a:pt x="739" y="4073"/>
                          </a:lnTo>
                          <a:lnTo>
                            <a:pt x="729" y="4089"/>
                          </a:lnTo>
                          <a:lnTo>
                            <a:pt x="711" y="4111"/>
                          </a:lnTo>
                          <a:lnTo>
                            <a:pt x="657" y="4193"/>
                          </a:lnTo>
                          <a:lnTo>
                            <a:pt x="633" y="4280"/>
                          </a:lnTo>
                          <a:lnTo>
                            <a:pt x="640" y="4368"/>
                          </a:lnTo>
                          <a:lnTo>
                            <a:pt x="675" y="4448"/>
                          </a:lnTo>
                          <a:lnTo>
                            <a:pt x="739" y="4520"/>
                          </a:lnTo>
                          <a:lnTo>
                            <a:pt x="831" y="4569"/>
                          </a:lnTo>
                          <a:lnTo>
                            <a:pt x="919" y="4591"/>
                          </a:lnTo>
                          <a:lnTo>
                            <a:pt x="1018" y="4585"/>
                          </a:lnTo>
                          <a:lnTo>
                            <a:pt x="1106" y="4553"/>
                          </a:lnTo>
                          <a:lnTo>
                            <a:pt x="1184" y="44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 rot="10800000">
                      <a:off x="3130920" y="7373160"/>
                      <a:ext cx="13248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0" h="1808">
                          <a:moveTo>
                            <a:pt x="548" y="1711"/>
                          </a:moveTo>
                          <a:lnTo>
                            <a:pt x="544" y="1717"/>
                          </a:lnTo>
                          <a:lnTo>
                            <a:pt x="530" y="1720"/>
                          </a:lnTo>
                          <a:lnTo>
                            <a:pt x="527" y="1727"/>
                          </a:lnTo>
                          <a:lnTo>
                            <a:pt x="530" y="1720"/>
                          </a:lnTo>
                          <a:lnTo>
                            <a:pt x="538" y="1720"/>
                          </a:lnTo>
                          <a:lnTo>
                            <a:pt x="544" y="1720"/>
                          </a:lnTo>
                          <a:lnTo>
                            <a:pt x="626" y="1694"/>
                          </a:lnTo>
                          <a:lnTo>
                            <a:pt x="728" y="1645"/>
                          </a:lnTo>
                          <a:lnTo>
                            <a:pt x="841" y="1551"/>
                          </a:lnTo>
                          <a:lnTo>
                            <a:pt x="904" y="1471"/>
                          </a:lnTo>
                          <a:lnTo>
                            <a:pt x="948" y="1406"/>
                          </a:lnTo>
                          <a:lnTo>
                            <a:pt x="975" y="1347"/>
                          </a:lnTo>
                          <a:lnTo>
                            <a:pt x="982" y="1332"/>
                          </a:lnTo>
                          <a:lnTo>
                            <a:pt x="985" y="1318"/>
                          </a:lnTo>
                          <a:lnTo>
                            <a:pt x="1000" y="1308"/>
                          </a:lnTo>
                          <a:lnTo>
                            <a:pt x="1063" y="1228"/>
                          </a:lnTo>
                          <a:lnTo>
                            <a:pt x="1113" y="1169"/>
                          </a:lnTo>
                          <a:lnTo>
                            <a:pt x="1135" y="1117"/>
                          </a:lnTo>
                          <a:lnTo>
                            <a:pt x="1148" y="1098"/>
                          </a:lnTo>
                          <a:lnTo>
                            <a:pt x="1159" y="1075"/>
                          </a:lnTo>
                          <a:lnTo>
                            <a:pt x="1184" y="1053"/>
                          </a:lnTo>
                          <a:lnTo>
                            <a:pt x="1166" y="1066"/>
                          </a:lnTo>
                          <a:lnTo>
                            <a:pt x="1148" y="1075"/>
                          </a:lnTo>
                          <a:lnTo>
                            <a:pt x="1131" y="1082"/>
                          </a:lnTo>
                          <a:lnTo>
                            <a:pt x="1135" y="1082"/>
                          </a:lnTo>
                          <a:lnTo>
                            <a:pt x="1141" y="1082"/>
                          </a:lnTo>
                          <a:lnTo>
                            <a:pt x="1148" y="1082"/>
                          </a:lnTo>
                          <a:lnTo>
                            <a:pt x="1237" y="1059"/>
                          </a:lnTo>
                          <a:lnTo>
                            <a:pt x="1353" y="1011"/>
                          </a:lnTo>
                          <a:lnTo>
                            <a:pt x="1481" y="917"/>
                          </a:lnTo>
                          <a:lnTo>
                            <a:pt x="1533" y="858"/>
                          </a:lnTo>
                          <a:lnTo>
                            <a:pt x="1569" y="810"/>
                          </a:lnTo>
                          <a:lnTo>
                            <a:pt x="1590" y="777"/>
                          </a:lnTo>
                          <a:lnTo>
                            <a:pt x="1608" y="755"/>
                          </a:lnTo>
                          <a:lnTo>
                            <a:pt x="1626" y="729"/>
                          </a:lnTo>
                          <a:lnTo>
                            <a:pt x="1657" y="699"/>
                          </a:lnTo>
                          <a:lnTo>
                            <a:pt x="1686" y="667"/>
                          </a:lnTo>
                          <a:lnTo>
                            <a:pt x="1735" y="616"/>
                          </a:lnTo>
                          <a:lnTo>
                            <a:pt x="1763" y="586"/>
                          </a:lnTo>
                          <a:lnTo>
                            <a:pt x="1862" y="479"/>
                          </a:lnTo>
                          <a:lnTo>
                            <a:pt x="1919" y="401"/>
                          </a:lnTo>
                          <a:lnTo>
                            <a:pt x="1940" y="314"/>
                          </a:lnTo>
                          <a:lnTo>
                            <a:pt x="1929" y="230"/>
                          </a:lnTo>
                          <a:lnTo>
                            <a:pt x="1901" y="146"/>
                          </a:lnTo>
                          <a:lnTo>
                            <a:pt x="1834" y="71"/>
                          </a:lnTo>
                          <a:lnTo>
                            <a:pt x="1745" y="22"/>
                          </a:lnTo>
                          <a:lnTo>
                            <a:pt x="1657" y="0"/>
                          </a:lnTo>
                          <a:lnTo>
                            <a:pt x="1555" y="13"/>
                          </a:lnTo>
                          <a:lnTo>
                            <a:pt x="1467" y="45"/>
                          </a:lnTo>
                          <a:lnTo>
                            <a:pt x="1389" y="97"/>
                          </a:lnTo>
                          <a:lnTo>
                            <a:pt x="1283" y="213"/>
                          </a:lnTo>
                          <a:lnTo>
                            <a:pt x="1184" y="321"/>
                          </a:lnTo>
                          <a:lnTo>
                            <a:pt x="1131" y="382"/>
                          </a:lnTo>
                          <a:lnTo>
                            <a:pt x="1096" y="424"/>
                          </a:lnTo>
                          <a:lnTo>
                            <a:pt x="1063" y="464"/>
                          </a:lnTo>
                          <a:lnTo>
                            <a:pt x="1053" y="483"/>
                          </a:lnTo>
                          <a:lnTo>
                            <a:pt x="1036" y="505"/>
                          </a:lnTo>
                          <a:lnTo>
                            <a:pt x="1003" y="537"/>
                          </a:lnTo>
                          <a:lnTo>
                            <a:pt x="1024" y="522"/>
                          </a:lnTo>
                          <a:lnTo>
                            <a:pt x="1042" y="515"/>
                          </a:lnTo>
                          <a:lnTo>
                            <a:pt x="1053" y="512"/>
                          </a:lnTo>
                          <a:lnTo>
                            <a:pt x="1046" y="512"/>
                          </a:lnTo>
                          <a:lnTo>
                            <a:pt x="1036" y="512"/>
                          </a:lnTo>
                          <a:lnTo>
                            <a:pt x="948" y="531"/>
                          </a:lnTo>
                          <a:lnTo>
                            <a:pt x="834" y="577"/>
                          </a:lnTo>
                          <a:lnTo>
                            <a:pt x="710" y="674"/>
                          </a:lnTo>
                          <a:lnTo>
                            <a:pt x="640" y="755"/>
                          </a:lnTo>
                          <a:lnTo>
                            <a:pt x="598" y="819"/>
                          </a:lnTo>
                          <a:lnTo>
                            <a:pt x="572" y="868"/>
                          </a:lnTo>
                          <a:lnTo>
                            <a:pt x="562" y="890"/>
                          </a:lnTo>
                          <a:lnTo>
                            <a:pt x="548" y="907"/>
                          </a:lnTo>
                          <a:lnTo>
                            <a:pt x="527" y="929"/>
                          </a:lnTo>
                          <a:lnTo>
                            <a:pt x="460" y="1004"/>
                          </a:lnTo>
                          <a:lnTo>
                            <a:pt x="421" y="1075"/>
                          </a:lnTo>
                          <a:lnTo>
                            <a:pt x="388" y="1134"/>
                          </a:lnTo>
                          <a:lnTo>
                            <a:pt x="385" y="1150"/>
                          </a:lnTo>
                          <a:lnTo>
                            <a:pt x="378" y="1163"/>
                          </a:lnTo>
                          <a:lnTo>
                            <a:pt x="367" y="1172"/>
                          </a:lnTo>
                          <a:lnTo>
                            <a:pt x="372" y="1169"/>
                          </a:lnTo>
                          <a:lnTo>
                            <a:pt x="385" y="1163"/>
                          </a:lnTo>
                          <a:lnTo>
                            <a:pt x="388" y="1163"/>
                          </a:lnTo>
                          <a:lnTo>
                            <a:pt x="378" y="1163"/>
                          </a:lnTo>
                          <a:lnTo>
                            <a:pt x="372" y="1169"/>
                          </a:lnTo>
                          <a:lnTo>
                            <a:pt x="294" y="1189"/>
                          </a:lnTo>
                          <a:lnTo>
                            <a:pt x="188" y="1238"/>
                          </a:lnTo>
                          <a:lnTo>
                            <a:pt x="74" y="1332"/>
                          </a:lnTo>
                          <a:lnTo>
                            <a:pt x="21" y="1412"/>
                          </a:lnTo>
                          <a:lnTo>
                            <a:pt x="0" y="1500"/>
                          </a:lnTo>
                          <a:lnTo>
                            <a:pt x="4" y="1587"/>
                          </a:lnTo>
                          <a:lnTo>
                            <a:pt x="39" y="1668"/>
                          </a:lnTo>
                          <a:lnTo>
                            <a:pt x="107" y="1736"/>
                          </a:lnTo>
                          <a:lnTo>
                            <a:pt x="195" y="1788"/>
                          </a:lnTo>
                          <a:lnTo>
                            <a:pt x="290" y="1808"/>
                          </a:lnTo>
                          <a:lnTo>
                            <a:pt x="385" y="1805"/>
                          </a:lnTo>
                          <a:lnTo>
                            <a:pt x="474" y="1772"/>
                          </a:lnTo>
                          <a:lnTo>
                            <a:pt x="548" y="17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rot="10800000">
                      <a:off x="3261960" y="7290720"/>
                      <a:ext cx="2581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84" h="3937">
                          <a:moveTo>
                            <a:pt x="42" y="2077"/>
                          </a:moveTo>
                          <a:lnTo>
                            <a:pt x="42" y="2148"/>
                          </a:lnTo>
                          <a:lnTo>
                            <a:pt x="42" y="2197"/>
                          </a:lnTo>
                          <a:lnTo>
                            <a:pt x="42" y="2242"/>
                          </a:lnTo>
                          <a:lnTo>
                            <a:pt x="46" y="2275"/>
                          </a:lnTo>
                          <a:lnTo>
                            <a:pt x="46" y="2317"/>
                          </a:lnTo>
                          <a:lnTo>
                            <a:pt x="46" y="2372"/>
                          </a:lnTo>
                          <a:lnTo>
                            <a:pt x="46" y="2453"/>
                          </a:lnTo>
                          <a:lnTo>
                            <a:pt x="54" y="2508"/>
                          </a:lnTo>
                          <a:lnTo>
                            <a:pt x="60" y="2557"/>
                          </a:lnTo>
                          <a:lnTo>
                            <a:pt x="64" y="2583"/>
                          </a:lnTo>
                          <a:lnTo>
                            <a:pt x="64" y="2621"/>
                          </a:lnTo>
                          <a:lnTo>
                            <a:pt x="64" y="2663"/>
                          </a:lnTo>
                          <a:lnTo>
                            <a:pt x="70" y="2764"/>
                          </a:lnTo>
                          <a:lnTo>
                            <a:pt x="88" y="2832"/>
                          </a:lnTo>
                          <a:lnTo>
                            <a:pt x="106" y="2897"/>
                          </a:lnTo>
                          <a:lnTo>
                            <a:pt x="114" y="2920"/>
                          </a:lnTo>
                          <a:lnTo>
                            <a:pt x="114" y="2936"/>
                          </a:lnTo>
                          <a:lnTo>
                            <a:pt x="114" y="2958"/>
                          </a:lnTo>
                          <a:lnTo>
                            <a:pt x="117" y="3039"/>
                          </a:lnTo>
                          <a:lnTo>
                            <a:pt x="130" y="3105"/>
                          </a:lnTo>
                          <a:lnTo>
                            <a:pt x="142" y="3160"/>
                          </a:lnTo>
                          <a:lnTo>
                            <a:pt x="148" y="3176"/>
                          </a:lnTo>
                          <a:lnTo>
                            <a:pt x="148" y="3191"/>
                          </a:lnTo>
                          <a:lnTo>
                            <a:pt x="148" y="3208"/>
                          </a:lnTo>
                          <a:lnTo>
                            <a:pt x="159" y="3166"/>
                          </a:lnTo>
                          <a:lnTo>
                            <a:pt x="169" y="3133"/>
                          </a:lnTo>
                          <a:lnTo>
                            <a:pt x="187" y="3111"/>
                          </a:lnTo>
                          <a:lnTo>
                            <a:pt x="184" y="3114"/>
                          </a:lnTo>
                          <a:lnTo>
                            <a:pt x="177" y="3121"/>
                          </a:lnTo>
                          <a:lnTo>
                            <a:pt x="130" y="3166"/>
                          </a:lnTo>
                          <a:lnTo>
                            <a:pt x="70" y="3234"/>
                          </a:lnTo>
                          <a:lnTo>
                            <a:pt x="25" y="3328"/>
                          </a:lnTo>
                          <a:lnTo>
                            <a:pt x="7" y="3451"/>
                          </a:lnTo>
                          <a:lnTo>
                            <a:pt x="7" y="3464"/>
                          </a:lnTo>
                          <a:lnTo>
                            <a:pt x="7" y="3480"/>
                          </a:lnTo>
                          <a:lnTo>
                            <a:pt x="7" y="3497"/>
                          </a:lnTo>
                          <a:lnTo>
                            <a:pt x="0" y="3571"/>
                          </a:lnTo>
                          <a:lnTo>
                            <a:pt x="11" y="3668"/>
                          </a:lnTo>
                          <a:lnTo>
                            <a:pt x="46" y="3768"/>
                          </a:lnTo>
                          <a:lnTo>
                            <a:pt x="130" y="3859"/>
                          </a:lnTo>
                          <a:lnTo>
                            <a:pt x="226" y="3915"/>
                          </a:lnTo>
                          <a:lnTo>
                            <a:pt x="301" y="3937"/>
                          </a:lnTo>
                          <a:lnTo>
                            <a:pt x="449" y="3937"/>
                          </a:lnTo>
                          <a:lnTo>
                            <a:pt x="545" y="3907"/>
                          </a:lnTo>
                          <a:lnTo>
                            <a:pt x="622" y="3865"/>
                          </a:lnTo>
                          <a:lnTo>
                            <a:pt x="693" y="3810"/>
                          </a:lnTo>
                          <a:lnTo>
                            <a:pt x="739" y="3740"/>
                          </a:lnTo>
                          <a:lnTo>
                            <a:pt x="774" y="3658"/>
                          </a:lnTo>
                          <a:lnTo>
                            <a:pt x="799" y="3561"/>
                          </a:lnTo>
                          <a:lnTo>
                            <a:pt x="805" y="3555"/>
                          </a:lnTo>
                          <a:lnTo>
                            <a:pt x="805" y="3545"/>
                          </a:lnTo>
                          <a:lnTo>
                            <a:pt x="805" y="3539"/>
                          </a:lnTo>
                          <a:lnTo>
                            <a:pt x="805" y="3545"/>
                          </a:lnTo>
                          <a:lnTo>
                            <a:pt x="792" y="3555"/>
                          </a:lnTo>
                          <a:lnTo>
                            <a:pt x="788" y="3567"/>
                          </a:lnTo>
                          <a:lnTo>
                            <a:pt x="792" y="3561"/>
                          </a:lnTo>
                          <a:lnTo>
                            <a:pt x="799" y="3555"/>
                          </a:lnTo>
                          <a:lnTo>
                            <a:pt x="809" y="3555"/>
                          </a:lnTo>
                          <a:lnTo>
                            <a:pt x="883" y="3522"/>
                          </a:lnTo>
                          <a:lnTo>
                            <a:pt x="958" y="3473"/>
                          </a:lnTo>
                          <a:lnTo>
                            <a:pt x="1046" y="3393"/>
                          </a:lnTo>
                          <a:lnTo>
                            <a:pt x="1095" y="3337"/>
                          </a:lnTo>
                          <a:lnTo>
                            <a:pt x="1131" y="3299"/>
                          </a:lnTo>
                          <a:lnTo>
                            <a:pt x="1158" y="3266"/>
                          </a:lnTo>
                          <a:lnTo>
                            <a:pt x="1184" y="3234"/>
                          </a:lnTo>
                          <a:lnTo>
                            <a:pt x="1209" y="3208"/>
                          </a:lnTo>
                          <a:lnTo>
                            <a:pt x="1248" y="3169"/>
                          </a:lnTo>
                          <a:lnTo>
                            <a:pt x="1321" y="3072"/>
                          </a:lnTo>
                          <a:lnTo>
                            <a:pt x="1368" y="2991"/>
                          </a:lnTo>
                          <a:lnTo>
                            <a:pt x="1392" y="2920"/>
                          </a:lnTo>
                          <a:lnTo>
                            <a:pt x="1392" y="2909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396" y="2903"/>
                          </a:lnTo>
                          <a:lnTo>
                            <a:pt x="1396" y="2897"/>
                          </a:lnTo>
                          <a:lnTo>
                            <a:pt x="1402" y="2894"/>
                          </a:lnTo>
                          <a:lnTo>
                            <a:pt x="1392" y="2903"/>
                          </a:lnTo>
                          <a:lnTo>
                            <a:pt x="1375" y="2914"/>
                          </a:lnTo>
                          <a:lnTo>
                            <a:pt x="1357" y="2920"/>
                          </a:lnTo>
                          <a:lnTo>
                            <a:pt x="1360" y="2920"/>
                          </a:lnTo>
                          <a:lnTo>
                            <a:pt x="1368" y="2914"/>
                          </a:lnTo>
                          <a:lnTo>
                            <a:pt x="1375" y="2914"/>
                          </a:lnTo>
                          <a:lnTo>
                            <a:pt x="1462" y="2894"/>
                          </a:lnTo>
                          <a:lnTo>
                            <a:pt x="1579" y="2848"/>
                          </a:lnTo>
                          <a:lnTo>
                            <a:pt x="1700" y="2751"/>
                          </a:lnTo>
                          <a:lnTo>
                            <a:pt x="1728" y="2726"/>
                          </a:lnTo>
                          <a:lnTo>
                            <a:pt x="1752" y="2709"/>
                          </a:lnTo>
                          <a:lnTo>
                            <a:pt x="1778" y="2693"/>
                          </a:lnTo>
                          <a:lnTo>
                            <a:pt x="1816" y="2660"/>
                          </a:lnTo>
                          <a:lnTo>
                            <a:pt x="1876" y="2615"/>
                          </a:lnTo>
                          <a:lnTo>
                            <a:pt x="1939" y="2547"/>
                          </a:lnTo>
                          <a:lnTo>
                            <a:pt x="2025" y="2437"/>
                          </a:lnTo>
                          <a:lnTo>
                            <a:pt x="2067" y="2350"/>
                          </a:lnTo>
                          <a:lnTo>
                            <a:pt x="2077" y="2278"/>
                          </a:lnTo>
                          <a:lnTo>
                            <a:pt x="2085" y="2275"/>
                          </a:lnTo>
                          <a:lnTo>
                            <a:pt x="2085" y="2262"/>
                          </a:lnTo>
                          <a:lnTo>
                            <a:pt x="2085" y="2268"/>
                          </a:lnTo>
                          <a:lnTo>
                            <a:pt x="2077" y="2275"/>
                          </a:lnTo>
                          <a:lnTo>
                            <a:pt x="2077" y="2278"/>
                          </a:lnTo>
                          <a:lnTo>
                            <a:pt x="2137" y="2213"/>
                          </a:lnTo>
                          <a:lnTo>
                            <a:pt x="2173" y="2165"/>
                          </a:lnTo>
                          <a:lnTo>
                            <a:pt x="2201" y="2123"/>
                          </a:lnTo>
                          <a:lnTo>
                            <a:pt x="2219" y="2093"/>
                          </a:lnTo>
                          <a:lnTo>
                            <a:pt x="2237" y="2074"/>
                          </a:lnTo>
                          <a:lnTo>
                            <a:pt x="2268" y="2041"/>
                          </a:lnTo>
                          <a:lnTo>
                            <a:pt x="2286" y="2026"/>
                          </a:lnTo>
                          <a:lnTo>
                            <a:pt x="2297" y="2013"/>
                          </a:lnTo>
                          <a:lnTo>
                            <a:pt x="2321" y="2002"/>
                          </a:lnTo>
                          <a:lnTo>
                            <a:pt x="2378" y="1964"/>
                          </a:lnTo>
                          <a:lnTo>
                            <a:pt x="2451" y="1916"/>
                          </a:lnTo>
                          <a:lnTo>
                            <a:pt x="2523" y="1844"/>
                          </a:lnTo>
                          <a:lnTo>
                            <a:pt x="2562" y="1808"/>
                          </a:lnTo>
                          <a:lnTo>
                            <a:pt x="2593" y="1776"/>
                          </a:lnTo>
                          <a:lnTo>
                            <a:pt x="2619" y="1747"/>
                          </a:lnTo>
                          <a:lnTo>
                            <a:pt x="2646" y="1720"/>
                          </a:lnTo>
                          <a:lnTo>
                            <a:pt x="2689" y="1682"/>
                          </a:lnTo>
                          <a:lnTo>
                            <a:pt x="2734" y="1634"/>
                          </a:lnTo>
                          <a:lnTo>
                            <a:pt x="2806" y="1537"/>
                          </a:lnTo>
                          <a:lnTo>
                            <a:pt x="2855" y="1455"/>
                          </a:lnTo>
                          <a:lnTo>
                            <a:pt x="2876" y="1377"/>
                          </a:lnTo>
                          <a:lnTo>
                            <a:pt x="2876" y="1374"/>
                          </a:lnTo>
                          <a:lnTo>
                            <a:pt x="2883" y="1361"/>
                          </a:lnTo>
                          <a:lnTo>
                            <a:pt x="2883" y="1358"/>
                          </a:lnTo>
                          <a:lnTo>
                            <a:pt x="2883" y="1361"/>
                          </a:lnTo>
                          <a:lnTo>
                            <a:pt x="2883" y="1368"/>
                          </a:lnTo>
                          <a:lnTo>
                            <a:pt x="2883" y="1361"/>
                          </a:lnTo>
                          <a:lnTo>
                            <a:pt x="2890" y="1358"/>
                          </a:lnTo>
                          <a:lnTo>
                            <a:pt x="2890" y="1352"/>
                          </a:lnTo>
                          <a:lnTo>
                            <a:pt x="2894" y="1352"/>
                          </a:lnTo>
                          <a:lnTo>
                            <a:pt x="2900" y="1345"/>
                          </a:lnTo>
                          <a:lnTo>
                            <a:pt x="2911" y="1342"/>
                          </a:lnTo>
                          <a:lnTo>
                            <a:pt x="2978" y="1310"/>
                          </a:lnTo>
                          <a:lnTo>
                            <a:pt x="3060" y="1258"/>
                          </a:lnTo>
                          <a:lnTo>
                            <a:pt x="3144" y="1183"/>
                          </a:lnTo>
                          <a:lnTo>
                            <a:pt x="3162" y="1167"/>
                          </a:lnTo>
                          <a:lnTo>
                            <a:pt x="3180" y="1157"/>
                          </a:lnTo>
                          <a:lnTo>
                            <a:pt x="3198" y="1144"/>
                          </a:lnTo>
                          <a:lnTo>
                            <a:pt x="3258" y="1109"/>
                          </a:lnTo>
                          <a:lnTo>
                            <a:pt x="3321" y="1057"/>
                          </a:lnTo>
                          <a:lnTo>
                            <a:pt x="3392" y="992"/>
                          </a:lnTo>
                          <a:lnTo>
                            <a:pt x="3481" y="869"/>
                          </a:lnTo>
                          <a:lnTo>
                            <a:pt x="3515" y="758"/>
                          </a:lnTo>
                          <a:lnTo>
                            <a:pt x="3530" y="684"/>
                          </a:lnTo>
                          <a:lnTo>
                            <a:pt x="3530" y="678"/>
                          </a:lnTo>
                          <a:lnTo>
                            <a:pt x="3530" y="671"/>
                          </a:lnTo>
                          <a:lnTo>
                            <a:pt x="3533" y="667"/>
                          </a:lnTo>
                          <a:lnTo>
                            <a:pt x="3530" y="684"/>
                          </a:lnTo>
                          <a:lnTo>
                            <a:pt x="3515" y="694"/>
                          </a:lnTo>
                          <a:lnTo>
                            <a:pt x="3512" y="710"/>
                          </a:lnTo>
                          <a:lnTo>
                            <a:pt x="3569" y="645"/>
                          </a:lnTo>
                          <a:lnTo>
                            <a:pt x="3604" y="597"/>
                          </a:lnTo>
                          <a:lnTo>
                            <a:pt x="3635" y="558"/>
                          </a:lnTo>
                          <a:lnTo>
                            <a:pt x="3653" y="532"/>
                          </a:lnTo>
                          <a:lnTo>
                            <a:pt x="3674" y="509"/>
                          </a:lnTo>
                          <a:lnTo>
                            <a:pt x="3707" y="470"/>
                          </a:lnTo>
                          <a:lnTo>
                            <a:pt x="3759" y="396"/>
                          </a:lnTo>
                          <a:lnTo>
                            <a:pt x="3784" y="308"/>
                          </a:lnTo>
                          <a:lnTo>
                            <a:pt x="3777" y="221"/>
                          </a:lnTo>
                          <a:lnTo>
                            <a:pt x="3741" y="136"/>
                          </a:lnTo>
                          <a:lnTo>
                            <a:pt x="3674" y="65"/>
                          </a:lnTo>
                          <a:lnTo>
                            <a:pt x="3586" y="17"/>
                          </a:lnTo>
                          <a:lnTo>
                            <a:pt x="3494" y="0"/>
                          </a:lnTo>
                          <a:lnTo>
                            <a:pt x="3399" y="3"/>
                          </a:lnTo>
                          <a:lnTo>
                            <a:pt x="3310" y="36"/>
                          </a:lnTo>
                          <a:lnTo>
                            <a:pt x="3232" y="97"/>
                          </a:lnTo>
                          <a:lnTo>
                            <a:pt x="3180" y="156"/>
                          </a:lnTo>
                          <a:lnTo>
                            <a:pt x="3138" y="205"/>
                          </a:lnTo>
                          <a:lnTo>
                            <a:pt x="3109" y="243"/>
                          </a:lnTo>
                          <a:lnTo>
                            <a:pt x="3092" y="269"/>
                          </a:lnTo>
                          <a:lnTo>
                            <a:pt x="3066" y="293"/>
                          </a:lnTo>
                          <a:lnTo>
                            <a:pt x="3035" y="331"/>
                          </a:lnTo>
                          <a:lnTo>
                            <a:pt x="2947" y="454"/>
                          </a:lnTo>
                          <a:lnTo>
                            <a:pt x="2911" y="558"/>
                          </a:lnTo>
                          <a:lnTo>
                            <a:pt x="2900" y="636"/>
                          </a:lnTo>
                          <a:lnTo>
                            <a:pt x="2900" y="645"/>
                          </a:lnTo>
                          <a:lnTo>
                            <a:pt x="2900" y="652"/>
                          </a:lnTo>
                          <a:lnTo>
                            <a:pt x="2900" y="655"/>
                          </a:lnTo>
                          <a:lnTo>
                            <a:pt x="2908" y="639"/>
                          </a:lnTo>
                          <a:lnTo>
                            <a:pt x="2911" y="622"/>
                          </a:lnTo>
                          <a:lnTo>
                            <a:pt x="2918" y="613"/>
                          </a:lnTo>
                          <a:lnTo>
                            <a:pt x="2900" y="629"/>
                          </a:lnTo>
                          <a:lnTo>
                            <a:pt x="2890" y="639"/>
                          </a:lnTo>
                          <a:lnTo>
                            <a:pt x="2866" y="655"/>
                          </a:lnTo>
                          <a:lnTo>
                            <a:pt x="2806" y="687"/>
                          </a:lnTo>
                          <a:lnTo>
                            <a:pt x="2746" y="739"/>
                          </a:lnTo>
                          <a:lnTo>
                            <a:pt x="2671" y="804"/>
                          </a:lnTo>
                          <a:lnTo>
                            <a:pt x="2664" y="813"/>
                          </a:lnTo>
                          <a:lnTo>
                            <a:pt x="2656" y="813"/>
                          </a:lnTo>
                          <a:lnTo>
                            <a:pt x="2653" y="821"/>
                          </a:lnTo>
                          <a:lnTo>
                            <a:pt x="2646" y="821"/>
                          </a:lnTo>
                          <a:lnTo>
                            <a:pt x="2575" y="852"/>
                          </a:lnTo>
                          <a:lnTo>
                            <a:pt x="2498" y="907"/>
                          </a:lnTo>
                          <a:lnTo>
                            <a:pt x="2417" y="976"/>
                          </a:lnTo>
                          <a:lnTo>
                            <a:pt x="2339" y="1073"/>
                          </a:lnTo>
                          <a:lnTo>
                            <a:pt x="2297" y="1161"/>
                          </a:lnTo>
                          <a:lnTo>
                            <a:pt x="2272" y="1231"/>
                          </a:lnTo>
                          <a:lnTo>
                            <a:pt x="2268" y="1241"/>
                          </a:lnTo>
                          <a:lnTo>
                            <a:pt x="2268" y="1248"/>
                          </a:lnTo>
                          <a:lnTo>
                            <a:pt x="2268" y="1255"/>
                          </a:lnTo>
                          <a:lnTo>
                            <a:pt x="2268" y="1248"/>
                          </a:lnTo>
                          <a:lnTo>
                            <a:pt x="2261" y="1255"/>
                          </a:lnTo>
                          <a:lnTo>
                            <a:pt x="2219" y="1297"/>
                          </a:lnTo>
                          <a:lnTo>
                            <a:pt x="2191" y="1325"/>
                          </a:lnTo>
                          <a:lnTo>
                            <a:pt x="2159" y="1352"/>
                          </a:lnTo>
                          <a:lnTo>
                            <a:pt x="2131" y="1383"/>
                          </a:lnTo>
                          <a:lnTo>
                            <a:pt x="2095" y="1416"/>
                          </a:lnTo>
                          <a:lnTo>
                            <a:pt x="2049" y="1465"/>
                          </a:lnTo>
                          <a:lnTo>
                            <a:pt x="2032" y="1488"/>
                          </a:lnTo>
                          <a:lnTo>
                            <a:pt x="2014" y="1497"/>
                          </a:lnTo>
                          <a:lnTo>
                            <a:pt x="1996" y="1510"/>
                          </a:lnTo>
                          <a:lnTo>
                            <a:pt x="1936" y="1546"/>
                          </a:lnTo>
                          <a:lnTo>
                            <a:pt x="1866" y="1595"/>
                          </a:lnTo>
                          <a:lnTo>
                            <a:pt x="1794" y="1665"/>
                          </a:lnTo>
                          <a:lnTo>
                            <a:pt x="1734" y="1731"/>
                          </a:lnTo>
                          <a:lnTo>
                            <a:pt x="1692" y="1779"/>
                          </a:lnTo>
                          <a:lnTo>
                            <a:pt x="1664" y="1825"/>
                          </a:lnTo>
                          <a:lnTo>
                            <a:pt x="1650" y="1844"/>
                          </a:lnTo>
                          <a:lnTo>
                            <a:pt x="1633" y="1873"/>
                          </a:lnTo>
                          <a:lnTo>
                            <a:pt x="1604" y="1899"/>
                          </a:lnTo>
                          <a:lnTo>
                            <a:pt x="1523" y="2010"/>
                          </a:lnTo>
                          <a:lnTo>
                            <a:pt x="1480" y="2099"/>
                          </a:lnTo>
                          <a:lnTo>
                            <a:pt x="1462" y="2171"/>
                          </a:lnTo>
                          <a:lnTo>
                            <a:pt x="1462" y="2178"/>
                          </a:lnTo>
                          <a:lnTo>
                            <a:pt x="1462" y="2181"/>
                          </a:lnTo>
                          <a:lnTo>
                            <a:pt x="1462" y="2187"/>
                          </a:lnTo>
                          <a:lnTo>
                            <a:pt x="1462" y="2181"/>
                          </a:lnTo>
                          <a:lnTo>
                            <a:pt x="1466" y="2171"/>
                          </a:lnTo>
                          <a:lnTo>
                            <a:pt x="1466" y="2165"/>
                          </a:lnTo>
                          <a:lnTo>
                            <a:pt x="1445" y="2193"/>
                          </a:lnTo>
                          <a:lnTo>
                            <a:pt x="1420" y="2213"/>
                          </a:lnTo>
                          <a:lnTo>
                            <a:pt x="1396" y="2229"/>
                          </a:lnTo>
                          <a:lnTo>
                            <a:pt x="1357" y="2259"/>
                          </a:lnTo>
                          <a:lnTo>
                            <a:pt x="1297" y="2307"/>
                          </a:lnTo>
                          <a:lnTo>
                            <a:pt x="1230" y="2372"/>
                          </a:lnTo>
                          <a:lnTo>
                            <a:pt x="1244" y="2362"/>
                          </a:lnTo>
                          <a:lnTo>
                            <a:pt x="1261" y="2350"/>
                          </a:lnTo>
                          <a:lnTo>
                            <a:pt x="1272" y="2347"/>
                          </a:lnTo>
                          <a:lnTo>
                            <a:pt x="1272" y="2350"/>
                          </a:lnTo>
                          <a:lnTo>
                            <a:pt x="1265" y="2350"/>
                          </a:lnTo>
                          <a:lnTo>
                            <a:pt x="1254" y="2350"/>
                          </a:lnTo>
                          <a:lnTo>
                            <a:pt x="1173" y="2366"/>
                          </a:lnTo>
                          <a:lnTo>
                            <a:pt x="1053" y="2414"/>
                          </a:lnTo>
                          <a:lnTo>
                            <a:pt x="929" y="2511"/>
                          </a:lnTo>
                          <a:lnTo>
                            <a:pt x="859" y="2605"/>
                          </a:lnTo>
                          <a:lnTo>
                            <a:pt x="809" y="2693"/>
                          </a:lnTo>
                          <a:lnTo>
                            <a:pt x="788" y="2764"/>
                          </a:lnTo>
                          <a:lnTo>
                            <a:pt x="781" y="2767"/>
                          </a:lnTo>
                          <a:lnTo>
                            <a:pt x="781" y="2781"/>
                          </a:lnTo>
                          <a:lnTo>
                            <a:pt x="774" y="2784"/>
                          </a:lnTo>
                          <a:lnTo>
                            <a:pt x="774" y="2790"/>
                          </a:lnTo>
                          <a:lnTo>
                            <a:pt x="721" y="2845"/>
                          </a:lnTo>
                          <a:lnTo>
                            <a:pt x="685" y="2887"/>
                          </a:lnTo>
                          <a:lnTo>
                            <a:pt x="657" y="2920"/>
                          </a:lnTo>
                          <a:lnTo>
                            <a:pt x="633" y="2949"/>
                          </a:lnTo>
                          <a:lnTo>
                            <a:pt x="608" y="2981"/>
                          </a:lnTo>
                          <a:lnTo>
                            <a:pt x="573" y="3017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69" y="3023"/>
                          </a:lnTo>
                          <a:lnTo>
                            <a:pt x="561" y="3023"/>
                          </a:lnTo>
                          <a:lnTo>
                            <a:pt x="555" y="3030"/>
                          </a:lnTo>
                          <a:lnTo>
                            <a:pt x="551" y="3030"/>
                          </a:lnTo>
                          <a:lnTo>
                            <a:pt x="480" y="3063"/>
                          </a:lnTo>
                          <a:lnTo>
                            <a:pt x="403" y="3111"/>
                          </a:lnTo>
                          <a:lnTo>
                            <a:pt x="314" y="3191"/>
                          </a:lnTo>
                          <a:lnTo>
                            <a:pt x="230" y="3299"/>
                          </a:lnTo>
                          <a:lnTo>
                            <a:pt x="194" y="3409"/>
                          </a:lnTo>
                          <a:lnTo>
                            <a:pt x="177" y="3483"/>
                          </a:lnTo>
                          <a:lnTo>
                            <a:pt x="177" y="3497"/>
                          </a:lnTo>
                          <a:lnTo>
                            <a:pt x="177" y="3500"/>
                          </a:lnTo>
                          <a:lnTo>
                            <a:pt x="205" y="3448"/>
                          </a:lnTo>
                          <a:lnTo>
                            <a:pt x="254" y="3399"/>
                          </a:lnTo>
                          <a:lnTo>
                            <a:pt x="318" y="3370"/>
                          </a:lnTo>
                          <a:lnTo>
                            <a:pt x="385" y="3367"/>
                          </a:lnTo>
                          <a:lnTo>
                            <a:pt x="456" y="3383"/>
                          </a:lnTo>
                          <a:lnTo>
                            <a:pt x="534" y="3418"/>
                          </a:lnTo>
                          <a:lnTo>
                            <a:pt x="590" y="3480"/>
                          </a:lnTo>
                          <a:lnTo>
                            <a:pt x="622" y="3536"/>
                          </a:lnTo>
                          <a:lnTo>
                            <a:pt x="625" y="3571"/>
                          </a:lnTo>
                          <a:lnTo>
                            <a:pt x="625" y="3561"/>
                          </a:lnTo>
                          <a:lnTo>
                            <a:pt x="625" y="3545"/>
                          </a:lnTo>
                          <a:lnTo>
                            <a:pt x="625" y="3536"/>
                          </a:lnTo>
                          <a:lnTo>
                            <a:pt x="633" y="3506"/>
                          </a:lnTo>
                          <a:lnTo>
                            <a:pt x="633" y="3483"/>
                          </a:lnTo>
                          <a:lnTo>
                            <a:pt x="633" y="3451"/>
                          </a:lnTo>
                          <a:lnTo>
                            <a:pt x="625" y="3497"/>
                          </a:lnTo>
                          <a:lnTo>
                            <a:pt x="608" y="3536"/>
                          </a:lnTo>
                          <a:lnTo>
                            <a:pt x="590" y="3555"/>
                          </a:lnTo>
                          <a:lnTo>
                            <a:pt x="597" y="3552"/>
                          </a:lnTo>
                          <a:lnTo>
                            <a:pt x="597" y="3545"/>
                          </a:lnTo>
                          <a:lnTo>
                            <a:pt x="604" y="3539"/>
                          </a:lnTo>
                          <a:lnTo>
                            <a:pt x="657" y="3497"/>
                          </a:lnTo>
                          <a:lnTo>
                            <a:pt x="711" y="3431"/>
                          </a:lnTo>
                          <a:lnTo>
                            <a:pt x="756" y="3334"/>
                          </a:lnTo>
                          <a:lnTo>
                            <a:pt x="774" y="3208"/>
                          </a:lnTo>
                          <a:lnTo>
                            <a:pt x="774" y="3127"/>
                          </a:lnTo>
                          <a:lnTo>
                            <a:pt x="763" y="3063"/>
                          </a:lnTo>
                          <a:lnTo>
                            <a:pt x="753" y="3014"/>
                          </a:lnTo>
                          <a:lnTo>
                            <a:pt x="745" y="2997"/>
                          </a:lnTo>
                          <a:lnTo>
                            <a:pt x="745" y="2981"/>
                          </a:lnTo>
                          <a:lnTo>
                            <a:pt x="739" y="2958"/>
                          </a:lnTo>
                          <a:lnTo>
                            <a:pt x="735" y="2864"/>
                          </a:lnTo>
                          <a:lnTo>
                            <a:pt x="721" y="2790"/>
                          </a:lnTo>
                          <a:lnTo>
                            <a:pt x="703" y="2732"/>
                          </a:lnTo>
                          <a:lnTo>
                            <a:pt x="700" y="2709"/>
                          </a:lnTo>
                          <a:lnTo>
                            <a:pt x="693" y="2693"/>
                          </a:lnTo>
                          <a:lnTo>
                            <a:pt x="693" y="2663"/>
                          </a:lnTo>
                          <a:lnTo>
                            <a:pt x="693" y="2589"/>
                          </a:lnTo>
                          <a:lnTo>
                            <a:pt x="685" y="2530"/>
                          </a:lnTo>
                          <a:lnTo>
                            <a:pt x="682" y="2486"/>
                          </a:lnTo>
                          <a:lnTo>
                            <a:pt x="682" y="2453"/>
                          </a:lnTo>
                          <a:lnTo>
                            <a:pt x="675" y="2421"/>
                          </a:lnTo>
                          <a:lnTo>
                            <a:pt x="675" y="2372"/>
                          </a:lnTo>
                          <a:lnTo>
                            <a:pt x="675" y="2307"/>
                          </a:lnTo>
                          <a:lnTo>
                            <a:pt x="675" y="2253"/>
                          </a:lnTo>
                          <a:lnTo>
                            <a:pt x="668" y="2213"/>
                          </a:lnTo>
                          <a:lnTo>
                            <a:pt x="668" y="2178"/>
                          </a:lnTo>
                          <a:lnTo>
                            <a:pt x="668" y="2132"/>
                          </a:lnTo>
                          <a:lnTo>
                            <a:pt x="668" y="2077"/>
                          </a:lnTo>
                          <a:lnTo>
                            <a:pt x="651" y="1986"/>
                          </a:lnTo>
                          <a:lnTo>
                            <a:pt x="604" y="1913"/>
                          </a:lnTo>
                          <a:lnTo>
                            <a:pt x="537" y="1844"/>
                          </a:lnTo>
                          <a:lnTo>
                            <a:pt x="449" y="1808"/>
                          </a:lnTo>
                          <a:lnTo>
                            <a:pt x="353" y="1792"/>
                          </a:lnTo>
                          <a:lnTo>
                            <a:pt x="254" y="1808"/>
                          </a:lnTo>
                          <a:lnTo>
                            <a:pt x="166" y="1844"/>
                          </a:lnTo>
                          <a:lnTo>
                            <a:pt x="99" y="1913"/>
                          </a:lnTo>
                          <a:lnTo>
                            <a:pt x="54" y="1986"/>
                          </a:lnTo>
                          <a:lnTo>
                            <a:pt x="42" y="20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rot="10800000">
                      <a:off x="3468960" y="7335720"/>
                      <a:ext cx="1404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3" h="1797">
                          <a:moveTo>
                            <a:pt x="310" y="722"/>
                          </a:moveTo>
                          <a:lnTo>
                            <a:pt x="399" y="716"/>
                          </a:lnTo>
                          <a:lnTo>
                            <a:pt x="466" y="709"/>
                          </a:lnTo>
                          <a:lnTo>
                            <a:pt x="520" y="705"/>
                          </a:lnTo>
                          <a:lnTo>
                            <a:pt x="548" y="699"/>
                          </a:lnTo>
                          <a:lnTo>
                            <a:pt x="583" y="699"/>
                          </a:lnTo>
                          <a:lnTo>
                            <a:pt x="632" y="699"/>
                          </a:lnTo>
                          <a:lnTo>
                            <a:pt x="764" y="690"/>
                          </a:lnTo>
                          <a:lnTo>
                            <a:pt x="862" y="660"/>
                          </a:lnTo>
                          <a:lnTo>
                            <a:pt x="940" y="625"/>
                          </a:lnTo>
                          <a:lnTo>
                            <a:pt x="946" y="625"/>
                          </a:lnTo>
                          <a:lnTo>
                            <a:pt x="951" y="619"/>
                          </a:lnTo>
                          <a:lnTo>
                            <a:pt x="957" y="619"/>
                          </a:lnTo>
                          <a:lnTo>
                            <a:pt x="951" y="619"/>
                          </a:lnTo>
                          <a:lnTo>
                            <a:pt x="946" y="619"/>
                          </a:lnTo>
                          <a:lnTo>
                            <a:pt x="951" y="619"/>
                          </a:lnTo>
                          <a:lnTo>
                            <a:pt x="933" y="619"/>
                          </a:lnTo>
                          <a:lnTo>
                            <a:pt x="915" y="611"/>
                          </a:lnTo>
                          <a:lnTo>
                            <a:pt x="897" y="602"/>
                          </a:lnTo>
                          <a:lnTo>
                            <a:pt x="904" y="608"/>
                          </a:lnTo>
                          <a:lnTo>
                            <a:pt x="912" y="611"/>
                          </a:lnTo>
                          <a:lnTo>
                            <a:pt x="975" y="651"/>
                          </a:lnTo>
                          <a:lnTo>
                            <a:pt x="1081" y="690"/>
                          </a:lnTo>
                          <a:lnTo>
                            <a:pt x="1222" y="705"/>
                          </a:lnTo>
                          <a:lnTo>
                            <a:pt x="1388" y="677"/>
                          </a:lnTo>
                          <a:lnTo>
                            <a:pt x="1509" y="619"/>
                          </a:lnTo>
                          <a:lnTo>
                            <a:pt x="1572" y="563"/>
                          </a:lnTo>
                          <a:lnTo>
                            <a:pt x="1579" y="560"/>
                          </a:lnTo>
                          <a:lnTo>
                            <a:pt x="1587" y="553"/>
                          </a:lnTo>
                          <a:lnTo>
                            <a:pt x="1569" y="570"/>
                          </a:lnTo>
                          <a:lnTo>
                            <a:pt x="1533" y="580"/>
                          </a:lnTo>
                          <a:lnTo>
                            <a:pt x="1491" y="586"/>
                          </a:lnTo>
                          <a:lnTo>
                            <a:pt x="1533" y="586"/>
                          </a:lnTo>
                          <a:lnTo>
                            <a:pt x="1572" y="580"/>
                          </a:lnTo>
                          <a:lnTo>
                            <a:pt x="1603" y="580"/>
                          </a:lnTo>
                          <a:lnTo>
                            <a:pt x="1615" y="577"/>
                          </a:lnTo>
                          <a:lnTo>
                            <a:pt x="1621" y="577"/>
                          </a:lnTo>
                          <a:lnTo>
                            <a:pt x="1632" y="577"/>
                          </a:lnTo>
                          <a:lnTo>
                            <a:pt x="1579" y="570"/>
                          </a:lnTo>
                          <a:lnTo>
                            <a:pt x="1519" y="538"/>
                          </a:lnTo>
                          <a:lnTo>
                            <a:pt x="1466" y="489"/>
                          </a:lnTo>
                          <a:lnTo>
                            <a:pt x="1442" y="411"/>
                          </a:lnTo>
                          <a:lnTo>
                            <a:pt x="1442" y="343"/>
                          </a:lnTo>
                          <a:lnTo>
                            <a:pt x="1473" y="288"/>
                          </a:lnTo>
                          <a:lnTo>
                            <a:pt x="1466" y="291"/>
                          </a:lnTo>
                          <a:lnTo>
                            <a:pt x="1459" y="298"/>
                          </a:lnTo>
                          <a:lnTo>
                            <a:pt x="1455" y="304"/>
                          </a:lnTo>
                          <a:lnTo>
                            <a:pt x="1406" y="359"/>
                          </a:lnTo>
                          <a:lnTo>
                            <a:pt x="1353" y="428"/>
                          </a:lnTo>
                          <a:lnTo>
                            <a:pt x="1314" y="525"/>
                          </a:lnTo>
                          <a:lnTo>
                            <a:pt x="1293" y="641"/>
                          </a:lnTo>
                          <a:lnTo>
                            <a:pt x="1300" y="732"/>
                          </a:lnTo>
                          <a:lnTo>
                            <a:pt x="1314" y="803"/>
                          </a:lnTo>
                          <a:lnTo>
                            <a:pt x="1332" y="862"/>
                          </a:lnTo>
                          <a:lnTo>
                            <a:pt x="1335" y="890"/>
                          </a:lnTo>
                          <a:lnTo>
                            <a:pt x="1335" y="910"/>
                          </a:lnTo>
                          <a:lnTo>
                            <a:pt x="1335" y="945"/>
                          </a:lnTo>
                          <a:lnTo>
                            <a:pt x="1335" y="981"/>
                          </a:lnTo>
                          <a:lnTo>
                            <a:pt x="1335" y="1011"/>
                          </a:lnTo>
                          <a:lnTo>
                            <a:pt x="1332" y="1036"/>
                          </a:lnTo>
                          <a:lnTo>
                            <a:pt x="1318" y="1085"/>
                          </a:lnTo>
                          <a:lnTo>
                            <a:pt x="1314" y="1147"/>
                          </a:lnTo>
                          <a:lnTo>
                            <a:pt x="1314" y="1230"/>
                          </a:lnTo>
                          <a:lnTo>
                            <a:pt x="1332" y="1367"/>
                          </a:lnTo>
                          <a:lnTo>
                            <a:pt x="1371" y="1464"/>
                          </a:lnTo>
                          <a:lnTo>
                            <a:pt x="1413" y="1529"/>
                          </a:lnTo>
                          <a:lnTo>
                            <a:pt x="1421" y="1535"/>
                          </a:lnTo>
                          <a:lnTo>
                            <a:pt x="1421" y="1542"/>
                          </a:lnTo>
                          <a:lnTo>
                            <a:pt x="1424" y="1542"/>
                          </a:lnTo>
                          <a:lnTo>
                            <a:pt x="1421" y="1529"/>
                          </a:lnTo>
                          <a:lnTo>
                            <a:pt x="1413" y="1519"/>
                          </a:lnTo>
                          <a:lnTo>
                            <a:pt x="1413" y="1509"/>
                          </a:lnTo>
                          <a:lnTo>
                            <a:pt x="1424" y="1600"/>
                          </a:lnTo>
                          <a:lnTo>
                            <a:pt x="1473" y="1681"/>
                          </a:lnTo>
                          <a:lnTo>
                            <a:pt x="1537" y="1742"/>
                          </a:lnTo>
                          <a:lnTo>
                            <a:pt x="1625" y="1782"/>
                          </a:lnTo>
                          <a:lnTo>
                            <a:pt x="1727" y="1797"/>
                          </a:lnTo>
                          <a:lnTo>
                            <a:pt x="1826" y="1782"/>
                          </a:lnTo>
                          <a:lnTo>
                            <a:pt x="1911" y="1742"/>
                          </a:lnTo>
                          <a:lnTo>
                            <a:pt x="1982" y="1681"/>
                          </a:lnTo>
                          <a:lnTo>
                            <a:pt x="2024" y="1600"/>
                          </a:lnTo>
                          <a:lnTo>
                            <a:pt x="2042" y="1509"/>
                          </a:lnTo>
                          <a:lnTo>
                            <a:pt x="2024" y="1373"/>
                          </a:lnTo>
                          <a:lnTo>
                            <a:pt x="1982" y="1276"/>
                          </a:lnTo>
                          <a:lnTo>
                            <a:pt x="1932" y="1211"/>
                          </a:lnTo>
                          <a:lnTo>
                            <a:pt x="1932" y="1205"/>
                          </a:lnTo>
                          <a:lnTo>
                            <a:pt x="1929" y="1199"/>
                          </a:lnTo>
                          <a:lnTo>
                            <a:pt x="1932" y="1211"/>
                          </a:lnTo>
                          <a:lnTo>
                            <a:pt x="1932" y="1221"/>
                          </a:lnTo>
                          <a:lnTo>
                            <a:pt x="1940" y="1230"/>
                          </a:lnTo>
                          <a:lnTo>
                            <a:pt x="1940" y="1195"/>
                          </a:lnTo>
                          <a:lnTo>
                            <a:pt x="1940" y="1166"/>
                          </a:lnTo>
                          <a:lnTo>
                            <a:pt x="1946" y="1141"/>
                          </a:lnTo>
                          <a:lnTo>
                            <a:pt x="1958" y="1091"/>
                          </a:lnTo>
                          <a:lnTo>
                            <a:pt x="1964" y="1026"/>
                          </a:lnTo>
                          <a:lnTo>
                            <a:pt x="1964" y="945"/>
                          </a:lnTo>
                          <a:lnTo>
                            <a:pt x="1964" y="851"/>
                          </a:lnTo>
                          <a:lnTo>
                            <a:pt x="1950" y="780"/>
                          </a:lnTo>
                          <a:lnTo>
                            <a:pt x="1932" y="722"/>
                          </a:lnTo>
                          <a:lnTo>
                            <a:pt x="1929" y="693"/>
                          </a:lnTo>
                          <a:lnTo>
                            <a:pt x="1929" y="674"/>
                          </a:lnTo>
                          <a:lnTo>
                            <a:pt x="1929" y="641"/>
                          </a:lnTo>
                          <a:lnTo>
                            <a:pt x="1922" y="674"/>
                          </a:lnTo>
                          <a:lnTo>
                            <a:pt x="1911" y="693"/>
                          </a:lnTo>
                          <a:lnTo>
                            <a:pt x="1904" y="705"/>
                          </a:lnTo>
                          <a:lnTo>
                            <a:pt x="1911" y="699"/>
                          </a:lnTo>
                          <a:lnTo>
                            <a:pt x="1922" y="690"/>
                          </a:lnTo>
                          <a:lnTo>
                            <a:pt x="1929" y="677"/>
                          </a:lnTo>
                          <a:lnTo>
                            <a:pt x="2007" y="577"/>
                          </a:lnTo>
                          <a:lnTo>
                            <a:pt x="2052" y="483"/>
                          </a:lnTo>
                          <a:lnTo>
                            <a:pt x="2063" y="392"/>
                          </a:lnTo>
                          <a:lnTo>
                            <a:pt x="2060" y="314"/>
                          </a:lnTo>
                          <a:lnTo>
                            <a:pt x="2034" y="243"/>
                          </a:lnTo>
                          <a:lnTo>
                            <a:pt x="2000" y="177"/>
                          </a:lnTo>
                          <a:lnTo>
                            <a:pt x="1915" y="97"/>
                          </a:lnTo>
                          <a:lnTo>
                            <a:pt x="1826" y="41"/>
                          </a:lnTo>
                          <a:lnTo>
                            <a:pt x="1738" y="9"/>
                          </a:lnTo>
                          <a:lnTo>
                            <a:pt x="1657" y="0"/>
                          </a:lnTo>
                          <a:lnTo>
                            <a:pt x="1587" y="0"/>
                          </a:lnTo>
                          <a:lnTo>
                            <a:pt x="1533" y="6"/>
                          </a:lnTo>
                          <a:lnTo>
                            <a:pt x="1512" y="9"/>
                          </a:lnTo>
                          <a:lnTo>
                            <a:pt x="1501" y="9"/>
                          </a:lnTo>
                          <a:lnTo>
                            <a:pt x="1491" y="9"/>
                          </a:lnTo>
                          <a:lnTo>
                            <a:pt x="1325" y="38"/>
                          </a:lnTo>
                          <a:lnTo>
                            <a:pt x="1205" y="97"/>
                          </a:lnTo>
                          <a:lnTo>
                            <a:pt x="1141" y="152"/>
                          </a:lnTo>
                          <a:lnTo>
                            <a:pt x="1135" y="152"/>
                          </a:lnTo>
                          <a:lnTo>
                            <a:pt x="1130" y="158"/>
                          </a:lnTo>
                          <a:lnTo>
                            <a:pt x="1130" y="162"/>
                          </a:lnTo>
                          <a:lnTo>
                            <a:pt x="1151" y="146"/>
                          </a:lnTo>
                          <a:lnTo>
                            <a:pt x="1184" y="135"/>
                          </a:lnTo>
                          <a:lnTo>
                            <a:pt x="1222" y="129"/>
                          </a:lnTo>
                          <a:lnTo>
                            <a:pt x="1240" y="129"/>
                          </a:lnTo>
                          <a:lnTo>
                            <a:pt x="1258" y="135"/>
                          </a:lnTo>
                          <a:lnTo>
                            <a:pt x="1275" y="146"/>
                          </a:lnTo>
                          <a:lnTo>
                            <a:pt x="1271" y="143"/>
                          </a:lnTo>
                          <a:lnTo>
                            <a:pt x="1265" y="135"/>
                          </a:lnTo>
                          <a:lnTo>
                            <a:pt x="1201" y="97"/>
                          </a:lnTo>
                          <a:lnTo>
                            <a:pt x="1099" y="64"/>
                          </a:lnTo>
                          <a:lnTo>
                            <a:pt x="951" y="41"/>
                          </a:lnTo>
                          <a:lnTo>
                            <a:pt x="819" y="55"/>
                          </a:lnTo>
                          <a:lnTo>
                            <a:pt x="728" y="80"/>
                          </a:lnTo>
                          <a:lnTo>
                            <a:pt x="643" y="119"/>
                          </a:lnTo>
                          <a:lnTo>
                            <a:pt x="636" y="119"/>
                          </a:lnTo>
                          <a:lnTo>
                            <a:pt x="632" y="122"/>
                          </a:lnTo>
                          <a:lnTo>
                            <a:pt x="626" y="122"/>
                          </a:lnTo>
                          <a:lnTo>
                            <a:pt x="632" y="122"/>
                          </a:lnTo>
                          <a:lnTo>
                            <a:pt x="636" y="122"/>
                          </a:lnTo>
                          <a:lnTo>
                            <a:pt x="632" y="122"/>
                          </a:lnTo>
                          <a:lnTo>
                            <a:pt x="544" y="122"/>
                          </a:lnTo>
                          <a:lnTo>
                            <a:pt x="473" y="129"/>
                          </a:lnTo>
                          <a:lnTo>
                            <a:pt x="424" y="135"/>
                          </a:lnTo>
                          <a:lnTo>
                            <a:pt x="388" y="143"/>
                          </a:lnTo>
                          <a:lnTo>
                            <a:pt x="360" y="146"/>
                          </a:lnTo>
                          <a:lnTo>
                            <a:pt x="310" y="146"/>
                          </a:lnTo>
                          <a:lnTo>
                            <a:pt x="216" y="162"/>
                          </a:lnTo>
                          <a:lnTo>
                            <a:pt x="131" y="201"/>
                          </a:lnTo>
                          <a:lnTo>
                            <a:pt x="60" y="259"/>
                          </a:lnTo>
                          <a:lnTo>
                            <a:pt x="21" y="343"/>
                          </a:lnTo>
                          <a:lnTo>
                            <a:pt x="0" y="434"/>
                          </a:lnTo>
                          <a:lnTo>
                            <a:pt x="21" y="525"/>
                          </a:lnTo>
                          <a:lnTo>
                            <a:pt x="60" y="602"/>
                          </a:lnTo>
                          <a:lnTo>
                            <a:pt x="131" y="667"/>
                          </a:lnTo>
                          <a:lnTo>
                            <a:pt x="216" y="705"/>
                          </a:lnTo>
                          <a:lnTo>
                            <a:pt x="310" y="7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rot="10800000">
                      <a:off x="3608280" y="7358400"/>
                      <a:ext cx="1717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3" h="667">
                          <a:moveTo>
                            <a:pt x="312" y="657"/>
                          </a:moveTo>
                          <a:lnTo>
                            <a:pt x="379" y="657"/>
                          </a:lnTo>
                          <a:lnTo>
                            <a:pt x="424" y="660"/>
                          </a:lnTo>
                          <a:lnTo>
                            <a:pt x="460" y="660"/>
                          </a:lnTo>
                          <a:lnTo>
                            <a:pt x="509" y="660"/>
                          </a:lnTo>
                          <a:lnTo>
                            <a:pt x="563" y="667"/>
                          </a:lnTo>
                          <a:lnTo>
                            <a:pt x="641" y="667"/>
                          </a:lnTo>
                          <a:lnTo>
                            <a:pt x="782" y="651"/>
                          </a:lnTo>
                          <a:lnTo>
                            <a:pt x="888" y="611"/>
                          </a:lnTo>
                          <a:lnTo>
                            <a:pt x="958" y="577"/>
                          </a:lnTo>
                          <a:lnTo>
                            <a:pt x="965" y="577"/>
                          </a:lnTo>
                          <a:lnTo>
                            <a:pt x="969" y="570"/>
                          </a:lnTo>
                          <a:lnTo>
                            <a:pt x="965" y="570"/>
                          </a:lnTo>
                          <a:lnTo>
                            <a:pt x="951" y="577"/>
                          </a:lnTo>
                          <a:lnTo>
                            <a:pt x="948" y="577"/>
                          </a:lnTo>
                          <a:lnTo>
                            <a:pt x="990" y="580"/>
                          </a:lnTo>
                          <a:lnTo>
                            <a:pt x="1018" y="580"/>
                          </a:lnTo>
                          <a:lnTo>
                            <a:pt x="1046" y="586"/>
                          </a:lnTo>
                          <a:lnTo>
                            <a:pt x="1106" y="596"/>
                          </a:lnTo>
                          <a:lnTo>
                            <a:pt x="1177" y="602"/>
                          </a:lnTo>
                          <a:lnTo>
                            <a:pt x="1283" y="608"/>
                          </a:lnTo>
                          <a:lnTo>
                            <a:pt x="1368" y="608"/>
                          </a:lnTo>
                          <a:lnTo>
                            <a:pt x="1439" y="602"/>
                          </a:lnTo>
                          <a:lnTo>
                            <a:pt x="1485" y="596"/>
                          </a:lnTo>
                          <a:lnTo>
                            <a:pt x="1519" y="592"/>
                          </a:lnTo>
                          <a:lnTo>
                            <a:pt x="1555" y="592"/>
                          </a:lnTo>
                          <a:lnTo>
                            <a:pt x="1605" y="586"/>
                          </a:lnTo>
                          <a:lnTo>
                            <a:pt x="1675" y="586"/>
                          </a:lnTo>
                          <a:lnTo>
                            <a:pt x="1735" y="586"/>
                          </a:lnTo>
                          <a:lnTo>
                            <a:pt x="1774" y="586"/>
                          </a:lnTo>
                          <a:lnTo>
                            <a:pt x="1810" y="580"/>
                          </a:lnTo>
                          <a:lnTo>
                            <a:pt x="1852" y="580"/>
                          </a:lnTo>
                          <a:lnTo>
                            <a:pt x="1912" y="580"/>
                          </a:lnTo>
                          <a:lnTo>
                            <a:pt x="1947" y="580"/>
                          </a:lnTo>
                          <a:lnTo>
                            <a:pt x="1965" y="586"/>
                          </a:lnTo>
                          <a:lnTo>
                            <a:pt x="1989" y="586"/>
                          </a:lnTo>
                          <a:lnTo>
                            <a:pt x="2046" y="602"/>
                          </a:lnTo>
                          <a:lnTo>
                            <a:pt x="2121" y="608"/>
                          </a:lnTo>
                          <a:lnTo>
                            <a:pt x="2209" y="611"/>
                          </a:lnTo>
                          <a:lnTo>
                            <a:pt x="2308" y="596"/>
                          </a:lnTo>
                          <a:lnTo>
                            <a:pt x="2396" y="553"/>
                          </a:lnTo>
                          <a:lnTo>
                            <a:pt x="2463" y="492"/>
                          </a:lnTo>
                          <a:lnTo>
                            <a:pt x="2509" y="411"/>
                          </a:lnTo>
                          <a:lnTo>
                            <a:pt x="2523" y="323"/>
                          </a:lnTo>
                          <a:lnTo>
                            <a:pt x="2509" y="232"/>
                          </a:lnTo>
                          <a:lnTo>
                            <a:pt x="2463" y="152"/>
                          </a:lnTo>
                          <a:lnTo>
                            <a:pt x="2396" y="90"/>
                          </a:lnTo>
                          <a:lnTo>
                            <a:pt x="2308" y="49"/>
                          </a:lnTo>
                          <a:lnTo>
                            <a:pt x="2209" y="38"/>
                          </a:lnTo>
                          <a:lnTo>
                            <a:pt x="2176" y="38"/>
                          </a:lnTo>
                          <a:lnTo>
                            <a:pt x="2160" y="32"/>
                          </a:lnTo>
                          <a:lnTo>
                            <a:pt x="2131" y="25"/>
                          </a:lnTo>
                          <a:lnTo>
                            <a:pt x="2071" y="16"/>
                          </a:lnTo>
                          <a:lnTo>
                            <a:pt x="2000" y="9"/>
                          </a:lnTo>
                          <a:lnTo>
                            <a:pt x="1912" y="6"/>
                          </a:lnTo>
                          <a:lnTo>
                            <a:pt x="1841" y="6"/>
                          </a:lnTo>
                          <a:lnTo>
                            <a:pt x="1781" y="6"/>
                          </a:lnTo>
                          <a:lnTo>
                            <a:pt x="1739" y="9"/>
                          </a:lnTo>
                          <a:lnTo>
                            <a:pt x="1703" y="9"/>
                          </a:lnTo>
                          <a:lnTo>
                            <a:pt x="1657" y="9"/>
                          </a:lnTo>
                          <a:lnTo>
                            <a:pt x="1605" y="9"/>
                          </a:lnTo>
                          <a:lnTo>
                            <a:pt x="1516" y="16"/>
                          </a:lnTo>
                          <a:lnTo>
                            <a:pt x="1449" y="22"/>
                          </a:lnTo>
                          <a:lnTo>
                            <a:pt x="1396" y="25"/>
                          </a:lnTo>
                          <a:lnTo>
                            <a:pt x="1368" y="25"/>
                          </a:lnTo>
                          <a:lnTo>
                            <a:pt x="1332" y="32"/>
                          </a:lnTo>
                          <a:lnTo>
                            <a:pt x="1283" y="32"/>
                          </a:lnTo>
                          <a:lnTo>
                            <a:pt x="1244" y="32"/>
                          </a:lnTo>
                          <a:lnTo>
                            <a:pt x="1209" y="25"/>
                          </a:lnTo>
                          <a:lnTo>
                            <a:pt x="1177" y="25"/>
                          </a:lnTo>
                          <a:lnTo>
                            <a:pt x="1124" y="16"/>
                          </a:lnTo>
                          <a:lnTo>
                            <a:pt x="1046" y="6"/>
                          </a:lnTo>
                          <a:lnTo>
                            <a:pt x="948" y="0"/>
                          </a:lnTo>
                          <a:lnTo>
                            <a:pt x="799" y="16"/>
                          </a:lnTo>
                          <a:lnTo>
                            <a:pt x="693" y="55"/>
                          </a:lnTo>
                          <a:lnTo>
                            <a:pt x="626" y="90"/>
                          </a:lnTo>
                          <a:lnTo>
                            <a:pt x="623" y="90"/>
                          </a:lnTo>
                          <a:lnTo>
                            <a:pt x="615" y="97"/>
                          </a:lnTo>
                          <a:lnTo>
                            <a:pt x="608" y="97"/>
                          </a:lnTo>
                          <a:lnTo>
                            <a:pt x="623" y="97"/>
                          </a:lnTo>
                          <a:lnTo>
                            <a:pt x="633" y="90"/>
                          </a:lnTo>
                          <a:lnTo>
                            <a:pt x="641" y="90"/>
                          </a:lnTo>
                          <a:lnTo>
                            <a:pt x="573" y="90"/>
                          </a:lnTo>
                          <a:lnTo>
                            <a:pt x="527" y="87"/>
                          </a:lnTo>
                          <a:lnTo>
                            <a:pt x="491" y="87"/>
                          </a:lnTo>
                          <a:lnTo>
                            <a:pt x="442" y="87"/>
                          </a:lnTo>
                          <a:lnTo>
                            <a:pt x="389" y="80"/>
                          </a:lnTo>
                          <a:lnTo>
                            <a:pt x="312" y="80"/>
                          </a:lnTo>
                          <a:lnTo>
                            <a:pt x="220" y="97"/>
                          </a:lnTo>
                          <a:lnTo>
                            <a:pt x="132" y="143"/>
                          </a:lnTo>
                          <a:lnTo>
                            <a:pt x="65" y="201"/>
                          </a:lnTo>
                          <a:lnTo>
                            <a:pt x="18" y="281"/>
                          </a:lnTo>
                          <a:lnTo>
                            <a:pt x="0" y="369"/>
                          </a:lnTo>
                          <a:lnTo>
                            <a:pt x="18" y="459"/>
                          </a:lnTo>
                          <a:lnTo>
                            <a:pt x="65" y="544"/>
                          </a:lnTo>
                          <a:lnTo>
                            <a:pt x="132" y="602"/>
                          </a:lnTo>
                          <a:lnTo>
                            <a:pt x="220" y="644"/>
                          </a:lnTo>
                          <a:lnTo>
                            <a:pt x="312" y="65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rot="10800000">
                      <a:off x="3799800" y="7357680"/>
                      <a:ext cx="26532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0" h="667">
                          <a:moveTo>
                            <a:pt x="316" y="579"/>
                          </a:moveTo>
                          <a:lnTo>
                            <a:pt x="333" y="579"/>
                          </a:lnTo>
                          <a:lnTo>
                            <a:pt x="343" y="587"/>
                          </a:lnTo>
                          <a:lnTo>
                            <a:pt x="361" y="593"/>
                          </a:lnTo>
                          <a:lnTo>
                            <a:pt x="428" y="612"/>
                          </a:lnTo>
                          <a:lnTo>
                            <a:pt x="520" y="635"/>
                          </a:lnTo>
                          <a:lnTo>
                            <a:pt x="651" y="645"/>
                          </a:lnTo>
                          <a:lnTo>
                            <a:pt x="771" y="642"/>
                          </a:lnTo>
                          <a:lnTo>
                            <a:pt x="867" y="612"/>
                          </a:lnTo>
                          <a:lnTo>
                            <a:pt x="940" y="587"/>
                          </a:lnTo>
                          <a:lnTo>
                            <a:pt x="948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58" y="579"/>
                          </a:lnTo>
                          <a:lnTo>
                            <a:pt x="965" y="579"/>
                          </a:lnTo>
                          <a:lnTo>
                            <a:pt x="973" y="579"/>
                          </a:lnTo>
                          <a:lnTo>
                            <a:pt x="976" y="579"/>
                          </a:lnTo>
                          <a:lnTo>
                            <a:pt x="973" y="576"/>
                          </a:lnTo>
                          <a:lnTo>
                            <a:pt x="965" y="576"/>
                          </a:lnTo>
                          <a:lnTo>
                            <a:pt x="973" y="579"/>
                          </a:lnTo>
                          <a:lnTo>
                            <a:pt x="983" y="587"/>
                          </a:lnTo>
                          <a:lnTo>
                            <a:pt x="1054" y="619"/>
                          </a:lnTo>
                          <a:lnTo>
                            <a:pt x="1160" y="651"/>
                          </a:lnTo>
                          <a:lnTo>
                            <a:pt x="1305" y="667"/>
                          </a:lnTo>
                          <a:lnTo>
                            <a:pt x="1449" y="651"/>
                          </a:lnTo>
                          <a:lnTo>
                            <a:pt x="1552" y="619"/>
                          </a:lnTo>
                          <a:lnTo>
                            <a:pt x="1622" y="587"/>
                          </a:lnTo>
                          <a:lnTo>
                            <a:pt x="1630" y="579"/>
                          </a:lnTo>
                          <a:lnTo>
                            <a:pt x="1633" y="576"/>
                          </a:lnTo>
                          <a:lnTo>
                            <a:pt x="1640" y="576"/>
                          </a:lnTo>
                          <a:lnTo>
                            <a:pt x="1633" y="576"/>
                          </a:lnTo>
                          <a:lnTo>
                            <a:pt x="1622" y="579"/>
                          </a:lnTo>
                          <a:lnTo>
                            <a:pt x="1615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22" y="579"/>
                          </a:lnTo>
                          <a:lnTo>
                            <a:pt x="1630" y="579"/>
                          </a:lnTo>
                          <a:lnTo>
                            <a:pt x="1633" y="587"/>
                          </a:lnTo>
                          <a:lnTo>
                            <a:pt x="1640" y="587"/>
                          </a:lnTo>
                          <a:lnTo>
                            <a:pt x="1718" y="625"/>
                          </a:lnTo>
                          <a:lnTo>
                            <a:pt x="1824" y="651"/>
                          </a:lnTo>
                          <a:lnTo>
                            <a:pt x="1955" y="661"/>
                          </a:lnTo>
                          <a:lnTo>
                            <a:pt x="2053" y="658"/>
                          </a:lnTo>
                          <a:lnTo>
                            <a:pt x="2131" y="645"/>
                          </a:lnTo>
                          <a:lnTo>
                            <a:pt x="2202" y="628"/>
                          </a:lnTo>
                          <a:lnTo>
                            <a:pt x="2227" y="625"/>
                          </a:lnTo>
                          <a:lnTo>
                            <a:pt x="2245" y="619"/>
                          </a:lnTo>
                          <a:lnTo>
                            <a:pt x="2269" y="619"/>
                          </a:lnTo>
                          <a:lnTo>
                            <a:pt x="2382" y="612"/>
                          </a:lnTo>
                          <a:lnTo>
                            <a:pt x="2463" y="596"/>
                          </a:lnTo>
                          <a:lnTo>
                            <a:pt x="2523" y="587"/>
                          </a:lnTo>
                          <a:lnTo>
                            <a:pt x="2544" y="576"/>
                          </a:lnTo>
                          <a:lnTo>
                            <a:pt x="2570" y="576"/>
                          </a:lnTo>
                          <a:lnTo>
                            <a:pt x="2601" y="576"/>
                          </a:lnTo>
                          <a:lnTo>
                            <a:pt x="2619" y="576"/>
                          </a:lnTo>
                          <a:lnTo>
                            <a:pt x="2637" y="576"/>
                          </a:lnTo>
                          <a:lnTo>
                            <a:pt x="2658" y="587"/>
                          </a:lnTo>
                          <a:lnTo>
                            <a:pt x="2725" y="603"/>
                          </a:lnTo>
                          <a:lnTo>
                            <a:pt x="2806" y="619"/>
                          </a:lnTo>
                          <a:lnTo>
                            <a:pt x="2912" y="625"/>
                          </a:lnTo>
                          <a:lnTo>
                            <a:pt x="2954" y="625"/>
                          </a:lnTo>
                          <a:lnTo>
                            <a:pt x="2986" y="625"/>
                          </a:lnTo>
                          <a:lnTo>
                            <a:pt x="3014" y="635"/>
                          </a:lnTo>
                          <a:lnTo>
                            <a:pt x="3068" y="642"/>
                          </a:lnTo>
                          <a:lnTo>
                            <a:pt x="3146" y="651"/>
                          </a:lnTo>
                          <a:lnTo>
                            <a:pt x="3244" y="658"/>
                          </a:lnTo>
                          <a:lnTo>
                            <a:pt x="3357" y="651"/>
                          </a:lnTo>
                          <a:lnTo>
                            <a:pt x="3442" y="635"/>
                          </a:lnTo>
                          <a:lnTo>
                            <a:pt x="3512" y="612"/>
                          </a:lnTo>
                          <a:lnTo>
                            <a:pt x="3534" y="609"/>
                          </a:lnTo>
                          <a:lnTo>
                            <a:pt x="3548" y="603"/>
                          </a:lnTo>
                          <a:lnTo>
                            <a:pt x="3565" y="603"/>
                          </a:lnTo>
                          <a:lnTo>
                            <a:pt x="3661" y="587"/>
                          </a:lnTo>
                          <a:lnTo>
                            <a:pt x="3749" y="548"/>
                          </a:lnTo>
                          <a:lnTo>
                            <a:pt x="3813" y="482"/>
                          </a:lnTo>
                          <a:lnTo>
                            <a:pt x="3863" y="408"/>
                          </a:lnTo>
                          <a:lnTo>
                            <a:pt x="3880" y="314"/>
                          </a:lnTo>
                          <a:lnTo>
                            <a:pt x="3863" y="224"/>
                          </a:lnTo>
                          <a:lnTo>
                            <a:pt x="3813" y="145"/>
                          </a:lnTo>
                          <a:lnTo>
                            <a:pt x="3749" y="81"/>
                          </a:lnTo>
                          <a:lnTo>
                            <a:pt x="3661" y="42"/>
                          </a:lnTo>
                          <a:lnTo>
                            <a:pt x="3565" y="26"/>
                          </a:lnTo>
                          <a:lnTo>
                            <a:pt x="3453" y="32"/>
                          </a:lnTo>
                          <a:lnTo>
                            <a:pt x="3364" y="48"/>
                          </a:lnTo>
                          <a:lnTo>
                            <a:pt x="3294" y="71"/>
                          </a:lnTo>
                          <a:lnTo>
                            <a:pt x="3276" y="81"/>
                          </a:lnTo>
                          <a:lnTo>
                            <a:pt x="3261" y="81"/>
                          </a:lnTo>
                          <a:lnTo>
                            <a:pt x="3244" y="81"/>
                          </a:lnTo>
                          <a:lnTo>
                            <a:pt x="3209" y="81"/>
                          </a:lnTo>
                          <a:lnTo>
                            <a:pt x="3180" y="75"/>
                          </a:lnTo>
                          <a:lnTo>
                            <a:pt x="3149" y="71"/>
                          </a:lnTo>
                          <a:lnTo>
                            <a:pt x="3092" y="58"/>
                          </a:lnTo>
                          <a:lnTo>
                            <a:pt x="3014" y="48"/>
                          </a:lnTo>
                          <a:lnTo>
                            <a:pt x="2912" y="48"/>
                          </a:lnTo>
                          <a:lnTo>
                            <a:pt x="2894" y="48"/>
                          </a:lnTo>
                          <a:lnTo>
                            <a:pt x="2877" y="42"/>
                          </a:lnTo>
                          <a:lnTo>
                            <a:pt x="2855" y="39"/>
                          </a:lnTo>
                          <a:lnTo>
                            <a:pt x="2788" y="17"/>
                          </a:lnTo>
                          <a:lnTo>
                            <a:pt x="2707" y="6"/>
                          </a:lnTo>
                          <a:lnTo>
                            <a:pt x="2601" y="0"/>
                          </a:lnTo>
                          <a:lnTo>
                            <a:pt x="2488" y="6"/>
                          </a:lnTo>
                          <a:lnTo>
                            <a:pt x="2403" y="17"/>
                          </a:lnTo>
                          <a:lnTo>
                            <a:pt x="2347" y="32"/>
                          </a:lnTo>
                          <a:lnTo>
                            <a:pt x="2321" y="39"/>
                          </a:lnTo>
                          <a:lnTo>
                            <a:pt x="2297" y="42"/>
                          </a:lnTo>
                          <a:lnTo>
                            <a:pt x="2269" y="42"/>
                          </a:lnTo>
                          <a:lnTo>
                            <a:pt x="2167" y="48"/>
                          </a:lnTo>
                          <a:lnTo>
                            <a:pt x="2085" y="58"/>
                          </a:lnTo>
                          <a:lnTo>
                            <a:pt x="2018" y="75"/>
                          </a:lnTo>
                          <a:lnTo>
                            <a:pt x="1997" y="81"/>
                          </a:lnTo>
                          <a:lnTo>
                            <a:pt x="1979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7"/>
                          </a:lnTo>
                          <a:lnTo>
                            <a:pt x="1947" y="87"/>
                          </a:lnTo>
                          <a:lnTo>
                            <a:pt x="1955" y="87"/>
                          </a:lnTo>
                          <a:lnTo>
                            <a:pt x="1947" y="87"/>
                          </a:lnTo>
                          <a:lnTo>
                            <a:pt x="1944" y="81"/>
                          </a:lnTo>
                          <a:lnTo>
                            <a:pt x="1937" y="81"/>
                          </a:lnTo>
                          <a:lnTo>
                            <a:pt x="1853" y="42"/>
                          </a:lnTo>
                          <a:lnTo>
                            <a:pt x="1753" y="17"/>
                          </a:lnTo>
                          <a:lnTo>
                            <a:pt x="1622" y="6"/>
                          </a:lnTo>
                          <a:lnTo>
                            <a:pt x="1474" y="23"/>
                          </a:lnTo>
                          <a:lnTo>
                            <a:pt x="1375" y="55"/>
                          </a:lnTo>
                          <a:lnTo>
                            <a:pt x="1305" y="87"/>
                          </a:lnTo>
                          <a:lnTo>
                            <a:pt x="1298" y="90"/>
                          </a:lnTo>
                          <a:lnTo>
                            <a:pt x="1290" y="97"/>
                          </a:lnTo>
                          <a:lnTo>
                            <a:pt x="1287" y="97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05" y="90"/>
                          </a:lnTo>
                          <a:lnTo>
                            <a:pt x="1298" y="90"/>
                          </a:lnTo>
                          <a:lnTo>
                            <a:pt x="1305" y="90"/>
                          </a:lnTo>
                          <a:lnTo>
                            <a:pt x="1308" y="90"/>
                          </a:lnTo>
                          <a:lnTo>
                            <a:pt x="1315" y="97"/>
                          </a:lnTo>
                          <a:lnTo>
                            <a:pt x="1308" y="90"/>
                          </a:lnTo>
                          <a:lnTo>
                            <a:pt x="1305" y="87"/>
                          </a:lnTo>
                          <a:lnTo>
                            <a:pt x="1298" y="87"/>
                          </a:lnTo>
                          <a:lnTo>
                            <a:pt x="1227" y="48"/>
                          </a:lnTo>
                          <a:lnTo>
                            <a:pt x="1121" y="17"/>
                          </a:lnTo>
                          <a:lnTo>
                            <a:pt x="973" y="6"/>
                          </a:lnTo>
                          <a:lnTo>
                            <a:pt x="849" y="9"/>
                          </a:lnTo>
                          <a:lnTo>
                            <a:pt x="753" y="32"/>
                          </a:lnTo>
                          <a:lnTo>
                            <a:pt x="683" y="65"/>
                          </a:lnTo>
                          <a:lnTo>
                            <a:pt x="669" y="65"/>
                          </a:lnTo>
                          <a:lnTo>
                            <a:pt x="665" y="71"/>
                          </a:lnTo>
                          <a:lnTo>
                            <a:pt x="657" y="71"/>
                          </a:lnTo>
                          <a:lnTo>
                            <a:pt x="651" y="71"/>
                          </a:lnTo>
                          <a:lnTo>
                            <a:pt x="633" y="71"/>
                          </a:lnTo>
                          <a:lnTo>
                            <a:pt x="623" y="65"/>
                          </a:lnTo>
                          <a:lnTo>
                            <a:pt x="605" y="58"/>
                          </a:lnTo>
                          <a:lnTo>
                            <a:pt x="538" y="39"/>
                          </a:lnTo>
                          <a:lnTo>
                            <a:pt x="446" y="17"/>
                          </a:lnTo>
                          <a:lnTo>
                            <a:pt x="316" y="6"/>
                          </a:lnTo>
                          <a:lnTo>
                            <a:pt x="213" y="23"/>
                          </a:lnTo>
                          <a:lnTo>
                            <a:pt x="132" y="65"/>
                          </a:lnTo>
                          <a:lnTo>
                            <a:pt x="60" y="126"/>
                          </a:lnTo>
                          <a:lnTo>
                            <a:pt x="18" y="200"/>
                          </a:lnTo>
                          <a:lnTo>
                            <a:pt x="0" y="291"/>
                          </a:lnTo>
                          <a:lnTo>
                            <a:pt x="18" y="385"/>
                          </a:lnTo>
                          <a:lnTo>
                            <a:pt x="60" y="460"/>
                          </a:lnTo>
                          <a:lnTo>
                            <a:pt x="132" y="528"/>
                          </a:lnTo>
                          <a:lnTo>
                            <a:pt x="213" y="570"/>
                          </a:lnTo>
                          <a:lnTo>
                            <a:pt x="316" y="5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 rot="10800000">
                      <a:off x="4065480" y="7357680"/>
                      <a:ext cx="13608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" h="1617">
                          <a:moveTo>
                            <a:pt x="88" y="288"/>
                          </a:moveTo>
                          <a:lnTo>
                            <a:pt x="95" y="386"/>
                          </a:lnTo>
                          <a:lnTo>
                            <a:pt x="113" y="460"/>
                          </a:lnTo>
                          <a:lnTo>
                            <a:pt x="131" y="525"/>
                          </a:lnTo>
                          <a:lnTo>
                            <a:pt x="134" y="541"/>
                          </a:lnTo>
                          <a:lnTo>
                            <a:pt x="134" y="557"/>
                          </a:lnTo>
                          <a:lnTo>
                            <a:pt x="142" y="586"/>
                          </a:lnTo>
                          <a:lnTo>
                            <a:pt x="149" y="541"/>
                          </a:lnTo>
                          <a:lnTo>
                            <a:pt x="159" y="508"/>
                          </a:lnTo>
                          <a:lnTo>
                            <a:pt x="176" y="489"/>
                          </a:lnTo>
                          <a:lnTo>
                            <a:pt x="176" y="492"/>
                          </a:lnTo>
                          <a:lnTo>
                            <a:pt x="170" y="492"/>
                          </a:lnTo>
                          <a:lnTo>
                            <a:pt x="166" y="499"/>
                          </a:lnTo>
                          <a:lnTo>
                            <a:pt x="116" y="541"/>
                          </a:lnTo>
                          <a:lnTo>
                            <a:pt x="64" y="613"/>
                          </a:lnTo>
                          <a:lnTo>
                            <a:pt x="18" y="706"/>
                          </a:lnTo>
                          <a:lnTo>
                            <a:pt x="0" y="829"/>
                          </a:lnTo>
                          <a:lnTo>
                            <a:pt x="18" y="942"/>
                          </a:lnTo>
                          <a:lnTo>
                            <a:pt x="46" y="1030"/>
                          </a:lnTo>
                          <a:lnTo>
                            <a:pt x="77" y="1092"/>
                          </a:lnTo>
                          <a:lnTo>
                            <a:pt x="82" y="1095"/>
                          </a:lnTo>
                          <a:lnTo>
                            <a:pt x="82" y="1102"/>
                          </a:lnTo>
                          <a:lnTo>
                            <a:pt x="77" y="1092"/>
                          </a:lnTo>
                          <a:lnTo>
                            <a:pt x="77" y="1078"/>
                          </a:lnTo>
                          <a:lnTo>
                            <a:pt x="77" y="1075"/>
                          </a:lnTo>
                          <a:lnTo>
                            <a:pt x="77" y="1063"/>
                          </a:lnTo>
                          <a:lnTo>
                            <a:pt x="77" y="1053"/>
                          </a:lnTo>
                          <a:lnTo>
                            <a:pt x="77" y="1047"/>
                          </a:lnTo>
                          <a:lnTo>
                            <a:pt x="77" y="1053"/>
                          </a:lnTo>
                          <a:lnTo>
                            <a:pt x="53" y="1150"/>
                          </a:lnTo>
                          <a:lnTo>
                            <a:pt x="61" y="1244"/>
                          </a:lnTo>
                          <a:lnTo>
                            <a:pt x="88" y="1329"/>
                          </a:lnTo>
                          <a:lnTo>
                            <a:pt x="152" y="1406"/>
                          </a:lnTo>
                          <a:lnTo>
                            <a:pt x="244" y="1471"/>
                          </a:lnTo>
                          <a:lnTo>
                            <a:pt x="354" y="1529"/>
                          </a:lnTo>
                          <a:lnTo>
                            <a:pt x="456" y="1568"/>
                          </a:lnTo>
                          <a:lnTo>
                            <a:pt x="552" y="1584"/>
                          </a:lnTo>
                          <a:lnTo>
                            <a:pt x="668" y="1584"/>
                          </a:lnTo>
                          <a:lnTo>
                            <a:pt x="703" y="1584"/>
                          </a:lnTo>
                          <a:lnTo>
                            <a:pt x="770" y="1591"/>
                          </a:lnTo>
                          <a:lnTo>
                            <a:pt x="816" y="1591"/>
                          </a:lnTo>
                          <a:lnTo>
                            <a:pt x="851" y="1591"/>
                          </a:lnTo>
                          <a:lnTo>
                            <a:pt x="902" y="1594"/>
                          </a:lnTo>
                          <a:lnTo>
                            <a:pt x="957" y="1594"/>
                          </a:lnTo>
                          <a:lnTo>
                            <a:pt x="1042" y="1594"/>
                          </a:lnTo>
                          <a:lnTo>
                            <a:pt x="1095" y="1594"/>
                          </a:lnTo>
                          <a:lnTo>
                            <a:pt x="1138" y="1594"/>
                          </a:lnTo>
                          <a:lnTo>
                            <a:pt x="1165" y="1600"/>
                          </a:lnTo>
                          <a:lnTo>
                            <a:pt x="1219" y="1606"/>
                          </a:lnTo>
                          <a:lnTo>
                            <a:pt x="1279" y="1606"/>
                          </a:lnTo>
                          <a:lnTo>
                            <a:pt x="1357" y="1610"/>
                          </a:lnTo>
                          <a:lnTo>
                            <a:pt x="1421" y="1610"/>
                          </a:lnTo>
                          <a:lnTo>
                            <a:pt x="1466" y="1610"/>
                          </a:lnTo>
                          <a:lnTo>
                            <a:pt x="1508" y="1610"/>
                          </a:lnTo>
                          <a:lnTo>
                            <a:pt x="1551" y="1610"/>
                          </a:lnTo>
                          <a:lnTo>
                            <a:pt x="1611" y="1617"/>
                          </a:lnTo>
                          <a:lnTo>
                            <a:pt x="1686" y="1617"/>
                          </a:lnTo>
                          <a:lnTo>
                            <a:pt x="1788" y="1600"/>
                          </a:lnTo>
                          <a:lnTo>
                            <a:pt x="1869" y="1558"/>
                          </a:lnTo>
                          <a:lnTo>
                            <a:pt x="1940" y="1497"/>
                          </a:lnTo>
                          <a:lnTo>
                            <a:pt x="1982" y="1415"/>
                          </a:lnTo>
                          <a:lnTo>
                            <a:pt x="2000" y="1329"/>
                          </a:lnTo>
                          <a:lnTo>
                            <a:pt x="1982" y="1238"/>
                          </a:lnTo>
                          <a:lnTo>
                            <a:pt x="1940" y="1160"/>
                          </a:lnTo>
                          <a:lnTo>
                            <a:pt x="1869" y="1095"/>
                          </a:lnTo>
                          <a:lnTo>
                            <a:pt x="1788" y="1053"/>
                          </a:lnTo>
                          <a:lnTo>
                            <a:pt x="1686" y="1044"/>
                          </a:lnTo>
                          <a:lnTo>
                            <a:pt x="1622" y="1044"/>
                          </a:lnTo>
                          <a:lnTo>
                            <a:pt x="1575" y="1036"/>
                          </a:lnTo>
                          <a:lnTo>
                            <a:pt x="1533" y="1036"/>
                          </a:lnTo>
                          <a:lnTo>
                            <a:pt x="1491" y="1036"/>
                          </a:lnTo>
                          <a:lnTo>
                            <a:pt x="1431" y="1036"/>
                          </a:lnTo>
                          <a:lnTo>
                            <a:pt x="1357" y="1036"/>
                          </a:lnTo>
                          <a:lnTo>
                            <a:pt x="1304" y="1036"/>
                          </a:lnTo>
                          <a:lnTo>
                            <a:pt x="1261" y="1030"/>
                          </a:lnTo>
                          <a:lnTo>
                            <a:pt x="1230" y="1030"/>
                          </a:lnTo>
                          <a:lnTo>
                            <a:pt x="1177" y="1023"/>
                          </a:lnTo>
                          <a:lnTo>
                            <a:pt x="1120" y="1020"/>
                          </a:lnTo>
                          <a:lnTo>
                            <a:pt x="1042" y="1020"/>
                          </a:lnTo>
                          <a:lnTo>
                            <a:pt x="975" y="1020"/>
                          </a:lnTo>
                          <a:lnTo>
                            <a:pt x="929" y="1020"/>
                          </a:lnTo>
                          <a:lnTo>
                            <a:pt x="894" y="1014"/>
                          </a:lnTo>
                          <a:lnTo>
                            <a:pt x="845" y="1014"/>
                          </a:lnTo>
                          <a:lnTo>
                            <a:pt x="788" y="1014"/>
                          </a:lnTo>
                          <a:lnTo>
                            <a:pt x="703" y="1008"/>
                          </a:lnTo>
                          <a:lnTo>
                            <a:pt x="668" y="1008"/>
                          </a:lnTo>
                          <a:lnTo>
                            <a:pt x="646" y="1008"/>
                          </a:lnTo>
                          <a:lnTo>
                            <a:pt x="622" y="1008"/>
                          </a:lnTo>
                          <a:lnTo>
                            <a:pt x="607" y="1008"/>
                          </a:lnTo>
                          <a:lnTo>
                            <a:pt x="615" y="1014"/>
                          </a:lnTo>
                          <a:lnTo>
                            <a:pt x="625" y="1014"/>
                          </a:lnTo>
                          <a:lnTo>
                            <a:pt x="640" y="1020"/>
                          </a:lnTo>
                          <a:lnTo>
                            <a:pt x="625" y="1014"/>
                          </a:lnTo>
                          <a:lnTo>
                            <a:pt x="604" y="998"/>
                          </a:lnTo>
                          <a:lnTo>
                            <a:pt x="573" y="981"/>
                          </a:lnTo>
                          <a:lnTo>
                            <a:pt x="640" y="1053"/>
                          </a:lnTo>
                          <a:lnTo>
                            <a:pt x="675" y="1150"/>
                          </a:lnTo>
                          <a:lnTo>
                            <a:pt x="668" y="1254"/>
                          </a:lnTo>
                          <a:lnTo>
                            <a:pt x="682" y="1208"/>
                          </a:lnTo>
                          <a:lnTo>
                            <a:pt x="700" y="1150"/>
                          </a:lnTo>
                          <a:lnTo>
                            <a:pt x="703" y="1075"/>
                          </a:lnTo>
                          <a:lnTo>
                            <a:pt x="685" y="956"/>
                          </a:lnTo>
                          <a:lnTo>
                            <a:pt x="658" y="875"/>
                          </a:lnTo>
                          <a:lnTo>
                            <a:pt x="625" y="813"/>
                          </a:lnTo>
                          <a:lnTo>
                            <a:pt x="625" y="807"/>
                          </a:lnTo>
                          <a:lnTo>
                            <a:pt x="622" y="804"/>
                          </a:lnTo>
                          <a:lnTo>
                            <a:pt x="625" y="813"/>
                          </a:lnTo>
                          <a:lnTo>
                            <a:pt x="625" y="820"/>
                          </a:lnTo>
                          <a:lnTo>
                            <a:pt x="625" y="829"/>
                          </a:lnTo>
                          <a:lnTo>
                            <a:pt x="622" y="868"/>
                          </a:lnTo>
                          <a:lnTo>
                            <a:pt x="607" y="901"/>
                          </a:lnTo>
                          <a:lnTo>
                            <a:pt x="590" y="923"/>
                          </a:lnTo>
                          <a:lnTo>
                            <a:pt x="597" y="917"/>
                          </a:lnTo>
                          <a:lnTo>
                            <a:pt x="604" y="910"/>
                          </a:lnTo>
                          <a:lnTo>
                            <a:pt x="650" y="868"/>
                          </a:lnTo>
                          <a:lnTo>
                            <a:pt x="703" y="804"/>
                          </a:lnTo>
                          <a:lnTo>
                            <a:pt x="746" y="706"/>
                          </a:lnTo>
                          <a:lnTo>
                            <a:pt x="770" y="586"/>
                          </a:lnTo>
                          <a:lnTo>
                            <a:pt x="763" y="489"/>
                          </a:lnTo>
                          <a:lnTo>
                            <a:pt x="746" y="411"/>
                          </a:lnTo>
                          <a:lnTo>
                            <a:pt x="728" y="347"/>
                          </a:lnTo>
                          <a:lnTo>
                            <a:pt x="721" y="323"/>
                          </a:lnTo>
                          <a:lnTo>
                            <a:pt x="718" y="307"/>
                          </a:lnTo>
                          <a:lnTo>
                            <a:pt x="718" y="288"/>
                          </a:lnTo>
                          <a:lnTo>
                            <a:pt x="700" y="194"/>
                          </a:lnTo>
                          <a:lnTo>
                            <a:pt x="658" y="120"/>
                          </a:lnTo>
                          <a:lnTo>
                            <a:pt x="586" y="55"/>
                          </a:lnTo>
                          <a:lnTo>
                            <a:pt x="502" y="16"/>
                          </a:lnTo>
                          <a:lnTo>
                            <a:pt x="403" y="0"/>
                          </a:lnTo>
                          <a:lnTo>
                            <a:pt x="300" y="16"/>
                          </a:lnTo>
                          <a:lnTo>
                            <a:pt x="219" y="55"/>
                          </a:lnTo>
                          <a:lnTo>
                            <a:pt x="149" y="120"/>
                          </a:lnTo>
                          <a:lnTo>
                            <a:pt x="106" y="194"/>
                          </a:lnTo>
                          <a:lnTo>
                            <a:pt x="8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rot="10800000">
                      <a:off x="4149000" y="7391160"/>
                      <a:ext cx="532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8" h="3414">
                          <a:moveTo>
                            <a:pt x="102" y="285"/>
                          </a:moveTo>
                          <a:lnTo>
                            <a:pt x="102" y="279"/>
                          </a:lnTo>
                          <a:lnTo>
                            <a:pt x="102" y="268"/>
                          </a:lnTo>
                          <a:lnTo>
                            <a:pt x="107" y="256"/>
                          </a:lnTo>
                          <a:lnTo>
                            <a:pt x="107" y="262"/>
                          </a:lnTo>
                          <a:lnTo>
                            <a:pt x="102" y="268"/>
                          </a:lnTo>
                          <a:lnTo>
                            <a:pt x="102" y="272"/>
                          </a:lnTo>
                          <a:lnTo>
                            <a:pt x="60" y="334"/>
                          </a:lnTo>
                          <a:lnTo>
                            <a:pt x="25" y="431"/>
                          </a:lnTo>
                          <a:lnTo>
                            <a:pt x="7" y="560"/>
                          </a:lnTo>
                          <a:lnTo>
                            <a:pt x="7" y="616"/>
                          </a:lnTo>
                          <a:lnTo>
                            <a:pt x="7" y="658"/>
                          </a:lnTo>
                          <a:lnTo>
                            <a:pt x="0" y="696"/>
                          </a:lnTo>
                          <a:lnTo>
                            <a:pt x="0" y="735"/>
                          </a:lnTo>
                          <a:lnTo>
                            <a:pt x="0" y="784"/>
                          </a:lnTo>
                          <a:lnTo>
                            <a:pt x="0" y="856"/>
                          </a:lnTo>
                          <a:lnTo>
                            <a:pt x="7" y="962"/>
                          </a:lnTo>
                          <a:lnTo>
                            <a:pt x="35" y="1050"/>
                          </a:lnTo>
                          <a:lnTo>
                            <a:pt x="68" y="1121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8" y="1130"/>
                          </a:lnTo>
                          <a:lnTo>
                            <a:pt x="71" y="1130"/>
                          </a:lnTo>
                          <a:lnTo>
                            <a:pt x="71" y="1124"/>
                          </a:lnTo>
                          <a:lnTo>
                            <a:pt x="71" y="1130"/>
                          </a:lnTo>
                          <a:lnTo>
                            <a:pt x="71" y="1205"/>
                          </a:lnTo>
                          <a:lnTo>
                            <a:pt x="78" y="1266"/>
                          </a:lnTo>
                          <a:lnTo>
                            <a:pt x="84" y="1309"/>
                          </a:lnTo>
                          <a:lnTo>
                            <a:pt x="89" y="1341"/>
                          </a:lnTo>
                          <a:lnTo>
                            <a:pt x="89" y="1380"/>
                          </a:lnTo>
                          <a:lnTo>
                            <a:pt x="89" y="1426"/>
                          </a:lnTo>
                          <a:lnTo>
                            <a:pt x="95" y="1509"/>
                          </a:lnTo>
                          <a:lnTo>
                            <a:pt x="107" y="1581"/>
                          </a:lnTo>
                          <a:lnTo>
                            <a:pt x="120" y="1642"/>
                          </a:lnTo>
                          <a:lnTo>
                            <a:pt x="123" y="1662"/>
                          </a:lnTo>
                          <a:lnTo>
                            <a:pt x="131" y="1685"/>
                          </a:lnTo>
                          <a:lnTo>
                            <a:pt x="131" y="1708"/>
                          </a:lnTo>
                          <a:lnTo>
                            <a:pt x="131" y="1860"/>
                          </a:lnTo>
                          <a:lnTo>
                            <a:pt x="131" y="2015"/>
                          </a:lnTo>
                          <a:lnTo>
                            <a:pt x="131" y="2009"/>
                          </a:lnTo>
                          <a:lnTo>
                            <a:pt x="131" y="1999"/>
                          </a:lnTo>
                          <a:lnTo>
                            <a:pt x="138" y="1989"/>
                          </a:lnTo>
                          <a:lnTo>
                            <a:pt x="138" y="1993"/>
                          </a:lnTo>
                          <a:lnTo>
                            <a:pt x="131" y="1999"/>
                          </a:lnTo>
                          <a:lnTo>
                            <a:pt x="123" y="2006"/>
                          </a:lnTo>
                          <a:lnTo>
                            <a:pt x="84" y="2070"/>
                          </a:lnTo>
                          <a:lnTo>
                            <a:pt x="42" y="2174"/>
                          </a:lnTo>
                          <a:lnTo>
                            <a:pt x="25" y="2310"/>
                          </a:lnTo>
                          <a:lnTo>
                            <a:pt x="25" y="2394"/>
                          </a:lnTo>
                          <a:lnTo>
                            <a:pt x="35" y="2462"/>
                          </a:lnTo>
                          <a:lnTo>
                            <a:pt x="50" y="2514"/>
                          </a:lnTo>
                          <a:lnTo>
                            <a:pt x="53" y="2543"/>
                          </a:lnTo>
                          <a:lnTo>
                            <a:pt x="53" y="2562"/>
                          </a:lnTo>
                          <a:lnTo>
                            <a:pt x="60" y="2595"/>
                          </a:lnTo>
                          <a:lnTo>
                            <a:pt x="71" y="2722"/>
                          </a:lnTo>
                          <a:lnTo>
                            <a:pt x="107" y="2812"/>
                          </a:lnTo>
                          <a:lnTo>
                            <a:pt x="141" y="2880"/>
                          </a:lnTo>
                          <a:lnTo>
                            <a:pt x="149" y="2883"/>
                          </a:lnTo>
                          <a:lnTo>
                            <a:pt x="156" y="2890"/>
                          </a:lnTo>
                          <a:lnTo>
                            <a:pt x="149" y="2883"/>
                          </a:lnTo>
                          <a:lnTo>
                            <a:pt x="141" y="2874"/>
                          </a:lnTo>
                          <a:lnTo>
                            <a:pt x="141" y="2867"/>
                          </a:lnTo>
                          <a:lnTo>
                            <a:pt x="141" y="2938"/>
                          </a:lnTo>
                          <a:lnTo>
                            <a:pt x="149" y="2987"/>
                          </a:lnTo>
                          <a:lnTo>
                            <a:pt x="156" y="3026"/>
                          </a:lnTo>
                          <a:lnTo>
                            <a:pt x="156" y="3052"/>
                          </a:lnTo>
                          <a:lnTo>
                            <a:pt x="159" y="3084"/>
                          </a:lnTo>
                          <a:lnTo>
                            <a:pt x="159" y="3129"/>
                          </a:lnTo>
                          <a:lnTo>
                            <a:pt x="173" y="3220"/>
                          </a:lnTo>
                          <a:lnTo>
                            <a:pt x="219" y="3298"/>
                          </a:lnTo>
                          <a:lnTo>
                            <a:pt x="286" y="3363"/>
                          </a:lnTo>
                          <a:lnTo>
                            <a:pt x="375" y="3399"/>
                          </a:lnTo>
                          <a:lnTo>
                            <a:pt x="473" y="3414"/>
                          </a:lnTo>
                          <a:lnTo>
                            <a:pt x="575" y="3399"/>
                          </a:lnTo>
                          <a:lnTo>
                            <a:pt x="657" y="3363"/>
                          </a:lnTo>
                          <a:lnTo>
                            <a:pt x="728" y="3298"/>
                          </a:lnTo>
                          <a:lnTo>
                            <a:pt x="770" y="3220"/>
                          </a:lnTo>
                          <a:lnTo>
                            <a:pt x="788" y="3129"/>
                          </a:lnTo>
                          <a:lnTo>
                            <a:pt x="788" y="3059"/>
                          </a:lnTo>
                          <a:lnTo>
                            <a:pt x="780" y="3010"/>
                          </a:lnTo>
                          <a:lnTo>
                            <a:pt x="777" y="2971"/>
                          </a:lnTo>
                          <a:lnTo>
                            <a:pt x="777" y="2946"/>
                          </a:lnTo>
                          <a:lnTo>
                            <a:pt x="770" y="2913"/>
                          </a:lnTo>
                          <a:lnTo>
                            <a:pt x="770" y="2867"/>
                          </a:lnTo>
                          <a:lnTo>
                            <a:pt x="759" y="2738"/>
                          </a:lnTo>
                          <a:lnTo>
                            <a:pt x="725" y="2647"/>
                          </a:lnTo>
                          <a:lnTo>
                            <a:pt x="689" y="2585"/>
                          </a:lnTo>
                          <a:lnTo>
                            <a:pt x="682" y="2579"/>
                          </a:lnTo>
                          <a:lnTo>
                            <a:pt x="682" y="2576"/>
                          </a:lnTo>
                          <a:lnTo>
                            <a:pt x="675" y="2576"/>
                          </a:lnTo>
                          <a:lnTo>
                            <a:pt x="682" y="2579"/>
                          </a:lnTo>
                          <a:lnTo>
                            <a:pt x="682" y="2592"/>
                          </a:lnTo>
                          <a:lnTo>
                            <a:pt x="689" y="2595"/>
                          </a:lnTo>
                          <a:lnTo>
                            <a:pt x="682" y="2510"/>
                          </a:lnTo>
                          <a:lnTo>
                            <a:pt x="675" y="2446"/>
                          </a:lnTo>
                          <a:lnTo>
                            <a:pt x="657" y="2391"/>
                          </a:lnTo>
                          <a:lnTo>
                            <a:pt x="653" y="2368"/>
                          </a:lnTo>
                          <a:lnTo>
                            <a:pt x="653" y="2343"/>
                          </a:lnTo>
                          <a:lnTo>
                            <a:pt x="653" y="2310"/>
                          </a:lnTo>
                          <a:lnTo>
                            <a:pt x="647" y="2319"/>
                          </a:lnTo>
                          <a:lnTo>
                            <a:pt x="647" y="2330"/>
                          </a:lnTo>
                          <a:lnTo>
                            <a:pt x="639" y="2336"/>
                          </a:lnTo>
                          <a:lnTo>
                            <a:pt x="647" y="2336"/>
                          </a:lnTo>
                          <a:lnTo>
                            <a:pt x="647" y="2327"/>
                          </a:lnTo>
                          <a:lnTo>
                            <a:pt x="653" y="2319"/>
                          </a:lnTo>
                          <a:lnTo>
                            <a:pt x="692" y="2255"/>
                          </a:lnTo>
                          <a:lnTo>
                            <a:pt x="735" y="2158"/>
                          </a:lnTo>
                          <a:lnTo>
                            <a:pt x="759" y="2015"/>
                          </a:lnTo>
                          <a:lnTo>
                            <a:pt x="759" y="1869"/>
                          </a:lnTo>
                          <a:lnTo>
                            <a:pt x="759" y="1708"/>
                          </a:lnTo>
                          <a:lnTo>
                            <a:pt x="753" y="1627"/>
                          </a:lnTo>
                          <a:lnTo>
                            <a:pt x="741" y="1555"/>
                          </a:lnTo>
                          <a:lnTo>
                            <a:pt x="728" y="1493"/>
                          </a:lnTo>
                          <a:lnTo>
                            <a:pt x="725" y="1474"/>
                          </a:lnTo>
                          <a:lnTo>
                            <a:pt x="717" y="1458"/>
                          </a:lnTo>
                          <a:lnTo>
                            <a:pt x="717" y="1426"/>
                          </a:lnTo>
                          <a:lnTo>
                            <a:pt x="717" y="1348"/>
                          </a:lnTo>
                          <a:lnTo>
                            <a:pt x="710" y="1293"/>
                          </a:lnTo>
                          <a:lnTo>
                            <a:pt x="707" y="1244"/>
                          </a:lnTo>
                          <a:lnTo>
                            <a:pt x="707" y="1211"/>
                          </a:lnTo>
                          <a:lnTo>
                            <a:pt x="699" y="1179"/>
                          </a:lnTo>
                          <a:lnTo>
                            <a:pt x="699" y="1130"/>
                          </a:lnTo>
                          <a:lnTo>
                            <a:pt x="689" y="1024"/>
                          </a:lnTo>
                          <a:lnTo>
                            <a:pt x="665" y="936"/>
                          </a:lnTo>
                          <a:lnTo>
                            <a:pt x="632" y="865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2" y="849"/>
                          </a:lnTo>
                          <a:lnTo>
                            <a:pt x="622" y="856"/>
                          </a:lnTo>
                          <a:lnTo>
                            <a:pt x="629" y="859"/>
                          </a:lnTo>
                          <a:lnTo>
                            <a:pt x="629" y="856"/>
                          </a:lnTo>
                          <a:lnTo>
                            <a:pt x="629" y="793"/>
                          </a:lnTo>
                          <a:lnTo>
                            <a:pt x="629" y="755"/>
                          </a:lnTo>
                          <a:lnTo>
                            <a:pt x="629" y="719"/>
                          </a:lnTo>
                          <a:lnTo>
                            <a:pt x="632" y="680"/>
                          </a:lnTo>
                          <a:lnTo>
                            <a:pt x="632" y="625"/>
                          </a:lnTo>
                          <a:lnTo>
                            <a:pt x="632" y="560"/>
                          </a:lnTo>
                          <a:lnTo>
                            <a:pt x="632" y="570"/>
                          </a:lnTo>
                          <a:lnTo>
                            <a:pt x="629" y="577"/>
                          </a:lnTo>
                          <a:lnTo>
                            <a:pt x="622" y="586"/>
                          </a:lnTo>
                          <a:lnTo>
                            <a:pt x="629" y="583"/>
                          </a:lnTo>
                          <a:lnTo>
                            <a:pt x="629" y="577"/>
                          </a:lnTo>
                          <a:lnTo>
                            <a:pt x="632" y="570"/>
                          </a:lnTo>
                          <a:lnTo>
                            <a:pt x="671" y="511"/>
                          </a:lnTo>
                          <a:lnTo>
                            <a:pt x="710" y="414"/>
                          </a:lnTo>
                          <a:lnTo>
                            <a:pt x="728" y="285"/>
                          </a:lnTo>
                          <a:lnTo>
                            <a:pt x="710" y="201"/>
                          </a:lnTo>
                          <a:lnTo>
                            <a:pt x="665" y="120"/>
                          </a:lnTo>
                          <a:lnTo>
                            <a:pt x="597" y="58"/>
                          </a:lnTo>
                          <a:lnTo>
                            <a:pt x="509" y="16"/>
                          </a:lnTo>
                          <a:lnTo>
                            <a:pt x="413" y="0"/>
                          </a:lnTo>
                          <a:lnTo>
                            <a:pt x="315" y="16"/>
                          </a:lnTo>
                          <a:lnTo>
                            <a:pt x="226" y="58"/>
                          </a:lnTo>
                          <a:lnTo>
                            <a:pt x="159" y="120"/>
                          </a:lnTo>
                          <a:lnTo>
                            <a:pt x="113" y="201"/>
                          </a:lnTo>
                          <a:lnTo>
                            <a:pt x="102" y="28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rot="10800000">
                      <a:off x="4150080" y="7467120"/>
                      <a:ext cx="525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2361">
                          <a:moveTo>
                            <a:pt x="148" y="288"/>
                          </a:moveTo>
                          <a:lnTo>
                            <a:pt x="148" y="278"/>
                          </a:lnTo>
                          <a:lnTo>
                            <a:pt x="148" y="265"/>
                          </a:lnTo>
                          <a:lnTo>
                            <a:pt x="156" y="255"/>
                          </a:lnTo>
                          <a:lnTo>
                            <a:pt x="156" y="262"/>
                          </a:lnTo>
                          <a:lnTo>
                            <a:pt x="148" y="265"/>
                          </a:lnTo>
                          <a:lnTo>
                            <a:pt x="148" y="271"/>
                          </a:lnTo>
                          <a:lnTo>
                            <a:pt x="102" y="336"/>
                          </a:lnTo>
                          <a:lnTo>
                            <a:pt x="57" y="440"/>
                          </a:lnTo>
                          <a:lnTo>
                            <a:pt x="39" y="579"/>
                          </a:lnTo>
                          <a:lnTo>
                            <a:pt x="42" y="683"/>
                          </a:lnTo>
                          <a:lnTo>
                            <a:pt x="60" y="764"/>
                          </a:lnTo>
                          <a:lnTo>
                            <a:pt x="85" y="829"/>
                          </a:lnTo>
                          <a:lnTo>
                            <a:pt x="91" y="852"/>
                          </a:lnTo>
                          <a:lnTo>
                            <a:pt x="91" y="865"/>
                          </a:lnTo>
                          <a:lnTo>
                            <a:pt x="91" y="884"/>
                          </a:lnTo>
                          <a:lnTo>
                            <a:pt x="91" y="907"/>
                          </a:lnTo>
                          <a:lnTo>
                            <a:pt x="91" y="916"/>
                          </a:lnTo>
                          <a:lnTo>
                            <a:pt x="85" y="938"/>
                          </a:lnTo>
                          <a:lnTo>
                            <a:pt x="60" y="1004"/>
                          </a:lnTo>
                          <a:lnTo>
                            <a:pt x="42" y="1081"/>
                          </a:lnTo>
                          <a:lnTo>
                            <a:pt x="39" y="1178"/>
                          </a:lnTo>
                          <a:lnTo>
                            <a:pt x="39" y="1214"/>
                          </a:lnTo>
                          <a:lnTo>
                            <a:pt x="32" y="1244"/>
                          </a:lnTo>
                          <a:lnTo>
                            <a:pt x="25" y="1269"/>
                          </a:lnTo>
                          <a:lnTo>
                            <a:pt x="14" y="1318"/>
                          </a:lnTo>
                          <a:lnTo>
                            <a:pt x="7" y="1389"/>
                          </a:lnTo>
                          <a:lnTo>
                            <a:pt x="0" y="1483"/>
                          </a:lnTo>
                          <a:lnTo>
                            <a:pt x="7" y="1581"/>
                          </a:lnTo>
                          <a:lnTo>
                            <a:pt x="25" y="1656"/>
                          </a:lnTo>
                          <a:lnTo>
                            <a:pt x="49" y="1720"/>
                          </a:lnTo>
                          <a:lnTo>
                            <a:pt x="57" y="1736"/>
                          </a:lnTo>
                          <a:lnTo>
                            <a:pt x="57" y="1753"/>
                          </a:lnTo>
                          <a:lnTo>
                            <a:pt x="57" y="1769"/>
                          </a:lnTo>
                          <a:lnTo>
                            <a:pt x="57" y="1817"/>
                          </a:lnTo>
                          <a:lnTo>
                            <a:pt x="57" y="1850"/>
                          </a:lnTo>
                          <a:lnTo>
                            <a:pt x="49" y="1885"/>
                          </a:lnTo>
                          <a:lnTo>
                            <a:pt x="42" y="1927"/>
                          </a:lnTo>
                          <a:lnTo>
                            <a:pt x="39" y="1992"/>
                          </a:lnTo>
                          <a:lnTo>
                            <a:pt x="32" y="2073"/>
                          </a:lnTo>
                          <a:lnTo>
                            <a:pt x="49" y="2167"/>
                          </a:lnTo>
                          <a:lnTo>
                            <a:pt x="96" y="2242"/>
                          </a:lnTo>
                          <a:lnTo>
                            <a:pt x="163" y="2306"/>
                          </a:lnTo>
                          <a:lnTo>
                            <a:pt x="251" y="2345"/>
                          </a:lnTo>
                          <a:lnTo>
                            <a:pt x="346" y="2361"/>
                          </a:lnTo>
                          <a:lnTo>
                            <a:pt x="446" y="2345"/>
                          </a:lnTo>
                          <a:lnTo>
                            <a:pt x="533" y="2306"/>
                          </a:lnTo>
                          <a:lnTo>
                            <a:pt x="600" y="2242"/>
                          </a:lnTo>
                          <a:lnTo>
                            <a:pt x="646" y="2167"/>
                          </a:lnTo>
                          <a:lnTo>
                            <a:pt x="660" y="2073"/>
                          </a:lnTo>
                          <a:lnTo>
                            <a:pt x="660" y="2030"/>
                          </a:lnTo>
                          <a:lnTo>
                            <a:pt x="664" y="1992"/>
                          </a:lnTo>
                          <a:lnTo>
                            <a:pt x="672" y="1966"/>
                          </a:lnTo>
                          <a:lnTo>
                            <a:pt x="678" y="1917"/>
                          </a:lnTo>
                          <a:lnTo>
                            <a:pt x="682" y="1856"/>
                          </a:lnTo>
                          <a:lnTo>
                            <a:pt x="682" y="1769"/>
                          </a:lnTo>
                          <a:lnTo>
                            <a:pt x="678" y="1671"/>
                          </a:lnTo>
                          <a:lnTo>
                            <a:pt x="660" y="1596"/>
                          </a:lnTo>
                          <a:lnTo>
                            <a:pt x="639" y="1532"/>
                          </a:lnTo>
                          <a:lnTo>
                            <a:pt x="636" y="1516"/>
                          </a:lnTo>
                          <a:lnTo>
                            <a:pt x="629" y="1499"/>
                          </a:lnTo>
                          <a:lnTo>
                            <a:pt x="629" y="1483"/>
                          </a:lnTo>
                          <a:lnTo>
                            <a:pt x="629" y="1444"/>
                          </a:lnTo>
                          <a:lnTo>
                            <a:pt x="636" y="1415"/>
                          </a:lnTo>
                          <a:lnTo>
                            <a:pt x="639" y="1389"/>
                          </a:lnTo>
                          <a:lnTo>
                            <a:pt x="654" y="1341"/>
                          </a:lnTo>
                          <a:lnTo>
                            <a:pt x="660" y="1269"/>
                          </a:lnTo>
                          <a:lnTo>
                            <a:pt x="664" y="1178"/>
                          </a:lnTo>
                          <a:lnTo>
                            <a:pt x="664" y="1162"/>
                          </a:lnTo>
                          <a:lnTo>
                            <a:pt x="672" y="1146"/>
                          </a:lnTo>
                          <a:lnTo>
                            <a:pt x="678" y="1130"/>
                          </a:lnTo>
                          <a:lnTo>
                            <a:pt x="699" y="1065"/>
                          </a:lnTo>
                          <a:lnTo>
                            <a:pt x="717" y="987"/>
                          </a:lnTo>
                          <a:lnTo>
                            <a:pt x="717" y="884"/>
                          </a:lnTo>
                          <a:lnTo>
                            <a:pt x="717" y="786"/>
                          </a:lnTo>
                          <a:lnTo>
                            <a:pt x="699" y="706"/>
                          </a:lnTo>
                          <a:lnTo>
                            <a:pt x="678" y="641"/>
                          </a:lnTo>
                          <a:lnTo>
                            <a:pt x="664" y="618"/>
                          </a:lnTo>
                          <a:lnTo>
                            <a:pt x="664" y="602"/>
                          </a:lnTo>
                          <a:lnTo>
                            <a:pt x="664" y="579"/>
                          </a:lnTo>
                          <a:lnTo>
                            <a:pt x="660" y="592"/>
                          </a:lnTo>
                          <a:lnTo>
                            <a:pt x="660" y="602"/>
                          </a:lnTo>
                          <a:lnTo>
                            <a:pt x="654" y="612"/>
                          </a:lnTo>
                          <a:lnTo>
                            <a:pt x="660" y="602"/>
                          </a:lnTo>
                          <a:lnTo>
                            <a:pt x="664" y="595"/>
                          </a:lnTo>
                          <a:lnTo>
                            <a:pt x="714" y="531"/>
                          </a:lnTo>
                          <a:lnTo>
                            <a:pt x="753" y="427"/>
                          </a:lnTo>
                          <a:lnTo>
                            <a:pt x="777" y="288"/>
                          </a:lnTo>
                          <a:lnTo>
                            <a:pt x="760" y="200"/>
                          </a:lnTo>
                          <a:lnTo>
                            <a:pt x="714" y="119"/>
                          </a:lnTo>
                          <a:lnTo>
                            <a:pt x="646" y="55"/>
                          </a:lnTo>
                          <a:lnTo>
                            <a:pt x="558" y="15"/>
                          </a:lnTo>
                          <a:lnTo>
                            <a:pt x="463" y="0"/>
                          </a:lnTo>
                          <a:lnTo>
                            <a:pt x="364" y="15"/>
                          </a:lnTo>
                          <a:lnTo>
                            <a:pt x="275" y="55"/>
                          </a:lnTo>
                          <a:lnTo>
                            <a:pt x="208" y="119"/>
                          </a:lnTo>
                          <a:lnTo>
                            <a:pt x="163" y="200"/>
                          </a:lnTo>
                          <a:lnTo>
                            <a:pt x="148" y="2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 rot="10800000">
                      <a:off x="3932280" y="7516080"/>
                      <a:ext cx="2703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4" h="1834">
                          <a:moveTo>
                            <a:pt x="3650" y="127"/>
                          </a:moveTo>
                          <a:lnTo>
                            <a:pt x="3642" y="127"/>
                          </a:lnTo>
                          <a:lnTo>
                            <a:pt x="3635" y="127"/>
                          </a:lnTo>
                          <a:lnTo>
                            <a:pt x="3642" y="127"/>
                          </a:lnTo>
                          <a:lnTo>
                            <a:pt x="3650" y="127"/>
                          </a:lnTo>
                          <a:lnTo>
                            <a:pt x="3642" y="127"/>
                          </a:lnTo>
                          <a:lnTo>
                            <a:pt x="3632" y="120"/>
                          </a:lnTo>
                          <a:lnTo>
                            <a:pt x="3625" y="120"/>
                          </a:lnTo>
                          <a:lnTo>
                            <a:pt x="3547" y="81"/>
                          </a:lnTo>
                          <a:lnTo>
                            <a:pt x="3441" y="55"/>
                          </a:lnTo>
                          <a:lnTo>
                            <a:pt x="3310" y="42"/>
                          </a:lnTo>
                          <a:lnTo>
                            <a:pt x="3282" y="42"/>
                          </a:lnTo>
                          <a:lnTo>
                            <a:pt x="3264" y="39"/>
                          </a:lnTo>
                          <a:lnTo>
                            <a:pt x="3240" y="33"/>
                          </a:lnTo>
                          <a:lnTo>
                            <a:pt x="3180" y="16"/>
                          </a:lnTo>
                          <a:lnTo>
                            <a:pt x="3098" y="6"/>
                          </a:lnTo>
                          <a:lnTo>
                            <a:pt x="2993" y="0"/>
                          </a:lnTo>
                          <a:lnTo>
                            <a:pt x="2872" y="6"/>
                          </a:lnTo>
                          <a:lnTo>
                            <a:pt x="2777" y="33"/>
                          </a:lnTo>
                          <a:lnTo>
                            <a:pt x="2703" y="61"/>
                          </a:lnTo>
                          <a:lnTo>
                            <a:pt x="2695" y="61"/>
                          </a:lnTo>
                          <a:lnTo>
                            <a:pt x="2689" y="64"/>
                          </a:lnTo>
                          <a:lnTo>
                            <a:pt x="2677" y="64"/>
                          </a:lnTo>
                          <a:lnTo>
                            <a:pt x="2614" y="64"/>
                          </a:lnTo>
                          <a:lnTo>
                            <a:pt x="2565" y="64"/>
                          </a:lnTo>
                          <a:lnTo>
                            <a:pt x="2523" y="64"/>
                          </a:lnTo>
                          <a:lnTo>
                            <a:pt x="2487" y="64"/>
                          </a:lnTo>
                          <a:lnTo>
                            <a:pt x="2441" y="64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5" y="72"/>
                          </a:lnTo>
                          <a:lnTo>
                            <a:pt x="2381" y="72"/>
                          </a:lnTo>
                          <a:lnTo>
                            <a:pt x="2375" y="64"/>
                          </a:lnTo>
                          <a:lnTo>
                            <a:pt x="2370" y="64"/>
                          </a:lnTo>
                          <a:lnTo>
                            <a:pt x="2300" y="39"/>
                          </a:lnTo>
                          <a:lnTo>
                            <a:pt x="2212" y="16"/>
                          </a:lnTo>
                          <a:lnTo>
                            <a:pt x="2098" y="9"/>
                          </a:lnTo>
                          <a:lnTo>
                            <a:pt x="1932" y="33"/>
                          </a:lnTo>
                          <a:lnTo>
                            <a:pt x="1812" y="81"/>
                          </a:lnTo>
                          <a:lnTo>
                            <a:pt x="1742" y="130"/>
                          </a:lnTo>
                          <a:lnTo>
                            <a:pt x="1731" y="136"/>
                          </a:lnTo>
                          <a:lnTo>
                            <a:pt x="1724" y="142"/>
                          </a:lnTo>
                          <a:lnTo>
                            <a:pt x="1742" y="136"/>
                          </a:lnTo>
                          <a:lnTo>
                            <a:pt x="1760" y="130"/>
                          </a:lnTo>
                          <a:lnTo>
                            <a:pt x="1773" y="130"/>
                          </a:lnTo>
                          <a:lnTo>
                            <a:pt x="1742" y="127"/>
                          </a:lnTo>
                          <a:lnTo>
                            <a:pt x="1717" y="127"/>
                          </a:lnTo>
                          <a:lnTo>
                            <a:pt x="1696" y="120"/>
                          </a:lnTo>
                          <a:lnTo>
                            <a:pt x="1628" y="103"/>
                          </a:lnTo>
                          <a:lnTo>
                            <a:pt x="1555" y="94"/>
                          </a:lnTo>
                          <a:lnTo>
                            <a:pt x="1452" y="94"/>
                          </a:lnTo>
                          <a:lnTo>
                            <a:pt x="1428" y="88"/>
                          </a:lnTo>
                          <a:lnTo>
                            <a:pt x="1410" y="88"/>
                          </a:lnTo>
                          <a:lnTo>
                            <a:pt x="1389" y="81"/>
                          </a:lnTo>
                          <a:lnTo>
                            <a:pt x="1318" y="61"/>
                          </a:lnTo>
                          <a:lnTo>
                            <a:pt x="1240" y="48"/>
                          </a:lnTo>
                          <a:lnTo>
                            <a:pt x="1134" y="42"/>
                          </a:lnTo>
                          <a:lnTo>
                            <a:pt x="1007" y="55"/>
                          </a:lnTo>
                          <a:lnTo>
                            <a:pt x="919" y="78"/>
                          </a:lnTo>
                          <a:lnTo>
                            <a:pt x="859" y="103"/>
                          </a:lnTo>
                          <a:lnTo>
                            <a:pt x="855" y="110"/>
                          </a:lnTo>
                          <a:lnTo>
                            <a:pt x="848" y="110"/>
                          </a:lnTo>
                          <a:lnTo>
                            <a:pt x="855" y="110"/>
                          </a:lnTo>
                          <a:lnTo>
                            <a:pt x="859" y="103"/>
                          </a:lnTo>
                          <a:lnTo>
                            <a:pt x="865" y="103"/>
                          </a:lnTo>
                          <a:lnTo>
                            <a:pt x="813" y="103"/>
                          </a:lnTo>
                          <a:lnTo>
                            <a:pt x="771" y="110"/>
                          </a:lnTo>
                          <a:lnTo>
                            <a:pt x="742" y="110"/>
                          </a:lnTo>
                          <a:lnTo>
                            <a:pt x="706" y="110"/>
                          </a:lnTo>
                          <a:lnTo>
                            <a:pt x="682" y="110"/>
                          </a:lnTo>
                          <a:lnTo>
                            <a:pt x="639" y="103"/>
                          </a:lnTo>
                          <a:lnTo>
                            <a:pt x="664" y="110"/>
                          </a:lnTo>
                          <a:lnTo>
                            <a:pt x="682" y="114"/>
                          </a:lnTo>
                          <a:lnTo>
                            <a:pt x="678" y="114"/>
                          </a:lnTo>
                          <a:lnTo>
                            <a:pt x="618" y="81"/>
                          </a:lnTo>
                          <a:lnTo>
                            <a:pt x="516" y="61"/>
                          </a:lnTo>
                          <a:lnTo>
                            <a:pt x="385" y="64"/>
                          </a:lnTo>
                          <a:lnTo>
                            <a:pt x="314" y="94"/>
                          </a:lnTo>
                          <a:lnTo>
                            <a:pt x="233" y="146"/>
                          </a:lnTo>
                          <a:lnTo>
                            <a:pt x="156" y="233"/>
                          </a:lnTo>
                          <a:lnTo>
                            <a:pt x="145" y="257"/>
                          </a:lnTo>
                          <a:lnTo>
                            <a:pt x="130" y="272"/>
                          </a:lnTo>
                          <a:lnTo>
                            <a:pt x="120" y="295"/>
                          </a:lnTo>
                          <a:lnTo>
                            <a:pt x="67" y="363"/>
                          </a:lnTo>
                          <a:lnTo>
                            <a:pt x="32" y="443"/>
                          </a:lnTo>
                          <a:lnTo>
                            <a:pt x="7" y="545"/>
                          </a:lnTo>
                          <a:lnTo>
                            <a:pt x="0" y="667"/>
                          </a:lnTo>
                          <a:lnTo>
                            <a:pt x="7" y="765"/>
                          </a:lnTo>
                          <a:lnTo>
                            <a:pt x="21" y="843"/>
                          </a:lnTo>
                          <a:lnTo>
                            <a:pt x="32" y="891"/>
                          </a:lnTo>
                          <a:lnTo>
                            <a:pt x="42" y="913"/>
                          </a:lnTo>
                          <a:lnTo>
                            <a:pt x="42" y="933"/>
                          </a:lnTo>
                          <a:lnTo>
                            <a:pt x="42" y="962"/>
                          </a:lnTo>
                          <a:lnTo>
                            <a:pt x="42" y="1011"/>
                          </a:lnTo>
                          <a:lnTo>
                            <a:pt x="42" y="1046"/>
                          </a:lnTo>
                          <a:lnTo>
                            <a:pt x="39" y="1082"/>
                          </a:lnTo>
                          <a:lnTo>
                            <a:pt x="32" y="1125"/>
                          </a:lnTo>
                          <a:lnTo>
                            <a:pt x="32" y="1183"/>
                          </a:lnTo>
                          <a:lnTo>
                            <a:pt x="25" y="1261"/>
                          </a:lnTo>
                          <a:lnTo>
                            <a:pt x="32" y="1335"/>
                          </a:lnTo>
                          <a:lnTo>
                            <a:pt x="32" y="1396"/>
                          </a:lnTo>
                          <a:lnTo>
                            <a:pt x="39" y="1438"/>
                          </a:lnTo>
                          <a:lnTo>
                            <a:pt x="42" y="1465"/>
                          </a:lnTo>
                          <a:lnTo>
                            <a:pt x="42" y="1504"/>
                          </a:lnTo>
                          <a:lnTo>
                            <a:pt x="42" y="1549"/>
                          </a:lnTo>
                          <a:lnTo>
                            <a:pt x="60" y="1640"/>
                          </a:lnTo>
                          <a:lnTo>
                            <a:pt x="109" y="1717"/>
                          </a:lnTo>
                          <a:lnTo>
                            <a:pt x="173" y="1783"/>
                          </a:lnTo>
                          <a:lnTo>
                            <a:pt x="258" y="1824"/>
                          </a:lnTo>
                          <a:lnTo>
                            <a:pt x="356" y="1834"/>
                          </a:lnTo>
                          <a:lnTo>
                            <a:pt x="459" y="1824"/>
                          </a:lnTo>
                          <a:lnTo>
                            <a:pt x="548" y="1783"/>
                          </a:lnTo>
                          <a:lnTo>
                            <a:pt x="611" y="1717"/>
                          </a:lnTo>
                          <a:lnTo>
                            <a:pt x="660" y="1640"/>
                          </a:lnTo>
                          <a:lnTo>
                            <a:pt x="672" y="1549"/>
                          </a:lnTo>
                          <a:lnTo>
                            <a:pt x="672" y="1471"/>
                          </a:lnTo>
                          <a:lnTo>
                            <a:pt x="664" y="1416"/>
                          </a:lnTo>
                          <a:lnTo>
                            <a:pt x="660" y="1374"/>
                          </a:lnTo>
                          <a:lnTo>
                            <a:pt x="660" y="1341"/>
                          </a:lnTo>
                          <a:lnTo>
                            <a:pt x="654" y="1309"/>
                          </a:lnTo>
                          <a:lnTo>
                            <a:pt x="654" y="1261"/>
                          </a:lnTo>
                          <a:lnTo>
                            <a:pt x="654" y="1212"/>
                          </a:lnTo>
                          <a:lnTo>
                            <a:pt x="660" y="1173"/>
                          </a:lnTo>
                          <a:lnTo>
                            <a:pt x="660" y="1140"/>
                          </a:lnTo>
                          <a:lnTo>
                            <a:pt x="664" y="1098"/>
                          </a:lnTo>
                          <a:lnTo>
                            <a:pt x="672" y="1037"/>
                          </a:lnTo>
                          <a:lnTo>
                            <a:pt x="672" y="962"/>
                          </a:lnTo>
                          <a:lnTo>
                            <a:pt x="664" y="858"/>
                          </a:lnTo>
                          <a:lnTo>
                            <a:pt x="654" y="788"/>
                          </a:lnTo>
                          <a:lnTo>
                            <a:pt x="639" y="733"/>
                          </a:lnTo>
                          <a:lnTo>
                            <a:pt x="629" y="713"/>
                          </a:lnTo>
                          <a:lnTo>
                            <a:pt x="629" y="697"/>
                          </a:lnTo>
                          <a:lnTo>
                            <a:pt x="629" y="667"/>
                          </a:lnTo>
                          <a:lnTo>
                            <a:pt x="629" y="642"/>
                          </a:lnTo>
                          <a:lnTo>
                            <a:pt x="629" y="625"/>
                          </a:lnTo>
                          <a:lnTo>
                            <a:pt x="629" y="619"/>
                          </a:lnTo>
                          <a:lnTo>
                            <a:pt x="629" y="625"/>
                          </a:lnTo>
                          <a:lnTo>
                            <a:pt x="621" y="628"/>
                          </a:lnTo>
                          <a:lnTo>
                            <a:pt x="621" y="635"/>
                          </a:lnTo>
                          <a:lnTo>
                            <a:pt x="629" y="625"/>
                          </a:lnTo>
                          <a:lnTo>
                            <a:pt x="639" y="612"/>
                          </a:lnTo>
                          <a:lnTo>
                            <a:pt x="646" y="597"/>
                          </a:lnTo>
                          <a:lnTo>
                            <a:pt x="660" y="580"/>
                          </a:lnTo>
                          <a:lnTo>
                            <a:pt x="682" y="554"/>
                          </a:lnTo>
                          <a:lnTo>
                            <a:pt x="699" y="522"/>
                          </a:lnTo>
                          <a:lnTo>
                            <a:pt x="636" y="586"/>
                          </a:lnTo>
                          <a:lnTo>
                            <a:pt x="548" y="625"/>
                          </a:lnTo>
                          <a:lnTo>
                            <a:pt x="446" y="628"/>
                          </a:lnTo>
                          <a:lnTo>
                            <a:pt x="350" y="603"/>
                          </a:lnTo>
                          <a:lnTo>
                            <a:pt x="356" y="609"/>
                          </a:lnTo>
                          <a:lnTo>
                            <a:pt x="399" y="628"/>
                          </a:lnTo>
                          <a:lnTo>
                            <a:pt x="459" y="651"/>
                          </a:lnTo>
                          <a:lnTo>
                            <a:pt x="533" y="674"/>
                          </a:lnTo>
                          <a:lnTo>
                            <a:pt x="636" y="683"/>
                          </a:lnTo>
                          <a:lnTo>
                            <a:pt x="706" y="683"/>
                          </a:lnTo>
                          <a:lnTo>
                            <a:pt x="777" y="683"/>
                          </a:lnTo>
                          <a:lnTo>
                            <a:pt x="802" y="683"/>
                          </a:lnTo>
                          <a:lnTo>
                            <a:pt x="830" y="680"/>
                          </a:lnTo>
                          <a:lnTo>
                            <a:pt x="865" y="680"/>
                          </a:lnTo>
                          <a:lnTo>
                            <a:pt x="986" y="667"/>
                          </a:lnTo>
                          <a:lnTo>
                            <a:pt x="1074" y="645"/>
                          </a:lnTo>
                          <a:lnTo>
                            <a:pt x="1134" y="619"/>
                          </a:lnTo>
                          <a:lnTo>
                            <a:pt x="1137" y="619"/>
                          </a:lnTo>
                          <a:lnTo>
                            <a:pt x="1145" y="619"/>
                          </a:lnTo>
                          <a:lnTo>
                            <a:pt x="1152" y="619"/>
                          </a:lnTo>
                          <a:lnTo>
                            <a:pt x="1145" y="619"/>
                          </a:lnTo>
                          <a:lnTo>
                            <a:pt x="1134" y="619"/>
                          </a:lnTo>
                          <a:lnTo>
                            <a:pt x="1155" y="619"/>
                          </a:lnTo>
                          <a:lnTo>
                            <a:pt x="1179" y="625"/>
                          </a:lnTo>
                          <a:lnTo>
                            <a:pt x="1205" y="628"/>
                          </a:lnTo>
                          <a:lnTo>
                            <a:pt x="1269" y="645"/>
                          </a:lnTo>
                          <a:lnTo>
                            <a:pt x="1353" y="661"/>
                          </a:lnTo>
                          <a:lnTo>
                            <a:pt x="1452" y="667"/>
                          </a:lnTo>
                          <a:lnTo>
                            <a:pt x="1487" y="667"/>
                          </a:lnTo>
                          <a:lnTo>
                            <a:pt x="1512" y="667"/>
                          </a:lnTo>
                          <a:lnTo>
                            <a:pt x="1537" y="674"/>
                          </a:lnTo>
                          <a:lnTo>
                            <a:pt x="1600" y="691"/>
                          </a:lnTo>
                          <a:lnTo>
                            <a:pt x="1678" y="700"/>
                          </a:lnTo>
                          <a:lnTo>
                            <a:pt x="1773" y="706"/>
                          </a:lnTo>
                          <a:lnTo>
                            <a:pt x="1943" y="680"/>
                          </a:lnTo>
                          <a:lnTo>
                            <a:pt x="2056" y="628"/>
                          </a:lnTo>
                          <a:lnTo>
                            <a:pt x="2134" y="580"/>
                          </a:lnTo>
                          <a:lnTo>
                            <a:pt x="2137" y="577"/>
                          </a:lnTo>
                          <a:lnTo>
                            <a:pt x="2144" y="570"/>
                          </a:lnTo>
                          <a:lnTo>
                            <a:pt x="2152" y="570"/>
                          </a:lnTo>
                          <a:lnTo>
                            <a:pt x="2134" y="577"/>
                          </a:lnTo>
                          <a:lnTo>
                            <a:pt x="2116" y="580"/>
                          </a:lnTo>
                          <a:lnTo>
                            <a:pt x="2098" y="586"/>
                          </a:lnTo>
                          <a:lnTo>
                            <a:pt x="2102" y="586"/>
                          </a:lnTo>
                          <a:lnTo>
                            <a:pt x="2098" y="580"/>
                          </a:lnTo>
                          <a:lnTo>
                            <a:pt x="2102" y="586"/>
                          </a:lnTo>
                          <a:lnTo>
                            <a:pt x="2109" y="586"/>
                          </a:lnTo>
                          <a:lnTo>
                            <a:pt x="2180" y="612"/>
                          </a:lnTo>
                          <a:lnTo>
                            <a:pt x="2268" y="635"/>
                          </a:lnTo>
                          <a:lnTo>
                            <a:pt x="2381" y="642"/>
                          </a:lnTo>
                          <a:lnTo>
                            <a:pt x="2448" y="642"/>
                          </a:lnTo>
                          <a:lnTo>
                            <a:pt x="2494" y="642"/>
                          </a:lnTo>
                          <a:lnTo>
                            <a:pt x="2537" y="642"/>
                          </a:lnTo>
                          <a:lnTo>
                            <a:pt x="2572" y="642"/>
                          </a:lnTo>
                          <a:lnTo>
                            <a:pt x="2618" y="642"/>
                          </a:lnTo>
                          <a:lnTo>
                            <a:pt x="2677" y="642"/>
                          </a:lnTo>
                          <a:lnTo>
                            <a:pt x="2801" y="628"/>
                          </a:lnTo>
                          <a:lnTo>
                            <a:pt x="2890" y="609"/>
                          </a:lnTo>
                          <a:lnTo>
                            <a:pt x="2968" y="580"/>
                          </a:lnTo>
                          <a:lnTo>
                            <a:pt x="2975" y="580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78" y="577"/>
                          </a:lnTo>
                          <a:lnTo>
                            <a:pt x="2985" y="577"/>
                          </a:lnTo>
                          <a:lnTo>
                            <a:pt x="2993" y="577"/>
                          </a:lnTo>
                          <a:lnTo>
                            <a:pt x="3020" y="577"/>
                          </a:lnTo>
                          <a:lnTo>
                            <a:pt x="3038" y="580"/>
                          </a:lnTo>
                          <a:lnTo>
                            <a:pt x="3063" y="586"/>
                          </a:lnTo>
                          <a:lnTo>
                            <a:pt x="3123" y="597"/>
                          </a:lnTo>
                          <a:lnTo>
                            <a:pt x="3204" y="612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18" y="619"/>
                          </a:lnTo>
                          <a:lnTo>
                            <a:pt x="3310" y="619"/>
                          </a:lnTo>
                          <a:lnTo>
                            <a:pt x="3318" y="619"/>
                          </a:lnTo>
                          <a:lnTo>
                            <a:pt x="3325" y="619"/>
                          </a:lnTo>
                          <a:lnTo>
                            <a:pt x="3328" y="625"/>
                          </a:lnTo>
                          <a:lnTo>
                            <a:pt x="3413" y="661"/>
                          </a:lnTo>
                          <a:lnTo>
                            <a:pt x="3518" y="691"/>
                          </a:lnTo>
                          <a:lnTo>
                            <a:pt x="3650" y="700"/>
                          </a:lnTo>
                          <a:lnTo>
                            <a:pt x="3744" y="683"/>
                          </a:lnTo>
                          <a:lnTo>
                            <a:pt x="3834" y="645"/>
                          </a:lnTo>
                          <a:lnTo>
                            <a:pt x="3897" y="580"/>
                          </a:lnTo>
                          <a:lnTo>
                            <a:pt x="3946" y="506"/>
                          </a:lnTo>
                          <a:lnTo>
                            <a:pt x="3964" y="412"/>
                          </a:lnTo>
                          <a:lnTo>
                            <a:pt x="3946" y="321"/>
                          </a:lnTo>
                          <a:lnTo>
                            <a:pt x="3897" y="243"/>
                          </a:lnTo>
                          <a:lnTo>
                            <a:pt x="3834" y="178"/>
                          </a:lnTo>
                          <a:lnTo>
                            <a:pt x="3744" y="142"/>
                          </a:lnTo>
                          <a:lnTo>
                            <a:pt x="3650" y="1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54" name=""/>
              <p:cNvGrpSpPr/>
              <p:nvPr/>
            </p:nvGrpSpPr>
            <p:grpSpPr>
              <a:xfrm>
                <a:off x="4977720" y="5416200"/>
                <a:ext cx="1769760" cy="3086280"/>
                <a:chOff x="4977720" y="5416200"/>
                <a:chExt cx="1769760" cy="3086280"/>
              </a:xfrm>
            </p:grpSpPr>
            <p:sp>
              <p:nvSpPr>
                <p:cNvPr id="1255" name=""/>
                <p:cNvSpPr txBox="1"/>
                <p:nvPr/>
              </p:nvSpPr>
              <p:spPr>
                <a:xfrm>
                  <a:off x="5309640" y="5416200"/>
                  <a:ext cx="1315440" cy="403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مد بالياء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  <p:pic>
              <p:nvPicPr>
                <p:cNvPr id="12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977720" y="6046560"/>
                  <a:ext cx="1769760" cy="2455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57" name=""/>
              <p:cNvGrpSpPr/>
              <p:nvPr/>
            </p:nvGrpSpPr>
            <p:grpSpPr>
              <a:xfrm>
                <a:off x="0" y="581400"/>
                <a:ext cx="2005200" cy="2417400"/>
                <a:chOff x="0" y="581400"/>
                <a:chExt cx="2005200" cy="2417400"/>
              </a:xfrm>
            </p:grpSpPr>
            <p:pic>
              <p:nvPicPr>
                <p:cNvPr id="1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581400"/>
                  <a:ext cx="2005200" cy="241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"/>
                <p:cNvSpPr txBox="1"/>
                <p:nvPr/>
              </p:nvSpPr>
              <p:spPr>
                <a:xfrm>
                  <a:off x="442440" y="2262960"/>
                  <a:ext cx="1094400" cy="509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i-IN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الكسرة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1547640" y="736560"/>
            <a:ext cx="4867560" cy="304812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308560" y="946080"/>
            <a:ext cx="66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َرَع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424400" y="946080"/>
            <a:ext cx="66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َسَ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429000" y="946080"/>
            <a:ext cx="66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َرَح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322360" y="946080"/>
            <a:ext cx="774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َمِل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308560" y="2363760"/>
            <a:ext cx="774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َرَح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789360" y="2340000"/>
            <a:ext cx="774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َحَر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429000" y="2363760"/>
            <a:ext cx="66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433600" y="2363760"/>
            <a:ext cx="66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َلِ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199120" y="31734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َرَس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13160" y="3173400"/>
            <a:ext cx="774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َسَ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317760" y="3173400"/>
            <a:ext cx="774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َبـِس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322360" y="3173400"/>
            <a:ext cx="8845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َحَل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308560" y="1654200"/>
            <a:ext cx="663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َبَر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76640" y="1619280"/>
            <a:ext cx="808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َـلِـم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81360" y="1619280"/>
            <a:ext cx="774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َمِس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543040" y="1654200"/>
            <a:ext cx="663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 flipH="1">
            <a:off x="259920" y="1116000"/>
            <a:ext cx="2211480" cy="2319480"/>
          </a:xfrm>
          <a:prstGeom prst="rect">
            <a:avLst/>
          </a:prstGeom>
          <a:ln w="0">
            <a:noFill/>
          </a:ln>
        </p:spPr>
      </p:pic>
      <p:grpSp>
        <p:nvGrpSpPr>
          <p:cNvPr id="1279" name=""/>
          <p:cNvGrpSpPr/>
          <p:nvPr/>
        </p:nvGrpSpPr>
        <p:grpSpPr>
          <a:xfrm>
            <a:off x="2565360" y="0"/>
            <a:ext cx="2876760" cy="841320"/>
            <a:chOff x="2565360" y="0"/>
            <a:chExt cx="2876760" cy="841320"/>
          </a:xfrm>
        </p:grpSpPr>
        <p:pic>
          <p:nvPicPr>
            <p:cNvPr id="1280" name="" descr=""/>
            <p:cNvPicPr/>
            <p:nvPr/>
          </p:nvPicPr>
          <p:blipFill>
            <a:blip r:embed="rId3"/>
            <a:stretch/>
          </p:blipFill>
          <p:spPr>
            <a:xfrm>
              <a:off x="2565360" y="0"/>
              <a:ext cx="28767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2786400" y="210240"/>
              <a:ext cx="2434320" cy="315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إقرأ الكلمات الت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404640" y="5292720"/>
            <a:ext cx="4740480" cy="3048120"/>
          </a:xfrm>
          <a:prstGeom prst="foldedCorner">
            <a:avLst>
              <a:gd name="adj" fmla="val 12500"/>
            </a:avLst>
          </a:prstGeom>
          <a:solidFill>
            <a:srgbClr val="ffffff">
              <a:alpha val="50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054320" y="5651640"/>
            <a:ext cx="884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ش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59280" y="5651640"/>
            <a:ext cx="6634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952640" y="5651640"/>
            <a:ext cx="7747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20640" y="5651640"/>
            <a:ext cx="773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165560" y="6386400"/>
            <a:ext cx="8841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ا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059280" y="6386400"/>
            <a:ext cx="66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52640" y="6386400"/>
            <a:ext cx="774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49360" y="6372360"/>
            <a:ext cx="995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165560" y="7122960"/>
            <a:ext cx="884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843200" y="7122960"/>
            <a:ext cx="884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ر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59280" y="7122960"/>
            <a:ext cx="774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49360" y="7093080"/>
            <a:ext cx="995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د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4653000" y="5292720"/>
            <a:ext cx="1879560" cy="3152520"/>
            <a:chOff x="4653000" y="5292720"/>
            <a:chExt cx="1879560" cy="3152520"/>
          </a:xfrm>
        </p:grpSpPr>
        <p:sp>
          <p:nvSpPr>
            <p:cNvPr id="1296" name=""/>
            <p:cNvSpPr/>
            <p:nvPr/>
          </p:nvSpPr>
          <p:spPr>
            <a:xfrm>
              <a:off x="5192640" y="5292720"/>
              <a:ext cx="1339920" cy="2815920"/>
            </a:xfrm>
            <a:custGeom>
              <a:avLst/>
              <a:gdLst/>
              <a:ahLst/>
              <a:rect l="l" t="t" r="r" b="b"/>
              <a:pathLst>
                <a:path w="2860" h="6752">
                  <a:moveTo>
                    <a:pt x="1362" y="22"/>
                  </a:moveTo>
                  <a:lnTo>
                    <a:pt x="1482" y="47"/>
                  </a:lnTo>
                  <a:lnTo>
                    <a:pt x="1734" y="285"/>
                  </a:lnTo>
                  <a:lnTo>
                    <a:pt x="1753" y="357"/>
                  </a:lnTo>
                  <a:lnTo>
                    <a:pt x="1959" y="447"/>
                  </a:lnTo>
                  <a:lnTo>
                    <a:pt x="2022" y="368"/>
                  </a:lnTo>
                  <a:lnTo>
                    <a:pt x="2118" y="549"/>
                  </a:lnTo>
                  <a:lnTo>
                    <a:pt x="2255" y="486"/>
                  </a:lnTo>
                  <a:lnTo>
                    <a:pt x="2367" y="464"/>
                  </a:lnTo>
                  <a:lnTo>
                    <a:pt x="2397" y="464"/>
                  </a:lnTo>
                  <a:lnTo>
                    <a:pt x="2406" y="469"/>
                  </a:lnTo>
                  <a:lnTo>
                    <a:pt x="2318" y="524"/>
                  </a:lnTo>
                  <a:lnTo>
                    <a:pt x="2277" y="590"/>
                  </a:lnTo>
                  <a:lnTo>
                    <a:pt x="2277" y="607"/>
                  </a:lnTo>
                  <a:lnTo>
                    <a:pt x="2367" y="637"/>
                  </a:lnTo>
                  <a:lnTo>
                    <a:pt x="2551" y="799"/>
                  </a:lnTo>
                  <a:lnTo>
                    <a:pt x="2597" y="887"/>
                  </a:lnTo>
                  <a:lnTo>
                    <a:pt x="2611" y="983"/>
                  </a:lnTo>
                  <a:lnTo>
                    <a:pt x="2589" y="1301"/>
                  </a:lnTo>
                  <a:lnTo>
                    <a:pt x="2540" y="1477"/>
                  </a:lnTo>
                  <a:lnTo>
                    <a:pt x="2438" y="1707"/>
                  </a:lnTo>
                  <a:lnTo>
                    <a:pt x="2334" y="1820"/>
                  </a:lnTo>
                  <a:lnTo>
                    <a:pt x="2318" y="1996"/>
                  </a:lnTo>
                  <a:lnTo>
                    <a:pt x="2271" y="2114"/>
                  </a:lnTo>
                  <a:lnTo>
                    <a:pt x="2238" y="2163"/>
                  </a:lnTo>
                  <a:lnTo>
                    <a:pt x="2247" y="2226"/>
                  </a:lnTo>
                  <a:lnTo>
                    <a:pt x="2293" y="2314"/>
                  </a:lnTo>
                  <a:lnTo>
                    <a:pt x="2348" y="2330"/>
                  </a:lnTo>
                  <a:lnTo>
                    <a:pt x="2477" y="2418"/>
                  </a:lnTo>
                  <a:lnTo>
                    <a:pt x="2526" y="2443"/>
                  </a:lnTo>
                  <a:lnTo>
                    <a:pt x="2597" y="2531"/>
                  </a:lnTo>
                  <a:lnTo>
                    <a:pt x="2597" y="2536"/>
                  </a:lnTo>
                  <a:lnTo>
                    <a:pt x="2534" y="2547"/>
                  </a:lnTo>
                  <a:lnTo>
                    <a:pt x="2636" y="2682"/>
                  </a:lnTo>
                  <a:lnTo>
                    <a:pt x="2685" y="2786"/>
                  </a:lnTo>
                  <a:lnTo>
                    <a:pt x="2685" y="3033"/>
                  </a:lnTo>
                  <a:lnTo>
                    <a:pt x="2628" y="3368"/>
                  </a:lnTo>
                  <a:lnTo>
                    <a:pt x="2660" y="3544"/>
                  </a:lnTo>
                  <a:lnTo>
                    <a:pt x="2748" y="3760"/>
                  </a:lnTo>
                  <a:lnTo>
                    <a:pt x="2732" y="3857"/>
                  </a:lnTo>
                  <a:lnTo>
                    <a:pt x="2707" y="3887"/>
                  </a:lnTo>
                  <a:lnTo>
                    <a:pt x="2660" y="3920"/>
                  </a:lnTo>
                  <a:lnTo>
                    <a:pt x="2740" y="4016"/>
                  </a:lnTo>
                  <a:lnTo>
                    <a:pt x="2789" y="4049"/>
                  </a:lnTo>
                  <a:lnTo>
                    <a:pt x="2860" y="4191"/>
                  </a:lnTo>
                  <a:lnTo>
                    <a:pt x="2860" y="4318"/>
                  </a:lnTo>
                  <a:lnTo>
                    <a:pt x="2844" y="4359"/>
                  </a:lnTo>
                  <a:lnTo>
                    <a:pt x="2803" y="4455"/>
                  </a:lnTo>
                  <a:lnTo>
                    <a:pt x="2819" y="4551"/>
                  </a:lnTo>
                  <a:lnTo>
                    <a:pt x="2819" y="4614"/>
                  </a:lnTo>
                  <a:lnTo>
                    <a:pt x="2836" y="4735"/>
                  </a:lnTo>
                  <a:lnTo>
                    <a:pt x="2836" y="4790"/>
                  </a:lnTo>
                  <a:lnTo>
                    <a:pt x="2844" y="4798"/>
                  </a:lnTo>
                  <a:lnTo>
                    <a:pt x="2803" y="4831"/>
                  </a:lnTo>
                  <a:lnTo>
                    <a:pt x="2693" y="4869"/>
                  </a:lnTo>
                  <a:lnTo>
                    <a:pt x="2565" y="4949"/>
                  </a:lnTo>
                  <a:lnTo>
                    <a:pt x="2573" y="5267"/>
                  </a:lnTo>
                  <a:lnTo>
                    <a:pt x="2669" y="5468"/>
                  </a:lnTo>
                  <a:lnTo>
                    <a:pt x="2740" y="5803"/>
                  </a:lnTo>
                  <a:lnTo>
                    <a:pt x="2732" y="6011"/>
                  </a:lnTo>
                  <a:lnTo>
                    <a:pt x="2723" y="6050"/>
                  </a:lnTo>
                  <a:lnTo>
                    <a:pt x="2723" y="6074"/>
                  </a:lnTo>
                  <a:lnTo>
                    <a:pt x="2814" y="6099"/>
                  </a:lnTo>
                  <a:lnTo>
                    <a:pt x="2852" y="6228"/>
                  </a:lnTo>
                  <a:lnTo>
                    <a:pt x="2852" y="6324"/>
                  </a:lnTo>
                  <a:lnTo>
                    <a:pt x="2765" y="6401"/>
                  </a:lnTo>
                  <a:lnTo>
                    <a:pt x="2685" y="6434"/>
                  </a:lnTo>
                  <a:lnTo>
                    <a:pt x="2660" y="6459"/>
                  </a:lnTo>
                  <a:lnTo>
                    <a:pt x="2469" y="6522"/>
                  </a:lnTo>
                  <a:lnTo>
                    <a:pt x="2343" y="6626"/>
                  </a:lnTo>
                  <a:lnTo>
                    <a:pt x="2189" y="6714"/>
                  </a:lnTo>
                  <a:lnTo>
                    <a:pt x="2063" y="6730"/>
                  </a:lnTo>
                  <a:lnTo>
                    <a:pt x="2033" y="6747"/>
                  </a:lnTo>
                  <a:lnTo>
                    <a:pt x="1937" y="6730"/>
                  </a:lnTo>
                  <a:lnTo>
                    <a:pt x="1808" y="6681"/>
                  </a:lnTo>
                  <a:lnTo>
                    <a:pt x="1759" y="6651"/>
                  </a:lnTo>
                  <a:lnTo>
                    <a:pt x="1704" y="6626"/>
                  </a:lnTo>
                  <a:lnTo>
                    <a:pt x="1688" y="6563"/>
                  </a:lnTo>
                  <a:lnTo>
                    <a:pt x="1712" y="6483"/>
                  </a:lnTo>
                  <a:lnTo>
                    <a:pt x="1926" y="6291"/>
                  </a:lnTo>
                  <a:lnTo>
                    <a:pt x="1992" y="6250"/>
                  </a:lnTo>
                  <a:lnTo>
                    <a:pt x="2000" y="6242"/>
                  </a:lnTo>
                  <a:lnTo>
                    <a:pt x="2000" y="6234"/>
                  </a:lnTo>
                  <a:lnTo>
                    <a:pt x="1663" y="6275"/>
                  </a:lnTo>
                  <a:lnTo>
                    <a:pt x="1586" y="6258"/>
                  </a:lnTo>
                  <a:lnTo>
                    <a:pt x="1512" y="6258"/>
                  </a:lnTo>
                  <a:lnTo>
                    <a:pt x="1386" y="6228"/>
                  </a:lnTo>
                  <a:lnTo>
                    <a:pt x="1252" y="6132"/>
                  </a:lnTo>
                  <a:lnTo>
                    <a:pt x="1216" y="6074"/>
                  </a:lnTo>
                  <a:lnTo>
                    <a:pt x="1233" y="6011"/>
                  </a:lnTo>
                  <a:lnTo>
                    <a:pt x="1337" y="5874"/>
                  </a:lnTo>
                  <a:lnTo>
                    <a:pt x="1408" y="5827"/>
                  </a:lnTo>
                  <a:lnTo>
                    <a:pt x="1521" y="5811"/>
                  </a:lnTo>
                  <a:lnTo>
                    <a:pt x="1658" y="5852"/>
                  </a:lnTo>
                  <a:lnTo>
                    <a:pt x="1696" y="5874"/>
                  </a:lnTo>
                  <a:lnTo>
                    <a:pt x="1734" y="5869"/>
                  </a:lnTo>
                  <a:lnTo>
                    <a:pt x="1784" y="5803"/>
                  </a:lnTo>
                  <a:lnTo>
                    <a:pt x="1855" y="5786"/>
                  </a:lnTo>
                  <a:lnTo>
                    <a:pt x="1880" y="5761"/>
                  </a:lnTo>
                  <a:lnTo>
                    <a:pt x="1784" y="5523"/>
                  </a:lnTo>
                  <a:lnTo>
                    <a:pt x="1578" y="5333"/>
                  </a:lnTo>
                  <a:lnTo>
                    <a:pt x="1537" y="4933"/>
                  </a:lnTo>
                  <a:lnTo>
                    <a:pt x="1529" y="4886"/>
                  </a:lnTo>
                  <a:lnTo>
                    <a:pt x="1482" y="4845"/>
                  </a:lnTo>
                  <a:lnTo>
                    <a:pt x="1323" y="4812"/>
                  </a:lnTo>
                  <a:lnTo>
                    <a:pt x="1274" y="4710"/>
                  </a:lnTo>
                  <a:lnTo>
                    <a:pt x="1307" y="4485"/>
                  </a:lnTo>
                  <a:lnTo>
                    <a:pt x="1329" y="4400"/>
                  </a:lnTo>
                  <a:lnTo>
                    <a:pt x="1408" y="4095"/>
                  </a:lnTo>
                  <a:lnTo>
                    <a:pt x="1512" y="3920"/>
                  </a:lnTo>
                  <a:lnTo>
                    <a:pt x="1521" y="3920"/>
                  </a:lnTo>
                  <a:lnTo>
                    <a:pt x="1537" y="3903"/>
                  </a:lnTo>
                  <a:lnTo>
                    <a:pt x="1449" y="3752"/>
                  </a:lnTo>
                  <a:lnTo>
                    <a:pt x="1441" y="3376"/>
                  </a:lnTo>
                  <a:lnTo>
                    <a:pt x="1312" y="3481"/>
                  </a:lnTo>
                  <a:lnTo>
                    <a:pt x="1258" y="3689"/>
                  </a:lnTo>
                  <a:lnTo>
                    <a:pt x="1241" y="3870"/>
                  </a:lnTo>
                  <a:lnTo>
                    <a:pt x="1211" y="4049"/>
                  </a:lnTo>
                  <a:lnTo>
                    <a:pt x="1178" y="4406"/>
                  </a:lnTo>
                  <a:lnTo>
                    <a:pt x="1140" y="4669"/>
                  </a:lnTo>
                  <a:lnTo>
                    <a:pt x="1085" y="5092"/>
                  </a:lnTo>
                  <a:lnTo>
                    <a:pt x="1074" y="5196"/>
                  </a:lnTo>
                  <a:lnTo>
                    <a:pt x="1049" y="5476"/>
                  </a:lnTo>
                  <a:lnTo>
                    <a:pt x="1036" y="5492"/>
                  </a:lnTo>
                  <a:lnTo>
                    <a:pt x="1049" y="5539"/>
                  </a:lnTo>
                  <a:lnTo>
                    <a:pt x="1044" y="5685"/>
                  </a:lnTo>
                  <a:lnTo>
                    <a:pt x="953" y="5915"/>
                  </a:lnTo>
                  <a:lnTo>
                    <a:pt x="915" y="5970"/>
                  </a:lnTo>
                  <a:lnTo>
                    <a:pt x="564" y="6681"/>
                  </a:lnTo>
                  <a:lnTo>
                    <a:pt x="531" y="6730"/>
                  </a:lnTo>
                  <a:lnTo>
                    <a:pt x="436" y="6752"/>
                  </a:lnTo>
                  <a:lnTo>
                    <a:pt x="340" y="6722"/>
                  </a:lnTo>
                  <a:lnTo>
                    <a:pt x="285" y="6547"/>
                  </a:lnTo>
                  <a:lnTo>
                    <a:pt x="197" y="6138"/>
                  </a:lnTo>
                  <a:lnTo>
                    <a:pt x="112" y="5748"/>
                  </a:lnTo>
                  <a:lnTo>
                    <a:pt x="88" y="5690"/>
                  </a:lnTo>
                  <a:lnTo>
                    <a:pt x="77" y="5605"/>
                  </a:lnTo>
                  <a:lnTo>
                    <a:pt x="55" y="5589"/>
                  </a:lnTo>
                  <a:lnTo>
                    <a:pt x="22" y="5350"/>
                  </a:lnTo>
                  <a:lnTo>
                    <a:pt x="88" y="4685"/>
                  </a:lnTo>
                  <a:lnTo>
                    <a:pt x="167" y="4071"/>
                  </a:lnTo>
                  <a:lnTo>
                    <a:pt x="214" y="3689"/>
                  </a:lnTo>
                  <a:lnTo>
                    <a:pt x="142" y="3640"/>
                  </a:lnTo>
                  <a:lnTo>
                    <a:pt x="101" y="3568"/>
                  </a:lnTo>
                  <a:lnTo>
                    <a:pt x="118" y="3497"/>
                  </a:lnTo>
                  <a:lnTo>
                    <a:pt x="151" y="3431"/>
                  </a:lnTo>
                  <a:lnTo>
                    <a:pt x="126" y="3354"/>
                  </a:lnTo>
                  <a:lnTo>
                    <a:pt x="142" y="3297"/>
                  </a:lnTo>
                  <a:lnTo>
                    <a:pt x="159" y="3280"/>
                  </a:lnTo>
                  <a:lnTo>
                    <a:pt x="134" y="3217"/>
                  </a:lnTo>
                  <a:lnTo>
                    <a:pt x="142" y="3151"/>
                  </a:lnTo>
                  <a:lnTo>
                    <a:pt x="77" y="3121"/>
                  </a:lnTo>
                  <a:lnTo>
                    <a:pt x="22" y="3025"/>
                  </a:lnTo>
                  <a:lnTo>
                    <a:pt x="0" y="2937"/>
                  </a:lnTo>
                  <a:lnTo>
                    <a:pt x="5" y="2857"/>
                  </a:lnTo>
                  <a:lnTo>
                    <a:pt x="22" y="2811"/>
                  </a:lnTo>
                  <a:lnTo>
                    <a:pt x="16" y="2761"/>
                  </a:lnTo>
                  <a:lnTo>
                    <a:pt x="0" y="2728"/>
                  </a:lnTo>
                  <a:lnTo>
                    <a:pt x="5" y="2657"/>
                  </a:lnTo>
                  <a:lnTo>
                    <a:pt x="46" y="2577"/>
                  </a:lnTo>
                  <a:lnTo>
                    <a:pt x="77" y="2536"/>
                  </a:lnTo>
                  <a:lnTo>
                    <a:pt x="96" y="2523"/>
                  </a:lnTo>
                  <a:lnTo>
                    <a:pt x="96" y="2514"/>
                  </a:lnTo>
                  <a:lnTo>
                    <a:pt x="134" y="2388"/>
                  </a:lnTo>
                  <a:lnTo>
                    <a:pt x="197" y="2347"/>
                  </a:lnTo>
                  <a:lnTo>
                    <a:pt x="263" y="2347"/>
                  </a:lnTo>
                  <a:lnTo>
                    <a:pt x="301" y="2259"/>
                  </a:lnTo>
                  <a:lnTo>
                    <a:pt x="340" y="2210"/>
                  </a:lnTo>
                  <a:lnTo>
                    <a:pt x="375" y="1916"/>
                  </a:lnTo>
                  <a:lnTo>
                    <a:pt x="422" y="1548"/>
                  </a:lnTo>
                  <a:lnTo>
                    <a:pt x="485" y="1164"/>
                  </a:lnTo>
                  <a:lnTo>
                    <a:pt x="548" y="694"/>
                  </a:lnTo>
                  <a:lnTo>
                    <a:pt x="581" y="565"/>
                  </a:lnTo>
                  <a:lnTo>
                    <a:pt x="589" y="464"/>
                  </a:lnTo>
                  <a:lnTo>
                    <a:pt x="644" y="118"/>
                  </a:lnTo>
                  <a:lnTo>
                    <a:pt x="899" y="0"/>
                  </a:lnTo>
                  <a:lnTo>
                    <a:pt x="1252" y="22"/>
                  </a:lnTo>
                  <a:lnTo>
                    <a:pt x="1362" y="22"/>
                  </a:lnTo>
                  <a:close/>
                  <a:moveTo>
                    <a:pt x="1943" y="2418"/>
                  </a:moveTo>
                  <a:lnTo>
                    <a:pt x="1943" y="2443"/>
                  </a:lnTo>
                  <a:lnTo>
                    <a:pt x="1841" y="2451"/>
                  </a:lnTo>
                  <a:lnTo>
                    <a:pt x="1474" y="2632"/>
                  </a:lnTo>
                  <a:lnTo>
                    <a:pt x="1419" y="2665"/>
                  </a:lnTo>
                  <a:lnTo>
                    <a:pt x="1441" y="2410"/>
                  </a:lnTo>
                  <a:lnTo>
                    <a:pt x="1608" y="2443"/>
                  </a:lnTo>
                  <a:lnTo>
                    <a:pt x="1855" y="2426"/>
                  </a:lnTo>
                  <a:lnTo>
                    <a:pt x="1921" y="2402"/>
                  </a:lnTo>
                  <a:lnTo>
                    <a:pt x="1926" y="2402"/>
                  </a:lnTo>
                  <a:lnTo>
                    <a:pt x="1943" y="2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368320" y="5304960"/>
              <a:ext cx="256680" cy="1182600"/>
            </a:xfrm>
            <a:custGeom>
              <a:avLst/>
              <a:gdLst/>
              <a:ahLst/>
              <a:rect l="l" t="t" r="r" b="b"/>
              <a:pathLst>
                <a:path w="548" h="2836">
                  <a:moveTo>
                    <a:pt x="524" y="209"/>
                  </a:moveTo>
                  <a:lnTo>
                    <a:pt x="482" y="560"/>
                  </a:lnTo>
                  <a:lnTo>
                    <a:pt x="461" y="632"/>
                  </a:lnTo>
                  <a:lnTo>
                    <a:pt x="302" y="782"/>
                  </a:lnTo>
                  <a:lnTo>
                    <a:pt x="206" y="999"/>
                  </a:lnTo>
                  <a:lnTo>
                    <a:pt x="173" y="1384"/>
                  </a:lnTo>
                  <a:lnTo>
                    <a:pt x="189" y="1455"/>
                  </a:lnTo>
                  <a:lnTo>
                    <a:pt x="198" y="1460"/>
                  </a:lnTo>
                  <a:lnTo>
                    <a:pt x="222" y="1460"/>
                  </a:lnTo>
                  <a:lnTo>
                    <a:pt x="310" y="1334"/>
                  </a:lnTo>
                  <a:lnTo>
                    <a:pt x="310" y="1430"/>
                  </a:lnTo>
                  <a:lnTo>
                    <a:pt x="340" y="1551"/>
                  </a:lnTo>
                  <a:lnTo>
                    <a:pt x="365" y="1581"/>
                  </a:lnTo>
                  <a:lnTo>
                    <a:pt x="315" y="1891"/>
                  </a:lnTo>
                  <a:lnTo>
                    <a:pt x="310" y="2053"/>
                  </a:lnTo>
                  <a:lnTo>
                    <a:pt x="222" y="2602"/>
                  </a:lnTo>
                  <a:lnTo>
                    <a:pt x="189" y="2836"/>
                  </a:lnTo>
                  <a:lnTo>
                    <a:pt x="143" y="2805"/>
                  </a:lnTo>
                  <a:lnTo>
                    <a:pt x="118" y="2770"/>
                  </a:lnTo>
                  <a:lnTo>
                    <a:pt x="135" y="2644"/>
                  </a:lnTo>
                  <a:lnTo>
                    <a:pt x="110" y="2539"/>
                  </a:lnTo>
                  <a:lnTo>
                    <a:pt x="71" y="2460"/>
                  </a:lnTo>
                  <a:lnTo>
                    <a:pt x="118" y="2254"/>
                  </a:lnTo>
                  <a:lnTo>
                    <a:pt x="85" y="2204"/>
                  </a:lnTo>
                  <a:lnTo>
                    <a:pt x="47" y="2180"/>
                  </a:lnTo>
                  <a:lnTo>
                    <a:pt x="0" y="2180"/>
                  </a:lnTo>
                  <a:lnTo>
                    <a:pt x="14" y="1949"/>
                  </a:lnTo>
                  <a:lnTo>
                    <a:pt x="39" y="1853"/>
                  </a:lnTo>
                  <a:lnTo>
                    <a:pt x="61" y="1589"/>
                  </a:lnTo>
                  <a:lnTo>
                    <a:pt x="93" y="1422"/>
                  </a:lnTo>
                  <a:lnTo>
                    <a:pt x="126" y="1205"/>
                  </a:lnTo>
                  <a:lnTo>
                    <a:pt x="167" y="991"/>
                  </a:lnTo>
                  <a:lnTo>
                    <a:pt x="181" y="774"/>
                  </a:lnTo>
                  <a:lnTo>
                    <a:pt x="239" y="519"/>
                  </a:lnTo>
                  <a:lnTo>
                    <a:pt x="302" y="146"/>
                  </a:lnTo>
                  <a:lnTo>
                    <a:pt x="315" y="96"/>
                  </a:lnTo>
                  <a:lnTo>
                    <a:pt x="444" y="41"/>
                  </a:lnTo>
                  <a:lnTo>
                    <a:pt x="524" y="0"/>
                  </a:lnTo>
                  <a:lnTo>
                    <a:pt x="548" y="0"/>
                  </a:lnTo>
                  <a:lnTo>
                    <a:pt x="524" y="209"/>
                  </a:lnTo>
                  <a:close/>
                </a:path>
              </a:pathLst>
            </a:custGeom>
            <a:solidFill>
              <a:srgbClr val="b25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610960" y="5312160"/>
              <a:ext cx="252720" cy="238680"/>
            </a:xfrm>
            <a:custGeom>
              <a:avLst/>
              <a:gdLst/>
              <a:ahLst/>
              <a:rect l="l" t="t" r="r" b="b"/>
              <a:pathLst>
                <a:path w="540" h="573">
                  <a:moveTo>
                    <a:pt x="540" y="24"/>
                  </a:moveTo>
                  <a:lnTo>
                    <a:pt x="540" y="79"/>
                  </a:lnTo>
                  <a:lnTo>
                    <a:pt x="507" y="214"/>
                  </a:lnTo>
                  <a:lnTo>
                    <a:pt x="493" y="310"/>
                  </a:lnTo>
                  <a:lnTo>
                    <a:pt x="348" y="359"/>
                  </a:lnTo>
                  <a:lnTo>
                    <a:pt x="156" y="464"/>
                  </a:lnTo>
                  <a:lnTo>
                    <a:pt x="60" y="543"/>
                  </a:lnTo>
                  <a:lnTo>
                    <a:pt x="0" y="573"/>
                  </a:lnTo>
                  <a:lnTo>
                    <a:pt x="22" y="406"/>
                  </a:lnTo>
                  <a:lnTo>
                    <a:pt x="30" y="296"/>
                  </a:lnTo>
                  <a:lnTo>
                    <a:pt x="80" y="0"/>
                  </a:lnTo>
                  <a:lnTo>
                    <a:pt x="414" y="8"/>
                  </a:lnTo>
                  <a:lnTo>
                    <a:pt x="540" y="24"/>
                  </a:lnTo>
                  <a:close/>
                </a:path>
              </a:pathLst>
            </a:custGeom>
            <a:solidFill>
              <a:srgbClr val="de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60440" y="5335920"/>
              <a:ext cx="130680" cy="102960"/>
            </a:xfrm>
            <a:custGeom>
              <a:avLst/>
              <a:gdLst/>
              <a:ahLst/>
              <a:rect l="l" t="t" r="r" b="b"/>
              <a:pathLst>
                <a:path w="279" h="247">
                  <a:moveTo>
                    <a:pt x="279" y="214"/>
                  </a:moveTo>
                  <a:lnTo>
                    <a:pt x="279" y="239"/>
                  </a:lnTo>
                  <a:lnTo>
                    <a:pt x="0" y="247"/>
                  </a:lnTo>
                  <a:lnTo>
                    <a:pt x="24" y="192"/>
                  </a:lnTo>
                  <a:lnTo>
                    <a:pt x="16" y="176"/>
                  </a:lnTo>
                  <a:lnTo>
                    <a:pt x="57" y="0"/>
                  </a:lnTo>
                  <a:lnTo>
                    <a:pt x="263" y="198"/>
                  </a:lnTo>
                  <a:lnTo>
                    <a:pt x="279" y="214"/>
                  </a:lnTo>
                  <a:close/>
                </a:path>
              </a:pathLst>
            </a:custGeom>
            <a:solidFill>
              <a:srgbClr val="6a3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68400" y="5451840"/>
              <a:ext cx="921600" cy="578520"/>
            </a:xfrm>
            <a:custGeom>
              <a:avLst/>
              <a:gdLst/>
              <a:ahLst/>
              <a:rect l="l" t="t" r="r" b="b"/>
              <a:pathLst>
                <a:path w="1967" h="1388">
                  <a:moveTo>
                    <a:pt x="1337" y="87"/>
                  </a:moveTo>
                  <a:lnTo>
                    <a:pt x="1370" y="104"/>
                  </a:lnTo>
                  <a:lnTo>
                    <a:pt x="1395" y="104"/>
                  </a:lnTo>
                  <a:lnTo>
                    <a:pt x="1425" y="71"/>
                  </a:lnTo>
                  <a:lnTo>
                    <a:pt x="1425" y="65"/>
                  </a:lnTo>
                  <a:lnTo>
                    <a:pt x="1482" y="153"/>
                  </a:lnTo>
                  <a:lnTo>
                    <a:pt x="1482" y="183"/>
                  </a:lnTo>
                  <a:lnTo>
                    <a:pt x="1499" y="200"/>
                  </a:lnTo>
                  <a:lnTo>
                    <a:pt x="1729" y="104"/>
                  </a:lnTo>
                  <a:lnTo>
                    <a:pt x="1745" y="104"/>
                  </a:lnTo>
                  <a:lnTo>
                    <a:pt x="1658" y="208"/>
                  </a:lnTo>
                  <a:lnTo>
                    <a:pt x="1658" y="238"/>
                  </a:lnTo>
                  <a:lnTo>
                    <a:pt x="1759" y="288"/>
                  </a:lnTo>
                  <a:lnTo>
                    <a:pt x="1904" y="417"/>
                  </a:lnTo>
                  <a:lnTo>
                    <a:pt x="1967" y="535"/>
                  </a:lnTo>
                  <a:lnTo>
                    <a:pt x="1962" y="936"/>
                  </a:lnTo>
                  <a:lnTo>
                    <a:pt x="1855" y="1246"/>
                  </a:lnTo>
                  <a:lnTo>
                    <a:pt x="1800" y="1342"/>
                  </a:lnTo>
                  <a:lnTo>
                    <a:pt x="1754" y="1383"/>
                  </a:lnTo>
                  <a:lnTo>
                    <a:pt x="1745" y="1388"/>
                  </a:lnTo>
                  <a:lnTo>
                    <a:pt x="1704" y="1237"/>
                  </a:lnTo>
                  <a:lnTo>
                    <a:pt x="1729" y="1128"/>
                  </a:lnTo>
                  <a:lnTo>
                    <a:pt x="1721" y="1032"/>
                  </a:lnTo>
                  <a:lnTo>
                    <a:pt x="1696" y="982"/>
                  </a:lnTo>
                  <a:lnTo>
                    <a:pt x="1586" y="911"/>
                  </a:lnTo>
                  <a:lnTo>
                    <a:pt x="1433" y="911"/>
                  </a:lnTo>
                  <a:lnTo>
                    <a:pt x="1348" y="960"/>
                  </a:lnTo>
                  <a:lnTo>
                    <a:pt x="1277" y="1032"/>
                  </a:lnTo>
                  <a:lnTo>
                    <a:pt x="1282" y="848"/>
                  </a:lnTo>
                  <a:lnTo>
                    <a:pt x="1252" y="793"/>
                  </a:lnTo>
                  <a:lnTo>
                    <a:pt x="1115" y="735"/>
                  </a:lnTo>
                  <a:lnTo>
                    <a:pt x="932" y="735"/>
                  </a:lnTo>
                  <a:lnTo>
                    <a:pt x="710" y="807"/>
                  </a:lnTo>
                  <a:lnTo>
                    <a:pt x="526" y="949"/>
                  </a:lnTo>
                  <a:lnTo>
                    <a:pt x="405" y="1183"/>
                  </a:lnTo>
                  <a:lnTo>
                    <a:pt x="318" y="1087"/>
                  </a:lnTo>
                  <a:lnTo>
                    <a:pt x="318" y="1062"/>
                  </a:lnTo>
                  <a:lnTo>
                    <a:pt x="310" y="1054"/>
                  </a:lnTo>
                  <a:lnTo>
                    <a:pt x="288" y="1054"/>
                  </a:lnTo>
                  <a:lnTo>
                    <a:pt x="175" y="1199"/>
                  </a:lnTo>
                  <a:lnTo>
                    <a:pt x="142" y="1141"/>
                  </a:lnTo>
                  <a:lnTo>
                    <a:pt x="126" y="1007"/>
                  </a:lnTo>
                  <a:lnTo>
                    <a:pt x="134" y="982"/>
                  </a:lnTo>
                  <a:lnTo>
                    <a:pt x="134" y="960"/>
                  </a:lnTo>
                  <a:lnTo>
                    <a:pt x="121" y="941"/>
                  </a:lnTo>
                  <a:lnTo>
                    <a:pt x="63" y="974"/>
                  </a:lnTo>
                  <a:lnTo>
                    <a:pt x="8" y="1045"/>
                  </a:lnTo>
                  <a:lnTo>
                    <a:pt x="0" y="1054"/>
                  </a:lnTo>
                  <a:lnTo>
                    <a:pt x="0" y="894"/>
                  </a:lnTo>
                  <a:lnTo>
                    <a:pt x="38" y="606"/>
                  </a:lnTo>
                  <a:lnTo>
                    <a:pt x="126" y="430"/>
                  </a:lnTo>
                  <a:lnTo>
                    <a:pt x="247" y="312"/>
                  </a:lnTo>
                  <a:lnTo>
                    <a:pt x="268" y="312"/>
                  </a:lnTo>
                  <a:lnTo>
                    <a:pt x="342" y="249"/>
                  </a:lnTo>
                  <a:lnTo>
                    <a:pt x="447" y="200"/>
                  </a:lnTo>
                  <a:lnTo>
                    <a:pt x="485" y="142"/>
                  </a:lnTo>
                  <a:lnTo>
                    <a:pt x="710" y="32"/>
                  </a:lnTo>
                  <a:lnTo>
                    <a:pt x="852" y="0"/>
                  </a:lnTo>
                  <a:lnTo>
                    <a:pt x="1115" y="11"/>
                  </a:lnTo>
                  <a:lnTo>
                    <a:pt x="1337" y="87"/>
                  </a:lnTo>
                  <a:close/>
                </a:path>
              </a:pathLst>
            </a:custGeom>
            <a:solidFill>
              <a:srgbClr val="a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28600" y="5767560"/>
              <a:ext cx="637920" cy="523080"/>
            </a:xfrm>
            <a:custGeom>
              <a:avLst/>
              <a:gdLst/>
              <a:ahLst/>
              <a:rect l="l" t="t" r="r" b="b"/>
              <a:pathLst>
                <a:path w="1362" h="1255">
                  <a:moveTo>
                    <a:pt x="877" y="66"/>
                  </a:moveTo>
                  <a:lnTo>
                    <a:pt x="899" y="137"/>
                  </a:lnTo>
                  <a:lnTo>
                    <a:pt x="894" y="233"/>
                  </a:lnTo>
                  <a:lnTo>
                    <a:pt x="886" y="305"/>
                  </a:lnTo>
                  <a:lnTo>
                    <a:pt x="899" y="321"/>
                  </a:lnTo>
                  <a:lnTo>
                    <a:pt x="924" y="321"/>
                  </a:lnTo>
                  <a:lnTo>
                    <a:pt x="1091" y="184"/>
                  </a:lnTo>
                  <a:lnTo>
                    <a:pt x="1157" y="170"/>
                  </a:lnTo>
                  <a:lnTo>
                    <a:pt x="1250" y="203"/>
                  </a:lnTo>
                  <a:lnTo>
                    <a:pt x="1332" y="288"/>
                  </a:lnTo>
                  <a:lnTo>
                    <a:pt x="1340" y="321"/>
                  </a:lnTo>
                  <a:lnTo>
                    <a:pt x="1340" y="351"/>
                  </a:lnTo>
                  <a:lnTo>
                    <a:pt x="1220" y="288"/>
                  </a:lnTo>
                  <a:lnTo>
                    <a:pt x="1116" y="305"/>
                  </a:lnTo>
                  <a:lnTo>
                    <a:pt x="995" y="376"/>
                  </a:lnTo>
                  <a:lnTo>
                    <a:pt x="973" y="409"/>
                  </a:lnTo>
                  <a:lnTo>
                    <a:pt x="973" y="417"/>
                  </a:lnTo>
                  <a:lnTo>
                    <a:pt x="981" y="426"/>
                  </a:lnTo>
                  <a:lnTo>
                    <a:pt x="1107" y="346"/>
                  </a:lnTo>
                  <a:lnTo>
                    <a:pt x="1149" y="384"/>
                  </a:lnTo>
                  <a:lnTo>
                    <a:pt x="1149" y="417"/>
                  </a:lnTo>
                  <a:lnTo>
                    <a:pt x="1173" y="442"/>
                  </a:lnTo>
                  <a:lnTo>
                    <a:pt x="1195" y="434"/>
                  </a:lnTo>
                  <a:lnTo>
                    <a:pt x="1212" y="417"/>
                  </a:lnTo>
                  <a:lnTo>
                    <a:pt x="1195" y="360"/>
                  </a:lnTo>
                  <a:lnTo>
                    <a:pt x="1195" y="346"/>
                  </a:lnTo>
                  <a:lnTo>
                    <a:pt x="1187" y="338"/>
                  </a:lnTo>
                  <a:lnTo>
                    <a:pt x="1269" y="371"/>
                  </a:lnTo>
                  <a:lnTo>
                    <a:pt x="1332" y="426"/>
                  </a:lnTo>
                  <a:lnTo>
                    <a:pt x="1299" y="497"/>
                  </a:lnTo>
                  <a:lnTo>
                    <a:pt x="1220" y="544"/>
                  </a:lnTo>
                  <a:lnTo>
                    <a:pt x="1220" y="560"/>
                  </a:lnTo>
                  <a:lnTo>
                    <a:pt x="1236" y="577"/>
                  </a:lnTo>
                  <a:lnTo>
                    <a:pt x="1316" y="519"/>
                  </a:lnTo>
                  <a:lnTo>
                    <a:pt x="1346" y="585"/>
                  </a:lnTo>
                  <a:lnTo>
                    <a:pt x="1362" y="760"/>
                  </a:lnTo>
                  <a:lnTo>
                    <a:pt x="1316" y="961"/>
                  </a:lnTo>
                  <a:lnTo>
                    <a:pt x="1203" y="1082"/>
                  </a:lnTo>
                  <a:lnTo>
                    <a:pt x="1053" y="1200"/>
                  </a:lnTo>
                  <a:lnTo>
                    <a:pt x="899" y="1255"/>
                  </a:lnTo>
                  <a:lnTo>
                    <a:pt x="614" y="1255"/>
                  </a:lnTo>
                  <a:lnTo>
                    <a:pt x="464" y="1216"/>
                  </a:lnTo>
                  <a:lnTo>
                    <a:pt x="321" y="1120"/>
                  </a:lnTo>
                  <a:lnTo>
                    <a:pt x="209" y="1016"/>
                  </a:lnTo>
                  <a:lnTo>
                    <a:pt x="190" y="986"/>
                  </a:lnTo>
                  <a:lnTo>
                    <a:pt x="190" y="969"/>
                  </a:lnTo>
                  <a:lnTo>
                    <a:pt x="280" y="975"/>
                  </a:lnTo>
                  <a:lnTo>
                    <a:pt x="392" y="1071"/>
                  </a:lnTo>
                  <a:lnTo>
                    <a:pt x="488" y="1071"/>
                  </a:lnTo>
                  <a:lnTo>
                    <a:pt x="631" y="1016"/>
                  </a:lnTo>
                  <a:lnTo>
                    <a:pt x="694" y="1024"/>
                  </a:lnTo>
                  <a:lnTo>
                    <a:pt x="710" y="1057"/>
                  </a:lnTo>
                  <a:lnTo>
                    <a:pt x="798" y="1104"/>
                  </a:lnTo>
                  <a:lnTo>
                    <a:pt x="828" y="1087"/>
                  </a:lnTo>
                  <a:lnTo>
                    <a:pt x="853" y="1062"/>
                  </a:lnTo>
                  <a:lnTo>
                    <a:pt x="844" y="1024"/>
                  </a:lnTo>
                  <a:lnTo>
                    <a:pt x="803" y="991"/>
                  </a:lnTo>
                  <a:lnTo>
                    <a:pt x="614" y="986"/>
                  </a:lnTo>
                  <a:lnTo>
                    <a:pt x="488" y="1040"/>
                  </a:lnTo>
                  <a:lnTo>
                    <a:pt x="431" y="1040"/>
                  </a:lnTo>
                  <a:lnTo>
                    <a:pt x="321" y="953"/>
                  </a:lnTo>
                  <a:lnTo>
                    <a:pt x="247" y="936"/>
                  </a:lnTo>
                  <a:lnTo>
                    <a:pt x="96" y="914"/>
                  </a:lnTo>
                  <a:lnTo>
                    <a:pt x="42" y="889"/>
                  </a:lnTo>
                  <a:lnTo>
                    <a:pt x="0" y="807"/>
                  </a:lnTo>
                  <a:lnTo>
                    <a:pt x="22" y="736"/>
                  </a:lnTo>
                  <a:lnTo>
                    <a:pt x="96" y="648"/>
                  </a:lnTo>
                  <a:lnTo>
                    <a:pt x="63" y="530"/>
                  </a:lnTo>
                  <a:lnTo>
                    <a:pt x="176" y="280"/>
                  </a:lnTo>
                  <a:lnTo>
                    <a:pt x="214" y="203"/>
                  </a:lnTo>
                  <a:lnTo>
                    <a:pt x="368" y="82"/>
                  </a:lnTo>
                  <a:lnTo>
                    <a:pt x="581" y="0"/>
                  </a:lnTo>
                  <a:lnTo>
                    <a:pt x="765" y="17"/>
                  </a:lnTo>
                  <a:lnTo>
                    <a:pt x="877" y="66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34080" y="5864760"/>
              <a:ext cx="152640" cy="43560"/>
            </a:xfrm>
            <a:custGeom>
              <a:avLst/>
              <a:gdLst/>
              <a:ahLst/>
              <a:rect l="l" t="t" r="r" b="b"/>
              <a:pathLst>
                <a:path w="326" h="105">
                  <a:moveTo>
                    <a:pt x="326" y="72"/>
                  </a:moveTo>
                  <a:lnTo>
                    <a:pt x="285" y="72"/>
                  </a:lnTo>
                  <a:lnTo>
                    <a:pt x="230" y="42"/>
                  </a:lnTo>
                  <a:lnTo>
                    <a:pt x="96" y="42"/>
                  </a:lnTo>
                  <a:lnTo>
                    <a:pt x="14" y="97"/>
                  </a:lnTo>
                  <a:lnTo>
                    <a:pt x="6" y="105"/>
                  </a:lnTo>
                  <a:lnTo>
                    <a:pt x="0" y="105"/>
                  </a:lnTo>
                  <a:lnTo>
                    <a:pt x="22" y="64"/>
                  </a:lnTo>
                  <a:lnTo>
                    <a:pt x="151" y="0"/>
                  </a:lnTo>
                  <a:lnTo>
                    <a:pt x="293" y="25"/>
                  </a:lnTo>
                  <a:lnTo>
                    <a:pt x="32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75960" y="5911920"/>
              <a:ext cx="246600" cy="678960"/>
            </a:xfrm>
            <a:custGeom>
              <a:avLst/>
              <a:gdLst/>
              <a:ahLst/>
              <a:rect l="l" t="t" r="r" b="b"/>
              <a:pathLst>
                <a:path w="527" h="1628">
                  <a:moveTo>
                    <a:pt x="359" y="184"/>
                  </a:moveTo>
                  <a:lnTo>
                    <a:pt x="368" y="263"/>
                  </a:lnTo>
                  <a:lnTo>
                    <a:pt x="384" y="294"/>
                  </a:lnTo>
                  <a:lnTo>
                    <a:pt x="302" y="414"/>
                  </a:lnTo>
                  <a:lnTo>
                    <a:pt x="302" y="494"/>
                  </a:lnTo>
                  <a:lnTo>
                    <a:pt x="335" y="549"/>
                  </a:lnTo>
                  <a:lnTo>
                    <a:pt x="368" y="582"/>
                  </a:lnTo>
                  <a:lnTo>
                    <a:pt x="461" y="615"/>
                  </a:lnTo>
                  <a:lnTo>
                    <a:pt x="502" y="703"/>
                  </a:lnTo>
                  <a:lnTo>
                    <a:pt x="527" y="716"/>
                  </a:lnTo>
                  <a:lnTo>
                    <a:pt x="510" y="966"/>
                  </a:lnTo>
                  <a:lnTo>
                    <a:pt x="439" y="1405"/>
                  </a:lnTo>
                  <a:lnTo>
                    <a:pt x="414" y="1603"/>
                  </a:lnTo>
                  <a:lnTo>
                    <a:pt x="414" y="1628"/>
                  </a:lnTo>
                  <a:lnTo>
                    <a:pt x="168" y="1485"/>
                  </a:lnTo>
                  <a:lnTo>
                    <a:pt x="72" y="1452"/>
                  </a:lnTo>
                  <a:lnTo>
                    <a:pt x="0" y="1397"/>
                  </a:lnTo>
                  <a:lnTo>
                    <a:pt x="39" y="1134"/>
                  </a:lnTo>
                  <a:lnTo>
                    <a:pt x="47" y="996"/>
                  </a:lnTo>
                  <a:lnTo>
                    <a:pt x="72" y="884"/>
                  </a:lnTo>
                  <a:lnTo>
                    <a:pt x="72" y="807"/>
                  </a:lnTo>
                  <a:lnTo>
                    <a:pt x="126" y="543"/>
                  </a:lnTo>
                  <a:lnTo>
                    <a:pt x="143" y="310"/>
                  </a:lnTo>
                  <a:lnTo>
                    <a:pt x="168" y="206"/>
                  </a:lnTo>
                  <a:lnTo>
                    <a:pt x="168" y="151"/>
                  </a:lnTo>
                  <a:lnTo>
                    <a:pt x="192" y="143"/>
                  </a:lnTo>
                  <a:lnTo>
                    <a:pt x="263" y="0"/>
                  </a:lnTo>
                  <a:lnTo>
                    <a:pt x="373" y="126"/>
                  </a:lnTo>
                  <a:lnTo>
                    <a:pt x="359" y="184"/>
                  </a:lnTo>
                  <a:close/>
                </a:path>
              </a:pathLst>
            </a:custGeom>
            <a:solidFill>
              <a:srgbClr val="de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20200" y="6018120"/>
              <a:ext cx="29520" cy="52920"/>
            </a:xfrm>
            <a:custGeom>
              <a:avLst/>
              <a:gdLst/>
              <a:ahLst/>
              <a:rect l="l" t="t" r="r" b="b"/>
              <a:pathLst>
                <a:path w="63" h="127">
                  <a:moveTo>
                    <a:pt x="39" y="110"/>
                  </a:moveTo>
                  <a:lnTo>
                    <a:pt x="25" y="127"/>
                  </a:lnTo>
                  <a:lnTo>
                    <a:pt x="0" y="127"/>
                  </a:lnTo>
                  <a:lnTo>
                    <a:pt x="47" y="47"/>
                  </a:lnTo>
                  <a:lnTo>
                    <a:pt x="63" y="0"/>
                  </a:lnTo>
                  <a:lnTo>
                    <a:pt x="63" y="63"/>
                  </a:lnTo>
                  <a:lnTo>
                    <a:pt x="39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07440" y="6111360"/>
              <a:ext cx="36720" cy="2700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9" y="33"/>
                  </a:moveTo>
                  <a:lnTo>
                    <a:pt x="79" y="54"/>
                  </a:lnTo>
                  <a:lnTo>
                    <a:pt x="41" y="65"/>
                  </a:lnTo>
                  <a:lnTo>
                    <a:pt x="22" y="65"/>
                  </a:lnTo>
                  <a:lnTo>
                    <a:pt x="0" y="41"/>
                  </a:lnTo>
                  <a:lnTo>
                    <a:pt x="8" y="8"/>
                  </a:lnTo>
                  <a:lnTo>
                    <a:pt x="33" y="0"/>
                  </a:lnTo>
                  <a:lnTo>
                    <a:pt x="71" y="16"/>
                  </a:lnTo>
                  <a:lnTo>
                    <a:pt x="7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17840" y="6220800"/>
              <a:ext cx="131040" cy="133920"/>
            </a:xfrm>
            <a:custGeom>
              <a:avLst/>
              <a:gdLst/>
              <a:ahLst/>
              <a:rect l="l" t="t" r="r" b="b"/>
              <a:pathLst>
                <a:path w="280" h="321">
                  <a:moveTo>
                    <a:pt x="280" y="113"/>
                  </a:moveTo>
                  <a:lnTo>
                    <a:pt x="272" y="184"/>
                  </a:lnTo>
                  <a:lnTo>
                    <a:pt x="200" y="272"/>
                  </a:lnTo>
                  <a:lnTo>
                    <a:pt x="143" y="310"/>
                  </a:lnTo>
                  <a:lnTo>
                    <a:pt x="105" y="321"/>
                  </a:lnTo>
                  <a:lnTo>
                    <a:pt x="80" y="321"/>
                  </a:lnTo>
                  <a:lnTo>
                    <a:pt x="17" y="209"/>
                  </a:lnTo>
                  <a:lnTo>
                    <a:pt x="0" y="154"/>
                  </a:lnTo>
                  <a:lnTo>
                    <a:pt x="118" y="80"/>
                  </a:lnTo>
                  <a:lnTo>
                    <a:pt x="206" y="0"/>
                  </a:lnTo>
                  <a:lnTo>
                    <a:pt x="231" y="0"/>
                  </a:lnTo>
                  <a:lnTo>
                    <a:pt x="280" y="113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84040" y="6228000"/>
              <a:ext cx="162000" cy="355680"/>
            </a:xfrm>
            <a:custGeom>
              <a:avLst/>
              <a:gdLst/>
              <a:ahLst/>
              <a:rect l="l" t="t" r="r" b="b"/>
              <a:pathLst>
                <a:path w="346" h="853">
                  <a:moveTo>
                    <a:pt x="313" y="485"/>
                  </a:moveTo>
                  <a:lnTo>
                    <a:pt x="274" y="719"/>
                  </a:lnTo>
                  <a:lnTo>
                    <a:pt x="263" y="741"/>
                  </a:lnTo>
                  <a:lnTo>
                    <a:pt x="263" y="765"/>
                  </a:lnTo>
                  <a:lnTo>
                    <a:pt x="72" y="831"/>
                  </a:lnTo>
                  <a:lnTo>
                    <a:pt x="17" y="853"/>
                  </a:lnTo>
                  <a:lnTo>
                    <a:pt x="0" y="853"/>
                  </a:lnTo>
                  <a:lnTo>
                    <a:pt x="11" y="790"/>
                  </a:lnTo>
                  <a:lnTo>
                    <a:pt x="11" y="741"/>
                  </a:lnTo>
                  <a:lnTo>
                    <a:pt x="72" y="384"/>
                  </a:lnTo>
                  <a:lnTo>
                    <a:pt x="121" y="0"/>
                  </a:lnTo>
                  <a:lnTo>
                    <a:pt x="346" y="151"/>
                  </a:lnTo>
                  <a:lnTo>
                    <a:pt x="313" y="485"/>
                  </a:lnTo>
                  <a:close/>
                </a:path>
              </a:pathLst>
            </a:custGeom>
            <a:solidFill>
              <a:srgbClr val="6a3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206680" y="6231600"/>
              <a:ext cx="717480" cy="525240"/>
            </a:xfrm>
            <a:custGeom>
              <a:avLst/>
              <a:gdLst/>
              <a:ahLst/>
              <a:rect l="l" t="t" r="r" b="b"/>
              <a:pathLst>
                <a:path w="1532" h="1260">
                  <a:moveTo>
                    <a:pt x="334" y="16"/>
                  </a:moveTo>
                  <a:lnTo>
                    <a:pt x="304" y="71"/>
                  </a:lnTo>
                  <a:lnTo>
                    <a:pt x="296" y="129"/>
                  </a:lnTo>
                  <a:lnTo>
                    <a:pt x="351" y="159"/>
                  </a:lnTo>
                  <a:lnTo>
                    <a:pt x="384" y="159"/>
                  </a:lnTo>
                  <a:lnTo>
                    <a:pt x="384" y="280"/>
                  </a:lnTo>
                  <a:lnTo>
                    <a:pt x="438" y="406"/>
                  </a:lnTo>
                  <a:lnTo>
                    <a:pt x="416" y="573"/>
                  </a:lnTo>
                  <a:lnTo>
                    <a:pt x="660" y="733"/>
                  </a:lnTo>
                  <a:lnTo>
                    <a:pt x="773" y="774"/>
                  </a:lnTo>
                  <a:lnTo>
                    <a:pt x="964" y="900"/>
                  </a:lnTo>
                  <a:lnTo>
                    <a:pt x="1077" y="870"/>
                  </a:lnTo>
                  <a:lnTo>
                    <a:pt x="1140" y="829"/>
                  </a:lnTo>
                  <a:lnTo>
                    <a:pt x="1348" y="766"/>
                  </a:lnTo>
                  <a:lnTo>
                    <a:pt x="1395" y="733"/>
                  </a:lnTo>
                  <a:lnTo>
                    <a:pt x="1419" y="741"/>
                  </a:lnTo>
                  <a:lnTo>
                    <a:pt x="1474" y="845"/>
                  </a:lnTo>
                  <a:lnTo>
                    <a:pt x="1532" y="1037"/>
                  </a:lnTo>
                  <a:lnTo>
                    <a:pt x="1365" y="1125"/>
                  </a:lnTo>
                  <a:lnTo>
                    <a:pt x="1211" y="1230"/>
                  </a:lnTo>
                  <a:lnTo>
                    <a:pt x="1091" y="1260"/>
                  </a:lnTo>
                  <a:lnTo>
                    <a:pt x="964" y="1221"/>
                  </a:lnTo>
                  <a:lnTo>
                    <a:pt x="614" y="996"/>
                  </a:lnTo>
                  <a:lnTo>
                    <a:pt x="501" y="958"/>
                  </a:lnTo>
                  <a:lnTo>
                    <a:pt x="438" y="900"/>
                  </a:lnTo>
                  <a:lnTo>
                    <a:pt x="367" y="862"/>
                  </a:lnTo>
                  <a:lnTo>
                    <a:pt x="279" y="845"/>
                  </a:lnTo>
                  <a:lnTo>
                    <a:pt x="112" y="862"/>
                  </a:lnTo>
                  <a:lnTo>
                    <a:pt x="88" y="853"/>
                  </a:lnTo>
                  <a:lnTo>
                    <a:pt x="41" y="799"/>
                  </a:lnTo>
                  <a:lnTo>
                    <a:pt x="0" y="686"/>
                  </a:lnTo>
                  <a:lnTo>
                    <a:pt x="8" y="606"/>
                  </a:lnTo>
                  <a:lnTo>
                    <a:pt x="33" y="543"/>
                  </a:lnTo>
                  <a:lnTo>
                    <a:pt x="16" y="494"/>
                  </a:lnTo>
                  <a:lnTo>
                    <a:pt x="8" y="488"/>
                  </a:lnTo>
                  <a:lnTo>
                    <a:pt x="8" y="398"/>
                  </a:lnTo>
                  <a:lnTo>
                    <a:pt x="66" y="304"/>
                  </a:lnTo>
                  <a:lnTo>
                    <a:pt x="96" y="263"/>
                  </a:lnTo>
                  <a:lnTo>
                    <a:pt x="137" y="143"/>
                  </a:lnTo>
                  <a:lnTo>
                    <a:pt x="184" y="118"/>
                  </a:lnTo>
                  <a:lnTo>
                    <a:pt x="208" y="129"/>
                  </a:lnTo>
                  <a:lnTo>
                    <a:pt x="225" y="129"/>
                  </a:lnTo>
                  <a:lnTo>
                    <a:pt x="208" y="192"/>
                  </a:lnTo>
                  <a:lnTo>
                    <a:pt x="214" y="200"/>
                  </a:lnTo>
                  <a:lnTo>
                    <a:pt x="233" y="200"/>
                  </a:lnTo>
                  <a:lnTo>
                    <a:pt x="271" y="129"/>
                  </a:lnTo>
                  <a:lnTo>
                    <a:pt x="296" y="33"/>
                  </a:lnTo>
                  <a:lnTo>
                    <a:pt x="351" y="0"/>
                  </a:lnTo>
                  <a:lnTo>
                    <a:pt x="384" y="0"/>
                  </a:lnTo>
                  <a:lnTo>
                    <a:pt x="334" y="16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363280" y="6248520"/>
              <a:ext cx="33480" cy="3636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66" y="71"/>
                  </a:moveTo>
                  <a:lnTo>
                    <a:pt x="66" y="77"/>
                  </a:lnTo>
                  <a:lnTo>
                    <a:pt x="50" y="88"/>
                  </a:lnTo>
                  <a:lnTo>
                    <a:pt x="0" y="71"/>
                  </a:lnTo>
                  <a:lnTo>
                    <a:pt x="33" y="0"/>
                  </a:lnTo>
                  <a:lnTo>
                    <a:pt x="72" y="14"/>
                  </a:lnTo>
                  <a:lnTo>
                    <a:pt x="66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73280" y="6271560"/>
              <a:ext cx="202680" cy="113400"/>
            </a:xfrm>
            <a:custGeom>
              <a:avLst/>
              <a:gdLst/>
              <a:ahLst/>
              <a:rect l="l" t="t" r="r" b="b"/>
              <a:pathLst>
                <a:path w="433" h="272">
                  <a:moveTo>
                    <a:pt x="392" y="112"/>
                  </a:moveTo>
                  <a:lnTo>
                    <a:pt x="422" y="151"/>
                  </a:lnTo>
                  <a:lnTo>
                    <a:pt x="433" y="159"/>
                  </a:lnTo>
                  <a:lnTo>
                    <a:pt x="170" y="272"/>
                  </a:lnTo>
                  <a:lnTo>
                    <a:pt x="66" y="272"/>
                  </a:lnTo>
                  <a:lnTo>
                    <a:pt x="17" y="247"/>
                  </a:lnTo>
                  <a:lnTo>
                    <a:pt x="0" y="247"/>
                  </a:lnTo>
                  <a:lnTo>
                    <a:pt x="96" y="189"/>
                  </a:lnTo>
                  <a:lnTo>
                    <a:pt x="200" y="71"/>
                  </a:lnTo>
                  <a:lnTo>
                    <a:pt x="217" y="0"/>
                  </a:lnTo>
                  <a:lnTo>
                    <a:pt x="337" y="88"/>
                  </a:lnTo>
                  <a:lnTo>
                    <a:pt x="392" y="112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834520" y="6327360"/>
              <a:ext cx="260280" cy="203760"/>
            </a:xfrm>
            <a:custGeom>
              <a:avLst/>
              <a:gdLst/>
              <a:ahLst/>
              <a:rect l="l" t="t" r="r" b="b"/>
              <a:pathLst>
                <a:path w="556" h="489">
                  <a:moveTo>
                    <a:pt x="477" y="121"/>
                  </a:moveTo>
                  <a:lnTo>
                    <a:pt x="477" y="129"/>
                  </a:lnTo>
                  <a:lnTo>
                    <a:pt x="518" y="151"/>
                  </a:lnTo>
                  <a:lnTo>
                    <a:pt x="288" y="319"/>
                  </a:lnTo>
                  <a:lnTo>
                    <a:pt x="159" y="385"/>
                  </a:lnTo>
                  <a:lnTo>
                    <a:pt x="112" y="376"/>
                  </a:lnTo>
                  <a:lnTo>
                    <a:pt x="38" y="415"/>
                  </a:lnTo>
                  <a:lnTo>
                    <a:pt x="38" y="472"/>
                  </a:lnTo>
                  <a:lnTo>
                    <a:pt x="16" y="489"/>
                  </a:lnTo>
                  <a:lnTo>
                    <a:pt x="0" y="472"/>
                  </a:lnTo>
                  <a:lnTo>
                    <a:pt x="38" y="242"/>
                  </a:lnTo>
                  <a:lnTo>
                    <a:pt x="175" y="146"/>
                  </a:lnTo>
                  <a:lnTo>
                    <a:pt x="279" y="105"/>
                  </a:lnTo>
                  <a:lnTo>
                    <a:pt x="405" y="33"/>
                  </a:lnTo>
                  <a:lnTo>
                    <a:pt x="496" y="0"/>
                  </a:lnTo>
                  <a:lnTo>
                    <a:pt x="556" y="0"/>
                  </a:lnTo>
                  <a:lnTo>
                    <a:pt x="477" y="121"/>
                  </a:lnTo>
                  <a:close/>
                </a:path>
              </a:pathLst>
            </a:custGeom>
            <a:solidFill>
              <a:srgbClr val="8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084720" y="6345000"/>
              <a:ext cx="55080" cy="32760"/>
            </a:xfrm>
            <a:custGeom>
              <a:avLst/>
              <a:gdLst/>
              <a:ahLst/>
              <a:rect l="l" t="t" r="r" b="b"/>
              <a:pathLst>
                <a:path w="118" h="79">
                  <a:moveTo>
                    <a:pt x="110" y="46"/>
                  </a:moveTo>
                  <a:lnTo>
                    <a:pt x="118" y="54"/>
                  </a:lnTo>
                  <a:lnTo>
                    <a:pt x="22" y="79"/>
                  </a:lnTo>
                  <a:lnTo>
                    <a:pt x="17" y="71"/>
                  </a:lnTo>
                  <a:lnTo>
                    <a:pt x="0" y="71"/>
                  </a:lnTo>
                  <a:lnTo>
                    <a:pt x="63" y="0"/>
                  </a:lnTo>
                  <a:lnTo>
                    <a:pt x="88" y="8"/>
                  </a:lnTo>
                  <a:lnTo>
                    <a:pt x="110" y="4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75560" y="6360840"/>
              <a:ext cx="585000" cy="566640"/>
            </a:xfrm>
            <a:custGeom>
              <a:avLst/>
              <a:gdLst/>
              <a:ahLst/>
              <a:rect l="l" t="t" r="r" b="b"/>
              <a:pathLst>
                <a:path w="1249" h="1359">
                  <a:moveTo>
                    <a:pt x="1148" y="154"/>
                  </a:moveTo>
                  <a:lnTo>
                    <a:pt x="1189" y="274"/>
                  </a:lnTo>
                  <a:lnTo>
                    <a:pt x="1194" y="447"/>
                  </a:lnTo>
                  <a:lnTo>
                    <a:pt x="1131" y="736"/>
                  </a:lnTo>
                  <a:lnTo>
                    <a:pt x="1068" y="920"/>
                  </a:lnTo>
                  <a:lnTo>
                    <a:pt x="1076" y="1062"/>
                  </a:lnTo>
                  <a:lnTo>
                    <a:pt x="1107" y="1095"/>
                  </a:lnTo>
                  <a:lnTo>
                    <a:pt x="1139" y="1095"/>
                  </a:lnTo>
                  <a:lnTo>
                    <a:pt x="1164" y="1070"/>
                  </a:lnTo>
                  <a:lnTo>
                    <a:pt x="1139" y="961"/>
                  </a:lnTo>
                  <a:lnTo>
                    <a:pt x="1148" y="895"/>
                  </a:lnTo>
                  <a:lnTo>
                    <a:pt x="1148" y="870"/>
                  </a:lnTo>
                  <a:lnTo>
                    <a:pt x="1139" y="925"/>
                  </a:lnTo>
                  <a:lnTo>
                    <a:pt x="1164" y="950"/>
                  </a:lnTo>
                  <a:lnTo>
                    <a:pt x="1178" y="1007"/>
                  </a:lnTo>
                  <a:lnTo>
                    <a:pt x="1249" y="1191"/>
                  </a:lnTo>
                  <a:lnTo>
                    <a:pt x="1249" y="1263"/>
                  </a:lnTo>
                  <a:lnTo>
                    <a:pt x="1227" y="1309"/>
                  </a:lnTo>
                  <a:lnTo>
                    <a:pt x="1148" y="1334"/>
                  </a:lnTo>
                  <a:lnTo>
                    <a:pt x="1035" y="1334"/>
                  </a:lnTo>
                  <a:lnTo>
                    <a:pt x="772" y="1213"/>
                  </a:lnTo>
                  <a:lnTo>
                    <a:pt x="748" y="1230"/>
                  </a:lnTo>
                  <a:lnTo>
                    <a:pt x="748" y="1246"/>
                  </a:lnTo>
                  <a:lnTo>
                    <a:pt x="915" y="1342"/>
                  </a:lnTo>
                  <a:lnTo>
                    <a:pt x="605" y="1359"/>
                  </a:lnTo>
                  <a:lnTo>
                    <a:pt x="397" y="1318"/>
                  </a:lnTo>
                  <a:lnTo>
                    <a:pt x="238" y="1224"/>
                  </a:lnTo>
                  <a:lnTo>
                    <a:pt x="205" y="1230"/>
                  </a:lnTo>
                  <a:lnTo>
                    <a:pt x="200" y="1238"/>
                  </a:lnTo>
                  <a:lnTo>
                    <a:pt x="200" y="1254"/>
                  </a:lnTo>
                  <a:lnTo>
                    <a:pt x="271" y="1301"/>
                  </a:lnTo>
                  <a:lnTo>
                    <a:pt x="216" y="1326"/>
                  </a:lnTo>
                  <a:lnTo>
                    <a:pt x="120" y="1309"/>
                  </a:lnTo>
                  <a:lnTo>
                    <a:pt x="54" y="1238"/>
                  </a:lnTo>
                  <a:lnTo>
                    <a:pt x="24" y="1175"/>
                  </a:lnTo>
                  <a:lnTo>
                    <a:pt x="32" y="793"/>
                  </a:lnTo>
                  <a:lnTo>
                    <a:pt x="71" y="777"/>
                  </a:lnTo>
                  <a:lnTo>
                    <a:pt x="104" y="777"/>
                  </a:lnTo>
                  <a:lnTo>
                    <a:pt x="128" y="983"/>
                  </a:lnTo>
                  <a:lnTo>
                    <a:pt x="205" y="983"/>
                  </a:lnTo>
                  <a:lnTo>
                    <a:pt x="287" y="974"/>
                  </a:lnTo>
                  <a:lnTo>
                    <a:pt x="446" y="966"/>
                  </a:lnTo>
                  <a:lnTo>
                    <a:pt x="605" y="865"/>
                  </a:lnTo>
                  <a:lnTo>
                    <a:pt x="693" y="782"/>
                  </a:lnTo>
                  <a:lnTo>
                    <a:pt x="772" y="793"/>
                  </a:lnTo>
                  <a:lnTo>
                    <a:pt x="835" y="840"/>
                  </a:lnTo>
                  <a:lnTo>
                    <a:pt x="868" y="895"/>
                  </a:lnTo>
                  <a:lnTo>
                    <a:pt x="885" y="903"/>
                  </a:lnTo>
                  <a:lnTo>
                    <a:pt x="909" y="903"/>
                  </a:lnTo>
                  <a:lnTo>
                    <a:pt x="939" y="865"/>
                  </a:lnTo>
                  <a:lnTo>
                    <a:pt x="901" y="799"/>
                  </a:lnTo>
                  <a:lnTo>
                    <a:pt x="789" y="736"/>
                  </a:lnTo>
                  <a:lnTo>
                    <a:pt x="764" y="736"/>
                  </a:lnTo>
                  <a:lnTo>
                    <a:pt x="813" y="703"/>
                  </a:lnTo>
                  <a:lnTo>
                    <a:pt x="868" y="711"/>
                  </a:lnTo>
                  <a:lnTo>
                    <a:pt x="890" y="711"/>
                  </a:lnTo>
                  <a:lnTo>
                    <a:pt x="909" y="697"/>
                  </a:lnTo>
                  <a:lnTo>
                    <a:pt x="876" y="664"/>
                  </a:lnTo>
                  <a:lnTo>
                    <a:pt x="797" y="672"/>
                  </a:lnTo>
                  <a:lnTo>
                    <a:pt x="630" y="799"/>
                  </a:lnTo>
                  <a:lnTo>
                    <a:pt x="438" y="925"/>
                  </a:lnTo>
                  <a:lnTo>
                    <a:pt x="205" y="944"/>
                  </a:lnTo>
                  <a:lnTo>
                    <a:pt x="200" y="950"/>
                  </a:lnTo>
                  <a:lnTo>
                    <a:pt x="183" y="950"/>
                  </a:lnTo>
                  <a:lnTo>
                    <a:pt x="158" y="823"/>
                  </a:lnTo>
                  <a:lnTo>
                    <a:pt x="142" y="664"/>
                  </a:lnTo>
                  <a:lnTo>
                    <a:pt x="79" y="480"/>
                  </a:lnTo>
                  <a:lnTo>
                    <a:pt x="0" y="360"/>
                  </a:lnTo>
                  <a:lnTo>
                    <a:pt x="24" y="335"/>
                  </a:lnTo>
                  <a:lnTo>
                    <a:pt x="104" y="360"/>
                  </a:lnTo>
                  <a:lnTo>
                    <a:pt x="150" y="305"/>
                  </a:lnTo>
                  <a:lnTo>
                    <a:pt x="312" y="217"/>
                  </a:lnTo>
                  <a:lnTo>
                    <a:pt x="422" y="113"/>
                  </a:lnTo>
                  <a:lnTo>
                    <a:pt x="501" y="82"/>
                  </a:lnTo>
                  <a:lnTo>
                    <a:pt x="550" y="49"/>
                  </a:lnTo>
                  <a:lnTo>
                    <a:pt x="742" y="104"/>
                  </a:lnTo>
                  <a:lnTo>
                    <a:pt x="843" y="82"/>
                  </a:lnTo>
                  <a:lnTo>
                    <a:pt x="1019" y="0"/>
                  </a:lnTo>
                  <a:lnTo>
                    <a:pt x="1057" y="25"/>
                  </a:lnTo>
                  <a:lnTo>
                    <a:pt x="1148" y="154"/>
                  </a:lnTo>
                  <a:close/>
                </a:path>
              </a:pathLst>
            </a:custGeom>
            <a:solidFill>
              <a:srgbClr val="8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270760" y="6600960"/>
              <a:ext cx="123120" cy="106560"/>
            </a:xfrm>
            <a:custGeom>
              <a:avLst/>
              <a:gdLst/>
              <a:ahLst/>
              <a:rect l="l" t="t" r="r" b="b"/>
              <a:pathLst>
                <a:path w="263" h="256">
                  <a:moveTo>
                    <a:pt x="263" y="151"/>
                  </a:moveTo>
                  <a:lnTo>
                    <a:pt x="263" y="193"/>
                  </a:lnTo>
                  <a:lnTo>
                    <a:pt x="197" y="256"/>
                  </a:lnTo>
                  <a:lnTo>
                    <a:pt x="159" y="256"/>
                  </a:lnTo>
                  <a:lnTo>
                    <a:pt x="96" y="176"/>
                  </a:lnTo>
                  <a:lnTo>
                    <a:pt x="22" y="127"/>
                  </a:lnTo>
                  <a:lnTo>
                    <a:pt x="0" y="64"/>
                  </a:lnTo>
                  <a:lnTo>
                    <a:pt x="5" y="25"/>
                  </a:lnTo>
                  <a:lnTo>
                    <a:pt x="38" y="9"/>
                  </a:lnTo>
                  <a:lnTo>
                    <a:pt x="142" y="0"/>
                  </a:lnTo>
                  <a:lnTo>
                    <a:pt x="214" y="55"/>
                  </a:lnTo>
                  <a:lnTo>
                    <a:pt x="263" y="151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214240" y="6606720"/>
              <a:ext cx="235080" cy="939960"/>
            </a:xfrm>
            <a:custGeom>
              <a:avLst/>
              <a:gdLst/>
              <a:ahLst/>
              <a:rect l="l" t="t" r="r" b="b"/>
              <a:pathLst>
                <a:path w="502" h="2254">
                  <a:moveTo>
                    <a:pt x="464" y="96"/>
                  </a:moveTo>
                  <a:lnTo>
                    <a:pt x="502" y="113"/>
                  </a:lnTo>
                  <a:lnTo>
                    <a:pt x="485" y="275"/>
                  </a:lnTo>
                  <a:lnTo>
                    <a:pt x="455" y="467"/>
                  </a:lnTo>
                  <a:lnTo>
                    <a:pt x="280" y="1768"/>
                  </a:lnTo>
                  <a:lnTo>
                    <a:pt x="233" y="2149"/>
                  </a:lnTo>
                  <a:lnTo>
                    <a:pt x="159" y="2149"/>
                  </a:lnTo>
                  <a:lnTo>
                    <a:pt x="66" y="2199"/>
                  </a:lnTo>
                  <a:lnTo>
                    <a:pt x="17" y="2254"/>
                  </a:lnTo>
                  <a:lnTo>
                    <a:pt x="0" y="2166"/>
                  </a:lnTo>
                  <a:lnTo>
                    <a:pt x="42" y="1751"/>
                  </a:lnTo>
                  <a:lnTo>
                    <a:pt x="151" y="865"/>
                  </a:lnTo>
                  <a:lnTo>
                    <a:pt x="192" y="568"/>
                  </a:lnTo>
                  <a:lnTo>
                    <a:pt x="239" y="609"/>
                  </a:lnTo>
                  <a:lnTo>
                    <a:pt x="305" y="601"/>
                  </a:lnTo>
                  <a:lnTo>
                    <a:pt x="335" y="577"/>
                  </a:lnTo>
                  <a:lnTo>
                    <a:pt x="359" y="489"/>
                  </a:lnTo>
                  <a:lnTo>
                    <a:pt x="359" y="409"/>
                  </a:lnTo>
                  <a:lnTo>
                    <a:pt x="390" y="360"/>
                  </a:lnTo>
                  <a:lnTo>
                    <a:pt x="390" y="225"/>
                  </a:lnTo>
                  <a:lnTo>
                    <a:pt x="431" y="162"/>
                  </a:lnTo>
                  <a:lnTo>
                    <a:pt x="431" y="113"/>
                  </a:lnTo>
                  <a:lnTo>
                    <a:pt x="390" y="66"/>
                  </a:lnTo>
                  <a:lnTo>
                    <a:pt x="384" y="33"/>
                  </a:lnTo>
                  <a:lnTo>
                    <a:pt x="343" y="0"/>
                  </a:lnTo>
                  <a:lnTo>
                    <a:pt x="414" y="41"/>
                  </a:lnTo>
                  <a:lnTo>
                    <a:pt x="464" y="96"/>
                  </a:lnTo>
                  <a:close/>
                </a:path>
              </a:pathLst>
            </a:custGeom>
            <a:solidFill>
              <a:srgbClr val="b25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29800" y="6640920"/>
              <a:ext cx="52200" cy="5292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88" y="9"/>
                  </a:moveTo>
                  <a:lnTo>
                    <a:pt x="104" y="25"/>
                  </a:lnTo>
                  <a:lnTo>
                    <a:pt x="96" y="31"/>
                  </a:lnTo>
                  <a:lnTo>
                    <a:pt x="96" y="55"/>
                  </a:lnTo>
                  <a:lnTo>
                    <a:pt x="112" y="72"/>
                  </a:lnTo>
                  <a:lnTo>
                    <a:pt x="71" y="127"/>
                  </a:lnTo>
                  <a:lnTo>
                    <a:pt x="25" y="127"/>
                  </a:lnTo>
                  <a:lnTo>
                    <a:pt x="0" y="105"/>
                  </a:lnTo>
                  <a:lnTo>
                    <a:pt x="16" y="31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349240" y="6653880"/>
              <a:ext cx="10080" cy="30600"/>
            </a:xfrm>
            <a:custGeom>
              <a:avLst/>
              <a:gdLst/>
              <a:ahLst/>
              <a:rect l="l" t="t" r="r" b="b"/>
              <a:pathLst>
                <a:path w="22" h="74">
                  <a:moveTo>
                    <a:pt x="17" y="74"/>
                  </a:moveTo>
                  <a:lnTo>
                    <a:pt x="0" y="74"/>
                  </a:lnTo>
                  <a:lnTo>
                    <a:pt x="6" y="8"/>
                  </a:lnTo>
                  <a:lnTo>
                    <a:pt x="22" y="0"/>
                  </a:lnTo>
                  <a:lnTo>
                    <a:pt x="22" y="66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345280" y="6660720"/>
              <a:ext cx="305280" cy="863280"/>
            </a:xfrm>
            <a:custGeom>
              <a:avLst/>
              <a:gdLst/>
              <a:ahLst/>
              <a:rect l="l" t="t" r="r" b="b"/>
              <a:pathLst>
                <a:path w="652" h="2070">
                  <a:moveTo>
                    <a:pt x="638" y="231"/>
                  </a:moveTo>
                  <a:lnTo>
                    <a:pt x="652" y="264"/>
                  </a:lnTo>
                  <a:lnTo>
                    <a:pt x="581" y="607"/>
                  </a:lnTo>
                  <a:lnTo>
                    <a:pt x="573" y="695"/>
                  </a:lnTo>
                  <a:lnTo>
                    <a:pt x="405" y="1812"/>
                  </a:lnTo>
                  <a:lnTo>
                    <a:pt x="389" y="1987"/>
                  </a:lnTo>
                  <a:lnTo>
                    <a:pt x="230" y="1965"/>
                  </a:lnTo>
                  <a:lnTo>
                    <a:pt x="134" y="2004"/>
                  </a:lnTo>
                  <a:lnTo>
                    <a:pt x="79" y="2070"/>
                  </a:lnTo>
                  <a:lnTo>
                    <a:pt x="0" y="2037"/>
                  </a:lnTo>
                  <a:lnTo>
                    <a:pt x="8" y="1820"/>
                  </a:lnTo>
                  <a:lnTo>
                    <a:pt x="88" y="1197"/>
                  </a:lnTo>
                  <a:lnTo>
                    <a:pt x="120" y="1038"/>
                  </a:lnTo>
                  <a:lnTo>
                    <a:pt x="134" y="887"/>
                  </a:lnTo>
                  <a:lnTo>
                    <a:pt x="216" y="288"/>
                  </a:lnTo>
                  <a:lnTo>
                    <a:pt x="238" y="184"/>
                  </a:lnTo>
                  <a:lnTo>
                    <a:pt x="263" y="17"/>
                  </a:lnTo>
                  <a:lnTo>
                    <a:pt x="271" y="0"/>
                  </a:lnTo>
                  <a:lnTo>
                    <a:pt x="389" y="58"/>
                  </a:lnTo>
                  <a:lnTo>
                    <a:pt x="638" y="231"/>
                  </a:lnTo>
                  <a:close/>
                </a:path>
              </a:pathLst>
            </a:custGeom>
            <a:solidFill>
              <a:srgbClr val="de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267160" y="6670800"/>
              <a:ext cx="107640" cy="99360"/>
            </a:xfrm>
            <a:custGeom>
              <a:avLst/>
              <a:gdLst/>
              <a:ahLst/>
              <a:rect l="l" t="t" r="r" b="b"/>
              <a:pathLst>
                <a:path w="230" h="239">
                  <a:moveTo>
                    <a:pt x="126" y="110"/>
                  </a:moveTo>
                  <a:lnTo>
                    <a:pt x="134" y="192"/>
                  </a:lnTo>
                  <a:lnTo>
                    <a:pt x="159" y="206"/>
                  </a:lnTo>
                  <a:lnTo>
                    <a:pt x="181" y="206"/>
                  </a:lnTo>
                  <a:lnTo>
                    <a:pt x="230" y="143"/>
                  </a:lnTo>
                  <a:lnTo>
                    <a:pt x="222" y="143"/>
                  </a:lnTo>
                  <a:lnTo>
                    <a:pt x="222" y="121"/>
                  </a:lnTo>
                  <a:lnTo>
                    <a:pt x="230" y="121"/>
                  </a:lnTo>
                  <a:lnTo>
                    <a:pt x="230" y="217"/>
                  </a:lnTo>
                  <a:lnTo>
                    <a:pt x="216" y="230"/>
                  </a:lnTo>
                  <a:lnTo>
                    <a:pt x="205" y="239"/>
                  </a:lnTo>
                  <a:lnTo>
                    <a:pt x="134" y="206"/>
                  </a:lnTo>
                  <a:lnTo>
                    <a:pt x="30" y="134"/>
                  </a:lnTo>
                  <a:lnTo>
                    <a:pt x="0" y="33"/>
                  </a:lnTo>
                  <a:lnTo>
                    <a:pt x="13" y="0"/>
                  </a:lnTo>
                  <a:lnTo>
                    <a:pt x="85" y="63"/>
                  </a:lnTo>
                  <a:lnTo>
                    <a:pt x="126" y="110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345280" y="6723720"/>
              <a:ext cx="6480" cy="136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4" y="33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255280" y="6740640"/>
              <a:ext cx="103680" cy="10296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21" y="184"/>
                  </a:moveTo>
                  <a:lnTo>
                    <a:pt x="134" y="201"/>
                  </a:lnTo>
                  <a:lnTo>
                    <a:pt x="175" y="184"/>
                  </a:lnTo>
                  <a:lnTo>
                    <a:pt x="222" y="135"/>
                  </a:lnTo>
                  <a:lnTo>
                    <a:pt x="217" y="135"/>
                  </a:lnTo>
                  <a:lnTo>
                    <a:pt x="217" y="121"/>
                  </a:lnTo>
                  <a:lnTo>
                    <a:pt x="222" y="121"/>
                  </a:lnTo>
                  <a:lnTo>
                    <a:pt x="222" y="206"/>
                  </a:lnTo>
                  <a:lnTo>
                    <a:pt x="200" y="247"/>
                  </a:lnTo>
                  <a:lnTo>
                    <a:pt x="159" y="247"/>
                  </a:lnTo>
                  <a:lnTo>
                    <a:pt x="80" y="168"/>
                  </a:lnTo>
                  <a:lnTo>
                    <a:pt x="49" y="159"/>
                  </a:lnTo>
                  <a:lnTo>
                    <a:pt x="0" y="88"/>
                  </a:lnTo>
                  <a:lnTo>
                    <a:pt x="33" y="0"/>
                  </a:lnTo>
                  <a:lnTo>
                    <a:pt x="129" y="72"/>
                  </a:lnTo>
                  <a:lnTo>
                    <a:pt x="121" y="184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546880" y="6754320"/>
              <a:ext cx="238680" cy="821880"/>
            </a:xfrm>
            <a:custGeom>
              <a:avLst/>
              <a:gdLst/>
              <a:ahLst/>
              <a:rect l="l" t="t" r="r" b="b"/>
              <a:pathLst>
                <a:path w="510" h="1971">
                  <a:moveTo>
                    <a:pt x="477" y="184"/>
                  </a:moveTo>
                  <a:lnTo>
                    <a:pt x="447" y="428"/>
                  </a:lnTo>
                  <a:lnTo>
                    <a:pt x="414" y="670"/>
                  </a:lnTo>
                  <a:lnTo>
                    <a:pt x="414" y="766"/>
                  </a:lnTo>
                  <a:lnTo>
                    <a:pt x="351" y="1164"/>
                  </a:lnTo>
                  <a:lnTo>
                    <a:pt x="351" y="1244"/>
                  </a:lnTo>
                  <a:lnTo>
                    <a:pt x="334" y="1293"/>
                  </a:lnTo>
                  <a:lnTo>
                    <a:pt x="334" y="1381"/>
                  </a:lnTo>
                  <a:lnTo>
                    <a:pt x="288" y="1708"/>
                  </a:lnTo>
                  <a:lnTo>
                    <a:pt x="271" y="1941"/>
                  </a:lnTo>
                  <a:lnTo>
                    <a:pt x="263" y="1946"/>
                  </a:lnTo>
                  <a:lnTo>
                    <a:pt x="263" y="1971"/>
                  </a:lnTo>
                  <a:lnTo>
                    <a:pt x="151" y="1922"/>
                  </a:lnTo>
                  <a:lnTo>
                    <a:pt x="63" y="1941"/>
                  </a:lnTo>
                  <a:lnTo>
                    <a:pt x="41" y="1845"/>
                  </a:lnTo>
                  <a:lnTo>
                    <a:pt x="17" y="1812"/>
                  </a:lnTo>
                  <a:lnTo>
                    <a:pt x="0" y="1787"/>
                  </a:lnTo>
                  <a:lnTo>
                    <a:pt x="17" y="1540"/>
                  </a:lnTo>
                  <a:lnTo>
                    <a:pt x="63" y="1172"/>
                  </a:lnTo>
                  <a:lnTo>
                    <a:pt x="112" y="870"/>
                  </a:lnTo>
                  <a:lnTo>
                    <a:pt x="159" y="582"/>
                  </a:lnTo>
                  <a:lnTo>
                    <a:pt x="222" y="184"/>
                  </a:lnTo>
                  <a:lnTo>
                    <a:pt x="263" y="39"/>
                  </a:lnTo>
                  <a:lnTo>
                    <a:pt x="422" y="39"/>
                  </a:lnTo>
                  <a:lnTo>
                    <a:pt x="510" y="0"/>
                  </a:lnTo>
                  <a:lnTo>
                    <a:pt x="502" y="126"/>
                  </a:lnTo>
                  <a:lnTo>
                    <a:pt x="477" y="184"/>
                  </a:lnTo>
                  <a:close/>
                </a:path>
              </a:pathLst>
            </a:custGeom>
            <a:solidFill>
              <a:srgbClr val="6a3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29800" y="6780600"/>
              <a:ext cx="7200" cy="262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6" y="50"/>
                  </a:moveTo>
                  <a:lnTo>
                    <a:pt x="0" y="63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07160" y="6920280"/>
              <a:ext cx="705960" cy="453240"/>
            </a:xfrm>
            <a:custGeom>
              <a:avLst/>
              <a:gdLst/>
              <a:ahLst/>
              <a:rect l="l" t="t" r="r" b="b"/>
              <a:pathLst>
                <a:path w="1507" h="1087">
                  <a:moveTo>
                    <a:pt x="1022" y="50"/>
                  </a:moveTo>
                  <a:lnTo>
                    <a:pt x="1094" y="25"/>
                  </a:lnTo>
                  <a:lnTo>
                    <a:pt x="1261" y="41"/>
                  </a:lnTo>
                  <a:lnTo>
                    <a:pt x="1294" y="41"/>
                  </a:lnTo>
                  <a:lnTo>
                    <a:pt x="1299" y="30"/>
                  </a:lnTo>
                  <a:lnTo>
                    <a:pt x="1469" y="223"/>
                  </a:lnTo>
                  <a:lnTo>
                    <a:pt x="1507" y="319"/>
                  </a:lnTo>
                  <a:lnTo>
                    <a:pt x="1502" y="448"/>
                  </a:lnTo>
                  <a:lnTo>
                    <a:pt x="1420" y="607"/>
                  </a:lnTo>
                  <a:lnTo>
                    <a:pt x="1461" y="632"/>
                  </a:lnTo>
                  <a:lnTo>
                    <a:pt x="1477" y="887"/>
                  </a:lnTo>
                  <a:lnTo>
                    <a:pt x="1477" y="903"/>
                  </a:lnTo>
                  <a:lnTo>
                    <a:pt x="1214" y="1030"/>
                  </a:lnTo>
                  <a:lnTo>
                    <a:pt x="1102" y="1046"/>
                  </a:lnTo>
                  <a:lnTo>
                    <a:pt x="847" y="1087"/>
                  </a:lnTo>
                  <a:lnTo>
                    <a:pt x="672" y="1087"/>
                  </a:lnTo>
                  <a:lnTo>
                    <a:pt x="422" y="1021"/>
                  </a:lnTo>
                  <a:lnTo>
                    <a:pt x="392" y="966"/>
                  </a:lnTo>
                  <a:lnTo>
                    <a:pt x="368" y="728"/>
                  </a:lnTo>
                  <a:lnTo>
                    <a:pt x="417" y="305"/>
                  </a:lnTo>
                  <a:lnTo>
                    <a:pt x="384" y="305"/>
                  </a:lnTo>
                  <a:lnTo>
                    <a:pt x="351" y="415"/>
                  </a:lnTo>
                  <a:lnTo>
                    <a:pt x="321" y="791"/>
                  </a:lnTo>
                  <a:lnTo>
                    <a:pt x="337" y="950"/>
                  </a:lnTo>
                  <a:lnTo>
                    <a:pt x="50" y="887"/>
                  </a:lnTo>
                  <a:lnTo>
                    <a:pt x="0" y="815"/>
                  </a:lnTo>
                  <a:lnTo>
                    <a:pt x="17" y="623"/>
                  </a:lnTo>
                  <a:lnTo>
                    <a:pt x="50" y="497"/>
                  </a:lnTo>
                  <a:lnTo>
                    <a:pt x="74" y="384"/>
                  </a:lnTo>
                  <a:lnTo>
                    <a:pt x="137" y="176"/>
                  </a:lnTo>
                  <a:lnTo>
                    <a:pt x="217" y="41"/>
                  </a:lnTo>
                  <a:lnTo>
                    <a:pt x="250" y="17"/>
                  </a:lnTo>
                  <a:lnTo>
                    <a:pt x="409" y="17"/>
                  </a:lnTo>
                  <a:lnTo>
                    <a:pt x="433" y="0"/>
                  </a:lnTo>
                  <a:lnTo>
                    <a:pt x="663" y="63"/>
                  </a:lnTo>
                  <a:lnTo>
                    <a:pt x="1022" y="50"/>
                  </a:lnTo>
                  <a:close/>
                </a:path>
              </a:pathLst>
            </a:custGeom>
            <a:solidFill>
              <a:srgbClr val="828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926680" y="7327080"/>
              <a:ext cx="187200" cy="249120"/>
            </a:xfrm>
            <a:custGeom>
              <a:avLst/>
              <a:gdLst/>
              <a:ahLst/>
              <a:rect l="l" t="t" r="r" b="b"/>
              <a:pathLst>
                <a:path w="400" h="598">
                  <a:moveTo>
                    <a:pt x="113" y="71"/>
                  </a:moveTo>
                  <a:lnTo>
                    <a:pt x="233" y="126"/>
                  </a:lnTo>
                  <a:lnTo>
                    <a:pt x="354" y="151"/>
                  </a:lnTo>
                  <a:lnTo>
                    <a:pt x="376" y="557"/>
                  </a:lnTo>
                  <a:lnTo>
                    <a:pt x="400" y="598"/>
                  </a:lnTo>
                  <a:lnTo>
                    <a:pt x="299" y="590"/>
                  </a:lnTo>
                  <a:lnTo>
                    <a:pt x="167" y="535"/>
                  </a:lnTo>
                  <a:lnTo>
                    <a:pt x="107" y="477"/>
                  </a:lnTo>
                  <a:lnTo>
                    <a:pt x="66" y="455"/>
                  </a:lnTo>
                  <a:lnTo>
                    <a:pt x="25" y="359"/>
                  </a:lnTo>
                  <a:lnTo>
                    <a:pt x="11" y="120"/>
                  </a:lnTo>
                  <a:lnTo>
                    <a:pt x="0" y="0"/>
                  </a:lnTo>
                  <a:lnTo>
                    <a:pt x="91" y="24"/>
                  </a:lnTo>
                  <a:lnTo>
                    <a:pt x="113" y="71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14240" y="7363440"/>
              <a:ext cx="306720" cy="266760"/>
            </a:xfrm>
            <a:custGeom>
              <a:avLst/>
              <a:gdLst/>
              <a:ahLst/>
              <a:rect l="l" t="t" r="r" b="b"/>
              <a:pathLst>
                <a:path w="655" h="640">
                  <a:moveTo>
                    <a:pt x="644" y="503"/>
                  </a:moveTo>
                  <a:lnTo>
                    <a:pt x="644" y="527"/>
                  </a:lnTo>
                  <a:lnTo>
                    <a:pt x="655" y="536"/>
                  </a:lnTo>
                  <a:lnTo>
                    <a:pt x="526" y="607"/>
                  </a:lnTo>
                  <a:lnTo>
                    <a:pt x="359" y="640"/>
                  </a:lnTo>
                  <a:lnTo>
                    <a:pt x="214" y="629"/>
                  </a:lnTo>
                  <a:lnTo>
                    <a:pt x="184" y="599"/>
                  </a:lnTo>
                  <a:lnTo>
                    <a:pt x="184" y="582"/>
                  </a:lnTo>
                  <a:lnTo>
                    <a:pt x="222" y="582"/>
                  </a:lnTo>
                  <a:lnTo>
                    <a:pt x="233" y="574"/>
                  </a:lnTo>
                  <a:lnTo>
                    <a:pt x="192" y="544"/>
                  </a:lnTo>
                  <a:lnTo>
                    <a:pt x="104" y="536"/>
                  </a:lnTo>
                  <a:lnTo>
                    <a:pt x="55" y="503"/>
                  </a:lnTo>
                  <a:lnTo>
                    <a:pt x="17" y="431"/>
                  </a:lnTo>
                  <a:lnTo>
                    <a:pt x="0" y="97"/>
                  </a:lnTo>
                  <a:lnTo>
                    <a:pt x="0" y="72"/>
                  </a:lnTo>
                  <a:lnTo>
                    <a:pt x="318" y="55"/>
                  </a:lnTo>
                  <a:lnTo>
                    <a:pt x="535" y="9"/>
                  </a:lnTo>
                  <a:lnTo>
                    <a:pt x="559" y="0"/>
                  </a:lnTo>
                  <a:lnTo>
                    <a:pt x="567" y="327"/>
                  </a:lnTo>
                  <a:lnTo>
                    <a:pt x="644" y="503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228640" y="7493760"/>
              <a:ext cx="433800" cy="485280"/>
            </a:xfrm>
            <a:custGeom>
              <a:avLst/>
              <a:gdLst/>
              <a:ahLst/>
              <a:rect l="l" t="t" r="r" b="b"/>
              <a:pathLst>
                <a:path w="926" h="1164">
                  <a:moveTo>
                    <a:pt x="679" y="102"/>
                  </a:moveTo>
                  <a:lnTo>
                    <a:pt x="704" y="214"/>
                  </a:lnTo>
                  <a:lnTo>
                    <a:pt x="750" y="214"/>
                  </a:lnTo>
                  <a:lnTo>
                    <a:pt x="805" y="190"/>
                  </a:lnTo>
                  <a:lnTo>
                    <a:pt x="901" y="223"/>
                  </a:lnTo>
                  <a:lnTo>
                    <a:pt x="926" y="253"/>
                  </a:lnTo>
                  <a:lnTo>
                    <a:pt x="926" y="407"/>
                  </a:lnTo>
                  <a:lnTo>
                    <a:pt x="846" y="629"/>
                  </a:lnTo>
                  <a:lnTo>
                    <a:pt x="567" y="1164"/>
                  </a:lnTo>
                  <a:lnTo>
                    <a:pt x="512" y="1148"/>
                  </a:lnTo>
                  <a:lnTo>
                    <a:pt x="471" y="1109"/>
                  </a:lnTo>
                  <a:lnTo>
                    <a:pt x="408" y="1109"/>
                  </a:lnTo>
                  <a:lnTo>
                    <a:pt x="337" y="1148"/>
                  </a:lnTo>
                  <a:lnTo>
                    <a:pt x="257" y="1148"/>
                  </a:lnTo>
                  <a:lnTo>
                    <a:pt x="249" y="1156"/>
                  </a:lnTo>
                  <a:lnTo>
                    <a:pt x="224" y="1156"/>
                  </a:lnTo>
                  <a:lnTo>
                    <a:pt x="120" y="692"/>
                  </a:lnTo>
                  <a:lnTo>
                    <a:pt x="57" y="453"/>
                  </a:lnTo>
                  <a:lnTo>
                    <a:pt x="41" y="429"/>
                  </a:lnTo>
                  <a:lnTo>
                    <a:pt x="24" y="311"/>
                  </a:lnTo>
                  <a:lnTo>
                    <a:pt x="0" y="269"/>
                  </a:lnTo>
                  <a:lnTo>
                    <a:pt x="0" y="190"/>
                  </a:lnTo>
                  <a:lnTo>
                    <a:pt x="35" y="127"/>
                  </a:lnTo>
                  <a:lnTo>
                    <a:pt x="128" y="55"/>
                  </a:lnTo>
                  <a:lnTo>
                    <a:pt x="232" y="72"/>
                  </a:lnTo>
                  <a:lnTo>
                    <a:pt x="298" y="135"/>
                  </a:lnTo>
                  <a:lnTo>
                    <a:pt x="320" y="135"/>
                  </a:lnTo>
                  <a:lnTo>
                    <a:pt x="400" y="39"/>
                  </a:lnTo>
                  <a:lnTo>
                    <a:pt x="441" y="14"/>
                  </a:lnTo>
                  <a:lnTo>
                    <a:pt x="496" y="0"/>
                  </a:lnTo>
                  <a:lnTo>
                    <a:pt x="633" y="47"/>
                  </a:lnTo>
                  <a:lnTo>
                    <a:pt x="679" y="102"/>
                  </a:lnTo>
                  <a:close/>
                </a:path>
              </a:pathLst>
            </a:custGeom>
            <a:solidFill>
              <a:srgbClr val="ece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59320" y="7579800"/>
              <a:ext cx="34560" cy="299880"/>
            </a:xfrm>
            <a:custGeom>
              <a:avLst/>
              <a:gdLst/>
              <a:ahLst/>
              <a:rect l="l" t="t" r="r" b="b"/>
              <a:pathLst>
                <a:path w="74" h="719">
                  <a:moveTo>
                    <a:pt x="49" y="632"/>
                  </a:moveTo>
                  <a:lnTo>
                    <a:pt x="74" y="719"/>
                  </a:lnTo>
                  <a:lnTo>
                    <a:pt x="41" y="719"/>
                  </a:lnTo>
                  <a:lnTo>
                    <a:pt x="8" y="456"/>
                  </a:lnTo>
                  <a:lnTo>
                    <a:pt x="0" y="0"/>
                  </a:lnTo>
                  <a:lnTo>
                    <a:pt x="19" y="0"/>
                  </a:lnTo>
                  <a:lnTo>
                    <a:pt x="49" y="6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044040" y="7583040"/>
              <a:ext cx="174240" cy="156960"/>
            </a:xfrm>
            <a:custGeom>
              <a:avLst/>
              <a:gdLst/>
              <a:ahLst/>
              <a:rect l="l" t="t" r="r" b="b"/>
              <a:pathLst>
                <a:path w="372" h="377">
                  <a:moveTo>
                    <a:pt x="191" y="31"/>
                  </a:moveTo>
                  <a:lnTo>
                    <a:pt x="183" y="55"/>
                  </a:lnTo>
                  <a:lnTo>
                    <a:pt x="95" y="121"/>
                  </a:lnTo>
                  <a:lnTo>
                    <a:pt x="95" y="127"/>
                  </a:lnTo>
                  <a:lnTo>
                    <a:pt x="175" y="160"/>
                  </a:lnTo>
                  <a:lnTo>
                    <a:pt x="221" y="160"/>
                  </a:lnTo>
                  <a:lnTo>
                    <a:pt x="205" y="198"/>
                  </a:lnTo>
                  <a:lnTo>
                    <a:pt x="183" y="215"/>
                  </a:lnTo>
                  <a:lnTo>
                    <a:pt x="175" y="223"/>
                  </a:lnTo>
                  <a:lnTo>
                    <a:pt x="175" y="239"/>
                  </a:lnTo>
                  <a:lnTo>
                    <a:pt x="197" y="256"/>
                  </a:lnTo>
                  <a:lnTo>
                    <a:pt x="301" y="248"/>
                  </a:lnTo>
                  <a:lnTo>
                    <a:pt x="309" y="239"/>
                  </a:lnTo>
                  <a:lnTo>
                    <a:pt x="309" y="231"/>
                  </a:lnTo>
                  <a:lnTo>
                    <a:pt x="287" y="215"/>
                  </a:lnTo>
                  <a:lnTo>
                    <a:pt x="238" y="215"/>
                  </a:lnTo>
                  <a:lnTo>
                    <a:pt x="287" y="151"/>
                  </a:lnTo>
                  <a:lnTo>
                    <a:pt x="287" y="143"/>
                  </a:lnTo>
                  <a:lnTo>
                    <a:pt x="263" y="127"/>
                  </a:lnTo>
                  <a:lnTo>
                    <a:pt x="158" y="121"/>
                  </a:lnTo>
                  <a:lnTo>
                    <a:pt x="246" y="55"/>
                  </a:lnTo>
                  <a:lnTo>
                    <a:pt x="276" y="64"/>
                  </a:lnTo>
                  <a:lnTo>
                    <a:pt x="334" y="151"/>
                  </a:lnTo>
                  <a:lnTo>
                    <a:pt x="372" y="360"/>
                  </a:lnTo>
                  <a:lnTo>
                    <a:pt x="372" y="377"/>
                  </a:lnTo>
                  <a:lnTo>
                    <a:pt x="350" y="360"/>
                  </a:lnTo>
                  <a:lnTo>
                    <a:pt x="246" y="360"/>
                  </a:lnTo>
                  <a:lnTo>
                    <a:pt x="197" y="319"/>
                  </a:lnTo>
                  <a:lnTo>
                    <a:pt x="109" y="269"/>
                  </a:lnTo>
                  <a:lnTo>
                    <a:pt x="30" y="55"/>
                  </a:lnTo>
                  <a:lnTo>
                    <a:pt x="0" y="0"/>
                  </a:lnTo>
                  <a:lnTo>
                    <a:pt x="134" y="31"/>
                  </a:lnTo>
                  <a:lnTo>
                    <a:pt x="191" y="31"/>
                  </a:lnTo>
                  <a:close/>
                </a:path>
              </a:pathLst>
            </a:custGeom>
            <a:solidFill>
              <a:srgbClr val="787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223320" y="7613280"/>
              <a:ext cx="230760" cy="252720"/>
            </a:xfrm>
            <a:custGeom>
              <a:avLst/>
              <a:gdLst/>
              <a:ahLst/>
              <a:rect l="l" t="t" r="r" b="b"/>
              <a:pathLst>
                <a:path w="493" h="606">
                  <a:moveTo>
                    <a:pt x="110" y="208"/>
                  </a:moveTo>
                  <a:lnTo>
                    <a:pt x="47" y="233"/>
                  </a:lnTo>
                  <a:lnTo>
                    <a:pt x="38" y="239"/>
                  </a:lnTo>
                  <a:lnTo>
                    <a:pt x="38" y="247"/>
                  </a:lnTo>
                  <a:lnTo>
                    <a:pt x="63" y="263"/>
                  </a:lnTo>
                  <a:lnTo>
                    <a:pt x="356" y="263"/>
                  </a:lnTo>
                  <a:lnTo>
                    <a:pt x="206" y="384"/>
                  </a:lnTo>
                  <a:lnTo>
                    <a:pt x="159" y="401"/>
                  </a:lnTo>
                  <a:lnTo>
                    <a:pt x="148" y="406"/>
                  </a:lnTo>
                  <a:lnTo>
                    <a:pt x="167" y="431"/>
                  </a:lnTo>
                  <a:lnTo>
                    <a:pt x="285" y="472"/>
                  </a:lnTo>
                  <a:lnTo>
                    <a:pt x="411" y="480"/>
                  </a:lnTo>
                  <a:lnTo>
                    <a:pt x="436" y="480"/>
                  </a:lnTo>
                  <a:lnTo>
                    <a:pt x="447" y="472"/>
                  </a:lnTo>
                  <a:lnTo>
                    <a:pt x="447" y="456"/>
                  </a:lnTo>
                  <a:lnTo>
                    <a:pt x="422" y="431"/>
                  </a:lnTo>
                  <a:lnTo>
                    <a:pt x="269" y="423"/>
                  </a:lnTo>
                  <a:lnTo>
                    <a:pt x="260" y="414"/>
                  </a:lnTo>
                  <a:lnTo>
                    <a:pt x="230" y="414"/>
                  </a:lnTo>
                  <a:lnTo>
                    <a:pt x="460" y="239"/>
                  </a:lnTo>
                  <a:lnTo>
                    <a:pt x="460" y="222"/>
                  </a:lnTo>
                  <a:lnTo>
                    <a:pt x="447" y="208"/>
                  </a:lnTo>
                  <a:lnTo>
                    <a:pt x="255" y="233"/>
                  </a:lnTo>
                  <a:lnTo>
                    <a:pt x="159" y="233"/>
                  </a:lnTo>
                  <a:lnTo>
                    <a:pt x="334" y="121"/>
                  </a:lnTo>
                  <a:lnTo>
                    <a:pt x="447" y="8"/>
                  </a:lnTo>
                  <a:lnTo>
                    <a:pt x="493" y="233"/>
                  </a:lnTo>
                  <a:lnTo>
                    <a:pt x="485" y="497"/>
                  </a:lnTo>
                  <a:lnTo>
                    <a:pt x="469" y="574"/>
                  </a:lnTo>
                  <a:lnTo>
                    <a:pt x="411" y="606"/>
                  </a:lnTo>
                  <a:lnTo>
                    <a:pt x="334" y="606"/>
                  </a:lnTo>
                  <a:lnTo>
                    <a:pt x="126" y="519"/>
                  </a:lnTo>
                  <a:lnTo>
                    <a:pt x="71" y="519"/>
                  </a:lnTo>
                  <a:lnTo>
                    <a:pt x="55" y="343"/>
                  </a:lnTo>
                  <a:lnTo>
                    <a:pt x="0" y="71"/>
                  </a:lnTo>
                  <a:lnTo>
                    <a:pt x="214" y="63"/>
                  </a:lnTo>
                  <a:lnTo>
                    <a:pt x="302" y="41"/>
                  </a:lnTo>
                  <a:lnTo>
                    <a:pt x="389" y="0"/>
                  </a:lnTo>
                  <a:lnTo>
                    <a:pt x="255" y="137"/>
                  </a:lnTo>
                  <a:lnTo>
                    <a:pt x="110" y="208"/>
                  </a:lnTo>
                  <a:close/>
                </a:path>
              </a:pathLst>
            </a:custGeom>
            <a:solidFill>
              <a:srgbClr val="9ca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472360" y="7656480"/>
              <a:ext cx="78120" cy="209160"/>
            </a:xfrm>
            <a:custGeom>
              <a:avLst/>
              <a:gdLst/>
              <a:ahLst/>
              <a:rect l="l" t="t" r="r" b="b"/>
              <a:pathLst>
                <a:path w="167" h="502">
                  <a:moveTo>
                    <a:pt x="80" y="319"/>
                  </a:moveTo>
                  <a:lnTo>
                    <a:pt x="22" y="478"/>
                  </a:lnTo>
                  <a:lnTo>
                    <a:pt x="30" y="489"/>
                  </a:lnTo>
                  <a:lnTo>
                    <a:pt x="17" y="502"/>
                  </a:lnTo>
                  <a:lnTo>
                    <a:pt x="0" y="478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80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12560" y="7716240"/>
              <a:ext cx="417240" cy="139680"/>
            </a:xfrm>
            <a:custGeom>
              <a:avLst/>
              <a:gdLst/>
              <a:ahLst/>
              <a:rect l="l" t="t" r="r" b="b"/>
              <a:pathLst>
                <a:path w="891" h="335">
                  <a:moveTo>
                    <a:pt x="740" y="88"/>
                  </a:moveTo>
                  <a:lnTo>
                    <a:pt x="877" y="88"/>
                  </a:lnTo>
                  <a:lnTo>
                    <a:pt x="891" y="255"/>
                  </a:lnTo>
                  <a:lnTo>
                    <a:pt x="891" y="272"/>
                  </a:lnTo>
                  <a:lnTo>
                    <a:pt x="836" y="305"/>
                  </a:lnTo>
                  <a:lnTo>
                    <a:pt x="787" y="321"/>
                  </a:lnTo>
                  <a:lnTo>
                    <a:pt x="669" y="305"/>
                  </a:lnTo>
                  <a:lnTo>
                    <a:pt x="411" y="335"/>
                  </a:lnTo>
                  <a:lnTo>
                    <a:pt x="173" y="321"/>
                  </a:lnTo>
                  <a:lnTo>
                    <a:pt x="30" y="250"/>
                  </a:lnTo>
                  <a:lnTo>
                    <a:pt x="0" y="209"/>
                  </a:lnTo>
                  <a:lnTo>
                    <a:pt x="0" y="159"/>
                  </a:lnTo>
                  <a:lnTo>
                    <a:pt x="30" y="96"/>
                  </a:lnTo>
                  <a:lnTo>
                    <a:pt x="110" y="33"/>
                  </a:lnTo>
                  <a:lnTo>
                    <a:pt x="206" y="33"/>
                  </a:lnTo>
                  <a:lnTo>
                    <a:pt x="293" y="58"/>
                  </a:lnTo>
                  <a:lnTo>
                    <a:pt x="310" y="58"/>
                  </a:lnTo>
                  <a:lnTo>
                    <a:pt x="351" y="176"/>
                  </a:lnTo>
                  <a:lnTo>
                    <a:pt x="411" y="225"/>
                  </a:lnTo>
                  <a:lnTo>
                    <a:pt x="494" y="250"/>
                  </a:lnTo>
                  <a:lnTo>
                    <a:pt x="565" y="233"/>
                  </a:lnTo>
                  <a:lnTo>
                    <a:pt x="598" y="167"/>
                  </a:lnTo>
                  <a:lnTo>
                    <a:pt x="598" y="104"/>
                  </a:lnTo>
                  <a:lnTo>
                    <a:pt x="543" y="33"/>
                  </a:lnTo>
                  <a:lnTo>
                    <a:pt x="507" y="25"/>
                  </a:lnTo>
                  <a:lnTo>
                    <a:pt x="477" y="25"/>
                  </a:lnTo>
                  <a:lnTo>
                    <a:pt x="518" y="0"/>
                  </a:lnTo>
                  <a:lnTo>
                    <a:pt x="620" y="8"/>
                  </a:lnTo>
                  <a:lnTo>
                    <a:pt x="740" y="88"/>
                  </a:lnTo>
                  <a:close/>
                </a:path>
              </a:pathLst>
            </a:custGeom>
            <a:solidFill>
              <a:srgbClr val="8b5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991120" y="7740360"/>
              <a:ext cx="82440" cy="59040"/>
            </a:xfrm>
            <a:custGeom>
              <a:avLst/>
              <a:gdLst/>
              <a:ahLst/>
              <a:rect l="l" t="t" r="r" b="b"/>
              <a:pathLst>
                <a:path w="176" h="142">
                  <a:moveTo>
                    <a:pt x="176" y="71"/>
                  </a:moveTo>
                  <a:lnTo>
                    <a:pt x="151" y="142"/>
                  </a:lnTo>
                  <a:lnTo>
                    <a:pt x="96" y="142"/>
                  </a:lnTo>
                  <a:lnTo>
                    <a:pt x="30" y="118"/>
                  </a:lnTo>
                  <a:lnTo>
                    <a:pt x="0" y="79"/>
                  </a:lnTo>
                  <a:lnTo>
                    <a:pt x="0" y="38"/>
                  </a:lnTo>
                  <a:lnTo>
                    <a:pt x="113" y="0"/>
                  </a:lnTo>
                  <a:lnTo>
                    <a:pt x="137" y="5"/>
                  </a:lnTo>
                  <a:lnTo>
                    <a:pt x="176" y="71"/>
                  </a:lnTo>
                  <a:close/>
                </a:path>
              </a:pathLst>
            </a:custGeom>
            <a:solidFill>
              <a:srgbClr val="9ca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781960" y="7803360"/>
              <a:ext cx="396360" cy="92520"/>
            </a:xfrm>
            <a:custGeom>
              <a:avLst/>
              <a:gdLst/>
              <a:ahLst/>
              <a:rect l="l" t="t" r="r" b="b"/>
              <a:pathLst>
                <a:path w="846" h="222">
                  <a:moveTo>
                    <a:pt x="161" y="126"/>
                  </a:moveTo>
                  <a:lnTo>
                    <a:pt x="309" y="167"/>
                  </a:lnTo>
                  <a:lnTo>
                    <a:pt x="622" y="150"/>
                  </a:lnTo>
                  <a:lnTo>
                    <a:pt x="750" y="126"/>
                  </a:lnTo>
                  <a:lnTo>
                    <a:pt x="835" y="142"/>
                  </a:lnTo>
                  <a:lnTo>
                    <a:pt x="846" y="150"/>
                  </a:lnTo>
                  <a:lnTo>
                    <a:pt x="789" y="183"/>
                  </a:lnTo>
                  <a:lnTo>
                    <a:pt x="367" y="222"/>
                  </a:lnTo>
                  <a:lnTo>
                    <a:pt x="167" y="192"/>
                  </a:lnTo>
                  <a:lnTo>
                    <a:pt x="16" y="96"/>
                  </a:lnTo>
                  <a:lnTo>
                    <a:pt x="0" y="46"/>
                  </a:lnTo>
                  <a:lnTo>
                    <a:pt x="16" y="0"/>
                  </a:lnTo>
                  <a:lnTo>
                    <a:pt x="71" y="71"/>
                  </a:lnTo>
                  <a:lnTo>
                    <a:pt x="161" y="12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024240" y="7843320"/>
              <a:ext cx="477720" cy="209160"/>
            </a:xfrm>
            <a:custGeom>
              <a:avLst/>
              <a:gdLst/>
              <a:ahLst/>
              <a:rect l="l" t="t" r="r" b="b"/>
              <a:pathLst>
                <a:path w="1020" h="502">
                  <a:moveTo>
                    <a:pt x="759" y="96"/>
                  </a:moveTo>
                  <a:lnTo>
                    <a:pt x="877" y="79"/>
                  </a:lnTo>
                  <a:lnTo>
                    <a:pt x="943" y="46"/>
                  </a:lnTo>
                  <a:lnTo>
                    <a:pt x="990" y="8"/>
                  </a:lnTo>
                  <a:lnTo>
                    <a:pt x="1020" y="63"/>
                  </a:lnTo>
                  <a:lnTo>
                    <a:pt x="1020" y="134"/>
                  </a:lnTo>
                  <a:lnTo>
                    <a:pt x="981" y="189"/>
                  </a:lnTo>
                  <a:lnTo>
                    <a:pt x="853" y="263"/>
                  </a:lnTo>
                  <a:lnTo>
                    <a:pt x="685" y="293"/>
                  </a:lnTo>
                  <a:lnTo>
                    <a:pt x="573" y="367"/>
                  </a:lnTo>
                  <a:lnTo>
                    <a:pt x="480" y="439"/>
                  </a:lnTo>
                  <a:lnTo>
                    <a:pt x="368" y="485"/>
                  </a:lnTo>
                  <a:lnTo>
                    <a:pt x="258" y="502"/>
                  </a:lnTo>
                  <a:lnTo>
                    <a:pt x="72" y="447"/>
                  </a:lnTo>
                  <a:lnTo>
                    <a:pt x="17" y="398"/>
                  </a:lnTo>
                  <a:lnTo>
                    <a:pt x="0" y="376"/>
                  </a:lnTo>
                  <a:lnTo>
                    <a:pt x="0" y="334"/>
                  </a:lnTo>
                  <a:lnTo>
                    <a:pt x="209" y="175"/>
                  </a:lnTo>
                  <a:lnTo>
                    <a:pt x="296" y="183"/>
                  </a:lnTo>
                  <a:lnTo>
                    <a:pt x="329" y="189"/>
                  </a:lnTo>
                  <a:lnTo>
                    <a:pt x="351" y="189"/>
                  </a:lnTo>
                  <a:lnTo>
                    <a:pt x="376" y="271"/>
                  </a:lnTo>
                  <a:lnTo>
                    <a:pt x="439" y="326"/>
                  </a:lnTo>
                  <a:lnTo>
                    <a:pt x="463" y="310"/>
                  </a:lnTo>
                  <a:lnTo>
                    <a:pt x="526" y="293"/>
                  </a:lnTo>
                  <a:lnTo>
                    <a:pt x="568" y="271"/>
                  </a:lnTo>
                  <a:lnTo>
                    <a:pt x="614" y="167"/>
                  </a:lnTo>
                  <a:lnTo>
                    <a:pt x="592" y="118"/>
                  </a:lnTo>
                  <a:lnTo>
                    <a:pt x="568" y="104"/>
                  </a:lnTo>
                  <a:lnTo>
                    <a:pt x="472" y="71"/>
                  </a:lnTo>
                  <a:lnTo>
                    <a:pt x="414" y="46"/>
                  </a:lnTo>
                  <a:lnTo>
                    <a:pt x="510" y="0"/>
                  </a:lnTo>
                  <a:lnTo>
                    <a:pt x="598" y="16"/>
                  </a:lnTo>
                  <a:lnTo>
                    <a:pt x="759" y="96"/>
                  </a:lnTo>
                  <a:close/>
                </a:path>
              </a:pathLst>
            </a:custGeom>
            <a:solidFill>
              <a:srgbClr val="8b5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159240" y="7876440"/>
              <a:ext cx="126720" cy="85680"/>
            </a:xfrm>
            <a:custGeom>
              <a:avLst/>
              <a:gdLst/>
              <a:ahLst/>
              <a:rect l="l" t="t" r="r" b="b"/>
              <a:pathLst>
                <a:path w="271" h="206">
                  <a:moveTo>
                    <a:pt x="208" y="47"/>
                  </a:moveTo>
                  <a:lnTo>
                    <a:pt x="247" y="47"/>
                  </a:lnTo>
                  <a:lnTo>
                    <a:pt x="271" y="72"/>
                  </a:lnTo>
                  <a:lnTo>
                    <a:pt x="263" y="135"/>
                  </a:lnTo>
                  <a:lnTo>
                    <a:pt x="192" y="201"/>
                  </a:lnTo>
                  <a:lnTo>
                    <a:pt x="143" y="206"/>
                  </a:lnTo>
                  <a:lnTo>
                    <a:pt x="126" y="184"/>
                  </a:lnTo>
                  <a:lnTo>
                    <a:pt x="126" y="104"/>
                  </a:lnTo>
                  <a:lnTo>
                    <a:pt x="47" y="55"/>
                  </a:lnTo>
                  <a:lnTo>
                    <a:pt x="8" y="55"/>
                  </a:lnTo>
                  <a:lnTo>
                    <a:pt x="0" y="47"/>
                  </a:lnTo>
                  <a:lnTo>
                    <a:pt x="41" y="17"/>
                  </a:lnTo>
                  <a:lnTo>
                    <a:pt x="88" y="0"/>
                  </a:lnTo>
                  <a:lnTo>
                    <a:pt x="143" y="8"/>
                  </a:lnTo>
                  <a:lnTo>
                    <a:pt x="208" y="47"/>
                  </a:lnTo>
                  <a:close/>
                </a:path>
              </a:pathLst>
            </a:custGeom>
            <a:solidFill>
              <a:srgbClr val="9ca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002640" y="7919640"/>
              <a:ext cx="508320" cy="169560"/>
            </a:xfrm>
            <a:custGeom>
              <a:avLst/>
              <a:gdLst/>
              <a:ahLst/>
              <a:rect l="l" t="t" r="r" b="b"/>
              <a:pathLst>
                <a:path w="1085" h="407">
                  <a:moveTo>
                    <a:pt x="786" y="173"/>
                  </a:moveTo>
                  <a:lnTo>
                    <a:pt x="685" y="215"/>
                  </a:lnTo>
                  <a:lnTo>
                    <a:pt x="452" y="390"/>
                  </a:lnTo>
                  <a:lnTo>
                    <a:pt x="304" y="407"/>
                  </a:lnTo>
                  <a:lnTo>
                    <a:pt x="208" y="398"/>
                  </a:lnTo>
                  <a:lnTo>
                    <a:pt x="101" y="360"/>
                  </a:lnTo>
                  <a:lnTo>
                    <a:pt x="0" y="294"/>
                  </a:lnTo>
                  <a:lnTo>
                    <a:pt x="0" y="231"/>
                  </a:lnTo>
                  <a:lnTo>
                    <a:pt x="5" y="223"/>
                  </a:lnTo>
                  <a:lnTo>
                    <a:pt x="126" y="311"/>
                  </a:lnTo>
                  <a:lnTo>
                    <a:pt x="246" y="352"/>
                  </a:lnTo>
                  <a:lnTo>
                    <a:pt x="438" y="335"/>
                  </a:lnTo>
                  <a:lnTo>
                    <a:pt x="589" y="264"/>
                  </a:lnTo>
                  <a:lnTo>
                    <a:pt x="715" y="160"/>
                  </a:lnTo>
                  <a:lnTo>
                    <a:pt x="827" y="119"/>
                  </a:lnTo>
                  <a:lnTo>
                    <a:pt x="948" y="97"/>
                  </a:lnTo>
                  <a:lnTo>
                    <a:pt x="1074" y="17"/>
                  </a:lnTo>
                  <a:lnTo>
                    <a:pt x="1085" y="0"/>
                  </a:lnTo>
                  <a:lnTo>
                    <a:pt x="1044" y="55"/>
                  </a:lnTo>
                  <a:lnTo>
                    <a:pt x="786" y="17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41680" y="7969320"/>
              <a:ext cx="138600" cy="123120"/>
            </a:xfrm>
            <a:custGeom>
              <a:avLst/>
              <a:gdLst/>
              <a:ahLst/>
              <a:rect l="l" t="t" r="r" b="b"/>
              <a:pathLst>
                <a:path w="296" h="296">
                  <a:moveTo>
                    <a:pt x="255" y="49"/>
                  </a:moveTo>
                  <a:lnTo>
                    <a:pt x="279" y="49"/>
                  </a:lnTo>
                  <a:lnTo>
                    <a:pt x="296" y="79"/>
                  </a:lnTo>
                  <a:lnTo>
                    <a:pt x="230" y="241"/>
                  </a:lnTo>
                  <a:lnTo>
                    <a:pt x="183" y="296"/>
                  </a:lnTo>
                  <a:lnTo>
                    <a:pt x="87" y="296"/>
                  </a:lnTo>
                  <a:lnTo>
                    <a:pt x="38" y="271"/>
                  </a:lnTo>
                  <a:lnTo>
                    <a:pt x="0" y="79"/>
                  </a:lnTo>
                  <a:lnTo>
                    <a:pt x="8" y="54"/>
                  </a:lnTo>
                  <a:lnTo>
                    <a:pt x="33" y="32"/>
                  </a:lnTo>
                  <a:lnTo>
                    <a:pt x="63" y="32"/>
                  </a:lnTo>
                  <a:lnTo>
                    <a:pt x="87" y="54"/>
                  </a:lnTo>
                  <a:lnTo>
                    <a:pt x="175" y="0"/>
                  </a:lnTo>
                  <a:lnTo>
                    <a:pt x="205" y="0"/>
                  </a:lnTo>
                  <a:lnTo>
                    <a:pt x="255" y="49"/>
                  </a:lnTo>
                  <a:close/>
                </a:path>
              </a:pathLst>
            </a:custGeom>
            <a:solidFill>
              <a:srgbClr val="6a3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468400" y="5688720"/>
              <a:ext cx="919080" cy="342000"/>
            </a:xfrm>
            <a:custGeom>
              <a:avLst/>
              <a:gdLst/>
              <a:ahLst/>
              <a:rect l="l" t="t" r="r" b="b"/>
              <a:pathLst>
                <a:path w="1962" h="820">
                  <a:moveTo>
                    <a:pt x="1962" y="244"/>
                  </a:moveTo>
                  <a:lnTo>
                    <a:pt x="1962" y="368"/>
                  </a:lnTo>
                  <a:lnTo>
                    <a:pt x="1855" y="678"/>
                  </a:lnTo>
                  <a:lnTo>
                    <a:pt x="1800" y="774"/>
                  </a:lnTo>
                  <a:lnTo>
                    <a:pt x="1754" y="815"/>
                  </a:lnTo>
                  <a:lnTo>
                    <a:pt x="1745" y="820"/>
                  </a:lnTo>
                  <a:lnTo>
                    <a:pt x="1704" y="669"/>
                  </a:lnTo>
                  <a:lnTo>
                    <a:pt x="1729" y="560"/>
                  </a:lnTo>
                  <a:lnTo>
                    <a:pt x="1721" y="464"/>
                  </a:lnTo>
                  <a:lnTo>
                    <a:pt x="1696" y="414"/>
                  </a:lnTo>
                  <a:lnTo>
                    <a:pt x="1586" y="343"/>
                  </a:lnTo>
                  <a:lnTo>
                    <a:pt x="1433" y="343"/>
                  </a:lnTo>
                  <a:lnTo>
                    <a:pt x="1348" y="392"/>
                  </a:lnTo>
                  <a:lnTo>
                    <a:pt x="1277" y="464"/>
                  </a:lnTo>
                  <a:lnTo>
                    <a:pt x="1282" y="280"/>
                  </a:lnTo>
                  <a:lnTo>
                    <a:pt x="1252" y="225"/>
                  </a:lnTo>
                  <a:lnTo>
                    <a:pt x="1115" y="167"/>
                  </a:lnTo>
                  <a:lnTo>
                    <a:pt x="932" y="167"/>
                  </a:lnTo>
                  <a:lnTo>
                    <a:pt x="710" y="239"/>
                  </a:lnTo>
                  <a:lnTo>
                    <a:pt x="526" y="381"/>
                  </a:lnTo>
                  <a:lnTo>
                    <a:pt x="405" y="615"/>
                  </a:lnTo>
                  <a:lnTo>
                    <a:pt x="318" y="519"/>
                  </a:lnTo>
                  <a:lnTo>
                    <a:pt x="318" y="494"/>
                  </a:lnTo>
                  <a:lnTo>
                    <a:pt x="310" y="486"/>
                  </a:lnTo>
                  <a:lnTo>
                    <a:pt x="288" y="486"/>
                  </a:lnTo>
                  <a:lnTo>
                    <a:pt x="175" y="631"/>
                  </a:lnTo>
                  <a:lnTo>
                    <a:pt x="142" y="573"/>
                  </a:lnTo>
                  <a:lnTo>
                    <a:pt x="126" y="439"/>
                  </a:lnTo>
                  <a:lnTo>
                    <a:pt x="134" y="414"/>
                  </a:lnTo>
                  <a:lnTo>
                    <a:pt x="134" y="392"/>
                  </a:lnTo>
                  <a:lnTo>
                    <a:pt x="121" y="373"/>
                  </a:lnTo>
                  <a:lnTo>
                    <a:pt x="63" y="406"/>
                  </a:lnTo>
                  <a:lnTo>
                    <a:pt x="8" y="477"/>
                  </a:lnTo>
                  <a:lnTo>
                    <a:pt x="0" y="486"/>
                  </a:lnTo>
                  <a:lnTo>
                    <a:pt x="0" y="326"/>
                  </a:lnTo>
                  <a:lnTo>
                    <a:pt x="38" y="38"/>
                  </a:lnTo>
                  <a:lnTo>
                    <a:pt x="58" y="0"/>
                  </a:lnTo>
                  <a:lnTo>
                    <a:pt x="58" y="24"/>
                  </a:lnTo>
                  <a:lnTo>
                    <a:pt x="55" y="46"/>
                  </a:lnTo>
                  <a:lnTo>
                    <a:pt x="52" y="71"/>
                  </a:lnTo>
                  <a:lnTo>
                    <a:pt x="49" y="93"/>
                  </a:lnTo>
                  <a:lnTo>
                    <a:pt x="49" y="118"/>
                  </a:lnTo>
                  <a:lnTo>
                    <a:pt x="49" y="137"/>
                  </a:lnTo>
                  <a:lnTo>
                    <a:pt x="52" y="159"/>
                  </a:lnTo>
                  <a:lnTo>
                    <a:pt x="58" y="175"/>
                  </a:lnTo>
                  <a:lnTo>
                    <a:pt x="63" y="167"/>
                  </a:lnTo>
                  <a:lnTo>
                    <a:pt x="71" y="153"/>
                  </a:lnTo>
                  <a:lnTo>
                    <a:pt x="82" y="142"/>
                  </a:lnTo>
                  <a:lnTo>
                    <a:pt x="93" y="129"/>
                  </a:lnTo>
                  <a:lnTo>
                    <a:pt x="104" y="115"/>
                  </a:lnTo>
                  <a:lnTo>
                    <a:pt x="115" y="104"/>
                  </a:lnTo>
                  <a:lnTo>
                    <a:pt x="121" y="93"/>
                  </a:lnTo>
                  <a:lnTo>
                    <a:pt x="123" y="82"/>
                  </a:lnTo>
                  <a:lnTo>
                    <a:pt x="123" y="104"/>
                  </a:lnTo>
                  <a:lnTo>
                    <a:pt x="121" y="126"/>
                  </a:lnTo>
                  <a:lnTo>
                    <a:pt x="118" y="153"/>
                  </a:lnTo>
                  <a:lnTo>
                    <a:pt x="118" y="181"/>
                  </a:lnTo>
                  <a:lnTo>
                    <a:pt x="118" y="208"/>
                  </a:lnTo>
                  <a:lnTo>
                    <a:pt x="118" y="233"/>
                  </a:lnTo>
                  <a:lnTo>
                    <a:pt x="121" y="255"/>
                  </a:lnTo>
                  <a:lnTo>
                    <a:pt x="129" y="274"/>
                  </a:lnTo>
                  <a:lnTo>
                    <a:pt x="137" y="258"/>
                  </a:lnTo>
                  <a:lnTo>
                    <a:pt x="145" y="236"/>
                  </a:lnTo>
                  <a:lnTo>
                    <a:pt x="156" y="214"/>
                  </a:lnTo>
                  <a:lnTo>
                    <a:pt x="164" y="192"/>
                  </a:lnTo>
                  <a:lnTo>
                    <a:pt x="175" y="170"/>
                  </a:lnTo>
                  <a:lnTo>
                    <a:pt x="189" y="153"/>
                  </a:lnTo>
                  <a:lnTo>
                    <a:pt x="197" y="145"/>
                  </a:lnTo>
                  <a:lnTo>
                    <a:pt x="205" y="140"/>
                  </a:lnTo>
                  <a:lnTo>
                    <a:pt x="214" y="137"/>
                  </a:lnTo>
                  <a:lnTo>
                    <a:pt x="222" y="137"/>
                  </a:lnTo>
                  <a:lnTo>
                    <a:pt x="222" y="153"/>
                  </a:lnTo>
                  <a:lnTo>
                    <a:pt x="225" y="173"/>
                  </a:lnTo>
                  <a:lnTo>
                    <a:pt x="227" y="189"/>
                  </a:lnTo>
                  <a:lnTo>
                    <a:pt x="230" y="208"/>
                  </a:lnTo>
                  <a:lnTo>
                    <a:pt x="233" y="225"/>
                  </a:lnTo>
                  <a:lnTo>
                    <a:pt x="233" y="244"/>
                  </a:lnTo>
                  <a:lnTo>
                    <a:pt x="236" y="260"/>
                  </a:lnTo>
                  <a:lnTo>
                    <a:pt x="236" y="274"/>
                  </a:lnTo>
                  <a:lnTo>
                    <a:pt x="238" y="274"/>
                  </a:lnTo>
                  <a:lnTo>
                    <a:pt x="241" y="274"/>
                  </a:lnTo>
                  <a:lnTo>
                    <a:pt x="241" y="274"/>
                  </a:lnTo>
                  <a:lnTo>
                    <a:pt x="244" y="271"/>
                  </a:lnTo>
                  <a:lnTo>
                    <a:pt x="247" y="271"/>
                  </a:lnTo>
                  <a:lnTo>
                    <a:pt x="249" y="271"/>
                  </a:lnTo>
                  <a:lnTo>
                    <a:pt x="252" y="271"/>
                  </a:lnTo>
                  <a:lnTo>
                    <a:pt x="258" y="271"/>
                  </a:lnTo>
                  <a:lnTo>
                    <a:pt x="307" y="131"/>
                  </a:lnTo>
                  <a:lnTo>
                    <a:pt x="315" y="126"/>
                  </a:lnTo>
                  <a:lnTo>
                    <a:pt x="321" y="123"/>
                  </a:lnTo>
                  <a:lnTo>
                    <a:pt x="329" y="118"/>
                  </a:lnTo>
                  <a:lnTo>
                    <a:pt x="334" y="110"/>
                  </a:lnTo>
                  <a:lnTo>
                    <a:pt x="340" y="101"/>
                  </a:lnTo>
                  <a:lnTo>
                    <a:pt x="345" y="96"/>
                  </a:lnTo>
                  <a:lnTo>
                    <a:pt x="351" y="85"/>
                  </a:lnTo>
                  <a:lnTo>
                    <a:pt x="356" y="77"/>
                  </a:lnTo>
                  <a:lnTo>
                    <a:pt x="364" y="74"/>
                  </a:lnTo>
                  <a:lnTo>
                    <a:pt x="378" y="68"/>
                  </a:lnTo>
                  <a:lnTo>
                    <a:pt x="392" y="63"/>
                  </a:lnTo>
                  <a:lnTo>
                    <a:pt x="405" y="57"/>
                  </a:lnTo>
                  <a:lnTo>
                    <a:pt x="422" y="52"/>
                  </a:lnTo>
                  <a:lnTo>
                    <a:pt x="436" y="49"/>
                  </a:lnTo>
                  <a:lnTo>
                    <a:pt x="447" y="46"/>
                  </a:lnTo>
                  <a:lnTo>
                    <a:pt x="455" y="46"/>
                  </a:lnTo>
                  <a:lnTo>
                    <a:pt x="452" y="88"/>
                  </a:lnTo>
                  <a:lnTo>
                    <a:pt x="447" y="126"/>
                  </a:lnTo>
                  <a:lnTo>
                    <a:pt x="438" y="162"/>
                  </a:lnTo>
                  <a:lnTo>
                    <a:pt x="427" y="197"/>
                  </a:lnTo>
                  <a:lnTo>
                    <a:pt x="419" y="233"/>
                  </a:lnTo>
                  <a:lnTo>
                    <a:pt x="414" y="271"/>
                  </a:lnTo>
                  <a:lnTo>
                    <a:pt x="411" y="310"/>
                  </a:lnTo>
                  <a:lnTo>
                    <a:pt x="414" y="348"/>
                  </a:lnTo>
                  <a:lnTo>
                    <a:pt x="430" y="348"/>
                  </a:lnTo>
                  <a:lnTo>
                    <a:pt x="447" y="346"/>
                  </a:lnTo>
                  <a:lnTo>
                    <a:pt x="466" y="340"/>
                  </a:lnTo>
                  <a:lnTo>
                    <a:pt x="485" y="332"/>
                  </a:lnTo>
                  <a:lnTo>
                    <a:pt x="501" y="324"/>
                  </a:lnTo>
                  <a:lnTo>
                    <a:pt x="518" y="315"/>
                  </a:lnTo>
                  <a:lnTo>
                    <a:pt x="529" y="302"/>
                  </a:lnTo>
                  <a:lnTo>
                    <a:pt x="537" y="291"/>
                  </a:lnTo>
                  <a:lnTo>
                    <a:pt x="562" y="282"/>
                  </a:lnTo>
                  <a:lnTo>
                    <a:pt x="584" y="271"/>
                  </a:lnTo>
                  <a:lnTo>
                    <a:pt x="603" y="258"/>
                  </a:lnTo>
                  <a:lnTo>
                    <a:pt x="625" y="241"/>
                  </a:lnTo>
                  <a:lnTo>
                    <a:pt x="644" y="228"/>
                  </a:lnTo>
                  <a:lnTo>
                    <a:pt x="663" y="214"/>
                  </a:lnTo>
                  <a:lnTo>
                    <a:pt x="685" y="200"/>
                  </a:lnTo>
                  <a:lnTo>
                    <a:pt x="707" y="192"/>
                  </a:lnTo>
                  <a:lnTo>
                    <a:pt x="751" y="175"/>
                  </a:lnTo>
                  <a:lnTo>
                    <a:pt x="795" y="162"/>
                  </a:lnTo>
                  <a:lnTo>
                    <a:pt x="838" y="148"/>
                  </a:lnTo>
                  <a:lnTo>
                    <a:pt x="882" y="137"/>
                  </a:lnTo>
                  <a:lnTo>
                    <a:pt x="923" y="129"/>
                  </a:lnTo>
                  <a:lnTo>
                    <a:pt x="967" y="121"/>
                  </a:lnTo>
                  <a:lnTo>
                    <a:pt x="1008" y="118"/>
                  </a:lnTo>
                  <a:lnTo>
                    <a:pt x="1049" y="118"/>
                  </a:lnTo>
                  <a:lnTo>
                    <a:pt x="1088" y="118"/>
                  </a:lnTo>
                  <a:lnTo>
                    <a:pt x="1129" y="123"/>
                  </a:lnTo>
                  <a:lnTo>
                    <a:pt x="1167" y="131"/>
                  </a:lnTo>
                  <a:lnTo>
                    <a:pt x="1203" y="145"/>
                  </a:lnTo>
                  <a:lnTo>
                    <a:pt x="1238" y="162"/>
                  </a:lnTo>
                  <a:lnTo>
                    <a:pt x="1274" y="181"/>
                  </a:lnTo>
                  <a:lnTo>
                    <a:pt x="1307" y="206"/>
                  </a:lnTo>
                  <a:lnTo>
                    <a:pt x="1340" y="236"/>
                  </a:lnTo>
                  <a:lnTo>
                    <a:pt x="1370" y="228"/>
                  </a:lnTo>
                  <a:lnTo>
                    <a:pt x="1392" y="225"/>
                  </a:lnTo>
                  <a:lnTo>
                    <a:pt x="1408" y="225"/>
                  </a:lnTo>
                  <a:lnTo>
                    <a:pt x="1422" y="228"/>
                  </a:lnTo>
                  <a:lnTo>
                    <a:pt x="1438" y="230"/>
                  </a:lnTo>
                  <a:lnTo>
                    <a:pt x="1455" y="236"/>
                  </a:lnTo>
                  <a:lnTo>
                    <a:pt x="1477" y="239"/>
                  </a:lnTo>
                  <a:lnTo>
                    <a:pt x="1504" y="241"/>
                  </a:lnTo>
                  <a:lnTo>
                    <a:pt x="1499" y="156"/>
                  </a:lnTo>
                  <a:lnTo>
                    <a:pt x="1523" y="156"/>
                  </a:lnTo>
                  <a:lnTo>
                    <a:pt x="1537" y="170"/>
                  </a:lnTo>
                  <a:lnTo>
                    <a:pt x="1556" y="192"/>
                  </a:lnTo>
                  <a:lnTo>
                    <a:pt x="1573" y="217"/>
                  </a:lnTo>
                  <a:lnTo>
                    <a:pt x="1595" y="241"/>
                  </a:lnTo>
                  <a:lnTo>
                    <a:pt x="1614" y="266"/>
                  </a:lnTo>
                  <a:lnTo>
                    <a:pt x="1636" y="285"/>
                  </a:lnTo>
                  <a:lnTo>
                    <a:pt x="1649" y="293"/>
                  </a:lnTo>
                  <a:lnTo>
                    <a:pt x="1660" y="299"/>
                  </a:lnTo>
                  <a:lnTo>
                    <a:pt x="1674" y="304"/>
                  </a:lnTo>
                  <a:lnTo>
                    <a:pt x="1685" y="304"/>
                  </a:lnTo>
                  <a:lnTo>
                    <a:pt x="1691" y="299"/>
                  </a:lnTo>
                  <a:lnTo>
                    <a:pt x="1696" y="291"/>
                  </a:lnTo>
                  <a:lnTo>
                    <a:pt x="1702" y="282"/>
                  </a:lnTo>
                  <a:lnTo>
                    <a:pt x="1707" y="274"/>
                  </a:lnTo>
                  <a:lnTo>
                    <a:pt x="1710" y="266"/>
                  </a:lnTo>
                  <a:lnTo>
                    <a:pt x="1715" y="258"/>
                  </a:lnTo>
                  <a:lnTo>
                    <a:pt x="1721" y="252"/>
                  </a:lnTo>
                  <a:lnTo>
                    <a:pt x="1726" y="247"/>
                  </a:lnTo>
                  <a:lnTo>
                    <a:pt x="1743" y="247"/>
                  </a:lnTo>
                  <a:lnTo>
                    <a:pt x="1756" y="252"/>
                  </a:lnTo>
                  <a:lnTo>
                    <a:pt x="1770" y="260"/>
                  </a:lnTo>
                  <a:lnTo>
                    <a:pt x="1784" y="269"/>
                  </a:lnTo>
                  <a:lnTo>
                    <a:pt x="1795" y="277"/>
                  </a:lnTo>
                  <a:lnTo>
                    <a:pt x="1808" y="288"/>
                  </a:lnTo>
                  <a:lnTo>
                    <a:pt x="1819" y="296"/>
                  </a:lnTo>
                  <a:lnTo>
                    <a:pt x="1830" y="304"/>
                  </a:lnTo>
                  <a:lnTo>
                    <a:pt x="1830" y="310"/>
                  </a:lnTo>
                  <a:lnTo>
                    <a:pt x="1833" y="313"/>
                  </a:lnTo>
                  <a:lnTo>
                    <a:pt x="1836" y="318"/>
                  </a:lnTo>
                  <a:lnTo>
                    <a:pt x="1839" y="321"/>
                  </a:lnTo>
                  <a:lnTo>
                    <a:pt x="1841" y="326"/>
                  </a:lnTo>
                  <a:lnTo>
                    <a:pt x="1844" y="329"/>
                  </a:lnTo>
                  <a:lnTo>
                    <a:pt x="1847" y="332"/>
                  </a:lnTo>
                  <a:lnTo>
                    <a:pt x="1849" y="335"/>
                  </a:lnTo>
                  <a:lnTo>
                    <a:pt x="1863" y="332"/>
                  </a:lnTo>
                  <a:lnTo>
                    <a:pt x="1877" y="321"/>
                  </a:lnTo>
                  <a:lnTo>
                    <a:pt x="1891" y="307"/>
                  </a:lnTo>
                  <a:lnTo>
                    <a:pt x="1904" y="291"/>
                  </a:lnTo>
                  <a:lnTo>
                    <a:pt x="1915" y="274"/>
                  </a:lnTo>
                  <a:lnTo>
                    <a:pt x="1929" y="258"/>
                  </a:lnTo>
                  <a:lnTo>
                    <a:pt x="1943" y="244"/>
                  </a:lnTo>
                  <a:lnTo>
                    <a:pt x="1954" y="236"/>
                  </a:lnTo>
                  <a:lnTo>
                    <a:pt x="1954" y="236"/>
                  </a:lnTo>
                  <a:lnTo>
                    <a:pt x="1956" y="236"/>
                  </a:lnTo>
                  <a:lnTo>
                    <a:pt x="1956" y="239"/>
                  </a:lnTo>
                  <a:lnTo>
                    <a:pt x="1959" y="239"/>
                  </a:lnTo>
                  <a:lnTo>
                    <a:pt x="1959" y="239"/>
                  </a:lnTo>
                  <a:lnTo>
                    <a:pt x="1962" y="241"/>
                  </a:lnTo>
                  <a:lnTo>
                    <a:pt x="1962" y="241"/>
                  </a:lnTo>
                  <a:lnTo>
                    <a:pt x="1962" y="244"/>
                  </a:lnTo>
                  <a:close/>
                </a:path>
              </a:pathLst>
            </a:custGeom>
            <a:solidFill>
              <a:srgbClr val="786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515920" y="5451840"/>
              <a:ext cx="874080" cy="312120"/>
            </a:xfrm>
            <a:custGeom>
              <a:avLst/>
              <a:gdLst/>
              <a:ahLst/>
              <a:rect l="l" t="t" r="r" b="b"/>
              <a:pathLst>
                <a:path w="1866" h="749">
                  <a:moveTo>
                    <a:pt x="1236" y="87"/>
                  </a:moveTo>
                  <a:lnTo>
                    <a:pt x="1269" y="104"/>
                  </a:lnTo>
                  <a:lnTo>
                    <a:pt x="1294" y="104"/>
                  </a:lnTo>
                  <a:lnTo>
                    <a:pt x="1294" y="101"/>
                  </a:lnTo>
                  <a:lnTo>
                    <a:pt x="1305" y="109"/>
                  </a:lnTo>
                  <a:lnTo>
                    <a:pt x="1313" y="115"/>
                  </a:lnTo>
                  <a:lnTo>
                    <a:pt x="1324" y="123"/>
                  </a:lnTo>
                  <a:lnTo>
                    <a:pt x="1335" y="129"/>
                  </a:lnTo>
                  <a:lnTo>
                    <a:pt x="1346" y="134"/>
                  </a:lnTo>
                  <a:lnTo>
                    <a:pt x="1357" y="137"/>
                  </a:lnTo>
                  <a:lnTo>
                    <a:pt x="1368" y="142"/>
                  </a:lnTo>
                  <a:lnTo>
                    <a:pt x="1376" y="148"/>
                  </a:lnTo>
                  <a:lnTo>
                    <a:pt x="1381" y="153"/>
                  </a:lnTo>
                  <a:lnTo>
                    <a:pt x="1381" y="183"/>
                  </a:lnTo>
                  <a:lnTo>
                    <a:pt x="1398" y="200"/>
                  </a:lnTo>
                  <a:lnTo>
                    <a:pt x="1431" y="186"/>
                  </a:lnTo>
                  <a:lnTo>
                    <a:pt x="1433" y="189"/>
                  </a:lnTo>
                  <a:lnTo>
                    <a:pt x="1436" y="189"/>
                  </a:lnTo>
                  <a:lnTo>
                    <a:pt x="1439" y="192"/>
                  </a:lnTo>
                  <a:lnTo>
                    <a:pt x="1442" y="194"/>
                  </a:lnTo>
                  <a:lnTo>
                    <a:pt x="1444" y="197"/>
                  </a:lnTo>
                  <a:lnTo>
                    <a:pt x="1447" y="197"/>
                  </a:lnTo>
                  <a:lnTo>
                    <a:pt x="1450" y="197"/>
                  </a:lnTo>
                  <a:lnTo>
                    <a:pt x="1453" y="200"/>
                  </a:lnTo>
                  <a:lnTo>
                    <a:pt x="1464" y="203"/>
                  </a:lnTo>
                  <a:lnTo>
                    <a:pt x="1477" y="205"/>
                  </a:lnTo>
                  <a:lnTo>
                    <a:pt x="1491" y="208"/>
                  </a:lnTo>
                  <a:lnTo>
                    <a:pt x="1502" y="211"/>
                  </a:lnTo>
                  <a:lnTo>
                    <a:pt x="1516" y="214"/>
                  </a:lnTo>
                  <a:lnTo>
                    <a:pt x="1529" y="216"/>
                  </a:lnTo>
                  <a:lnTo>
                    <a:pt x="1543" y="216"/>
                  </a:lnTo>
                  <a:lnTo>
                    <a:pt x="1557" y="219"/>
                  </a:lnTo>
                  <a:lnTo>
                    <a:pt x="1557" y="238"/>
                  </a:lnTo>
                  <a:lnTo>
                    <a:pt x="1658" y="288"/>
                  </a:lnTo>
                  <a:lnTo>
                    <a:pt x="1803" y="417"/>
                  </a:lnTo>
                  <a:lnTo>
                    <a:pt x="1866" y="535"/>
                  </a:lnTo>
                  <a:lnTo>
                    <a:pt x="1864" y="730"/>
                  </a:lnTo>
                  <a:lnTo>
                    <a:pt x="1844" y="738"/>
                  </a:lnTo>
                  <a:lnTo>
                    <a:pt x="1828" y="743"/>
                  </a:lnTo>
                  <a:lnTo>
                    <a:pt x="1809" y="749"/>
                  </a:lnTo>
                  <a:lnTo>
                    <a:pt x="1787" y="749"/>
                  </a:lnTo>
                  <a:lnTo>
                    <a:pt x="1768" y="746"/>
                  </a:lnTo>
                  <a:lnTo>
                    <a:pt x="1748" y="743"/>
                  </a:lnTo>
                  <a:lnTo>
                    <a:pt x="1729" y="738"/>
                  </a:lnTo>
                  <a:lnTo>
                    <a:pt x="1707" y="732"/>
                  </a:lnTo>
                  <a:lnTo>
                    <a:pt x="1669" y="716"/>
                  </a:lnTo>
                  <a:lnTo>
                    <a:pt x="1633" y="697"/>
                  </a:lnTo>
                  <a:lnTo>
                    <a:pt x="1601" y="675"/>
                  </a:lnTo>
                  <a:lnTo>
                    <a:pt x="1570" y="656"/>
                  </a:lnTo>
                  <a:lnTo>
                    <a:pt x="1562" y="650"/>
                  </a:lnTo>
                  <a:lnTo>
                    <a:pt x="1554" y="642"/>
                  </a:lnTo>
                  <a:lnTo>
                    <a:pt x="1543" y="636"/>
                  </a:lnTo>
                  <a:lnTo>
                    <a:pt x="1535" y="631"/>
                  </a:lnTo>
                  <a:lnTo>
                    <a:pt x="1524" y="623"/>
                  </a:lnTo>
                  <a:lnTo>
                    <a:pt x="1516" y="617"/>
                  </a:lnTo>
                  <a:lnTo>
                    <a:pt x="1507" y="612"/>
                  </a:lnTo>
                  <a:lnTo>
                    <a:pt x="1502" y="606"/>
                  </a:lnTo>
                  <a:lnTo>
                    <a:pt x="1502" y="601"/>
                  </a:lnTo>
                  <a:lnTo>
                    <a:pt x="1499" y="601"/>
                  </a:lnTo>
                  <a:lnTo>
                    <a:pt x="1496" y="598"/>
                  </a:lnTo>
                  <a:lnTo>
                    <a:pt x="1494" y="595"/>
                  </a:lnTo>
                  <a:lnTo>
                    <a:pt x="1488" y="592"/>
                  </a:lnTo>
                  <a:lnTo>
                    <a:pt x="1485" y="590"/>
                  </a:lnTo>
                  <a:lnTo>
                    <a:pt x="1483" y="587"/>
                  </a:lnTo>
                  <a:lnTo>
                    <a:pt x="1480" y="587"/>
                  </a:lnTo>
                  <a:lnTo>
                    <a:pt x="1477" y="584"/>
                  </a:lnTo>
                  <a:lnTo>
                    <a:pt x="1425" y="568"/>
                  </a:lnTo>
                  <a:lnTo>
                    <a:pt x="1370" y="554"/>
                  </a:lnTo>
                  <a:lnTo>
                    <a:pt x="1316" y="546"/>
                  </a:lnTo>
                  <a:lnTo>
                    <a:pt x="1258" y="538"/>
                  </a:lnTo>
                  <a:lnTo>
                    <a:pt x="1200" y="535"/>
                  </a:lnTo>
                  <a:lnTo>
                    <a:pt x="1140" y="535"/>
                  </a:lnTo>
                  <a:lnTo>
                    <a:pt x="1080" y="535"/>
                  </a:lnTo>
                  <a:lnTo>
                    <a:pt x="1020" y="538"/>
                  </a:lnTo>
                  <a:lnTo>
                    <a:pt x="902" y="549"/>
                  </a:lnTo>
                  <a:lnTo>
                    <a:pt x="781" y="565"/>
                  </a:lnTo>
                  <a:lnTo>
                    <a:pt x="669" y="581"/>
                  </a:lnTo>
                  <a:lnTo>
                    <a:pt x="562" y="595"/>
                  </a:lnTo>
                  <a:lnTo>
                    <a:pt x="551" y="595"/>
                  </a:lnTo>
                  <a:lnTo>
                    <a:pt x="540" y="595"/>
                  </a:lnTo>
                  <a:lnTo>
                    <a:pt x="529" y="595"/>
                  </a:lnTo>
                  <a:lnTo>
                    <a:pt x="518" y="595"/>
                  </a:lnTo>
                  <a:lnTo>
                    <a:pt x="510" y="592"/>
                  </a:lnTo>
                  <a:lnTo>
                    <a:pt x="499" y="592"/>
                  </a:lnTo>
                  <a:lnTo>
                    <a:pt x="491" y="590"/>
                  </a:lnTo>
                  <a:lnTo>
                    <a:pt x="483" y="584"/>
                  </a:lnTo>
                  <a:lnTo>
                    <a:pt x="483" y="579"/>
                  </a:lnTo>
                  <a:lnTo>
                    <a:pt x="480" y="573"/>
                  </a:lnTo>
                  <a:lnTo>
                    <a:pt x="480" y="568"/>
                  </a:lnTo>
                  <a:lnTo>
                    <a:pt x="477" y="559"/>
                  </a:lnTo>
                  <a:lnTo>
                    <a:pt x="474" y="554"/>
                  </a:lnTo>
                  <a:lnTo>
                    <a:pt x="474" y="549"/>
                  </a:lnTo>
                  <a:lnTo>
                    <a:pt x="472" y="543"/>
                  </a:lnTo>
                  <a:lnTo>
                    <a:pt x="472" y="535"/>
                  </a:lnTo>
                  <a:lnTo>
                    <a:pt x="450" y="538"/>
                  </a:lnTo>
                  <a:lnTo>
                    <a:pt x="428" y="538"/>
                  </a:lnTo>
                  <a:lnTo>
                    <a:pt x="406" y="538"/>
                  </a:lnTo>
                  <a:lnTo>
                    <a:pt x="384" y="540"/>
                  </a:lnTo>
                  <a:lnTo>
                    <a:pt x="362" y="540"/>
                  </a:lnTo>
                  <a:lnTo>
                    <a:pt x="340" y="543"/>
                  </a:lnTo>
                  <a:lnTo>
                    <a:pt x="318" y="543"/>
                  </a:lnTo>
                  <a:lnTo>
                    <a:pt x="299" y="540"/>
                  </a:lnTo>
                  <a:lnTo>
                    <a:pt x="299" y="535"/>
                  </a:lnTo>
                  <a:lnTo>
                    <a:pt x="299" y="532"/>
                  </a:lnTo>
                  <a:lnTo>
                    <a:pt x="269" y="532"/>
                  </a:lnTo>
                  <a:lnTo>
                    <a:pt x="236" y="538"/>
                  </a:lnTo>
                  <a:lnTo>
                    <a:pt x="206" y="546"/>
                  </a:lnTo>
                  <a:lnTo>
                    <a:pt x="173" y="554"/>
                  </a:lnTo>
                  <a:lnTo>
                    <a:pt x="140" y="562"/>
                  </a:lnTo>
                  <a:lnTo>
                    <a:pt x="107" y="568"/>
                  </a:lnTo>
                  <a:lnTo>
                    <a:pt x="74" y="568"/>
                  </a:lnTo>
                  <a:lnTo>
                    <a:pt x="41" y="565"/>
                  </a:lnTo>
                  <a:lnTo>
                    <a:pt x="33" y="562"/>
                  </a:lnTo>
                  <a:lnTo>
                    <a:pt x="25" y="557"/>
                  </a:lnTo>
                  <a:lnTo>
                    <a:pt x="20" y="549"/>
                  </a:lnTo>
                  <a:lnTo>
                    <a:pt x="14" y="538"/>
                  </a:lnTo>
                  <a:lnTo>
                    <a:pt x="11" y="527"/>
                  </a:lnTo>
                  <a:lnTo>
                    <a:pt x="6" y="513"/>
                  </a:lnTo>
                  <a:lnTo>
                    <a:pt x="3" y="496"/>
                  </a:lnTo>
                  <a:lnTo>
                    <a:pt x="0" y="480"/>
                  </a:lnTo>
                  <a:lnTo>
                    <a:pt x="25" y="430"/>
                  </a:lnTo>
                  <a:lnTo>
                    <a:pt x="146" y="312"/>
                  </a:lnTo>
                  <a:lnTo>
                    <a:pt x="167" y="312"/>
                  </a:lnTo>
                  <a:lnTo>
                    <a:pt x="241" y="249"/>
                  </a:lnTo>
                  <a:lnTo>
                    <a:pt x="346" y="200"/>
                  </a:lnTo>
                  <a:lnTo>
                    <a:pt x="384" y="142"/>
                  </a:lnTo>
                  <a:lnTo>
                    <a:pt x="609" y="32"/>
                  </a:lnTo>
                  <a:lnTo>
                    <a:pt x="751" y="0"/>
                  </a:lnTo>
                  <a:lnTo>
                    <a:pt x="1014" y="11"/>
                  </a:lnTo>
                  <a:lnTo>
                    <a:pt x="1236" y="87"/>
                  </a:lnTo>
                  <a:close/>
                </a:path>
              </a:pathLst>
            </a:custGeom>
            <a:solidFill>
              <a:srgbClr val="a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6440" y="5459760"/>
              <a:ext cx="844560" cy="283320"/>
            </a:xfrm>
            <a:custGeom>
              <a:avLst/>
              <a:gdLst/>
              <a:ahLst/>
              <a:rect l="l" t="t" r="r" b="b"/>
              <a:pathLst>
                <a:path w="1803" h="680">
                  <a:moveTo>
                    <a:pt x="1195" y="82"/>
                  </a:moveTo>
                  <a:lnTo>
                    <a:pt x="1198" y="85"/>
                  </a:lnTo>
                  <a:lnTo>
                    <a:pt x="1203" y="88"/>
                  </a:lnTo>
                  <a:lnTo>
                    <a:pt x="1206" y="88"/>
                  </a:lnTo>
                  <a:lnTo>
                    <a:pt x="1209" y="90"/>
                  </a:lnTo>
                  <a:lnTo>
                    <a:pt x="1214" y="90"/>
                  </a:lnTo>
                  <a:lnTo>
                    <a:pt x="1217" y="93"/>
                  </a:lnTo>
                  <a:lnTo>
                    <a:pt x="1222" y="96"/>
                  </a:lnTo>
                  <a:lnTo>
                    <a:pt x="1225" y="96"/>
                  </a:lnTo>
                  <a:lnTo>
                    <a:pt x="1228" y="96"/>
                  </a:lnTo>
                  <a:lnTo>
                    <a:pt x="1230" y="96"/>
                  </a:lnTo>
                  <a:lnTo>
                    <a:pt x="1233" y="96"/>
                  </a:lnTo>
                  <a:lnTo>
                    <a:pt x="1236" y="96"/>
                  </a:lnTo>
                  <a:lnTo>
                    <a:pt x="1239" y="96"/>
                  </a:lnTo>
                  <a:lnTo>
                    <a:pt x="1241" y="96"/>
                  </a:lnTo>
                  <a:lnTo>
                    <a:pt x="1247" y="99"/>
                  </a:lnTo>
                  <a:lnTo>
                    <a:pt x="1250" y="99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0" y="96"/>
                  </a:lnTo>
                  <a:lnTo>
                    <a:pt x="1258" y="101"/>
                  </a:lnTo>
                  <a:lnTo>
                    <a:pt x="1269" y="110"/>
                  </a:lnTo>
                  <a:lnTo>
                    <a:pt x="1277" y="115"/>
                  </a:lnTo>
                  <a:lnTo>
                    <a:pt x="1288" y="121"/>
                  </a:lnTo>
                  <a:lnTo>
                    <a:pt x="1299" y="123"/>
                  </a:lnTo>
                  <a:lnTo>
                    <a:pt x="1310" y="129"/>
                  </a:lnTo>
                  <a:lnTo>
                    <a:pt x="1318" y="134"/>
                  </a:lnTo>
                  <a:lnTo>
                    <a:pt x="1329" y="137"/>
                  </a:lnTo>
                  <a:lnTo>
                    <a:pt x="1329" y="137"/>
                  </a:lnTo>
                  <a:lnTo>
                    <a:pt x="1332" y="140"/>
                  </a:lnTo>
                  <a:lnTo>
                    <a:pt x="1332" y="140"/>
                  </a:lnTo>
                  <a:lnTo>
                    <a:pt x="1332" y="140"/>
                  </a:lnTo>
                  <a:lnTo>
                    <a:pt x="1332" y="140"/>
                  </a:lnTo>
                  <a:lnTo>
                    <a:pt x="1332" y="140"/>
                  </a:lnTo>
                  <a:lnTo>
                    <a:pt x="1332" y="142"/>
                  </a:lnTo>
                  <a:lnTo>
                    <a:pt x="1332" y="142"/>
                  </a:lnTo>
                  <a:lnTo>
                    <a:pt x="1332" y="145"/>
                  </a:lnTo>
                  <a:lnTo>
                    <a:pt x="1332" y="148"/>
                  </a:lnTo>
                  <a:lnTo>
                    <a:pt x="1332" y="153"/>
                  </a:lnTo>
                  <a:lnTo>
                    <a:pt x="1332" y="156"/>
                  </a:lnTo>
                  <a:lnTo>
                    <a:pt x="1332" y="159"/>
                  </a:lnTo>
                  <a:lnTo>
                    <a:pt x="1332" y="164"/>
                  </a:lnTo>
                  <a:lnTo>
                    <a:pt x="1332" y="167"/>
                  </a:lnTo>
                  <a:lnTo>
                    <a:pt x="1332" y="170"/>
                  </a:lnTo>
                  <a:lnTo>
                    <a:pt x="1335" y="173"/>
                  </a:lnTo>
                  <a:lnTo>
                    <a:pt x="1337" y="173"/>
                  </a:lnTo>
                  <a:lnTo>
                    <a:pt x="1340" y="175"/>
                  </a:lnTo>
                  <a:lnTo>
                    <a:pt x="1340" y="178"/>
                  </a:lnTo>
                  <a:lnTo>
                    <a:pt x="1343" y="178"/>
                  </a:lnTo>
                  <a:lnTo>
                    <a:pt x="1346" y="181"/>
                  </a:lnTo>
                  <a:lnTo>
                    <a:pt x="1348" y="184"/>
                  </a:lnTo>
                  <a:lnTo>
                    <a:pt x="1348" y="184"/>
                  </a:lnTo>
                  <a:lnTo>
                    <a:pt x="1354" y="184"/>
                  </a:lnTo>
                  <a:lnTo>
                    <a:pt x="1357" y="181"/>
                  </a:lnTo>
                  <a:lnTo>
                    <a:pt x="1362" y="181"/>
                  </a:lnTo>
                  <a:lnTo>
                    <a:pt x="1365" y="178"/>
                  </a:lnTo>
                  <a:lnTo>
                    <a:pt x="1367" y="178"/>
                  </a:lnTo>
                  <a:lnTo>
                    <a:pt x="1373" y="175"/>
                  </a:lnTo>
                  <a:lnTo>
                    <a:pt x="1376" y="175"/>
                  </a:lnTo>
                  <a:lnTo>
                    <a:pt x="1381" y="173"/>
                  </a:lnTo>
                  <a:lnTo>
                    <a:pt x="1384" y="175"/>
                  </a:lnTo>
                  <a:lnTo>
                    <a:pt x="1387" y="175"/>
                  </a:lnTo>
                  <a:lnTo>
                    <a:pt x="1389" y="178"/>
                  </a:lnTo>
                  <a:lnTo>
                    <a:pt x="1392" y="181"/>
                  </a:lnTo>
                  <a:lnTo>
                    <a:pt x="1395" y="181"/>
                  </a:lnTo>
                  <a:lnTo>
                    <a:pt x="1398" y="184"/>
                  </a:lnTo>
                  <a:lnTo>
                    <a:pt x="1400" y="184"/>
                  </a:lnTo>
                  <a:lnTo>
                    <a:pt x="1403" y="184"/>
                  </a:lnTo>
                  <a:lnTo>
                    <a:pt x="1414" y="189"/>
                  </a:lnTo>
                  <a:lnTo>
                    <a:pt x="1425" y="192"/>
                  </a:lnTo>
                  <a:lnTo>
                    <a:pt x="1439" y="195"/>
                  </a:lnTo>
                  <a:lnTo>
                    <a:pt x="1452" y="197"/>
                  </a:lnTo>
                  <a:lnTo>
                    <a:pt x="1463" y="200"/>
                  </a:lnTo>
                  <a:lnTo>
                    <a:pt x="1477" y="200"/>
                  </a:lnTo>
                  <a:lnTo>
                    <a:pt x="1491" y="203"/>
                  </a:lnTo>
                  <a:lnTo>
                    <a:pt x="1502" y="203"/>
                  </a:lnTo>
                  <a:lnTo>
                    <a:pt x="1502" y="206"/>
                  </a:lnTo>
                  <a:lnTo>
                    <a:pt x="1502" y="208"/>
                  </a:lnTo>
                  <a:lnTo>
                    <a:pt x="1502" y="211"/>
                  </a:lnTo>
                  <a:lnTo>
                    <a:pt x="1502" y="214"/>
                  </a:lnTo>
                  <a:lnTo>
                    <a:pt x="1502" y="214"/>
                  </a:lnTo>
                  <a:lnTo>
                    <a:pt x="1502" y="217"/>
                  </a:lnTo>
                  <a:lnTo>
                    <a:pt x="1502" y="219"/>
                  </a:lnTo>
                  <a:lnTo>
                    <a:pt x="1502" y="222"/>
                  </a:lnTo>
                  <a:lnTo>
                    <a:pt x="1515" y="228"/>
                  </a:lnTo>
                  <a:lnTo>
                    <a:pt x="1529" y="233"/>
                  </a:lnTo>
                  <a:lnTo>
                    <a:pt x="1540" y="239"/>
                  </a:lnTo>
                  <a:lnTo>
                    <a:pt x="1554" y="244"/>
                  </a:lnTo>
                  <a:lnTo>
                    <a:pt x="1565" y="250"/>
                  </a:lnTo>
                  <a:lnTo>
                    <a:pt x="1578" y="255"/>
                  </a:lnTo>
                  <a:lnTo>
                    <a:pt x="1589" y="261"/>
                  </a:lnTo>
                  <a:lnTo>
                    <a:pt x="1603" y="266"/>
                  </a:lnTo>
                  <a:lnTo>
                    <a:pt x="1620" y="282"/>
                  </a:lnTo>
                  <a:lnTo>
                    <a:pt x="1636" y="296"/>
                  </a:lnTo>
                  <a:lnTo>
                    <a:pt x="1655" y="310"/>
                  </a:lnTo>
                  <a:lnTo>
                    <a:pt x="1672" y="324"/>
                  </a:lnTo>
                  <a:lnTo>
                    <a:pt x="1691" y="340"/>
                  </a:lnTo>
                  <a:lnTo>
                    <a:pt x="1707" y="354"/>
                  </a:lnTo>
                  <a:lnTo>
                    <a:pt x="1724" y="368"/>
                  </a:lnTo>
                  <a:lnTo>
                    <a:pt x="1743" y="384"/>
                  </a:lnTo>
                  <a:lnTo>
                    <a:pt x="1751" y="398"/>
                  </a:lnTo>
                  <a:lnTo>
                    <a:pt x="1757" y="409"/>
                  </a:lnTo>
                  <a:lnTo>
                    <a:pt x="1765" y="422"/>
                  </a:lnTo>
                  <a:lnTo>
                    <a:pt x="1773" y="436"/>
                  </a:lnTo>
                  <a:lnTo>
                    <a:pt x="1781" y="450"/>
                  </a:lnTo>
                  <a:lnTo>
                    <a:pt x="1787" y="464"/>
                  </a:lnTo>
                  <a:lnTo>
                    <a:pt x="1795" y="477"/>
                  </a:lnTo>
                  <a:lnTo>
                    <a:pt x="1803" y="491"/>
                  </a:lnTo>
                  <a:lnTo>
                    <a:pt x="1803" y="513"/>
                  </a:lnTo>
                  <a:lnTo>
                    <a:pt x="1803" y="535"/>
                  </a:lnTo>
                  <a:lnTo>
                    <a:pt x="1800" y="557"/>
                  </a:lnTo>
                  <a:lnTo>
                    <a:pt x="1800" y="579"/>
                  </a:lnTo>
                  <a:lnTo>
                    <a:pt x="1800" y="601"/>
                  </a:lnTo>
                  <a:lnTo>
                    <a:pt x="1800" y="623"/>
                  </a:lnTo>
                  <a:lnTo>
                    <a:pt x="1800" y="645"/>
                  </a:lnTo>
                  <a:lnTo>
                    <a:pt x="1800" y="667"/>
                  </a:lnTo>
                  <a:lnTo>
                    <a:pt x="1781" y="675"/>
                  </a:lnTo>
                  <a:lnTo>
                    <a:pt x="1765" y="678"/>
                  </a:lnTo>
                  <a:lnTo>
                    <a:pt x="1746" y="680"/>
                  </a:lnTo>
                  <a:lnTo>
                    <a:pt x="1726" y="680"/>
                  </a:lnTo>
                  <a:lnTo>
                    <a:pt x="1688" y="678"/>
                  </a:lnTo>
                  <a:lnTo>
                    <a:pt x="1650" y="667"/>
                  </a:lnTo>
                  <a:lnTo>
                    <a:pt x="1611" y="653"/>
                  </a:lnTo>
                  <a:lnTo>
                    <a:pt x="1578" y="634"/>
                  </a:lnTo>
                  <a:lnTo>
                    <a:pt x="1546" y="615"/>
                  </a:lnTo>
                  <a:lnTo>
                    <a:pt x="1515" y="595"/>
                  </a:lnTo>
                  <a:lnTo>
                    <a:pt x="1510" y="590"/>
                  </a:lnTo>
                  <a:lnTo>
                    <a:pt x="1499" y="584"/>
                  </a:lnTo>
                  <a:lnTo>
                    <a:pt x="1491" y="579"/>
                  </a:lnTo>
                  <a:lnTo>
                    <a:pt x="1483" y="573"/>
                  </a:lnTo>
                  <a:lnTo>
                    <a:pt x="1472" y="568"/>
                  </a:lnTo>
                  <a:lnTo>
                    <a:pt x="1463" y="562"/>
                  </a:lnTo>
                  <a:lnTo>
                    <a:pt x="1455" y="557"/>
                  </a:lnTo>
                  <a:lnTo>
                    <a:pt x="1450" y="551"/>
                  </a:lnTo>
                  <a:lnTo>
                    <a:pt x="1450" y="551"/>
                  </a:lnTo>
                  <a:lnTo>
                    <a:pt x="1450" y="549"/>
                  </a:lnTo>
                  <a:lnTo>
                    <a:pt x="1450" y="549"/>
                  </a:lnTo>
                  <a:lnTo>
                    <a:pt x="1450" y="549"/>
                  </a:lnTo>
                  <a:lnTo>
                    <a:pt x="1450" y="549"/>
                  </a:lnTo>
                  <a:lnTo>
                    <a:pt x="1450" y="549"/>
                  </a:lnTo>
                  <a:lnTo>
                    <a:pt x="1450" y="546"/>
                  </a:lnTo>
                  <a:lnTo>
                    <a:pt x="1450" y="546"/>
                  </a:lnTo>
                  <a:lnTo>
                    <a:pt x="1447" y="546"/>
                  </a:lnTo>
                  <a:lnTo>
                    <a:pt x="1444" y="543"/>
                  </a:lnTo>
                  <a:lnTo>
                    <a:pt x="1441" y="543"/>
                  </a:lnTo>
                  <a:lnTo>
                    <a:pt x="1439" y="540"/>
                  </a:lnTo>
                  <a:lnTo>
                    <a:pt x="1433" y="538"/>
                  </a:lnTo>
                  <a:lnTo>
                    <a:pt x="1430" y="535"/>
                  </a:lnTo>
                  <a:lnTo>
                    <a:pt x="1428" y="532"/>
                  </a:lnTo>
                  <a:lnTo>
                    <a:pt x="1425" y="532"/>
                  </a:lnTo>
                  <a:lnTo>
                    <a:pt x="1376" y="516"/>
                  </a:lnTo>
                  <a:lnTo>
                    <a:pt x="1324" y="505"/>
                  </a:lnTo>
                  <a:lnTo>
                    <a:pt x="1269" y="494"/>
                  </a:lnTo>
                  <a:lnTo>
                    <a:pt x="1214" y="488"/>
                  </a:lnTo>
                  <a:lnTo>
                    <a:pt x="1156" y="486"/>
                  </a:lnTo>
                  <a:lnTo>
                    <a:pt x="1102" y="483"/>
                  </a:lnTo>
                  <a:lnTo>
                    <a:pt x="1044" y="483"/>
                  </a:lnTo>
                  <a:lnTo>
                    <a:pt x="984" y="486"/>
                  </a:lnTo>
                  <a:lnTo>
                    <a:pt x="869" y="497"/>
                  </a:lnTo>
                  <a:lnTo>
                    <a:pt x="756" y="508"/>
                  </a:lnTo>
                  <a:lnTo>
                    <a:pt x="644" y="521"/>
                  </a:lnTo>
                  <a:lnTo>
                    <a:pt x="540" y="535"/>
                  </a:lnTo>
                  <a:lnTo>
                    <a:pt x="532" y="535"/>
                  </a:lnTo>
                  <a:lnTo>
                    <a:pt x="521" y="532"/>
                  </a:lnTo>
                  <a:lnTo>
                    <a:pt x="510" y="532"/>
                  </a:lnTo>
                  <a:lnTo>
                    <a:pt x="502" y="532"/>
                  </a:lnTo>
                  <a:lnTo>
                    <a:pt x="491" y="532"/>
                  </a:lnTo>
                  <a:lnTo>
                    <a:pt x="480" y="530"/>
                  </a:lnTo>
                  <a:lnTo>
                    <a:pt x="471" y="527"/>
                  </a:lnTo>
                  <a:lnTo>
                    <a:pt x="463" y="524"/>
                  </a:lnTo>
                  <a:lnTo>
                    <a:pt x="463" y="519"/>
                  </a:lnTo>
                  <a:lnTo>
                    <a:pt x="463" y="513"/>
                  </a:lnTo>
                  <a:lnTo>
                    <a:pt x="461" y="508"/>
                  </a:lnTo>
                  <a:lnTo>
                    <a:pt x="461" y="502"/>
                  </a:lnTo>
                  <a:lnTo>
                    <a:pt x="458" y="497"/>
                  </a:lnTo>
                  <a:lnTo>
                    <a:pt x="455" y="491"/>
                  </a:lnTo>
                  <a:lnTo>
                    <a:pt x="455" y="486"/>
                  </a:lnTo>
                  <a:lnTo>
                    <a:pt x="455" y="480"/>
                  </a:lnTo>
                  <a:lnTo>
                    <a:pt x="433" y="480"/>
                  </a:lnTo>
                  <a:lnTo>
                    <a:pt x="411" y="480"/>
                  </a:lnTo>
                  <a:lnTo>
                    <a:pt x="389" y="480"/>
                  </a:lnTo>
                  <a:lnTo>
                    <a:pt x="370" y="483"/>
                  </a:lnTo>
                  <a:lnTo>
                    <a:pt x="348" y="483"/>
                  </a:lnTo>
                  <a:lnTo>
                    <a:pt x="326" y="483"/>
                  </a:lnTo>
                  <a:lnTo>
                    <a:pt x="307" y="483"/>
                  </a:lnTo>
                  <a:lnTo>
                    <a:pt x="288" y="483"/>
                  </a:lnTo>
                  <a:lnTo>
                    <a:pt x="288" y="483"/>
                  </a:lnTo>
                  <a:lnTo>
                    <a:pt x="288" y="480"/>
                  </a:lnTo>
                  <a:lnTo>
                    <a:pt x="288" y="480"/>
                  </a:lnTo>
                  <a:lnTo>
                    <a:pt x="288" y="480"/>
                  </a:lnTo>
                  <a:lnTo>
                    <a:pt x="288" y="480"/>
                  </a:lnTo>
                  <a:lnTo>
                    <a:pt x="288" y="480"/>
                  </a:lnTo>
                  <a:lnTo>
                    <a:pt x="288" y="477"/>
                  </a:lnTo>
                  <a:lnTo>
                    <a:pt x="288" y="477"/>
                  </a:lnTo>
                  <a:lnTo>
                    <a:pt x="288" y="477"/>
                  </a:lnTo>
                  <a:lnTo>
                    <a:pt x="288" y="477"/>
                  </a:lnTo>
                  <a:lnTo>
                    <a:pt x="288" y="477"/>
                  </a:lnTo>
                  <a:lnTo>
                    <a:pt x="288" y="475"/>
                  </a:lnTo>
                  <a:lnTo>
                    <a:pt x="288" y="475"/>
                  </a:lnTo>
                  <a:lnTo>
                    <a:pt x="288" y="475"/>
                  </a:lnTo>
                  <a:lnTo>
                    <a:pt x="288" y="475"/>
                  </a:lnTo>
                  <a:lnTo>
                    <a:pt x="288" y="475"/>
                  </a:lnTo>
                  <a:lnTo>
                    <a:pt x="258" y="475"/>
                  </a:lnTo>
                  <a:lnTo>
                    <a:pt x="228" y="480"/>
                  </a:lnTo>
                  <a:lnTo>
                    <a:pt x="197" y="486"/>
                  </a:lnTo>
                  <a:lnTo>
                    <a:pt x="165" y="494"/>
                  </a:lnTo>
                  <a:lnTo>
                    <a:pt x="132" y="499"/>
                  </a:lnTo>
                  <a:lnTo>
                    <a:pt x="102" y="505"/>
                  </a:lnTo>
                  <a:lnTo>
                    <a:pt x="69" y="505"/>
                  </a:lnTo>
                  <a:lnTo>
                    <a:pt x="39" y="502"/>
                  </a:lnTo>
                  <a:lnTo>
                    <a:pt x="30" y="499"/>
                  </a:lnTo>
                  <a:lnTo>
                    <a:pt x="25" y="494"/>
                  </a:lnTo>
                  <a:lnTo>
                    <a:pt x="17" y="488"/>
                  </a:lnTo>
                  <a:lnTo>
                    <a:pt x="14" y="477"/>
                  </a:lnTo>
                  <a:lnTo>
                    <a:pt x="8" y="466"/>
                  </a:lnTo>
                  <a:lnTo>
                    <a:pt x="6" y="455"/>
                  </a:lnTo>
                  <a:lnTo>
                    <a:pt x="3" y="439"/>
                  </a:lnTo>
                  <a:lnTo>
                    <a:pt x="0" y="425"/>
                  </a:lnTo>
                  <a:lnTo>
                    <a:pt x="3" y="420"/>
                  </a:lnTo>
                  <a:lnTo>
                    <a:pt x="6" y="414"/>
                  </a:lnTo>
                  <a:lnTo>
                    <a:pt x="8" y="409"/>
                  </a:lnTo>
                  <a:lnTo>
                    <a:pt x="11" y="403"/>
                  </a:lnTo>
                  <a:lnTo>
                    <a:pt x="14" y="398"/>
                  </a:lnTo>
                  <a:lnTo>
                    <a:pt x="17" y="392"/>
                  </a:lnTo>
                  <a:lnTo>
                    <a:pt x="19" y="387"/>
                  </a:lnTo>
                  <a:lnTo>
                    <a:pt x="25" y="381"/>
                  </a:lnTo>
                  <a:lnTo>
                    <a:pt x="39" y="368"/>
                  </a:lnTo>
                  <a:lnTo>
                    <a:pt x="52" y="354"/>
                  </a:lnTo>
                  <a:lnTo>
                    <a:pt x="66" y="343"/>
                  </a:lnTo>
                  <a:lnTo>
                    <a:pt x="82" y="329"/>
                  </a:lnTo>
                  <a:lnTo>
                    <a:pt x="96" y="315"/>
                  </a:lnTo>
                  <a:lnTo>
                    <a:pt x="110" y="302"/>
                  </a:lnTo>
                  <a:lnTo>
                    <a:pt x="126" y="288"/>
                  </a:lnTo>
                  <a:lnTo>
                    <a:pt x="140" y="274"/>
                  </a:lnTo>
                  <a:lnTo>
                    <a:pt x="143" y="274"/>
                  </a:lnTo>
                  <a:lnTo>
                    <a:pt x="145" y="274"/>
                  </a:lnTo>
                  <a:lnTo>
                    <a:pt x="148" y="274"/>
                  </a:lnTo>
                  <a:lnTo>
                    <a:pt x="151" y="274"/>
                  </a:lnTo>
                  <a:lnTo>
                    <a:pt x="154" y="274"/>
                  </a:lnTo>
                  <a:lnTo>
                    <a:pt x="156" y="274"/>
                  </a:lnTo>
                  <a:lnTo>
                    <a:pt x="159" y="274"/>
                  </a:lnTo>
                  <a:lnTo>
                    <a:pt x="162" y="274"/>
                  </a:lnTo>
                  <a:lnTo>
                    <a:pt x="170" y="269"/>
                  </a:lnTo>
                  <a:lnTo>
                    <a:pt x="178" y="261"/>
                  </a:lnTo>
                  <a:lnTo>
                    <a:pt x="189" y="252"/>
                  </a:lnTo>
                  <a:lnTo>
                    <a:pt x="197" y="247"/>
                  </a:lnTo>
                  <a:lnTo>
                    <a:pt x="206" y="239"/>
                  </a:lnTo>
                  <a:lnTo>
                    <a:pt x="214" y="233"/>
                  </a:lnTo>
                  <a:lnTo>
                    <a:pt x="225" y="225"/>
                  </a:lnTo>
                  <a:lnTo>
                    <a:pt x="233" y="219"/>
                  </a:lnTo>
                  <a:lnTo>
                    <a:pt x="244" y="214"/>
                  </a:lnTo>
                  <a:lnTo>
                    <a:pt x="258" y="208"/>
                  </a:lnTo>
                  <a:lnTo>
                    <a:pt x="269" y="203"/>
                  </a:lnTo>
                  <a:lnTo>
                    <a:pt x="282" y="197"/>
                  </a:lnTo>
                  <a:lnTo>
                    <a:pt x="293" y="192"/>
                  </a:lnTo>
                  <a:lnTo>
                    <a:pt x="307" y="186"/>
                  </a:lnTo>
                  <a:lnTo>
                    <a:pt x="321" y="181"/>
                  </a:lnTo>
                  <a:lnTo>
                    <a:pt x="332" y="175"/>
                  </a:lnTo>
                  <a:lnTo>
                    <a:pt x="337" y="170"/>
                  </a:lnTo>
                  <a:lnTo>
                    <a:pt x="343" y="162"/>
                  </a:lnTo>
                  <a:lnTo>
                    <a:pt x="345" y="156"/>
                  </a:lnTo>
                  <a:lnTo>
                    <a:pt x="351" y="151"/>
                  </a:lnTo>
                  <a:lnTo>
                    <a:pt x="356" y="145"/>
                  </a:lnTo>
                  <a:lnTo>
                    <a:pt x="362" y="137"/>
                  </a:lnTo>
                  <a:lnTo>
                    <a:pt x="365" y="132"/>
                  </a:lnTo>
                  <a:lnTo>
                    <a:pt x="370" y="126"/>
                  </a:lnTo>
                  <a:lnTo>
                    <a:pt x="398" y="112"/>
                  </a:lnTo>
                  <a:lnTo>
                    <a:pt x="425" y="101"/>
                  </a:lnTo>
                  <a:lnTo>
                    <a:pt x="452" y="88"/>
                  </a:lnTo>
                  <a:lnTo>
                    <a:pt x="480" y="77"/>
                  </a:lnTo>
                  <a:lnTo>
                    <a:pt x="504" y="63"/>
                  </a:lnTo>
                  <a:lnTo>
                    <a:pt x="532" y="52"/>
                  </a:lnTo>
                  <a:lnTo>
                    <a:pt x="559" y="38"/>
                  </a:lnTo>
                  <a:lnTo>
                    <a:pt x="587" y="27"/>
                  </a:lnTo>
                  <a:lnTo>
                    <a:pt x="603" y="24"/>
                  </a:lnTo>
                  <a:lnTo>
                    <a:pt x="622" y="19"/>
                  </a:lnTo>
                  <a:lnTo>
                    <a:pt x="639" y="16"/>
                  </a:lnTo>
                  <a:lnTo>
                    <a:pt x="655" y="13"/>
                  </a:lnTo>
                  <a:lnTo>
                    <a:pt x="672" y="11"/>
                  </a:lnTo>
                  <a:lnTo>
                    <a:pt x="691" y="8"/>
                  </a:lnTo>
                  <a:lnTo>
                    <a:pt x="707" y="2"/>
                  </a:lnTo>
                  <a:lnTo>
                    <a:pt x="724" y="0"/>
                  </a:lnTo>
                  <a:lnTo>
                    <a:pt x="756" y="0"/>
                  </a:lnTo>
                  <a:lnTo>
                    <a:pt x="789" y="2"/>
                  </a:lnTo>
                  <a:lnTo>
                    <a:pt x="819" y="2"/>
                  </a:lnTo>
                  <a:lnTo>
                    <a:pt x="852" y="5"/>
                  </a:lnTo>
                  <a:lnTo>
                    <a:pt x="882" y="5"/>
                  </a:lnTo>
                  <a:lnTo>
                    <a:pt x="915" y="8"/>
                  </a:lnTo>
                  <a:lnTo>
                    <a:pt x="948" y="8"/>
                  </a:lnTo>
                  <a:lnTo>
                    <a:pt x="978" y="11"/>
                  </a:lnTo>
                  <a:lnTo>
                    <a:pt x="1006" y="19"/>
                  </a:lnTo>
                  <a:lnTo>
                    <a:pt x="1033" y="27"/>
                  </a:lnTo>
                  <a:lnTo>
                    <a:pt x="1061" y="38"/>
                  </a:lnTo>
                  <a:lnTo>
                    <a:pt x="1088" y="46"/>
                  </a:lnTo>
                  <a:lnTo>
                    <a:pt x="1113" y="55"/>
                  </a:lnTo>
                  <a:lnTo>
                    <a:pt x="1140" y="66"/>
                  </a:lnTo>
                  <a:lnTo>
                    <a:pt x="1167" y="74"/>
                  </a:lnTo>
                  <a:lnTo>
                    <a:pt x="1195" y="82"/>
                  </a:lnTo>
                  <a:close/>
                </a:path>
              </a:pathLst>
            </a:custGeom>
            <a:solidFill>
              <a:srgbClr val="b3a4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556960" y="5467680"/>
              <a:ext cx="815040" cy="256320"/>
            </a:xfrm>
            <a:custGeom>
              <a:avLst/>
              <a:gdLst/>
              <a:ahLst/>
              <a:rect l="l" t="t" r="r" b="b"/>
              <a:pathLst>
                <a:path w="1740" h="615">
                  <a:moveTo>
                    <a:pt x="1151" y="77"/>
                  </a:moveTo>
                  <a:lnTo>
                    <a:pt x="1156" y="80"/>
                  </a:lnTo>
                  <a:lnTo>
                    <a:pt x="1159" y="80"/>
                  </a:lnTo>
                  <a:lnTo>
                    <a:pt x="1162" y="82"/>
                  </a:lnTo>
                  <a:lnTo>
                    <a:pt x="1167" y="85"/>
                  </a:lnTo>
                  <a:lnTo>
                    <a:pt x="1170" y="85"/>
                  </a:lnTo>
                  <a:lnTo>
                    <a:pt x="1173" y="88"/>
                  </a:lnTo>
                  <a:lnTo>
                    <a:pt x="1178" y="88"/>
                  </a:lnTo>
                  <a:lnTo>
                    <a:pt x="1181" y="91"/>
                  </a:lnTo>
                  <a:lnTo>
                    <a:pt x="1184" y="91"/>
                  </a:lnTo>
                  <a:lnTo>
                    <a:pt x="1186" y="91"/>
                  </a:lnTo>
                  <a:lnTo>
                    <a:pt x="1189" y="91"/>
                  </a:lnTo>
                  <a:lnTo>
                    <a:pt x="1192" y="91"/>
                  </a:lnTo>
                  <a:lnTo>
                    <a:pt x="1195" y="91"/>
                  </a:lnTo>
                  <a:lnTo>
                    <a:pt x="1197" y="91"/>
                  </a:lnTo>
                  <a:lnTo>
                    <a:pt x="1200" y="91"/>
                  </a:lnTo>
                  <a:lnTo>
                    <a:pt x="1203" y="91"/>
                  </a:lnTo>
                  <a:lnTo>
                    <a:pt x="1203" y="91"/>
                  </a:lnTo>
                  <a:lnTo>
                    <a:pt x="1206" y="91"/>
                  </a:lnTo>
                  <a:lnTo>
                    <a:pt x="1206" y="91"/>
                  </a:lnTo>
                  <a:lnTo>
                    <a:pt x="1206" y="91"/>
                  </a:lnTo>
                  <a:lnTo>
                    <a:pt x="1206" y="91"/>
                  </a:lnTo>
                  <a:lnTo>
                    <a:pt x="1206" y="91"/>
                  </a:lnTo>
                  <a:lnTo>
                    <a:pt x="1206" y="91"/>
                  </a:lnTo>
                  <a:lnTo>
                    <a:pt x="1206" y="91"/>
                  </a:lnTo>
                  <a:lnTo>
                    <a:pt x="1214" y="96"/>
                  </a:lnTo>
                  <a:lnTo>
                    <a:pt x="1222" y="102"/>
                  </a:lnTo>
                  <a:lnTo>
                    <a:pt x="1233" y="107"/>
                  </a:lnTo>
                  <a:lnTo>
                    <a:pt x="1241" y="110"/>
                  </a:lnTo>
                  <a:lnTo>
                    <a:pt x="1252" y="115"/>
                  </a:lnTo>
                  <a:lnTo>
                    <a:pt x="1263" y="121"/>
                  </a:lnTo>
                  <a:lnTo>
                    <a:pt x="1271" y="123"/>
                  </a:lnTo>
                  <a:lnTo>
                    <a:pt x="1282" y="129"/>
                  </a:lnTo>
                  <a:lnTo>
                    <a:pt x="1282" y="129"/>
                  </a:lnTo>
                  <a:lnTo>
                    <a:pt x="1282" y="129"/>
                  </a:lnTo>
                  <a:lnTo>
                    <a:pt x="1282" y="129"/>
                  </a:lnTo>
                  <a:lnTo>
                    <a:pt x="1285" y="129"/>
                  </a:lnTo>
                  <a:lnTo>
                    <a:pt x="1285" y="129"/>
                  </a:lnTo>
                  <a:lnTo>
                    <a:pt x="1285" y="132"/>
                  </a:lnTo>
                  <a:lnTo>
                    <a:pt x="1285" y="132"/>
                  </a:lnTo>
                  <a:lnTo>
                    <a:pt x="1285" y="132"/>
                  </a:lnTo>
                  <a:lnTo>
                    <a:pt x="1285" y="134"/>
                  </a:lnTo>
                  <a:lnTo>
                    <a:pt x="1285" y="137"/>
                  </a:lnTo>
                  <a:lnTo>
                    <a:pt x="1285" y="140"/>
                  </a:lnTo>
                  <a:lnTo>
                    <a:pt x="1285" y="145"/>
                  </a:lnTo>
                  <a:lnTo>
                    <a:pt x="1285" y="148"/>
                  </a:lnTo>
                  <a:lnTo>
                    <a:pt x="1285" y="151"/>
                  </a:lnTo>
                  <a:lnTo>
                    <a:pt x="1285" y="154"/>
                  </a:lnTo>
                  <a:lnTo>
                    <a:pt x="1285" y="156"/>
                  </a:lnTo>
                  <a:lnTo>
                    <a:pt x="1288" y="159"/>
                  </a:lnTo>
                  <a:lnTo>
                    <a:pt x="1291" y="159"/>
                  </a:lnTo>
                  <a:lnTo>
                    <a:pt x="1291" y="162"/>
                  </a:lnTo>
                  <a:lnTo>
                    <a:pt x="1293" y="162"/>
                  </a:lnTo>
                  <a:lnTo>
                    <a:pt x="1296" y="165"/>
                  </a:lnTo>
                  <a:lnTo>
                    <a:pt x="1299" y="167"/>
                  </a:lnTo>
                  <a:lnTo>
                    <a:pt x="1299" y="167"/>
                  </a:lnTo>
                  <a:lnTo>
                    <a:pt x="1302" y="170"/>
                  </a:lnTo>
                  <a:lnTo>
                    <a:pt x="1304" y="167"/>
                  </a:lnTo>
                  <a:lnTo>
                    <a:pt x="1310" y="167"/>
                  </a:lnTo>
                  <a:lnTo>
                    <a:pt x="1313" y="165"/>
                  </a:lnTo>
                  <a:lnTo>
                    <a:pt x="1315" y="165"/>
                  </a:lnTo>
                  <a:lnTo>
                    <a:pt x="1321" y="165"/>
                  </a:lnTo>
                  <a:lnTo>
                    <a:pt x="1323" y="162"/>
                  </a:lnTo>
                  <a:lnTo>
                    <a:pt x="1326" y="162"/>
                  </a:lnTo>
                  <a:lnTo>
                    <a:pt x="1332" y="159"/>
                  </a:lnTo>
                  <a:lnTo>
                    <a:pt x="1334" y="162"/>
                  </a:lnTo>
                  <a:lnTo>
                    <a:pt x="1337" y="162"/>
                  </a:lnTo>
                  <a:lnTo>
                    <a:pt x="1340" y="165"/>
                  </a:lnTo>
                  <a:lnTo>
                    <a:pt x="1343" y="167"/>
                  </a:lnTo>
                  <a:lnTo>
                    <a:pt x="1345" y="167"/>
                  </a:lnTo>
                  <a:lnTo>
                    <a:pt x="1345" y="170"/>
                  </a:lnTo>
                  <a:lnTo>
                    <a:pt x="1348" y="170"/>
                  </a:lnTo>
                  <a:lnTo>
                    <a:pt x="1351" y="170"/>
                  </a:lnTo>
                  <a:lnTo>
                    <a:pt x="1365" y="173"/>
                  </a:lnTo>
                  <a:lnTo>
                    <a:pt x="1376" y="176"/>
                  </a:lnTo>
                  <a:lnTo>
                    <a:pt x="1386" y="178"/>
                  </a:lnTo>
                  <a:lnTo>
                    <a:pt x="1400" y="181"/>
                  </a:lnTo>
                  <a:lnTo>
                    <a:pt x="1411" y="184"/>
                  </a:lnTo>
                  <a:lnTo>
                    <a:pt x="1425" y="184"/>
                  </a:lnTo>
                  <a:lnTo>
                    <a:pt x="1436" y="187"/>
                  </a:lnTo>
                  <a:lnTo>
                    <a:pt x="1450" y="187"/>
                  </a:lnTo>
                  <a:lnTo>
                    <a:pt x="1450" y="189"/>
                  </a:lnTo>
                  <a:lnTo>
                    <a:pt x="1450" y="192"/>
                  </a:lnTo>
                  <a:lnTo>
                    <a:pt x="1450" y="195"/>
                  </a:lnTo>
                  <a:lnTo>
                    <a:pt x="1450" y="195"/>
                  </a:lnTo>
                  <a:lnTo>
                    <a:pt x="1450" y="198"/>
                  </a:lnTo>
                  <a:lnTo>
                    <a:pt x="1450" y="200"/>
                  </a:lnTo>
                  <a:lnTo>
                    <a:pt x="1450" y="203"/>
                  </a:lnTo>
                  <a:lnTo>
                    <a:pt x="1450" y="206"/>
                  </a:lnTo>
                  <a:lnTo>
                    <a:pt x="1460" y="209"/>
                  </a:lnTo>
                  <a:lnTo>
                    <a:pt x="1474" y="214"/>
                  </a:lnTo>
                  <a:lnTo>
                    <a:pt x="1485" y="220"/>
                  </a:lnTo>
                  <a:lnTo>
                    <a:pt x="1499" y="225"/>
                  </a:lnTo>
                  <a:lnTo>
                    <a:pt x="1510" y="231"/>
                  </a:lnTo>
                  <a:lnTo>
                    <a:pt x="1521" y="236"/>
                  </a:lnTo>
                  <a:lnTo>
                    <a:pt x="1534" y="242"/>
                  </a:lnTo>
                  <a:lnTo>
                    <a:pt x="1545" y="244"/>
                  </a:lnTo>
                  <a:lnTo>
                    <a:pt x="1562" y="258"/>
                  </a:lnTo>
                  <a:lnTo>
                    <a:pt x="1578" y="272"/>
                  </a:lnTo>
                  <a:lnTo>
                    <a:pt x="1597" y="285"/>
                  </a:lnTo>
                  <a:lnTo>
                    <a:pt x="1614" y="296"/>
                  </a:lnTo>
                  <a:lnTo>
                    <a:pt x="1630" y="310"/>
                  </a:lnTo>
                  <a:lnTo>
                    <a:pt x="1647" y="324"/>
                  </a:lnTo>
                  <a:lnTo>
                    <a:pt x="1663" y="338"/>
                  </a:lnTo>
                  <a:lnTo>
                    <a:pt x="1680" y="349"/>
                  </a:lnTo>
                  <a:lnTo>
                    <a:pt x="1688" y="362"/>
                  </a:lnTo>
                  <a:lnTo>
                    <a:pt x="1696" y="373"/>
                  </a:lnTo>
                  <a:lnTo>
                    <a:pt x="1702" y="387"/>
                  </a:lnTo>
                  <a:lnTo>
                    <a:pt x="1710" y="398"/>
                  </a:lnTo>
                  <a:lnTo>
                    <a:pt x="1718" y="409"/>
                  </a:lnTo>
                  <a:lnTo>
                    <a:pt x="1724" y="423"/>
                  </a:lnTo>
                  <a:lnTo>
                    <a:pt x="1732" y="434"/>
                  </a:lnTo>
                  <a:lnTo>
                    <a:pt x="1740" y="445"/>
                  </a:lnTo>
                  <a:lnTo>
                    <a:pt x="1740" y="467"/>
                  </a:lnTo>
                  <a:lnTo>
                    <a:pt x="1737" y="486"/>
                  </a:lnTo>
                  <a:lnTo>
                    <a:pt x="1737" y="505"/>
                  </a:lnTo>
                  <a:lnTo>
                    <a:pt x="1737" y="524"/>
                  </a:lnTo>
                  <a:lnTo>
                    <a:pt x="1737" y="543"/>
                  </a:lnTo>
                  <a:lnTo>
                    <a:pt x="1737" y="563"/>
                  </a:lnTo>
                  <a:lnTo>
                    <a:pt x="1737" y="582"/>
                  </a:lnTo>
                  <a:lnTo>
                    <a:pt x="1737" y="604"/>
                  </a:lnTo>
                  <a:lnTo>
                    <a:pt x="1718" y="609"/>
                  </a:lnTo>
                  <a:lnTo>
                    <a:pt x="1702" y="612"/>
                  </a:lnTo>
                  <a:lnTo>
                    <a:pt x="1685" y="615"/>
                  </a:lnTo>
                  <a:lnTo>
                    <a:pt x="1666" y="615"/>
                  </a:lnTo>
                  <a:lnTo>
                    <a:pt x="1628" y="612"/>
                  </a:lnTo>
                  <a:lnTo>
                    <a:pt x="1592" y="601"/>
                  </a:lnTo>
                  <a:lnTo>
                    <a:pt x="1556" y="587"/>
                  </a:lnTo>
                  <a:lnTo>
                    <a:pt x="1521" y="571"/>
                  </a:lnTo>
                  <a:lnTo>
                    <a:pt x="1491" y="554"/>
                  </a:lnTo>
                  <a:lnTo>
                    <a:pt x="1463" y="538"/>
                  </a:lnTo>
                  <a:lnTo>
                    <a:pt x="1455" y="532"/>
                  </a:lnTo>
                  <a:lnTo>
                    <a:pt x="1447" y="527"/>
                  </a:lnTo>
                  <a:lnTo>
                    <a:pt x="1439" y="521"/>
                  </a:lnTo>
                  <a:lnTo>
                    <a:pt x="1428" y="516"/>
                  </a:lnTo>
                  <a:lnTo>
                    <a:pt x="1419" y="511"/>
                  </a:lnTo>
                  <a:lnTo>
                    <a:pt x="1411" y="505"/>
                  </a:lnTo>
                  <a:lnTo>
                    <a:pt x="1403" y="500"/>
                  </a:lnTo>
                  <a:lnTo>
                    <a:pt x="1397" y="497"/>
                  </a:lnTo>
                  <a:lnTo>
                    <a:pt x="1397" y="497"/>
                  </a:lnTo>
                  <a:lnTo>
                    <a:pt x="1397" y="494"/>
                  </a:lnTo>
                  <a:lnTo>
                    <a:pt x="1397" y="494"/>
                  </a:lnTo>
                  <a:lnTo>
                    <a:pt x="1397" y="494"/>
                  </a:lnTo>
                  <a:lnTo>
                    <a:pt x="1397" y="494"/>
                  </a:lnTo>
                  <a:lnTo>
                    <a:pt x="1397" y="494"/>
                  </a:lnTo>
                  <a:lnTo>
                    <a:pt x="1397" y="494"/>
                  </a:lnTo>
                  <a:lnTo>
                    <a:pt x="1397" y="491"/>
                  </a:lnTo>
                  <a:lnTo>
                    <a:pt x="1395" y="491"/>
                  </a:lnTo>
                  <a:lnTo>
                    <a:pt x="1392" y="491"/>
                  </a:lnTo>
                  <a:lnTo>
                    <a:pt x="1389" y="489"/>
                  </a:lnTo>
                  <a:lnTo>
                    <a:pt x="1386" y="486"/>
                  </a:lnTo>
                  <a:lnTo>
                    <a:pt x="1384" y="483"/>
                  </a:lnTo>
                  <a:lnTo>
                    <a:pt x="1381" y="483"/>
                  </a:lnTo>
                  <a:lnTo>
                    <a:pt x="1378" y="480"/>
                  </a:lnTo>
                  <a:lnTo>
                    <a:pt x="1376" y="480"/>
                  </a:lnTo>
                  <a:lnTo>
                    <a:pt x="1326" y="464"/>
                  </a:lnTo>
                  <a:lnTo>
                    <a:pt x="1277" y="453"/>
                  </a:lnTo>
                  <a:lnTo>
                    <a:pt x="1225" y="445"/>
                  </a:lnTo>
                  <a:lnTo>
                    <a:pt x="1170" y="439"/>
                  </a:lnTo>
                  <a:lnTo>
                    <a:pt x="1115" y="434"/>
                  </a:lnTo>
                  <a:lnTo>
                    <a:pt x="1060" y="434"/>
                  </a:lnTo>
                  <a:lnTo>
                    <a:pt x="1006" y="434"/>
                  </a:lnTo>
                  <a:lnTo>
                    <a:pt x="951" y="434"/>
                  </a:lnTo>
                  <a:lnTo>
                    <a:pt x="838" y="442"/>
                  </a:lnTo>
                  <a:lnTo>
                    <a:pt x="729" y="450"/>
                  </a:lnTo>
                  <a:lnTo>
                    <a:pt x="622" y="461"/>
                  </a:lnTo>
                  <a:lnTo>
                    <a:pt x="521" y="472"/>
                  </a:lnTo>
                  <a:lnTo>
                    <a:pt x="512" y="472"/>
                  </a:lnTo>
                  <a:lnTo>
                    <a:pt x="501" y="472"/>
                  </a:lnTo>
                  <a:lnTo>
                    <a:pt x="493" y="472"/>
                  </a:lnTo>
                  <a:lnTo>
                    <a:pt x="482" y="469"/>
                  </a:lnTo>
                  <a:lnTo>
                    <a:pt x="471" y="469"/>
                  </a:lnTo>
                  <a:lnTo>
                    <a:pt x="463" y="467"/>
                  </a:lnTo>
                  <a:lnTo>
                    <a:pt x="455" y="467"/>
                  </a:lnTo>
                  <a:lnTo>
                    <a:pt x="447" y="464"/>
                  </a:lnTo>
                  <a:lnTo>
                    <a:pt x="447" y="458"/>
                  </a:lnTo>
                  <a:lnTo>
                    <a:pt x="447" y="453"/>
                  </a:lnTo>
                  <a:lnTo>
                    <a:pt x="444" y="447"/>
                  </a:lnTo>
                  <a:lnTo>
                    <a:pt x="441" y="442"/>
                  </a:lnTo>
                  <a:lnTo>
                    <a:pt x="441" y="436"/>
                  </a:lnTo>
                  <a:lnTo>
                    <a:pt x="438" y="434"/>
                  </a:lnTo>
                  <a:lnTo>
                    <a:pt x="438" y="428"/>
                  </a:lnTo>
                  <a:lnTo>
                    <a:pt x="438" y="423"/>
                  </a:lnTo>
                  <a:lnTo>
                    <a:pt x="417" y="423"/>
                  </a:lnTo>
                  <a:lnTo>
                    <a:pt x="397" y="423"/>
                  </a:lnTo>
                  <a:lnTo>
                    <a:pt x="375" y="425"/>
                  </a:lnTo>
                  <a:lnTo>
                    <a:pt x="356" y="425"/>
                  </a:lnTo>
                  <a:lnTo>
                    <a:pt x="334" y="425"/>
                  </a:lnTo>
                  <a:lnTo>
                    <a:pt x="315" y="425"/>
                  </a:lnTo>
                  <a:lnTo>
                    <a:pt x="296" y="425"/>
                  </a:lnTo>
                  <a:lnTo>
                    <a:pt x="277" y="423"/>
                  </a:lnTo>
                  <a:lnTo>
                    <a:pt x="277" y="423"/>
                  </a:lnTo>
                  <a:lnTo>
                    <a:pt x="277" y="423"/>
                  </a:lnTo>
                  <a:lnTo>
                    <a:pt x="277" y="423"/>
                  </a:lnTo>
                  <a:lnTo>
                    <a:pt x="277" y="423"/>
                  </a:lnTo>
                  <a:lnTo>
                    <a:pt x="277" y="423"/>
                  </a:lnTo>
                  <a:lnTo>
                    <a:pt x="277" y="420"/>
                  </a:lnTo>
                  <a:lnTo>
                    <a:pt x="277" y="420"/>
                  </a:lnTo>
                  <a:lnTo>
                    <a:pt x="277" y="420"/>
                  </a:lnTo>
                  <a:lnTo>
                    <a:pt x="277" y="420"/>
                  </a:lnTo>
                  <a:lnTo>
                    <a:pt x="277" y="420"/>
                  </a:lnTo>
                  <a:lnTo>
                    <a:pt x="277" y="417"/>
                  </a:lnTo>
                  <a:lnTo>
                    <a:pt x="277" y="417"/>
                  </a:lnTo>
                  <a:lnTo>
                    <a:pt x="277" y="417"/>
                  </a:lnTo>
                  <a:lnTo>
                    <a:pt x="277" y="417"/>
                  </a:lnTo>
                  <a:lnTo>
                    <a:pt x="277" y="417"/>
                  </a:lnTo>
                  <a:lnTo>
                    <a:pt x="277" y="417"/>
                  </a:lnTo>
                  <a:lnTo>
                    <a:pt x="247" y="417"/>
                  </a:lnTo>
                  <a:lnTo>
                    <a:pt x="219" y="420"/>
                  </a:lnTo>
                  <a:lnTo>
                    <a:pt x="189" y="425"/>
                  </a:lnTo>
                  <a:lnTo>
                    <a:pt x="159" y="431"/>
                  </a:lnTo>
                  <a:lnTo>
                    <a:pt x="126" y="436"/>
                  </a:lnTo>
                  <a:lnTo>
                    <a:pt x="96" y="442"/>
                  </a:lnTo>
                  <a:lnTo>
                    <a:pt x="66" y="442"/>
                  </a:lnTo>
                  <a:lnTo>
                    <a:pt x="36" y="439"/>
                  </a:lnTo>
                  <a:lnTo>
                    <a:pt x="27" y="436"/>
                  </a:lnTo>
                  <a:lnTo>
                    <a:pt x="22" y="431"/>
                  </a:lnTo>
                  <a:lnTo>
                    <a:pt x="16" y="425"/>
                  </a:lnTo>
                  <a:lnTo>
                    <a:pt x="11" y="417"/>
                  </a:lnTo>
                  <a:lnTo>
                    <a:pt x="6" y="406"/>
                  </a:lnTo>
                  <a:lnTo>
                    <a:pt x="3" y="395"/>
                  </a:lnTo>
                  <a:lnTo>
                    <a:pt x="0" y="384"/>
                  </a:lnTo>
                  <a:lnTo>
                    <a:pt x="0" y="371"/>
                  </a:lnTo>
                  <a:lnTo>
                    <a:pt x="3" y="365"/>
                  </a:lnTo>
                  <a:lnTo>
                    <a:pt x="6" y="360"/>
                  </a:lnTo>
                  <a:lnTo>
                    <a:pt x="8" y="357"/>
                  </a:lnTo>
                  <a:lnTo>
                    <a:pt x="11" y="351"/>
                  </a:lnTo>
                  <a:lnTo>
                    <a:pt x="14" y="346"/>
                  </a:lnTo>
                  <a:lnTo>
                    <a:pt x="16" y="340"/>
                  </a:lnTo>
                  <a:lnTo>
                    <a:pt x="19" y="338"/>
                  </a:lnTo>
                  <a:lnTo>
                    <a:pt x="22" y="332"/>
                  </a:lnTo>
                  <a:lnTo>
                    <a:pt x="36" y="321"/>
                  </a:lnTo>
                  <a:lnTo>
                    <a:pt x="49" y="307"/>
                  </a:lnTo>
                  <a:lnTo>
                    <a:pt x="63" y="296"/>
                  </a:lnTo>
                  <a:lnTo>
                    <a:pt x="77" y="285"/>
                  </a:lnTo>
                  <a:lnTo>
                    <a:pt x="90" y="272"/>
                  </a:lnTo>
                  <a:lnTo>
                    <a:pt x="104" y="261"/>
                  </a:lnTo>
                  <a:lnTo>
                    <a:pt x="121" y="250"/>
                  </a:lnTo>
                  <a:lnTo>
                    <a:pt x="134" y="239"/>
                  </a:lnTo>
                  <a:lnTo>
                    <a:pt x="137" y="239"/>
                  </a:lnTo>
                  <a:lnTo>
                    <a:pt x="140" y="239"/>
                  </a:lnTo>
                  <a:lnTo>
                    <a:pt x="143" y="239"/>
                  </a:lnTo>
                  <a:lnTo>
                    <a:pt x="145" y="239"/>
                  </a:lnTo>
                  <a:lnTo>
                    <a:pt x="148" y="239"/>
                  </a:lnTo>
                  <a:lnTo>
                    <a:pt x="151" y="239"/>
                  </a:lnTo>
                  <a:lnTo>
                    <a:pt x="151" y="239"/>
                  </a:lnTo>
                  <a:lnTo>
                    <a:pt x="153" y="239"/>
                  </a:lnTo>
                  <a:lnTo>
                    <a:pt x="164" y="231"/>
                  </a:lnTo>
                  <a:lnTo>
                    <a:pt x="173" y="225"/>
                  </a:lnTo>
                  <a:lnTo>
                    <a:pt x="181" y="220"/>
                  </a:lnTo>
                  <a:lnTo>
                    <a:pt x="189" y="214"/>
                  </a:lnTo>
                  <a:lnTo>
                    <a:pt x="197" y="209"/>
                  </a:lnTo>
                  <a:lnTo>
                    <a:pt x="206" y="200"/>
                  </a:lnTo>
                  <a:lnTo>
                    <a:pt x="214" y="195"/>
                  </a:lnTo>
                  <a:lnTo>
                    <a:pt x="222" y="189"/>
                  </a:lnTo>
                  <a:lnTo>
                    <a:pt x="236" y="184"/>
                  </a:lnTo>
                  <a:lnTo>
                    <a:pt x="247" y="178"/>
                  </a:lnTo>
                  <a:lnTo>
                    <a:pt x="260" y="176"/>
                  </a:lnTo>
                  <a:lnTo>
                    <a:pt x="271" y="170"/>
                  </a:lnTo>
                  <a:lnTo>
                    <a:pt x="282" y="165"/>
                  </a:lnTo>
                  <a:lnTo>
                    <a:pt x="296" y="162"/>
                  </a:lnTo>
                  <a:lnTo>
                    <a:pt x="307" y="156"/>
                  </a:lnTo>
                  <a:lnTo>
                    <a:pt x="318" y="151"/>
                  </a:lnTo>
                  <a:lnTo>
                    <a:pt x="323" y="145"/>
                  </a:lnTo>
                  <a:lnTo>
                    <a:pt x="329" y="140"/>
                  </a:lnTo>
                  <a:lnTo>
                    <a:pt x="334" y="134"/>
                  </a:lnTo>
                  <a:lnTo>
                    <a:pt x="337" y="129"/>
                  </a:lnTo>
                  <a:lnTo>
                    <a:pt x="343" y="123"/>
                  </a:lnTo>
                  <a:lnTo>
                    <a:pt x="348" y="118"/>
                  </a:lnTo>
                  <a:lnTo>
                    <a:pt x="351" y="113"/>
                  </a:lnTo>
                  <a:lnTo>
                    <a:pt x="356" y="107"/>
                  </a:lnTo>
                  <a:lnTo>
                    <a:pt x="384" y="96"/>
                  </a:lnTo>
                  <a:lnTo>
                    <a:pt x="408" y="85"/>
                  </a:lnTo>
                  <a:lnTo>
                    <a:pt x="436" y="77"/>
                  </a:lnTo>
                  <a:lnTo>
                    <a:pt x="460" y="66"/>
                  </a:lnTo>
                  <a:lnTo>
                    <a:pt x="488" y="55"/>
                  </a:lnTo>
                  <a:lnTo>
                    <a:pt x="512" y="44"/>
                  </a:lnTo>
                  <a:lnTo>
                    <a:pt x="540" y="33"/>
                  </a:lnTo>
                  <a:lnTo>
                    <a:pt x="564" y="22"/>
                  </a:lnTo>
                  <a:lnTo>
                    <a:pt x="581" y="19"/>
                  </a:lnTo>
                  <a:lnTo>
                    <a:pt x="597" y="16"/>
                  </a:lnTo>
                  <a:lnTo>
                    <a:pt x="614" y="14"/>
                  </a:lnTo>
                  <a:lnTo>
                    <a:pt x="630" y="11"/>
                  </a:lnTo>
                  <a:lnTo>
                    <a:pt x="647" y="8"/>
                  </a:lnTo>
                  <a:lnTo>
                    <a:pt x="666" y="5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729" y="0"/>
                  </a:lnTo>
                  <a:lnTo>
                    <a:pt x="759" y="3"/>
                  </a:lnTo>
                  <a:lnTo>
                    <a:pt x="789" y="3"/>
                  </a:lnTo>
                  <a:lnTo>
                    <a:pt x="822" y="5"/>
                  </a:lnTo>
                  <a:lnTo>
                    <a:pt x="852" y="5"/>
                  </a:lnTo>
                  <a:lnTo>
                    <a:pt x="882" y="8"/>
                  </a:lnTo>
                  <a:lnTo>
                    <a:pt x="912" y="8"/>
                  </a:lnTo>
                  <a:lnTo>
                    <a:pt x="943" y="11"/>
                  </a:lnTo>
                  <a:lnTo>
                    <a:pt x="970" y="19"/>
                  </a:lnTo>
                  <a:lnTo>
                    <a:pt x="995" y="27"/>
                  </a:lnTo>
                  <a:lnTo>
                    <a:pt x="1022" y="36"/>
                  </a:lnTo>
                  <a:lnTo>
                    <a:pt x="1047" y="44"/>
                  </a:lnTo>
                  <a:lnTo>
                    <a:pt x="1074" y="52"/>
                  </a:lnTo>
                  <a:lnTo>
                    <a:pt x="1099" y="60"/>
                  </a:lnTo>
                  <a:lnTo>
                    <a:pt x="1126" y="69"/>
                  </a:lnTo>
                  <a:lnTo>
                    <a:pt x="1151" y="77"/>
                  </a:lnTo>
                  <a:close/>
                </a:path>
              </a:pathLst>
            </a:custGeom>
            <a:solidFill>
              <a:srgbClr val="baa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76400" y="5474520"/>
              <a:ext cx="786960" cy="230040"/>
            </a:xfrm>
            <a:custGeom>
              <a:avLst/>
              <a:gdLst/>
              <a:ahLst/>
              <a:rect l="l" t="t" r="r" b="b"/>
              <a:pathLst>
                <a:path w="1680" h="552">
                  <a:moveTo>
                    <a:pt x="1113" y="75"/>
                  </a:moveTo>
                  <a:lnTo>
                    <a:pt x="1115" y="77"/>
                  </a:lnTo>
                  <a:lnTo>
                    <a:pt x="1118" y="77"/>
                  </a:lnTo>
                  <a:lnTo>
                    <a:pt x="1124" y="80"/>
                  </a:lnTo>
                  <a:lnTo>
                    <a:pt x="1126" y="80"/>
                  </a:lnTo>
                  <a:lnTo>
                    <a:pt x="1129" y="83"/>
                  </a:lnTo>
                  <a:lnTo>
                    <a:pt x="1135" y="86"/>
                  </a:lnTo>
                  <a:lnTo>
                    <a:pt x="1137" y="86"/>
                  </a:lnTo>
                  <a:lnTo>
                    <a:pt x="1140" y="88"/>
                  </a:lnTo>
                  <a:lnTo>
                    <a:pt x="1143" y="88"/>
                  </a:lnTo>
                  <a:lnTo>
                    <a:pt x="1145" y="88"/>
                  </a:lnTo>
                  <a:lnTo>
                    <a:pt x="1148" y="88"/>
                  </a:lnTo>
                  <a:lnTo>
                    <a:pt x="1151" y="88"/>
                  </a:lnTo>
                  <a:lnTo>
                    <a:pt x="1154" y="88"/>
                  </a:lnTo>
                  <a:lnTo>
                    <a:pt x="1156" y="88"/>
                  </a:lnTo>
                  <a:lnTo>
                    <a:pt x="1159" y="88"/>
                  </a:lnTo>
                  <a:lnTo>
                    <a:pt x="1162" y="88"/>
                  </a:lnTo>
                  <a:lnTo>
                    <a:pt x="1162" y="88"/>
                  </a:lnTo>
                  <a:lnTo>
                    <a:pt x="1162" y="88"/>
                  </a:lnTo>
                  <a:lnTo>
                    <a:pt x="1162" y="88"/>
                  </a:lnTo>
                  <a:lnTo>
                    <a:pt x="1165" y="88"/>
                  </a:lnTo>
                  <a:lnTo>
                    <a:pt x="1165" y="88"/>
                  </a:lnTo>
                  <a:lnTo>
                    <a:pt x="1165" y="86"/>
                  </a:lnTo>
                  <a:lnTo>
                    <a:pt x="1165" y="86"/>
                  </a:lnTo>
                  <a:lnTo>
                    <a:pt x="1165" y="86"/>
                  </a:lnTo>
                  <a:lnTo>
                    <a:pt x="1173" y="91"/>
                  </a:lnTo>
                  <a:lnTo>
                    <a:pt x="1181" y="97"/>
                  </a:lnTo>
                  <a:lnTo>
                    <a:pt x="1189" y="102"/>
                  </a:lnTo>
                  <a:lnTo>
                    <a:pt x="1200" y="105"/>
                  </a:lnTo>
                  <a:lnTo>
                    <a:pt x="1208" y="110"/>
                  </a:lnTo>
                  <a:lnTo>
                    <a:pt x="1219" y="113"/>
                  </a:lnTo>
                  <a:lnTo>
                    <a:pt x="1228" y="118"/>
                  </a:lnTo>
                  <a:lnTo>
                    <a:pt x="1239" y="121"/>
                  </a:lnTo>
                  <a:lnTo>
                    <a:pt x="1239" y="121"/>
                  </a:lnTo>
                  <a:lnTo>
                    <a:pt x="1239" y="121"/>
                  </a:lnTo>
                  <a:lnTo>
                    <a:pt x="1239" y="121"/>
                  </a:lnTo>
                  <a:lnTo>
                    <a:pt x="1239" y="121"/>
                  </a:lnTo>
                  <a:lnTo>
                    <a:pt x="1239" y="124"/>
                  </a:lnTo>
                  <a:lnTo>
                    <a:pt x="1241" y="124"/>
                  </a:lnTo>
                  <a:lnTo>
                    <a:pt x="1241" y="124"/>
                  </a:lnTo>
                  <a:lnTo>
                    <a:pt x="1241" y="124"/>
                  </a:lnTo>
                  <a:lnTo>
                    <a:pt x="1241" y="127"/>
                  </a:lnTo>
                  <a:lnTo>
                    <a:pt x="1241" y="129"/>
                  </a:lnTo>
                  <a:lnTo>
                    <a:pt x="1241" y="132"/>
                  </a:lnTo>
                  <a:lnTo>
                    <a:pt x="1241" y="135"/>
                  </a:lnTo>
                  <a:lnTo>
                    <a:pt x="1241" y="138"/>
                  </a:lnTo>
                  <a:lnTo>
                    <a:pt x="1241" y="140"/>
                  </a:lnTo>
                  <a:lnTo>
                    <a:pt x="1241" y="143"/>
                  </a:lnTo>
                  <a:lnTo>
                    <a:pt x="1241" y="146"/>
                  </a:lnTo>
                  <a:lnTo>
                    <a:pt x="1244" y="149"/>
                  </a:lnTo>
                  <a:lnTo>
                    <a:pt x="1244" y="149"/>
                  </a:lnTo>
                  <a:lnTo>
                    <a:pt x="1247" y="151"/>
                  </a:lnTo>
                  <a:lnTo>
                    <a:pt x="1250" y="151"/>
                  </a:lnTo>
                  <a:lnTo>
                    <a:pt x="1250" y="154"/>
                  </a:lnTo>
                  <a:lnTo>
                    <a:pt x="1252" y="154"/>
                  </a:lnTo>
                  <a:lnTo>
                    <a:pt x="1255" y="157"/>
                  </a:lnTo>
                  <a:lnTo>
                    <a:pt x="1258" y="157"/>
                  </a:lnTo>
                  <a:lnTo>
                    <a:pt x="1261" y="157"/>
                  </a:lnTo>
                  <a:lnTo>
                    <a:pt x="1263" y="157"/>
                  </a:lnTo>
                  <a:lnTo>
                    <a:pt x="1266" y="154"/>
                  </a:lnTo>
                  <a:lnTo>
                    <a:pt x="1272" y="154"/>
                  </a:lnTo>
                  <a:lnTo>
                    <a:pt x="1274" y="151"/>
                  </a:lnTo>
                  <a:lnTo>
                    <a:pt x="1277" y="151"/>
                  </a:lnTo>
                  <a:lnTo>
                    <a:pt x="1282" y="151"/>
                  </a:lnTo>
                  <a:lnTo>
                    <a:pt x="1285" y="149"/>
                  </a:lnTo>
                  <a:lnTo>
                    <a:pt x="1288" y="151"/>
                  </a:lnTo>
                  <a:lnTo>
                    <a:pt x="1291" y="151"/>
                  </a:lnTo>
                  <a:lnTo>
                    <a:pt x="1293" y="154"/>
                  </a:lnTo>
                  <a:lnTo>
                    <a:pt x="1296" y="154"/>
                  </a:lnTo>
                  <a:lnTo>
                    <a:pt x="1299" y="157"/>
                  </a:lnTo>
                  <a:lnTo>
                    <a:pt x="1299" y="157"/>
                  </a:lnTo>
                  <a:lnTo>
                    <a:pt x="1302" y="160"/>
                  </a:lnTo>
                  <a:lnTo>
                    <a:pt x="1304" y="160"/>
                  </a:lnTo>
                  <a:lnTo>
                    <a:pt x="1315" y="162"/>
                  </a:lnTo>
                  <a:lnTo>
                    <a:pt x="1329" y="165"/>
                  </a:lnTo>
                  <a:lnTo>
                    <a:pt x="1340" y="168"/>
                  </a:lnTo>
                  <a:lnTo>
                    <a:pt x="1351" y="168"/>
                  </a:lnTo>
                  <a:lnTo>
                    <a:pt x="1362" y="171"/>
                  </a:lnTo>
                  <a:lnTo>
                    <a:pt x="1376" y="173"/>
                  </a:lnTo>
                  <a:lnTo>
                    <a:pt x="1387" y="173"/>
                  </a:lnTo>
                  <a:lnTo>
                    <a:pt x="1400" y="176"/>
                  </a:lnTo>
                  <a:lnTo>
                    <a:pt x="1400" y="176"/>
                  </a:lnTo>
                  <a:lnTo>
                    <a:pt x="1400" y="179"/>
                  </a:lnTo>
                  <a:lnTo>
                    <a:pt x="1400" y="182"/>
                  </a:lnTo>
                  <a:lnTo>
                    <a:pt x="1400" y="182"/>
                  </a:lnTo>
                  <a:lnTo>
                    <a:pt x="1400" y="184"/>
                  </a:lnTo>
                  <a:lnTo>
                    <a:pt x="1400" y="187"/>
                  </a:lnTo>
                  <a:lnTo>
                    <a:pt x="1400" y="187"/>
                  </a:lnTo>
                  <a:lnTo>
                    <a:pt x="1400" y="190"/>
                  </a:lnTo>
                  <a:lnTo>
                    <a:pt x="1411" y="195"/>
                  </a:lnTo>
                  <a:lnTo>
                    <a:pt x="1422" y="198"/>
                  </a:lnTo>
                  <a:lnTo>
                    <a:pt x="1433" y="204"/>
                  </a:lnTo>
                  <a:lnTo>
                    <a:pt x="1447" y="209"/>
                  </a:lnTo>
                  <a:lnTo>
                    <a:pt x="1458" y="212"/>
                  </a:lnTo>
                  <a:lnTo>
                    <a:pt x="1469" y="217"/>
                  </a:lnTo>
                  <a:lnTo>
                    <a:pt x="1480" y="223"/>
                  </a:lnTo>
                  <a:lnTo>
                    <a:pt x="1491" y="226"/>
                  </a:lnTo>
                  <a:lnTo>
                    <a:pt x="1507" y="239"/>
                  </a:lnTo>
                  <a:lnTo>
                    <a:pt x="1524" y="250"/>
                  </a:lnTo>
                  <a:lnTo>
                    <a:pt x="1540" y="261"/>
                  </a:lnTo>
                  <a:lnTo>
                    <a:pt x="1556" y="272"/>
                  </a:lnTo>
                  <a:lnTo>
                    <a:pt x="1573" y="286"/>
                  </a:lnTo>
                  <a:lnTo>
                    <a:pt x="1589" y="297"/>
                  </a:lnTo>
                  <a:lnTo>
                    <a:pt x="1606" y="308"/>
                  </a:lnTo>
                  <a:lnTo>
                    <a:pt x="1622" y="319"/>
                  </a:lnTo>
                  <a:lnTo>
                    <a:pt x="1630" y="330"/>
                  </a:lnTo>
                  <a:lnTo>
                    <a:pt x="1636" y="341"/>
                  </a:lnTo>
                  <a:lnTo>
                    <a:pt x="1644" y="352"/>
                  </a:lnTo>
                  <a:lnTo>
                    <a:pt x="1650" y="363"/>
                  </a:lnTo>
                  <a:lnTo>
                    <a:pt x="1658" y="374"/>
                  </a:lnTo>
                  <a:lnTo>
                    <a:pt x="1663" y="385"/>
                  </a:lnTo>
                  <a:lnTo>
                    <a:pt x="1672" y="393"/>
                  </a:lnTo>
                  <a:lnTo>
                    <a:pt x="1680" y="404"/>
                  </a:lnTo>
                  <a:lnTo>
                    <a:pt x="1677" y="420"/>
                  </a:lnTo>
                  <a:lnTo>
                    <a:pt x="1677" y="440"/>
                  </a:lnTo>
                  <a:lnTo>
                    <a:pt x="1677" y="456"/>
                  </a:lnTo>
                  <a:lnTo>
                    <a:pt x="1677" y="473"/>
                  </a:lnTo>
                  <a:lnTo>
                    <a:pt x="1677" y="489"/>
                  </a:lnTo>
                  <a:lnTo>
                    <a:pt x="1677" y="508"/>
                  </a:lnTo>
                  <a:lnTo>
                    <a:pt x="1677" y="525"/>
                  </a:lnTo>
                  <a:lnTo>
                    <a:pt x="1674" y="541"/>
                  </a:lnTo>
                  <a:lnTo>
                    <a:pt x="1661" y="547"/>
                  </a:lnTo>
                  <a:lnTo>
                    <a:pt x="1641" y="549"/>
                  </a:lnTo>
                  <a:lnTo>
                    <a:pt x="1625" y="552"/>
                  </a:lnTo>
                  <a:lnTo>
                    <a:pt x="1609" y="552"/>
                  </a:lnTo>
                  <a:lnTo>
                    <a:pt x="1573" y="547"/>
                  </a:lnTo>
                  <a:lnTo>
                    <a:pt x="1537" y="538"/>
                  </a:lnTo>
                  <a:lnTo>
                    <a:pt x="1502" y="527"/>
                  </a:lnTo>
                  <a:lnTo>
                    <a:pt x="1469" y="511"/>
                  </a:lnTo>
                  <a:lnTo>
                    <a:pt x="1439" y="497"/>
                  </a:lnTo>
                  <a:lnTo>
                    <a:pt x="1411" y="481"/>
                  </a:lnTo>
                  <a:lnTo>
                    <a:pt x="1406" y="478"/>
                  </a:lnTo>
                  <a:lnTo>
                    <a:pt x="1398" y="473"/>
                  </a:lnTo>
                  <a:lnTo>
                    <a:pt x="1389" y="467"/>
                  </a:lnTo>
                  <a:lnTo>
                    <a:pt x="1378" y="462"/>
                  </a:lnTo>
                  <a:lnTo>
                    <a:pt x="1370" y="459"/>
                  </a:lnTo>
                  <a:lnTo>
                    <a:pt x="1362" y="453"/>
                  </a:lnTo>
                  <a:lnTo>
                    <a:pt x="1356" y="448"/>
                  </a:lnTo>
                  <a:lnTo>
                    <a:pt x="1351" y="445"/>
                  </a:lnTo>
                  <a:lnTo>
                    <a:pt x="1351" y="445"/>
                  </a:lnTo>
                  <a:lnTo>
                    <a:pt x="1351" y="442"/>
                  </a:lnTo>
                  <a:lnTo>
                    <a:pt x="1351" y="442"/>
                  </a:lnTo>
                  <a:lnTo>
                    <a:pt x="1351" y="442"/>
                  </a:lnTo>
                  <a:lnTo>
                    <a:pt x="1351" y="442"/>
                  </a:lnTo>
                  <a:lnTo>
                    <a:pt x="1351" y="442"/>
                  </a:lnTo>
                  <a:lnTo>
                    <a:pt x="1351" y="442"/>
                  </a:lnTo>
                  <a:lnTo>
                    <a:pt x="1351" y="442"/>
                  </a:lnTo>
                  <a:lnTo>
                    <a:pt x="1348" y="440"/>
                  </a:lnTo>
                  <a:lnTo>
                    <a:pt x="1345" y="440"/>
                  </a:lnTo>
                  <a:lnTo>
                    <a:pt x="1343" y="437"/>
                  </a:lnTo>
                  <a:lnTo>
                    <a:pt x="1337" y="437"/>
                  </a:lnTo>
                  <a:lnTo>
                    <a:pt x="1335" y="434"/>
                  </a:lnTo>
                  <a:lnTo>
                    <a:pt x="1332" y="431"/>
                  </a:lnTo>
                  <a:lnTo>
                    <a:pt x="1329" y="431"/>
                  </a:lnTo>
                  <a:lnTo>
                    <a:pt x="1326" y="431"/>
                  </a:lnTo>
                  <a:lnTo>
                    <a:pt x="1280" y="418"/>
                  </a:lnTo>
                  <a:lnTo>
                    <a:pt x="1233" y="407"/>
                  </a:lnTo>
                  <a:lnTo>
                    <a:pt x="1181" y="398"/>
                  </a:lnTo>
                  <a:lnTo>
                    <a:pt x="1132" y="390"/>
                  </a:lnTo>
                  <a:lnTo>
                    <a:pt x="1077" y="387"/>
                  </a:lnTo>
                  <a:lnTo>
                    <a:pt x="1025" y="385"/>
                  </a:lnTo>
                  <a:lnTo>
                    <a:pt x="970" y="385"/>
                  </a:lnTo>
                  <a:lnTo>
                    <a:pt x="918" y="385"/>
                  </a:lnTo>
                  <a:lnTo>
                    <a:pt x="808" y="390"/>
                  </a:lnTo>
                  <a:lnTo>
                    <a:pt x="704" y="398"/>
                  </a:lnTo>
                  <a:lnTo>
                    <a:pt x="600" y="407"/>
                  </a:lnTo>
                  <a:lnTo>
                    <a:pt x="504" y="412"/>
                  </a:lnTo>
                  <a:lnTo>
                    <a:pt x="496" y="412"/>
                  </a:lnTo>
                  <a:lnTo>
                    <a:pt x="485" y="412"/>
                  </a:lnTo>
                  <a:lnTo>
                    <a:pt x="477" y="412"/>
                  </a:lnTo>
                  <a:lnTo>
                    <a:pt x="466" y="412"/>
                  </a:lnTo>
                  <a:lnTo>
                    <a:pt x="458" y="409"/>
                  </a:lnTo>
                  <a:lnTo>
                    <a:pt x="447" y="409"/>
                  </a:lnTo>
                  <a:lnTo>
                    <a:pt x="439" y="407"/>
                  </a:lnTo>
                  <a:lnTo>
                    <a:pt x="433" y="404"/>
                  </a:lnTo>
                  <a:lnTo>
                    <a:pt x="433" y="401"/>
                  </a:lnTo>
                  <a:lnTo>
                    <a:pt x="430" y="396"/>
                  </a:lnTo>
                  <a:lnTo>
                    <a:pt x="430" y="390"/>
                  </a:lnTo>
                  <a:lnTo>
                    <a:pt x="428" y="387"/>
                  </a:lnTo>
                  <a:lnTo>
                    <a:pt x="428" y="382"/>
                  </a:lnTo>
                  <a:lnTo>
                    <a:pt x="425" y="379"/>
                  </a:lnTo>
                  <a:lnTo>
                    <a:pt x="425" y="374"/>
                  </a:lnTo>
                  <a:lnTo>
                    <a:pt x="425" y="368"/>
                  </a:lnTo>
                  <a:lnTo>
                    <a:pt x="403" y="368"/>
                  </a:lnTo>
                  <a:lnTo>
                    <a:pt x="384" y="368"/>
                  </a:lnTo>
                  <a:lnTo>
                    <a:pt x="365" y="371"/>
                  </a:lnTo>
                  <a:lnTo>
                    <a:pt x="343" y="371"/>
                  </a:lnTo>
                  <a:lnTo>
                    <a:pt x="323" y="371"/>
                  </a:lnTo>
                  <a:lnTo>
                    <a:pt x="304" y="371"/>
                  </a:lnTo>
                  <a:lnTo>
                    <a:pt x="285" y="371"/>
                  </a:lnTo>
                  <a:lnTo>
                    <a:pt x="269" y="368"/>
                  </a:lnTo>
                  <a:lnTo>
                    <a:pt x="269" y="368"/>
                  </a:lnTo>
                  <a:lnTo>
                    <a:pt x="269" y="368"/>
                  </a:lnTo>
                  <a:lnTo>
                    <a:pt x="269" y="368"/>
                  </a:lnTo>
                  <a:lnTo>
                    <a:pt x="269" y="366"/>
                  </a:lnTo>
                  <a:lnTo>
                    <a:pt x="269" y="366"/>
                  </a:lnTo>
                  <a:lnTo>
                    <a:pt x="269" y="366"/>
                  </a:lnTo>
                  <a:lnTo>
                    <a:pt x="269" y="366"/>
                  </a:lnTo>
                  <a:lnTo>
                    <a:pt x="269" y="366"/>
                  </a:lnTo>
                  <a:lnTo>
                    <a:pt x="269" y="366"/>
                  </a:lnTo>
                  <a:lnTo>
                    <a:pt x="269" y="366"/>
                  </a:lnTo>
                  <a:lnTo>
                    <a:pt x="269" y="363"/>
                  </a:lnTo>
                  <a:lnTo>
                    <a:pt x="269" y="363"/>
                  </a:lnTo>
                  <a:lnTo>
                    <a:pt x="269" y="363"/>
                  </a:lnTo>
                  <a:lnTo>
                    <a:pt x="269" y="363"/>
                  </a:lnTo>
                  <a:lnTo>
                    <a:pt x="269" y="363"/>
                  </a:lnTo>
                  <a:lnTo>
                    <a:pt x="269" y="363"/>
                  </a:lnTo>
                  <a:lnTo>
                    <a:pt x="241" y="363"/>
                  </a:lnTo>
                  <a:lnTo>
                    <a:pt x="211" y="366"/>
                  </a:lnTo>
                  <a:lnTo>
                    <a:pt x="184" y="368"/>
                  </a:lnTo>
                  <a:lnTo>
                    <a:pt x="154" y="374"/>
                  </a:lnTo>
                  <a:lnTo>
                    <a:pt x="123" y="379"/>
                  </a:lnTo>
                  <a:lnTo>
                    <a:pt x="93" y="382"/>
                  </a:lnTo>
                  <a:lnTo>
                    <a:pt x="66" y="382"/>
                  </a:lnTo>
                  <a:lnTo>
                    <a:pt x="36" y="379"/>
                  </a:lnTo>
                  <a:lnTo>
                    <a:pt x="28" y="376"/>
                  </a:lnTo>
                  <a:lnTo>
                    <a:pt x="22" y="374"/>
                  </a:lnTo>
                  <a:lnTo>
                    <a:pt x="17" y="366"/>
                  </a:lnTo>
                  <a:lnTo>
                    <a:pt x="11" y="360"/>
                  </a:lnTo>
                  <a:lnTo>
                    <a:pt x="8" y="352"/>
                  </a:lnTo>
                  <a:lnTo>
                    <a:pt x="6" y="341"/>
                  </a:lnTo>
                  <a:lnTo>
                    <a:pt x="3" y="330"/>
                  </a:lnTo>
                  <a:lnTo>
                    <a:pt x="0" y="319"/>
                  </a:lnTo>
                  <a:lnTo>
                    <a:pt x="3" y="313"/>
                  </a:lnTo>
                  <a:lnTo>
                    <a:pt x="6" y="311"/>
                  </a:lnTo>
                  <a:lnTo>
                    <a:pt x="8" y="305"/>
                  </a:lnTo>
                  <a:lnTo>
                    <a:pt x="11" y="302"/>
                  </a:lnTo>
                  <a:lnTo>
                    <a:pt x="14" y="297"/>
                  </a:lnTo>
                  <a:lnTo>
                    <a:pt x="17" y="294"/>
                  </a:lnTo>
                  <a:lnTo>
                    <a:pt x="19" y="289"/>
                  </a:lnTo>
                  <a:lnTo>
                    <a:pt x="22" y="286"/>
                  </a:lnTo>
                  <a:lnTo>
                    <a:pt x="36" y="275"/>
                  </a:lnTo>
                  <a:lnTo>
                    <a:pt x="49" y="264"/>
                  </a:lnTo>
                  <a:lnTo>
                    <a:pt x="63" y="256"/>
                  </a:lnTo>
                  <a:lnTo>
                    <a:pt x="77" y="245"/>
                  </a:lnTo>
                  <a:lnTo>
                    <a:pt x="91" y="234"/>
                  </a:lnTo>
                  <a:lnTo>
                    <a:pt x="104" y="223"/>
                  </a:lnTo>
                  <a:lnTo>
                    <a:pt x="118" y="215"/>
                  </a:lnTo>
                  <a:lnTo>
                    <a:pt x="129" y="204"/>
                  </a:lnTo>
                  <a:lnTo>
                    <a:pt x="132" y="204"/>
                  </a:lnTo>
                  <a:lnTo>
                    <a:pt x="134" y="204"/>
                  </a:lnTo>
                  <a:lnTo>
                    <a:pt x="137" y="204"/>
                  </a:lnTo>
                  <a:lnTo>
                    <a:pt x="140" y="204"/>
                  </a:lnTo>
                  <a:lnTo>
                    <a:pt x="143" y="204"/>
                  </a:lnTo>
                  <a:lnTo>
                    <a:pt x="145" y="204"/>
                  </a:lnTo>
                  <a:lnTo>
                    <a:pt x="148" y="204"/>
                  </a:lnTo>
                  <a:lnTo>
                    <a:pt x="151" y="204"/>
                  </a:lnTo>
                  <a:lnTo>
                    <a:pt x="159" y="198"/>
                  </a:lnTo>
                  <a:lnTo>
                    <a:pt x="167" y="193"/>
                  </a:lnTo>
                  <a:lnTo>
                    <a:pt x="175" y="190"/>
                  </a:lnTo>
                  <a:lnTo>
                    <a:pt x="184" y="184"/>
                  </a:lnTo>
                  <a:lnTo>
                    <a:pt x="192" y="179"/>
                  </a:lnTo>
                  <a:lnTo>
                    <a:pt x="200" y="173"/>
                  </a:lnTo>
                  <a:lnTo>
                    <a:pt x="208" y="168"/>
                  </a:lnTo>
                  <a:lnTo>
                    <a:pt x="217" y="162"/>
                  </a:lnTo>
                  <a:lnTo>
                    <a:pt x="228" y="157"/>
                  </a:lnTo>
                  <a:lnTo>
                    <a:pt x="239" y="154"/>
                  </a:lnTo>
                  <a:lnTo>
                    <a:pt x="252" y="151"/>
                  </a:lnTo>
                  <a:lnTo>
                    <a:pt x="263" y="146"/>
                  </a:lnTo>
                  <a:lnTo>
                    <a:pt x="274" y="143"/>
                  </a:lnTo>
                  <a:lnTo>
                    <a:pt x="285" y="138"/>
                  </a:lnTo>
                  <a:lnTo>
                    <a:pt x="299" y="135"/>
                  </a:lnTo>
                  <a:lnTo>
                    <a:pt x="310" y="129"/>
                  </a:lnTo>
                  <a:lnTo>
                    <a:pt x="313" y="127"/>
                  </a:lnTo>
                  <a:lnTo>
                    <a:pt x="318" y="121"/>
                  </a:lnTo>
                  <a:lnTo>
                    <a:pt x="323" y="116"/>
                  </a:lnTo>
                  <a:lnTo>
                    <a:pt x="326" y="110"/>
                  </a:lnTo>
                  <a:lnTo>
                    <a:pt x="332" y="107"/>
                  </a:lnTo>
                  <a:lnTo>
                    <a:pt x="337" y="102"/>
                  </a:lnTo>
                  <a:lnTo>
                    <a:pt x="340" y="97"/>
                  </a:lnTo>
                  <a:lnTo>
                    <a:pt x="345" y="94"/>
                  </a:lnTo>
                  <a:lnTo>
                    <a:pt x="370" y="83"/>
                  </a:lnTo>
                  <a:lnTo>
                    <a:pt x="395" y="75"/>
                  </a:lnTo>
                  <a:lnTo>
                    <a:pt x="419" y="66"/>
                  </a:lnTo>
                  <a:lnTo>
                    <a:pt x="447" y="55"/>
                  </a:lnTo>
                  <a:lnTo>
                    <a:pt x="471" y="47"/>
                  </a:lnTo>
                  <a:lnTo>
                    <a:pt x="496" y="39"/>
                  </a:lnTo>
                  <a:lnTo>
                    <a:pt x="521" y="28"/>
                  </a:lnTo>
                  <a:lnTo>
                    <a:pt x="545" y="20"/>
                  </a:lnTo>
                  <a:lnTo>
                    <a:pt x="562" y="17"/>
                  </a:lnTo>
                  <a:lnTo>
                    <a:pt x="578" y="14"/>
                  </a:lnTo>
                  <a:lnTo>
                    <a:pt x="595" y="14"/>
                  </a:lnTo>
                  <a:lnTo>
                    <a:pt x="611" y="11"/>
                  </a:lnTo>
                  <a:lnTo>
                    <a:pt x="628" y="9"/>
                  </a:lnTo>
                  <a:lnTo>
                    <a:pt x="641" y="6"/>
                  </a:lnTo>
                  <a:lnTo>
                    <a:pt x="658" y="3"/>
                  </a:lnTo>
                  <a:lnTo>
                    <a:pt x="674" y="0"/>
                  </a:lnTo>
                  <a:lnTo>
                    <a:pt x="704" y="3"/>
                  </a:lnTo>
                  <a:lnTo>
                    <a:pt x="734" y="6"/>
                  </a:lnTo>
                  <a:lnTo>
                    <a:pt x="765" y="6"/>
                  </a:lnTo>
                  <a:lnTo>
                    <a:pt x="792" y="9"/>
                  </a:lnTo>
                  <a:lnTo>
                    <a:pt x="822" y="9"/>
                  </a:lnTo>
                  <a:lnTo>
                    <a:pt x="852" y="11"/>
                  </a:lnTo>
                  <a:lnTo>
                    <a:pt x="882" y="14"/>
                  </a:lnTo>
                  <a:lnTo>
                    <a:pt x="913" y="14"/>
                  </a:lnTo>
                  <a:lnTo>
                    <a:pt x="937" y="22"/>
                  </a:lnTo>
                  <a:lnTo>
                    <a:pt x="962" y="31"/>
                  </a:lnTo>
                  <a:lnTo>
                    <a:pt x="987" y="36"/>
                  </a:lnTo>
                  <a:lnTo>
                    <a:pt x="1011" y="44"/>
                  </a:lnTo>
                  <a:lnTo>
                    <a:pt x="1036" y="53"/>
                  </a:lnTo>
                  <a:lnTo>
                    <a:pt x="1063" y="61"/>
                  </a:lnTo>
                  <a:lnTo>
                    <a:pt x="1088" y="69"/>
                  </a:lnTo>
                  <a:lnTo>
                    <a:pt x="1113" y="75"/>
                  </a:lnTo>
                  <a:close/>
                </a:path>
              </a:pathLst>
            </a:custGeom>
            <a:solidFill>
              <a:srgbClr val="c1b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96920" y="5482800"/>
              <a:ext cx="756000" cy="201960"/>
            </a:xfrm>
            <a:custGeom>
              <a:avLst/>
              <a:gdLst/>
              <a:ahLst/>
              <a:rect l="l" t="t" r="r" b="b"/>
              <a:pathLst>
                <a:path w="1614" h="485">
                  <a:moveTo>
                    <a:pt x="1069" y="68"/>
                  </a:moveTo>
                  <a:lnTo>
                    <a:pt x="1074" y="71"/>
                  </a:lnTo>
                  <a:lnTo>
                    <a:pt x="1077" y="71"/>
                  </a:lnTo>
                  <a:lnTo>
                    <a:pt x="1080" y="74"/>
                  </a:lnTo>
                  <a:lnTo>
                    <a:pt x="1082" y="74"/>
                  </a:lnTo>
                  <a:lnTo>
                    <a:pt x="1088" y="77"/>
                  </a:lnTo>
                  <a:lnTo>
                    <a:pt x="1091" y="77"/>
                  </a:lnTo>
                  <a:lnTo>
                    <a:pt x="1093" y="79"/>
                  </a:lnTo>
                  <a:lnTo>
                    <a:pt x="1096" y="79"/>
                  </a:lnTo>
                  <a:lnTo>
                    <a:pt x="1099" y="79"/>
                  </a:lnTo>
                  <a:lnTo>
                    <a:pt x="1101" y="79"/>
                  </a:lnTo>
                  <a:lnTo>
                    <a:pt x="1104" y="79"/>
                  </a:lnTo>
                  <a:lnTo>
                    <a:pt x="1107" y="79"/>
                  </a:lnTo>
                  <a:lnTo>
                    <a:pt x="1110" y="79"/>
                  </a:lnTo>
                  <a:lnTo>
                    <a:pt x="1112" y="79"/>
                  </a:lnTo>
                  <a:lnTo>
                    <a:pt x="1115" y="79"/>
                  </a:lnTo>
                  <a:lnTo>
                    <a:pt x="1118" y="79"/>
                  </a:lnTo>
                  <a:lnTo>
                    <a:pt x="1118" y="79"/>
                  </a:lnTo>
                  <a:lnTo>
                    <a:pt x="1118" y="79"/>
                  </a:lnTo>
                  <a:lnTo>
                    <a:pt x="1118" y="79"/>
                  </a:lnTo>
                  <a:lnTo>
                    <a:pt x="1118" y="79"/>
                  </a:lnTo>
                  <a:lnTo>
                    <a:pt x="1118" y="79"/>
                  </a:lnTo>
                  <a:lnTo>
                    <a:pt x="1118" y="79"/>
                  </a:lnTo>
                  <a:lnTo>
                    <a:pt x="1121" y="79"/>
                  </a:lnTo>
                  <a:lnTo>
                    <a:pt x="1121" y="79"/>
                  </a:lnTo>
                  <a:lnTo>
                    <a:pt x="1126" y="85"/>
                  </a:lnTo>
                  <a:lnTo>
                    <a:pt x="1134" y="87"/>
                  </a:lnTo>
                  <a:lnTo>
                    <a:pt x="1145" y="93"/>
                  </a:lnTo>
                  <a:lnTo>
                    <a:pt x="1154" y="96"/>
                  </a:lnTo>
                  <a:lnTo>
                    <a:pt x="1162" y="101"/>
                  </a:lnTo>
                  <a:lnTo>
                    <a:pt x="1173" y="104"/>
                  </a:lnTo>
                  <a:lnTo>
                    <a:pt x="1181" y="107"/>
                  </a:lnTo>
                  <a:lnTo>
                    <a:pt x="1192" y="109"/>
                  </a:lnTo>
                  <a:lnTo>
                    <a:pt x="1192" y="109"/>
                  </a:lnTo>
                  <a:lnTo>
                    <a:pt x="1192" y="109"/>
                  </a:lnTo>
                  <a:lnTo>
                    <a:pt x="1192" y="112"/>
                  </a:lnTo>
                  <a:lnTo>
                    <a:pt x="1192" y="112"/>
                  </a:lnTo>
                  <a:lnTo>
                    <a:pt x="1192" y="112"/>
                  </a:lnTo>
                  <a:lnTo>
                    <a:pt x="1192" y="112"/>
                  </a:lnTo>
                  <a:lnTo>
                    <a:pt x="1192" y="112"/>
                  </a:lnTo>
                  <a:lnTo>
                    <a:pt x="1195" y="112"/>
                  </a:lnTo>
                  <a:lnTo>
                    <a:pt x="1195" y="115"/>
                  </a:lnTo>
                  <a:lnTo>
                    <a:pt x="1195" y="118"/>
                  </a:lnTo>
                  <a:lnTo>
                    <a:pt x="1195" y="120"/>
                  </a:lnTo>
                  <a:lnTo>
                    <a:pt x="1195" y="123"/>
                  </a:lnTo>
                  <a:lnTo>
                    <a:pt x="1195" y="126"/>
                  </a:lnTo>
                  <a:lnTo>
                    <a:pt x="1195" y="126"/>
                  </a:lnTo>
                  <a:lnTo>
                    <a:pt x="1195" y="129"/>
                  </a:lnTo>
                  <a:lnTo>
                    <a:pt x="1195" y="131"/>
                  </a:lnTo>
                  <a:lnTo>
                    <a:pt x="1195" y="134"/>
                  </a:lnTo>
                  <a:lnTo>
                    <a:pt x="1197" y="134"/>
                  </a:lnTo>
                  <a:lnTo>
                    <a:pt x="1200" y="137"/>
                  </a:lnTo>
                  <a:lnTo>
                    <a:pt x="1200" y="137"/>
                  </a:lnTo>
                  <a:lnTo>
                    <a:pt x="1203" y="137"/>
                  </a:lnTo>
                  <a:lnTo>
                    <a:pt x="1206" y="140"/>
                  </a:lnTo>
                  <a:lnTo>
                    <a:pt x="1206" y="140"/>
                  </a:lnTo>
                  <a:lnTo>
                    <a:pt x="1208" y="142"/>
                  </a:lnTo>
                  <a:lnTo>
                    <a:pt x="1211" y="140"/>
                  </a:lnTo>
                  <a:lnTo>
                    <a:pt x="1217" y="140"/>
                  </a:lnTo>
                  <a:lnTo>
                    <a:pt x="1219" y="140"/>
                  </a:lnTo>
                  <a:lnTo>
                    <a:pt x="1222" y="140"/>
                  </a:lnTo>
                  <a:lnTo>
                    <a:pt x="1225" y="137"/>
                  </a:lnTo>
                  <a:lnTo>
                    <a:pt x="1230" y="137"/>
                  </a:lnTo>
                  <a:lnTo>
                    <a:pt x="1233" y="137"/>
                  </a:lnTo>
                  <a:lnTo>
                    <a:pt x="1236" y="134"/>
                  </a:lnTo>
                  <a:lnTo>
                    <a:pt x="1238" y="137"/>
                  </a:lnTo>
                  <a:lnTo>
                    <a:pt x="1241" y="137"/>
                  </a:lnTo>
                  <a:lnTo>
                    <a:pt x="1244" y="140"/>
                  </a:lnTo>
                  <a:lnTo>
                    <a:pt x="1247" y="140"/>
                  </a:lnTo>
                  <a:lnTo>
                    <a:pt x="1249" y="142"/>
                  </a:lnTo>
                  <a:lnTo>
                    <a:pt x="1249" y="142"/>
                  </a:lnTo>
                  <a:lnTo>
                    <a:pt x="1252" y="142"/>
                  </a:lnTo>
                  <a:lnTo>
                    <a:pt x="1255" y="142"/>
                  </a:lnTo>
                  <a:lnTo>
                    <a:pt x="1266" y="145"/>
                  </a:lnTo>
                  <a:lnTo>
                    <a:pt x="1277" y="148"/>
                  </a:lnTo>
                  <a:lnTo>
                    <a:pt x="1288" y="151"/>
                  </a:lnTo>
                  <a:lnTo>
                    <a:pt x="1299" y="153"/>
                  </a:lnTo>
                  <a:lnTo>
                    <a:pt x="1312" y="153"/>
                  </a:lnTo>
                  <a:lnTo>
                    <a:pt x="1323" y="156"/>
                  </a:lnTo>
                  <a:lnTo>
                    <a:pt x="1334" y="159"/>
                  </a:lnTo>
                  <a:lnTo>
                    <a:pt x="1345" y="159"/>
                  </a:lnTo>
                  <a:lnTo>
                    <a:pt x="1345" y="159"/>
                  </a:lnTo>
                  <a:lnTo>
                    <a:pt x="1345" y="162"/>
                  </a:lnTo>
                  <a:lnTo>
                    <a:pt x="1345" y="164"/>
                  </a:lnTo>
                  <a:lnTo>
                    <a:pt x="1345" y="164"/>
                  </a:lnTo>
                  <a:lnTo>
                    <a:pt x="1345" y="167"/>
                  </a:lnTo>
                  <a:lnTo>
                    <a:pt x="1345" y="167"/>
                  </a:lnTo>
                  <a:lnTo>
                    <a:pt x="1345" y="170"/>
                  </a:lnTo>
                  <a:lnTo>
                    <a:pt x="1345" y="173"/>
                  </a:lnTo>
                  <a:lnTo>
                    <a:pt x="1356" y="175"/>
                  </a:lnTo>
                  <a:lnTo>
                    <a:pt x="1367" y="181"/>
                  </a:lnTo>
                  <a:lnTo>
                    <a:pt x="1378" y="184"/>
                  </a:lnTo>
                  <a:lnTo>
                    <a:pt x="1392" y="189"/>
                  </a:lnTo>
                  <a:lnTo>
                    <a:pt x="1403" y="192"/>
                  </a:lnTo>
                  <a:lnTo>
                    <a:pt x="1414" y="197"/>
                  </a:lnTo>
                  <a:lnTo>
                    <a:pt x="1425" y="200"/>
                  </a:lnTo>
                  <a:lnTo>
                    <a:pt x="1436" y="206"/>
                  </a:lnTo>
                  <a:lnTo>
                    <a:pt x="1452" y="214"/>
                  </a:lnTo>
                  <a:lnTo>
                    <a:pt x="1466" y="225"/>
                  </a:lnTo>
                  <a:lnTo>
                    <a:pt x="1482" y="236"/>
                  </a:lnTo>
                  <a:lnTo>
                    <a:pt x="1499" y="244"/>
                  </a:lnTo>
                  <a:lnTo>
                    <a:pt x="1512" y="255"/>
                  </a:lnTo>
                  <a:lnTo>
                    <a:pt x="1529" y="266"/>
                  </a:lnTo>
                  <a:lnTo>
                    <a:pt x="1545" y="277"/>
                  </a:lnTo>
                  <a:lnTo>
                    <a:pt x="1562" y="285"/>
                  </a:lnTo>
                  <a:lnTo>
                    <a:pt x="1567" y="296"/>
                  </a:lnTo>
                  <a:lnTo>
                    <a:pt x="1575" y="304"/>
                  </a:lnTo>
                  <a:lnTo>
                    <a:pt x="1581" y="313"/>
                  </a:lnTo>
                  <a:lnTo>
                    <a:pt x="1586" y="324"/>
                  </a:lnTo>
                  <a:lnTo>
                    <a:pt x="1595" y="332"/>
                  </a:lnTo>
                  <a:lnTo>
                    <a:pt x="1600" y="340"/>
                  </a:lnTo>
                  <a:lnTo>
                    <a:pt x="1608" y="351"/>
                  </a:lnTo>
                  <a:lnTo>
                    <a:pt x="1614" y="359"/>
                  </a:lnTo>
                  <a:lnTo>
                    <a:pt x="1614" y="373"/>
                  </a:lnTo>
                  <a:lnTo>
                    <a:pt x="1614" y="389"/>
                  </a:lnTo>
                  <a:lnTo>
                    <a:pt x="1614" y="403"/>
                  </a:lnTo>
                  <a:lnTo>
                    <a:pt x="1614" y="417"/>
                  </a:lnTo>
                  <a:lnTo>
                    <a:pt x="1614" y="433"/>
                  </a:lnTo>
                  <a:lnTo>
                    <a:pt x="1614" y="447"/>
                  </a:lnTo>
                  <a:lnTo>
                    <a:pt x="1611" y="461"/>
                  </a:lnTo>
                  <a:lnTo>
                    <a:pt x="1611" y="477"/>
                  </a:lnTo>
                  <a:lnTo>
                    <a:pt x="1597" y="480"/>
                  </a:lnTo>
                  <a:lnTo>
                    <a:pt x="1581" y="483"/>
                  </a:lnTo>
                  <a:lnTo>
                    <a:pt x="1565" y="485"/>
                  </a:lnTo>
                  <a:lnTo>
                    <a:pt x="1548" y="485"/>
                  </a:lnTo>
                  <a:lnTo>
                    <a:pt x="1512" y="480"/>
                  </a:lnTo>
                  <a:lnTo>
                    <a:pt x="1477" y="472"/>
                  </a:lnTo>
                  <a:lnTo>
                    <a:pt x="1444" y="461"/>
                  </a:lnTo>
                  <a:lnTo>
                    <a:pt x="1414" y="447"/>
                  </a:lnTo>
                  <a:lnTo>
                    <a:pt x="1384" y="433"/>
                  </a:lnTo>
                  <a:lnTo>
                    <a:pt x="1359" y="422"/>
                  </a:lnTo>
                  <a:lnTo>
                    <a:pt x="1351" y="417"/>
                  </a:lnTo>
                  <a:lnTo>
                    <a:pt x="1343" y="414"/>
                  </a:lnTo>
                  <a:lnTo>
                    <a:pt x="1334" y="409"/>
                  </a:lnTo>
                  <a:lnTo>
                    <a:pt x="1326" y="406"/>
                  </a:lnTo>
                  <a:lnTo>
                    <a:pt x="1318" y="400"/>
                  </a:lnTo>
                  <a:lnTo>
                    <a:pt x="1310" y="398"/>
                  </a:lnTo>
                  <a:lnTo>
                    <a:pt x="1304" y="392"/>
                  </a:lnTo>
                  <a:lnTo>
                    <a:pt x="1299" y="389"/>
                  </a:lnTo>
                  <a:lnTo>
                    <a:pt x="1299" y="389"/>
                  </a:lnTo>
                  <a:lnTo>
                    <a:pt x="1299" y="389"/>
                  </a:lnTo>
                  <a:lnTo>
                    <a:pt x="1299" y="387"/>
                  </a:lnTo>
                  <a:lnTo>
                    <a:pt x="1299" y="387"/>
                  </a:lnTo>
                  <a:lnTo>
                    <a:pt x="1299" y="387"/>
                  </a:lnTo>
                  <a:lnTo>
                    <a:pt x="1299" y="387"/>
                  </a:lnTo>
                  <a:lnTo>
                    <a:pt x="1299" y="387"/>
                  </a:lnTo>
                  <a:lnTo>
                    <a:pt x="1299" y="387"/>
                  </a:lnTo>
                  <a:lnTo>
                    <a:pt x="1296" y="387"/>
                  </a:lnTo>
                  <a:lnTo>
                    <a:pt x="1293" y="384"/>
                  </a:lnTo>
                  <a:lnTo>
                    <a:pt x="1291" y="384"/>
                  </a:lnTo>
                  <a:lnTo>
                    <a:pt x="1288" y="381"/>
                  </a:lnTo>
                  <a:lnTo>
                    <a:pt x="1285" y="378"/>
                  </a:lnTo>
                  <a:lnTo>
                    <a:pt x="1282" y="378"/>
                  </a:lnTo>
                  <a:lnTo>
                    <a:pt x="1280" y="376"/>
                  </a:lnTo>
                  <a:lnTo>
                    <a:pt x="1277" y="376"/>
                  </a:lnTo>
                  <a:lnTo>
                    <a:pt x="1233" y="365"/>
                  </a:lnTo>
                  <a:lnTo>
                    <a:pt x="1184" y="354"/>
                  </a:lnTo>
                  <a:lnTo>
                    <a:pt x="1137" y="346"/>
                  </a:lnTo>
                  <a:lnTo>
                    <a:pt x="1088" y="340"/>
                  </a:lnTo>
                  <a:lnTo>
                    <a:pt x="986" y="335"/>
                  </a:lnTo>
                  <a:lnTo>
                    <a:pt x="882" y="332"/>
                  </a:lnTo>
                  <a:lnTo>
                    <a:pt x="778" y="335"/>
                  </a:lnTo>
                  <a:lnTo>
                    <a:pt x="677" y="340"/>
                  </a:lnTo>
                  <a:lnTo>
                    <a:pt x="578" y="346"/>
                  </a:lnTo>
                  <a:lnTo>
                    <a:pt x="482" y="351"/>
                  </a:lnTo>
                  <a:lnTo>
                    <a:pt x="474" y="351"/>
                  </a:lnTo>
                  <a:lnTo>
                    <a:pt x="466" y="351"/>
                  </a:lnTo>
                  <a:lnTo>
                    <a:pt x="458" y="348"/>
                  </a:lnTo>
                  <a:lnTo>
                    <a:pt x="447" y="348"/>
                  </a:lnTo>
                  <a:lnTo>
                    <a:pt x="438" y="348"/>
                  </a:lnTo>
                  <a:lnTo>
                    <a:pt x="430" y="346"/>
                  </a:lnTo>
                  <a:lnTo>
                    <a:pt x="422" y="346"/>
                  </a:lnTo>
                  <a:lnTo>
                    <a:pt x="414" y="343"/>
                  </a:lnTo>
                  <a:lnTo>
                    <a:pt x="414" y="337"/>
                  </a:lnTo>
                  <a:lnTo>
                    <a:pt x="414" y="335"/>
                  </a:lnTo>
                  <a:lnTo>
                    <a:pt x="411" y="332"/>
                  </a:lnTo>
                  <a:lnTo>
                    <a:pt x="411" y="326"/>
                  </a:lnTo>
                  <a:lnTo>
                    <a:pt x="408" y="324"/>
                  </a:lnTo>
                  <a:lnTo>
                    <a:pt x="408" y="318"/>
                  </a:lnTo>
                  <a:lnTo>
                    <a:pt x="406" y="315"/>
                  </a:lnTo>
                  <a:lnTo>
                    <a:pt x="406" y="313"/>
                  </a:lnTo>
                  <a:lnTo>
                    <a:pt x="386" y="313"/>
                  </a:lnTo>
                  <a:lnTo>
                    <a:pt x="367" y="313"/>
                  </a:lnTo>
                  <a:lnTo>
                    <a:pt x="348" y="313"/>
                  </a:lnTo>
                  <a:lnTo>
                    <a:pt x="329" y="313"/>
                  </a:lnTo>
                  <a:lnTo>
                    <a:pt x="310" y="313"/>
                  </a:lnTo>
                  <a:lnTo>
                    <a:pt x="293" y="313"/>
                  </a:lnTo>
                  <a:lnTo>
                    <a:pt x="274" y="310"/>
                  </a:lnTo>
                  <a:lnTo>
                    <a:pt x="258" y="310"/>
                  </a:lnTo>
                  <a:lnTo>
                    <a:pt x="258" y="310"/>
                  </a:lnTo>
                  <a:lnTo>
                    <a:pt x="258" y="307"/>
                  </a:lnTo>
                  <a:lnTo>
                    <a:pt x="258" y="307"/>
                  </a:lnTo>
                  <a:lnTo>
                    <a:pt x="258" y="307"/>
                  </a:lnTo>
                  <a:lnTo>
                    <a:pt x="258" y="307"/>
                  </a:lnTo>
                  <a:lnTo>
                    <a:pt x="258" y="307"/>
                  </a:lnTo>
                  <a:lnTo>
                    <a:pt x="258" y="307"/>
                  </a:lnTo>
                  <a:lnTo>
                    <a:pt x="258" y="307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58" y="304"/>
                  </a:lnTo>
                  <a:lnTo>
                    <a:pt x="230" y="304"/>
                  </a:lnTo>
                  <a:lnTo>
                    <a:pt x="203" y="304"/>
                  </a:lnTo>
                  <a:lnTo>
                    <a:pt x="175" y="310"/>
                  </a:lnTo>
                  <a:lnTo>
                    <a:pt x="145" y="313"/>
                  </a:lnTo>
                  <a:lnTo>
                    <a:pt x="118" y="315"/>
                  </a:lnTo>
                  <a:lnTo>
                    <a:pt x="90" y="318"/>
                  </a:lnTo>
                  <a:lnTo>
                    <a:pt x="60" y="318"/>
                  </a:lnTo>
                  <a:lnTo>
                    <a:pt x="33" y="315"/>
                  </a:lnTo>
                  <a:lnTo>
                    <a:pt x="27" y="313"/>
                  </a:lnTo>
                  <a:lnTo>
                    <a:pt x="19" y="310"/>
                  </a:lnTo>
                  <a:lnTo>
                    <a:pt x="14" y="304"/>
                  </a:lnTo>
                  <a:lnTo>
                    <a:pt x="11" y="299"/>
                  </a:lnTo>
                  <a:lnTo>
                    <a:pt x="5" y="291"/>
                  </a:lnTo>
                  <a:lnTo>
                    <a:pt x="3" y="282"/>
                  </a:lnTo>
                  <a:lnTo>
                    <a:pt x="0" y="271"/>
                  </a:lnTo>
                  <a:lnTo>
                    <a:pt x="0" y="263"/>
                  </a:lnTo>
                  <a:lnTo>
                    <a:pt x="3" y="258"/>
                  </a:lnTo>
                  <a:lnTo>
                    <a:pt x="5" y="255"/>
                  </a:lnTo>
                  <a:lnTo>
                    <a:pt x="5" y="252"/>
                  </a:lnTo>
                  <a:lnTo>
                    <a:pt x="8" y="249"/>
                  </a:lnTo>
                  <a:lnTo>
                    <a:pt x="11" y="244"/>
                  </a:lnTo>
                  <a:lnTo>
                    <a:pt x="14" y="241"/>
                  </a:lnTo>
                  <a:lnTo>
                    <a:pt x="16" y="238"/>
                  </a:lnTo>
                  <a:lnTo>
                    <a:pt x="19" y="233"/>
                  </a:lnTo>
                  <a:lnTo>
                    <a:pt x="33" y="225"/>
                  </a:lnTo>
                  <a:lnTo>
                    <a:pt x="47" y="216"/>
                  </a:lnTo>
                  <a:lnTo>
                    <a:pt x="60" y="208"/>
                  </a:lnTo>
                  <a:lnTo>
                    <a:pt x="71" y="200"/>
                  </a:lnTo>
                  <a:lnTo>
                    <a:pt x="85" y="192"/>
                  </a:lnTo>
                  <a:lnTo>
                    <a:pt x="99" y="184"/>
                  </a:lnTo>
                  <a:lnTo>
                    <a:pt x="112" y="175"/>
                  </a:lnTo>
                  <a:lnTo>
                    <a:pt x="123" y="167"/>
                  </a:lnTo>
                  <a:lnTo>
                    <a:pt x="126" y="167"/>
                  </a:lnTo>
                  <a:lnTo>
                    <a:pt x="129" y="167"/>
                  </a:lnTo>
                  <a:lnTo>
                    <a:pt x="131" y="167"/>
                  </a:lnTo>
                  <a:lnTo>
                    <a:pt x="134" y="167"/>
                  </a:lnTo>
                  <a:lnTo>
                    <a:pt x="137" y="167"/>
                  </a:lnTo>
                  <a:lnTo>
                    <a:pt x="140" y="167"/>
                  </a:lnTo>
                  <a:lnTo>
                    <a:pt x="142" y="167"/>
                  </a:lnTo>
                  <a:lnTo>
                    <a:pt x="142" y="167"/>
                  </a:lnTo>
                  <a:lnTo>
                    <a:pt x="151" y="162"/>
                  </a:lnTo>
                  <a:lnTo>
                    <a:pt x="159" y="159"/>
                  </a:lnTo>
                  <a:lnTo>
                    <a:pt x="167" y="153"/>
                  </a:lnTo>
                  <a:lnTo>
                    <a:pt x="175" y="148"/>
                  </a:lnTo>
                  <a:lnTo>
                    <a:pt x="184" y="145"/>
                  </a:lnTo>
                  <a:lnTo>
                    <a:pt x="192" y="140"/>
                  </a:lnTo>
                  <a:lnTo>
                    <a:pt x="200" y="137"/>
                  </a:lnTo>
                  <a:lnTo>
                    <a:pt x="208" y="131"/>
                  </a:lnTo>
                  <a:lnTo>
                    <a:pt x="219" y="129"/>
                  </a:lnTo>
                  <a:lnTo>
                    <a:pt x="230" y="126"/>
                  </a:lnTo>
                  <a:lnTo>
                    <a:pt x="241" y="120"/>
                  </a:lnTo>
                  <a:lnTo>
                    <a:pt x="252" y="118"/>
                  </a:lnTo>
                  <a:lnTo>
                    <a:pt x="263" y="115"/>
                  </a:lnTo>
                  <a:lnTo>
                    <a:pt x="274" y="112"/>
                  </a:lnTo>
                  <a:lnTo>
                    <a:pt x="285" y="109"/>
                  </a:lnTo>
                  <a:lnTo>
                    <a:pt x="296" y="107"/>
                  </a:lnTo>
                  <a:lnTo>
                    <a:pt x="301" y="101"/>
                  </a:lnTo>
                  <a:lnTo>
                    <a:pt x="304" y="98"/>
                  </a:lnTo>
                  <a:lnTo>
                    <a:pt x="310" y="93"/>
                  </a:lnTo>
                  <a:lnTo>
                    <a:pt x="312" y="90"/>
                  </a:lnTo>
                  <a:lnTo>
                    <a:pt x="318" y="85"/>
                  </a:lnTo>
                  <a:lnTo>
                    <a:pt x="323" y="82"/>
                  </a:lnTo>
                  <a:lnTo>
                    <a:pt x="326" y="77"/>
                  </a:lnTo>
                  <a:lnTo>
                    <a:pt x="332" y="74"/>
                  </a:lnTo>
                  <a:lnTo>
                    <a:pt x="356" y="66"/>
                  </a:lnTo>
                  <a:lnTo>
                    <a:pt x="378" y="57"/>
                  </a:lnTo>
                  <a:lnTo>
                    <a:pt x="403" y="52"/>
                  </a:lnTo>
                  <a:lnTo>
                    <a:pt x="427" y="44"/>
                  </a:lnTo>
                  <a:lnTo>
                    <a:pt x="452" y="35"/>
                  </a:lnTo>
                  <a:lnTo>
                    <a:pt x="477" y="30"/>
                  </a:lnTo>
                  <a:lnTo>
                    <a:pt x="501" y="22"/>
                  </a:lnTo>
                  <a:lnTo>
                    <a:pt x="523" y="13"/>
                  </a:lnTo>
                  <a:lnTo>
                    <a:pt x="540" y="13"/>
                  </a:lnTo>
                  <a:lnTo>
                    <a:pt x="556" y="11"/>
                  </a:lnTo>
                  <a:lnTo>
                    <a:pt x="570" y="8"/>
                  </a:lnTo>
                  <a:lnTo>
                    <a:pt x="586" y="8"/>
                  </a:lnTo>
                  <a:lnTo>
                    <a:pt x="603" y="5"/>
                  </a:lnTo>
                  <a:lnTo>
                    <a:pt x="616" y="2"/>
                  </a:lnTo>
                  <a:lnTo>
                    <a:pt x="633" y="2"/>
                  </a:lnTo>
                  <a:lnTo>
                    <a:pt x="649" y="0"/>
                  </a:lnTo>
                  <a:lnTo>
                    <a:pt x="677" y="2"/>
                  </a:lnTo>
                  <a:lnTo>
                    <a:pt x="704" y="2"/>
                  </a:lnTo>
                  <a:lnTo>
                    <a:pt x="734" y="5"/>
                  </a:lnTo>
                  <a:lnTo>
                    <a:pt x="762" y="8"/>
                  </a:lnTo>
                  <a:lnTo>
                    <a:pt x="792" y="8"/>
                  </a:lnTo>
                  <a:lnTo>
                    <a:pt x="819" y="11"/>
                  </a:lnTo>
                  <a:lnTo>
                    <a:pt x="847" y="13"/>
                  </a:lnTo>
                  <a:lnTo>
                    <a:pt x="877" y="13"/>
                  </a:lnTo>
                  <a:lnTo>
                    <a:pt x="901" y="22"/>
                  </a:lnTo>
                  <a:lnTo>
                    <a:pt x="923" y="27"/>
                  </a:lnTo>
                  <a:lnTo>
                    <a:pt x="948" y="35"/>
                  </a:lnTo>
                  <a:lnTo>
                    <a:pt x="973" y="41"/>
                  </a:lnTo>
                  <a:lnTo>
                    <a:pt x="997" y="49"/>
                  </a:lnTo>
                  <a:lnTo>
                    <a:pt x="1022" y="55"/>
                  </a:lnTo>
                  <a:lnTo>
                    <a:pt x="1047" y="63"/>
                  </a:lnTo>
                  <a:lnTo>
                    <a:pt x="1069" y="68"/>
                  </a:lnTo>
                  <a:close/>
                </a:path>
              </a:pathLst>
            </a:custGeom>
            <a:solidFill>
              <a:srgbClr val="c8b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16000" y="5490720"/>
              <a:ext cx="727920" cy="173880"/>
            </a:xfrm>
            <a:custGeom>
              <a:avLst/>
              <a:gdLst/>
              <a:ahLst/>
              <a:rect l="l" t="t" r="r" b="b"/>
              <a:pathLst>
                <a:path w="1554" h="417">
                  <a:moveTo>
                    <a:pt x="1030" y="63"/>
                  </a:moveTo>
                  <a:lnTo>
                    <a:pt x="1055" y="74"/>
                  </a:lnTo>
                  <a:lnTo>
                    <a:pt x="1077" y="74"/>
                  </a:lnTo>
                  <a:lnTo>
                    <a:pt x="1077" y="74"/>
                  </a:lnTo>
                  <a:lnTo>
                    <a:pt x="1085" y="77"/>
                  </a:lnTo>
                  <a:lnTo>
                    <a:pt x="1093" y="82"/>
                  </a:lnTo>
                  <a:lnTo>
                    <a:pt x="1102" y="85"/>
                  </a:lnTo>
                  <a:lnTo>
                    <a:pt x="1110" y="88"/>
                  </a:lnTo>
                  <a:lnTo>
                    <a:pt x="1121" y="90"/>
                  </a:lnTo>
                  <a:lnTo>
                    <a:pt x="1129" y="93"/>
                  </a:lnTo>
                  <a:lnTo>
                    <a:pt x="1137" y="96"/>
                  </a:lnTo>
                  <a:lnTo>
                    <a:pt x="1145" y="99"/>
                  </a:lnTo>
                  <a:lnTo>
                    <a:pt x="1148" y="101"/>
                  </a:lnTo>
                  <a:lnTo>
                    <a:pt x="1148" y="118"/>
                  </a:lnTo>
                  <a:lnTo>
                    <a:pt x="1165" y="126"/>
                  </a:lnTo>
                  <a:lnTo>
                    <a:pt x="1189" y="121"/>
                  </a:lnTo>
                  <a:lnTo>
                    <a:pt x="1192" y="123"/>
                  </a:lnTo>
                  <a:lnTo>
                    <a:pt x="1195" y="123"/>
                  </a:lnTo>
                  <a:lnTo>
                    <a:pt x="1197" y="126"/>
                  </a:lnTo>
                  <a:lnTo>
                    <a:pt x="1200" y="126"/>
                  </a:lnTo>
                  <a:lnTo>
                    <a:pt x="1200" y="126"/>
                  </a:lnTo>
                  <a:lnTo>
                    <a:pt x="1203" y="129"/>
                  </a:lnTo>
                  <a:lnTo>
                    <a:pt x="1206" y="129"/>
                  </a:lnTo>
                  <a:lnTo>
                    <a:pt x="1208" y="129"/>
                  </a:lnTo>
                  <a:lnTo>
                    <a:pt x="1219" y="132"/>
                  </a:lnTo>
                  <a:lnTo>
                    <a:pt x="1230" y="134"/>
                  </a:lnTo>
                  <a:lnTo>
                    <a:pt x="1241" y="137"/>
                  </a:lnTo>
                  <a:lnTo>
                    <a:pt x="1252" y="137"/>
                  </a:lnTo>
                  <a:lnTo>
                    <a:pt x="1263" y="140"/>
                  </a:lnTo>
                  <a:lnTo>
                    <a:pt x="1274" y="140"/>
                  </a:lnTo>
                  <a:lnTo>
                    <a:pt x="1285" y="143"/>
                  </a:lnTo>
                  <a:lnTo>
                    <a:pt x="1296" y="143"/>
                  </a:lnTo>
                  <a:lnTo>
                    <a:pt x="1296" y="154"/>
                  </a:lnTo>
                  <a:lnTo>
                    <a:pt x="1381" y="184"/>
                  </a:lnTo>
                  <a:lnTo>
                    <a:pt x="1502" y="252"/>
                  </a:lnTo>
                  <a:lnTo>
                    <a:pt x="1554" y="316"/>
                  </a:lnTo>
                  <a:lnTo>
                    <a:pt x="1551" y="412"/>
                  </a:lnTo>
                  <a:lnTo>
                    <a:pt x="1521" y="417"/>
                  </a:lnTo>
                  <a:lnTo>
                    <a:pt x="1488" y="417"/>
                  </a:lnTo>
                  <a:lnTo>
                    <a:pt x="1455" y="414"/>
                  </a:lnTo>
                  <a:lnTo>
                    <a:pt x="1422" y="406"/>
                  </a:lnTo>
                  <a:lnTo>
                    <a:pt x="1389" y="398"/>
                  </a:lnTo>
                  <a:lnTo>
                    <a:pt x="1359" y="387"/>
                  </a:lnTo>
                  <a:lnTo>
                    <a:pt x="1332" y="373"/>
                  </a:lnTo>
                  <a:lnTo>
                    <a:pt x="1307" y="362"/>
                  </a:lnTo>
                  <a:lnTo>
                    <a:pt x="1302" y="359"/>
                  </a:lnTo>
                  <a:lnTo>
                    <a:pt x="1293" y="357"/>
                  </a:lnTo>
                  <a:lnTo>
                    <a:pt x="1285" y="351"/>
                  </a:lnTo>
                  <a:lnTo>
                    <a:pt x="1277" y="348"/>
                  </a:lnTo>
                  <a:lnTo>
                    <a:pt x="1269" y="346"/>
                  </a:lnTo>
                  <a:lnTo>
                    <a:pt x="1260" y="340"/>
                  </a:lnTo>
                  <a:lnTo>
                    <a:pt x="1255" y="337"/>
                  </a:lnTo>
                  <a:lnTo>
                    <a:pt x="1250" y="335"/>
                  </a:lnTo>
                  <a:lnTo>
                    <a:pt x="1250" y="332"/>
                  </a:lnTo>
                  <a:lnTo>
                    <a:pt x="1247" y="332"/>
                  </a:lnTo>
                  <a:lnTo>
                    <a:pt x="1244" y="329"/>
                  </a:lnTo>
                  <a:lnTo>
                    <a:pt x="1241" y="329"/>
                  </a:lnTo>
                  <a:lnTo>
                    <a:pt x="1239" y="327"/>
                  </a:lnTo>
                  <a:lnTo>
                    <a:pt x="1236" y="327"/>
                  </a:lnTo>
                  <a:lnTo>
                    <a:pt x="1233" y="324"/>
                  </a:lnTo>
                  <a:lnTo>
                    <a:pt x="1230" y="324"/>
                  </a:lnTo>
                  <a:lnTo>
                    <a:pt x="1230" y="324"/>
                  </a:lnTo>
                  <a:lnTo>
                    <a:pt x="1187" y="313"/>
                  </a:lnTo>
                  <a:lnTo>
                    <a:pt x="1140" y="305"/>
                  </a:lnTo>
                  <a:lnTo>
                    <a:pt x="1093" y="296"/>
                  </a:lnTo>
                  <a:lnTo>
                    <a:pt x="1047" y="291"/>
                  </a:lnTo>
                  <a:lnTo>
                    <a:pt x="948" y="283"/>
                  </a:lnTo>
                  <a:lnTo>
                    <a:pt x="849" y="280"/>
                  </a:lnTo>
                  <a:lnTo>
                    <a:pt x="748" y="280"/>
                  </a:lnTo>
                  <a:lnTo>
                    <a:pt x="652" y="283"/>
                  </a:lnTo>
                  <a:lnTo>
                    <a:pt x="556" y="285"/>
                  </a:lnTo>
                  <a:lnTo>
                    <a:pt x="466" y="288"/>
                  </a:lnTo>
                  <a:lnTo>
                    <a:pt x="458" y="288"/>
                  </a:lnTo>
                  <a:lnTo>
                    <a:pt x="449" y="288"/>
                  </a:lnTo>
                  <a:lnTo>
                    <a:pt x="441" y="288"/>
                  </a:lnTo>
                  <a:lnTo>
                    <a:pt x="433" y="285"/>
                  </a:lnTo>
                  <a:lnTo>
                    <a:pt x="422" y="285"/>
                  </a:lnTo>
                  <a:lnTo>
                    <a:pt x="414" y="285"/>
                  </a:lnTo>
                  <a:lnTo>
                    <a:pt x="408" y="283"/>
                  </a:lnTo>
                  <a:lnTo>
                    <a:pt x="400" y="280"/>
                  </a:lnTo>
                  <a:lnTo>
                    <a:pt x="400" y="277"/>
                  </a:lnTo>
                  <a:lnTo>
                    <a:pt x="400" y="274"/>
                  </a:lnTo>
                  <a:lnTo>
                    <a:pt x="397" y="272"/>
                  </a:lnTo>
                  <a:lnTo>
                    <a:pt x="397" y="269"/>
                  </a:lnTo>
                  <a:lnTo>
                    <a:pt x="395" y="266"/>
                  </a:lnTo>
                  <a:lnTo>
                    <a:pt x="395" y="261"/>
                  </a:lnTo>
                  <a:lnTo>
                    <a:pt x="392" y="258"/>
                  </a:lnTo>
                  <a:lnTo>
                    <a:pt x="392" y="255"/>
                  </a:lnTo>
                  <a:lnTo>
                    <a:pt x="373" y="255"/>
                  </a:lnTo>
                  <a:lnTo>
                    <a:pt x="356" y="255"/>
                  </a:lnTo>
                  <a:lnTo>
                    <a:pt x="337" y="255"/>
                  </a:lnTo>
                  <a:lnTo>
                    <a:pt x="318" y="255"/>
                  </a:lnTo>
                  <a:lnTo>
                    <a:pt x="301" y="252"/>
                  </a:lnTo>
                  <a:lnTo>
                    <a:pt x="282" y="252"/>
                  </a:lnTo>
                  <a:lnTo>
                    <a:pt x="266" y="252"/>
                  </a:lnTo>
                  <a:lnTo>
                    <a:pt x="247" y="250"/>
                  </a:lnTo>
                  <a:lnTo>
                    <a:pt x="247" y="247"/>
                  </a:lnTo>
                  <a:lnTo>
                    <a:pt x="247" y="247"/>
                  </a:lnTo>
                  <a:lnTo>
                    <a:pt x="222" y="244"/>
                  </a:lnTo>
                  <a:lnTo>
                    <a:pt x="197" y="247"/>
                  </a:lnTo>
                  <a:lnTo>
                    <a:pt x="170" y="250"/>
                  </a:lnTo>
                  <a:lnTo>
                    <a:pt x="143" y="252"/>
                  </a:lnTo>
                  <a:lnTo>
                    <a:pt x="115" y="255"/>
                  </a:lnTo>
                  <a:lnTo>
                    <a:pt x="88" y="255"/>
                  </a:lnTo>
                  <a:lnTo>
                    <a:pt x="60" y="255"/>
                  </a:lnTo>
                  <a:lnTo>
                    <a:pt x="33" y="252"/>
                  </a:lnTo>
                  <a:lnTo>
                    <a:pt x="27" y="250"/>
                  </a:lnTo>
                  <a:lnTo>
                    <a:pt x="22" y="247"/>
                  </a:lnTo>
                  <a:lnTo>
                    <a:pt x="17" y="241"/>
                  </a:lnTo>
                  <a:lnTo>
                    <a:pt x="11" y="236"/>
                  </a:lnTo>
                  <a:lnTo>
                    <a:pt x="8" y="230"/>
                  </a:lnTo>
                  <a:lnTo>
                    <a:pt x="6" y="225"/>
                  </a:lnTo>
                  <a:lnTo>
                    <a:pt x="3" y="217"/>
                  </a:lnTo>
                  <a:lnTo>
                    <a:pt x="0" y="208"/>
                  </a:lnTo>
                  <a:lnTo>
                    <a:pt x="19" y="184"/>
                  </a:lnTo>
                  <a:lnTo>
                    <a:pt x="121" y="129"/>
                  </a:lnTo>
                  <a:lnTo>
                    <a:pt x="140" y="129"/>
                  </a:lnTo>
                  <a:lnTo>
                    <a:pt x="200" y="101"/>
                  </a:lnTo>
                  <a:lnTo>
                    <a:pt x="285" y="82"/>
                  </a:lnTo>
                  <a:lnTo>
                    <a:pt x="321" y="55"/>
                  </a:lnTo>
                  <a:lnTo>
                    <a:pt x="507" y="8"/>
                  </a:lnTo>
                  <a:lnTo>
                    <a:pt x="625" y="0"/>
                  </a:lnTo>
                  <a:lnTo>
                    <a:pt x="844" y="16"/>
                  </a:lnTo>
                  <a:lnTo>
                    <a:pt x="1030" y="63"/>
                  </a:lnTo>
                  <a:close/>
                </a:path>
              </a:pathLst>
            </a:custGeom>
            <a:solidFill>
              <a:srgbClr val="cfbe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711040" y="5909400"/>
              <a:ext cx="215280" cy="129600"/>
            </a:xfrm>
            <a:custGeom>
              <a:avLst/>
              <a:gdLst/>
              <a:ahLst/>
              <a:rect l="l" t="t" r="r" b="b"/>
              <a:pathLst>
                <a:path w="460" h="311">
                  <a:moveTo>
                    <a:pt x="74" y="311"/>
                  </a:moveTo>
                  <a:lnTo>
                    <a:pt x="71" y="311"/>
                  </a:lnTo>
                  <a:lnTo>
                    <a:pt x="66" y="311"/>
                  </a:lnTo>
                  <a:lnTo>
                    <a:pt x="60" y="311"/>
                  </a:lnTo>
                  <a:lnTo>
                    <a:pt x="52" y="311"/>
                  </a:lnTo>
                  <a:lnTo>
                    <a:pt x="46" y="311"/>
                  </a:lnTo>
                  <a:lnTo>
                    <a:pt x="41" y="308"/>
                  </a:lnTo>
                  <a:lnTo>
                    <a:pt x="35" y="308"/>
                  </a:lnTo>
                  <a:lnTo>
                    <a:pt x="30" y="305"/>
                  </a:lnTo>
                  <a:lnTo>
                    <a:pt x="30" y="302"/>
                  </a:lnTo>
                  <a:lnTo>
                    <a:pt x="30" y="302"/>
                  </a:lnTo>
                  <a:lnTo>
                    <a:pt x="27" y="300"/>
                  </a:lnTo>
                  <a:lnTo>
                    <a:pt x="25" y="300"/>
                  </a:lnTo>
                  <a:lnTo>
                    <a:pt x="22" y="300"/>
                  </a:lnTo>
                  <a:lnTo>
                    <a:pt x="19" y="297"/>
                  </a:lnTo>
                  <a:lnTo>
                    <a:pt x="16" y="297"/>
                  </a:lnTo>
                  <a:lnTo>
                    <a:pt x="14" y="297"/>
                  </a:lnTo>
                  <a:lnTo>
                    <a:pt x="11" y="297"/>
                  </a:lnTo>
                  <a:lnTo>
                    <a:pt x="11" y="294"/>
                  </a:lnTo>
                  <a:lnTo>
                    <a:pt x="8" y="291"/>
                  </a:lnTo>
                  <a:lnTo>
                    <a:pt x="8" y="286"/>
                  </a:lnTo>
                  <a:lnTo>
                    <a:pt x="5" y="283"/>
                  </a:lnTo>
                  <a:lnTo>
                    <a:pt x="3" y="278"/>
                  </a:lnTo>
                  <a:lnTo>
                    <a:pt x="3" y="275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11" y="102"/>
                  </a:lnTo>
                  <a:lnTo>
                    <a:pt x="19" y="94"/>
                  </a:lnTo>
                  <a:lnTo>
                    <a:pt x="35" y="83"/>
                  </a:lnTo>
                  <a:lnTo>
                    <a:pt x="55" y="69"/>
                  </a:lnTo>
                  <a:lnTo>
                    <a:pt x="77" y="53"/>
                  </a:lnTo>
                  <a:lnTo>
                    <a:pt x="96" y="36"/>
                  </a:lnTo>
                  <a:lnTo>
                    <a:pt x="112" y="22"/>
                  </a:lnTo>
                  <a:lnTo>
                    <a:pt x="126" y="14"/>
                  </a:lnTo>
                  <a:lnTo>
                    <a:pt x="129" y="9"/>
                  </a:lnTo>
                  <a:lnTo>
                    <a:pt x="164" y="9"/>
                  </a:lnTo>
                  <a:lnTo>
                    <a:pt x="200" y="6"/>
                  </a:lnTo>
                  <a:lnTo>
                    <a:pt x="235" y="3"/>
                  </a:lnTo>
                  <a:lnTo>
                    <a:pt x="274" y="0"/>
                  </a:lnTo>
                  <a:lnTo>
                    <a:pt x="309" y="3"/>
                  </a:lnTo>
                  <a:lnTo>
                    <a:pt x="345" y="9"/>
                  </a:lnTo>
                  <a:lnTo>
                    <a:pt x="362" y="14"/>
                  </a:lnTo>
                  <a:lnTo>
                    <a:pt x="378" y="20"/>
                  </a:lnTo>
                  <a:lnTo>
                    <a:pt x="392" y="28"/>
                  </a:lnTo>
                  <a:lnTo>
                    <a:pt x="405" y="39"/>
                  </a:lnTo>
                  <a:lnTo>
                    <a:pt x="405" y="44"/>
                  </a:lnTo>
                  <a:lnTo>
                    <a:pt x="422" y="50"/>
                  </a:lnTo>
                  <a:lnTo>
                    <a:pt x="422" y="50"/>
                  </a:lnTo>
                  <a:lnTo>
                    <a:pt x="422" y="53"/>
                  </a:lnTo>
                  <a:lnTo>
                    <a:pt x="425" y="55"/>
                  </a:lnTo>
                  <a:lnTo>
                    <a:pt x="427" y="58"/>
                  </a:lnTo>
                  <a:lnTo>
                    <a:pt x="430" y="61"/>
                  </a:lnTo>
                  <a:lnTo>
                    <a:pt x="433" y="61"/>
                  </a:lnTo>
                  <a:lnTo>
                    <a:pt x="433" y="64"/>
                  </a:lnTo>
                  <a:lnTo>
                    <a:pt x="436" y="64"/>
                  </a:lnTo>
                  <a:lnTo>
                    <a:pt x="438" y="86"/>
                  </a:lnTo>
                  <a:lnTo>
                    <a:pt x="441" y="110"/>
                  </a:lnTo>
                  <a:lnTo>
                    <a:pt x="444" y="135"/>
                  </a:lnTo>
                  <a:lnTo>
                    <a:pt x="449" y="162"/>
                  </a:lnTo>
                  <a:lnTo>
                    <a:pt x="452" y="187"/>
                  </a:lnTo>
                  <a:lnTo>
                    <a:pt x="457" y="215"/>
                  </a:lnTo>
                  <a:lnTo>
                    <a:pt x="460" y="242"/>
                  </a:lnTo>
                  <a:lnTo>
                    <a:pt x="460" y="267"/>
                  </a:lnTo>
                  <a:lnTo>
                    <a:pt x="457" y="267"/>
                  </a:lnTo>
                  <a:lnTo>
                    <a:pt x="457" y="269"/>
                  </a:lnTo>
                  <a:lnTo>
                    <a:pt x="455" y="269"/>
                  </a:lnTo>
                  <a:lnTo>
                    <a:pt x="455" y="272"/>
                  </a:lnTo>
                  <a:lnTo>
                    <a:pt x="452" y="275"/>
                  </a:lnTo>
                  <a:lnTo>
                    <a:pt x="452" y="278"/>
                  </a:lnTo>
                  <a:lnTo>
                    <a:pt x="452" y="280"/>
                  </a:lnTo>
                  <a:lnTo>
                    <a:pt x="452" y="280"/>
                  </a:lnTo>
                  <a:lnTo>
                    <a:pt x="449" y="280"/>
                  </a:lnTo>
                  <a:lnTo>
                    <a:pt x="446" y="283"/>
                  </a:lnTo>
                  <a:lnTo>
                    <a:pt x="446" y="283"/>
                  </a:lnTo>
                  <a:lnTo>
                    <a:pt x="446" y="283"/>
                  </a:lnTo>
                  <a:lnTo>
                    <a:pt x="446" y="286"/>
                  </a:lnTo>
                  <a:lnTo>
                    <a:pt x="446" y="286"/>
                  </a:lnTo>
                  <a:lnTo>
                    <a:pt x="444" y="286"/>
                  </a:lnTo>
                  <a:lnTo>
                    <a:pt x="441" y="286"/>
                  </a:lnTo>
                  <a:lnTo>
                    <a:pt x="438" y="291"/>
                  </a:lnTo>
                  <a:lnTo>
                    <a:pt x="436" y="294"/>
                  </a:lnTo>
                  <a:lnTo>
                    <a:pt x="430" y="297"/>
                  </a:lnTo>
                  <a:lnTo>
                    <a:pt x="422" y="300"/>
                  </a:lnTo>
                  <a:lnTo>
                    <a:pt x="414" y="300"/>
                  </a:lnTo>
                  <a:lnTo>
                    <a:pt x="408" y="300"/>
                  </a:lnTo>
                  <a:lnTo>
                    <a:pt x="400" y="297"/>
                  </a:lnTo>
                  <a:lnTo>
                    <a:pt x="397" y="297"/>
                  </a:lnTo>
                  <a:lnTo>
                    <a:pt x="397" y="291"/>
                  </a:lnTo>
                  <a:lnTo>
                    <a:pt x="386" y="291"/>
                  </a:lnTo>
                  <a:lnTo>
                    <a:pt x="386" y="278"/>
                  </a:lnTo>
                  <a:lnTo>
                    <a:pt x="389" y="264"/>
                  </a:lnTo>
                  <a:lnTo>
                    <a:pt x="394" y="250"/>
                  </a:lnTo>
                  <a:lnTo>
                    <a:pt x="397" y="234"/>
                  </a:lnTo>
                  <a:lnTo>
                    <a:pt x="400" y="220"/>
                  </a:lnTo>
                  <a:lnTo>
                    <a:pt x="403" y="204"/>
                  </a:lnTo>
                  <a:lnTo>
                    <a:pt x="403" y="190"/>
                  </a:lnTo>
                  <a:lnTo>
                    <a:pt x="400" y="179"/>
                  </a:lnTo>
                  <a:lnTo>
                    <a:pt x="394" y="171"/>
                  </a:lnTo>
                  <a:lnTo>
                    <a:pt x="386" y="160"/>
                  </a:lnTo>
                  <a:lnTo>
                    <a:pt x="375" y="154"/>
                  </a:lnTo>
                  <a:lnTo>
                    <a:pt x="367" y="146"/>
                  </a:lnTo>
                  <a:lnTo>
                    <a:pt x="356" y="140"/>
                  </a:lnTo>
                  <a:lnTo>
                    <a:pt x="348" y="135"/>
                  </a:lnTo>
                  <a:lnTo>
                    <a:pt x="345" y="127"/>
                  </a:lnTo>
                  <a:lnTo>
                    <a:pt x="342" y="119"/>
                  </a:lnTo>
                  <a:lnTo>
                    <a:pt x="340" y="119"/>
                  </a:lnTo>
                  <a:lnTo>
                    <a:pt x="337" y="116"/>
                  </a:lnTo>
                  <a:lnTo>
                    <a:pt x="334" y="113"/>
                  </a:lnTo>
                  <a:lnTo>
                    <a:pt x="331" y="110"/>
                  </a:lnTo>
                  <a:lnTo>
                    <a:pt x="331" y="108"/>
                  </a:lnTo>
                  <a:lnTo>
                    <a:pt x="329" y="102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4"/>
                  </a:lnTo>
                  <a:lnTo>
                    <a:pt x="309" y="91"/>
                  </a:lnTo>
                  <a:lnTo>
                    <a:pt x="290" y="91"/>
                  </a:lnTo>
                  <a:lnTo>
                    <a:pt x="271" y="88"/>
                  </a:lnTo>
                  <a:lnTo>
                    <a:pt x="252" y="86"/>
                  </a:lnTo>
                  <a:lnTo>
                    <a:pt x="230" y="83"/>
                  </a:lnTo>
                  <a:lnTo>
                    <a:pt x="211" y="83"/>
                  </a:lnTo>
                  <a:lnTo>
                    <a:pt x="194" y="86"/>
                  </a:lnTo>
                  <a:lnTo>
                    <a:pt x="183" y="88"/>
                  </a:lnTo>
                  <a:lnTo>
                    <a:pt x="183" y="94"/>
                  </a:lnTo>
                  <a:lnTo>
                    <a:pt x="164" y="94"/>
                  </a:lnTo>
                  <a:lnTo>
                    <a:pt x="164" y="99"/>
                  </a:lnTo>
                  <a:lnTo>
                    <a:pt x="162" y="99"/>
                  </a:lnTo>
                  <a:lnTo>
                    <a:pt x="159" y="99"/>
                  </a:lnTo>
                  <a:lnTo>
                    <a:pt x="156" y="99"/>
                  </a:lnTo>
                  <a:lnTo>
                    <a:pt x="151" y="102"/>
                  </a:lnTo>
                  <a:lnTo>
                    <a:pt x="148" y="102"/>
                  </a:lnTo>
                  <a:lnTo>
                    <a:pt x="145" y="102"/>
                  </a:lnTo>
                  <a:lnTo>
                    <a:pt x="142" y="102"/>
                  </a:lnTo>
                  <a:lnTo>
                    <a:pt x="140" y="102"/>
                  </a:lnTo>
                  <a:lnTo>
                    <a:pt x="123" y="113"/>
                  </a:lnTo>
                  <a:lnTo>
                    <a:pt x="123" y="119"/>
                  </a:lnTo>
                  <a:lnTo>
                    <a:pt x="123" y="121"/>
                  </a:lnTo>
                  <a:lnTo>
                    <a:pt x="120" y="121"/>
                  </a:lnTo>
                  <a:lnTo>
                    <a:pt x="118" y="124"/>
                  </a:lnTo>
                  <a:lnTo>
                    <a:pt x="118" y="127"/>
                  </a:lnTo>
                  <a:lnTo>
                    <a:pt x="115" y="129"/>
                  </a:lnTo>
                  <a:lnTo>
                    <a:pt x="112" y="132"/>
                  </a:lnTo>
                  <a:lnTo>
                    <a:pt x="112" y="135"/>
                  </a:lnTo>
                  <a:lnTo>
                    <a:pt x="109" y="138"/>
                  </a:lnTo>
                  <a:lnTo>
                    <a:pt x="104" y="138"/>
                  </a:lnTo>
                  <a:lnTo>
                    <a:pt x="104" y="140"/>
                  </a:lnTo>
                  <a:lnTo>
                    <a:pt x="104" y="143"/>
                  </a:lnTo>
                  <a:lnTo>
                    <a:pt x="101" y="146"/>
                  </a:lnTo>
                  <a:lnTo>
                    <a:pt x="98" y="149"/>
                  </a:lnTo>
                  <a:lnTo>
                    <a:pt x="96" y="151"/>
                  </a:lnTo>
                  <a:lnTo>
                    <a:pt x="93" y="154"/>
                  </a:lnTo>
                  <a:lnTo>
                    <a:pt x="90" y="157"/>
                  </a:lnTo>
                  <a:lnTo>
                    <a:pt x="90" y="157"/>
                  </a:lnTo>
                  <a:lnTo>
                    <a:pt x="88" y="173"/>
                  </a:lnTo>
                  <a:lnTo>
                    <a:pt x="85" y="190"/>
                  </a:lnTo>
                  <a:lnTo>
                    <a:pt x="79" y="209"/>
                  </a:lnTo>
                  <a:lnTo>
                    <a:pt x="71" y="228"/>
                  </a:lnTo>
                  <a:lnTo>
                    <a:pt x="68" y="248"/>
                  </a:lnTo>
                  <a:lnTo>
                    <a:pt x="66" y="267"/>
                  </a:lnTo>
                  <a:lnTo>
                    <a:pt x="66" y="283"/>
                  </a:lnTo>
                  <a:lnTo>
                    <a:pt x="68" y="302"/>
                  </a:lnTo>
                  <a:lnTo>
                    <a:pt x="74" y="311"/>
                  </a:lnTo>
                  <a:close/>
                </a:path>
              </a:pathLst>
            </a:custGeom>
            <a:solidFill>
              <a:srgbClr val="d4b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892120" y="6005880"/>
              <a:ext cx="5040" cy="24840"/>
            </a:xfrm>
            <a:custGeom>
              <a:avLst/>
              <a:gdLst/>
              <a:ahLst/>
              <a:rect l="l" t="t" r="r" b="b"/>
              <a:pathLst>
                <a:path w="11" h="60">
                  <a:moveTo>
                    <a:pt x="11" y="0"/>
                  </a:moveTo>
                  <a:lnTo>
                    <a:pt x="6" y="60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3" y="41"/>
                  </a:lnTo>
                  <a:lnTo>
                    <a:pt x="3" y="33"/>
                  </a:lnTo>
                  <a:lnTo>
                    <a:pt x="6" y="25"/>
                  </a:lnTo>
                  <a:lnTo>
                    <a:pt x="8" y="17"/>
                  </a:lnTo>
                  <a:lnTo>
                    <a:pt x="8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36960" y="5934960"/>
              <a:ext cx="171720" cy="142920"/>
            </a:xfrm>
            <a:custGeom>
              <a:avLst/>
              <a:gdLst/>
              <a:ahLst/>
              <a:rect l="l" t="t" r="r" b="b"/>
              <a:pathLst>
                <a:path w="367" h="343">
                  <a:moveTo>
                    <a:pt x="342" y="79"/>
                  </a:moveTo>
                  <a:lnTo>
                    <a:pt x="367" y="118"/>
                  </a:lnTo>
                  <a:lnTo>
                    <a:pt x="367" y="255"/>
                  </a:lnTo>
                  <a:lnTo>
                    <a:pt x="279" y="327"/>
                  </a:lnTo>
                  <a:lnTo>
                    <a:pt x="175" y="343"/>
                  </a:lnTo>
                  <a:lnTo>
                    <a:pt x="54" y="305"/>
                  </a:lnTo>
                  <a:lnTo>
                    <a:pt x="0" y="239"/>
                  </a:lnTo>
                  <a:lnTo>
                    <a:pt x="0" y="104"/>
                  </a:lnTo>
                  <a:lnTo>
                    <a:pt x="33" y="55"/>
                  </a:lnTo>
                  <a:lnTo>
                    <a:pt x="137" y="8"/>
                  </a:lnTo>
                  <a:lnTo>
                    <a:pt x="191" y="0"/>
                  </a:lnTo>
                  <a:lnTo>
                    <a:pt x="246" y="8"/>
                  </a:lnTo>
                  <a:lnTo>
                    <a:pt x="34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945400"/>
              <a:ext cx="148680" cy="118800"/>
            </a:xfrm>
            <a:custGeom>
              <a:avLst/>
              <a:gdLst/>
              <a:ahLst/>
              <a:rect l="l" t="t" r="r" b="b"/>
              <a:pathLst>
                <a:path w="318" h="285">
                  <a:moveTo>
                    <a:pt x="280" y="63"/>
                  </a:moveTo>
                  <a:lnTo>
                    <a:pt x="318" y="134"/>
                  </a:lnTo>
                  <a:lnTo>
                    <a:pt x="310" y="222"/>
                  </a:lnTo>
                  <a:lnTo>
                    <a:pt x="222" y="285"/>
                  </a:lnTo>
                  <a:lnTo>
                    <a:pt x="113" y="285"/>
                  </a:lnTo>
                  <a:lnTo>
                    <a:pt x="41" y="247"/>
                  </a:lnTo>
                  <a:lnTo>
                    <a:pt x="0" y="175"/>
                  </a:lnTo>
                  <a:lnTo>
                    <a:pt x="25" y="71"/>
                  </a:lnTo>
                  <a:lnTo>
                    <a:pt x="88" y="16"/>
                  </a:lnTo>
                  <a:lnTo>
                    <a:pt x="143" y="0"/>
                  </a:lnTo>
                  <a:lnTo>
                    <a:pt x="209" y="8"/>
                  </a:lnTo>
                  <a:lnTo>
                    <a:pt x="28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779080" y="5997960"/>
              <a:ext cx="55080" cy="46440"/>
            </a:xfrm>
            <a:custGeom>
              <a:avLst/>
              <a:gdLst/>
              <a:ahLst/>
              <a:rect l="l" t="t" r="r" b="b"/>
              <a:pathLst>
                <a:path w="118" h="112">
                  <a:moveTo>
                    <a:pt x="118" y="88"/>
                  </a:moveTo>
                  <a:lnTo>
                    <a:pt x="85" y="112"/>
                  </a:lnTo>
                  <a:lnTo>
                    <a:pt x="38" y="112"/>
                  </a:lnTo>
                  <a:lnTo>
                    <a:pt x="0" y="88"/>
                  </a:lnTo>
                  <a:lnTo>
                    <a:pt x="0" y="25"/>
                  </a:lnTo>
                  <a:lnTo>
                    <a:pt x="47" y="0"/>
                  </a:lnTo>
                  <a:lnTo>
                    <a:pt x="118" y="16"/>
                  </a:lnTo>
                  <a:lnTo>
                    <a:pt x="11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05000" y="6008400"/>
              <a:ext cx="17640" cy="158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6" y="38"/>
                  </a:moveTo>
                  <a:lnTo>
                    <a:pt x="5" y="38"/>
                  </a:lnTo>
                  <a:lnTo>
                    <a:pt x="0" y="32"/>
                  </a:lnTo>
                  <a:lnTo>
                    <a:pt x="16" y="0"/>
                  </a:lnTo>
                  <a:lnTo>
                    <a:pt x="38" y="2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636880" y="5908680"/>
              <a:ext cx="630000" cy="382320"/>
            </a:xfrm>
            <a:custGeom>
              <a:avLst/>
              <a:gdLst/>
              <a:ahLst/>
              <a:rect l="l" t="t" r="r" b="b"/>
              <a:pathLst>
                <a:path w="1345" h="917">
                  <a:moveTo>
                    <a:pt x="992" y="71"/>
                  </a:moveTo>
                  <a:lnTo>
                    <a:pt x="1090" y="8"/>
                  </a:lnTo>
                  <a:lnTo>
                    <a:pt x="1132" y="46"/>
                  </a:lnTo>
                  <a:lnTo>
                    <a:pt x="1132" y="66"/>
                  </a:lnTo>
                  <a:lnTo>
                    <a:pt x="1129" y="66"/>
                  </a:lnTo>
                  <a:lnTo>
                    <a:pt x="1129" y="66"/>
                  </a:lnTo>
                  <a:lnTo>
                    <a:pt x="1129" y="66"/>
                  </a:lnTo>
                  <a:lnTo>
                    <a:pt x="1129" y="63"/>
                  </a:lnTo>
                  <a:lnTo>
                    <a:pt x="1126" y="63"/>
                  </a:lnTo>
                  <a:lnTo>
                    <a:pt x="1126" y="63"/>
                  </a:lnTo>
                  <a:lnTo>
                    <a:pt x="1126" y="60"/>
                  </a:lnTo>
                  <a:lnTo>
                    <a:pt x="1123" y="60"/>
                  </a:lnTo>
                  <a:lnTo>
                    <a:pt x="1121" y="60"/>
                  </a:lnTo>
                  <a:lnTo>
                    <a:pt x="1115" y="60"/>
                  </a:lnTo>
                  <a:lnTo>
                    <a:pt x="1112" y="63"/>
                  </a:lnTo>
                  <a:lnTo>
                    <a:pt x="1107" y="66"/>
                  </a:lnTo>
                  <a:lnTo>
                    <a:pt x="1104" y="66"/>
                  </a:lnTo>
                  <a:lnTo>
                    <a:pt x="1101" y="68"/>
                  </a:lnTo>
                  <a:lnTo>
                    <a:pt x="1101" y="71"/>
                  </a:lnTo>
                  <a:lnTo>
                    <a:pt x="1099" y="77"/>
                  </a:lnTo>
                  <a:lnTo>
                    <a:pt x="1096" y="77"/>
                  </a:lnTo>
                  <a:lnTo>
                    <a:pt x="1090" y="79"/>
                  </a:lnTo>
                  <a:lnTo>
                    <a:pt x="1085" y="82"/>
                  </a:lnTo>
                  <a:lnTo>
                    <a:pt x="1079" y="85"/>
                  </a:lnTo>
                  <a:lnTo>
                    <a:pt x="1077" y="88"/>
                  </a:lnTo>
                  <a:lnTo>
                    <a:pt x="1071" y="90"/>
                  </a:lnTo>
                  <a:lnTo>
                    <a:pt x="1069" y="93"/>
                  </a:lnTo>
                  <a:lnTo>
                    <a:pt x="1066" y="96"/>
                  </a:lnTo>
                  <a:lnTo>
                    <a:pt x="1058" y="96"/>
                  </a:lnTo>
                  <a:lnTo>
                    <a:pt x="1049" y="96"/>
                  </a:lnTo>
                  <a:lnTo>
                    <a:pt x="1044" y="93"/>
                  </a:lnTo>
                  <a:lnTo>
                    <a:pt x="1036" y="93"/>
                  </a:lnTo>
                  <a:lnTo>
                    <a:pt x="1027" y="93"/>
                  </a:lnTo>
                  <a:lnTo>
                    <a:pt x="1019" y="90"/>
                  </a:lnTo>
                  <a:lnTo>
                    <a:pt x="1014" y="90"/>
                  </a:lnTo>
                  <a:lnTo>
                    <a:pt x="1006" y="90"/>
                  </a:lnTo>
                  <a:lnTo>
                    <a:pt x="1000" y="79"/>
                  </a:lnTo>
                  <a:lnTo>
                    <a:pt x="997" y="79"/>
                  </a:lnTo>
                  <a:lnTo>
                    <a:pt x="997" y="79"/>
                  </a:lnTo>
                  <a:lnTo>
                    <a:pt x="995" y="79"/>
                  </a:lnTo>
                  <a:lnTo>
                    <a:pt x="995" y="77"/>
                  </a:lnTo>
                  <a:lnTo>
                    <a:pt x="995" y="77"/>
                  </a:lnTo>
                  <a:lnTo>
                    <a:pt x="995" y="77"/>
                  </a:lnTo>
                  <a:lnTo>
                    <a:pt x="995" y="77"/>
                  </a:lnTo>
                  <a:lnTo>
                    <a:pt x="992" y="77"/>
                  </a:lnTo>
                  <a:lnTo>
                    <a:pt x="992" y="71"/>
                  </a:lnTo>
                  <a:close/>
                  <a:moveTo>
                    <a:pt x="1178" y="93"/>
                  </a:moveTo>
                  <a:lnTo>
                    <a:pt x="1195" y="79"/>
                  </a:lnTo>
                  <a:lnTo>
                    <a:pt x="1195" y="96"/>
                  </a:lnTo>
                  <a:lnTo>
                    <a:pt x="1192" y="96"/>
                  </a:lnTo>
                  <a:lnTo>
                    <a:pt x="1189" y="96"/>
                  </a:lnTo>
                  <a:lnTo>
                    <a:pt x="1189" y="96"/>
                  </a:lnTo>
                  <a:lnTo>
                    <a:pt x="1186" y="96"/>
                  </a:lnTo>
                  <a:lnTo>
                    <a:pt x="1184" y="96"/>
                  </a:lnTo>
                  <a:lnTo>
                    <a:pt x="1184" y="96"/>
                  </a:lnTo>
                  <a:lnTo>
                    <a:pt x="1181" y="93"/>
                  </a:lnTo>
                  <a:lnTo>
                    <a:pt x="1178" y="93"/>
                  </a:lnTo>
                  <a:close/>
                  <a:moveTo>
                    <a:pt x="1195" y="74"/>
                  </a:moveTo>
                  <a:lnTo>
                    <a:pt x="1178" y="22"/>
                  </a:lnTo>
                  <a:lnTo>
                    <a:pt x="1178" y="8"/>
                  </a:lnTo>
                  <a:lnTo>
                    <a:pt x="1170" y="0"/>
                  </a:lnTo>
                  <a:lnTo>
                    <a:pt x="1252" y="33"/>
                  </a:lnTo>
                  <a:lnTo>
                    <a:pt x="1315" y="88"/>
                  </a:lnTo>
                  <a:lnTo>
                    <a:pt x="1307" y="104"/>
                  </a:lnTo>
                  <a:lnTo>
                    <a:pt x="1290" y="101"/>
                  </a:lnTo>
                  <a:lnTo>
                    <a:pt x="1280" y="96"/>
                  </a:lnTo>
                  <a:lnTo>
                    <a:pt x="1266" y="90"/>
                  </a:lnTo>
                  <a:lnTo>
                    <a:pt x="1252" y="82"/>
                  </a:lnTo>
                  <a:lnTo>
                    <a:pt x="1238" y="74"/>
                  </a:lnTo>
                  <a:lnTo>
                    <a:pt x="1225" y="66"/>
                  </a:lnTo>
                  <a:lnTo>
                    <a:pt x="1211" y="63"/>
                  </a:lnTo>
                  <a:lnTo>
                    <a:pt x="1195" y="60"/>
                  </a:lnTo>
                  <a:lnTo>
                    <a:pt x="1195" y="74"/>
                  </a:lnTo>
                  <a:close/>
                  <a:moveTo>
                    <a:pt x="1238" y="225"/>
                  </a:moveTo>
                  <a:lnTo>
                    <a:pt x="1299" y="181"/>
                  </a:lnTo>
                  <a:lnTo>
                    <a:pt x="1329" y="247"/>
                  </a:lnTo>
                  <a:lnTo>
                    <a:pt x="1329" y="250"/>
                  </a:lnTo>
                  <a:lnTo>
                    <a:pt x="1318" y="247"/>
                  </a:lnTo>
                  <a:lnTo>
                    <a:pt x="1307" y="247"/>
                  </a:lnTo>
                  <a:lnTo>
                    <a:pt x="1293" y="244"/>
                  </a:lnTo>
                  <a:lnTo>
                    <a:pt x="1280" y="241"/>
                  </a:lnTo>
                  <a:lnTo>
                    <a:pt x="1266" y="239"/>
                  </a:lnTo>
                  <a:lnTo>
                    <a:pt x="1255" y="236"/>
                  </a:lnTo>
                  <a:lnTo>
                    <a:pt x="1244" y="233"/>
                  </a:lnTo>
                  <a:lnTo>
                    <a:pt x="1238" y="230"/>
                  </a:lnTo>
                  <a:lnTo>
                    <a:pt x="1238" y="225"/>
                  </a:lnTo>
                  <a:lnTo>
                    <a:pt x="1238" y="225"/>
                  </a:lnTo>
                  <a:close/>
                  <a:moveTo>
                    <a:pt x="1343" y="384"/>
                  </a:moveTo>
                  <a:lnTo>
                    <a:pt x="1345" y="422"/>
                  </a:lnTo>
                  <a:lnTo>
                    <a:pt x="1299" y="623"/>
                  </a:lnTo>
                  <a:lnTo>
                    <a:pt x="1186" y="744"/>
                  </a:lnTo>
                  <a:lnTo>
                    <a:pt x="1036" y="862"/>
                  </a:lnTo>
                  <a:lnTo>
                    <a:pt x="882" y="917"/>
                  </a:lnTo>
                  <a:lnTo>
                    <a:pt x="597" y="917"/>
                  </a:lnTo>
                  <a:lnTo>
                    <a:pt x="447" y="878"/>
                  </a:lnTo>
                  <a:lnTo>
                    <a:pt x="304" y="782"/>
                  </a:lnTo>
                  <a:lnTo>
                    <a:pt x="192" y="678"/>
                  </a:lnTo>
                  <a:lnTo>
                    <a:pt x="173" y="648"/>
                  </a:lnTo>
                  <a:lnTo>
                    <a:pt x="173" y="631"/>
                  </a:lnTo>
                  <a:lnTo>
                    <a:pt x="214" y="634"/>
                  </a:lnTo>
                  <a:lnTo>
                    <a:pt x="214" y="637"/>
                  </a:lnTo>
                  <a:lnTo>
                    <a:pt x="216" y="639"/>
                  </a:lnTo>
                  <a:lnTo>
                    <a:pt x="216" y="639"/>
                  </a:lnTo>
                  <a:lnTo>
                    <a:pt x="216" y="642"/>
                  </a:lnTo>
                  <a:lnTo>
                    <a:pt x="216" y="645"/>
                  </a:lnTo>
                  <a:lnTo>
                    <a:pt x="219" y="648"/>
                  </a:lnTo>
                  <a:lnTo>
                    <a:pt x="219" y="648"/>
                  </a:lnTo>
                  <a:lnTo>
                    <a:pt x="219" y="650"/>
                  </a:lnTo>
                  <a:lnTo>
                    <a:pt x="222" y="650"/>
                  </a:lnTo>
                  <a:lnTo>
                    <a:pt x="222" y="650"/>
                  </a:lnTo>
                  <a:lnTo>
                    <a:pt x="225" y="653"/>
                  </a:lnTo>
                  <a:lnTo>
                    <a:pt x="227" y="653"/>
                  </a:lnTo>
                  <a:lnTo>
                    <a:pt x="227" y="653"/>
                  </a:lnTo>
                  <a:lnTo>
                    <a:pt x="230" y="656"/>
                  </a:lnTo>
                  <a:lnTo>
                    <a:pt x="233" y="656"/>
                  </a:lnTo>
                  <a:lnTo>
                    <a:pt x="233" y="656"/>
                  </a:lnTo>
                  <a:lnTo>
                    <a:pt x="236" y="659"/>
                  </a:lnTo>
                  <a:lnTo>
                    <a:pt x="241" y="669"/>
                  </a:lnTo>
                  <a:lnTo>
                    <a:pt x="249" y="680"/>
                  </a:lnTo>
                  <a:lnTo>
                    <a:pt x="260" y="691"/>
                  </a:lnTo>
                  <a:lnTo>
                    <a:pt x="268" y="705"/>
                  </a:lnTo>
                  <a:lnTo>
                    <a:pt x="277" y="713"/>
                  </a:lnTo>
                  <a:lnTo>
                    <a:pt x="285" y="722"/>
                  </a:lnTo>
                  <a:lnTo>
                    <a:pt x="288" y="724"/>
                  </a:lnTo>
                  <a:lnTo>
                    <a:pt x="288" y="727"/>
                  </a:lnTo>
                  <a:lnTo>
                    <a:pt x="290" y="730"/>
                  </a:lnTo>
                  <a:lnTo>
                    <a:pt x="290" y="733"/>
                  </a:lnTo>
                  <a:lnTo>
                    <a:pt x="293" y="735"/>
                  </a:lnTo>
                  <a:lnTo>
                    <a:pt x="296" y="738"/>
                  </a:lnTo>
                  <a:lnTo>
                    <a:pt x="296" y="741"/>
                  </a:lnTo>
                  <a:lnTo>
                    <a:pt x="299" y="744"/>
                  </a:lnTo>
                  <a:lnTo>
                    <a:pt x="299" y="744"/>
                  </a:lnTo>
                  <a:lnTo>
                    <a:pt x="301" y="746"/>
                  </a:lnTo>
                  <a:lnTo>
                    <a:pt x="304" y="749"/>
                  </a:lnTo>
                  <a:lnTo>
                    <a:pt x="310" y="752"/>
                  </a:lnTo>
                  <a:lnTo>
                    <a:pt x="312" y="755"/>
                  </a:lnTo>
                  <a:lnTo>
                    <a:pt x="315" y="760"/>
                  </a:lnTo>
                  <a:lnTo>
                    <a:pt x="315" y="763"/>
                  </a:lnTo>
                  <a:lnTo>
                    <a:pt x="318" y="766"/>
                  </a:lnTo>
                  <a:lnTo>
                    <a:pt x="318" y="768"/>
                  </a:lnTo>
                  <a:lnTo>
                    <a:pt x="321" y="771"/>
                  </a:lnTo>
                  <a:lnTo>
                    <a:pt x="323" y="771"/>
                  </a:lnTo>
                  <a:lnTo>
                    <a:pt x="326" y="774"/>
                  </a:lnTo>
                  <a:lnTo>
                    <a:pt x="331" y="777"/>
                  </a:lnTo>
                  <a:lnTo>
                    <a:pt x="334" y="782"/>
                  </a:lnTo>
                  <a:lnTo>
                    <a:pt x="337" y="785"/>
                  </a:lnTo>
                  <a:lnTo>
                    <a:pt x="340" y="788"/>
                  </a:lnTo>
                  <a:lnTo>
                    <a:pt x="342" y="790"/>
                  </a:lnTo>
                  <a:lnTo>
                    <a:pt x="348" y="790"/>
                  </a:lnTo>
                  <a:lnTo>
                    <a:pt x="353" y="790"/>
                  </a:lnTo>
                  <a:lnTo>
                    <a:pt x="356" y="796"/>
                  </a:lnTo>
                  <a:lnTo>
                    <a:pt x="364" y="801"/>
                  </a:lnTo>
                  <a:lnTo>
                    <a:pt x="375" y="809"/>
                  </a:lnTo>
                  <a:lnTo>
                    <a:pt x="386" y="815"/>
                  </a:lnTo>
                  <a:lnTo>
                    <a:pt x="416" y="826"/>
                  </a:lnTo>
                  <a:lnTo>
                    <a:pt x="452" y="837"/>
                  </a:lnTo>
                  <a:lnTo>
                    <a:pt x="488" y="845"/>
                  </a:lnTo>
                  <a:lnTo>
                    <a:pt x="521" y="853"/>
                  </a:lnTo>
                  <a:lnTo>
                    <a:pt x="548" y="856"/>
                  </a:lnTo>
                  <a:lnTo>
                    <a:pt x="564" y="859"/>
                  </a:lnTo>
                  <a:lnTo>
                    <a:pt x="767" y="895"/>
                  </a:lnTo>
                  <a:lnTo>
                    <a:pt x="784" y="897"/>
                  </a:lnTo>
                  <a:lnTo>
                    <a:pt x="800" y="900"/>
                  </a:lnTo>
                  <a:lnTo>
                    <a:pt x="814" y="900"/>
                  </a:lnTo>
                  <a:lnTo>
                    <a:pt x="830" y="900"/>
                  </a:lnTo>
                  <a:lnTo>
                    <a:pt x="860" y="892"/>
                  </a:lnTo>
                  <a:lnTo>
                    <a:pt x="888" y="881"/>
                  </a:lnTo>
                  <a:lnTo>
                    <a:pt x="915" y="870"/>
                  </a:lnTo>
                  <a:lnTo>
                    <a:pt x="940" y="859"/>
                  </a:lnTo>
                  <a:lnTo>
                    <a:pt x="964" y="851"/>
                  </a:lnTo>
                  <a:lnTo>
                    <a:pt x="986" y="848"/>
                  </a:lnTo>
                  <a:lnTo>
                    <a:pt x="986" y="848"/>
                  </a:lnTo>
                  <a:lnTo>
                    <a:pt x="986" y="845"/>
                  </a:lnTo>
                  <a:lnTo>
                    <a:pt x="989" y="842"/>
                  </a:lnTo>
                  <a:lnTo>
                    <a:pt x="992" y="840"/>
                  </a:lnTo>
                  <a:lnTo>
                    <a:pt x="995" y="837"/>
                  </a:lnTo>
                  <a:lnTo>
                    <a:pt x="997" y="834"/>
                  </a:lnTo>
                  <a:lnTo>
                    <a:pt x="997" y="834"/>
                  </a:lnTo>
                  <a:lnTo>
                    <a:pt x="1000" y="834"/>
                  </a:lnTo>
                  <a:lnTo>
                    <a:pt x="1003" y="820"/>
                  </a:lnTo>
                  <a:lnTo>
                    <a:pt x="1011" y="809"/>
                  </a:lnTo>
                  <a:lnTo>
                    <a:pt x="1022" y="793"/>
                  </a:lnTo>
                  <a:lnTo>
                    <a:pt x="1033" y="777"/>
                  </a:lnTo>
                  <a:lnTo>
                    <a:pt x="1044" y="760"/>
                  </a:lnTo>
                  <a:lnTo>
                    <a:pt x="1055" y="744"/>
                  </a:lnTo>
                  <a:lnTo>
                    <a:pt x="1063" y="727"/>
                  </a:lnTo>
                  <a:lnTo>
                    <a:pt x="1066" y="711"/>
                  </a:lnTo>
                  <a:lnTo>
                    <a:pt x="1069" y="705"/>
                  </a:lnTo>
                  <a:lnTo>
                    <a:pt x="1071" y="705"/>
                  </a:lnTo>
                  <a:lnTo>
                    <a:pt x="1074" y="705"/>
                  </a:lnTo>
                  <a:lnTo>
                    <a:pt x="1074" y="702"/>
                  </a:lnTo>
                  <a:lnTo>
                    <a:pt x="1077" y="702"/>
                  </a:lnTo>
                  <a:lnTo>
                    <a:pt x="1077" y="700"/>
                  </a:lnTo>
                  <a:lnTo>
                    <a:pt x="1079" y="700"/>
                  </a:lnTo>
                  <a:lnTo>
                    <a:pt x="1079" y="697"/>
                  </a:lnTo>
                  <a:lnTo>
                    <a:pt x="1079" y="694"/>
                  </a:lnTo>
                  <a:lnTo>
                    <a:pt x="1099" y="691"/>
                  </a:lnTo>
                  <a:lnTo>
                    <a:pt x="1118" y="686"/>
                  </a:lnTo>
                  <a:lnTo>
                    <a:pt x="1137" y="672"/>
                  </a:lnTo>
                  <a:lnTo>
                    <a:pt x="1156" y="656"/>
                  </a:lnTo>
                  <a:lnTo>
                    <a:pt x="1178" y="637"/>
                  </a:lnTo>
                  <a:lnTo>
                    <a:pt x="1197" y="617"/>
                  </a:lnTo>
                  <a:lnTo>
                    <a:pt x="1216" y="593"/>
                  </a:lnTo>
                  <a:lnTo>
                    <a:pt x="1236" y="568"/>
                  </a:lnTo>
                  <a:lnTo>
                    <a:pt x="1271" y="516"/>
                  </a:lnTo>
                  <a:lnTo>
                    <a:pt x="1304" y="464"/>
                  </a:lnTo>
                  <a:lnTo>
                    <a:pt x="1326" y="420"/>
                  </a:lnTo>
                  <a:lnTo>
                    <a:pt x="1343" y="384"/>
                  </a:lnTo>
                  <a:close/>
                  <a:moveTo>
                    <a:pt x="263" y="637"/>
                  </a:moveTo>
                  <a:lnTo>
                    <a:pt x="263" y="637"/>
                  </a:lnTo>
                  <a:lnTo>
                    <a:pt x="263" y="637"/>
                  </a:lnTo>
                  <a:lnTo>
                    <a:pt x="263" y="637"/>
                  </a:lnTo>
                  <a:lnTo>
                    <a:pt x="263" y="637"/>
                  </a:lnTo>
                  <a:lnTo>
                    <a:pt x="263" y="637"/>
                  </a:lnTo>
                  <a:lnTo>
                    <a:pt x="263" y="637"/>
                  </a:lnTo>
                  <a:close/>
                  <a:moveTo>
                    <a:pt x="526" y="711"/>
                  </a:moveTo>
                  <a:lnTo>
                    <a:pt x="614" y="678"/>
                  </a:lnTo>
                  <a:lnTo>
                    <a:pt x="625" y="680"/>
                  </a:lnTo>
                  <a:lnTo>
                    <a:pt x="614" y="683"/>
                  </a:lnTo>
                  <a:lnTo>
                    <a:pt x="603" y="686"/>
                  </a:lnTo>
                  <a:lnTo>
                    <a:pt x="589" y="691"/>
                  </a:lnTo>
                  <a:lnTo>
                    <a:pt x="578" y="694"/>
                  </a:lnTo>
                  <a:lnTo>
                    <a:pt x="564" y="700"/>
                  </a:lnTo>
                  <a:lnTo>
                    <a:pt x="553" y="702"/>
                  </a:lnTo>
                  <a:lnTo>
                    <a:pt x="540" y="708"/>
                  </a:lnTo>
                  <a:lnTo>
                    <a:pt x="526" y="711"/>
                  </a:lnTo>
                  <a:close/>
                  <a:moveTo>
                    <a:pt x="816" y="678"/>
                  </a:moveTo>
                  <a:lnTo>
                    <a:pt x="786" y="653"/>
                  </a:lnTo>
                  <a:lnTo>
                    <a:pt x="597" y="648"/>
                  </a:lnTo>
                  <a:lnTo>
                    <a:pt x="471" y="702"/>
                  </a:lnTo>
                  <a:lnTo>
                    <a:pt x="414" y="702"/>
                  </a:lnTo>
                  <a:lnTo>
                    <a:pt x="304" y="615"/>
                  </a:lnTo>
                  <a:lnTo>
                    <a:pt x="230" y="598"/>
                  </a:lnTo>
                  <a:lnTo>
                    <a:pt x="79" y="576"/>
                  </a:lnTo>
                  <a:lnTo>
                    <a:pt x="25" y="551"/>
                  </a:lnTo>
                  <a:lnTo>
                    <a:pt x="0" y="499"/>
                  </a:lnTo>
                  <a:lnTo>
                    <a:pt x="5" y="502"/>
                  </a:lnTo>
                  <a:lnTo>
                    <a:pt x="14" y="505"/>
                  </a:lnTo>
                  <a:lnTo>
                    <a:pt x="22" y="510"/>
                  </a:lnTo>
                  <a:lnTo>
                    <a:pt x="27" y="516"/>
                  </a:lnTo>
                  <a:lnTo>
                    <a:pt x="33" y="521"/>
                  </a:lnTo>
                  <a:lnTo>
                    <a:pt x="41" y="527"/>
                  </a:lnTo>
                  <a:lnTo>
                    <a:pt x="46" y="530"/>
                  </a:lnTo>
                  <a:lnTo>
                    <a:pt x="49" y="532"/>
                  </a:lnTo>
                  <a:lnTo>
                    <a:pt x="57" y="543"/>
                  </a:lnTo>
                  <a:lnTo>
                    <a:pt x="68" y="554"/>
                  </a:lnTo>
                  <a:lnTo>
                    <a:pt x="82" y="560"/>
                  </a:lnTo>
                  <a:lnTo>
                    <a:pt x="99" y="568"/>
                  </a:lnTo>
                  <a:lnTo>
                    <a:pt x="134" y="573"/>
                  </a:lnTo>
                  <a:lnTo>
                    <a:pt x="173" y="576"/>
                  </a:lnTo>
                  <a:lnTo>
                    <a:pt x="214" y="576"/>
                  </a:lnTo>
                  <a:lnTo>
                    <a:pt x="255" y="573"/>
                  </a:lnTo>
                  <a:lnTo>
                    <a:pt x="290" y="573"/>
                  </a:lnTo>
                  <a:lnTo>
                    <a:pt x="318" y="571"/>
                  </a:lnTo>
                  <a:lnTo>
                    <a:pt x="329" y="582"/>
                  </a:lnTo>
                  <a:lnTo>
                    <a:pt x="331" y="582"/>
                  </a:lnTo>
                  <a:lnTo>
                    <a:pt x="337" y="582"/>
                  </a:lnTo>
                  <a:lnTo>
                    <a:pt x="340" y="595"/>
                  </a:lnTo>
                  <a:lnTo>
                    <a:pt x="345" y="609"/>
                  </a:lnTo>
                  <a:lnTo>
                    <a:pt x="351" y="617"/>
                  </a:lnTo>
                  <a:lnTo>
                    <a:pt x="362" y="628"/>
                  </a:lnTo>
                  <a:lnTo>
                    <a:pt x="375" y="634"/>
                  </a:lnTo>
                  <a:lnTo>
                    <a:pt x="389" y="639"/>
                  </a:lnTo>
                  <a:lnTo>
                    <a:pt x="403" y="642"/>
                  </a:lnTo>
                  <a:lnTo>
                    <a:pt x="419" y="645"/>
                  </a:lnTo>
                  <a:lnTo>
                    <a:pt x="452" y="648"/>
                  </a:lnTo>
                  <a:lnTo>
                    <a:pt x="485" y="645"/>
                  </a:lnTo>
                  <a:lnTo>
                    <a:pt x="510" y="642"/>
                  </a:lnTo>
                  <a:lnTo>
                    <a:pt x="531" y="637"/>
                  </a:lnTo>
                  <a:lnTo>
                    <a:pt x="570" y="626"/>
                  </a:lnTo>
                  <a:lnTo>
                    <a:pt x="605" y="623"/>
                  </a:lnTo>
                  <a:lnTo>
                    <a:pt x="638" y="623"/>
                  </a:lnTo>
                  <a:lnTo>
                    <a:pt x="668" y="628"/>
                  </a:lnTo>
                  <a:lnTo>
                    <a:pt x="699" y="634"/>
                  </a:lnTo>
                  <a:lnTo>
                    <a:pt x="732" y="639"/>
                  </a:lnTo>
                  <a:lnTo>
                    <a:pt x="764" y="645"/>
                  </a:lnTo>
                  <a:lnTo>
                    <a:pt x="803" y="645"/>
                  </a:lnTo>
                  <a:lnTo>
                    <a:pt x="803" y="650"/>
                  </a:lnTo>
                  <a:lnTo>
                    <a:pt x="803" y="653"/>
                  </a:lnTo>
                  <a:lnTo>
                    <a:pt x="805" y="656"/>
                  </a:lnTo>
                  <a:lnTo>
                    <a:pt x="805" y="661"/>
                  </a:lnTo>
                  <a:lnTo>
                    <a:pt x="808" y="664"/>
                  </a:lnTo>
                  <a:lnTo>
                    <a:pt x="811" y="669"/>
                  </a:lnTo>
                  <a:lnTo>
                    <a:pt x="814" y="672"/>
                  </a:lnTo>
                  <a:lnTo>
                    <a:pt x="816" y="678"/>
                  </a:lnTo>
                  <a:close/>
                </a:path>
              </a:pathLst>
            </a:custGeom>
            <a:solidFill>
              <a:srgbClr val="d4b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83560" y="5981400"/>
              <a:ext cx="203760" cy="188640"/>
            </a:xfrm>
            <a:custGeom>
              <a:avLst/>
              <a:gdLst/>
              <a:ahLst/>
              <a:rect l="l" t="t" r="r" b="b"/>
              <a:pathLst>
                <a:path w="435" h="453">
                  <a:moveTo>
                    <a:pt x="405" y="69"/>
                  </a:moveTo>
                  <a:lnTo>
                    <a:pt x="364" y="31"/>
                  </a:lnTo>
                  <a:lnTo>
                    <a:pt x="326" y="25"/>
                  </a:lnTo>
                  <a:lnTo>
                    <a:pt x="290" y="20"/>
                  </a:lnTo>
                  <a:lnTo>
                    <a:pt x="257" y="14"/>
                  </a:lnTo>
                  <a:lnTo>
                    <a:pt x="224" y="9"/>
                  </a:lnTo>
                  <a:lnTo>
                    <a:pt x="189" y="6"/>
                  </a:lnTo>
                  <a:lnTo>
                    <a:pt x="156" y="3"/>
                  </a:lnTo>
                  <a:lnTo>
                    <a:pt x="120" y="0"/>
                  </a:lnTo>
                  <a:lnTo>
                    <a:pt x="82" y="0"/>
                  </a:lnTo>
                  <a:lnTo>
                    <a:pt x="63" y="31"/>
                  </a:lnTo>
                  <a:lnTo>
                    <a:pt x="46" y="61"/>
                  </a:lnTo>
                  <a:lnTo>
                    <a:pt x="33" y="94"/>
                  </a:lnTo>
                  <a:lnTo>
                    <a:pt x="19" y="124"/>
                  </a:lnTo>
                  <a:lnTo>
                    <a:pt x="11" y="154"/>
                  </a:lnTo>
                  <a:lnTo>
                    <a:pt x="5" y="184"/>
                  </a:lnTo>
                  <a:lnTo>
                    <a:pt x="0" y="215"/>
                  </a:lnTo>
                  <a:lnTo>
                    <a:pt x="2" y="242"/>
                  </a:lnTo>
                  <a:lnTo>
                    <a:pt x="5" y="269"/>
                  </a:lnTo>
                  <a:lnTo>
                    <a:pt x="13" y="297"/>
                  </a:lnTo>
                  <a:lnTo>
                    <a:pt x="24" y="322"/>
                  </a:lnTo>
                  <a:lnTo>
                    <a:pt x="41" y="346"/>
                  </a:lnTo>
                  <a:lnTo>
                    <a:pt x="60" y="368"/>
                  </a:lnTo>
                  <a:lnTo>
                    <a:pt x="85" y="390"/>
                  </a:lnTo>
                  <a:lnTo>
                    <a:pt x="112" y="409"/>
                  </a:lnTo>
                  <a:lnTo>
                    <a:pt x="148" y="426"/>
                  </a:lnTo>
                  <a:lnTo>
                    <a:pt x="170" y="434"/>
                  </a:lnTo>
                  <a:lnTo>
                    <a:pt x="194" y="442"/>
                  </a:lnTo>
                  <a:lnTo>
                    <a:pt x="216" y="448"/>
                  </a:lnTo>
                  <a:lnTo>
                    <a:pt x="235" y="453"/>
                  </a:lnTo>
                  <a:lnTo>
                    <a:pt x="257" y="453"/>
                  </a:lnTo>
                  <a:lnTo>
                    <a:pt x="274" y="453"/>
                  </a:lnTo>
                  <a:lnTo>
                    <a:pt x="293" y="451"/>
                  </a:lnTo>
                  <a:lnTo>
                    <a:pt x="309" y="448"/>
                  </a:lnTo>
                  <a:lnTo>
                    <a:pt x="323" y="442"/>
                  </a:lnTo>
                  <a:lnTo>
                    <a:pt x="339" y="437"/>
                  </a:lnTo>
                  <a:lnTo>
                    <a:pt x="353" y="429"/>
                  </a:lnTo>
                  <a:lnTo>
                    <a:pt x="364" y="420"/>
                  </a:lnTo>
                  <a:lnTo>
                    <a:pt x="386" y="398"/>
                  </a:lnTo>
                  <a:lnTo>
                    <a:pt x="405" y="371"/>
                  </a:lnTo>
                  <a:lnTo>
                    <a:pt x="419" y="341"/>
                  </a:lnTo>
                  <a:lnTo>
                    <a:pt x="427" y="311"/>
                  </a:lnTo>
                  <a:lnTo>
                    <a:pt x="433" y="275"/>
                  </a:lnTo>
                  <a:lnTo>
                    <a:pt x="435" y="236"/>
                  </a:lnTo>
                  <a:lnTo>
                    <a:pt x="435" y="198"/>
                  </a:lnTo>
                  <a:lnTo>
                    <a:pt x="430" y="160"/>
                  </a:lnTo>
                  <a:lnTo>
                    <a:pt x="422" y="121"/>
                  </a:lnTo>
                  <a:lnTo>
                    <a:pt x="408" y="83"/>
                  </a:lnTo>
                  <a:lnTo>
                    <a:pt x="408" y="75"/>
                  </a:lnTo>
                  <a:lnTo>
                    <a:pt x="405" y="69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999040" y="5990760"/>
              <a:ext cx="173160" cy="161280"/>
            </a:xfrm>
            <a:custGeom>
              <a:avLst/>
              <a:gdLst/>
              <a:ahLst/>
              <a:rect l="l" t="t" r="r" b="b"/>
              <a:pathLst>
                <a:path w="370" h="387">
                  <a:moveTo>
                    <a:pt x="342" y="61"/>
                  </a:moveTo>
                  <a:lnTo>
                    <a:pt x="339" y="55"/>
                  </a:lnTo>
                  <a:lnTo>
                    <a:pt x="334" y="53"/>
                  </a:lnTo>
                  <a:lnTo>
                    <a:pt x="331" y="47"/>
                  </a:lnTo>
                  <a:lnTo>
                    <a:pt x="326" y="44"/>
                  </a:lnTo>
                  <a:lnTo>
                    <a:pt x="323" y="39"/>
                  </a:lnTo>
                  <a:lnTo>
                    <a:pt x="317" y="36"/>
                  </a:lnTo>
                  <a:lnTo>
                    <a:pt x="315" y="31"/>
                  </a:lnTo>
                  <a:lnTo>
                    <a:pt x="309" y="28"/>
                  </a:lnTo>
                  <a:lnTo>
                    <a:pt x="276" y="22"/>
                  </a:lnTo>
                  <a:lnTo>
                    <a:pt x="246" y="17"/>
                  </a:lnTo>
                  <a:lnTo>
                    <a:pt x="219" y="14"/>
                  </a:lnTo>
                  <a:lnTo>
                    <a:pt x="189" y="9"/>
                  </a:lnTo>
                  <a:lnTo>
                    <a:pt x="161" y="6"/>
                  </a:lnTo>
                  <a:lnTo>
                    <a:pt x="131" y="3"/>
                  </a:lnTo>
                  <a:lnTo>
                    <a:pt x="101" y="3"/>
                  </a:lnTo>
                  <a:lnTo>
                    <a:pt x="71" y="0"/>
                  </a:lnTo>
                  <a:lnTo>
                    <a:pt x="54" y="28"/>
                  </a:lnTo>
                  <a:lnTo>
                    <a:pt x="38" y="53"/>
                  </a:lnTo>
                  <a:lnTo>
                    <a:pt x="27" y="80"/>
                  </a:lnTo>
                  <a:lnTo>
                    <a:pt x="16" y="107"/>
                  </a:lnTo>
                  <a:lnTo>
                    <a:pt x="8" y="132"/>
                  </a:lnTo>
                  <a:lnTo>
                    <a:pt x="2" y="157"/>
                  </a:lnTo>
                  <a:lnTo>
                    <a:pt x="0" y="184"/>
                  </a:lnTo>
                  <a:lnTo>
                    <a:pt x="2" y="209"/>
                  </a:lnTo>
                  <a:lnTo>
                    <a:pt x="5" y="231"/>
                  </a:lnTo>
                  <a:lnTo>
                    <a:pt x="11" y="253"/>
                  </a:lnTo>
                  <a:lnTo>
                    <a:pt x="22" y="275"/>
                  </a:lnTo>
                  <a:lnTo>
                    <a:pt x="32" y="297"/>
                  </a:lnTo>
                  <a:lnTo>
                    <a:pt x="52" y="316"/>
                  </a:lnTo>
                  <a:lnTo>
                    <a:pt x="71" y="333"/>
                  </a:lnTo>
                  <a:lnTo>
                    <a:pt x="96" y="349"/>
                  </a:lnTo>
                  <a:lnTo>
                    <a:pt x="126" y="363"/>
                  </a:lnTo>
                  <a:lnTo>
                    <a:pt x="164" y="379"/>
                  </a:lnTo>
                  <a:lnTo>
                    <a:pt x="200" y="385"/>
                  </a:lnTo>
                  <a:lnTo>
                    <a:pt x="219" y="387"/>
                  </a:lnTo>
                  <a:lnTo>
                    <a:pt x="233" y="387"/>
                  </a:lnTo>
                  <a:lnTo>
                    <a:pt x="249" y="385"/>
                  </a:lnTo>
                  <a:lnTo>
                    <a:pt x="263" y="382"/>
                  </a:lnTo>
                  <a:lnTo>
                    <a:pt x="287" y="374"/>
                  </a:lnTo>
                  <a:lnTo>
                    <a:pt x="309" y="360"/>
                  </a:lnTo>
                  <a:lnTo>
                    <a:pt x="328" y="341"/>
                  </a:lnTo>
                  <a:lnTo>
                    <a:pt x="342" y="319"/>
                  </a:lnTo>
                  <a:lnTo>
                    <a:pt x="356" y="291"/>
                  </a:lnTo>
                  <a:lnTo>
                    <a:pt x="364" y="264"/>
                  </a:lnTo>
                  <a:lnTo>
                    <a:pt x="370" y="234"/>
                  </a:lnTo>
                  <a:lnTo>
                    <a:pt x="370" y="203"/>
                  </a:lnTo>
                  <a:lnTo>
                    <a:pt x="370" y="171"/>
                  </a:lnTo>
                  <a:lnTo>
                    <a:pt x="364" y="138"/>
                  </a:lnTo>
                  <a:lnTo>
                    <a:pt x="359" y="105"/>
                  </a:lnTo>
                  <a:lnTo>
                    <a:pt x="348" y="72"/>
                  </a:lnTo>
                  <a:lnTo>
                    <a:pt x="348" y="72"/>
                  </a:lnTo>
                  <a:lnTo>
                    <a:pt x="348" y="72"/>
                  </a:lnTo>
                  <a:lnTo>
                    <a:pt x="348" y="69"/>
                  </a:lnTo>
                  <a:lnTo>
                    <a:pt x="348" y="69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48" y="64"/>
                  </a:lnTo>
                  <a:lnTo>
                    <a:pt x="348" y="64"/>
                  </a:lnTo>
                  <a:lnTo>
                    <a:pt x="348" y="64"/>
                  </a:lnTo>
                  <a:lnTo>
                    <a:pt x="345" y="64"/>
                  </a:lnTo>
                  <a:lnTo>
                    <a:pt x="345" y="64"/>
                  </a:lnTo>
                  <a:lnTo>
                    <a:pt x="345" y="61"/>
                  </a:lnTo>
                  <a:lnTo>
                    <a:pt x="345" y="61"/>
                  </a:lnTo>
                  <a:lnTo>
                    <a:pt x="345" y="61"/>
                  </a:lnTo>
                  <a:lnTo>
                    <a:pt x="342" y="61"/>
                  </a:lnTo>
                  <a:close/>
                </a:path>
              </a:pathLst>
            </a:custGeom>
            <a:solidFill>
              <a:srgbClr val="f7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3800" y="6001200"/>
              <a:ext cx="142560" cy="132480"/>
            </a:xfrm>
            <a:custGeom>
              <a:avLst/>
              <a:gdLst/>
              <a:ahLst/>
              <a:rect l="l" t="t" r="r" b="b"/>
              <a:pathLst>
                <a:path w="305" h="318">
                  <a:moveTo>
                    <a:pt x="283" y="49"/>
                  </a:moveTo>
                  <a:lnTo>
                    <a:pt x="280" y="44"/>
                  </a:lnTo>
                  <a:lnTo>
                    <a:pt x="277" y="41"/>
                  </a:lnTo>
                  <a:lnTo>
                    <a:pt x="272" y="39"/>
                  </a:lnTo>
                  <a:lnTo>
                    <a:pt x="269" y="36"/>
                  </a:lnTo>
                  <a:lnTo>
                    <a:pt x="266" y="30"/>
                  </a:lnTo>
                  <a:lnTo>
                    <a:pt x="264" y="28"/>
                  </a:lnTo>
                  <a:lnTo>
                    <a:pt x="258" y="25"/>
                  </a:lnTo>
                  <a:lnTo>
                    <a:pt x="255" y="22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81" y="8"/>
                  </a:lnTo>
                  <a:lnTo>
                    <a:pt x="157" y="6"/>
                  </a:lnTo>
                  <a:lnTo>
                    <a:pt x="135" y="3"/>
                  </a:lnTo>
                  <a:lnTo>
                    <a:pt x="110" y="3"/>
                  </a:lnTo>
                  <a:lnTo>
                    <a:pt x="85" y="0"/>
                  </a:lnTo>
                  <a:lnTo>
                    <a:pt x="58" y="0"/>
                  </a:lnTo>
                  <a:lnTo>
                    <a:pt x="44" y="22"/>
                  </a:lnTo>
                  <a:lnTo>
                    <a:pt x="33" y="44"/>
                  </a:lnTo>
                  <a:lnTo>
                    <a:pt x="22" y="66"/>
                  </a:lnTo>
                  <a:lnTo>
                    <a:pt x="14" y="88"/>
                  </a:lnTo>
                  <a:lnTo>
                    <a:pt x="9" y="107"/>
                  </a:lnTo>
                  <a:lnTo>
                    <a:pt x="3" y="129"/>
                  </a:lnTo>
                  <a:lnTo>
                    <a:pt x="0" y="151"/>
                  </a:lnTo>
                  <a:lnTo>
                    <a:pt x="0" y="170"/>
                  </a:lnTo>
                  <a:lnTo>
                    <a:pt x="3" y="189"/>
                  </a:lnTo>
                  <a:lnTo>
                    <a:pt x="9" y="209"/>
                  </a:lnTo>
                  <a:lnTo>
                    <a:pt x="17" y="225"/>
                  </a:lnTo>
                  <a:lnTo>
                    <a:pt x="28" y="242"/>
                  </a:lnTo>
                  <a:lnTo>
                    <a:pt x="42" y="258"/>
                  </a:lnTo>
                  <a:lnTo>
                    <a:pt x="61" y="275"/>
                  </a:lnTo>
                  <a:lnTo>
                    <a:pt x="80" y="286"/>
                  </a:lnTo>
                  <a:lnTo>
                    <a:pt x="105" y="299"/>
                  </a:lnTo>
                  <a:lnTo>
                    <a:pt x="137" y="310"/>
                  </a:lnTo>
                  <a:lnTo>
                    <a:pt x="165" y="316"/>
                  </a:lnTo>
                  <a:lnTo>
                    <a:pt x="192" y="318"/>
                  </a:lnTo>
                  <a:lnTo>
                    <a:pt x="217" y="313"/>
                  </a:lnTo>
                  <a:lnTo>
                    <a:pt x="239" y="305"/>
                  </a:lnTo>
                  <a:lnTo>
                    <a:pt x="255" y="294"/>
                  </a:lnTo>
                  <a:lnTo>
                    <a:pt x="272" y="280"/>
                  </a:lnTo>
                  <a:lnTo>
                    <a:pt x="283" y="261"/>
                  </a:lnTo>
                  <a:lnTo>
                    <a:pt x="294" y="239"/>
                  </a:lnTo>
                  <a:lnTo>
                    <a:pt x="299" y="217"/>
                  </a:lnTo>
                  <a:lnTo>
                    <a:pt x="305" y="192"/>
                  </a:lnTo>
                  <a:lnTo>
                    <a:pt x="305" y="165"/>
                  </a:lnTo>
                  <a:lnTo>
                    <a:pt x="305" y="140"/>
                  </a:lnTo>
                  <a:lnTo>
                    <a:pt x="302" y="113"/>
                  </a:lnTo>
                  <a:lnTo>
                    <a:pt x="296" y="85"/>
                  </a:lnTo>
                  <a:lnTo>
                    <a:pt x="288" y="58"/>
                  </a:lnTo>
                  <a:lnTo>
                    <a:pt x="288" y="58"/>
                  </a:lnTo>
                  <a:lnTo>
                    <a:pt x="288" y="58"/>
                  </a:lnTo>
                  <a:lnTo>
                    <a:pt x="288" y="55"/>
                  </a:lnTo>
                  <a:lnTo>
                    <a:pt x="288" y="55"/>
                  </a:lnTo>
                  <a:lnTo>
                    <a:pt x="288" y="55"/>
                  </a:lnTo>
                  <a:lnTo>
                    <a:pt x="288" y="55"/>
                  </a:lnTo>
                  <a:lnTo>
                    <a:pt x="288" y="52"/>
                  </a:lnTo>
                  <a:lnTo>
                    <a:pt x="288" y="52"/>
                  </a:lnTo>
                  <a:lnTo>
                    <a:pt x="285" y="52"/>
                  </a:lnTo>
                  <a:lnTo>
                    <a:pt x="285" y="52"/>
                  </a:lnTo>
                  <a:lnTo>
                    <a:pt x="285" y="49"/>
                  </a:lnTo>
                  <a:lnTo>
                    <a:pt x="285" y="49"/>
                  </a:lnTo>
                  <a:lnTo>
                    <a:pt x="285" y="49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3" y="49"/>
                  </a:lnTo>
                  <a:close/>
                </a:path>
              </a:pathLst>
            </a:custGeom>
            <a:solidFill>
              <a:srgbClr val="f9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29280" y="6011640"/>
              <a:ext cx="112680" cy="104040"/>
            </a:xfrm>
            <a:custGeom>
              <a:avLst/>
              <a:gdLst/>
              <a:ahLst/>
              <a:rect l="l" t="t" r="r" b="b"/>
              <a:pathLst>
                <a:path w="241" h="250">
                  <a:moveTo>
                    <a:pt x="222" y="35"/>
                  </a:moveTo>
                  <a:lnTo>
                    <a:pt x="220" y="33"/>
                  </a:lnTo>
                  <a:lnTo>
                    <a:pt x="217" y="30"/>
                  </a:lnTo>
                  <a:lnTo>
                    <a:pt x="214" y="27"/>
                  </a:lnTo>
                  <a:lnTo>
                    <a:pt x="211" y="24"/>
                  </a:lnTo>
                  <a:lnTo>
                    <a:pt x="209" y="22"/>
                  </a:lnTo>
                  <a:lnTo>
                    <a:pt x="206" y="22"/>
                  </a:lnTo>
                  <a:lnTo>
                    <a:pt x="203" y="19"/>
                  </a:lnTo>
                  <a:lnTo>
                    <a:pt x="200" y="16"/>
                  </a:lnTo>
                  <a:lnTo>
                    <a:pt x="181" y="11"/>
                  </a:lnTo>
                  <a:lnTo>
                    <a:pt x="159" y="8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3"/>
                  </a:lnTo>
                  <a:lnTo>
                    <a:pt x="85" y="0"/>
                  </a:lnTo>
                  <a:lnTo>
                    <a:pt x="66" y="0"/>
                  </a:lnTo>
                  <a:lnTo>
                    <a:pt x="47" y="0"/>
                  </a:lnTo>
                  <a:lnTo>
                    <a:pt x="25" y="33"/>
                  </a:lnTo>
                  <a:lnTo>
                    <a:pt x="11" y="66"/>
                  </a:lnTo>
                  <a:lnTo>
                    <a:pt x="6" y="82"/>
                  </a:lnTo>
                  <a:lnTo>
                    <a:pt x="3" y="101"/>
                  </a:lnTo>
                  <a:lnTo>
                    <a:pt x="0" y="115"/>
                  </a:lnTo>
                  <a:lnTo>
                    <a:pt x="0" y="132"/>
                  </a:lnTo>
                  <a:lnTo>
                    <a:pt x="3" y="148"/>
                  </a:lnTo>
                  <a:lnTo>
                    <a:pt x="9" y="162"/>
                  </a:lnTo>
                  <a:lnTo>
                    <a:pt x="14" y="175"/>
                  </a:lnTo>
                  <a:lnTo>
                    <a:pt x="22" y="189"/>
                  </a:lnTo>
                  <a:lnTo>
                    <a:pt x="33" y="203"/>
                  </a:lnTo>
                  <a:lnTo>
                    <a:pt x="47" y="214"/>
                  </a:lnTo>
                  <a:lnTo>
                    <a:pt x="63" y="225"/>
                  </a:lnTo>
                  <a:lnTo>
                    <a:pt x="80" y="233"/>
                  </a:lnTo>
                  <a:lnTo>
                    <a:pt x="107" y="241"/>
                  </a:lnTo>
                  <a:lnTo>
                    <a:pt x="129" y="247"/>
                  </a:lnTo>
                  <a:lnTo>
                    <a:pt x="151" y="250"/>
                  </a:lnTo>
                  <a:lnTo>
                    <a:pt x="170" y="244"/>
                  </a:lnTo>
                  <a:lnTo>
                    <a:pt x="187" y="239"/>
                  </a:lnTo>
                  <a:lnTo>
                    <a:pt x="200" y="230"/>
                  </a:lnTo>
                  <a:lnTo>
                    <a:pt x="214" y="217"/>
                  </a:lnTo>
                  <a:lnTo>
                    <a:pt x="222" y="203"/>
                  </a:lnTo>
                  <a:lnTo>
                    <a:pt x="231" y="186"/>
                  </a:lnTo>
                  <a:lnTo>
                    <a:pt x="236" y="170"/>
                  </a:lnTo>
                  <a:lnTo>
                    <a:pt x="239" y="151"/>
                  </a:lnTo>
                  <a:lnTo>
                    <a:pt x="241" y="129"/>
                  </a:lnTo>
                  <a:lnTo>
                    <a:pt x="239" y="107"/>
                  </a:lnTo>
                  <a:lnTo>
                    <a:pt x="236" y="88"/>
                  </a:lnTo>
                  <a:lnTo>
                    <a:pt x="233" y="66"/>
                  </a:lnTo>
                  <a:lnTo>
                    <a:pt x="225" y="44"/>
                  </a:lnTo>
                  <a:lnTo>
                    <a:pt x="225" y="44"/>
                  </a:lnTo>
                  <a:lnTo>
                    <a:pt x="225" y="44"/>
                  </a:lnTo>
                  <a:lnTo>
                    <a:pt x="225" y="44"/>
                  </a:lnTo>
                  <a:lnTo>
                    <a:pt x="225" y="41"/>
                  </a:lnTo>
                  <a:lnTo>
                    <a:pt x="225" y="41"/>
                  </a:lnTo>
                  <a:lnTo>
                    <a:pt x="225" y="41"/>
                  </a:lnTo>
                  <a:lnTo>
                    <a:pt x="225" y="41"/>
                  </a:lnTo>
                  <a:lnTo>
                    <a:pt x="225" y="38"/>
                  </a:lnTo>
                  <a:lnTo>
                    <a:pt x="225" y="38"/>
                  </a:lnTo>
                  <a:lnTo>
                    <a:pt x="225" y="38"/>
                  </a:lnTo>
                  <a:lnTo>
                    <a:pt x="225" y="38"/>
                  </a:lnTo>
                  <a:lnTo>
                    <a:pt x="225" y="38"/>
                  </a:lnTo>
                  <a:lnTo>
                    <a:pt x="222" y="38"/>
                  </a:lnTo>
                  <a:lnTo>
                    <a:pt x="222" y="38"/>
                  </a:lnTo>
                  <a:lnTo>
                    <a:pt x="222" y="38"/>
                  </a:lnTo>
                  <a:lnTo>
                    <a:pt x="222" y="35"/>
                  </a:lnTo>
                  <a:close/>
                </a:path>
              </a:pathLst>
            </a:custGeom>
            <a:solidFill>
              <a:srgbClr val="fbe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44760" y="6020640"/>
              <a:ext cx="82440" cy="7524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162" y="27"/>
                  </a:moveTo>
                  <a:lnTo>
                    <a:pt x="159" y="27"/>
                  </a:lnTo>
                  <a:lnTo>
                    <a:pt x="159" y="24"/>
                  </a:lnTo>
                  <a:lnTo>
                    <a:pt x="156" y="22"/>
                  </a:lnTo>
                  <a:lnTo>
                    <a:pt x="154" y="19"/>
                  </a:lnTo>
                  <a:lnTo>
                    <a:pt x="151" y="19"/>
                  </a:lnTo>
                  <a:lnTo>
                    <a:pt x="151" y="16"/>
                  </a:lnTo>
                  <a:lnTo>
                    <a:pt x="148" y="13"/>
                  </a:lnTo>
                  <a:lnTo>
                    <a:pt x="145" y="13"/>
                  </a:lnTo>
                  <a:lnTo>
                    <a:pt x="132" y="11"/>
                  </a:lnTo>
                  <a:lnTo>
                    <a:pt x="115" y="8"/>
                  </a:lnTo>
                  <a:lnTo>
                    <a:pt x="102" y="5"/>
                  </a:lnTo>
                  <a:lnTo>
                    <a:pt x="91" y="5"/>
                  </a:lnTo>
                  <a:lnTo>
                    <a:pt x="77" y="2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19" y="24"/>
                  </a:lnTo>
                  <a:lnTo>
                    <a:pt x="8" y="49"/>
                  </a:lnTo>
                  <a:lnTo>
                    <a:pt x="3" y="74"/>
                  </a:lnTo>
                  <a:lnTo>
                    <a:pt x="0" y="99"/>
                  </a:lnTo>
                  <a:lnTo>
                    <a:pt x="3" y="110"/>
                  </a:lnTo>
                  <a:lnTo>
                    <a:pt x="6" y="121"/>
                  </a:lnTo>
                  <a:lnTo>
                    <a:pt x="11" y="129"/>
                  </a:lnTo>
                  <a:lnTo>
                    <a:pt x="17" y="140"/>
                  </a:lnTo>
                  <a:lnTo>
                    <a:pt x="25" y="148"/>
                  </a:lnTo>
                  <a:lnTo>
                    <a:pt x="33" y="156"/>
                  </a:lnTo>
                  <a:lnTo>
                    <a:pt x="44" y="164"/>
                  </a:lnTo>
                  <a:lnTo>
                    <a:pt x="58" y="170"/>
                  </a:lnTo>
                  <a:lnTo>
                    <a:pt x="77" y="178"/>
                  </a:lnTo>
                  <a:lnTo>
                    <a:pt x="93" y="181"/>
                  </a:lnTo>
                  <a:lnTo>
                    <a:pt x="110" y="181"/>
                  </a:lnTo>
                  <a:lnTo>
                    <a:pt x="124" y="181"/>
                  </a:lnTo>
                  <a:lnTo>
                    <a:pt x="135" y="175"/>
                  </a:lnTo>
                  <a:lnTo>
                    <a:pt x="145" y="167"/>
                  </a:lnTo>
                  <a:lnTo>
                    <a:pt x="154" y="159"/>
                  </a:lnTo>
                  <a:lnTo>
                    <a:pt x="162" y="148"/>
                  </a:lnTo>
                  <a:lnTo>
                    <a:pt x="167" y="137"/>
                  </a:lnTo>
                  <a:lnTo>
                    <a:pt x="170" y="123"/>
                  </a:lnTo>
                  <a:lnTo>
                    <a:pt x="173" y="110"/>
                  </a:lnTo>
                  <a:lnTo>
                    <a:pt x="176" y="96"/>
                  </a:lnTo>
                  <a:lnTo>
                    <a:pt x="173" y="66"/>
                  </a:lnTo>
                  <a:lnTo>
                    <a:pt x="165" y="33"/>
                  </a:lnTo>
                  <a:lnTo>
                    <a:pt x="165" y="33"/>
                  </a:lnTo>
                  <a:lnTo>
                    <a:pt x="165" y="33"/>
                  </a:lnTo>
                  <a:lnTo>
                    <a:pt x="165" y="33"/>
                  </a:lnTo>
                  <a:lnTo>
                    <a:pt x="165" y="33"/>
                  </a:lnTo>
                  <a:lnTo>
                    <a:pt x="165" y="33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27"/>
                  </a:lnTo>
                  <a:lnTo>
                    <a:pt x="162" y="27"/>
                  </a:lnTo>
                  <a:lnTo>
                    <a:pt x="162" y="27"/>
                  </a:lnTo>
                  <a:close/>
                </a:path>
              </a:pathLst>
            </a:custGeom>
            <a:solidFill>
              <a:srgbClr val="fde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60240" y="6030720"/>
              <a:ext cx="51480" cy="4716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102" y="17"/>
                  </a:moveTo>
                  <a:lnTo>
                    <a:pt x="91" y="9"/>
                  </a:lnTo>
                  <a:lnTo>
                    <a:pt x="82" y="6"/>
                  </a:lnTo>
                  <a:lnTo>
                    <a:pt x="71" y="6"/>
                  </a:lnTo>
                  <a:lnTo>
                    <a:pt x="63" y="3"/>
                  </a:lnTo>
                  <a:lnTo>
                    <a:pt x="55" y="3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1" y="14"/>
                  </a:lnTo>
                  <a:lnTo>
                    <a:pt x="6" y="31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11" y="86"/>
                  </a:lnTo>
                  <a:lnTo>
                    <a:pt x="22" y="97"/>
                  </a:lnTo>
                  <a:lnTo>
                    <a:pt x="36" y="107"/>
                  </a:lnTo>
                  <a:lnTo>
                    <a:pt x="49" y="110"/>
                  </a:lnTo>
                  <a:lnTo>
                    <a:pt x="58" y="113"/>
                  </a:lnTo>
                  <a:lnTo>
                    <a:pt x="69" y="113"/>
                  </a:lnTo>
                  <a:lnTo>
                    <a:pt x="77" y="113"/>
                  </a:lnTo>
                  <a:lnTo>
                    <a:pt x="85" y="110"/>
                  </a:lnTo>
                  <a:lnTo>
                    <a:pt x="91" y="105"/>
                  </a:lnTo>
                  <a:lnTo>
                    <a:pt x="96" y="99"/>
                  </a:lnTo>
                  <a:lnTo>
                    <a:pt x="102" y="94"/>
                  </a:lnTo>
                  <a:lnTo>
                    <a:pt x="107" y="77"/>
                  </a:lnTo>
                  <a:lnTo>
                    <a:pt x="110" y="58"/>
                  </a:lnTo>
                  <a:lnTo>
                    <a:pt x="107" y="39"/>
                  </a:lnTo>
                  <a:lnTo>
                    <a:pt x="102" y="20"/>
                  </a:lnTo>
                  <a:lnTo>
                    <a:pt x="102" y="20"/>
                  </a:lnTo>
                  <a:lnTo>
                    <a:pt x="102" y="17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643360" y="6048360"/>
              <a:ext cx="87120" cy="62640"/>
            </a:xfrm>
            <a:custGeom>
              <a:avLst/>
              <a:gdLst/>
              <a:ahLst/>
              <a:rect l="l" t="t" r="r" b="b"/>
              <a:pathLst>
                <a:path w="186" h="151">
                  <a:moveTo>
                    <a:pt x="175" y="38"/>
                  </a:moveTo>
                  <a:lnTo>
                    <a:pt x="156" y="13"/>
                  </a:lnTo>
                  <a:lnTo>
                    <a:pt x="134" y="2"/>
                  </a:lnTo>
                  <a:lnTo>
                    <a:pt x="117" y="0"/>
                  </a:lnTo>
                  <a:lnTo>
                    <a:pt x="101" y="0"/>
                  </a:lnTo>
                  <a:lnTo>
                    <a:pt x="90" y="5"/>
                  </a:lnTo>
                  <a:lnTo>
                    <a:pt x="76" y="11"/>
                  </a:lnTo>
                  <a:lnTo>
                    <a:pt x="63" y="16"/>
                  </a:lnTo>
                  <a:lnTo>
                    <a:pt x="46" y="22"/>
                  </a:lnTo>
                  <a:lnTo>
                    <a:pt x="27" y="24"/>
                  </a:lnTo>
                  <a:lnTo>
                    <a:pt x="24" y="38"/>
                  </a:lnTo>
                  <a:lnTo>
                    <a:pt x="22" y="55"/>
                  </a:lnTo>
                  <a:lnTo>
                    <a:pt x="16" y="68"/>
                  </a:lnTo>
                  <a:lnTo>
                    <a:pt x="11" y="85"/>
                  </a:lnTo>
                  <a:lnTo>
                    <a:pt x="5" y="98"/>
                  </a:lnTo>
                  <a:lnTo>
                    <a:pt x="2" y="115"/>
                  </a:lnTo>
                  <a:lnTo>
                    <a:pt x="0" y="131"/>
                  </a:lnTo>
                  <a:lnTo>
                    <a:pt x="2" y="151"/>
                  </a:lnTo>
                  <a:lnTo>
                    <a:pt x="115" y="148"/>
                  </a:lnTo>
                  <a:lnTo>
                    <a:pt x="117" y="142"/>
                  </a:lnTo>
                  <a:lnTo>
                    <a:pt x="120" y="142"/>
                  </a:lnTo>
                  <a:lnTo>
                    <a:pt x="123" y="140"/>
                  </a:lnTo>
                  <a:lnTo>
                    <a:pt x="126" y="137"/>
                  </a:lnTo>
                  <a:lnTo>
                    <a:pt x="128" y="134"/>
                  </a:lnTo>
                  <a:lnTo>
                    <a:pt x="131" y="134"/>
                  </a:lnTo>
                  <a:lnTo>
                    <a:pt x="134" y="131"/>
                  </a:lnTo>
                  <a:lnTo>
                    <a:pt x="137" y="126"/>
                  </a:lnTo>
                  <a:lnTo>
                    <a:pt x="142" y="126"/>
                  </a:lnTo>
                  <a:lnTo>
                    <a:pt x="145" y="126"/>
                  </a:lnTo>
                  <a:lnTo>
                    <a:pt x="150" y="123"/>
                  </a:lnTo>
                  <a:lnTo>
                    <a:pt x="153" y="118"/>
                  </a:lnTo>
                  <a:lnTo>
                    <a:pt x="159" y="115"/>
                  </a:lnTo>
                  <a:lnTo>
                    <a:pt x="161" y="109"/>
                  </a:lnTo>
                  <a:lnTo>
                    <a:pt x="164" y="107"/>
                  </a:lnTo>
                  <a:lnTo>
                    <a:pt x="164" y="101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5" y="98"/>
                  </a:lnTo>
                  <a:lnTo>
                    <a:pt x="178" y="96"/>
                  </a:lnTo>
                  <a:lnTo>
                    <a:pt x="178" y="93"/>
                  </a:lnTo>
                  <a:lnTo>
                    <a:pt x="180" y="93"/>
                  </a:lnTo>
                  <a:lnTo>
                    <a:pt x="180" y="90"/>
                  </a:lnTo>
                  <a:lnTo>
                    <a:pt x="180" y="87"/>
                  </a:lnTo>
                  <a:lnTo>
                    <a:pt x="186" y="87"/>
                  </a:lnTo>
                  <a:lnTo>
                    <a:pt x="186" y="82"/>
                  </a:lnTo>
                  <a:lnTo>
                    <a:pt x="186" y="76"/>
                  </a:lnTo>
                  <a:lnTo>
                    <a:pt x="186" y="68"/>
                  </a:lnTo>
                  <a:lnTo>
                    <a:pt x="186" y="60"/>
                  </a:lnTo>
                  <a:lnTo>
                    <a:pt x="183" y="52"/>
                  </a:lnTo>
                  <a:lnTo>
                    <a:pt x="180" y="44"/>
                  </a:lnTo>
                  <a:lnTo>
                    <a:pt x="178" y="41"/>
                  </a:lnTo>
                  <a:lnTo>
                    <a:pt x="175" y="38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649480" y="6053040"/>
              <a:ext cx="74160" cy="53640"/>
            </a:xfrm>
            <a:custGeom>
              <a:avLst/>
              <a:gdLst/>
              <a:ahLst/>
              <a:rect l="l" t="t" r="r" b="b"/>
              <a:pathLst>
                <a:path w="159" h="129">
                  <a:moveTo>
                    <a:pt x="148" y="30"/>
                  </a:moveTo>
                  <a:lnTo>
                    <a:pt x="148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40" y="22"/>
                  </a:lnTo>
                  <a:lnTo>
                    <a:pt x="140" y="19"/>
                  </a:lnTo>
                  <a:lnTo>
                    <a:pt x="137" y="16"/>
                  </a:lnTo>
                  <a:lnTo>
                    <a:pt x="135" y="13"/>
                  </a:lnTo>
                  <a:lnTo>
                    <a:pt x="132" y="11"/>
                  </a:lnTo>
                  <a:lnTo>
                    <a:pt x="115" y="2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77" y="2"/>
                  </a:lnTo>
                  <a:lnTo>
                    <a:pt x="66" y="8"/>
                  </a:lnTo>
                  <a:lnTo>
                    <a:pt x="55" y="13"/>
                  </a:lnTo>
                  <a:lnTo>
                    <a:pt x="41" y="16"/>
                  </a:lnTo>
                  <a:lnTo>
                    <a:pt x="22" y="19"/>
                  </a:lnTo>
                  <a:lnTo>
                    <a:pt x="22" y="33"/>
                  </a:lnTo>
                  <a:lnTo>
                    <a:pt x="19" y="46"/>
                  </a:lnTo>
                  <a:lnTo>
                    <a:pt x="14" y="57"/>
                  </a:lnTo>
                  <a:lnTo>
                    <a:pt x="9" y="71"/>
                  </a:lnTo>
                  <a:lnTo>
                    <a:pt x="6" y="82"/>
                  </a:lnTo>
                  <a:lnTo>
                    <a:pt x="3" y="96"/>
                  </a:lnTo>
                  <a:lnTo>
                    <a:pt x="0" y="112"/>
                  </a:lnTo>
                  <a:lnTo>
                    <a:pt x="3" y="129"/>
                  </a:lnTo>
                  <a:lnTo>
                    <a:pt x="14" y="129"/>
                  </a:lnTo>
                  <a:lnTo>
                    <a:pt x="28" y="126"/>
                  </a:lnTo>
                  <a:lnTo>
                    <a:pt x="39" y="126"/>
                  </a:lnTo>
                  <a:lnTo>
                    <a:pt x="50" y="126"/>
                  </a:lnTo>
                  <a:lnTo>
                    <a:pt x="63" y="126"/>
                  </a:lnTo>
                  <a:lnTo>
                    <a:pt x="74" y="126"/>
                  </a:lnTo>
                  <a:lnTo>
                    <a:pt x="88" y="123"/>
                  </a:lnTo>
                  <a:lnTo>
                    <a:pt x="99" y="123"/>
                  </a:lnTo>
                  <a:lnTo>
                    <a:pt x="99" y="120"/>
                  </a:lnTo>
                  <a:lnTo>
                    <a:pt x="102" y="118"/>
                  </a:lnTo>
                  <a:lnTo>
                    <a:pt x="104" y="118"/>
                  </a:lnTo>
                  <a:lnTo>
                    <a:pt x="107" y="115"/>
                  </a:lnTo>
                  <a:lnTo>
                    <a:pt x="110" y="115"/>
                  </a:lnTo>
                  <a:lnTo>
                    <a:pt x="113" y="112"/>
                  </a:lnTo>
                  <a:lnTo>
                    <a:pt x="115" y="109"/>
                  </a:lnTo>
                  <a:lnTo>
                    <a:pt x="115" y="107"/>
                  </a:lnTo>
                  <a:lnTo>
                    <a:pt x="121" y="107"/>
                  </a:lnTo>
                  <a:lnTo>
                    <a:pt x="124" y="104"/>
                  </a:lnTo>
                  <a:lnTo>
                    <a:pt x="129" y="101"/>
                  </a:lnTo>
                  <a:lnTo>
                    <a:pt x="132" y="98"/>
                  </a:lnTo>
                  <a:lnTo>
                    <a:pt x="135" y="96"/>
                  </a:lnTo>
                  <a:lnTo>
                    <a:pt x="137" y="93"/>
                  </a:lnTo>
                  <a:lnTo>
                    <a:pt x="140" y="90"/>
                  </a:lnTo>
                  <a:lnTo>
                    <a:pt x="140" y="85"/>
                  </a:lnTo>
                  <a:lnTo>
                    <a:pt x="143" y="85"/>
                  </a:lnTo>
                  <a:lnTo>
                    <a:pt x="146" y="85"/>
                  </a:lnTo>
                  <a:lnTo>
                    <a:pt x="148" y="82"/>
                  </a:lnTo>
                  <a:lnTo>
                    <a:pt x="151" y="82"/>
                  </a:lnTo>
                  <a:lnTo>
                    <a:pt x="151" y="79"/>
                  </a:lnTo>
                  <a:lnTo>
                    <a:pt x="154" y="76"/>
                  </a:lnTo>
                  <a:lnTo>
                    <a:pt x="154" y="74"/>
                  </a:lnTo>
                  <a:lnTo>
                    <a:pt x="154" y="74"/>
                  </a:lnTo>
                  <a:lnTo>
                    <a:pt x="154" y="74"/>
                  </a:lnTo>
                  <a:lnTo>
                    <a:pt x="154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7" y="74"/>
                  </a:lnTo>
                  <a:lnTo>
                    <a:pt x="159" y="74"/>
                  </a:lnTo>
                  <a:lnTo>
                    <a:pt x="159" y="68"/>
                  </a:lnTo>
                  <a:lnTo>
                    <a:pt x="159" y="63"/>
                  </a:lnTo>
                  <a:lnTo>
                    <a:pt x="159" y="57"/>
                  </a:lnTo>
                  <a:lnTo>
                    <a:pt x="159" y="49"/>
                  </a:lnTo>
                  <a:lnTo>
                    <a:pt x="157" y="41"/>
                  </a:lnTo>
                  <a:lnTo>
                    <a:pt x="154" y="35"/>
                  </a:lnTo>
                  <a:lnTo>
                    <a:pt x="154" y="33"/>
                  </a:lnTo>
                  <a:lnTo>
                    <a:pt x="148" y="30"/>
                  </a:lnTo>
                  <a:close/>
                </a:path>
              </a:pathLst>
            </a:custGeom>
            <a:solidFill>
              <a:srgbClr val="f7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55960" y="6056280"/>
              <a:ext cx="61560" cy="44640"/>
            </a:xfrm>
            <a:custGeom>
              <a:avLst/>
              <a:gdLst/>
              <a:ahLst/>
              <a:rect l="l" t="t" r="r" b="b"/>
              <a:pathLst>
                <a:path w="132" h="107">
                  <a:moveTo>
                    <a:pt x="123" y="27"/>
                  </a:moveTo>
                  <a:lnTo>
                    <a:pt x="121" y="25"/>
                  </a:lnTo>
                  <a:lnTo>
                    <a:pt x="121" y="22"/>
                  </a:lnTo>
                  <a:lnTo>
                    <a:pt x="118" y="22"/>
                  </a:lnTo>
                  <a:lnTo>
                    <a:pt x="115" y="19"/>
                  </a:lnTo>
                  <a:lnTo>
                    <a:pt x="115" y="16"/>
                  </a:lnTo>
                  <a:lnTo>
                    <a:pt x="112" y="14"/>
                  </a:lnTo>
                  <a:lnTo>
                    <a:pt x="110" y="11"/>
                  </a:lnTo>
                  <a:lnTo>
                    <a:pt x="110" y="11"/>
                  </a:lnTo>
                  <a:lnTo>
                    <a:pt x="93" y="3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3" y="5"/>
                  </a:lnTo>
                  <a:lnTo>
                    <a:pt x="55" y="8"/>
                  </a:lnTo>
                  <a:lnTo>
                    <a:pt x="44" y="11"/>
                  </a:lnTo>
                  <a:lnTo>
                    <a:pt x="33" y="16"/>
                  </a:lnTo>
                  <a:lnTo>
                    <a:pt x="19" y="16"/>
                  </a:lnTo>
                  <a:lnTo>
                    <a:pt x="19" y="27"/>
                  </a:lnTo>
                  <a:lnTo>
                    <a:pt x="16" y="38"/>
                  </a:lnTo>
                  <a:lnTo>
                    <a:pt x="11" y="49"/>
                  </a:lnTo>
                  <a:lnTo>
                    <a:pt x="8" y="60"/>
                  </a:lnTo>
                  <a:lnTo>
                    <a:pt x="3" y="68"/>
                  </a:lnTo>
                  <a:lnTo>
                    <a:pt x="3" y="82"/>
                  </a:lnTo>
                  <a:lnTo>
                    <a:pt x="0" y="93"/>
                  </a:lnTo>
                  <a:lnTo>
                    <a:pt x="3" y="107"/>
                  </a:lnTo>
                  <a:lnTo>
                    <a:pt x="11" y="107"/>
                  </a:lnTo>
                  <a:lnTo>
                    <a:pt x="22" y="107"/>
                  </a:lnTo>
                  <a:lnTo>
                    <a:pt x="30" y="107"/>
                  </a:lnTo>
                  <a:lnTo>
                    <a:pt x="41" y="104"/>
                  </a:lnTo>
                  <a:lnTo>
                    <a:pt x="52" y="104"/>
                  </a:lnTo>
                  <a:lnTo>
                    <a:pt x="60" y="104"/>
                  </a:lnTo>
                  <a:lnTo>
                    <a:pt x="71" y="104"/>
                  </a:lnTo>
                  <a:lnTo>
                    <a:pt x="82" y="104"/>
                  </a:lnTo>
                  <a:lnTo>
                    <a:pt x="82" y="101"/>
                  </a:lnTo>
                  <a:lnTo>
                    <a:pt x="82" y="99"/>
                  </a:lnTo>
                  <a:lnTo>
                    <a:pt x="85" y="99"/>
                  </a:lnTo>
                  <a:lnTo>
                    <a:pt x="88" y="96"/>
                  </a:lnTo>
                  <a:lnTo>
                    <a:pt x="90" y="96"/>
                  </a:lnTo>
                  <a:lnTo>
                    <a:pt x="93" y="93"/>
                  </a:lnTo>
                  <a:lnTo>
                    <a:pt x="96" y="90"/>
                  </a:lnTo>
                  <a:lnTo>
                    <a:pt x="96" y="90"/>
                  </a:lnTo>
                  <a:lnTo>
                    <a:pt x="99" y="88"/>
                  </a:lnTo>
                  <a:lnTo>
                    <a:pt x="101" y="88"/>
                  </a:lnTo>
                  <a:lnTo>
                    <a:pt x="104" y="85"/>
                  </a:lnTo>
                  <a:lnTo>
                    <a:pt x="107" y="82"/>
                  </a:lnTo>
                  <a:lnTo>
                    <a:pt x="110" y="79"/>
                  </a:lnTo>
                  <a:lnTo>
                    <a:pt x="112" y="77"/>
                  </a:lnTo>
                  <a:lnTo>
                    <a:pt x="115" y="74"/>
                  </a:lnTo>
                  <a:lnTo>
                    <a:pt x="115" y="71"/>
                  </a:lnTo>
                  <a:lnTo>
                    <a:pt x="118" y="71"/>
                  </a:lnTo>
                  <a:lnTo>
                    <a:pt x="121" y="71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3"/>
                  </a:lnTo>
                  <a:lnTo>
                    <a:pt x="126" y="63"/>
                  </a:lnTo>
                  <a:lnTo>
                    <a:pt x="126" y="63"/>
                  </a:lnTo>
                  <a:lnTo>
                    <a:pt x="126" y="63"/>
                  </a:lnTo>
                  <a:lnTo>
                    <a:pt x="129" y="63"/>
                  </a:lnTo>
                  <a:lnTo>
                    <a:pt x="129" y="63"/>
                  </a:lnTo>
                  <a:lnTo>
                    <a:pt x="129" y="63"/>
                  </a:lnTo>
                  <a:lnTo>
                    <a:pt x="129" y="63"/>
                  </a:lnTo>
                  <a:lnTo>
                    <a:pt x="129" y="63"/>
                  </a:lnTo>
                  <a:lnTo>
                    <a:pt x="129" y="63"/>
                  </a:lnTo>
                  <a:lnTo>
                    <a:pt x="132" y="57"/>
                  </a:lnTo>
                  <a:lnTo>
                    <a:pt x="132" y="55"/>
                  </a:lnTo>
                  <a:lnTo>
                    <a:pt x="132" y="46"/>
                  </a:lnTo>
                  <a:lnTo>
                    <a:pt x="132" y="41"/>
                  </a:lnTo>
                  <a:lnTo>
                    <a:pt x="129" y="36"/>
                  </a:lnTo>
                  <a:lnTo>
                    <a:pt x="126" y="33"/>
                  </a:lnTo>
                  <a:lnTo>
                    <a:pt x="126" y="27"/>
                  </a:lnTo>
                  <a:lnTo>
                    <a:pt x="123" y="27"/>
                  </a:lnTo>
                  <a:close/>
                </a:path>
              </a:pathLst>
            </a:custGeom>
            <a:solidFill>
              <a:srgbClr val="f9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62440" y="6060960"/>
              <a:ext cx="48600" cy="34200"/>
            </a:xfrm>
            <a:custGeom>
              <a:avLst/>
              <a:gdLst/>
              <a:ahLst/>
              <a:rect l="l" t="t" r="r" b="b"/>
              <a:pathLst>
                <a:path w="104" h="82">
                  <a:moveTo>
                    <a:pt x="96" y="19"/>
                  </a:moveTo>
                  <a:lnTo>
                    <a:pt x="96" y="19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90" y="14"/>
                  </a:lnTo>
                  <a:lnTo>
                    <a:pt x="90" y="11"/>
                  </a:lnTo>
                  <a:lnTo>
                    <a:pt x="87" y="11"/>
                  </a:lnTo>
                  <a:lnTo>
                    <a:pt x="87" y="8"/>
                  </a:lnTo>
                  <a:lnTo>
                    <a:pt x="85" y="5"/>
                  </a:lnTo>
                  <a:lnTo>
                    <a:pt x="74" y="3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49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24" y="11"/>
                  </a:lnTo>
                  <a:lnTo>
                    <a:pt x="13" y="11"/>
                  </a:lnTo>
                  <a:lnTo>
                    <a:pt x="13" y="22"/>
                  </a:lnTo>
                  <a:lnTo>
                    <a:pt x="11" y="30"/>
                  </a:lnTo>
                  <a:lnTo>
                    <a:pt x="8" y="38"/>
                  </a:lnTo>
                  <a:lnTo>
                    <a:pt x="5" y="46"/>
                  </a:lnTo>
                  <a:lnTo>
                    <a:pt x="2" y="55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8" y="82"/>
                  </a:lnTo>
                  <a:lnTo>
                    <a:pt x="16" y="82"/>
                  </a:lnTo>
                  <a:lnTo>
                    <a:pt x="24" y="82"/>
                  </a:lnTo>
                  <a:lnTo>
                    <a:pt x="33" y="82"/>
                  </a:lnTo>
                  <a:lnTo>
                    <a:pt x="41" y="82"/>
                  </a:lnTo>
                  <a:lnTo>
                    <a:pt x="49" y="79"/>
                  </a:lnTo>
                  <a:lnTo>
                    <a:pt x="55" y="79"/>
                  </a:lnTo>
                  <a:lnTo>
                    <a:pt x="63" y="79"/>
                  </a:lnTo>
                  <a:lnTo>
                    <a:pt x="63" y="79"/>
                  </a:lnTo>
                  <a:lnTo>
                    <a:pt x="65" y="77"/>
                  </a:lnTo>
                  <a:lnTo>
                    <a:pt x="68" y="77"/>
                  </a:lnTo>
                  <a:lnTo>
                    <a:pt x="68" y="74"/>
                  </a:lnTo>
                  <a:lnTo>
                    <a:pt x="71" y="74"/>
                  </a:lnTo>
                  <a:lnTo>
                    <a:pt x="74" y="71"/>
                  </a:lnTo>
                  <a:lnTo>
                    <a:pt x="74" y="71"/>
                  </a:lnTo>
                  <a:lnTo>
                    <a:pt x="74" y="68"/>
                  </a:lnTo>
                  <a:lnTo>
                    <a:pt x="76" y="68"/>
                  </a:lnTo>
                  <a:lnTo>
                    <a:pt x="79" y="68"/>
                  </a:lnTo>
                  <a:lnTo>
                    <a:pt x="82" y="66"/>
                  </a:lnTo>
                  <a:lnTo>
                    <a:pt x="85" y="66"/>
                  </a:lnTo>
                  <a:lnTo>
                    <a:pt x="87" y="63"/>
                  </a:lnTo>
                  <a:lnTo>
                    <a:pt x="87" y="60"/>
                  </a:lnTo>
                  <a:lnTo>
                    <a:pt x="90" y="57"/>
                  </a:lnTo>
                  <a:lnTo>
                    <a:pt x="90" y="55"/>
                  </a:lnTo>
                  <a:lnTo>
                    <a:pt x="93" y="55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96" y="52"/>
                  </a:lnTo>
                  <a:lnTo>
                    <a:pt x="98" y="52"/>
                  </a:lnTo>
                  <a:lnTo>
                    <a:pt x="98" y="49"/>
                  </a:lnTo>
                  <a:lnTo>
                    <a:pt x="98" y="49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98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4" y="44"/>
                  </a:lnTo>
                  <a:lnTo>
                    <a:pt x="104" y="41"/>
                  </a:lnTo>
                  <a:lnTo>
                    <a:pt x="104" y="35"/>
                  </a:lnTo>
                  <a:lnTo>
                    <a:pt x="101" y="33"/>
                  </a:lnTo>
                  <a:lnTo>
                    <a:pt x="101" y="27"/>
                  </a:lnTo>
                  <a:lnTo>
                    <a:pt x="101" y="25"/>
                  </a:lnTo>
                  <a:lnTo>
                    <a:pt x="98" y="22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fbe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668560" y="6064200"/>
              <a:ext cx="34560" cy="24840"/>
            </a:xfrm>
            <a:custGeom>
              <a:avLst/>
              <a:gdLst/>
              <a:ahLst/>
              <a:rect l="l" t="t" r="r" b="b"/>
              <a:pathLst>
                <a:path w="74" h="60">
                  <a:moveTo>
                    <a:pt x="72" y="17"/>
                  </a:moveTo>
                  <a:lnTo>
                    <a:pt x="69" y="14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6"/>
                  </a:lnTo>
                  <a:lnTo>
                    <a:pt x="55" y="3"/>
                  </a:lnTo>
                  <a:lnTo>
                    <a:pt x="47" y="0"/>
                  </a:lnTo>
                  <a:lnTo>
                    <a:pt x="42" y="3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20" y="8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6" y="27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11" y="60"/>
                  </a:lnTo>
                  <a:lnTo>
                    <a:pt x="20" y="60"/>
                  </a:lnTo>
                  <a:lnTo>
                    <a:pt x="25" y="60"/>
                  </a:lnTo>
                  <a:lnTo>
                    <a:pt x="31" y="60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7" y="60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0" y="58"/>
                  </a:lnTo>
                  <a:lnTo>
                    <a:pt x="50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2" y="41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6"/>
                  </a:lnTo>
                  <a:lnTo>
                    <a:pt x="74" y="33"/>
                  </a:lnTo>
                  <a:lnTo>
                    <a:pt x="74" y="30"/>
                  </a:lnTo>
                  <a:lnTo>
                    <a:pt x="74" y="27"/>
                  </a:lnTo>
                  <a:lnTo>
                    <a:pt x="74" y="25"/>
                  </a:lnTo>
                  <a:lnTo>
                    <a:pt x="74" y="22"/>
                  </a:lnTo>
                  <a:lnTo>
                    <a:pt x="74" y="19"/>
                  </a:lnTo>
                  <a:lnTo>
                    <a:pt x="72" y="17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fde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75040" y="6068880"/>
              <a:ext cx="21960" cy="15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4" y="8"/>
                  </a:moveTo>
                  <a:lnTo>
                    <a:pt x="38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11"/>
                  </a:lnTo>
                  <a:lnTo>
                    <a:pt x="44" y="11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08520" y="5767560"/>
              <a:ext cx="339120" cy="119880"/>
            </a:xfrm>
            <a:custGeom>
              <a:avLst/>
              <a:gdLst/>
              <a:ahLst/>
              <a:rect l="l" t="t" r="r" b="b"/>
              <a:pathLst>
                <a:path w="724" h="288">
                  <a:moveTo>
                    <a:pt x="707" y="66"/>
                  </a:moveTo>
                  <a:lnTo>
                    <a:pt x="724" y="115"/>
                  </a:lnTo>
                  <a:lnTo>
                    <a:pt x="702" y="124"/>
                  </a:lnTo>
                  <a:lnTo>
                    <a:pt x="674" y="129"/>
                  </a:lnTo>
                  <a:lnTo>
                    <a:pt x="647" y="132"/>
                  </a:lnTo>
                  <a:lnTo>
                    <a:pt x="620" y="132"/>
                  </a:lnTo>
                  <a:lnTo>
                    <a:pt x="557" y="132"/>
                  </a:lnTo>
                  <a:lnTo>
                    <a:pt x="494" y="129"/>
                  </a:lnTo>
                  <a:lnTo>
                    <a:pt x="428" y="124"/>
                  </a:lnTo>
                  <a:lnTo>
                    <a:pt x="365" y="121"/>
                  </a:lnTo>
                  <a:lnTo>
                    <a:pt x="335" y="121"/>
                  </a:lnTo>
                  <a:lnTo>
                    <a:pt x="307" y="121"/>
                  </a:lnTo>
                  <a:lnTo>
                    <a:pt x="283" y="121"/>
                  </a:lnTo>
                  <a:lnTo>
                    <a:pt x="258" y="126"/>
                  </a:lnTo>
                  <a:lnTo>
                    <a:pt x="241" y="132"/>
                  </a:lnTo>
                  <a:lnTo>
                    <a:pt x="220" y="137"/>
                  </a:lnTo>
                  <a:lnTo>
                    <a:pt x="200" y="148"/>
                  </a:lnTo>
                  <a:lnTo>
                    <a:pt x="178" y="157"/>
                  </a:lnTo>
                  <a:lnTo>
                    <a:pt x="157" y="168"/>
                  </a:lnTo>
                  <a:lnTo>
                    <a:pt x="135" y="179"/>
                  </a:lnTo>
                  <a:lnTo>
                    <a:pt x="115" y="187"/>
                  </a:lnTo>
                  <a:lnTo>
                    <a:pt x="102" y="195"/>
                  </a:lnTo>
                  <a:lnTo>
                    <a:pt x="94" y="200"/>
                  </a:lnTo>
                  <a:lnTo>
                    <a:pt x="88" y="206"/>
                  </a:lnTo>
                  <a:lnTo>
                    <a:pt x="80" y="214"/>
                  </a:lnTo>
                  <a:lnTo>
                    <a:pt x="74" y="222"/>
                  </a:lnTo>
                  <a:lnTo>
                    <a:pt x="66" y="231"/>
                  </a:lnTo>
                  <a:lnTo>
                    <a:pt x="58" y="239"/>
                  </a:lnTo>
                  <a:lnTo>
                    <a:pt x="52" y="244"/>
                  </a:lnTo>
                  <a:lnTo>
                    <a:pt x="47" y="244"/>
                  </a:lnTo>
                  <a:lnTo>
                    <a:pt x="44" y="247"/>
                  </a:lnTo>
                  <a:lnTo>
                    <a:pt x="41" y="253"/>
                  </a:lnTo>
                  <a:lnTo>
                    <a:pt x="36" y="261"/>
                  </a:lnTo>
                  <a:lnTo>
                    <a:pt x="28" y="266"/>
                  </a:lnTo>
                  <a:lnTo>
                    <a:pt x="22" y="275"/>
                  </a:lnTo>
                  <a:lnTo>
                    <a:pt x="17" y="280"/>
                  </a:lnTo>
                  <a:lnTo>
                    <a:pt x="14" y="286"/>
                  </a:lnTo>
                  <a:lnTo>
                    <a:pt x="11" y="288"/>
                  </a:lnTo>
                  <a:lnTo>
                    <a:pt x="11" y="288"/>
                  </a:lnTo>
                  <a:lnTo>
                    <a:pt x="9" y="288"/>
                  </a:lnTo>
                  <a:lnTo>
                    <a:pt x="9" y="288"/>
                  </a:lnTo>
                  <a:lnTo>
                    <a:pt x="6" y="288"/>
                  </a:lnTo>
                  <a:lnTo>
                    <a:pt x="6" y="288"/>
                  </a:lnTo>
                  <a:lnTo>
                    <a:pt x="3" y="288"/>
                  </a:lnTo>
                  <a:lnTo>
                    <a:pt x="3" y="288"/>
                  </a:lnTo>
                  <a:lnTo>
                    <a:pt x="0" y="288"/>
                  </a:lnTo>
                  <a:lnTo>
                    <a:pt x="6" y="280"/>
                  </a:lnTo>
                  <a:lnTo>
                    <a:pt x="44" y="203"/>
                  </a:lnTo>
                  <a:lnTo>
                    <a:pt x="198" y="82"/>
                  </a:lnTo>
                  <a:lnTo>
                    <a:pt x="411" y="0"/>
                  </a:lnTo>
                  <a:lnTo>
                    <a:pt x="595" y="17"/>
                  </a:lnTo>
                  <a:lnTo>
                    <a:pt x="707" y="66"/>
                  </a:lnTo>
                  <a:close/>
                </a:path>
              </a:pathLst>
            </a:custGeom>
            <a:solidFill>
              <a:srgbClr val="d4b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063120" y="5838480"/>
              <a:ext cx="193320" cy="69840"/>
            </a:xfrm>
            <a:custGeom>
              <a:avLst/>
              <a:gdLst/>
              <a:ahLst/>
              <a:rect l="l" t="t" r="r" b="b"/>
              <a:pathLst>
                <a:path w="413" h="168">
                  <a:moveTo>
                    <a:pt x="0" y="149"/>
                  </a:moveTo>
                  <a:lnTo>
                    <a:pt x="164" y="14"/>
                  </a:lnTo>
                  <a:lnTo>
                    <a:pt x="230" y="0"/>
                  </a:lnTo>
                  <a:lnTo>
                    <a:pt x="323" y="33"/>
                  </a:lnTo>
                  <a:lnTo>
                    <a:pt x="405" y="118"/>
                  </a:lnTo>
                  <a:lnTo>
                    <a:pt x="413" y="149"/>
                  </a:lnTo>
                  <a:lnTo>
                    <a:pt x="400" y="143"/>
                  </a:lnTo>
                  <a:lnTo>
                    <a:pt x="389" y="138"/>
                  </a:lnTo>
                  <a:lnTo>
                    <a:pt x="375" y="129"/>
                  </a:lnTo>
                  <a:lnTo>
                    <a:pt x="364" y="124"/>
                  </a:lnTo>
                  <a:lnTo>
                    <a:pt x="350" y="116"/>
                  </a:lnTo>
                  <a:lnTo>
                    <a:pt x="339" y="110"/>
                  </a:lnTo>
                  <a:lnTo>
                    <a:pt x="328" y="105"/>
                  </a:lnTo>
                  <a:lnTo>
                    <a:pt x="317" y="99"/>
                  </a:lnTo>
                  <a:lnTo>
                    <a:pt x="304" y="96"/>
                  </a:lnTo>
                  <a:lnTo>
                    <a:pt x="287" y="94"/>
                  </a:lnTo>
                  <a:lnTo>
                    <a:pt x="271" y="94"/>
                  </a:lnTo>
                  <a:lnTo>
                    <a:pt x="257" y="96"/>
                  </a:lnTo>
                  <a:lnTo>
                    <a:pt x="227" y="102"/>
                  </a:lnTo>
                  <a:lnTo>
                    <a:pt x="200" y="110"/>
                  </a:lnTo>
                  <a:lnTo>
                    <a:pt x="172" y="121"/>
                  </a:lnTo>
                  <a:lnTo>
                    <a:pt x="148" y="129"/>
                  </a:lnTo>
                  <a:lnTo>
                    <a:pt x="123" y="138"/>
                  </a:lnTo>
                  <a:lnTo>
                    <a:pt x="101" y="140"/>
                  </a:lnTo>
                  <a:lnTo>
                    <a:pt x="101" y="140"/>
                  </a:lnTo>
                  <a:lnTo>
                    <a:pt x="98" y="143"/>
                  </a:lnTo>
                  <a:lnTo>
                    <a:pt x="98" y="146"/>
                  </a:lnTo>
                  <a:lnTo>
                    <a:pt x="96" y="149"/>
                  </a:lnTo>
                  <a:lnTo>
                    <a:pt x="93" y="151"/>
                  </a:lnTo>
                  <a:lnTo>
                    <a:pt x="93" y="154"/>
                  </a:lnTo>
                  <a:lnTo>
                    <a:pt x="90" y="157"/>
                  </a:lnTo>
                  <a:lnTo>
                    <a:pt x="90" y="160"/>
                  </a:lnTo>
                  <a:lnTo>
                    <a:pt x="82" y="160"/>
                  </a:lnTo>
                  <a:lnTo>
                    <a:pt x="71" y="160"/>
                  </a:lnTo>
                  <a:lnTo>
                    <a:pt x="63" y="162"/>
                  </a:lnTo>
                  <a:lnTo>
                    <a:pt x="54" y="165"/>
                  </a:lnTo>
                  <a:lnTo>
                    <a:pt x="43" y="165"/>
                  </a:lnTo>
                  <a:lnTo>
                    <a:pt x="35" y="168"/>
                  </a:lnTo>
                  <a:lnTo>
                    <a:pt x="27" y="168"/>
                  </a:lnTo>
                  <a:lnTo>
                    <a:pt x="16" y="168"/>
                  </a:lnTo>
                  <a:lnTo>
                    <a:pt x="13" y="168"/>
                  </a:lnTo>
                  <a:lnTo>
                    <a:pt x="13" y="165"/>
                  </a:lnTo>
                  <a:lnTo>
                    <a:pt x="11" y="165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5" y="160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87080" y="6360840"/>
              <a:ext cx="573840" cy="566640"/>
            </a:xfrm>
            <a:custGeom>
              <a:avLst/>
              <a:gdLst/>
              <a:ahLst/>
              <a:rect l="l" t="t" r="r" b="b"/>
              <a:pathLst>
                <a:path w="1225" h="1359">
                  <a:moveTo>
                    <a:pt x="1162" y="266"/>
                  </a:moveTo>
                  <a:lnTo>
                    <a:pt x="1165" y="274"/>
                  </a:lnTo>
                  <a:lnTo>
                    <a:pt x="1170" y="447"/>
                  </a:lnTo>
                  <a:lnTo>
                    <a:pt x="1107" y="736"/>
                  </a:lnTo>
                  <a:lnTo>
                    <a:pt x="1044" y="920"/>
                  </a:lnTo>
                  <a:lnTo>
                    <a:pt x="1050" y="1018"/>
                  </a:lnTo>
                  <a:lnTo>
                    <a:pt x="1041" y="1007"/>
                  </a:lnTo>
                  <a:lnTo>
                    <a:pt x="1033" y="991"/>
                  </a:lnTo>
                  <a:lnTo>
                    <a:pt x="1028" y="974"/>
                  </a:lnTo>
                  <a:lnTo>
                    <a:pt x="1025" y="955"/>
                  </a:lnTo>
                  <a:lnTo>
                    <a:pt x="1020" y="914"/>
                  </a:lnTo>
                  <a:lnTo>
                    <a:pt x="1020" y="870"/>
                  </a:lnTo>
                  <a:lnTo>
                    <a:pt x="1022" y="829"/>
                  </a:lnTo>
                  <a:lnTo>
                    <a:pt x="1028" y="788"/>
                  </a:lnTo>
                  <a:lnTo>
                    <a:pt x="1036" y="755"/>
                  </a:lnTo>
                  <a:lnTo>
                    <a:pt x="1044" y="730"/>
                  </a:lnTo>
                  <a:lnTo>
                    <a:pt x="1058" y="705"/>
                  </a:lnTo>
                  <a:lnTo>
                    <a:pt x="1066" y="678"/>
                  </a:lnTo>
                  <a:lnTo>
                    <a:pt x="1074" y="651"/>
                  </a:lnTo>
                  <a:lnTo>
                    <a:pt x="1080" y="623"/>
                  </a:lnTo>
                  <a:lnTo>
                    <a:pt x="1091" y="563"/>
                  </a:lnTo>
                  <a:lnTo>
                    <a:pt x="1102" y="502"/>
                  </a:lnTo>
                  <a:lnTo>
                    <a:pt x="1110" y="442"/>
                  </a:lnTo>
                  <a:lnTo>
                    <a:pt x="1121" y="382"/>
                  </a:lnTo>
                  <a:lnTo>
                    <a:pt x="1129" y="354"/>
                  </a:lnTo>
                  <a:lnTo>
                    <a:pt x="1137" y="324"/>
                  </a:lnTo>
                  <a:lnTo>
                    <a:pt x="1148" y="296"/>
                  </a:lnTo>
                  <a:lnTo>
                    <a:pt x="1159" y="269"/>
                  </a:lnTo>
                  <a:lnTo>
                    <a:pt x="1159" y="269"/>
                  </a:lnTo>
                  <a:lnTo>
                    <a:pt x="1159" y="269"/>
                  </a:lnTo>
                  <a:lnTo>
                    <a:pt x="1159" y="269"/>
                  </a:lnTo>
                  <a:lnTo>
                    <a:pt x="1159" y="269"/>
                  </a:lnTo>
                  <a:lnTo>
                    <a:pt x="1159" y="269"/>
                  </a:lnTo>
                  <a:lnTo>
                    <a:pt x="1162" y="266"/>
                  </a:lnTo>
                  <a:lnTo>
                    <a:pt x="1162" y="266"/>
                  </a:lnTo>
                  <a:lnTo>
                    <a:pt x="1162" y="266"/>
                  </a:lnTo>
                  <a:close/>
                  <a:moveTo>
                    <a:pt x="1118" y="972"/>
                  </a:moveTo>
                  <a:lnTo>
                    <a:pt x="1115" y="961"/>
                  </a:lnTo>
                  <a:lnTo>
                    <a:pt x="1124" y="895"/>
                  </a:lnTo>
                  <a:lnTo>
                    <a:pt x="1124" y="870"/>
                  </a:lnTo>
                  <a:lnTo>
                    <a:pt x="1115" y="925"/>
                  </a:lnTo>
                  <a:lnTo>
                    <a:pt x="1140" y="950"/>
                  </a:lnTo>
                  <a:lnTo>
                    <a:pt x="1140" y="952"/>
                  </a:lnTo>
                  <a:lnTo>
                    <a:pt x="1137" y="955"/>
                  </a:lnTo>
                  <a:lnTo>
                    <a:pt x="1135" y="955"/>
                  </a:lnTo>
                  <a:lnTo>
                    <a:pt x="1132" y="958"/>
                  </a:lnTo>
                  <a:lnTo>
                    <a:pt x="1129" y="961"/>
                  </a:lnTo>
                  <a:lnTo>
                    <a:pt x="1126" y="963"/>
                  </a:lnTo>
                  <a:lnTo>
                    <a:pt x="1124" y="966"/>
                  </a:lnTo>
                  <a:lnTo>
                    <a:pt x="1121" y="969"/>
                  </a:lnTo>
                  <a:lnTo>
                    <a:pt x="1118" y="972"/>
                  </a:lnTo>
                  <a:close/>
                  <a:moveTo>
                    <a:pt x="1225" y="1230"/>
                  </a:moveTo>
                  <a:lnTo>
                    <a:pt x="1225" y="1263"/>
                  </a:lnTo>
                  <a:lnTo>
                    <a:pt x="1203" y="1309"/>
                  </a:lnTo>
                  <a:lnTo>
                    <a:pt x="1124" y="1334"/>
                  </a:lnTo>
                  <a:lnTo>
                    <a:pt x="1011" y="1334"/>
                  </a:lnTo>
                  <a:lnTo>
                    <a:pt x="748" y="1213"/>
                  </a:lnTo>
                  <a:lnTo>
                    <a:pt x="724" y="1230"/>
                  </a:lnTo>
                  <a:lnTo>
                    <a:pt x="724" y="1246"/>
                  </a:lnTo>
                  <a:lnTo>
                    <a:pt x="891" y="1342"/>
                  </a:lnTo>
                  <a:lnTo>
                    <a:pt x="581" y="1359"/>
                  </a:lnTo>
                  <a:lnTo>
                    <a:pt x="373" y="1318"/>
                  </a:lnTo>
                  <a:lnTo>
                    <a:pt x="214" y="1224"/>
                  </a:lnTo>
                  <a:lnTo>
                    <a:pt x="181" y="1230"/>
                  </a:lnTo>
                  <a:lnTo>
                    <a:pt x="176" y="1238"/>
                  </a:lnTo>
                  <a:lnTo>
                    <a:pt x="176" y="1254"/>
                  </a:lnTo>
                  <a:lnTo>
                    <a:pt x="247" y="1301"/>
                  </a:lnTo>
                  <a:lnTo>
                    <a:pt x="192" y="1326"/>
                  </a:lnTo>
                  <a:lnTo>
                    <a:pt x="96" y="1309"/>
                  </a:lnTo>
                  <a:lnTo>
                    <a:pt x="30" y="1238"/>
                  </a:lnTo>
                  <a:lnTo>
                    <a:pt x="0" y="1175"/>
                  </a:lnTo>
                  <a:lnTo>
                    <a:pt x="0" y="1142"/>
                  </a:lnTo>
                  <a:lnTo>
                    <a:pt x="3" y="1150"/>
                  </a:lnTo>
                  <a:lnTo>
                    <a:pt x="8" y="1156"/>
                  </a:lnTo>
                  <a:lnTo>
                    <a:pt x="14" y="1161"/>
                  </a:lnTo>
                  <a:lnTo>
                    <a:pt x="19" y="1167"/>
                  </a:lnTo>
                  <a:lnTo>
                    <a:pt x="25" y="1172"/>
                  </a:lnTo>
                  <a:lnTo>
                    <a:pt x="30" y="1175"/>
                  </a:lnTo>
                  <a:lnTo>
                    <a:pt x="36" y="1178"/>
                  </a:lnTo>
                  <a:lnTo>
                    <a:pt x="41" y="1178"/>
                  </a:lnTo>
                  <a:lnTo>
                    <a:pt x="44" y="1183"/>
                  </a:lnTo>
                  <a:lnTo>
                    <a:pt x="58" y="1186"/>
                  </a:lnTo>
                  <a:lnTo>
                    <a:pt x="71" y="1186"/>
                  </a:lnTo>
                  <a:lnTo>
                    <a:pt x="91" y="1183"/>
                  </a:lnTo>
                  <a:lnTo>
                    <a:pt x="110" y="1178"/>
                  </a:lnTo>
                  <a:lnTo>
                    <a:pt x="124" y="1169"/>
                  </a:lnTo>
                  <a:lnTo>
                    <a:pt x="132" y="1164"/>
                  </a:lnTo>
                  <a:lnTo>
                    <a:pt x="134" y="1158"/>
                  </a:lnTo>
                  <a:lnTo>
                    <a:pt x="140" y="1150"/>
                  </a:lnTo>
                  <a:lnTo>
                    <a:pt x="140" y="1142"/>
                  </a:lnTo>
                  <a:lnTo>
                    <a:pt x="143" y="1142"/>
                  </a:lnTo>
                  <a:lnTo>
                    <a:pt x="145" y="1139"/>
                  </a:lnTo>
                  <a:lnTo>
                    <a:pt x="148" y="1136"/>
                  </a:lnTo>
                  <a:lnTo>
                    <a:pt x="148" y="1134"/>
                  </a:lnTo>
                  <a:lnTo>
                    <a:pt x="151" y="1131"/>
                  </a:lnTo>
                  <a:lnTo>
                    <a:pt x="154" y="1128"/>
                  </a:lnTo>
                  <a:lnTo>
                    <a:pt x="154" y="1125"/>
                  </a:lnTo>
                  <a:lnTo>
                    <a:pt x="154" y="1123"/>
                  </a:lnTo>
                  <a:lnTo>
                    <a:pt x="159" y="1123"/>
                  </a:lnTo>
                  <a:lnTo>
                    <a:pt x="162" y="1123"/>
                  </a:lnTo>
                  <a:lnTo>
                    <a:pt x="167" y="1125"/>
                  </a:lnTo>
                  <a:lnTo>
                    <a:pt x="173" y="1125"/>
                  </a:lnTo>
                  <a:lnTo>
                    <a:pt x="178" y="1125"/>
                  </a:lnTo>
                  <a:lnTo>
                    <a:pt x="184" y="1128"/>
                  </a:lnTo>
                  <a:lnTo>
                    <a:pt x="189" y="1128"/>
                  </a:lnTo>
                  <a:lnTo>
                    <a:pt x="195" y="1128"/>
                  </a:lnTo>
                  <a:lnTo>
                    <a:pt x="200" y="1134"/>
                  </a:lnTo>
                  <a:lnTo>
                    <a:pt x="208" y="1139"/>
                  </a:lnTo>
                  <a:lnTo>
                    <a:pt x="214" y="1145"/>
                  </a:lnTo>
                  <a:lnTo>
                    <a:pt x="219" y="1147"/>
                  </a:lnTo>
                  <a:lnTo>
                    <a:pt x="228" y="1150"/>
                  </a:lnTo>
                  <a:lnTo>
                    <a:pt x="236" y="1153"/>
                  </a:lnTo>
                  <a:lnTo>
                    <a:pt x="244" y="1156"/>
                  </a:lnTo>
                  <a:lnTo>
                    <a:pt x="255" y="1158"/>
                  </a:lnTo>
                  <a:lnTo>
                    <a:pt x="269" y="1178"/>
                  </a:lnTo>
                  <a:lnTo>
                    <a:pt x="288" y="1194"/>
                  </a:lnTo>
                  <a:lnTo>
                    <a:pt x="307" y="1208"/>
                  </a:lnTo>
                  <a:lnTo>
                    <a:pt x="332" y="1221"/>
                  </a:lnTo>
                  <a:lnTo>
                    <a:pt x="356" y="1232"/>
                  </a:lnTo>
                  <a:lnTo>
                    <a:pt x="384" y="1241"/>
                  </a:lnTo>
                  <a:lnTo>
                    <a:pt x="414" y="1246"/>
                  </a:lnTo>
                  <a:lnTo>
                    <a:pt x="441" y="1254"/>
                  </a:lnTo>
                  <a:lnTo>
                    <a:pt x="502" y="1260"/>
                  </a:lnTo>
                  <a:lnTo>
                    <a:pt x="562" y="1265"/>
                  </a:lnTo>
                  <a:lnTo>
                    <a:pt x="617" y="1265"/>
                  </a:lnTo>
                  <a:lnTo>
                    <a:pt x="663" y="1265"/>
                  </a:lnTo>
                  <a:lnTo>
                    <a:pt x="672" y="1254"/>
                  </a:lnTo>
                  <a:lnTo>
                    <a:pt x="674" y="1241"/>
                  </a:lnTo>
                  <a:lnTo>
                    <a:pt x="680" y="1227"/>
                  </a:lnTo>
                  <a:lnTo>
                    <a:pt x="682" y="1210"/>
                  </a:lnTo>
                  <a:lnTo>
                    <a:pt x="685" y="1194"/>
                  </a:lnTo>
                  <a:lnTo>
                    <a:pt x="691" y="1178"/>
                  </a:lnTo>
                  <a:lnTo>
                    <a:pt x="696" y="1164"/>
                  </a:lnTo>
                  <a:lnTo>
                    <a:pt x="704" y="1147"/>
                  </a:lnTo>
                  <a:lnTo>
                    <a:pt x="729" y="1147"/>
                  </a:lnTo>
                  <a:lnTo>
                    <a:pt x="754" y="1145"/>
                  </a:lnTo>
                  <a:lnTo>
                    <a:pt x="778" y="1142"/>
                  </a:lnTo>
                  <a:lnTo>
                    <a:pt x="803" y="1142"/>
                  </a:lnTo>
                  <a:lnTo>
                    <a:pt x="828" y="1145"/>
                  </a:lnTo>
                  <a:lnTo>
                    <a:pt x="852" y="1150"/>
                  </a:lnTo>
                  <a:lnTo>
                    <a:pt x="877" y="1161"/>
                  </a:lnTo>
                  <a:lnTo>
                    <a:pt x="896" y="1178"/>
                  </a:lnTo>
                  <a:lnTo>
                    <a:pt x="921" y="1194"/>
                  </a:lnTo>
                  <a:lnTo>
                    <a:pt x="959" y="1213"/>
                  </a:lnTo>
                  <a:lnTo>
                    <a:pt x="1003" y="1230"/>
                  </a:lnTo>
                  <a:lnTo>
                    <a:pt x="1052" y="1243"/>
                  </a:lnTo>
                  <a:lnTo>
                    <a:pt x="1077" y="1249"/>
                  </a:lnTo>
                  <a:lnTo>
                    <a:pt x="1102" y="1252"/>
                  </a:lnTo>
                  <a:lnTo>
                    <a:pt x="1126" y="1254"/>
                  </a:lnTo>
                  <a:lnTo>
                    <a:pt x="1151" y="1254"/>
                  </a:lnTo>
                  <a:lnTo>
                    <a:pt x="1173" y="1252"/>
                  </a:lnTo>
                  <a:lnTo>
                    <a:pt x="1192" y="1246"/>
                  </a:lnTo>
                  <a:lnTo>
                    <a:pt x="1211" y="1241"/>
                  </a:lnTo>
                  <a:lnTo>
                    <a:pt x="1225" y="1230"/>
                  </a:lnTo>
                  <a:close/>
                  <a:moveTo>
                    <a:pt x="3" y="988"/>
                  </a:moveTo>
                  <a:lnTo>
                    <a:pt x="8" y="793"/>
                  </a:lnTo>
                  <a:lnTo>
                    <a:pt x="47" y="777"/>
                  </a:lnTo>
                  <a:lnTo>
                    <a:pt x="80" y="777"/>
                  </a:lnTo>
                  <a:lnTo>
                    <a:pt x="99" y="950"/>
                  </a:lnTo>
                  <a:lnTo>
                    <a:pt x="85" y="952"/>
                  </a:lnTo>
                  <a:lnTo>
                    <a:pt x="71" y="955"/>
                  </a:lnTo>
                  <a:lnTo>
                    <a:pt x="61" y="961"/>
                  </a:lnTo>
                  <a:lnTo>
                    <a:pt x="47" y="966"/>
                  </a:lnTo>
                  <a:lnTo>
                    <a:pt x="36" y="969"/>
                  </a:lnTo>
                  <a:lnTo>
                    <a:pt x="25" y="977"/>
                  </a:lnTo>
                  <a:lnTo>
                    <a:pt x="14" y="983"/>
                  </a:lnTo>
                  <a:lnTo>
                    <a:pt x="3" y="988"/>
                  </a:lnTo>
                  <a:close/>
                  <a:moveTo>
                    <a:pt x="430" y="961"/>
                  </a:moveTo>
                  <a:lnTo>
                    <a:pt x="581" y="865"/>
                  </a:lnTo>
                  <a:lnTo>
                    <a:pt x="669" y="782"/>
                  </a:lnTo>
                  <a:lnTo>
                    <a:pt x="748" y="793"/>
                  </a:lnTo>
                  <a:lnTo>
                    <a:pt x="811" y="840"/>
                  </a:lnTo>
                  <a:lnTo>
                    <a:pt x="844" y="895"/>
                  </a:lnTo>
                  <a:lnTo>
                    <a:pt x="861" y="903"/>
                  </a:lnTo>
                  <a:lnTo>
                    <a:pt x="885" y="903"/>
                  </a:lnTo>
                  <a:lnTo>
                    <a:pt x="915" y="865"/>
                  </a:lnTo>
                  <a:lnTo>
                    <a:pt x="877" y="799"/>
                  </a:lnTo>
                  <a:lnTo>
                    <a:pt x="765" y="736"/>
                  </a:lnTo>
                  <a:lnTo>
                    <a:pt x="740" y="736"/>
                  </a:lnTo>
                  <a:lnTo>
                    <a:pt x="789" y="703"/>
                  </a:lnTo>
                  <a:lnTo>
                    <a:pt x="844" y="711"/>
                  </a:lnTo>
                  <a:lnTo>
                    <a:pt x="866" y="711"/>
                  </a:lnTo>
                  <a:lnTo>
                    <a:pt x="885" y="697"/>
                  </a:lnTo>
                  <a:lnTo>
                    <a:pt x="852" y="664"/>
                  </a:lnTo>
                  <a:lnTo>
                    <a:pt x="773" y="672"/>
                  </a:lnTo>
                  <a:lnTo>
                    <a:pt x="606" y="799"/>
                  </a:lnTo>
                  <a:lnTo>
                    <a:pt x="414" y="925"/>
                  </a:lnTo>
                  <a:lnTo>
                    <a:pt x="250" y="939"/>
                  </a:lnTo>
                  <a:lnTo>
                    <a:pt x="236" y="939"/>
                  </a:lnTo>
                  <a:lnTo>
                    <a:pt x="225" y="939"/>
                  </a:lnTo>
                  <a:lnTo>
                    <a:pt x="214" y="939"/>
                  </a:lnTo>
                  <a:lnTo>
                    <a:pt x="203" y="939"/>
                  </a:lnTo>
                  <a:lnTo>
                    <a:pt x="192" y="939"/>
                  </a:lnTo>
                  <a:lnTo>
                    <a:pt x="181" y="939"/>
                  </a:lnTo>
                  <a:lnTo>
                    <a:pt x="167" y="939"/>
                  </a:lnTo>
                  <a:lnTo>
                    <a:pt x="156" y="941"/>
                  </a:lnTo>
                  <a:lnTo>
                    <a:pt x="145" y="881"/>
                  </a:lnTo>
                  <a:lnTo>
                    <a:pt x="148" y="881"/>
                  </a:lnTo>
                  <a:lnTo>
                    <a:pt x="151" y="884"/>
                  </a:lnTo>
                  <a:lnTo>
                    <a:pt x="154" y="887"/>
                  </a:lnTo>
                  <a:lnTo>
                    <a:pt x="159" y="889"/>
                  </a:lnTo>
                  <a:lnTo>
                    <a:pt x="162" y="889"/>
                  </a:lnTo>
                  <a:lnTo>
                    <a:pt x="167" y="892"/>
                  </a:lnTo>
                  <a:lnTo>
                    <a:pt x="170" y="892"/>
                  </a:lnTo>
                  <a:lnTo>
                    <a:pt x="176" y="895"/>
                  </a:lnTo>
                  <a:lnTo>
                    <a:pt x="192" y="900"/>
                  </a:lnTo>
                  <a:lnTo>
                    <a:pt x="211" y="906"/>
                  </a:lnTo>
                  <a:lnTo>
                    <a:pt x="230" y="906"/>
                  </a:lnTo>
                  <a:lnTo>
                    <a:pt x="250" y="909"/>
                  </a:lnTo>
                  <a:lnTo>
                    <a:pt x="288" y="906"/>
                  </a:lnTo>
                  <a:lnTo>
                    <a:pt x="329" y="898"/>
                  </a:lnTo>
                  <a:lnTo>
                    <a:pt x="370" y="887"/>
                  </a:lnTo>
                  <a:lnTo>
                    <a:pt x="414" y="870"/>
                  </a:lnTo>
                  <a:lnTo>
                    <a:pt x="455" y="851"/>
                  </a:lnTo>
                  <a:lnTo>
                    <a:pt x="496" y="829"/>
                  </a:lnTo>
                  <a:lnTo>
                    <a:pt x="537" y="804"/>
                  </a:lnTo>
                  <a:lnTo>
                    <a:pt x="578" y="777"/>
                  </a:lnTo>
                  <a:lnTo>
                    <a:pt x="614" y="749"/>
                  </a:lnTo>
                  <a:lnTo>
                    <a:pt x="650" y="722"/>
                  </a:lnTo>
                  <a:lnTo>
                    <a:pt x="680" y="692"/>
                  </a:lnTo>
                  <a:lnTo>
                    <a:pt x="710" y="661"/>
                  </a:lnTo>
                  <a:lnTo>
                    <a:pt x="735" y="634"/>
                  </a:lnTo>
                  <a:lnTo>
                    <a:pt x="754" y="607"/>
                  </a:lnTo>
                  <a:lnTo>
                    <a:pt x="789" y="607"/>
                  </a:lnTo>
                  <a:lnTo>
                    <a:pt x="825" y="609"/>
                  </a:lnTo>
                  <a:lnTo>
                    <a:pt x="858" y="612"/>
                  </a:lnTo>
                  <a:lnTo>
                    <a:pt x="885" y="620"/>
                  </a:lnTo>
                  <a:lnTo>
                    <a:pt x="896" y="629"/>
                  </a:lnTo>
                  <a:lnTo>
                    <a:pt x="907" y="637"/>
                  </a:lnTo>
                  <a:lnTo>
                    <a:pt x="918" y="645"/>
                  </a:lnTo>
                  <a:lnTo>
                    <a:pt x="926" y="659"/>
                  </a:lnTo>
                  <a:lnTo>
                    <a:pt x="932" y="672"/>
                  </a:lnTo>
                  <a:lnTo>
                    <a:pt x="937" y="689"/>
                  </a:lnTo>
                  <a:lnTo>
                    <a:pt x="940" y="708"/>
                  </a:lnTo>
                  <a:lnTo>
                    <a:pt x="943" y="730"/>
                  </a:lnTo>
                  <a:lnTo>
                    <a:pt x="935" y="733"/>
                  </a:lnTo>
                  <a:lnTo>
                    <a:pt x="929" y="733"/>
                  </a:lnTo>
                  <a:lnTo>
                    <a:pt x="921" y="736"/>
                  </a:lnTo>
                  <a:lnTo>
                    <a:pt x="913" y="736"/>
                  </a:lnTo>
                  <a:lnTo>
                    <a:pt x="907" y="736"/>
                  </a:lnTo>
                  <a:lnTo>
                    <a:pt x="899" y="736"/>
                  </a:lnTo>
                  <a:lnTo>
                    <a:pt x="891" y="736"/>
                  </a:lnTo>
                  <a:lnTo>
                    <a:pt x="883" y="736"/>
                  </a:lnTo>
                  <a:lnTo>
                    <a:pt x="883" y="736"/>
                  </a:lnTo>
                  <a:lnTo>
                    <a:pt x="880" y="738"/>
                  </a:lnTo>
                  <a:lnTo>
                    <a:pt x="880" y="738"/>
                  </a:lnTo>
                  <a:lnTo>
                    <a:pt x="877" y="741"/>
                  </a:lnTo>
                  <a:lnTo>
                    <a:pt x="874" y="744"/>
                  </a:lnTo>
                  <a:lnTo>
                    <a:pt x="874" y="747"/>
                  </a:lnTo>
                  <a:lnTo>
                    <a:pt x="872" y="749"/>
                  </a:lnTo>
                  <a:lnTo>
                    <a:pt x="872" y="752"/>
                  </a:lnTo>
                  <a:lnTo>
                    <a:pt x="880" y="758"/>
                  </a:lnTo>
                  <a:lnTo>
                    <a:pt x="885" y="766"/>
                  </a:lnTo>
                  <a:lnTo>
                    <a:pt x="891" y="771"/>
                  </a:lnTo>
                  <a:lnTo>
                    <a:pt x="896" y="777"/>
                  </a:lnTo>
                  <a:lnTo>
                    <a:pt x="899" y="785"/>
                  </a:lnTo>
                  <a:lnTo>
                    <a:pt x="904" y="790"/>
                  </a:lnTo>
                  <a:lnTo>
                    <a:pt x="907" y="801"/>
                  </a:lnTo>
                  <a:lnTo>
                    <a:pt x="913" y="810"/>
                  </a:lnTo>
                  <a:lnTo>
                    <a:pt x="915" y="810"/>
                  </a:lnTo>
                  <a:lnTo>
                    <a:pt x="921" y="812"/>
                  </a:lnTo>
                  <a:lnTo>
                    <a:pt x="924" y="815"/>
                  </a:lnTo>
                  <a:lnTo>
                    <a:pt x="929" y="815"/>
                  </a:lnTo>
                  <a:lnTo>
                    <a:pt x="935" y="818"/>
                  </a:lnTo>
                  <a:lnTo>
                    <a:pt x="937" y="821"/>
                  </a:lnTo>
                  <a:lnTo>
                    <a:pt x="943" y="823"/>
                  </a:lnTo>
                  <a:lnTo>
                    <a:pt x="946" y="826"/>
                  </a:lnTo>
                  <a:lnTo>
                    <a:pt x="951" y="837"/>
                  </a:lnTo>
                  <a:lnTo>
                    <a:pt x="956" y="848"/>
                  </a:lnTo>
                  <a:lnTo>
                    <a:pt x="956" y="862"/>
                  </a:lnTo>
                  <a:lnTo>
                    <a:pt x="959" y="873"/>
                  </a:lnTo>
                  <a:lnTo>
                    <a:pt x="962" y="887"/>
                  </a:lnTo>
                  <a:lnTo>
                    <a:pt x="962" y="898"/>
                  </a:lnTo>
                  <a:lnTo>
                    <a:pt x="962" y="911"/>
                  </a:lnTo>
                  <a:lnTo>
                    <a:pt x="962" y="925"/>
                  </a:lnTo>
                  <a:lnTo>
                    <a:pt x="926" y="944"/>
                  </a:lnTo>
                  <a:lnTo>
                    <a:pt x="913" y="944"/>
                  </a:lnTo>
                  <a:lnTo>
                    <a:pt x="899" y="941"/>
                  </a:lnTo>
                  <a:lnTo>
                    <a:pt x="883" y="941"/>
                  </a:lnTo>
                  <a:lnTo>
                    <a:pt x="866" y="941"/>
                  </a:lnTo>
                  <a:lnTo>
                    <a:pt x="852" y="941"/>
                  </a:lnTo>
                  <a:lnTo>
                    <a:pt x="836" y="939"/>
                  </a:lnTo>
                  <a:lnTo>
                    <a:pt x="822" y="939"/>
                  </a:lnTo>
                  <a:lnTo>
                    <a:pt x="809" y="933"/>
                  </a:lnTo>
                  <a:lnTo>
                    <a:pt x="784" y="928"/>
                  </a:lnTo>
                  <a:lnTo>
                    <a:pt x="759" y="925"/>
                  </a:lnTo>
                  <a:lnTo>
                    <a:pt x="737" y="922"/>
                  </a:lnTo>
                  <a:lnTo>
                    <a:pt x="715" y="925"/>
                  </a:lnTo>
                  <a:lnTo>
                    <a:pt x="674" y="930"/>
                  </a:lnTo>
                  <a:lnTo>
                    <a:pt x="630" y="941"/>
                  </a:lnTo>
                  <a:lnTo>
                    <a:pt x="589" y="955"/>
                  </a:lnTo>
                  <a:lnTo>
                    <a:pt x="548" y="963"/>
                  </a:lnTo>
                  <a:lnTo>
                    <a:pt x="524" y="966"/>
                  </a:lnTo>
                  <a:lnTo>
                    <a:pt x="502" y="969"/>
                  </a:lnTo>
                  <a:lnTo>
                    <a:pt x="477" y="969"/>
                  </a:lnTo>
                  <a:lnTo>
                    <a:pt x="452" y="963"/>
                  </a:lnTo>
                  <a:lnTo>
                    <a:pt x="450" y="963"/>
                  </a:lnTo>
                  <a:lnTo>
                    <a:pt x="447" y="963"/>
                  </a:lnTo>
                  <a:lnTo>
                    <a:pt x="444" y="963"/>
                  </a:lnTo>
                  <a:lnTo>
                    <a:pt x="441" y="963"/>
                  </a:lnTo>
                  <a:lnTo>
                    <a:pt x="439" y="961"/>
                  </a:lnTo>
                  <a:lnTo>
                    <a:pt x="436" y="961"/>
                  </a:lnTo>
                  <a:lnTo>
                    <a:pt x="433" y="961"/>
                  </a:lnTo>
                  <a:lnTo>
                    <a:pt x="430" y="961"/>
                  </a:lnTo>
                  <a:close/>
                  <a:moveTo>
                    <a:pt x="132" y="777"/>
                  </a:moveTo>
                  <a:lnTo>
                    <a:pt x="118" y="664"/>
                  </a:lnTo>
                  <a:lnTo>
                    <a:pt x="74" y="538"/>
                  </a:lnTo>
                  <a:lnTo>
                    <a:pt x="77" y="535"/>
                  </a:lnTo>
                  <a:lnTo>
                    <a:pt x="80" y="532"/>
                  </a:lnTo>
                  <a:lnTo>
                    <a:pt x="82" y="530"/>
                  </a:lnTo>
                  <a:lnTo>
                    <a:pt x="82" y="527"/>
                  </a:lnTo>
                  <a:lnTo>
                    <a:pt x="85" y="524"/>
                  </a:lnTo>
                  <a:lnTo>
                    <a:pt x="88" y="521"/>
                  </a:lnTo>
                  <a:lnTo>
                    <a:pt x="88" y="519"/>
                  </a:lnTo>
                  <a:lnTo>
                    <a:pt x="91" y="519"/>
                  </a:lnTo>
                  <a:lnTo>
                    <a:pt x="99" y="519"/>
                  </a:lnTo>
                  <a:lnTo>
                    <a:pt x="110" y="519"/>
                  </a:lnTo>
                  <a:lnTo>
                    <a:pt x="121" y="521"/>
                  </a:lnTo>
                  <a:lnTo>
                    <a:pt x="132" y="527"/>
                  </a:lnTo>
                  <a:lnTo>
                    <a:pt x="140" y="530"/>
                  </a:lnTo>
                  <a:lnTo>
                    <a:pt x="151" y="538"/>
                  </a:lnTo>
                  <a:lnTo>
                    <a:pt x="156" y="543"/>
                  </a:lnTo>
                  <a:lnTo>
                    <a:pt x="159" y="552"/>
                  </a:lnTo>
                  <a:lnTo>
                    <a:pt x="167" y="574"/>
                  </a:lnTo>
                  <a:lnTo>
                    <a:pt x="178" y="593"/>
                  </a:lnTo>
                  <a:lnTo>
                    <a:pt x="187" y="609"/>
                  </a:lnTo>
                  <a:lnTo>
                    <a:pt x="200" y="623"/>
                  </a:lnTo>
                  <a:lnTo>
                    <a:pt x="211" y="631"/>
                  </a:lnTo>
                  <a:lnTo>
                    <a:pt x="225" y="640"/>
                  </a:lnTo>
                  <a:lnTo>
                    <a:pt x="239" y="645"/>
                  </a:lnTo>
                  <a:lnTo>
                    <a:pt x="255" y="645"/>
                  </a:lnTo>
                  <a:lnTo>
                    <a:pt x="269" y="648"/>
                  </a:lnTo>
                  <a:lnTo>
                    <a:pt x="285" y="645"/>
                  </a:lnTo>
                  <a:lnTo>
                    <a:pt x="302" y="642"/>
                  </a:lnTo>
                  <a:lnTo>
                    <a:pt x="321" y="637"/>
                  </a:lnTo>
                  <a:lnTo>
                    <a:pt x="356" y="623"/>
                  </a:lnTo>
                  <a:lnTo>
                    <a:pt x="392" y="607"/>
                  </a:lnTo>
                  <a:lnTo>
                    <a:pt x="463" y="563"/>
                  </a:lnTo>
                  <a:lnTo>
                    <a:pt x="529" y="516"/>
                  </a:lnTo>
                  <a:lnTo>
                    <a:pt x="559" y="497"/>
                  </a:lnTo>
                  <a:lnTo>
                    <a:pt x="587" y="483"/>
                  </a:lnTo>
                  <a:lnTo>
                    <a:pt x="611" y="472"/>
                  </a:lnTo>
                  <a:lnTo>
                    <a:pt x="630" y="469"/>
                  </a:lnTo>
                  <a:lnTo>
                    <a:pt x="639" y="478"/>
                  </a:lnTo>
                  <a:lnTo>
                    <a:pt x="644" y="486"/>
                  </a:lnTo>
                  <a:lnTo>
                    <a:pt x="652" y="494"/>
                  </a:lnTo>
                  <a:lnTo>
                    <a:pt x="658" y="502"/>
                  </a:lnTo>
                  <a:lnTo>
                    <a:pt x="663" y="513"/>
                  </a:lnTo>
                  <a:lnTo>
                    <a:pt x="666" y="524"/>
                  </a:lnTo>
                  <a:lnTo>
                    <a:pt x="666" y="535"/>
                  </a:lnTo>
                  <a:lnTo>
                    <a:pt x="663" y="549"/>
                  </a:lnTo>
                  <a:lnTo>
                    <a:pt x="655" y="574"/>
                  </a:lnTo>
                  <a:lnTo>
                    <a:pt x="644" y="598"/>
                  </a:lnTo>
                  <a:lnTo>
                    <a:pt x="633" y="620"/>
                  </a:lnTo>
                  <a:lnTo>
                    <a:pt x="622" y="640"/>
                  </a:lnTo>
                  <a:lnTo>
                    <a:pt x="609" y="659"/>
                  </a:lnTo>
                  <a:lnTo>
                    <a:pt x="598" y="675"/>
                  </a:lnTo>
                  <a:lnTo>
                    <a:pt x="584" y="689"/>
                  </a:lnTo>
                  <a:lnTo>
                    <a:pt x="567" y="700"/>
                  </a:lnTo>
                  <a:lnTo>
                    <a:pt x="537" y="722"/>
                  </a:lnTo>
                  <a:lnTo>
                    <a:pt x="504" y="736"/>
                  </a:lnTo>
                  <a:lnTo>
                    <a:pt x="472" y="747"/>
                  </a:lnTo>
                  <a:lnTo>
                    <a:pt x="436" y="752"/>
                  </a:lnTo>
                  <a:lnTo>
                    <a:pt x="362" y="758"/>
                  </a:lnTo>
                  <a:lnTo>
                    <a:pt x="285" y="760"/>
                  </a:lnTo>
                  <a:lnTo>
                    <a:pt x="247" y="760"/>
                  </a:lnTo>
                  <a:lnTo>
                    <a:pt x="206" y="763"/>
                  </a:lnTo>
                  <a:lnTo>
                    <a:pt x="167" y="769"/>
                  </a:lnTo>
                  <a:lnTo>
                    <a:pt x="132" y="777"/>
                  </a:lnTo>
                  <a:close/>
                  <a:moveTo>
                    <a:pt x="839" y="71"/>
                  </a:moveTo>
                  <a:lnTo>
                    <a:pt x="995" y="0"/>
                  </a:lnTo>
                  <a:lnTo>
                    <a:pt x="1033" y="25"/>
                  </a:lnTo>
                  <a:lnTo>
                    <a:pt x="1063" y="69"/>
                  </a:lnTo>
                  <a:lnTo>
                    <a:pt x="1036" y="66"/>
                  </a:lnTo>
                  <a:lnTo>
                    <a:pt x="1009" y="66"/>
                  </a:lnTo>
                  <a:lnTo>
                    <a:pt x="981" y="66"/>
                  </a:lnTo>
                  <a:lnTo>
                    <a:pt x="951" y="66"/>
                  </a:lnTo>
                  <a:lnTo>
                    <a:pt x="924" y="69"/>
                  </a:lnTo>
                  <a:lnTo>
                    <a:pt x="893" y="69"/>
                  </a:lnTo>
                  <a:lnTo>
                    <a:pt x="866" y="71"/>
                  </a:lnTo>
                  <a:lnTo>
                    <a:pt x="839" y="71"/>
                  </a:lnTo>
                  <a:close/>
                </a:path>
              </a:pathLst>
            </a:custGeom>
            <a:solidFill>
              <a:srgbClr val="75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61600" y="6403320"/>
              <a:ext cx="348840" cy="186120"/>
            </a:xfrm>
            <a:custGeom>
              <a:avLst/>
              <a:gdLst/>
              <a:ahLst/>
              <a:rect l="l" t="t" r="r" b="b"/>
              <a:pathLst>
                <a:path w="745" h="447">
                  <a:moveTo>
                    <a:pt x="565" y="49"/>
                  </a:moveTo>
                  <a:lnTo>
                    <a:pt x="529" y="68"/>
                  </a:lnTo>
                  <a:lnTo>
                    <a:pt x="523" y="52"/>
                  </a:lnTo>
                  <a:lnTo>
                    <a:pt x="513" y="38"/>
                  </a:lnTo>
                  <a:lnTo>
                    <a:pt x="504" y="27"/>
                  </a:lnTo>
                  <a:lnTo>
                    <a:pt x="493" y="19"/>
                  </a:lnTo>
                  <a:lnTo>
                    <a:pt x="482" y="11"/>
                  </a:lnTo>
                  <a:lnTo>
                    <a:pt x="469" y="5"/>
                  </a:lnTo>
                  <a:lnTo>
                    <a:pt x="458" y="2"/>
                  </a:lnTo>
                  <a:lnTo>
                    <a:pt x="444" y="0"/>
                  </a:lnTo>
                  <a:lnTo>
                    <a:pt x="414" y="0"/>
                  </a:lnTo>
                  <a:lnTo>
                    <a:pt x="384" y="8"/>
                  </a:lnTo>
                  <a:lnTo>
                    <a:pt x="354" y="19"/>
                  </a:lnTo>
                  <a:lnTo>
                    <a:pt x="321" y="32"/>
                  </a:lnTo>
                  <a:lnTo>
                    <a:pt x="258" y="68"/>
                  </a:lnTo>
                  <a:lnTo>
                    <a:pt x="200" y="107"/>
                  </a:lnTo>
                  <a:lnTo>
                    <a:pt x="148" y="142"/>
                  </a:lnTo>
                  <a:lnTo>
                    <a:pt x="110" y="164"/>
                  </a:lnTo>
                  <a:lnTo>
                    <a:pt x="110" y="167"/>
                  </a:lnTo>
                  <a:lnTo>
                    <a:pt x="93" y="178"/>
                  </a:lnTo>
                  <a:lnTo>
                    <a:pt x="80" y="186"/>
                  </a:lnTo>
                  <a:lnTo>
                    <a:pt x="66" y="197"/>
                  </a:lnTo>
                  <a:lnTo>
                    <a:pt x="52" y="211"/>
                  </a:lnTo>
                  <a:lnTo>
                    <a:pt x="39" y="222"/>
                  </a:lnTo>
                  <a:lnTo>
                    <a:pt x="28" y="236"/>
                  </a:lnTo>
                  <a:lnTo>
                    <a:pt x="14" y="249"/>
                  </a:lnTo>
                  <a:lnTo>
                    <a:pt x="0" y="263"/>
                  </a:lnTo>
                  <a:lnTo>
                    <a:pt x="3" y="285"/>
                  </a:lnTo>
                  <a:lnTo>
                    <a:pt x="6" y="310"/>
                  </a:lnTo>
                  <a:lnTo>
                    <a:pt x="11" y="337"/>
                  </a:lnTo>
                  <a:lnTo>
                    <a:pt x="19" y="365"/>
                  </a:lnTo>
                  <a:lnTo>
                    <a:pt x="33" y="389"/>
                  </a:lnTo>
                  <a:lnTo>
                    <a:pt x="49" y="409"/>
                  </a:lnTo>
                  <a:lnTo>
                    <a:pt x="58" y="417"/>
                  </a:lnTo>
                  <a:lnTo>
                    <a:pt x="69" y="422"/>
                  </a:lnTo>
                  <a:lnTo>
                    <a:pt x="82" y="425"/>
                  </a:lnTo>
                  <a:lnTo>
                    <a:pt x="96" y="425"/>
                  </a:lnTo>
                  <a:lnTo>
                    <a:pt x="99" y="433"/>
                  </a:lnTo>
                  <a:lnTo>
                    <a:pt x="104" y="439"/>
                  </a:lnTo>
                  <a:lnTo>
                    <a:pt x="112" y="441"/>
                  </a:lnTo>
                  <a:lnTo>
                    <a:pt x="121" y="444"/>
                  </a:lnTo>
                  <a:lnTo>
                    <a:pt x="140" y="447"/>
                  </a:lnTo>
                  <a:lnTo>
                    <a:pt x="162" y="441"/>
                  </a:lnTo>
                  <a:lnTo>
                    <a:pt x="186" y="436"/>
                  </a:lnTo>
                  <a:lnTo>
                    <a:pt x="214" y="425"/>
                  </a:lnTo>
                  <a:lnTo>
                    <a:pt x="244" y="411"/>
                  </a:lnTo>
                  <a:lnTo>
                    <a:pt x="274" y="398"/>
                  </a:lnTo>
                  <a:lnTo>
                    <a:pt x="334" y="365"/>
                  </a:lnTo>
                  <a:lnTo>
                    <a:pt x="389" y="332"/>
                  </a:lnTo>
                  <a:lnTo>
                    <a:pt x="433" y="307"/>
                  </a:lnTo>
                  <a:lnTo>
                    <a:pt x="460" y="293"/>
                  </a:lnTo>
                  <a:lnTo>
                    <a:pt x="466" y="290"/>
                  </a:lnTo>
                  <a:lnTo>
                    <a:pt x="474" y="288"/>
                  </a:lnTo>
                  <a:lnTo>
                    <a:pt x="480" y="288"/>
                  </a:lnTo>
                  <a:lnTo>
                    <a:pt x="485" y="285"/>
                  </a:lnTo>
                  <a:lnTo>
                    <a:pt x="493" y="285"/>
                  </a:lnTo>
                  <a:lnTo>
                    <a:pt x="499" y="282"/>
                  </a:lnTo>
                  <a:lnTo>
                    <a:pt x="504" y="282"/>
                  </a:lnTo>
                  <a:lnTo>
                    <a:pt x="510" y="282"/>
                  </a:lnTo>
                  <a:lnTo>
                    <a:pt x="537" y="274"/>
                  </a:lnTo>
                  <a:lnTo>
                    <a:pt x="573" y="263"/>
                  </a:lnTo>
                  <a:lnTo>
                    <a:pt x="617" y="249"/>
                  </a:lnTo>
                  <a:lnTo>
                    <a:pt x="660" y="227"/>
                  </a:lnTo>
                  <a:lnTo>
                    <a:pt x="682" y="216"/>
                  </a:lnTo>
                  <a:lnTo>
                    <a:pt x="702" y="205"/>
                  </a:lnTo>
                  <a:lnTo>
                    <a:pt x="718" y="192"/>
                  </a:lnTo>
                  <a:lnTo>
                    <a:pt x="729" y="175"/>
                  </a:lnTo>
                  <a:lnTo>
                    <a:pt x="740" y="159"/>
                  </a:lnTo>
                  <a:lnTo>
                    <a:pt x="745" y="142"/>
                  </a:lnTo>
                  <a:lnTo>
                    <a:pt x="745" y="123"/>
                  </a:lnTo>
                  <a:lnTo>
                    <a:pt x="737" y="104"/>
                  </a:lnTo>
                  <a:lnTo>
                    <a:pt x="732" y="93"/>
                  </a:lnTo>
                  <a:lnTo>
                    <a:pt x="724" y="82"/>
                  </a:lnTo>
                  <a:lnTo>
                    <a:pt x="715" y="74"/>
                  </a:lnTo>
                  <a:lnTo>
                    <a:pt x="707" y="65"/>
                  </a:lnTo>
                  <a:lnTo>
                    <a:pt x="685" y="57"/>
                  </a:lnTo>
                  <a:lnTo>
                    <a:pt x="663" y="52"/>
                  </a:lnTo>
                  <a:lnTo>
                    <a:pt x="639" y="49"/>
                  </a:lnTo>
                  <a:lnTo>
                    <a:pt x="614" y="49"/>
                  </a:lnTo>
                  <a:lnTo>
                    <a:pt x="589" y="49"/>
                  </a:lnTo>
                  <a:lnTo>
                    <a:pt x="565" y="49"/>
                  </a:lnTo>
                  <a:close/>
                </a:path>
              </a:pathLst>
            </a:custGeom>
            <a:solidFill>
              <a:srgbClr val="87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89680" y="6415920"/>
              <a:ext cx="295560" cy="158040"/>
            </a:xfrm>
            <a:custGeom>
              <a:avLst/>
              <a:gdLst/>
              <a:ahLst/>
              <a:rect l="l" t="t" r="r" b="b"/>
              <a:pathLst>
                <a:path w="631" h="379">
                  <a:moveTo>
                    <a:pt x="480" y="41"/>
                  </a:moveTo>
                  <a:lnTo>
                    <a:pt x="474" y="44"/>
                  </a:lnTo>
                  <a:lnTo>
                    <a:pt x="472" y="46"/>
                  </a:lnTo>
                  <a:lnTo>
                    <a:pt x="469" y="46"/>
                  </a:lnTo>
                  <a:lnTo>
                    <a:pt x="463" y="49"/>
                  </a:lnTo>
                  <a:lnTo>
                    <a:pt x="461" y="52"/>
                  </a:lnTo>
                  <a:lnTo>
                    <a:pt x="458" y="55"/>
                  </a:lnTo>
                  <a:lnTo>
                    <a:pt x="453" y="57"/>
                  </a:lnTo>
                  <a:lnTo>
                    <a:pt x="450" y="57"/>
                  </a:lnTo>
                  <a:lnTo>
                    <a:pt x="444" y="44"/>
                  </a:lnTo>
                  <a:lnTo>
                    <a:pt x="436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9" y="8"/>
                  </a:lnTo>
                  <a:lnTo>
                    <a:pt x="398" y="2"/>
                  </a:lnTo>
                  <a:lnTo>
                    <a:pt x="387" y="0"/>
                  </a:lnTo>
                  <a:lnTo>
                    <a:pt x="376" y="0"/>
                  </a:lnTo>
                  <a:lnTo>
                    <a:pt x="351" y="0"/>
                  </a:lnTo>
                  <a:lnTo>
                    <a:pt x="326" y="5"/>
                  </a:lnTo>
                  <a:lnTo>
                    <a:pt x="299" y="13"/>
                  </a:lnTo>
                  <a:lnTo>
                    <a:pt x="272" y="27"/>
                  </a:lnTo>
                  <a:lnTo>
                    <a:pt x="220" y="57"/>
                  </a:lnTo>
                  <a:lnTo>
                    <a:pt x="168" y="90"/>
                  </a:lnTo>
                  <a:lnTo>
                    <a:pt x="126" y="120"/>
                  </a:lnTo>
                  <a:lnTo>
                    <a:pt x="94" y="137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94" y="140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80" y="151"/>
                  </a:lnTo>
                  <a:lnTo>
                    <a:pt x="66" y="159"/>
                  </a:lnTo>
                  <a:lnTo>
                    <a:pt x="55" y="167"/>
                  </a:lnTo>
                  <a:lnTo>
                    <a:pt x="44" y="178"/>
                  </a:lnTo>
                  <a:lnTo>
                    <a:pt x="33" y="189"/>
                  </a:lnTo>
                  <a:lnTo>
                    <a:pt x="22" y="200"/>
                  </a:lnTo>
                  <a:lnTo>
                    <a:pt x="11" y="211"/>
                  </a:lnTo>
                  <a:lnTo>
                    <a:pt x="0" y="222"/>
                  </a:lnTo>
                  <a:lnTo>
                    <a:pt x="0" y="241"/>
                  </a:lnTo>
                  <a:lnTo>
                    <a:pt x="3" y="263"/>
                  </a:lnTo>
                  <a:lnTo>
                    <a:pt x="9" y="288"/>
                  </a:lnTo>
                  <a:lnTo>
                    <a:pt x="17" y="310"/>
                  </a:lnTo>
                  <a:lnTo>
                    <a:pt x="28" y="329"/>
                  </a:lnTo>
                  <a:lnTo>
                    <a:pt x="42" y="346"/>
                  </a:lnTo>
                  <a:lnTo>
                    <a:pt x="50" y="354"/>
                  </a:lnTo>
                  <a:lnTo>
                    <a:pt x="58" y="357"/>
                  </a:lnTo>
                  <a:lnTo>
                    <a:pt x="69" y="359"/>
                  </a:lnTo>
                  <a:lnTo>
                    <a:pt x="80" y="362"/>
                  </a:lnTo>
                  <a:lnTo>
                    <a:pt x="83" y="368"/>
                  </a:lnTo>
                  <a:lnTo>
                    <a:pt x="88" y="373"/>
                  </a:lnTo>
                  <a:lnTo>
                    <a:pt x="94" y="376"/>
                  </a:lnTo>
                  <a:lnTo>
                    <a:pt x="102" y="379"/>
                  </a:lnTo>
                  <a:lnTo>
                    <a:pt x="118" y="379"/>
                  </a:lnTo>
                  <a:lnTo>
                    <a:pt x="137" y="376"/>
                  </a:lnTo>
                  <a:lnTo>
                    <a:pt x="181" y="359"/>
                  </a:lnTo>
                  <a:lnTo>
                    <a:pt x="233" y="337"/>
                  </a:lnTo>
                  <a:lnTo>
                    <a:pt x="283" y="307"/>
                  </a:lnTo>
                  <a:lnTo>
                    <a:pt x="329" y="280"/>
                  </a:lnTo>
                  <a:lnTo>
                    <a:pt x="368" y="260"/>
                  </a:lnTo>
                  <a:lnTo>
                    <a:pt x="392" y="247"/>
                  </a:lnTo>
                  <a:lnTo>
                    <a:pt x="395" y="247"/>
                  </a:lnTo>
                  <a:lnTo>
                    <a:pt x="400" y="244"/>
                  </a:lnTo>
                  <a:lnTo>
                    <a:pt x="406" y="244"/>
                  </a:lnTo>
                  <a:lnTo>
                    <a:pt x="411" y="241"/>
                  </a:lnTo>
                  <a:lnTo>
                    <a:pt x="417" y="241"/>
                  </a:lnTo>
                  <a:lnTo>
                    <a:pt x="422" y="241"/>
                  </a:lnTo>
                  <a:lnTo>
                    <a:pt x="428" y="239"/>
                  </a:lnTo>
                  <a:lnTo>
                    <a:pt x="433" y="239"/>
                  </a:lnTo>
                  <a:lnTo>
                    <a:pt x="455" y="233"/>
                  </a:lnTo>
                  <a:lnTo>
                    <a:pt x="488" y="222"/>
                  </a:lnTo>
                  <a:lnTo>
                    <a:pt x="524" y="211"/>
                  </a:lnTo>
                  <a:lnTo>
                    <a:pt x="562" y="195"/>
                  </a:lnTo>
                  <a:lnTo>
                    <a:pt x="579" y="184"/>
                  </a:lnTo>
                  <a:lnTo>
                    <a:pt x="595" y="173"/>
                  </a:lnTo>
                  <a:lnTo>
                    <a:pt x="609" y="162"/>
                  </a:lnTo>
                  <a:lnTo>
                    <a:pt x="620" y="148"/>
                  </a:lnTo>
                  <a:lnTo>
                    <a:pt x="628" y="134"/>
                  </a:lnTo>
                  <a:lnTo>
                    <a:pt x="631" y="120"/>
                  </a:lnTo>
                  <a:lnTo>
                    <a:pt x="631" y="104"/>
                  </a:lnTo>
                  <a:lnTo>
                    <a:pt x="625" y="88"/>
                  </a:lnTo>
                  <a:lnTo>
                    <a:pt x="622" y="77"/>
                  </a:lnTo>
                  <a:lnTo>
                    <a:pt x="614" y="68"/>
                  </a:lnTo>
                  <a:lnTo>
                    <a:pt x="609" y="60"/>
                  </a:lnTo>
                  <a:lnTo>
                    <a:pt x="600" y="55"/>
                  </a:lnTo>
                  <a:lnTo>
                    <a:pt x="581" y="46"/>
                  </a:lnTo>
                  <a:lnTo>
                    <a:pt x="562" y="44"/>
                  </a:lnTo>
                  <a:lnTo>
                    <a:pt x="540" y="41"/>
                  </a:lnTo>
                  <a:lnTo>
                    <a:pt x="521" y="41"/>
                  </a:lnTo>
                  <a:lnTo>
                    <a:pt x="499" y="41"/>
                  </a:lnTo>
                  <a:lnTo>
                    <a:pt x="480" y="41"/>
                  </a:lnTo>
                  <a:close/>
                </a:path>
              </a:pathLst>
            </a:custGeom>
            <a:solidFill>
              <a:srgbClr val="9a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16680" y="6427080"/>
              <a:ext cx="244080" cy="130320"/>
            </a:xfrm>
            <a:custGeom>
              <a:avLst/>
              <a:gdLst/>
              <a:ahLst/>
              <a:rect l="l" t="t" r="r" b="b"/>
              <a:pathLst>
                <a:path w="521" h="313">
                  <a:moveTo>
                    <a:pt x="395" y="36"/>
                  </a:moveTo>
                  <a:lnTo>
                    <a:pt x="392" y="39"/>
                  </a:lnTo>
                  <a:lnTo>
                    <a:pt x="389" y="39"/>
                  </a:lnTo>
                  <a:lnTo>
                    <a:pt x="386" y="41"/>
                  </a:lnTo>
                  <a:lnTo>
                    <a:pt x="384" y="44"/>
                  </a:lnTo>
                  <a:lnTo>
                    <a:pt x="381" y="44"/>
                  </a:lnTo>
                  <a:lnTo>
                    <a:pt x="378" y="47"/>
                  </a:lnTo>
                  <a:lnTo>
                    <a:pt x="375" y="50"/>
                  </a:lnTo>
                  <a:lnTo>
                    <a:pt x="373" y="50"/>
                  </a:lnTo>
                  <a:lnTo>
                    <a:pt x="359" y="28"/>
                  </a:lnTo>
                  <a:lnTo>
                    <a:pt x="345" y="14"/>
                  </a:lnTo>
                  <a:lnTo>
                    <a:pt x="329" y="6"/>
                  </a:lnTo>
                  <a:lnTo>
                    <a:pt x="310" y="0"/>
                  </a:lnTo>
                  <a:lnTo>
                    <a:pt x="290" y="3"/>
                  </a:lnTo>
                  <a:lnTo>
                    <a:pt x="268" y="6"/>
                  </a:lnTo>
                  <a:lnTo>
                    <a:pt x="247" y="14"/>
                  </a:lnTo>
                  <a:lnTo>
                    <a:pt x="225" y="25"/>
                  </a:lnTo>
                  <a:lnTo>
                    <a:pt x="181" y="50"/>
                  </a:lnTo>
                  <a:lnTo>
                    <a:pt x="140" y="77"/>
                  </a:lnTo>
                  <a:lnTo>
                    <a:pt x="104" y="102"/>
                  </a:lnTo>
                  <a:lnTo>
                    <a:pt x="77" y="115"/>
                  </a:lnTo>
                  <a:lnTo>
                    <a:pt x="77" y="115"/>
                  </a:lnTo>
                  <a:lnTo>
                    <a:pt x="77" y="118"/>
                  </a:lnTo>
                  <a:lnTo>
                    <a:pt x="77" y="118"/>
                  </a:lnTo>
                  <a:lnTo>
                    <a:pt x="77" y="118"/>
                  </a:lnTo>
                  <a:lnTo>
                    <a:pt x="77" y="118"/>
                  </a:lnTo>
                  <a:lnTo>
                    <a:pt x="77" y="118"/>
                  </a:lnTo>
                  <a:lnTo>
                    <a:pt x="77" y="118"/>
                  </a:lnTo>
                  <a:lnTo>
                    <a:pt x="77" y="118"/>
                  </a:lnTo>
                  <a:lnTo>
                    <a:pt x="66" y="126"/>
                  </a:lnTo>
                  <a:lnTo>
                    <a:pt x="55" y="132"/>
                  </a:lnTo>
                  <a:lnTo>
                    <a:pt x="47" y="140"/>
                  </a:lnTo>
                  <a:lnTo>
                    <a:pt x="36" y="148"/>
                  </a:lnTo>
                  <a:lnTo>
                    <a:pt x="27" y="157"/>
                  </a:lnTo>
                  <a:lnTo>
                    <a:pt x="19" y="168"/>
                  </a:lnTo>
                  <a:lnTo>
                    <a:pt x="11" y="176"/>
                  </a:lnTo>
                  <a:lnTo>
                    <a:pt x="0" y="184"/>
                  </a:lnTo>
                  <a:lnTo>
                    <a:pt x="3" y="201"/>
                  </a:lnTo>
                  <a:lnTo>
                    <a:pt x="3" y="220"/>
                  </a:lnTo>
                  <a:lnTo>
                    <a:pt x="8" y="239"/>
                  </a:lnTo>
                  <a:lnTo>
                    <a:pt x="14" y="258"/>
                  </a:lnTo>
                  <a:lnTo>
                    <a:pt x="22" y="275"/>
                  </a:lnTo>
                  <a:lnTo>
                    <a:pt x="36" y="288"/>
                  </a:lnTo>
                  <a:lnTo>
                    <a:pt x="41" y="294"/>
                  </a:lnTo>
                  <a:lnTo>
                    <a:pt x="49" y="297"/>
                  </a:lnTo>
                  <a:lnTo>
                    <a:pt x="58" y="299"/>
                  </a:lnTo>
                  <a:lnTo>
                    <a:pt x="66" y="299"/>
                  </a:lnTo>
                  <a:lnTo>
                    <a:pt x="74" y="308"/>
                  </a:lnTo>
                  <a:lnTo>
                    <a:pt x="85" y="313"/>
                  </a:lnTo>
                  <a:lnTo>
                    <a:pt x="99" y="313"/>
                  </a:lnTo>
                  <a:lnTo>
                    <a:pt x="112" y="310"/>
                  </a:lnTo>
                  <a:lnTo>
                    <a:pt x="151" y="299"/>
                  </a:lnTo>
                  <a:lnTo>
                    <a:pt x="192" y="280"/>
                  </a:lnTo>
                  <a:lnTo>
                    <a:pt x="233" y="255"/>
                  </a:lnTo>
                  <a:lnTo>
                    <a:pt x="271" y="233"/>
                  </a:lnTo>
                  <a:lnTo>
                    <a:pt x="304" y="217"/>
                  </a:lnTo>
                  <a:lnTo>
                    <a:pt x="323" y="206"/>
                  </a:lnTo>
                  <a:lnTo>
                    <a:pt x="326" y="206"/>
                  </a:lnTo>
                  <a:lnTo>
                    <a:pt x="332" y="203"/>
                  </a:lnTo>
                  <a:lnTo>
                    <a:pt x="337" y="203"/>
                  </a:lnTo>
                  <a:lnTo>
                    <a:pt x="340" y="201"/>
                  </a:lnTo>
                  <a:lnTo>
                    <a:pt x="345" y="201"/>
                  </a:lnTo>
                  <a:lnTo>
                    <a:pt x="348" y="201"/>
                  </a:lnTo>
                  <a:lnTo>
                    <a:pt x="353" y="201"/>
                  </a:lnTo>
                  <a:lnTo>
                    <a:pt x="359" y="201"/>
                  </a:lnTo>
                  <a:lnTo>
                    <a:pt x="375" y="195"/>
                  </a:lnTo>
                  <a:lnTo>
                    <a:pt x="403" y="187"/>
                  </a:lnTo>
                  <a:lnTo>
                    <a:pt x="433" y="176"/>
                  </a:lnTo>
                  <a:lnTo>
                    <a:pt x="463" y="162"/>
                  </a:lnTo>
                  <a:lnTo>
                    <a:pt x="477" y="154"/>
                  </a:lnTo>
                  <a:lnTo>
                    <a:pt x="490" y="146"/>
                  </a:lnTo>
                  <a:lnTo>
                    <a:pt x="501" y="135"/>
                  </a:lnTo>
                  <a:lnTo>
                    <a:pt x="512" y="124"/>
                  </a:lnTo>
                  <a:lnTo>
                    <a:pt x="518" y="113"/>
                  </a:lnTo>
                  <a:lnTo>
                    <a:pt x="521" y="102"/>
                  </a:lnTo>
                  <a:lnTo>
                    <a:pt x="521" y="88"/>
                  </a:lnTo>
                  <a:lnTo>
                    <a:pt x="518" y="74"/>
                  </a:lnTo>
                  <a:lnTo>
                    <a:pt x="507" y="58"/>
                  </a:lnTo>
                  <a:lnTo>
                    <a:pt x="496" y="47"/>
                  </a:lnTo>
                  <a:lnTo>
                    <a:pt x="479" y="41"/>
                  </a:lnTo>
                  <a:lnTo>
                    <a:pt x="463" y="36"/>
                  </a:lnTo>
                  <a:lnTo>
                    <a:pt x="447" y="36"/>
                  </a:lnTo>
                  <a:lnTo>
                    <a:pt x="430" y="36"/>
                  </a:lnTo>
                  <a:lnTo>
                    <a:pt x="411" y="36"/>
                  </a:lnTo>
                  <a:lnTo>
                    <a:pt x="395" y="36"/>
                  </a:lnTo>
                  <a:close/>
                </a:path>
              </a:pathLst>
            </a:custGeom>
            <a:solidFill>
              <a:srgbClr val="ad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44760" y="6439680"/>
              <a:ext cx="191520" cy="102960"/>
            </a:xfrm>
            <a:custGeom>
              <a:avLst/>
              <a:gdLst/>
              <a:ahLst/>
              <a:rect l="l" t="t" r="r" b="b"/>
              <a:pathLst>
                <a:path w="409" h="247">
                  <a:moveTo>
                    <a:pt x="310" y="28"/>
                  </a:moveTo>
                  <a:lnTo>
                    <a:pt x="307" y="31"/>
                  </a:lnTo>
                  <a:lnTo>
                    <a:pt x="304" y="31"/>
                  </a:lnTo>
                  <a:lnTo>
                    <a:pt x="302" y="33"/>
                  </a:lnTo>
                  <a:lnTo>
                    <a:pt x="302" y="33"/>
                  </a:lnTo>
                  <a:lnTo>
                    <a:pt x="299" y="36"/>
                  </a:lnTo>
                  <a:lnTo>
                    <a:pt x="296" y="36"/>
                  </a:lnTo>
                  <a:lnTo>
                    <a:pt x="293" y="39"/>
                  </a:lnTo>
                  <a:lnTo>
                    <a:pt x="291" y="39"/>
                  </a:lnTo>
                  <a:lnTo>
                    <a:pt x="282" y="22"/>
                  </a:lnTo>
                  <a:lnTo>
                    <a:pt x="272" y="11"/>
                  </a:lnTo>
                  <a:lnTo>
                    <a:pt x="258" y="3"/>
                  </a:lnTo>
                  <a:lnTo>
                    <a:pt x="244" y="0"/>
                  </a:lnTo>
                  <a:lnTo>
                    <a:pt x="228" y="0"/>
                  </a:lnTo>
                  <a:lnTo>
                    <a:pt x="211" y="6"/>
                  </a:lnTo>
                  <a:lnTo>
                    <a:pt x="195" y="11"/>
                  </a:lnTo>
                  <a:lnTo>
                    <a:pt x="176" y="20"/>
                  </a:lnTo>
                  <a:lnTo>
                    <a:pt x="143" y="39"/>
                  </a:lnTo>
                  <a:lnTo>
                    <a:pt x="110" y="61"/>
                  </a:lnTo>
                  <a:lnTo>
                    <a:pt x="82" y="80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50" y="99"/>
                  </a:lnTo>
                  <a:lnTo>
                    <a:pt x="41" y="105"/>
                  </a:lnTo>
                  <a:lnTo>
                    <a:pt x="36" y="110"/>
                  </a:lnTo>
                  <a:lnTo>
                    <a:pt x="28" y="116"/>
                  </a:lnTo>
                  <a:lnTo>
                    <a:pt x="19" y="124"/>
                  </a:lnTo>
                  <a:lnTo>
                    <a:pt x="14" y="132"/>
                  </a:lnTo>
                  <a:lnTo>
                    <a:pt x="6" y="138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3" y="173"/>
                  </a:lnTo>
                  <a:lnTo>
                    <a:pt x="6" y="187"/>
                  </a:lnTo>
                  <a:lnTo>
                    <a:pt x="11" y="201"/>
                  </a:lnTo>
                  <a:lnTo>
                    <a:pt x="17" y="214"/>
                  </a:lnTo>
                  <a:lnTo>
                    <a:pt x="25" y="225"/>
                  </a:lnTo>
                  <a:lnTo>
                    <a:pt x="39" y="234"/>
                  </a:lnTo>
                  <a:lnTo>
                    <a:pt x="52" y="236"/>
                  </a:lnTo>
                  <a:lnTo>
                    <a:pt x="58" y="242"/>
                  </a:lnTo>
                  <a:lnTo>
                    <a:pt x="66" y="245"/>
                  </a:lnTo>
                  <a:lnTo>
                    <a:pt x="77" y="247"/>
                  </a:lnTo>
                  <a:lnTo>
                    <a:pt x="88" y="245"/>
                  </a:lnTo>
                  <a:lnTo>
                    <a:pt x="118" y="234"/>
                  </a:lnTo>
                  <a:lnTo>
                    <a:pt x="151" y="220"/>
                  </a:lnTo>
                  <a:lnTo>
                    <a:pt x="184" y="201"/>
                  </a:lnTo>
                  <a:lnTo>
                    <a:pt x="214" y="184"/>
                  </a:lnTo>
                  <a:lnTo>
                    <a:pt x="239" y="168"/>
                  </a:lnTo>
                  <a:lnTo>
                    <a:pt x="252" y="162"/>
                  </a:lnTo>
                  <a:lnTo>
                    <a:pt x="255" y="160"/>
                  </a:lnTo>
                  <a:lnTo>
                    <a:pt x="261" y="160"/>
                  </a:lnTo>
                  <a:lnTo>
                    <a:pt x="263" y="160"/>
                  </a:lnTo>
                  <a:lnTo>
                    <a:pt x="266" y="157"/>
                  </a:lnTo>
                  <a:lnTo>
                    <a:pt x="269" y="157"/>
                  </a:lnTo>
                  <a:lnTo>
                    <a:pt x="274" y="157"/>
                  </a:lnTo>
                  <a:lnTo>
                    <a:pt x="277" y="157"/>
                  </a:lnTo>
                  <a:lnTo>
                    <a:pt x="280" y="157"/>
                  </a:lnTo>
                  <a:lnTo>
                    <a:pt x="293" y="151"/>
                  </a:lnTo>
                  <a:lnTo>
                    <a:pt x="315" y="146"/>
                  </a:lnTo>
                  <a:lnTo>
                    <a:pt x="340" y="138"/>
                  </a:lnTo>
                  <a:lnTo>
                    <a:pt x="362" y="127"/>
                  </a:lnTo>
                  <a:lnTo>
                    <a:pt x="384" y="113"/>
                  </a:lnTo>
                  <a:lnTo>
                    <a:pt x="400" y="96"/>
                  </a:lnTo>
                  <a:lnTo>
                    <a:pt x="406" y="88"/>
                  </a:lnTo>
                  <a:lnTo>
                    <a:pt x="409" y="80"/>
                  </a:lnTo>
                  <a:lnTo>
                    <a:pt x="409" y="69"/>
                  </a:lnTo>
                  <a:lnTo>
                    <a:pt x="406" y="58"/>
                  </a:lnTo>
                  <a:lnTo>
                    <a:pt x="398" y="47"/>
                  </a:lnTo>
                  <a:lnTo>
                    <a:pt x="389" y="36"/>
                  </a:lnTo>
                  <a:lnTo>
                    <a:pt x="376" y="31"/>
                  </a:lnTo>
                  <a:lnTo>
                    <a:pt x="365" y="28"/>
                  </a:lnTo>
                  <a:lnTo>
                    <a:pt x="351" y="28"/>
                  </a:lnTo>
                  <a:lnTo>
                    <a:pt x="337" y="28"/>
                  </a:lnTo>
                  <a:lnTo>
                    <a:pt x="324" y="28"/>
                  </a:lnTo>
                  <a:lnTo>
                    <a:pt x="310" y="28"/>
                  </a:lnTo>
                  <a:close/>
                </a:path>
              </a:pathLst>
            </a:custGeom>
            <a:solidFill>
              <a:srgbClr val="c0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072120" y="6452640"/>
              <a:ext cx="139320" cy="74160"/>
            </a:xfrm>
            <a:custGeom>
              <a:avLst/>
              <a:gdLst/>
              <a:ahLst/>
              <a:rect l="l" t="t" r="r" b="b"/>
              <a:pathLst>
                <a:path w="298" h="178">
                  <a:moveTo>
                    <a:pt x="227" y="19"/>
                  </a:moveTo>
                  <a:lnTo>
                    <a:pt x="224" y="19"/>
                  </a:lnTo>
                  <a:lnTo>
                    <a:pt x="222" y="22"/>
                  </a:lnTo>
                  <a:lnTo>
                    <a:pt x="222" y="22"/>
                  </a:lnTo>
                  <a:lnTo>
                    <a:pt x="219" y="24"/>
                  </a:lnTo>
                  <a:lnTo>
                    <a:pt x="219" y="24"/>
                  </a:lnTo>
                  <a:lnTo>
                    <a:pt x="216" y="24"/>
                  </a:lnTo>
                  <a:lnTo>
                    <a:pt x="214" y="27"/>
                  </a:lnTo>
                  <a:lnTo>
                    <a:pt x="214" y="27"/>
                  </a:lnTo>
                  <a:lnTo>
                    <a:pt x="205" y="16"/>
                  </a:lnTo>
                  <a:lnTo>
                    <a:pt x="197" y="8"/>
                  </a:lnTo>
                  <a:lnTo>
                    <a:pt x="189" y="2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2"/>
                  </a:lnTo>
                  <a:lnTo>
                    <a:pt x="142" y="8"/>
                  </a:lnTo>
                  <a:lnTo>
                    <a:pt x="129" y="13"/>
                  </a:lnTo>
                  <a:lnTo>
                    <a:pt x="104" y="27"/>
                  </a:lnTo>
                  <a:lnTo>
                    <a:pt x="79" y="43"/>
                  </a:lnTo>
                  <a:lnTo>
                    <a:pt x="60" y="57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38" y="71"/>
                  </a:lnTo>
                  <a:lnTo>
                    <a:pt x="33" y="74"/>
                  </a:lnTo>
                  <a:lnTo>
                    <a:pt x="27" y="79"/>
                  </a:lnTo>
                  <a:lnTo>
                    <a:pt x="22" y="82"/>
                  </a:lnTo>
                  <a:lnTo>
                    <a:pt x="16" y="87"/>
                  </a:lnTo>
                  <a:lnTo>
                    <a:pt x="11" y="93"/>
                  </a:lnTo>
                  <a:lnTo>
                    <a:pt x="5" y="98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3" y="123"/>
                  </a:lnTo>
                  <a:lnTo>
                    <a:pt x="5" y="134"/>
                  </a:lnTo>
                  <a:lnTo>
                    <a:pt x="8" y="145"/>
                  </a:lnTo>
                  <a:lnTo>
                    <a:pt x="13" y="156"/>
                  </a:lnTo>
                  <a:lnTo>
                    <a:pt x="19" y="162"/>
                  </a:lnTo>
                  <a:lnTo>
                    <a:pt x="27" y="167"/>
                  </a:lnTo>
                  <a:lnTo>
                    <a:pt x="38" y="170"/>
                  </a:lnTo>
                  <a:lnTo>
                    <a:pt x="44" y="175"/>
                  </a:lnTo>
                  <a:lnTo>
                    <a:pt x="49" y="178"/>
                  </a:lnTo>
                  <a:lnTo>
                    <a:pt x="57" y="178"/>
                  </a:lnTo>
                  <a:lnTo>
                    <a:pt x="66" y="175"/>
                  </a:lnTo>
                  <a:lnTo>
                    <a:pt x="87" y="170"/>
                  </a:lnTo>
                  <a:lnTo>
                    <a:pt x="109" y="159"/>
                  </a:lnTo>
                  <a:lnTo>
                    <a:pt x="134" y="145"/>
                  </a:lnTo>
                  <a:lnTo>
                    <a:pt x="156" y="131"/>
                  </a:lnTo>
                  <a:lnTo>
                    <a:pt x="172" y="120"/>
                  </a:lnTo>
                  <a:lnTo>
                    <a:pt x="186" y="118"/>
                  </a:lnTo>
                  <a:lnTo>
                    <a:pt x="186" y="115"/>
                  </a:lnTo>
                  <a:lnTo>
                    <a:pt x="189" y="115"/>
                  </a:lnTo>
                  <a:lnTo>
                    <a:pt x="192" y="115"/>
                  </a:lnTo>
                  <a:lnTo>
                    <a:pt x="194" y="115"/>
                  </a:lnTo>
                  <a:lnTo>
                    <a:pt x="197" y="112"/>
                  </a:lnTo>
                  <a:lnTo>
                    <a:pt x="200" y="112"/>
                  </a:lnTo>
                  <a:lnTo>
                    <a:pt x="203" y="112"/>
                  </a:lnTo>
                  <a:lnTo>
                    <a:pt x="205" y="112"/>
                  </a:lnTo>
                  <a:lnTo>
                    <a:pt x="216" y="109"/>
                  </a:lnTo>
                  <a:lnTo>
                    <a:pt x="230" y="104"/>
                  </a:lnTo>
                  <a:lnTo>
                    <a:pt x="246" y="98"/>
                  </a:lnTo>
                  <a:lnTo>
                    <a:pt x="266" y="90"/>
                  </a:lnTo>
                  <a:lnTo>
                    <a:pt x="282" y="82"/>
                  </a:lnTo>
                  <a:lnTo>
                    <a:pt x="293" y="71"/>
                  </a:lnTo>
                  <a:lnTo>
                    <a:pt x="296" y="63"/>
                  </a:lnTo>
                  <a:lnTo>
                    <a:pt x="298" y="57"/>
                  </a:lnTo>
                  <a:lnTo>
                    <a:pt x="298" y="49"/>
                  </a:lnTo>
                  <a:lnTo>
                    <a:pt x="296" y="41"/>
                  </a:lnTo>
                  <a:lnTo>
                    <a:pt x="290" y="32"/>
                  </a:lnTo>
                  <a:lnTo>
                    <a:pt x="282" y="27"/>
                  </a:lnTo>
                  <a:lnTo>
                    <a:pt x="274" y="22"/>
                  </a:lnTo>
                  <a:lnTo>
                    <a:pt x="266" y="19"/>
                  </a:lnTo>
                  <a:lnTo>
                    <a:pt x="255" y="19"/>
                  </a:lnTo>
                  <a:lnTo>
                    <a:pt x="246" y="19"/>
                  </a:lnTo>
                  <a:lnTo>
                    <a:pt x="235" y="19"/>
                  </a:lnTo>
                  <a:lnTo>
                    <a:pt x="227" y="19"/>
                  </a:lnTo>
                  <a:close/>
                </a:path>
              </a:pathLst>
            </a:custGeom>
            <a:solidFill>
              <a:srgbClr val="d2f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100200" y="6464880"/>
              <a:ext cx="87120" cy="45720"/>
            </a:xfrm>
            <a:custGeom>
              <a:avLst/>
              <a:gdLst/>
              <a:ahLst/>
              <a:rect l="l" t="t" r="r" b="b"/>
              <a:pathLst>
                <a:path w="186" h="110">
                  <a:moveTo>
                    <a:pt x="140" y="11"/>
                  </a:moveTo>
                  <a:lnTo>
                    <a:pt x="132" y="16"/>
                  </a:lnTo>
                  <a:lnTo>
                    <a:pt x="129" y="8"/>
                  </a:lnTo>
                  <a:lnTo>
                    <a:pt x="123" y="2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96" y="0"/>
                  </a:lnTo>
                  <a:lnTo>
                    <a:pt x="80" y="8"/>
                  </a:lnTo>
                  <a:lnTo>
                    <a:pt x="63" y="16"/>
                  </a:lnTo>
                  <a:lnTo>
                    <a:pt x="49" y="24"/>
                  </a:lnTo>
                  <a:lnTo>
                    <a:pt x="36" y="35"/>
                  </a:lnTo>
                  <a:lnTo>
                    <a:pt x="27" y="38"/>
                  </a:lnTo>
                  <a:lnTo>
                    <a:pt x="27" y="41"/>
                  </a:lnTo>
                  <a:lnTo>
                    <a:pt x="22" y="44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4" y="52"/>
                  </a:lnTo>
                  <a:lnTo>
                    <a:pt x="8" y="55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3" y="82"/>
                  </a:lnTo>
                  <a:lnTo>
                    <a:pt x="6" y="90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7" y="104"/>
                  </a:lnTo>
                  <a:lnTo>
                    <a:pt x="25" y="104"/>
                  </a:lnTo>
                  <a:lnTo>
                    <a:pt x="25" y="110"/>
                  </a:lnTo>
                  <a:lnTo>
                    <a:pt x="30" y="110"/>
                  </a:lnTo>
                  <a:lnTo>
                    <a:pt x="36" y="110"/>
                  </a:lnTo>
                  <a:lnTo>
                    <a:pt x="41" y="110"/>
                  </a:lnTo>
                  <a:lnTo>
                    <a:pt x="52" y="104"/>
                  </a:lnTo>
                  <a:lnTo>
                    <a:pt x="69" y="99"/>
                  </a:lnTo>
                  <a:lnTo>
                    <a:pt x="82" y="90"/>
                  </a:lnTo>
                  <a:lnTo>
                    <a:pt x="96" y="82"/>
                  </a:lnTo>
                  <a:lnTo>
                    <a:pt x="107" y="74"/>
                  </a:lnTo>
                  <a:lnTo>
                    <a:pt x="115" y="71"/>
                  </a:lnTo>
                  <a:lnTo>
                    <a:pt x="115" y="71"/>
                  </a:lnTo>
                  <a:lnTo>
                    <a:pt x="118" y="71"/>
                  </a:lnTo>
                  <a:lnTo>
                    <a:pt x="121" y="71"/>
                  </a:lnTo>
                  <a:lnTo>
                    <a:pt x="121" y="71"/>
                  </a:lnTo>
                  <a:lnTo>
                    <a:pt x="123" y="68"/>
                  </a:lnTo>
                  <a:lnTo>
                    <a:pt x="123" y="6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34" y="68"/>
                  </a:lnTo>
                  <a:lnTo>
                    <a:pt x="143" y="66"/>
                  </a:lnTo>
                  <a:lnTo>
                    <a:pt x="154" y="60"/>
                  </a:lnTo>
                  <a:lnTo>
                    <a:pt x="164" y="55"/>
                  </a:lnTo>
                  <a:lnTo>
                    <a:pt x="175" y="49"/>
                  </a:lnTo>
                  <a:lnTo>
                    <a:pt x="181" y="44"/>
                  </a:lnTo>
                  <a:lnTo>
                    <a:pt x="186" y="35"/>
                  </a:lnTo>
                  <a:lnTo>
                    <a:pt x="184" y="24"/>
                  </a:lnTo>
                  <a:lnTo>
                    <a:pt x="181" y="19"/>
                  </a:lnTo>
                  <a:lnTo>
                    <a:pt x="175" y="16"/>
                  </a:lnTo>
                  <a:lnTo>
                    <a:pt x="170" y="13"/>
                  </a:lnTo>
                  <a:lnTo>
                    <a:pt x="164" y="11"/>
                  </a:lnTo>
                  <a:lnTo>
                    <a:pt x="159" y="11"/>
                  </a:lnTo>
                  <a:lnTo>
                    <a:pt x="154" y="11"/>
                  </a:lnTo>
                  <a:lnTo>
                    <a:pt x="148" y="11"/>
                  </a:lnTo>
                  <a:lnTo>
                    <a:pt x="140" y="11"/>
                  </a:lnTo>
                  <a:close/>
                </a:path>
              </a:pathLst>
            </a:custGeom>
            <a:solidFill>
              <a:srgbClr val="e3f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06680" y="6501600"/>
              <a:ext cx="717480" cy="255240"/>
            </a:xfrm>
            <a:custGeom>
              <a:avLst/>
              <a:gdLst/>
              <a:ahLst/>
              <a:rect l="l" t="t" r="r" b="b"/>
              <a:pathLst>
                <a:path w="1532" h="612">
                  <a:moveTo>
                    <a:pt x="1452" y="153"/>
                  </a:moveTo>
                  <a:lnTo>
                    <a:pt x="1474" y="197"/>
                  </a:lnTo>
                  <a:lnTo>
                    <a:pt x="1532" y="389"/>
                  </a:lnTo>
                  <a:lnTo>
                    <a:pt x="1365" y="477"/>
                  </a:lnTo>
                  <a:lnTo>
                    <a:pt x="1211" y="582"/>
                  </a:lnTo>
                  <a:lnTo>
                    <a:pt x="1091" y="612"/>
                  </a:lnTo>
                  <a:lnTo>
                    <a:pt x="964" y="573"/>
                  </a:lnTo>
                  <a:lnTo>
                    <a:pt x="614" y="348"/>
                  </a:lnTo>
                  <a:lnTo>
                    <a:pt x="501" y="310"/>
                  </a:lnTo>
                  <a:lnTo>
                    <a:pt x="438" y="252"/>
                  </a:lnTo>
                  <a:lnTo>
                    <a:pt x="367" y="214"/>
                  </a:lnTo>
                  <a:lnTo>
                    <a:pt x="279" y="197"/>
                  </a:lnTo>
                  <a:lnTo>
                    <a:pt x="112" y="214"/>
                  </a:lnTo>
                  <a:lnTo>
                    <a:pt x="88" y="205"/>
                  </a:lnTo>
                  <a:lnTo>
                    <a:pt x="41" y="151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5" y="16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8" y="8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5" y="22"/>
                  </a:lnTo>
                  <a:lnTo>
                    <a:pt x="27" y="35"/>
                  </a:lnTo>
                  <a:lnTo>
                    <a:pt x="36" y="46"/>
                  </a:lnTo>
                  <a:lnTo>
                    <a:pt x="44" y="57"/>
                  </a:lnTo>
                  <a:lnTo>
                    <a:pt x="55" y="68"/>
                  </a:lnTo>
                  <a:lnTo>
                    <a:pt x="69" y="76"/>
                  </a:lnTo>
                  <a:lnTo>
                    <a:pt x="82" y="85"/>
                  </a:lnTo>
                  <a:lnTo>
                    <a:pt x="96" y="93"/>
                  </a:lnTo>
                  <a:lnTo>
                    <a:pt x="129" y="101"/>
                  </a:lnTo>
                  <a:lnTo>
                    <a:pt x="159" y="104"/>
                  </a:lnTo>
                  <a:lnTo>
                    <a:pt x="192" y="104"/>
                  </a:lnTo>
                  <a:lnTo>
                    <a:pt x="216" y="101"/>
                  </a:lnTo>
                  <a:lnTo>
                    <a:pt x="227" y="98"/>
                  </a:lnTo>
                  <a:lnTo>
                    <a:pt x="241" y="98"/>
                  </a:lnTo>
                  <a:lnTo>
                    <a:pt x="258" y="101"/>
                  </a:lnTo>
                  <a:lnTo>
                    <a:pt x="274" y="107"/>
                  </a:lnTo>
                  <a:lnTo>
                    <a:pt x="310" y="123"/>
                  </a:lnTo>
                  <a:lnTo>
                    <a:pt x="345" y="142"/>
                  </a:lnTo>
                  <a:lnTo>
                    <a:pt x="384" y="164"/>
                  </a:lnTo>
                  <a:lnTo>
                    <a:pt x="416" y="186"/>
                  </a:lnTo>
                  <a:lnTo>
                    <a:pt x="447" y="203"/>
                  </a:lnTo>
                  <a:lnTo>
                    <a:pt x="469" y="214"/>
                  </a:lnTo>
                  <a:lnTo>
                    <a:pt x="545" y="252"/>
                  </a:lnTo>
                  <a:lnTo>
                    <a:pt x="625" y="302"/>
                  </a:lnTo>
                  <a:lnTo>
                    <a:pt x="710" y="354"/>
                  </a:lnTo>
                  <a:lnTo>
                    <a:pt x="795" y="406"/>
                  </a:lnTo>
                  <a:lnTo>
                    <a:pt x="838" y="431"/>
                  </a:lnTo>
                  <a:lnTo>
                    <a:pt x="880" y="455"/>
                  </a:lnTo>
                  <a:lnTo>
                    <a:pt x="923" y="477"/>
                  </a:lnTo>
                  <a:lnTo>
                    <a:pt x="964" y="496"/>
                  </a:lnTo>
                  <a:lnTo>
                    <a:pt x="1008" y="510"/>
                  </a:lnTo>
                  <a:lnTo>
                    <a:pt x="1049" y="521"/>
                  </a:lnTo>
                  <a:lnTo>
                    <a:pt x="1091" y="529"/>
                  </a:lnTo>
                  <a:lnTo>
                    <a:pt x="1132" y="532"/>
                  </a:lnTo>
                  <a:lnTo>
                    <a:pt x="1132" y="529"/>
                  </a:lnTo>
                  <a:lnTo>
                    <a:pt x="1134" y="527"/>
                  </a:lnTo>
                  <a:lnTo>
                    <a:pt x="1137" y="524"/>
                  </a:lnTo>
                  <a:lnTo>
                    <a:pt x="1140" y="521"/>
                  </a:lnTo>
                  <a:lnTo>
                    <a:pt x="1143" y="518"/>
                  </a:lnTo>
                  <a:lnTo>
                    <a:pt x="1145" y="516"/>
                  </a:lnTo>
                  <a:lnTo>
                    <a:pt x="1148" y="516"/>
                  </a:lnTo>
                  <a:lnTo>
                    <a:pt x="1151" y="513"/>
                  </a:lnTo>
                  <a:lnTo>
                    <a:pt x="1151" y="505"/>
                  </a:lnTo>
                  <a:lnTo>
                    <a:pt x="1156" y="496"/>
                  </a:lnTo>
                  <a:lnTo>
                    <a:pt x="1162" y="488"/>
                  </a:lnTo>
                  <a:lnTo>
                    <a:pt x="1167" y="477"/>
                  </a:lnTo>
                  <a:lnTo>
                    <a:pt x="1173" y="469"/>
                  </a:lnTo>
                  <a:lnTo>
                    <a:pt x="1178" y="461"/>
                  </a:lnTo>
                  <a:lnTo>
                    <a:pt x="1181" y="452"/>
                  </a:lnTo>
                  <a:lnTo>
                    <a:pt x="1184" y="447"/>
                  </a:lnTo>
                  <a:lnTo>
                    <a:pt x="1189" y="447"/>
                  </a:lnTo>
                  <a:lnTo>
                    <a:pt x="1195" y="447"/>
                  </a:lnTo>
                  <a:lnTo>
                    <a:pt x="1203" y="444"/>
                  </a:lnTo>
                  <a:lnTo>
                    <a:pt x="1208" y="444"/>
                  </a:lnTo>
                  <a:lnTo>
                    <a:pt x="1214" y="442"/>
                  </a:lnTo>
                  <a:lnTo>
                    <a:pt x="1219" y="439"/>
                  </a:lnTo>
                  <a:lnTo>
                    <a:pt x="1225" y="436"/>
                  </a:lnTo>
                  <a:lnTo>
                    <a:pt x="1228" y="433"/>
                  </a:lnTo>
                  <a:lnTo>
                    <a:pt x="1244" y="428"/>
                  </a:lnTo>
                  <a:lnTo>
                    <a:pt x="1271" y="420"/>
                  </a:lnTo>
                  <a:lnTo>
                    <a:pt x="1304" y="403"/>
                  </a:lnTo>
                  <a:lnTo>
                    <a:pt x="1340" y="387"/>
                  </a:lnTo>
                  <a:lnTo>
                    <a:pt x="1373" y="367"/>
                  </a:lnTo>
                  <a:lnTo>
                    <a:pt x="1403" y="351"/>
                  </a:lnTo>
                  <a:lnTo>
                    <a:pt x="1414" y="343"/>
                  </a:lnTo>
                  <a:lnTo>
                    <a:pt x="1422" y="334"/>
                  </a:lnTo>
                  <a:lnTo>
                    <a:pt x="1428" y="329"/>
                  </a:lnTo>
                  <a:lnTo>
                    <a:pt x="1430" y="323"/>
                  </a:lnTo>
                  <a:lnTo>
                    <a:pt x="1433" y="323"/>
                  </a:lnTo>
                  <a:lnTo>
                    <a:pt x="1433" y="323"/>
                  </a:lnTo>
                  <a:lnTo>
                    <a:pt x="1436" y="321"/>
                  </a:lnTo>
                  <a:lnTo>
                    <a:pt x="1436" y="321"/>
                  </a:lnTo>
                  <a:lnTo>
                    <a:pt x="1436" y="321"/>
                  </a:lnTo>
                  <a:lnTo>
                    <a:pt x="1436" y="318"/>
                  </a:lnTo>
                  <a:lnTo>
                    <a:pt x="1436" y="318"/>
                  </a:lnTo>
                  <a:lnTo>
                    <a:pt x="1439" y="318"/>
                  </a:lnTo>
                  <a:lnTo>
                    <a:pt x="1441" y="299"/>
                  </a:lnTo>
                  <a:lnTo>
                    <a:pt x="1441" y="280"/>
                  </a:lnTo>
                  <a:lnTo>
                    <a:pt x="1441" y="258"/>
                  </a:lnTo>
                  <a:lnTo>
                    <a:pt x="1444" y="236"/>
                  </a:lnTo>
                  <a:lnTo>
                    <a:pt x="1447" y="216"/>
                  </a:lnTo>
                  <a:lnTo>
                    <a:pt x="1447" y="194"/>
                  </a:lnTo>
                  <a:lnTo>
                    <a:pt x="1449" y="173"/>
                  </a:lnTo>
                  <a:lnTo>
                    <a:pt x="1452" y="153"/>
                  </a:lnTo>
                  <a:close/>
                </a:path>
              </a:pathLst>
            </a:custGeom>
            <a:solidFill>
              <a:srgbClr val="d4b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373360" y="6474240"/>
              <a:ext cx="308160" cy="205920"/>
            </a:xfrm>
            <a:custGeom>
              <a:avLst/>
              <a:gdLst/>
              <a:ahLst/>
              <a:rect l="l" t="t" r="r" b="b"/>
              <a:pathLst>
                <a:path w="658" h="494">
                  <a:moveTo>
                    <a:pt x="548" y="307"/>
                  </a:moveTo>
                  <a:lnTo>
                    <a:pt x="121" y="38"/>
                  </a:lnTo>
                  <a:lnTo>
                    <a:pt x="121" y="33"/>
                  </a:lnTo>
                  <a:lnTo>
                    <a:pt x="113" y="33"/>
                  </a:lnTo>
                  <a:lnTo>
                    <a:pt x="104" y="30"/>
                  </a:lnTo>
                  <a:lnTo>
                    <a:pt x="96" y="24"/>
                  </a:lnTo>
                  <a:lnTo>
                    <a:pt x="88" y="22"/>
                  </a:lnTo>
                  <a:lnTo>
                    <a:pt x="77" y="16"/>
                  </a:lnTo>
                  <a:lnTo>
                    <a:pt x="69" y="13"/>
                  </a:lnTo>
                  <a:lnTo>
                    <a:pt x="60" y="11"/>
                  </a:lnTo>
                  <a:lnTo>
                    <a:pt x="50" y="8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0" y="44"/>
                  </a:lnTo>
                  <a:lnTo>
                    <a:pt x="0" y="74"/>
                  </a:lnTo>
                  <a:lnTo>
                    <a:pt x="3" y="99"/>
                  </a:lnTo>
                  <a:lnTo>
                    <a:pt x="11" y="120"/>
                  </a:lnTo>
                  <a:lnTo>
                    <a:pt x="22" y="137"/>
                  </a:lnTo>
                  <a:lnTo>
                    <a:pt x="41" y="156"/>
                  </a:lnTo>
                  <a:lnTo>
                    <a:pt x="60" y="175"/>
                  </a:lnTo>
                  <a:lnTo>
                    <a:pt x="88" y="195"/>
                  </a:lnTo>
                  <a:lnTo>
                    <a:pt x="145" y="236"/>
                  </a:lnTo>
                  <a:lnTo>
                    <a:pt x="208" y="282"/>
                  </a:lnTo>
                  <a:lnTo>
                    <a:pt x="280" y="332"/>
                  </a:lnTo>
                  <a:lnTo>
                    <a:pt x="356" y="381"/>
                  </a:lnTo>
                  <a:lnTo>
                    <a:pt x="395" y="403"/>
                  </a:lnTo>
                  <a:lnTo>
                    <a:pt x="433" y="425"/>
                  </a:lnTo>
                  <a:lnTo>
                    <a:pt x="474" y="444"/>
                  </a:lnTo>
                  <a:lnTo>
                    <a:pt x="513" y="461"/>
                  </a:lnTo>
                  <a:lnTo>
                    <a:pt x="548" y="475"/>
                  </a:lnTo>
                  <a:lnTo>
                    <a:pt x="587" y="486"/>
                  </a:lnTo>
                  <a:lnTo>
                    <a:pt x="622" y="491"/>
                  </a:lnTo>
                  <a:lnTo>
                    <a:pt x="658" y="494"/>
                  </a:lnTo>
                  <a:lnTo>
                    <a:pt x="655" y="477"/>
                  </a:lnTo>
                  <a:lnTo>
                    <a:pt x="652" y="461"/>
                  </a:lnTo>
                  <a:lnTo>
                    <a:pt x="644" y="444"/>
                  </a:lnTo>
                  <a:lnTo>
                    <a:pt x="639" y="428"/>
                  </a:lnTo>
                  <a:lnTo>
                    <a:pt x="630" y="411"/>
                  </a:lnTo>
                  <a:lnTo>
                    <a:pt x="625" y="395"/>
                  </a:lnTo>
                  <a:lnTo>
                    <a:pt x="619" y="384"/>
                  </a:lnTo>
                  <a:lnTo>
                    <a:pt x="619" y="376"/>
                  </a:lnTo>
                  <a:lnTo>
                    <a:pt x="614" y="376"/>
                  </a:lnTo>
                  <a:lnTo>
                    <a:pt x="608" y="376"/>
                  </a:lnTo>
                  <a:lnTo>
                    <a:pt x="608" y="373"/>
                  </a:lnTo>
                  <a:lnTo>
                    <a:pt x="606" y="370"/>
                  </a:lnTo>
                  <a:lnTo>
                    <a:pt x="603" y="368"/>
                  </a:lnTo>
                  <a:lnTo>
                    <a:pt x="600" y="365"/>
                  </a:lnTo>
                  <a:lnTo>
                    <a:pt x="595" y="359"/>
                  </a:lnTo>
                  <a:lnTo>
                    <a:pt x="592" y="359"/>
                  </a:lnTo>
                  <a:lnTo>
                    <a:pt x="589" y="357"/>
                  </a:lnTo>
                  <a:lnTo>
                    <a:pt x="587" y="357"/>
                  </a:lnTo>
                  <a:lnTo>
                    <a:pt x="584" y="351"/>
                  </a:lnTo>
                  <a:lnTo>
                    <a:pt x="584" y="346"/>
                  </a:lnTo>
                  <a:lnTo>
                    <a:pt x="581" y="340"/>
                  </a:lnTo>
                  <a:lnTo>
                    <a:pt x="576" y="337"/>
                  </a:lnTo>
                  <a:lnTo>
                    <a:pt x="573" y="332"/>
                  </a:lnTo>
                  <a:lnTo>
                    <a:pt x="570" y="329"/>
                  </a:lnTo>
                  <a:lnTo>
                    <a:pt x="567" y="324"/>
                  </a:lnTo>
                  <a:lnTo>
                    <a:pt x="567" y="318"/>
                  </a:lnTo>
                  <a:lnTo>
                    <a:pt x="548" y="307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395320" y="6490080"/>
              <a:ext cx="261720" cy="173520"/>
            </a:xfrm>
            <a:custGeom>
              <a:avLst/>
              <a:gdLst/>
              <a:ahLst/>
              <a:rect l="l" t="t" r="r" b="b"/>
              <a:pathLst>
                <a:path w="559" h="417">
                  <a:moveTo>
                    <a:pt x="466" y="261"/>
                  </a:moveTo>
                  <a:lnTo>
                    <a:pt x="422" y="231"/>
                  </a:lnTo>
                  <a:lnTo>
                    <a:pt x="375" y="203"/>
                  </a:lnTo>
                  <a:lnTo>
                    <a:pt x="331" y="173"/>
                  </a:lnTo>
                  <a:lnTo>
                    <a:pt x="285" y="146"/>
                  </a:lnTo>
                  <a:lnTo>
                    <a:pt x="241" y="115"/>
                  </a:lnTo>
                  <a:lnTo>
                    <a:pt x="194" y="88"/>
                  </a:lnTo>
                  <a:lnTo>
                    <a:pt x="150" y="58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98" y="25"/>
                  </a:lnTo>
                  <a:lnTo>
                    <a:pt x="90" y="22"/>
                  </a:lnTo>
                  <a:lnTo>
                    <a:pt x="82" y="19"/>
                  </a:lnTo>
                  <a:lnTo>
                    <a:pt x="77" y="17"/>
                  </a:lnTo>
                  <a:lnTo>
                    <a:pt x="68" y="11"/>
                  </a:lnTo>
                  <a:lnTo>
                    <a:pt x="60" y="8"/>
                  </a:lnTo>
                  <a:lnTo>
                    <a:pt x="52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3"/>
                  </a:lnTo>
                  <a:lnTo>
                    <a:pt x="13" y="3"/>
                  </a:lnTo>
                  <a:lnTo>
                    <a:pt x="11" y="6"/>
                  </a:lnTo>
                  <a:lnTo>
                    <a:pt x="8" y="6"/>
                  </a:lnTo>
                  <a:lnTo>
                    <a:pt x="3" y="36"/>
                  </a:lnTo>
                  <a:lnTo>
                    <a:pt x="0" y="61"/>
                  </a:lnTo>
                  <a:lnTo>
                    <a:pt x="3" y="82"/>
                  </a:lnTo>
                  <a:lnTo>
                    <a:pt x="11" y="99"/>
                  </a:lnTo>
                  <a:lnTo>
                    <a:pt x="22" y="115"/>
                  </a:lnTo>
                  <a:lnTo>
                    <a:pt x="35" y="132"/>
                  </a:lnTo>
                  <a:lnTo>
                    <a:pt x="55" y="146"/>
                  </a:lnTo>
                  <a:lnTo>
                    <a:pt x="77" y="165"/>
                  </a:lnTo>
                  <a:lnTo>
                    <a:pt x="123" y="198"/>
                  </a:lnTo>
                  <a:lnTo>
                    <a:pt x="178" y="239"/>
                  </a:lnTo>
                  <a:lnTo>
                    <a:pt x="241" y="280"/>
                  </a:lnTo>
                  <a:lnTo>
                    <a:pt x="304" y="321"/>
                  </a:lnTo>
                  <a:lnTo>
                    <a:pt x="370" y="360"/>
                  </a:lnTo>
                  <a:lnTo>
                    <a:pt x="435" y="390"/>
                  </a:lnTo>
                  <a:lnTo>
                    <a:pt x="468" y="401"/>
                  </a:lnTo>
                  <a:lnTo>
                    <a:pt x="498" y="409"/>
                  </a:lnTo>
                  <a:lnTo>
                    <a:pt x="531" y="415"/>
                  </a:lnTo>
                  <a:lnTo>
                    <a:pt x="559" y="417"/>
                  </a:lnTo>
                  <a:lnTo>
                    <a:pt x="559" y="404"/>
                  </a:lnTo>
                  <a:lnTo>
                    <a:pt x="553" y="390"/>
                  </a:lnTo>
                  <a:lnTo>
                    <a:pt x="551" y="376"/>
                  </a:lnTo>
                  <a:lnTo>
                    <a:pt x="542" y="362"/>
                  </a:lnTo>
                  <a:lnTo>
                    <a:pt x="537" y="349"/>
                  </a:lnTo>
                  <a:lnTo>
                    <a:pt x="531" y="335"/>
                  </a:lnTo>
                  <a:lnTo>
                    <a:pt x="529" y="324"/>
                  </a:lnTo>
                  <a:lnTo>
                    <a:pt x="529" y="316"/>
                  </a:lnTo>
                  <a:lnTo>
                    <a:pt x="526" y="316"/>
                  </a:lnTo>
                  <a:lnTo>
                    <a:pt x="526" y="316"/>
                  </a:lnTo>
                  <a:lnTo>
                    <a:pt x="526" y="316"/>
                  </a:lnTo>
                  <a:lnTo>
                    <a:pt x="526" y="316"/>
                  </a:lnTo>
                  <a:lnTo>
                    <a:pt x="526" y="316"/>
                  </a:lnTo>
                  <a:lnTo>
                    <a:pt x="523" y="316"/>
                  </a:lnTo>
                  <a:lnTo>
                    <a:pt x="523" y="316"/>
                  </a:lnTo>
                  <a:lnTo>
                    <a:pt x="523" y="316"/>
                  </a:lnTo>
                  <a:lnTo>
                    <a:pt x="523" y="316"/>
                  </a:lnTo>
                  <a:lnTo>
                    <a:pt x="523" y="316"/>
                  </a:lnTo>
                  <a:lnTo>
                    <a:pt x="520" y="316"/>
                  </a:lnTo>
                  <a:lnTo>
                    <a:pt x="520" y="316"/>
                  </a:lnTo>
                  <a:lnTo>
                    <a:pt x="520" y="316"/>
                  </a:lnTo>
                  <a:lnTo>
                    <a:pt x="520" y="316"/>
                  </a:lnTo>
                  <a:lnTo>
                    <a:pt x="520" y="316"/>
                  </a:lnTo>
                  <a:lnTo>
                    <a:pt x="520" y="316"/>
                  </a:lnTo>
                  <a:lnTo>
                    <a:pt x="518" y="316"/>
                  </a:lnTo>
                  <a:lnTo>
                    <a:pt x="518" y="313"/>
                  </a:lnTo>
                  <a:lnTo>
                    <a:pt x="515" y="310"/>
                  </a:lnTo>
                  <a:lnTo>
                    <a:pt x="509" y="308"/>
                  </a:lnTo>
                  <a:lnTo>
                    <a:pt x="507" y="305"/>
                  </a:lnTo>
                  <a:lnTo>
                    <a:pt x="504" y="302"/>
                  </a:lnTo>
                  <a:lnTo>
                    <a:pt x="501" y="302"/>
                  </a:lnTo>
                  <a:lnTo>
                    <a:pt x="498" y="302"/>
                  </a:lnTo>
                  <a:lnTo>
                    <a:pt x="498" y="297"/>
                  </a:lnTo>
                  <a:lnTo>
                    <a:pt x="496" y="291"/>
                  </a:lnTo>
                  <a:lnTo>
                    <a:pt x="493" y="288"/>
                  </a:lnTo>
                  <a:lnTo>
                    <a:pt x="490" y="286"/>
                  </a:lnTo>
                  <a:lnTo>
                    <a:pt x="488" y="280"/>
                  </a:lnTo>
                  <a:lnTo>
                    <a:pt x="485" y="277"/>
                  </a:lnTo>
                  <a:lnTo>
                    <a:pt x="485" y="272"/>
                  </a:lnTo>
                  <a:lnTo>
                    <a:pt x="482" y="269"/>
                  </a:lnTo>
                  <a:lnTo>
                    <a:pt x="482" y="266"/>
                  </a:lnTo>
                  <a:lnTo>
                    <a:pt x="479" y="266"/>
                  </a:lnTo>
                  <a:lnTo>
                    <a:pt x="477" y="266"/>
                  </a:lnTo>
                  <a:lnTo>
                    <a:pt x="474" y="264"/>
                  </a:lnTo>
                  <a:lnTo>
                    <a:pt x="474" y="264"/>
                  </a:lnTo>
                  <a:lnTo>
                    <a:pt x="471" y="264"/>
                  </a:lnTo>
                  <a:lnTo>
                    <a:pt x="468" y="261"/>
                  </a:lnTo>
                  <a:lnTo>
                    <a:pt x="466" y="261"/>
                  </a:lnTo>
                  <a:close/>
                </a:path>
              </a:pathLst>
            </a:custGeom>
            <a:solidFill>
              <a:srgbClr val="f7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18360" y="6504840"/>
              <a:ext cx="215280" cy="142920"/>
            </a:xfrm>
            <a:custGeom>
              <a:avLst/>
              <a:gdLst/>
              <a:ahLst/>
              <a:rect l="l" t="t" r="r" b="b"/>
              <a:pathLst>
                <a:path w="460" h="343">
                  <a:moveTo>
                    <a:pt x="384" y="214"/>
                  </a:moveTo>
                  <a:lnTo>
                    <a:pt x="345" y="192"/>
                  </a:lnTo>
                  <a:lnTo>
                    <a:pt x="310" y="167"/>
                  </a:lnTo>
                  <a:lnTo>
                    <a:pt x="271" y="143"/>
                  </a:lnTo>
                  <a:lnTo>
                    <a:pt x="233" y="121"/>
                  </a:lnTo>
                  <a:lnTo>
                    <a:pt x="197" y="96"/>
                  </a:lnTo>
                  <a:lnTo>
                    <a:pt x="159" y="71"/>
                  </a:lnTo>
                  <a:lnTo>
                    <a:pt x="123" y="49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0" y="22"/>
                  </a:lnTo>
                  <a:lnTo>
                    <a:pt x="74" y="19"/>
                  </a:lnTo>
                  <a:lnTo>
                    <a:pt x="69" y="16"/>
                  </a:lnTo>
                  <a:lnTo>
                    <a:pt x="60" y="14"/>
                  </a:lnTo>
                  <a:lnTo>
                    <a:pt x="55" y="11"/>
                  </a:lnTo>
                  <a:lnTo>
                    <a:pt x="49" y="8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5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3" y="68"/>
                  </a:lnTo>
                  <a:lnTo>
                    <a:pt x="8" y="82"/>
                  </a:lnTo>
                  <a:lnTo>
                    <a:pt x="17" y="96"/>
                  </a:lnTo>
                  <a:lnTo>
                    <a:pt x="28" y="107"/>
                  </a:lnTo>
                  <a:lnTo>
                    <a:pt x="44" y="121"/>
                  </a:lnTo>
                  <a:lnTo>
                    <a:pt x="63" y="134"/>
                  </a:lnTo>
                  <a:lnTo>
                    <a:pt x="101" y="165"/>
                  </a:lnTo>
                  <a:lnTo>
                    <a:pt x="148" y="197"/>
                  </a:lnTo>
                  <a:lnTo>
                    <a:pt x="197" y="230"/>
                  </a:lnTo>
                  <a:lnTo>
                    <a:pt x="249" y="266"/>
                  </a:lnTo>
                  <a:lnTo>
                    <a:pt x="304" y="296"/>
                  </a:lnTo>
                  <a:lnTo>
                    <a:pt x="359" y="321"/>
                  </a:lnTo>
                  <a:lnTo>
                    <a:pt x="384" y="332"/>
                  </a:lnTo>
                  <a:lnTo>
                    <a:pt x="411" y="337"/>
                  </a:lnTo>
                  <a:lnTo>
                    <a:pt x="436" y="343"/>
                  </a:lnTo>
                  <a:lnTo>
                    <a:pt x="460" y="343"/>
                  </a:lnTo>
                  <a:lnTo>
                    <a:pt x="458" y="335"/>
                  </a:lnTo>
                  <a:lnTo>
                    <a:pt x="455" y="321"/>
                  </a:lnTo>
                  <a:lnTo>
                    <a:pt x="452" y="310"/>
                  </a:lnTo>
                  <a:lnTo>
                    <a:pt x="447" y="296"/>
                  </a:lnTo>
                  <a:lnTo>
                    <a:pt x="441" y="285"/>
                  </a:lnTo>
                  <a:lnTo>
                    <a:pt x="439" y="277"/>
                  </a:lnTo>
                  <a:lnTo>
                    <a:pt x="436" y="266"/>
                  </a:lnTo>
                  <a:lnTo>
                    <a:pt x="433" y="261"/>
                  </a:lnTo>
                  <a:lnTo>
                    <a:pt x="433" y="261"/>
                  </a:lnTo>
                  <a:lnTo>
                    <a:pt x="433" y="261"/>
                  </a:lnTo>
                  <a:lnTo>
                    <a:pt x="433" y="261"/>
                  </a:lnTo>
                  <a:lnTo>
                    <a:pt x="433" y="261"/>
                  </a:lnTo>
                  <a:lnTo>
                    <a:pt x="430" y="261"/>
                  </a:lnTo>
                  <a:lnTo>
                    <a:pt x="430" y="261"/>
                  </a:lnTo>
                  <a:lnTo>
                    <a:pt x="430" y="261"/>
                  </a:lnTo>
                  <a:lnTo>
                    <a:pt x="430" y="261"/>
                  </a:lnTo>
                  <a:lnTo>
                    <a:pt x="430" y="261"/>
                  </a:lnTo>
                  <a:lnTo>
                    <a:pt x="430" y="261"/>
                  </a:lnTo>
                  <a:lnTo>
                    <a:pt x="428" y="261"/>
                  </a:lnTo>
                  <a:lnTo>
                    <a:pt x="428" y="261"/>
                  </a:lnTo>
                  <a:lnTo>
                    <a:pt x="428" y="261"/>
                  </a:lnTo>
                  <a:lnTo>
                    <a:pt x="428" y="261"/>
                  </a:lnTo>
                  <a:lnTo>
                    <a:pt x="428" y="261"/>
                  </a:lnTo>
                  <a:lnTo>
                    <a:pt x="428" y="261"/>
                  </a:lnTo>
                  <a:lnTo>
                    <a:pt x="428" y="261"/>
                  </a:lnTo>
                  <a:lnTo>
                    <a:pt x="425" y="258"/>
                  </a:lnTo>
                  <a:lnTo>
                    <a:pt x="422" y="255"/>
                  </a:lnTo>
                  <a:lnTo>
                    <a:pt x="419" y="252"/>
                  </a:lnTo>
                  <a:lnTo>
                    <a:pt x="417" y="252"/>
                  </a:lnTo>
                  <a:lnTo>
                    <a:pt x="414" y="250"/>
                  </a:lnTo>
                  <a:lnTo>
                    <a:pt x="411" y="247"/>
                  </a:lnTo>
                  <a:lnTo>
                    <a:pt x="411" y="247"/>
                  </a:lnTo>
                  <a:lnTo>
                    <a:pt x="408" y="244"/>
                  </a:lnTo>
                  <a:lnTo>
                    <a:pt x="408" y="241"/>
                  </a:lnTo>
                  <a:lnTo>
                    <a:pt x="406" y="239"/>
                  </a:lnTo>
                  <a:lnTo>
                    <a:pt x="403" y="233"/>
                  </a:lnTo>
                  <a:lnTo>
                    <a:pt x="400" y="230"/>
                  </a:lnTo>
                  <a:lnTo>
                    <a:pt x="400" y="228"/>
                  </a:lnTo>
                  <a:lnTo>
                    <a:pt x="397" y="225"/>
                  </a:lnTo>
                  <a:lnTo>
                    <a:pt x="397" y="222"/>
                  </a:lnTo>
                  <a:lnTo>
                    <a:pt x="395" y="219"/>
                  </a:lnTo>
                  <a:lnTo>
                    <a:pt x="395" y="219"/>
                  </a:lnTo>
                  <a:lnTo>
                    <a:pt x="392" y="219"/>
                  </a:lnTo>
                  <a:lnTo>
                    <a:pt x="389" y="217"/>
                  </a:lnTo>
                  <a:lnTo>
                    <a:pt x="389" y="217"/>
                  </a:lnTo>
                  <a:lnTo>
                    <a:pt x="386" y="217"/>
                  </a:lnTo>
                  <a:lnTo>
                    <a:pt x="386" y="214"/>
                  </a:lnTo>
                  <a:lnTo>
                    <a:pt x="384" y="214"/>
                  </a:lnTo>
                  <a:close/>
                </a:path>
              </a:pathLst>
            </a:custGeom>
            <a:solidFill>
              <a:srgbClr val="f9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40320" y="6519960"/>
              <a:ext cx="168840" cy="112680"/>
            </a:xfrm>
            <a:custGeom>
              <a:avLst/>
              <a:gdLst/>
              <a:ahLst/>
              <a:rect l="l" t="t" r="r" b="b"/>
              <a:pathLst>
                <a:path w="361" h="271">
                  <a:moveTo>
                    <a:pt x="304" y="170"/>
                  </a:moveTo>
                  <a:lnTo>
                    <a:pt x="274" y="150"/>
                  </a:lnTo>
                  <a:lnTo>
                    <a:pt x="244" y="131"/>
                  </a:lnTo>
                  <a:lnTo>
                    <a:pt x="213" y="112"/>
                  </a:lnTo>
                  <a:lnTo>
                    <a:pt x="186" y="93"/>
                  </a:lnTo>
                  <a:lnTo>
                    <a:pt x="156" y="76"/>
                  </a:lnTo>
                  <a:lnTo>
                    <a:pt x="126" y="57"/>
                  </a:lnTo>
                  <a:lnTo>
                    <a:pt x="98" y="38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3" y="16"/>
                  </a:lnTo>
                  <a:lnTo>
                    <a:pt x="60" y="16"/>
                  </a:lnTo>
                  <a:lnTo>
                    <a:pt x="54" y="13"/>
                  </a:lnTo>
                  <a:lnTo>
                    <a:pt x="49" y="10"/>
                  </a:lnTo>
                  <a:lnTo>
                    <a:pt x="44" y="8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5"/>
                  </a:lnTo>
                  <a:lnTo>
                    <a:pt x="2" y="24"/>
                  </a:lnTo>
                  <a:lnTo>
                    <a:pt x="0" y="41"/>
                  </a:lnTo>
                  <a:lnTo>
                    <a:pt x="2" y="54"/>
                  </a:lnTo>
                  <a:lnTo>
                    <a:pt x="8" y="65"/>
                  </a:lnTo>
                  <a:lnTo>
                    <a:pt x="13" y="74"/>
                  </a:lnTo>
                  <a:lnTo>
                    <a:pt x="24" y="85"/>
                  </a:lnTo>
                  <a:lnTo>
                    <a:pt x="35" y="96"/>
                  </a:lnTo>
                  <a:lnTo>
                    <a:pt x="49" y="107"/>
                  </a:lnTo>
                  <a:lnTo>
                    <a:pt x="82" y="129"/>
                  </a:lnTo>
                  <a:lnTo>
                    <a:pt x="118" y="156"/>
                  </a:lnTo>
                  <a:lnTo>
                    <a:pt x="156" y="181"/>
                  </a:lnTo>
                  <a:lnTo>
                    <a:pt x="197" y="208"/>
                  </a:lnTo>
                  <a:lnTo>
                    <a:pt x="241" y="233"/>
                  </a:lnTo>
                  <a:lnTo>
                    <a:pt x="282" y="252"/>
                  </a:lnTo>
                  <a:lnTo>
                    <a:pt x="304" y="260"/>
                  </a:lnTo>
                  <a:lnTo>
                    <a:pt x="323" y="266"/>
                  </a:lnTo>
                  <a:lnTo>
                    <a:pt x="342" y="269"/>
                  </a:lnTo>
                  <a:lnTo>
                    <a:pt x="361" y="271"/>
                  </a:lnTo>
                  <a:lnTo>
                    <a:pt x="361" y="263"/>
                  </a:lnTo>
                  <a:lnTo>
                    <a:pt x="359" y="252"/>
                  </a:lnTo>
                  <a:lnTo>
                    <a:pt x="356" y="244"/>
                  </a:lnTo>
                  <a:lnTo>
                    <a:pt x="353" y="233"/>
                  </a:lnTo>
                  <a:lnTo>
                    <a:pt x="348" y="225"/>
                  </a:lnTo>
                  <a:lnTo>
                    <a:pt x="345" y="216"/>
                  </a:lnTo>
                  <a:lnTo>
                    <a:pt x="342" y="211"/>
                  </a:lnTo>
                  <a:lnTo>
                    <a:pt x="342" y="205"/>
                  </a:lnTo>
                  <a:lnTo>
                    <a:pt x="342" y="205"/>
                  </a:lnTo>
                  <a:lnTo>
                    <a:pt x="342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9" y="205"/>
                  </a:lnTo>
                  <a:lnTo>
                    <a:pt x="337" y="205"/>
                  </a:lnTo>
                  <a:lnTo>
                    <a:pt x="337" y="205"/>
                  </a:lnTo>
                  <a:lnTo>
                    <a:pt x="337" y="205"/>
                  </a:lnTo>
                  <a:lnTo>
                    <a:pt x="337" y="205"/>
                  </a:lnTo>
                  <a:lnTo>
                    <a:pt x="337" y="205"/>
                  </a:lnTo>
                  <a:lnTo>
                    <a:pt x="337" y="205"/>
                  </a:lnTo>
                  <a:lnTo>
                    <a:pt x="337" y="203"/>
                  </a:lnTo>
                  <a:lnTo>
                    <a:pt x="334" y="203"/>
                  </a:lnTo>
                  <a:lnTo>
                    <a:pt x="334" y="200"/>
                  </a:lnTo>
                  <a:lnTo>
                    <a:pt x="331" y="200"/>
                  </a:lnTo>
                  <a:lnTo>
                    <a:pt x="328" y="197"/>
                  </a:lnTo>
                  <a:lnTo>
                    <a:pt x="326" y="197"/>
                  </a:lnTo>
                  <a:lnTo>
                    <a:pt x="326" y="194"/>
                  </a:lnTo>
                  <a:lnTo>
                    <a:pt x="323" y="194"/>
                  </a:lnTo>
                  <a:lnTo>
                    <a:pt x="323" y="192"/>
                  </a:lnTo>
                  <a:lnTo>
                    <a:pt x="323" y="189"/>
                  </a:lnTo>
                  <a:lnTo>
                    <a:pt x="320" y="186"/>
                  </a:lnTo>
                  <a:lnTo>
                    <a:pt x="318" y="183"/>
                  </a:lnTo>
                  <a:lnTo>
                    <a:pt x="318" y="181"/>
                  </a:lnTo>
                  <a:lnTo>
                    <a:pt x="315" y="178"/>
                  </a:lnTo>
                  <a:lnTo>
                    <a:pt x="315" y="175"/>
                  </a:lnTo>
                  <a:lnTo>
                    <a:pt x="312" y="172"/>
                  </a:lnTo>
                  <a:lnTo>
                    <a:pt x="312" y="172"/>
                  </a:lnTo>
                  <a:lnTo>
                    <a:pt x="309" y="172"/>
                  </a:lnTo>
                  <a:lnTo>
                    <a:pt x="309" y="172"/>
                  </a:lnTo>
                  <a:lnTo>
                    <a:pt x="307" y="172"/>
                  </a:lnTo>
                  <a:lnTo>
                    <a:pt x="307" y="170"/>
                  </a:lnTo>
                  <a:lnTo>
                    <a:pt x="304" y="170"/>
                  </a:lnTo>
                  <a:lnTo>
                    <a:pt x="304" y="170"/>
                  </a:lnTo>
                  <a:lnTo>
                    <a:pt x="304" y="170"/>
                  </a:lnTo>
                  <a:close/>
                </a:path>
              </a:pathLst>
            </a:custGeom>
            <a:solidFill>
              <a:srgbClr val="fbe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63360" y="6534720"/>
              <a:ext cx="123120" cy="82440"/>
            </a:xfrm>
            <a:custGeom>
              <a:avLst/>
              <a:gdLst/>
              <a:ahLst/>
              <a:rect l="l" t="t" r="r" b="b"/>
              <a:pathLst>
                <a:path w="263" h="198">
                  <a:moveTo>
                    <a:pt x="219" y="124"/>
                  </a:moveTo>
                  <a:lnTo>
                    <a:pt x="197" y="110"/>
                  </a:lnTo>
                  <a:lnTo>
                    <a:pt x="175" y="96"/>
                  </a:lnTo>
                  <a:lnTo>
                    <a:pt x="156" y="83"/>
                  </a:lnTo>
                  <a:lnTo>
                    <a:pt x="134" y="69"/>
                  </a:lnTo>
                  <a:lnTo>
                    <a:pt x="112" y="55"/>
                  </a:lnTo>
                  <a:lnTo>
                    <a:pt x="90" y="41"/>
                  </a:lnTo>
                  <a:lnTo>
                    <a:pt x="71" y="28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1" y="11"/>
                  </a:lnTo>
                  <a:lnTo>
                    <a:pt x="38" y="11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8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5" y="47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9"/>
                  </a:lnTo>
                  <a:lnTo>
                    <a:pt x="36" y="77"/>
                  </a:lnTo>
                  <a:lnTo>
                    <a:pt x="58" y="94"/>
                  </a:lnTo>
                  <a:lnTo>
                    <a:pt x="85" y="113"/>
                  </a:lnTo>
                  <a:lnTo>
                    <a:pt x="112" y="132"/>
                  </a:lnTo>
                  <a:lnTo>
                    <a:pt x="142" y="154"/>
                  </a:lnTo>
                  <a:lnTo>
                    <a:pt x="173" y="170"/>
                  </a:lnTo>
                  <a:lnTo>
                    <a:pt x="206" y="184"/>
                  </a:lnTo>
                  <a:lnTo>
                    <a:pt x="236" y="195"/>
                  </a:lnTo>
                  <a:lnTo>
                    <a:pt x="263" y="198"/>
                  </a:lnTo>
                  <a:lnTo>
                    <a:pt x="263" y="192"/>
                  </a:lnTo>
                  <a:lnTo>
                    <a:pt x="260" y="184"/>
                  </a:lnTo>
                  <a:lnTo>
                    <a:pt x="258" y="179"/>
                  </a:lnTo>
                  <a:lnTo>
                    <a:pt x="255" y="170"/>
                  </a:lnTo>
                  <a:lnTo>
                    <a:pt x="252" y="165"/>
                  </a:lnTo>
                  <a:lnTo>
                    <a:pt x="249" y="159"/>
                  </a:lnTo>
                  <a:lnTo>
                    <a:pt x="249" y="154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7" y="151"/>
                  </a:lnTo>
                  <a:lnTo>
                    <a:pt x="244" y="151"/>
                  </a:lnTo>
                  <a:lnTo>
                    <a:pt x="244" y="151"/>
                  </a:lnTo>
                  <a:lnTo>
                    <a:pt x="244" y="151"/>
                  </a:lnTo>
                  <a:lnTo>
                    <a:pt x="244" y="151"/>
                  </a:lnTo>
                  <a:lnTo>
                    <a:pt x="244" y="151"/>
                  </a:lnTo>
                  <a:lnTo>
                    <a:pt x="244" y="148"/>
                  </a:lnTo>
                  <a:lnTo>
                    <a:pt x="244" y="148"/>
                  </a:lnTo>
                  <a:lnTo>
                    <a:pt x="241" y="146"/>
                  </a:lnTo>
                  <a:lnTo>
                    <a:pt x="241" y="146"/>
                  </a:lnTo>
                  <a:lnTo>
                    <a:pt x="238" y="146"/>
                  </a:lnTo>
                  <a:lnTo>
                    <a:pt x="236" y="143"/>
                  </a:lnTo>
                  <a:lnTo>
                    <a:pt x="236" y="143"/>
                  </a:lnTo>
                  <a:lnTo>
                    <a:pt x="236" y="143"/>
                  </a:lnTo>
                  <a:lnTo>
                    <a:pt x="233" y="140"/>
                  </a:lnTo>
                  <a:lnTo>
                    <a:pt x="233" y="137"/>
                  </a:lnTo>
                  <a:lnTo>
                    <a:pt x="233" y="137"/>
                  </a:lnTo>
                  <a:lnTo>
                    <a:pt x="230" y="135"/>
                  </a:lnTo>
                  <a:lnTo>
                    <a:pt x="230" y="132"/>
                  </a:lnTo>
                  <a:lnTo>
                    <a:pt x="227" y="132"/>
                  </a:lnTo>
                  <a:lnTo>
                    <a:pt x="227" y="129"/>
                  </a:lnTo>
                  <a:lnTo>
                    <a:pt x="227" y="126"/>
                  </a:lnTo>
                  <a:lnTo>
                    <a:pt x="225" y="126"/>
                  </a:lnTo>
                  <a:lnTo>
                    <a:pt x="225" y="126"/>
                  </a:lnTo>
                  <a:lnTo>
                    <a:pt x="225" y="126"/>
                  </a:lnTo>
                  <a:lnTo>
                    <a:pt x="222" y="126"/>
                  </a:lnTo>
                  <a:lnTo>
                    <a:pt x="222" y="124"/>
                  </a:lnTo>
                  <a:lnTo>
                    <a:pt x="222" y="124"/>
                  </a:lnTo>
                  <a:lnTo>
                    <a:pt x="219" y="124"/>
                  </a:lnTo>
                  <a:lnTo>
                    <a:pt x="219" y="124"/>
                  </a:lnTo>
                  <a:close/>
                </a:path>
              </a:pathLst>
            </a:custGeom>
            <a:solidFill>
              <a:srgbClr val="fde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86400" y="6549480"/>
              <a:ext cx="77040" cy="51120"/>
            </a:xfrm>
            <a:custGeom>
              <a:avLst/>
              <a:gdLst/>
              <a:ahLst/>
              <a:rect l="l" t="t" r="r" b="b"/>
              <a:pathLst>
                <a:path w="165" h="123">
                  <a:moveTo>
                    <a:pt x="137" y="77"/>
                  </a:moveTo>
                  <a:lnTo>
                    <a:pt x="30" y="11"/>
                  </a:lnTo>
                  <a:lnTo>
                    <a:pt x="30" y="8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9" y="38"/>
                  </a:lnTo>
                  <a:lnTo>
                    <a:pt x="14" y="44"/>
                  </a:lnTo>
                  <a:lnTo>
                    <a:pt x="22" y="49"/>
                  </a:lnTo>
                  <a:lnTo>
                    <a:pt x="36" y="60"/>
                  </a:lnTo>
                  <a:lnTo>
                    <a:pt x="52" y="71"/>
                  </a:lnTo>
                  <a:lnTo>
                    <a:pt x="69" y="85"/>
                  </a:lnTo>
                  <a:lnTo>
                    <a:pt x="88" y="96"/>
                  </a:lnTo>
                  <a:lnTo>
                    <a:pt x="107" y="107"/>
                  </a:lnTo>
                  <a:lnTo>
                    <a:pt x="126" y="115"/>
                  </a:lnTo>
                  <a:lnTo>
                    <a:pt x="146" y="121"/>
                  </a:lnTo>
                  <a:lnTo>
                    <a:pt x="165" y="123"/>
                  </a:lnTo>
                  <a:lnTo>
                    <a:pt x="162" y="121"/>
                  </a:lnTo>
                  <a:lnTo>
                    <a:pt x="162" y="115"/>
                  </a:lnTo>
                  <a:lnTo>
                    <a:pt x="159" y="112"/>
                  </a:lnTo>
                  <a:lnTo>
                    <a:pt x="159" y="107"/>
                  </a:lnTo>
                  <a:lnTo>
                    <a:pt x="157" y="104"/>
                  </a:lnTo>
                  <a:lnTo>
                    <a:pt x="157" y="99"/>
                  </a:lnTo>
                  <a:lnTo>
                    <a:pt x="154" y="96"/>
                  </a:lnTo>
                  <a:lnTo>
                    <a:pt x="154" y="93"/>
                  </a:lnTo>
                  <a:lnTo>
                    <a:pt x="154" y="93"/>
                  </a:lnTo>
                  <a:lnTo>
                    <a:pt x="151" y="93"/>
                  </a:lnTo>
                  <a:lnTo>
                    <a:pt x="151" y="93"/>
                  </a:lnTo>
                  <a:lnTo>
                    <a:pt x="151" y="93"/>
                  </a:lnTo>
                  <a:lnTo>
                    <a:pt x="151" y="93"/>
                  </a:lnTo>
                  <a:lnTo>
                    <a:pt x="148" y="90"/>
                  </a:lnTo>
                  <a:lnTo>
                    <a:pt x="148" y="90"/>
                  </a:lnTo>
                  <a:lnTo>
                    <a:pt x="148" y="90"/>
                  </a:lnTo>
                  <a:lnTo>
                    <a:pt x="146" y="90"/>
                  </a:lnTo>
                  <a:lnTo>
                    <a:pt x="146" y="90"/>
                  </a:lnTo>
                  <a:lnTo>
                    <a:pt x="146" y="88"/>
                  </a:lnTo>
                  <a:lnTo>
                    <a:pt x="146" y="88"/>
                  </a:lnTo>
                  <a:lnTo>
                    <a:pt x="146" y="85"/>
                  </a:lnTo>
                  <a:lnTo>
                    <a:pt x="143" y="85"/>
                  </a:lnTo>
                  <a:lnTo>
                    <a:pt x="143" y="82"/>
                  </a:lnTo>
                  <a:lnTo>
                    <a:pt x="143" y="82"/>
                  </a:lnTo>
                  <a:lnTo>
                    <a:pt x="140" y="82"/>
                  </a:lnTo>
                  <a:lnTo>
                    <a:pt x="140" y="79"/>
                  </a:lnTo>
                  <a:lnTo>
                    <a:pt x="137" y="77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699520" y="6558840"/>
              <a:ext cx="171000" cy="110880"/>
            </a:xfrm>
            <a:custGeom>
              <a:avLst/>
              <a:gdLst/>
              <a:ahLst/>
              <a:rect l="l" t="t" r="r" b="b"/>
              <a:pathLst>
                <a:path w="365" h="266">
                  <a:moveTo>
                    <a:pt x="326" y="0"/>
                  </a:moveTo>
                  <a:lnTo>
                    <a:pt x="321" y="0"/>
                  </a:lnTo>
                  <a:lnTo>
                    <a:pt x="313" y="3"/>
                  </a:lnTo>
                  <a:lnTo>
                    <a:pt x="304" y="3"/>
                  </a:lnTo>
                  <a:lnTo>
                    <a:pt x="296" y="5"/>
                  </a:lnTo>
                  <a:lnTo>
                    <a:pt x="288" y="5"/>
                  </a:lnTo>
                  <a:lnTo>
                    <a:pt x="280" y="8"/>
                  </a:lnTo>
                  <a:lnTo>
                    <a:pt x="277" y="11"/>
                  </a:lnTo>
                  <a:lnTo>
                    <a:pt x="274" y="16"/>
                  </a:lnTo>
                  <a:lnTo>
                    <a:pt x="255" y="16"/>
                  </a:lnTo>
                  <a:lnTo>
                    <a:pt x="236" y="19"/>
                  </a:lnTo>
                  <a:lnTo>
                    <a:pt x="219" y="25"/>
                  </a:lnTo>
                  <a:lnTo>
                    <a:pt x="200" y="30"/>
                  </a:lnTo>
                  <a:lnTo>
                    <a:pt x="162" y="46"/>
                  </a:lnTo>
                  <a:lnTo>
                    <a:pt x="126" y="66"/>
                  </a:lnTo>
                  <a:lnTo>
                    <a:pt x="93" y="82"/>
                  </a:lnTo>
                  <a:lnTo>
                    <a:pt x="60" y="99"/>
                  </a:lnTo>
                  <a:lnTo>
                    <a:pt x="44" y="107"/>
                  </a:lnTo>
                  <a:lnTo>
                    <a:pt x="28" y="110"/>
                  </a:lnTo>
                  <a:lnTo>
                    <a:pt x="14" y="115"/>
                  </a:lnTo>
                  <a:lnTo>
                    <a:pt x="0" y="115"/>
                  </a:lnTo>
                  <a:lnTo>
                    <a:pt x="0" y="145"/>
                  </a:lnTo>
                  <a:lnTo>
                    <a:pt x="6" y="170"/>
                  </a:lnTo>
                  <a:lnTo>
                    <a:pt x="14" y="189"/>
                  </a:lnTo>
                  <a:lnTo>
                    <a:pt x="25" y="206"/>
                  </a:lnTo>
                  <a:lnTo>
                    <a:pt x="36" y="222"/>
                  </a:lnTo>
                  <a:lnTo>
                    <a:pt x="52" y="236"/>
                  </a:lnTo>
                  <a:lnTo>
                    <a:pt x="66" y="250"/>
                  </a:lnTo>
                  <a:lnTo>
                    <a:pt x="85" y="266"/>
                  </a:lnTo>
                  <a:lnTo>
                    <a:pt x="132" y="263"/>
                  </a:lnTo>
                  <a:lnTo>
                    <a:pt x="181" y="258"/>
                  </a:lnTo>
                  <a:lnTo>
                    <a:pt x="203" y="250"/>
                  </a:lnTo>
                  <a:lnTo>
                    <a:pt x="228" y="244"/>
                  </a:lnTo>
                  <a:lnTo>
                    <a:pt x="250" y="233"/>
                  </a:lnTo>
                  <a:lnTo>
                    <a:pt x="271" y="222"/>
                  </a:lnTo>
                  <a:lnTo>
                    <a:pt x="291" y="211"/>
                  </a:lnTo>
                  <a:lnTo>
                    <a:pt x="307" y="197"/>
                  </a:lnTo>
                  <a:lnTo>
                    <a:pt x="324" y="181"/>
                  </a:lnTo>
                  <a:lnTo>
                    <a:pt x="337" y="165"/>
                  </a:lnTo>
                  <a:lnTo>
                    <a:pt x="348" y="145"/>
                  </a:lnTo>
                  <a:lnTo>
                    <a:pt x="356" y="123"/>
                  </a:lnTo>
                  <a:lnTo>
                    <a:pt x="362" y="101"/>
                  </a:lnTo>
                  <a:lnTo>
                    <a:pt x="365" y="77"/>
                  </a:lnTo>
                  <a:lnTo>
                    <a:pt x="362" y="77"/>
                  </a:lnTo>
                  <a:lnTo>
                    <a:pt x="359" y="74"/>
                  </a:lnTo>
                  <a:lnTo>
                    <a:pt x="356" y="68"/>
                  </a:lnTo>
                  <a:lnTo>
                    <a:pt x="356" y="66"/>
                  </a:lnTo>
                  <a:lnTo>
                    <a:pt x="354" y="60"/>
                  </a:lnTo>
                  <a:lnTo>
                    <a:pt x="354" y="55"/>
                  </a:lnTo>
                  <a:lnTo>
                    <a:pt x="354" y="52"/>
                  </a:lnTo>
                  <a:lnTo>
                    <a:pt x="354" y="49"/>
                  </a:lnTo>
                  <a:lnTo>
                    <a:pt x="351" y="49"/>
                  </a:lnTo>
                  <a:lnTo>
                    <a:pt x="348" y="44"/>
                  </a:lnTo>
                  <a:lnTo>
                    <a:pt x="345" y="38"/>
                  </a:lnTo>
                  <a:lnTo>
                    <a:pt x="345" y="33"/>
                  </a:lnTo>
                  <a:lnTo>
                    <a:pt x="343" y="27"/>
                  </a:lnTo>
                  <a:lnTo>
                    <a:pt x="340" y="19"/>
                  </a:lnTo>
                  <a:lnTo>
                    <a:pt x="337" y="14"/>
                  </a:lnTo>
                  <a:lnTo>
                    <a:pt x="332" y="5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12840" y="6567840"/>
              <a:ext cx="144360" cy="93600"/>
            </a:xfrm>
            <a:custGeom>
              <a:avLst/>
              <a:gdLst/>
              <a:ahLst/>
              <a:rect l="l" t="t" r="r" b="b"/>
              <a:pathLst>
                <a:path w="309" h="225">
                  <a:moveTo>
                    <a:pt x="276" y="0"/>
                  </a:moveTo>
                  <a:lnTo>
                    <a:pt x="271" y="0"/>
                  </a:lnTo>
                  <a:lnTo>
                    <a:pt x="265" y="0"/>
                  </a:lnTo>
                  <a:lnTo>
                    <a:pt x="260" y="0"/>
                  </a:lnTo>
                  <a:lnTo>
                    <a:pt x="252" y="3"/>
                  </a:lnTo>
                  <a:lnTo>
                    <a:pt x="243" y="3"/>
                  </a:lnTo>
                  <a:lnTo>
                    <a:pt x="238" y="5"/>
                  </a:lnTo>
                  <a:lnTo>
                    <a:pt x="232" y="8"/>
                  </a:lnTo>
                  <a:lnTo>
                    <a:pt x="232" y="11"/>
                  </a:lnTo>
                  <a:lnTo>
                    <a:pt x="200" y="14"/>
                  </a:lnTo>
                  <a:lnTo>
                    <a:pt x="169" y="24"/>
                  </a:lnTo>
                  <a:lnTo>
                    <a:pt x="137" y="38"/>
                  </a:lnTo>
                  <a:lnTo>
                    <a:pt x="106" y="55"/>
                  </a:lnTo>
                  <a:lnTo>
                    <a:pt x="79" y="68"/>
                  </a:lnTo>
                  <a:lnTo>
                    <a:pt x="49" y="82"/>
                  </a:lnTo>
                  <a:lnTo>
                    <a:pt x="24" y="93"/>
                  </a:lnTo>
                  <a:lnTo>
                    <a:pt x="0" y="96"/>
                  </a:lnTo>
                  <a:lnTo>
                    <a:pt x="0" y="121"/>
                  </a:lnTo>
                  <a:lnTo>
                    <a:pt x="5" y="143"/>
                  </a:lnTo>
                  <a:lnTo>
                    <a:pt x="11" y="159"/>
                  </a:lnTo>
                  <a:lnTo>
                    <a:pt x="19" y="173"/>
                  </a:lnTo>
                  <a:lnTo>
                    <a:pt x="30" y="186"/>
                  </a:lnTo>
                  <a:lnTo>
                    <a:pt x="43" y="197"/>
                  </a:lnTo>
                  <a:lnTo>
                    <a:pt x="57" y="211"/>
                  </a:lnTo>
                  <a:lnTo>
                    <a:pt x="71" y="225"/>
                  </a:lnTo>
                  <a:lnTo>
                    <a:pt x="112" y="222"/>
                  </a:lnTo>
                  <a:lnTo>
                    <a:pt x="153" y="217"/>
                  </a:lnTo>
                  <a:lnTo>
                    <a:pt x="191" y="206"/>
                  </a:lnTo>
                  <a:lnTo>
                    <a:pt x="230" y="189"/>
                  </a:lnTo>
                  <a:lnTo>
                    <a:pt x="246" y="178"/>
                  </a:lnTo>
                  <a:lnTo>
                    <a:pt x="260" y="167"/>
                  </a:lnTo>
                  <a:lnTo>
                    <a:pt x="274" y="154"/>
                  </a:lnTo>
                  <a:lnTo>
                    <a:pt x="287" y="137"/>
                  </a:lnTo>
                  <a:lnTo>
                    <a:pt x="296" y="121"/>
                  </a:lnTo>
                  <a:lnTo>
                    <a:pt x="304" y="104"/>
                  </a:lnTo>
                  <a:lnTo>
                    <a:pt x="306" y="85"/>
                  </a:lnTo>
                  <a:lnTo>
                    <a:pt x="309" y="63"/>
                  </a:lnTo>
                  <a:lnTo>
                    <a:pt x="306" y="63"/>
                  </a:lnTo>
                  <a:lnTo>
                    <a:pt x="304" y="60"/>
                  </a:lnTo>
                  <a:lnTo>
                    <a:pt x="304" y="57"/>
                  </a:lnTo>
                  <a:lnTo>
                    <a:pt x="301" y="52"/>
                  </a:lnTo>
                  <a:lnTo>
                    <a:pt x="301" y="49"/>
                  </a:lnTo>
                  <a:lnTo>
                    <a:pt x="301" y="44"/>
                  </a:lnTo>
                  <a:lnTo>
                    <a:pt x="301" y="41"/>
                  </a:lnTo>
                  <a:lnTo>
                    <a:pt x="301" y="38"/>
                  </a:lnTo>
                  <a:lnTo>
                    <a:pt x="301" y="38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6" y="38"/>
                  </a:lnTo>
                  <a:lnTo>
                    <a:pt x="296" y="35"/>
                  </a:lnTo>
                  <a:lnTo>
                    <a:pt x="293" y="30"/>
                  </a:lnTo>
                  <a:lnTo>
                    <a:pt x="293" y="27"/>
                  </a:lnTo>
                  <a:lnTo>
                    <a:pt x="290" y="22"/>
                  </a:lnTo>
                  <a:lnTo>
                    <a:pt x="290" y="14"/>
                  </a:lnTo>
                  <a:lnTo>
                    <a:pt x="285" y="8"/>
                  </a:lnTo>
                  <a:lnTo>
                    <a:pt x="282" y="3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7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25440" y="6575760"/>
              <a:ext cx="119160" cy="77760"/>
            </a:xfrm>
            <a:custGeom>
              <a:avLst/>
              <a:gdLst/>
              <a:ahLst/>
              <a:rect l="l" t="t" r="r" b="b"/>
              <a:pathLst>
                <a:path w="255" h="187">
                  <a:moveTo>
                    <a:pt x="227" y="0"/>
                  </a:moveTo>
                  <a:lnTo>
                    <a:pt x="225" y="0"/>
                  </a:lnTo>
                  <a:lnTo>
                    <a:pt x="219" y="0"/>
                  </a:lnTo>
                  <a:lnTo>
                    <a:pt x="214" y="0"/>
                  </a:lnTo>
                  <a:lnTo>
                    <a:pt x="208" y="3"/>
                  </a:lnTo>
                  <a:lnTo>
                    <a:pt x="200" y="3"/>
                  </a:lnTo>
                  <a:lnTo>
                    <a:pt x="197" y="5"/>
                  </a:lnTo>
                  <a:lnTo>
                    <a:pt x="192" y="8"/>
                  </a:lnTo>
                  <a:lnTo>
                    <a:pt x="192" y="11"/>
                  </a:lnTo>
                  <a:lnTo>
                    <a:pt x="164" y="14"/>
                  </a:lnTo>
                  <a:lnTo>
                    <a:pt x="140" y="22"/>
                  </a:lnTo>
                  <a:lnTo>
                    <a:pt x="112" y="33"/>
                  </a:lnTo>
                  <a:lnTo>
                    <a:pt x="88" y="44"/>
                  </a:lnTo>
                  <a:lnTo>
                    <a:pt x="66" y="58"/>
                  </a:lnTo>
                  <a:lnTo>
                    <a:pt x="41" y="69"/>
                  </a:lnTo>
                  <a:lnTo>
                    <a:pt x="19" y="77"/>
                  </a:lnTo>
                  <a:lnTo>
                    <a:pt x="0" y="80"/>
                  </a:lnTo>
                  <a:lnTo>
                    <a:pt x="0" y="102"/>
                  </a:lnTo>
                  <a:lnTo>
                    <a:pt x="3" y="118"/>
                  </a:lnTo>
                  <a:lnTo>
                    <a:pt x="8" y="132"/>
                  </a:lnTo>
                  <a:lnTo>
                    <a:pt x="16" y="143"/>
                  </a:lnTo>
                  <a:lnTo>
                    <a:pt x="25" y="154"/>
                  </a:lnTo>
                  <a:lnTo>
                    <a:pt x="36" y="165"/>
                  </a:lnTo>
                  <a:lnTo>
                    <a:pt x="47" y="176"/>
                  </a:lnTo>
                  <a:lnTo>
                    <a:pt x="58" y="187"/>
                  </a:lnTo>
                  <a:lnTo>
                    <a:pt x="90" y="184"/>
                  </a:lnTo>
                  <a:lnTo>
                    <a:pt x="126" y="178"/>
                  </a:lnTo>
                  <a:lnTo>
                    <a:pt x="159" y="170"/>
                  </a:lnTo>
                  <a:lnTo>
                    <a:pt x="189" y="156"/>
                  </a:lnTo>
                  <a:lnTo>
                    <a:pt x="203" y="148"/>
                  </a:lnTo>
                  <a:lnTo>
                    <a:pt x="214" y="137"/>
                  </a:lnTo>
                  <a:lnTo>
                    <a:pt x="227" y="126"/>
                  </a:lnTo>
                  <a:lnTo>
                    <a:pt x="236" y="115"/>
                  </a:lnTo>
                  <a:lnTo>
                    <a:pt x="244" y="102"/>
                  </a:lnTo>
                  <a:lnTo>
                    <a:pt x="249" y="85"/>
                  </a:lnTo>
                  <a:lnTo>
                    <a:pt x="252" y="71"/>
                  </a:lnTo>
                  <a:lnTo>
                    <a:pt x="255" y="52"/>
                  </a:lnTo>
                  <a:lnTo>
                    <a:pt x="252" y="52"/>
                  </a:lnTo>
                  <a:lnTo>
                    <a:pt x="249" y="49"/>
                  </a:lnTo>
                  <a:lnTo>
                    <a:pt x="249" y="47"/>
                  </a:lnTo>
                  <a:lnTo>
                    <a:pt x="249" y="44"/>
                  </a:lnTo>
                  <a:lnTo>
                    <a:pt x="247" y="41"/>
                  </a:lnTo>
                  <a:lnTo>
                    <a:pt x="247" y="38"/>
                  </a:lnTo>
                  <a:lnTo>
                    <a:pt x="247" y="36"/>
                  </a:lnTo>
                  <a:lnTo>
                    <a:pt x="247" y="33"/>
                  </a:lnTo>
                  <a:lnTo>
                    <a:pt x="247" y="33"/>
                  </a:lnTo>
                  <a:lnTo>
                    <a:pt x="247" y="33"/>
                  </a:lnTo>
                  <a:lnTo>
                    <a:pt x="247" y="33"/>
                  </a:lnTo>
                  <a:lnTo>
                    <a:pt x="247" y="33"/>
                  </a:lnTo>
                  <a:lnTo>
                    <a:pt x="247" y="33"/>
                  </a:lnTo>
                  <a:lnTo>
                    <a:pt x="244" y="33"/>
                  </a:lnTo>
                  <a:lnTo>
                    <a:pt x="244" y="33"/>
                  </a:lnTo>
                  <a:lnTo>
                    <a:pt x="244" y="33"/>
                  </a:lnTo>
                  <a:lnTo>
                    <a:pt x="244" y="30"/>
                  </a:lnTo>
                  <a:lnTo>
                    <a:pt x="241" y="27"/>
                  </a:lnTo>
                  <a:lnTo>
                    <a:pt x="241" y="22"/>
                  </a:lnTo>
                  <a:lnTo>
                    <a:pt x="238" y="16"/>
                  </a:lnTo>
                  <a:lnTo>
                    <a:pt x="238" y="14"/>
                  </a:lnTo>
                  <a:lnTo>
                    <a:pt x="236" y="8"/>
                  </a:lnTo>
                  <a:lnTo>
                    <a:pt x="233" y="3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9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738040" y="6583680"/>
              <a:ext cx="93600" cy="60840"/>
            </a:xfrm>
            <a:custGeom>
              <a:avLst/>
              <a:gdLst/>
              <a:ahLst/>
              <a:rect l="l" t="t" r="r" b="b"/>
              <a:pathLst>
                <a:path w="200" h="146">
                  <a:moveTo>
                    <a:pt x="178" y="0"/>
                  </a:moveTo>
                  <a:lnTo>
                    <a:pt x="176" y="0"/>
                  </a:lnTo>
                  <a:lnTo>
                    <a:pt x="173" y="0"/>
                  </a:lnTo>
                  <a:lnTo>
                    <a:pt x="168" y="3"/>
                  </a:lnTo>
                  <a:lnTo>
                    <a:pt x="162" y="3"/>
                  </a:lnTo>
                  <a:lnTo>
                    <a:pt x="159" y="3"/>
                  </a:lnTo>
                  <a:lnTo>
                    <a:pt x="154" y="6"/>
                  </a:lnTo>
                  <a:lnTo>
                    <a:pt x="151" y="6"/>
                  </a:lnTo>
                  <a:lnTo>
                    <a:pt x="151" y="8"/>
                  </a:lnTo>
                  <a:lnTo>
                    <a:pt x="129" y="11"/>
                  </a:lnTo>
                  <a:lnTo>
                    <a:pt x="110" y="17"/>
                  </a:lnTo>
                  <a:lnTo>
                    <a:pt x="88" y="25"/>
                  </a:lnTo>
                  <a:lnTo>
                    <a:pt x="69" y="36"/>
                  </a:lnTo>
                  <a:lnTo>
                    <a:pt x="50" y="47"/>
                  </a:lnTo>
                  <a:lnTo>
                    <a:pt x="33" y="55"/>
                  </a:lnTo>
                  <a:lnTo>
                    <a:pt x="14" y="61"/>
                  </a:lnTo>
                  <a:lnTo>
                    <a:pt x="0" y="63"/>
                  </a:lnTo>
                  <a:lnTo>
                    <a:pt x="0" y="80"/>
                  </a:lnTo>
                  <a:lnTo>
                    <a:pt x="3" y="94"/>
                  </a:lnTo>
                  <a:lnTo>
                    <a:pt x="6" y="105"/>
                  </a:lnTo>
                  <a:lnTo>
                    <a:pt x="14" y="113"/>
                  </a:lnTo>
                  <a:lnTo>
                    <a:pt x="20" y="121"/>
                  </a:lnTo>
                  <a:lnTo>
                    <a:pt x="28" y="129"/>
                  </a:lnTo>
                  <a:lnTo>
                    <a:pt x="36" y="137"/>
                  </a:lnTo>
                  <a:lnTo>
                    <a:pt x="47" y="146"/>
                  </a:lnTo>
                  <a:lnTo>
                    <a:pt x="72" y="146"/>
                  </a:lnTo>
                  <a:lnTo>
                    <a:pt x="99" y="140"/>
                  </a:lnTo>
                  <a:lnTo>
                    <a:pt x="124" y="135"/>
                  </a:lnTo>
                  <a:lnTo>
                    <a:pt x="148" y="124"/>
                  </a:lnTo>
                  <a:lnTo>
                    <a:pt x="170" y="110"/>
                  </a:lnTo>
                  <a:lnTo>
                    <a:pt x="184" y="91"/>
                  </a:lnTo>
                  <a:lnTo>
                    <a:pt x="192" y="80"/>
                  </a:lnTo>
                  <a:lnTo>
                    <a:pt x="195" y="69"/>
                  </a:lnTo>
                  <a:lnTo>
                    <a:pt x="198" y="55"/>
                  </a:lnTo>
                  <a:lnTo>
                    <a:pt x="200" y="41"/>
                  </a:lnTo>
                  <a:lnTo>
                    <a:pt x="198" y="41"/>
                  </a:lnTo>
                  <a:lnTo>
                    <a:pt x="198" y="41"/>
                  </a:lnTo>
                  <a:lnTo>
                    <a:pt x="195" y="39"/>
                  </a:lnTo>
                  <a:lnTo>
                    <a:pt x="195" y="36"/>
                  </a:lnTo>
                  <a:lnTo>
                    <a:pt x="195" y="33"/>
                  </a:lnTo>
                  <a:lnTo>
                    <a:pt x="195" y="30"/>
                  </a:lnTo>
                  <a:lnTo>
                    <a:pt x="195" y="28"/>
                  </a:lnTo>
                  <a:lnTo>
                    <a:pt x="195" y="28"/>
                  </a:lnTo>
                  <a:lnTo>
                    <a:pt x="195" y="28"/>
                  </a:lnTo>
                  <a:lnTo>
                    <a:pt x="195" y="28"/>
                  </a:lnTo>
                  <a:lnTo>
                    <a:pt x="195" y="28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2" y="25"/>
                  </a:lnTo>
                  <a:lnTo>
                    <a:pt x="189" y="22"/>
                  </a:lnTo>
                  <a:lnTo>
                    <a:pt x="189" y="19"/>
                  </a:lnTo>
                  <a:lnTo>
                    <a:pt x="189" y="14"/>
                  </a:lnTo>
                  <a:lnTo>
                    <a:pt x="187" y="11"/>
                  </a:lnTo>
                  <a:lnTo>
                    <a:pt x="184" y="8"/>
                  </a:lnTo>
                  <a:lnTo>
                    <a:pt x="181" y="3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be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751000" y="6591960"/>
              <a:ext cx="67680" cy="4428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29" y="0"/>
                  </a:moveTo>
                  <a:lnTo>
                    <a:pt x="129" y="0"/>
                  </a:lnTo>
                  <a:lnTo>
                    <a:pt x="123" y="3"/>
                  </a:lnTo>
                  <a:lnTo>
                    <a:pt x="120" y="3"/>
                  </a:lnTo>
                  <a:lnTo>
                    <a:pt x="118" y="3"/>
                  </a:lnTo>
                  <a:lnTo>
                    <a:pt x="115" y="3"/>
                  </a:lnTo>
                  <a:lnTo>
                    <a:pt x="112" y="6"/>
                  </a:lnTo>
                  <a:lnTo>
                    <a:pt x="109" y="6"/>
                  </a:lnTo>
                  <a:lnTo>
                    <a:pt x="109" y="9"/>
                  </a:lnTo>
                  <a:lnTo>
                    <a:pt x="93" y="9"/>
                  </a:lnTo>
                  <a:lnTo>
                    <a:pt x="79" y="14"/>
                  </a:lnTo>
                  <a:lnTo>
                    <a:pt x="63" y="20"/>
                  </a:lnTo>
                  <a:lnTo>
                    <a:pt x="49" y="28"/>
                  </a:lnTo>
                  <a:lnTo>
                    <a:pt x="35" y="33"/>
                  </a:lnTo>
                  <a:lnTo>
                    <a:pt x="22" y="42"/>
                  </a:lnTo>
                  <a:lnTo>
                    <a:pt x="11" y="44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5" y="77"/>
                  </a:lnTo>
                  <a:lnTo>
                    <a:pt x="8" y="83"/>
                  </a:lnTo>
                  <a:lnTo>
                    <a:pt x="13" y="91"/>
                  </a:lnTo>
                  <a:lnTo>
                    <a:pt x="19" y="97"/>
                  </a:lnTo>
                  <a:lnTo>
                    <a:pt x="24" y="102"/>
                  </a:lnTo>
                  <a:lnTo>
                    <a:pt x="33" y="107"/>
                  </a:lnTo>
                  <a:lnTo>
                    <a:pt x="52" y="107"/>
                  </a:lnTo>
                  <a:lnTo>
                    <a:pt x="71" y="105"/>
                  </a:lnTo>
                  <a:lnTo>
                    <a:pt x="90" y="99"/>
                  </a:lnTo>
                  <a:lnTo>
                    <a:pt x="107" y="91"/>
                  </a:lnTo>
                  <a:lnTo>
                    <a:pt x="123" y="80"/>
                  </a:lnTo>
                  <a:lnTo>
                    <a:pt x="134" y="66"/>
                  </a:lnTo>
                  <a:lnTo>
                    <a:pt x="142" y="50"/>
                  </a:lnTo>
                  <a:lnTo>
                    <a:pt x="145" y="33"/>
                  </a:lnTo>
                  <a:lnTo>
                    <a:pt x="142" y="31"/>
                  </a:lnTo>
                  <a:lnTo>
                    <a:pt x="142" y="31"/>
                  </a:lnTo>
                  <a:lnTo>
                    <a:pt x="142" y="28"/>
                  </a:lnTo>
                  <a:lnTo>
                    <a:pt x="142" y="28"/>
                  </a:lnTo>
                  <a:lnTo>
                    <a:pt x="140" y="25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40" y="20"/>
                  </a:lnTo>
                  <a:lnTo>
                    <a:pt x="137" y="20"/>
                  </a:lnTo>
                  <a:lnTo>
                    <a:pt x="137" y="17"/>
                  </a:lnTo>
                  <a:lnTo>
                    <a:pt x="137" y="14"/>
                  </a:lnTo>
                  <a:lnTo>
                    <a:pt x="137" y="11"/>
                  </a:lnTo>
                  <a:lnTo>
                    <a:pt x="134" y="9"/>
                  </a:lnTo>
                  <a:lnTo>
                    <a:pt x="134" y="6"/>
                  </a:lnTo>
                  <a:lnTo>
                    <a:pt x="131" y="3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de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63600" y="6600960"/>
              <a:ext cx="42480" cy="2736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80" y="0"/>
                  </a:moveTo>
                  <a:lnTo>
                    <a:pt x="80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39" y="11"/>
                  </a:lnTo>
                  <a:lnTo>
                    <a:pt x="30" y="17"/>
                  </a:lnTo>
                  <a:lnTo>
                    <a:pt x="22" y="20"/>
                  </a:lnTo>
                  <a:lnTo>
                    <a:pt x="14" y="25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3" y="47"/>
                  </a:lnTo>
                  <a:lnTo>
                    <a:pt x="6" y="50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7" y="61"/>
                  </a:lnTo>
                  <a:lnTo>
                    <a:pt x="19" y="66"/>
                  </a:lnTo>
                  <a:lnTo>
                    <a:pt x="33" y="66"/>
                  </a:lnTo>
                  <a:lnTo>
                    <a:pt x="44" y="64"/>
                  </a:lnTo>
                  <a:lnTo>
                    <a:pt x="55" y="61"/>
                  </a:lnTo>
                  <a:lnTo>
                    <a:pt x="66" y="55"/>
                  </a:lnTo>
                  <a:lnTo>
                    <a:pt x="77" y="50"/>
                  </a:lnTo>
                  <a:lnTo>
                    <a:pt x="82" y="42"/>
                  </a:lnTo>
                  <a:lnTo>
                    <a:pt x="88" y="31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88" y="11"/>
                  </a:lnTo>
                  <a:lnTo>
                    <a:pt x="85" y="11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5" y="6"/>
                  </a:lnTo>
                  <a:lnTo>
                    <a:pt x="85" y="3"/>
                  </a:lnTo>
                  <a:lnTo>
                    <a:pt x="82" y="3"/>
                  </a:lnTo>
                  <a:lnTo>
                    <a:pt x="82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43840" y="6312600"/>
              <a:ext cx="67680" cy="151920"/>
            </a:xfrm>
            <a:custGeom>
              <a:avLst/>
              <a:gdLst/>
              <a:ahLst/>
              <a:rect l="l" t="t" r="r" b="b"/>
              <a:pathLst>
                <a:path w="145" h="365">
                  <a:moveTo>
                    <a:pt x="91" y="0"/>
                  </a:moveTo>
                  <a:lnTo>
                    <a:pt x="91" y="74"/>
                  </a:lnTo>
                  <a:lnTo>
                    <a:pt x="77" y="74"/>
                  </a:lnTo>
                  <a:lnTo>
                    <a:pt x="66" y="74"/>
                  </a:lnTo>
                  <a:lnTo>
                    <a:pt x="52" y="74"/>
                  </a:lnTo>
                  <a:lnTo>
                    <a:pt x="41" y="74"/>
                  </a:lnTo>
                  <a:lnTo>
                    <a:pt x="30" y="71"/>
                  </a:lnTo>
                  <a:lnTo>
                    <a:pt x="19" y="68"/>
                  </a:lnTo>
                  <a:lnTo>
                    <a:pt x="8" y="66"/>
                  </a:lnTo>
                  <a:lnTo>
                    <a:pt x="0" y="60"/>
                  </a:lnTo>
                  <a:lnTo>
                    <a:pt x="8" y="46"/>
                  </a:lnTo>
                  <a:lnTo>
                    <a:pt x="19" y="38"/>
                  </a:lnTo>
                  <a:lnTo>
                    <a:pt x="30" y="30"/>
                  </a:lnTo>
                  <a:lnTo>
                    <a:pt x="44" y="24"/>
                  </a:lnTo>
                  <a:lnTo>
                    <a:pt x="55" y="19"/>
                  </a:lnTo>
                  <a:lnTo>
                    <a:pt x="66" y="13"/>
                  </a:lnTo>
                  <a:lnTo>
                    <a:pt x="77" y="8"/>
                  </a:lnTo>
                  <a:lnTo>
                    <a:pt x="91" y="0"/>
                  </a:lnTo>
                  <a:close/>
                  <a:moveTo>
                    <a:pt x="134" y="189"/>
                  </a:moveTo>
                  <a:lnTo>
                    <a:pt x="145" y="211"/>
                  </a:lnTo>
                  <a:lnTo>
                    <a:pt x="123" y="365"/>
                  </a:lnTo>
                  <a:lnTo>
                    <a:pt x="113" y="362"/>
                  </a:lnTo>
                  <a:lnTo>
                    <a:pt x="99" y="362"/>
                  </a:lnTo>
                  <a:lnTo>
                    <a:pt x="88" y="359"/>
                  </a:lnTo>
                  <a:lnTo>
                    <a:pt x="74" y="359"/>
                  </a:lnTo>
                  <a:lnTo>
                    <a:pt x="60" y="357"/>
                  </a:lnTo>
                  <a:lnTo>
                    <a:pt x="50" y="354"/>
                  </a:lnTo>
                  <a:lnTo>
                    <a:pt x="36" y="354"/>
                  </a:lnTo>
                  <a:lnTo>
                    <a:pt x="22" y="354"/>
                  </a:lnTo>
                  <a:lnTo>
                    <a:pt x="19" y="348"/>
                  </a:lnTo>
                  <a:lnTo>
                    <a:pt x="14" y="343"/>
                  </a:lnTo>
                  <a:lnTo>
                    <a:pt x="11" y="335"/>
                  </a:lnTo>
                  <a:lnTo>
                    <a:pt x="8" y="329"/>
                  </a:lnTo>
                  <a:lnTo>
                    <a:pt x="6" y="324"/>
                  </a:lnTo>
                  <a:lnTo>
                    <a:pt x="6" y="315"/>
                  </a:lnTo>
                  <a:lnTo>
                    <a:pt x="6" y="307"/>
                  </a:lnTo>
                  <a:lnTo>
                    <a:pt x="3" y="302"/>
                  </a:lnTo>
                  <a:lnTo>
                    <a:pt x="28" y="280"/>
                  </a:lnTo>
                  <a:lnTo>
                    <a:pt x="50" y="263"/>
                  </a:lnTo>
                  <a:lnTo>
                    <a:pt x="69" y="247"/>
                  </a:lnTo>
                  <a:lnTo>
                    <a:pt x="85" y="236"/>
                  </a:lnTo>
                  <a:lnTo>
                    <a:pt x="102" y="225"/>
                  </a:lnTo>
                  <a:lnTo>
                    <a:pt x="115" y="214"/>
                  </a:lnTo>
                  <a:lnTo>
                    <a:pt x="126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d4b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14000" y="7020000"/>
              <a:ext cx="698400" cy="353520"/>
            </a:xfrm>
            <a:custGeom>
              <a:avLst/>
              <a:gdLst/>
              <a:ahLst/>
              <a:rect l="l" t="t" r="r" b="b"/>
              <a:pathLst>
                <a:path w="1491" h="848">
                  <a:moveTo>
                    <a:pt x="1491" y="132"/>
                  </a:moveTo>
                  <a:lnTo>
                    <a:pt x="1488" y="209"/>
                  </a:lnTo>
                  <a:lnTo>
                    <a:pt x="1406" y="368"/>
                  </a:lnTo>
                  <a:lnTo>
                    <a:pt x="1447" y="393"/>
                  </a:lnTo>
                  <a:lnTo>
                    <a:pt x="1463" y="648"/>
                  </a:lnTo>
                  <a:lnTo>
                    <a:pt x="1463" y="664"/>
                  </a:lnTo>
                  <a:lnTo>
                    <a:pt x="1200" y="791"/>
                  </a:lnTo>
                  <a:lnTo>
                    <a:pt x="1088" y="807"/>
                  </a:lnTo>
                  <a:lnTo>
                    <a:pt x="833" y="848"/>
                  </a:lnTo>
                  <a:lnTo>
                    <a:pt x="658" y="848"/>
                  </a:lnTo>
                  <a:lnTo>
                    <a:pt x="408" y="782"/>
                  </a:lnTo>
                  <a:lnTo>
                    <a:pt x="378" y="727"/>
                  </a:lnTo>
                  <a:lnTo>
                    <a:pt x="354" y="489"/>
                  </a:lnTo>
                  <a:lnTo>
                    <a:pt x="403" y="66"/>
                  </a:lnTo>
                  <a:lnTo>
                    <a:pt x="370" y="66"/>
                  </a:lnTo>
                  <a:lnTo>
                    <a:pt x="370" y="71"/>
                  </a:lnTo>
                  <a:lnTo>
                    <a:pt x="370" y="63"/>
                  </a:lnTo>
                  <a:lnTo>
                    <a:pt x="373" y="55"/>
                  </a:lnTo>
                  <a:lnTo>
                    <a:pt x="378" y="47"/>
                  </a:lnTo>
                  <a:lnTo>
                    <a:pt x="384" y="38"/>
                  </a:lnTo>
                  <a:lnTo>
                    <a:pt x="389" y="30"/>
                  </a:lnTo>
                  <a:lnTo>
                    <a:pt x="397" y="25"/>
                  </a:lnTo>
                  <a:lnTo>
                    <a:pt x="403" y="19"/>
                  </a:lnTo>
                  <a:lnTo>
                    <a:pt x="408" y="16"/>
                  </a:lnTo>
                  <a:lnTo>
                    <a:pt x="447" y="19"/>
                  </a:lnTo>
                  <a:lnTo>
                    <a:pt x="482" y="22"/>
                  </a:lnTo>
                  <a:lnTo>
                    <a:pt x="518" y="19"/>
                  </a:lnTo>
                  <a:lnTo>
                    <a:pt x="554" y="14"/>
                  </a:lnTo>
                  <a:lnTo>
                    <a:pt x="589" y="11"/>
                  </a:lnTo>
                  <a:lnTo>
                    <a:pt x="625" y="6"/>
                  </a:lnTo>
                  <a:lnTo>
                    <a:pt x="658" y="3"/>
                  </a:lnTo>
                  <a:lnTo>
                    <a:pt x="691" y="0"/>
                  </a:lnTo>
                  <a:lnTo>
                    <a:pt x="458" y="113"/>
                  </a:lnTo>
                  <a:lnTo>
                    <a:pt x="458" y="118"/>
                  </a:lnTo>
                  <a:lnTo>
                    <a:pt x="458" y="121"/>
                  </a:lnTo>
                  <a:lnTo>
                    <a:pt x="455" y="126"/>
                  </a:lnTo>
                  <a:lnTo>
                    <a:pt x="452" y="132"/>
                  </a:lnTo>
                  <a:lnTo>
                    <a:pt x="449" y="137"/>
                  </a:lnTo>
                  <a:lnTo>
                    <a:pt x="447" y="143"/>
                  </a:lnTo>
                  <a:lnTo>
                    <a:pt x="444" y="145"/>
                  </a:lnTo>
                  <a:lnTo>
                    <a:pt x="441" y="145"/>
                  </a:lnTo>
                  <a:lnTo>
                    <a:pt x="441" y="154"/>
                  </a:lnTo>
                  <a:lnTo>
                    <a:pt x="438" y="162"/>
                  </a:lnTo>
                  <a:lnTo>
                    <a:pt x="436" y="173"/>
                  </a:lnTo>
                  <a:lnTo>
                    <a:pt x="430" y="187"/>
                  </a:lnTo>
                  <a:lnTo>
                    <a:pt x="427" y="198"/>
                  </a:lnTo>
                  <a:lnTo>
                    <a:pt x="425" y="209"/>
                  </a:lnTo>
                  <a:lnTo>
                    <a:pt x="425" y="220"/>
                  </a:lnTo>
                  <a:lnTo>
                    <a:pt x="425" y="228"/>
                  </a:lnTo>
                  <a:lnTo>
                    <a:pt x="433" y="228"/>
                  </a:lnTo>
                  <a:lnTo>
                    <a:pt x="447" y="255"/>
                  </a:lnTo>
                  <a:lnTo>
                    <a:pt x="463" y="296"/>
                  </a:lnTo>
                  <a:lnTo>
                    <a:pt x="482" y="349"/>
                  </a:lnTo>
                  <a:lnTo>
                    <a:pt x="499" y="404"/>
                  </a:lnTo>
                  <a:lnTo>
                    <a:pt x="504" y="428"/>
                  </a:lnTo>
                  <a:lnTo>
                    <a:pt x="507" y="456"/>
                  </a:lnTo>
                  <a:lnTo>
                    <a:pt x="504" y="478"/>
                  </a:lnTo>
                  <a:lnTo>
                    <a:pt x="501" y="500"/>
                  </a:lnTo>
                  <a:lnTo>
                    <a:pt x="493" y="516"/>
                  </a:lnTo>
                  <a:lnTo>
                    <a:pt x="482" y="530"/>
                  </a:lnTo>
                  <a:lnTo>
                    <a:pt x="474" y="535"/>
                  </a:lnTo>
                  <a:lnTo>
                    <a:pt x="463" y="538"/>
                  </a:lnTo>
                  <a:lnTo>
                    <a:pt x="455" y="541"/>
                  </a:lnTo>
                  <a:lnTo>
                    <a:pt x="441" y="541"/>
                  </a:lnTo>
                  <a:lnTo>
                    <a:pt x="444" y="571"/>
                  </a:lnTo>
                  <a:lnTo>
                    <a:pt x="452" y="593"/>
                  </a:lnTo>
                  <a:lnTo>
                    <a:pt x="460" y="607"/>
                  </a:lnTo>
                  <a:lnTo>
                    <a:pt x="474" y="620"/>
                  </a:lnTo>
                  <a:lnTo>
                    <a:pt x="488" y="631"/>
                  </a:lnTo>
                  <a:lnTo>
                    <a:pt x="504" y="645"/>
                  </a:lnTo>
                  <a:lnTo>
                    <a:pt x="518" y="664"/>
                  </a:lnTo>
                  <a:lnTo>
                    <a:pt x="532" y="686"/>
                  </a:lnTo>
                  <a:lnTo>
                    <a:pt x="548" y="692"/>
                  </a:lnTo>
                  <a:lnTo>
                    <a:pt x="564" y="700"/>
                  </a:lnTo>
                  <a:lnTo>
                    <a:pt x="581" y="711"/>
                  </a:lnTo>
                  <a:lnTo>
                    <a:pt x="597" y="725"/>
                  </a:lnTo>
                  <a:lnTo>
                    <a:pt x="614" y="738"/>
                  </a:lnTo>
                  <a:lnTo>
                    <a:pt x="630" y="749"/>
                  </a:lnTo>
                  <a:lnTo>
                    <a:pt x="644" y="760"/>
                  </a:lnTo>
                  <a:lnTo>
                    <a:pt x="660" y="769"/>
                  </a:lnTo>
                  <a:lnTo>
                    <a:pt x="699" y="785"/>
                  </a:lnTo>
                  <a:lnTo>
                    <a:pt x="740" y="796"/>
                  </a:lnTo>
                  <a:lnTo>
                    <a:pt x="781" y="804"/>
                  </a:lnTo>
                  <a:lnTo>
                    <a:pt x="819" y="807"/>
                  </a:lnTo>
                  <a:lnTo>
                    <a:pt x="858" y="807"/>
                  </a:lnTo>
                  <a:lnTo>
                    <a:pt x="896" y="804"/>
                  </a:lnTo>
                  <a:lnTo>
                    <a:pt x="934" y="796"/>
                  </a:lnTo>
                  <a:lnTo>
                    <a:pt x="973" y="785"/>
                  </a:lnTo>
                  <a:lnTo>
                    <a:pt x="1011" y="771"/>
                  </a:lnTo>
                  <a:lnTo>
                    <a:pt x="1047" y="758"/>
                  </a:lnTo>
                  <a:lnTo>
                    <a:pt x="1082" y="741"/>
                  </a:lnTo>
                  <a:lnTo>
                    <a:pt x="1118" y="722"/>
                  </a:lnTo>
                  <a:lnTo>
                    <a:pt x="1189" y="681"/>
                  </a:lnTo>
                  <a:lnTo>
                    <a:pt x="1258" y="640"/>
                  </a:lnTo>
                  <a:lnTo>
                    <a:pt x="1258" y="612"/>
                  </a:lnTo>
                  <a:lnTo>
                    <a:pt x="1266" y="587"/>
                  </a:lnTo>
                  <a:lnTo>
                    <a:pt x="1274" y="565"/>
                  </a:lnTo>
                  <a:lnTo>
                    <a:pt x="1280" y="543"/>
                  </a:lnTo>
                  <a:lnTo>
                    <a:pt x="1282" y="533"/>
                  </a:lnTo>
                  <a:lnTo>
                    <a:pt x="1282" y="522"/>
                  </a:lnTo>
                  <a:lnTo>
                    <a:pt x="1282" y="511"/>
                  </a:lnTo>
                  <a:lnTo>
                    <a:pt x="1280" y="497"/>
                  </a:lnTo>
                  <a:lnTo>
                    <a:pt x="1277" y="483"/>
                  </a:lnTo>
                  <a:lnTo>
                    <a:pt x="1269" y="469"/>
                  </a:lnTo>
                  <a:lnTo>
                    <a:pt x="1260" y="453"/>
                  </a:lnTo>
                  <a:lnTo>
                    <a:pt x="1250" y="436"/>
                  </a:lnTo>
                  <a:lnTo>
                    <a:pt x="1047" y="428"/>
                  </a:lnTo>
                  <a:lnTo>
                    <a:pt x="1044" y="409"/>
                  </a:lnTo>
                  <a:lnTo>
                    <a:pt x="1041" y="393"/>
                  </a:lnTo>
                  <a:lnTo>
                    <a:pt x="1041" y="376"/>
                  </a:lnTo>
                  <a:lnTo>
                    <a:pt x="1044" y="362"/>
                  </a:lnTo>
                  <a:lnTo>
                    <a:pt x="1047" y="351"/>
                  </a:lnTo>
                  <a:lnTo>
                    <a:pt x="1049" y="340"/>
                  </a:lnTo>
                  <a:lnTo>
                    <a:pt x="1055" y="329"/>
                  </a:lnTo>
                  <a:lnTo>
                    <a:pt x="1063" y="321"/>
                  </a:lnTo>
                  <a:lnTo>
                    <a:pt x="1080" y="307"/>
                  </a:lnTo>
                  <a:lnTo>
                    <a:pt x="1102" y="296"/>
                  </a:lnTo>
                  <a:lnTo>
                    <a:pt x="1126" y="288"/>
                  </a:lnTo>
                  <a:lnTo>
                    <a:pt x="1154" y="283"/>
                  </a:lnTo>
                  <a:lnTo>
                    <a:pt x="1214" y="277"/>
                  </a:lnTo>
                  <a:lnTo>
                    <a:pt x="1274" y="272"/>
                  </a:lnTo>
                  <a:lnTo>
                    <a:pt x="1304" y="269"/>
                  </a:lnTo>
                  <a:lnTo>
                    <a:pt x="1332" y="264"/>
                  </a:lnTo>
                  <a:lnTo>
                    <a:pt x="1356" y="255"/>
                  </a:lnTo>
                  <a:lnTo>
                    <a:pt x="1378" y="242"/>
                  </a:lnTo>
                  <a:lnTo>
                    <a:pt x="1381" y="231"/>
                  </a:lnTo>
                  <a:lnTo>
                    <a:pt x="1387" y="220"/>
                  </a:lnTo>
                  <a:lnTo>
                    <a:pt x="1397" y="206"/>
                  </a:lnTo>
                  <a:lnTo>
                    <a:pt x="1411" y="189"/>
                  </a:lnTo>
                  <a:lnTo>
                    <a:pt x="1428" y="173"/>
                  </a:lnTo>
                  <a:lnTo>
                    <a:pt x="1450" y="159"/>
                  </a:lnTo>
                  <a:lnTo>
                    <a:pt x="1469" y="145"/>
                  </a:lnTo>
                  <a:lnTo>
                    <a:pt x="1491" y="132"/>
                  </a:lnTo>
                  <a:close/>
                  <a:moveTo>
                    <a:pt x="370" y="74"/>
                  </a:moveTo>
                  <a:lnTo>
                    <a:pt x="337" y="176"/>
                  </a:lnTo>
                  <a:lnTo>
                    <a:pt x="307" y="535"/>
                  </a:lnTo>
                  <a:lnTo>
                    <a:pt x="304" y="533"/>
                  </a:lnTo>
                  <a:lnTo>
                    <a:pt x="301" y="513"/>
                  </a:lnTo>
                  <a:lnTo>
                    <a:pt x="293" y="489"/>
                  </a:lnTo>
                  <a:lnTo>
                    <a:pt x="280" y="461"/>
                  </a:lnTo>
                  <a:lnTo>
                    <a:pt x="263" y="431"/>
                  </a:lnTo>
                  <a:lnTo>
                    <a:pt x="249" y="398"/>
                  </a:lnTo>
                  <a:lnTo>
                    <a:pt x="236" y="362"/>
                  </a:lnTo>
                  <a:lnTo>
                    <a:pt x="227" y="327"/>
                  </a:lnTo>
                  <a:lnTo>
                    <a:pt x="225" y="291"/>
                  </a:lnTo>
                  <a:lnTo>
                    <a:pt x="230" y="291"/>
                  </a:lnTo>
                  <a:lnTo>
                    <a:pt x="238" y="288"/>
                  </a:lnTo>
                  <a:lnTo>
                    <a:pt x="244" y="283"/>
                  </a:lnTo>
                  <a:lnTo>
                    <a:pt x="252" y="280"/>
                  </a:lnTo>
                  <a:lnTo>
                    <a:pt x="260" y="275"/>
                  </a:lnTo>
                  <a:lnTo>
                    <a:pt x="266" y="272"/>
                  </a:lnTo>
                  <a:lnTo>
                    <a:pt x="274" y="269"/>
                  </a:lnTo>
                  <a:lnTo>
                    <a:pt x="280" y="266"/>
                  </a:lnTo>
                  <a:lnTo>
                    <a:pt x="277" y="253"/>
                  </a:lnTo>
                  <a:lnTo>
                    <a:pt x="269" y="233"/>
                  </a:lnTo>
                  <a:lnTo>
                    <a:pt x="258" y="211"/>
                  </a:lnTo>
                  <a:lnTo>
                    <a:pt x="244" y="189"/>
                  </a:lnTo>
                  <a:lnTo>
                    <a:pt x="227" y="170"/>
                  </a:lnTo>
                  <a:lnTo>
                    <a:pt x="208" y="154"/>
                  </a:lnTo>
                  <a:lnTo>
                    <a:pt x="192" y="143"/>
                  </a:lnTo>
                  <a:lnTo>
                    <a:pt x="175" y="137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3" y="124"/>
                  </a:lnTo>
                  <a:lnTo>
                    <a:pt x="173" y="118"/>
                  </a:lnTo>
                  <a:lnTo>
                    <a:pt x="170" y="113"/>
                  </a:lnTo>
                  <a:lnTo>
                    <a:pt x="170" y="107"/>
                  </a:lnTo>
                  <a:lnTo>
                    <a:pt x="167" y="102"/>
                  </a:lnTo>
                  <a:lnTo>
                    <a:pt x="167" y="96"/>
                  </a:lnTo>
                  <a:lnTo>
                    <a:pt x="175" y="88"/>
                  </a:lnTo>
                  <a:lnTo>
                    <a:pt x="192" y="85"/>
                  </a:lnTo>
                  <a:lnTo>
                    <a:pt x="214" y="82"/>
                  </a:lnTo>
                  <a:lnTo>
                    <a:pt x="236" y="82"/>
                  </a:lnTo>
                  <a:lnTo>
                    <a:pt x="260" y="82"/>
                  </a:lnTo>
                  <a:lnTo>
                    <a:pt x="285" y="85"/>
                  </a:lnTo>
                  <a:lnTo>
                    <a:pt x="310" y="88"/>
                  </a:lnTo>
                  <a:lnTo>
                    <a:pt x="334" y="88"/>
                  </a:lnTo>
                  <a:lnTo>
                    <a:pt x="354" y="88"/>
                  </a:lnTo>
                  <a:lnTo>
                    <a:pt x="354" y="85"/>
                  </a:lnTo>
                  <a:lnTo>
                    <a:pt x="354" y="82"/>
                  </a:lnTo>
                  <a:lnTo>
                    <a:pt x="356" y="80"/>
                  </a:lnTo>
                  <a:lnTo>
                    <a:pt x="359" y="77"/>
                  </a:lnTo>
                  <a:lnTo>
                    <a:pt x="359" y="77"/>
                  </a:lnTo>
                  <a:lnTo>
                    <a:pt x="362" y="74"/>
                  </a:lnTo>
                  <a:lnTo>
                    <a:pt x="364" y="74"/>
                  </a:lnTo>
                  <a:lnTo>
                    <a:pt x="370" y="74"/>
                  </a:lnTo>
                  <a:close/>
                  <a:moveTo>
                    <a:pt x="315" y="637"/>
                  </a:moveTo>
                  <a:lnTo>
                    <a:pt x="323" y="711"/>
                  </a:lnTo>
                  <a:lnTo>
                    <a:pt x="129" y="667"/>
                  </a:lnTo>
                  <a:lnTo>
                    <a:pt x="126" y="662"/>
                  </a:lnTo>
                  <a:lnTo>
                    <a:pt x="123" y="656"/>
                  </a:lnTo>
                  <a:lnTo>
                    <a:pt x="121" y="651"/>
                  </a:lnTo>
                  <a:lnTo>
                    <a:pt x="118" y="645"/>
                  </a:lnTo>
                  <a:lnTo>
                    <a:pt x="115" y="637"/>
                  </a:lnTo>
                  <a:lnTo>
                    <a:pt x="112" y="631"/>
                  </a:lnTo>
                  <a:lnTo>
                    <a:pt x="112" y="623"/>
                  </a:lnTo>
                  <a:lnTo>
                    <a:pt x="110" y="615"/>
                  </a:lnTo>
                  <a:lnTo>
                    <a:pt x="96" y="607"/>
                  </a:lnTo>
                  <a:lnTo>
                    <a:pt x="96" y="574"/>
                  </a:lnTo>
                  <a:lnTo>
                    <a:pt x="104" y="571"/>
                  </a:lnTo>
                  <a:lnTo>
                    <a:pt x="112" y="568"/>
                  </a:lnTo>
                  <a:lnTo>
                    <a:pt x="123" y="565"/>
                  </a:lnTo>
                  <a:lnTo>
                    <a:pt x="132" y="563"/>
                  </a:lnTo>
                  <a:lnTo>
                    <a:pt x="140" y="560"/>
                  </a:lnTo>
                  <a:lnTo>
                    <a:pt x="148" y="560"/>
                  </a:lnTo>
                  <a:lnTo>
                    <a:pt x="159" y="557"/>
                  </a:lnTo>
                  <a:lnTo>
                    <a:pt x="167" y="557"/>
                  </a:lnTo>
                  <a:lnTo>
                    <a:pt x="181" y="574"/>
                  </a:lnTo>
                  <a:lnTo>
                    <a:pt x="192" y="590"/>
                  </a:lnTo>
                  <a:lnTo>
                    <a:pt x="206" y="607"/>
                  </a:lnTo>
                  <a:lnTo>
                    <a:pt x="217" y="620"/>
                  </a:lnTo>
                  <a:lnTo>
                    <a:pt x="227" y="634"/>
                  </a:lnTo>
                  <a:lnTo>
                    <a:pt x="244" y="645"/>
                  </a:lnTo>
                  <a:lnTo>
                    <a:pt x="263" y="653"/>
                  </a:lnTo>
                  <a:lnTo>
                    <a:pt x="288" y="656"/>
                  </a:lnTo>
                  <a:lnTo>
                    <a:pt x="290" y="653"/>
                  </a:lnTo>
                  <a:lnTo>
                    <a:pt x="293" y="653"/>
                  </a:lnTo>
                  <a:lnTo>
                    <a:pt x="299" y="651"/>
                  </a:lnTo>
                  <a:lnTo>
                    <a:pt x="301" y="648"/>
                  </a:lnTo>
                  <a:lnTo>
                    <a:pt x="304" y="645"/>
                  </a:lnTo>
                  <a:lnTo>
                    <a:pt x="307" y="642"/>
                  </a:lnTo>
                  <a:lnTo>
                    <a:pt x="312" y="640"/>
                  </a:lnTo>
                  <a:lnTo>
                    <a:pt x="315" y="637"/>
                  </a:lnTo>
                  <a:close/>
                  <a:moveTo>
                    <a:pt x="0" y="417"/>
                  </a:moveTo>
                  <a:lnTo>
                    <a:pt x="3" y="384"/>
                  </a:lnTo>
                  <a:lnTo>
                    <a:pt x="36" y="258"/>
                  </a:lnTo>
                  <a:lnTo>
                    <a:pt x="44" y="217"/>
                  </a:lnTo>
                  <a:lnTo>
                    <a:pt x="47" y="236"/>
                  </a:lnTo>
                  <a:lnTo>
                    <a:pt x="44" y="255"/>
                  </a:lnTo>
                  <a:lnTo>
                    <a:pt x="41" y="277"/>
                  </a:lnTo>
                  <a:lnTo>
                    <a:pt x="36" y="305"/>
                  </a:lnTo>
                  <a:lnTo>
                    <a:pt x="27" y="329"/>
                  </a:lnTo>
                  <a:lnTo>
                    <a:pt x="19" y="360"/>
                  </a:lnTo>
                  <a:lnTo>
                    <a:pt x="11" y="387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606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051240" y="7015680"/>
              <a:ext cx="253800" cy="312120"/>
            </a:xfrm>
            <a:custGeom>
              <a:avLst/>
              <a:gdLst/>
              <a:ahLst/>
              <a:rect l="l" t="t" r="r" b="b"/>
              <a:pathLst>
                <a:path w="542" h="749">
                  <a:moveTo>
                    <a:pt x="427" y="0"/>
                  </a:moveTo>
                  <a:lnTo>
                    <a:pt x="331" y="66"/>
                  </a:lnTo>
                  <a:lnTo>
                    <a:pt x="318" y="66"/>
                  </a:lnTo>
                  <a:lnTo>
                    <a:pt x="307" y="66"/>
                  </a:lnTo>
                  <a:lnTo>
                    <a:pt x="299" y="66"/>
                  </a:lnTo>
                  <a:lnTo>
                    <a:pt x="293" y="66"/>
                  </a:lnTo>
                  <a:lnTo>
                    <a:pt x="285" y="63"/>
                  </a:lnTo>
                  <a:lnTo>
                    <a:pt x="279" y="63"/>
                  </a:lnTo>
                  <a:lnTo>
                    <a:pt x="274" y="60"/>
                  </a:lnTo>
                  <a:lnTo>
                    <a:pt x="268" y="58"/>
                  </a:lnTo>
                  <a:lnTo>
                    <a:pt x="255" y="58"/>
                  </a:lnTo>
                  <a:lnTo>
                    <a:pt x="241" y="58"/>
                  </a:lnTo>
                  <a:lnTo>
                    <a:pt x="227" y="60"/>
                  </a:lnTo>
                  <a:lnTo>
                    <a:pt x="214" y="63"/>
                  </a:lnTo>
                  <a:lnTo>
                    <a:pt x="200" y="63"/>
                  </a:lnTo>
                  <a:lnTo>
                    <a:pt x="186" y="66"/>
                  </a:lnTo>
                  <a:lnTo>
                    <a:pt x="173" y="66"/>
                  </a:lnTo>
                  <a:lnTo>
                    <a:pt x="162" y="66"/>
                  </a:lnTo>
                  <a:lnTo>
                    <a:pt x="156" y="71"/>
                  </a:lnTo>
                  <a:lnTo>
                    <a:pt x="153" y="74"/>
                  </a:lnTo>
                  <a:lnTo>
                    <a:pt x="148" y="77"/>
                  </a:lnTo>
                  <a:lnTo>
                    <a:pt x="142" y="80"/>
                  </a:lnTo>
                  <a:lnTo>
                    <a:pt x="137" y="82"/>
                  </a:lnTo>
                  <a:lnTo>
                    <a:pt x="131" y="82"/>
                  </a:lnTo>
                  <a:lnTo>
                    <a:pt x="126" y="85"/>
                  </a:lnTo>
                  <a:lnTo>
                    <a:pt x="118" y="85"/>
                  </a:lnTo>
                  <a:lnTo>
                    <a:pt x="22" y="178"/>
                  </a:lnTo>
                  <a:lnTo>
                    <a:pt x="22" y="195"/>
                  </a:lnTo>
                  <a:lnTo>
                    <a:pt x="19" y="211"/>
                  </a:lnTo>
                  <a:lnTo>
                    <a:pt x="16" y="233"/>
                  </a:lnTo>
                  <a:lnTo>
                    <a:pt x="14" y="253"/>
                  </a:lnTo>
                  <a:lnTo>
                    <a:pt x="11" y="275"/>
                  </a:lnTo>
                  <a:lnTo>
                    <a:pt x="8" y="294"/>
                  </a:lnTo>
                  <a:lnTo>
                    <a:pt x="3" y="313"/>
                  </a:lnTo>
                  <a:lnTo>
                    <a:pt x="0" y="327"/>
                  </a:lnTo>
                  <a:lnTo>
                    <a:pt x="33" y="579"/>
                  </a:lnTo>
                  <a:lnTo>
                    <a:pt x="60" y="582"/>
                  </a:lnTo>
                  <a:lnTo>
                    <a:pt x="90" y="590"/>
                  </a:lnTo>
                  <a:lnTo>
                    <a:pt x="118" y="604"/>
                  </a:lnTo>
                  <a:lnTo>
                    <a:pt x="145" y="620"/>
                  </a:lnTo>
                  <a:lnTo>
                    <a:pt x="197" y="659"/>
                  </a:lnTo>
                  <a:lnTo>
                    <a:pt x="252" y="697"/>
                  </a:lnTo>
                  <a:lnTo>
                    <a:pt x="279" y="716"/>
                  </a:lnTo>
                  <a:lnTo>
                    <a:pt x="310" y="730"/>
                  </a:lnTo>
                  <a:lnTo>
                    <a:pt x="342" y="741"/>
                  </a:lnTo>
                  <a:lnTo>
                    <a:pt x="375" y="749"/>
                  </a:lnTo>
                  <a:lnTo>
                    <a:pt x="392" y="749"/>
                  </a:lnTo>
                  <a:lnTo>
                    <a:pt x="411" y="749"/>
                  </a:lnTo>
                  <a:lnTo>
                    <a:pt x="430" y="749"/>
                  </a:lnTo>
                  <a:lnTo>
                    <a:pt x="449" y="744"/>
                  </a:lnTo>
                  <a:lnTo>
                    <a:pt x="471" y="738"/>
                  </a:lnTo>
                  <a:lnTo>
                    <a:pt x="490" y="733"/>
                  </a:lnTo>
                  <a:lnTo>
                    <a:pt x="512" y="722"/>
                  </a:lnTo>
                  <a:lnTo>
                    <a:pt x="534" y="711"/>
                  </a:lnTo>
                  <a:lnTo>
                    <a:pt x="537" y="684"/>
                  </a:lnTo>
                  <a:lnTo>
                    <a:pt x="537" y="659"/>
                  </a:lnTo>
                  <a:lnTo>
                    <a:pt x="540" y="634"/>
                  </a:lnTo>
                  <a:lnTo>
                    <a:pt x="542" y="612"/>
                  </a:lnTo>
                  <a:lnTo>
                    <a:pt x="542" y="587"/>
                  </a:lnTo>
                  <a:lnTo>
                    <a:pt x="540" y="563"/>
                  </a:lnTo>
                  <a:lnTo>
                    <a:pt x="534" y="535"/>
                  </a:lnTo>
                  <a:lnTo>
                    <a:pt x="526" y="505"/>
                  </a:lnTo>
                  <a:lnTo>
                    <a:pt x="512" y="500"/>
                  </a:lnTo>
                  <a:lnTo>
                    <a:pt x="499" y="494"/>
                  </a:lnTo>
                  <a:lnTo>
                    <a:pt x="485" y="486"/>
                  </a:lnTo>
                  <a:lnTo>
                    <a:pt x="471" y="475"/>
                  </a:lnTo>
                  <a:lnTo>
                    <a:pt x="460" y="467"/>
                  </a:lnTo>
                  <a:lnTo>
                    <a:pt x="447" y="456"/>
                  </a:lnTo>
                  <a:lnTo>
                    <a:pt x="438" y="447"/>
                  </a:lnTo>
                  <a:lnTo>
                    <a:pt x="427" y="439"/>
                  </a:lnTo>
                  <a:lnTo>
                    <a:pt x="430" y="417"/>
                  </a:lnTo>
                  <a:lnTo>
                    <a:pt x="438" y="390"/>
                  </a:lnTo>
                  <a:lnTo>
                    <a:pt x="449" y="357"/>
                  </a:lnTo>
                  <a:lnTo>
                    <a:pt x="466" y="324"/>
                  </a:lnTo>
                  <a:lnTo>
                    <a:pt x="496" y="253"/>
                  </a:lnTo>
                  <a:lnTo>
                    <a:pt x="526" y="178"/>
                  </a:lnTo>
                  <a:lnTo>
                    <a:pt x="534" y="143"/>
                  </a:lnTo>
                  <a:lnTo>
                    <a:pt x="542" y="110"/>
                  </a:lnTo>
                  <a:lnTo>
                    <a:pt x="542" y="96"/>
                  </a:lnTo>
                  <a:lnTo>
                    <a:pt x="542" y="80"/>
                  </a:lnTo>
                  <a:lnTo>
                    <a:pt x="540" y="66"/>
                  </a:lnTo>
                  <a:lnTo>
                    <a:pt x="537" y="55"/>
                  </a:lnTo>
                  <a:lnTo>
                    <a:pt x="532" y="41"/>
                  </a:lnTo>
                  <a:lnTo>
                    <a:pt x="523" y="33"/>
                  </a:lnTo>
                  <a:lnTo>
                    <a:pt x="515" y="22"/>
                  </a:lnTo>
                  <a:lnTo>
                    <a:pt x="501" y="17"/>
                  </a:lnTo>
                  <a:lnTo>
                    <a:pt x="488" y="8"/>
                  </a:lnTo>
                  <a:lnTo>
                    <a:pt x="471" y="6"/>
                  </a:lnTo>
                  <a:lnTo>
                    <a:pt x="452" y="3"/>
                  </a:lnTo>
                  <a:lnTo>
                    <a:pt x="427" y="0"/>
                  </a:lnTo>
                  <a:close/>
                </a:path>
              </a:pathLst>
            </a:custGeom>
            <a:solidFill>
              <a:srgbClr val="828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70680" y="7035840"/>
              <a:ext cx="215280" cy="265320"/>
            </a:xfrm>
            <a:custGeom>
              <a:avLst/>
              <a:gdLst/>
              <a:ahLst/>
              <a:rect l="l" t="t" r="r" b="b"/>
              <a:pathLst>
                <a:path w="460" h="637">
                  <a:moveTo>
                    <a:pt x="362" y="0"/>
                  </a:moveTo>
                  <a:lnTo>
                    <a:pt x="354" y="9"/>
                  </a:lnTo>
                  <a:lnTo>
                    <a:pt x="343" y="14"/>
                  </a:lnTo>
                  <a:lnTo>
                    <a:pt x="332" y="22"/>
                  </a:lnTo>
                  <a:lnTo>
                    <a:pt x="323" y="28"/>
                  </a:lnTo>
                  <a:lnTo>
                    <a:pt x="312" y="36"/>
                  </a:lnTo>
                  <a:lnTo>
                    <a:pt x="301" y="42"/>
                  </a:lnTo>
                  <a:lnTo>
                    <a:pt x="290" y="50"/>
                  </a:lnTo>
                  <a:lnTo>
                    <a:pt x="282" y="55"/>
                  </a:lnTo>
                  <a:lnTo>
                    <a:pt x="269" y="55"/>
                  </a:lnTo>
                  <a:lnTo>
                    <a:pt x="260" y="55"/>
                  </a:lnTo>
                  <a:lnTo>
                    <a:pt x="252" y="55"/>
                  </a:lnTo>
                  <a:lnTo>
                    <a:pt x="247" y="55"/>
                  </a:lnTo>
                  <a:lnTo>
                    <a:pt x="241" y="55"/>
                  </a:lnTo>
                  <a:lnTo>
                    <a:pt x="238" y="53"/>
                  </a:lnTo>
                  <a:lnTo>
                    <a:pt x="233" y="50"/>
                  </a:lnTo>
                  <a:lnTo>
                    <a:pt x="227" y="47"/>
                  </a:lnTo>
                  <a:lnTo>
                    <a:pt x="217" y="47"/>
                  </a:lnTo>
                  <a:lnTo>
                    <a:pt x="206" y="50"/>
                  </a:lnTo>
                  <a:lnTo>
                    <a:pt x="192" y="50"/>
                  </a:lnTo>
                  <a:lnTo>
                    <a:pt x="181" y="53"/>
                  </a:lnTo>
                  <a:lnTo>
                    <a:pt x="170" y="53"/>
                  </a:lnTo>
                  <a:lnTo>
                    <a:pt x="156" y="55"/>
                  </a:lnTo>
                  <a:lnTo>
                    <a:pt x="145" y="55"/>
                  </a:lnTo>
                  <a:lnTo>
                    <a:pt x="134" y="55"/>
                  </a:lnTo>
                  <a:lnTo>
                    <a:pt x="132" y="58"/>
                  </a:lnTo>
                  <a:lnTo>
                    <a:pt x="129" y="61"/>
                  </a:lnTo>
                  <a:lnTo>
                    <a:pt x="126" y="64"/>
                  </a:lnTo>
                  <a:lnTo>
                    <a:pt x="121" y="66"/>
                  </a:lnTo>
                  <a:lnTo>
                    <a:pt x="115" y="69"/>
                  </a:lnTo>
                  <a:lnTo>
                    <a:pt x="112" y="72"/>
                  </a:lnTo>
                  <a:lnTo>
                    <a:pt x="104" y="72"/>
                  </a:lnTo>
                  <a:lnTo>
                    <a:pt x="99" y="72"/>
                  </a:lnTo>
                  <a:lnTo>
                    <a:pt x="88" y="83"/>
                  </a:lnTo>
                  <a:lnTo>
                    <a:pt x="80" y="91"/>
                  </a:lnTo>
                  <a:lnTo>
                    <a:pt x="69" y="102"/>
                  </a:lnTo>
                  <a:lnTo>
                    <a:pt x="58" y="110"/>
                  </a:lnTo>
                  <a:lnTo>
                    <a:pt x="47" y="121"/>
                  </a:lnTo>
                  <a:lnTo>
                    <a:pt x="38" y="132"/>
                  </a:lnTo>
                  <a:lnTo>
                    <a:pt x="27" y="140"/>
                  </a:lnTo>
                  <a:lnTo>
                    <a:pt x="16" y="151"/>
                  </a:lnTo>
                  <a:lnTo>
                    <a:pt x="16" y="165"/>
                  </a:lnTo>
                  <a:lnTo>
                    <a:pt x="16" y="179"/>
                  </a:lnTo>
                  <a:lnTo>
                    <a:pt x="14" y="198"/>
                  </a:lnTo>
                  <a:lnTo>
                    <a:pt x="11" y="215"/>
                  </a:lnTo>
                  <a:lnTo>
                    <a:pt x="8" y="231"/>
                  </a:lnTo>
                  <a:lnTo>
                    <a:pt x="6" y="250"/>
                  </a:lnTo>
                  <a:lnTo>
                    <a:pt x="3" y="264"/>
                  </a:lnTo>
                  <a:lnTo>
                    <a:pt x="0" y="278"/>
                  </a:lnTo>
                  <a:lnTo>
                    <a:pt x="3" y="305"/>
                  </a:lnTo>
                  <a:lnTo>
                    <a:pt x="6" y="333"/>
                  </a:lnTo>
                  <a:lnTo>
                    <a:pt x="8" y="357"/>
                  </a:lnTo>
                  <a:lnTo>
                    <a:pt x="14" y="385"/>
                  </a:lnTo>
                  <a:lnTo>
                    <a:pt x="16" y="412"/>
                  </a:lnTo>
                  <a:lnTo>
                    <a:pt x="19" y="440"/>
                  </a:lnTo>
                  <a:lnTo>
                    <a:pt x="22" y="464"/>
                  </a:lnTo>
                  <a:lnTo>
                    <a:pt x="27" y="492"/>
                  </a:lnTo>
                  <a:lnTo>
                    <a:pt x="52" y="495"/>
                  </a:lnTo>
                  <a:lnTo>
                    <a:pt x="74" y="503"/>
                  </a:lnTo>
                  <a:lnTo>
                    <a:pt x="99" y="514"/>
                  </a:lnTo>
                  <a:lnTo>
                    <a:pt x="121" y="527"/>
                  </a:lnTo>
                  <a:lnTo>
                    <a:pt x="167" y="558"/>
                  </a:lnTo>
                  <a:lnTo>
                    <a:pt x="214" y="593"/>
                  </a:lnTo>
                  <a:lnTo>
                    <a:pt x="238" y="607"/>
                  </a:lnTo>
                  <a:lnTo>
                    <a:pt x="263" y="621"/>
                  </a:lnTo>
                  <a:lnTo>
                    <a:pt x="290" y="629"/>
                  </a:lnTo>
                  <a:lnTo>
                    <a:pt x="318" y="637"/>
                  </a:lnTo>
                  <a:lnTo>
                    <a:pt x="348" y="637"/>
                  </a:lnTo>
                  <a:lnTo>
                    <a:pt x="381" y="632"/>
                  </a:lnTo>
                  <a:lnTo>
                    <a:pt x="417" y="621"/>
                  </a:lnTo>
                  <a:lnTo>
                    <a:pt x="455" y="604"/>
                  </a:lnTo>
                  <a:lnTo>
                    <a:pt x="455" y="580"/>
                  </a:lnTo>
                  <a:lnTo>
                    <a:pt x="458" y="560"/>
                  </a:lnTo>
                  <a:lnTo>
                    <a:pt x="458" y="538"/>
                  </a:lnTo>
                  <a:lnTo>
                    <a:pt x="460" y="519"/>
                  </a:lnTo>
                  <a:lnTo>
                    <a:pt x="460" y="497"/>
                  </a:lnTo>
                  <a:lnTo>
                    <a:pt x="458" y="478"/>
                  </a:lnTo>
                  <a:lnTo>
                    <a:pt x="452" y="453"/>
                  </a:lnTo>
                  <a:lnTo>
                    <a:pt x="444" y="429"/>
                  </a:lnTo>
                  <a:lnTo>
                    <a:pt x="433" y="426"/>
                  </a:lnTo>
                  <a:lnTo>
                    <a:pt x="422" y="418"/>
                  </a:lnTo>
                  <a:lnTo>
                    <a:pt x="411" y="412"/>
                  </a:lnTo>
                  <a:lnTo>
                    <a:pt x="400" y="404"/>
                  </a:lnTo>
                  <a:lnTo>
                    <a:pt x="389" y="396"/>
                  </a:lnTo>
                  <a:lnTo>
                    <a:pt x="381" y="387"/>
                  </a:lnTo>
                  <a:lnTo>
                    <a:pt x="370" y="379"/>
                  </a:lnTo>
                  <a:lnTo>
                    <a:pt x="362" y="374"/>
                  </a:lnTo>
                  <a:lnTo>
                    <a:pt x="364" y="355"/>
                  </a:lnTo>
                  <a:lnTo>
                    <a:pt x="373" y="330"/>
                  </a:lnTo>
                  <a:lnTo>
                    <a:pt x="381" y="302"/>
                  </a:lnTo>
                  <a:lnTo>
                    <a:pt x="395" y="275"/>
                  </a:lnTo>
                  <a:lnTo>
                    <a:pt x="419" y="215"/>
                  </a:lnTo>
                  <a:lnTo>
                    <a:pt x="444" y="151"/>
                  </a:lnTo>
                  <a:lnTo>
                    <a:pt x="455" y="121"/>
                  </a:lnTo>
                  <a:lnTo>
                    <a:pt x="460" y="94"/>
                  </a:lnTo>
                  <a:lnTo>
                    <a:pt x="460" y="69"/>
                  </a:lnTo>
                  <a:lnTo>
                    <a:pt x="455" y="44"/>
                  </a:lnTo>
                  <a:lnTo>
                    <a:pt x="449" y="36"/>
                  </a:lnTo>
                  <a:lnTo>
                    <a:pt x="444" y="28"/>
                  </a:lnTo>
                  <a:lnTo>
                    <a:pt x="436" y="20"/>
                  </a:lnTo>
                  <a:lnTo>
                    <a:pt x="425" y="11"/>
                  </a:lnTo>
                  <a:lnTo>
                    <a:pt x="414" y="9"/>
                  </a:lnTo>
                  <a:lnTo>
                    <a:pt x="400" y="3"/>
                  </a:lnTo>
                  <a:lnTo>
                    <a:pt x="381" y="0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888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88320" y="7056720"/>
              <a:ext cx="178200" cy="218520"/>
            </a:xfrm>
            <a:custGeom>
              <a:avLst/>
              <a:gdLst/>
              <a:ahLst/>
              <a:rect l="l" t="t" r="r" b="b"/>
              <a:pathLst>
                <a:path w="381" h="524">
                  <a:moveTo>
                    <a:pt x="302" y="0"/>
                  </a:moveTo>
                  <a:lnTo>
                    <a:pt x="294" y="5"/>
                  </a:lnTo>
                  <a:lnTo>
                    <a:pt x="283" y="11"/>
                  </a:lnTo>
                  <a:lnTo>
                    <a:pt x="274" y="16"/>
                  </a:lnTo>
                  <a:lnTo>
                    <a:pt x="266" y="22"/>
                  </a:lnTo>
                  <a:lnTo>
                    <a:pt x="258" y="27"/>
                  </a:lnTo>
                  <a:lnTo>
                    <a:pt x="250" y="33"/>
                  </a:lnTo>
                  <a:lnTo>
                    <a:pt x="242" y="38"/>
                  </a:lnTo>
                  <a:lnTo>
                    <a:pt x="233" y="44"/>
                  </a:lnTo>
                  <a:lnTo>
                    <a:pt x="222" y="44"/>
                  </a:lnTo>
                  <a:lnTo>
                    <a:pt x="217" y="44"/>
                  </a:lnTo>
                  <a:lnTo>
                    <a:pt x="209" y="44"/>
                  </a:lnTo>
                  <a:lnTo>
                    <a:pt x="206" y="44"/>
                  </a:lnTo>
                  <a:lnTo>
                    <a:pt x="200" y="44"/>
                  </a:lnTo>
                  <a:lnTo>
                    <a:pt x="198" y="41"/>
                  </a:lnTo>
                  <a:lnTo>
                    <a:pt x="192" y="41"/>
                  </a:lnTo>
                  <a:lnTo>
                    <a:pt x="189" y="38"/>
                  </a:lnTo>
                  <a:lnTo>
                    <a:pt x="179" y="38"/>
                  </a:lnTo>
                  <a:lnTo>
                    <a:pt x="170" y="38"/>
                  </a:lnTo>
                  <a:lnTo>
                    <a:pt x="159" y="41"/>
                  </a:lnTo>
                  <a:lnTo>
                    <a:pt x="151" y="41"/>
                  </a:lnTo>
                  <a:lnTo>
                    <a:pt x="140" y="41"/>
                  </a:lnTo>
                  <a:lnTo>
                    <a:pt x="132" y="44"/>
                  </a:lnTo>
                  <a:lnTo>
                    <a:pt x="121" y="44"/>
                  </a:lnTo>
                  <a:lnTo>
                    <a:pt x="113" y="44"/>
                  </a:lnTo>
                  <a:lnTo>
                    <a:pt x="110" y="47"/>
                  </a:lnTo>
                  <a:lnTo>
                    <a:pt x="107" y="49"/>
                  </a:lnTo>
                  <a:lnTo>
                    <a:pt x="105" y="52"/>
                  </a:lnTo>
                  <a:lnTo>
                    <a:pt x="102" y="52"/>
                  </a:lnTo>
                  <a:lnTo>
                    <a:pt x="96" y="55"/>
                  </a:lnTo>
                  <a:lnTo>
                    <a:pt x="94" y="57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58" y="82"/>
                  </a:lnTo>
                  <a:lnTo>
                    <a:pt x="50" y="90"/>
                  </a:lnTo>
                  <a:lnTo>
                    <a:pt x="42" y="99"/>
                  </a:lnTo>
                  <a:lnTo>
                    <a:pt x="33" y="107"/>
                  </a:lnTo>
                  <a:lnTo>
                    <a:pt x="25" y="115"/>
                  </a:lnTo>
                  <a:lnTo>
                    <a:pt x="17" y="123"/>
                  </a:lnTo>
                  <a:lnTo>
                    <a:pt x="17" y="134"/>
                  </a:lnTo>
                  <a:lnTo>
                    <a:pt x="14" y="145"/>
                  </a:lnTo>
                  <a:lnTo>
                    <a:pt x="14" y="159"/>
                  </a:lnTo>
                  <a:lnTo>
                    <a:pt x="11" y="176"/>
                  </a:lnTo>
                  <a:lnTo>
                    <a:pt x="9" y="189"/>
                  </a:lnTo>
                  <a:lnTo>
                    <a:pt x="6" y="203"/>
                  </a:lnTo>
                  <a:lnTo>
                    <a:pt x="3" y="217"/>
                  </a:lnTo>
                  <a:lnTo>
                    <a:pt x="0" y="228"/>
                  </a:lnTo>
                  <a:lnTo>
                    <a:pt x="3" y="250"/>
                  </a:lnTo>
                  <a:lnTo>
                    <a:pt x="6" y="272"/>
                  </a:lnTo>
                  <a:lnTo>
                    <a:pt x="9" y="294"/>
                  </a:lnTo>
                  <a:lnTo>
                    <a:pt x="11" y="316"/>
                  </a:lnTo>
                  <a:lnTo>
                    <a:pt x="14" y="337"/>
                  </a:lnTo>
                  <a:lnTo>
                    <a:pt x="17" y="359"/>
                  </a:lnTo>
                  <a:lnTo>
                    <a:pt x="20" y="381"/>
                  </a:lnTo>
                  <a:lnTo>
                    <a:pt x="22" y="403"/>
                  </a:lnTo>
                  <a:lnTo>
                    <a:pt x="44" y="406"/>
                  </a:lnTo>
                  <a:lnTo>
                    <a:pt x="63" y="412"/>
                  </a:lnTo>
                  <a:lnTo>
                    <a:pt x="83" y="420"/>
                  </a:lnTo>
                  <a:lnTo>
                    <a:pt x="102" y="431"/>
                  </a:lnTo>
                  <a:lnTo>
                    <a:pt x="137" y="458"/>
                  </a:lnTo>
                  <a:lnTo>
                    <a:pt x="176" y="486"/>
                  </a:lnTo>
                  <a:lnTo>
                    <a:pt x="198" y="499"/>
                  </a:lnTo>
                  <a:lnTo>
                    <a:pt x="217" y="510"/>
                  </a:lnTo>
                  <a:lnTo>
                    <a:pt x="239" y="516"/>
                  </a:lnTo>
                  <a:lnTo>
                    <a:pt x="263" y="521"/>
                  </a:lnTo>
                  <a:lnTo>
                    <a:pt x="288" y="524"/>
                  </a:lnTo>
                  <a:lnTo>
                    <a:pt x="316" y="519"/>
                  </a:lnTo>
                  <a:lnTo>
                    <a:pt x="346" y="510"/>
                  </a:lnTo>
                  <a:lnTo>
                    <a:pt x="376" y="494"/>
                  </a:lnTo>
                  <a:lnTo>
                    <a:pt x="376" y="477"/>
                  </a:lnTo>
                  <a:lnTo>
                    <a:pt x="379" y="458"/>
                  </a:lnTo>
                  <a:lnTo>
                    <a:pt x="379" y="442"/>
                  </a:lnTo>
                  <a:lnTo>
                    <a:pt x="381" y="425"/>
                  </a:lnTo>
                  <a:lnTo>
                    <a:pt x="381" y="409"/>
                  </a:lnTo>
                  <a:lnTo>
                    <a:pt x="379" y="392"/>
                  </a:lnTo>
                  <a:lnTo>
                    <a:pt x="376" y="373"/>
                  </a:lnTo>
                  <a:lnTo>
                    <a:pt x="368" y="351"/>
                  </a:lnTo>
                  <a:lnTo>
                    <a:pt x="359" y="348"/>
                  </a:lnTo>
                  <a:lnTo>
                    <a:pt x="351" y="343"/>
                  </a:lnTo>
                  <a:lnTo>
                    <a:pt x="340" y="337"/>
                  </a:lnTo>
                  <a:lnTo>
                    <a:pt x="332" y="332"/>
                  </a:lnTo>
                  <a:lnTo>
                    <a:pt x="324" y="324"/>
                  </a:lnTo>
                  <a:lnTo>
                    <a:pt x="316" y="318"/>
                  </a:lnTo>
                  <a:lnTo>
                    <a:pt x="307" y="310"/>
                  </a:lnTo>
                  <a:lnTo>
                    <a:pt x="302" y="305"/>
                  </a:lnTo>
                  <a:lnTo>
                    <a:pt x="302" y="288"/>
                  </a:lnTo>
                  <a:lnTo>
                    <a:pt x="307" y="269"/>
                  </a:lnTo>
                  <a:lnTo>
                    <a:pt x="316" y="247"/>
                  </a:lnTo>
                  <a:lnTo>
                    <a:pt x="326" y="225"/>
                  </a:lnTo>
                  <a:lnTo>
                    <a:pt x="348" y="173"/>
                  </a:lnTo>
                  <a:lnTo>
                    <a:pt x="368" y="123"/>
                  </a:lnTo>
                  <a:lnTo>
                    <a:pt x="376" y="99"/>
                  </a:lnTo>
                  <a:lnTo>
                    <a:pt x="379" y="74"/>
                  </a:lnTo>
                  <a:lnTo>
                    <a:pt x="381" y="55"/>
                  </a:lnTo>
                  <a:lnTo>
                    <a:pt x="376" y="36"/>
                  </a:lnTo>
                  <a:lnTo>
                    <a:pt x="373" y="27"/>
                  </a:lnTo>
                  <a:lnTo>
                    <a:pt x="368" y="19"/>
                  </a:lnTo>
                  <a:lnTo>
                    <a:pt x="359" y="14"/>
                  </a:lnTo>
                  <a:lnTo>
                    <a:pt x="351" y="8"/>
                  </a:lnTo>
                  <a:lnTo>
                    <a:pt x="343" y="5"/>
                  </a:lnTo>
                  <a:lnTo>
                    <a:pt x="329" y="0"/>
                  </a:lnTo>
                  <a:lnTo>
                    <a:pt x="316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8c9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108120" y="7076520"/>
              <a:ext cx="139320" cy="171360"/>
            </a:xfrm>
            <a:custGeom>
              <a:avLst/>
              <a:gdLst/>
              <a:ahLst/>
              <a:rect l="l" t="t" r="r" b="b"/>
              <a:pathLst>
                <a:path w="298" h="411">
                  <a:moveTo>
                    <a:pt x="235" y="0"/>
                  </a:moveTo>
                  <a:lnTo>
                    <a:pt x="227" y="5"/>
                  </a:lnTo>
                  <a:lnTo>
                    <a:pt x="221" y="8"/>
                  </a:lnTo>
                  <a:lnTo>
                    <a:pt x="213" y="13"/>
                  </a:lnTo>
                  <a:lnTo>
                    <a:pt x="208" y="19"/>
                  </a:lnTo>
                  <a:lnTo>
                    <a:pt x="202" y="21"/>
                  </a:lnTo>
                  <a:lnTo>
                    <a:pt x="194" y="27"/>
                  </a:lnTo>
                  <a:lnTo>
                    <a:pt x="189" y="32"/>
                  </a:lnTo>
                  <a:lnTo>
                    <a:pt x="180" y="35"/>
                  </a:lnTo>
                  <a:lnTo>
                    <a:pt x="175" y="35"/>
                  </a:lnTo>
                  <a:lnTo>
                    <a:pt x="167" y="35"/>
                  </a:lnTo>
                  <a:lnTo>
                    <a:pt x="164" y="35"/>
                  </a:lnTo>
                  <a:lnTo>
                    <a:pt x="158" y="35"/>
                  </a:lnTo>
                  <a:lnTo>
                    <a:pt x="156" y="35"/>
                  </a:lnTo>
                  <a:lnTo>
                    <a:pt x="153" y="32"/>
                  </a:lnTo>
                  <a:lnTo>
                    <a:pt x="150" y="32"/>
                  </a:lnTo>
                  <a:lnTo>
                    <a:pt x="145" y="30"/>
                  </a:lnTo>
                  <a:lnTo>
                    <a:pt x="139" y="30"/>
                  </a:lnTo>
                  <a:lnTo>
                    <a:pt x="131" y="32"/>
                  </a:lnTo>
                  <a:lnTo>
                    <a:pt x="126" y="32"/>
                  </a:lnTo>
                  <a:lnTo>
                    <a:pt x="117" y="32"/>
                  </a:lnTo>
                  <a:lnTo>
                    <a:pt x="109" y="35"/>
                  </a:lnTo>
                  <a:lnTo>
                    <a:pt x="101" y="35"/>
                  </a:lnTo>
                  <a:lnTo>
                    <a:pt x="93" y="35"/>
                  </a:lnTo>
                  <a:lnTo>
                    <a:pt x="87" y="35"/>
                  </a:lnTo>
                  <a:lnTo>
                    <a:pt x="84" y="38"/>
                  </a:lnTo>
                  <a:lnTo>
                    <a:pt x="82" y="41"/>
                  </a:lnTo>
                  <a:lnTo>
                    <a:pt x="79" y="41"/>
                  </a:lnTo>
                  <a:lnTo>
                    <a:pt x="76" y="43"/>
                  </a:lnTo>
                  <a:lnTo>
                    <a:pt x="73" y="43"/>
                  </a:lnTo>
                  <a:lnTo>
                    <a:pt x="71" y="46"/>
                  </a:lnTo>
                  <a:lnTo>
                    <a:pt x="68" y="46"/>
                  </a:lnTo>
                  <a:lnTo>
                    <a:pt x="63" y="46"/>
                  </a:lnTo>
                  <a:lnTo>
                    <a:pt x="57" y="52"/>
                  </a:lnTo>
                  <a:lnTo>
                    <a:pt x="52" y="60"/>
                  </a:lnTo>
                  <a:lnTo>
                    <a:pt x="43" y="65"/>
                  </a:lnTo>
                  <a:lnTo>
                    <a:pt x="38" y="71"/>
                  </a:lnTo>
                  <a:lnTo>
                    <a:pt x="30" y="79"/>
                  </a:lnTo>
                  <a:lnTo>
                    <a:pt x="24" y="85"/>
                  </a:lnTo>
                  <a:lnTo>
                    <a:pt x="16" y="90"/>
                  </a:lnTo>
                  <a:lnTo>
                    <a:pt x="10" y="98"/>
                  </a:lnTo>
                  <a:lnTo>
                    <a:pt x="10" y="107"/>
                  </a:lnTo>
                  <a:lnTo>
                    <a:pt x="10" y="115"/>
                  </a:lnTo>
                  <a:lnTo>
                    <a:pt x="8" y="126"/>
                  </a:lnTo>
                  <a:lnTo>
                    <a:pt x="8" y="140"/>
                  </a:lnTo>
                  <a:lnTo>
                    <a:pt x="5" y="150"/>
                  </a:lnTo>
                  <a:lnTo>
                    <a:pt x="2" y="161"/>
                  </a:lnTo>
                  <a:lnTo>
                    <a:pt x="2" y="170"/>
                  </a:lnTo>
                  <a:lnTo>
                    <a:pt x="0" y="181"/>
                  </a:lnTo>
                  <a:lnTo>
                    <a:pt x="2" y="197"/>
                  </a:lnTo>
                  <a:lnTo>
                    <a:pt x="2" y="214"/>
                  </a:lnTo>
                  <a:lnTo>
                    <a:pt x="5" y="230"/>
                  </a:lnTo>
                  <a:lnTo>
                    <a:pt x="8" y="249"/>
                  </a:lnTo>
                  <a:lnTo>
                    <a:pt x="10" y="266"/>
                  </a:lnTo>
                  <a:lnTo>
                    <a:pt x="13" y="282"/>
                  </a:lnTo>
                  <a:lnTo>
                    <a:pt x="13" y="301"/>
                  </a:lnTo>
                  <a:lnTo>
                    <a:pt x="16" y="318"/>
                  </a:lnTo>
                  <a:lnTo>
                    <a:pt x="32" y="321"/>
                  </a:lnTo>
                  <a:lnTo>
                    <a:pt x="49" y="323"/>
                  </a:lnTo>
                  <a:lnTo>
                    <a:pt x="63" y="332"/>
                  </a:lnTo>
                  <a:lnTo>
                    <a:pt x="79" y="340"/>
                  </a:lnTo>
                  <a:lnTo>
                    <a:pt x="106" y="362"/>
                  </a:lnTo>
                  <a:lnTo>
                    <a:pt x="137" y="384"/>
                  </a:lnTo>
                  <a:lnTo>
                    <a:pt x="153" y="392"/>
                  </a:lnTo>
                  <a:lnTo>
                    <a:pt x="169" y="400"/>
                  </a:lnTo>
                  <a:lnTo>
                    <a:pt x="186" y="408"/>
                  </a:lnTo>
                  <a:lnTo>
                    <a:pt x="205" y="411"/>
                  </a:lnTo>
                  <a:lnTo>
                    <a:pt x="224" y="411"/>
                  </a:lnTo>
                  <a:lnTo>
                    <a:pt x="246" y="408"/>
                  </a:lnTo>
                  <a:lnTo>
                    <a:pt x="268" y="400"/>
                  </a:lnTo>
                  <a:lnTo>
                    <a:pt x="293" y="389"/>
                  </a:lnTo>
                  <a:lnTo>
                    <a:pt x="293" y="376"/>
                  </a:lnTo>
                  <a:lnTo>
                    <a:pt x="295" y="362"/>
                  </a:lnTo>
                  <a:lnTo>
                    <a:pt x="295" y="348"/>
                  </a:lnTo>
                  <a:lnTo>
                    <a:pt x="298" y="334"/>
                  </a:lnTo>
                  <a:lnTo>
                    <a:pt x="298" y="323"/>
                  </a:lnTo>
                  <a:lnTo>
                    <a:pt x="295" y="307"/>
                  </a:lnTo>
                  <a:lnTo>
                    <a:pt x="293" y="293"/>
                  </a:lnTo>
                  <a:lnTo>
                    <a:pt x="287" y="277"/>
                  </a:lnTo>
                  <a:lnTo>
                    <a:pt x="282" y="274"/>
                  </a:lnTo>
                  <a:lnTo>
                    <a:pt x="274" y="271"/>
                  </a:lnTo>
                  <a:lnTo>
                    <a:pt x="265" y="266"/>
                  </a:lnTo>
                  <a:lnTo>
                    <a:pt x="260" y="260"/>
                  </a:lnTo>
                  <a:lnTo>
                    <a:pt x="252" y="255"/>
                  </a:lnTo>
                  <a:lnTo>
                    <a:pt x="246" y="249"/>
                  </a:lnTo>
                  <a:lnTo>
                    <a:pt x="238" y="247"/>
                  </a:lnTo>
                  <a:lnTo>
                    <a:pt x="235" y="241"/>
                  </a:lnTo>
                  <a:lnTo>
                    <a:pt x="241" y="214"/>
                  </a:lnTo>
                  <a:lnTo>
                    <a:pt x="254" y="178"/>
                  </a:lnTo>
                  <a:lnTo>
                    <a:pt x="271" y="137"/>
                  </a:lnTo>
                  <a:lnTo>
                    <a:pt x="287" y="98"/>
                  </a:lnTo>
                  <a:lnTo>
                    <a:pt x="293" y="79"/>
                  </a:lnTo>
                  <a:lnTo>
                    <a:pt x="295" y="60"/>
                  </a:lnTo>
                  <a:lnTo>
                    <a:pt x="298" y="43"/>
                  </a:lnTo>
                  <a:lnTo>
                    <a:pt x="293" y="30"/>
                  </a:lnTo>
                  <a:lnTo>
                    <a:pt x="287" y="16"/>
                  </a:lnTo>
                  <a:lnTo>
                    <a:pt x="276" y="8"/>
                  </a:lnTo>
                  <a:lnTo>
                    <a:pt x="257" y="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91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25760" y="7097040"/>
              <a:ext cx="100800" cy="124560"/>
            </a:xfrm>
            <a:custGeom>
              <a:avLst/>
              <a:gdLst/>
              <a:ahLst/>
              <a:rect l="l" t="t" r="r" b="b"/>
              <a:pathLst>
                <a:path w="216" h="299">
                  <a:moveTo>
                    <a:pt x="172" y="0"/>
                  </a:moveTo>
                  <a:lnTo>
                    <a:pt x="167" y="3"/>
                  </a:lnTo>
                  <a:lnTo>
                    <a:pt x="162" y="5"/>
                  </a:lnTo>
                  <a:lnTo>
                    <a:pt x="159" y="8"/>
                  </a:lnTo>
                  <a:lnTo>
                    <a:pt x="153" y="11"/>
                  </a:lnTo>
                  <a:lnTo>
                    <a:pt x="148" y="16"/>
                  </a:lnTo>
                  <a:lnTo>
                    <a:pt x="142" y="19"/>
                  </a:lnTo>
                  <a:lnTo>
                    <a:pt x="137" y="22"/>
                  </a:lnTo>
                  <a:lnTo>
                    <a:pt x="134" y="25"/>
                  </a:lnTo>
                  <a:lnTo>
                    <a:pt x="129" y="25"/>
                  </a:lnTo>
                  <a:lnTo>
                    <a:pt x="123" y="25"/>
                  </a:lnTo>
                  <a:lnTo>
                    <a:pt x="120" y="25"/>
                  </a:lnTo>
                  <a:lnTo>
                    <a:pt x="118" y="25"/>
                  </a:lnTo>
                  <a:lnTo>
                    <a:pt x="115" y="25"/>
                  </a:lnTo>
                  <a:lnTo>
                    <a:pt x="112" y="25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4" y="22"/>
                  </a:lnTo>
                  <a:lnTo>
                    <a:pt x="99" y="22"/>
                  </a:lnTo>
                  <a:lnTo>
                    <a:pt x="93" y="22"/>
                  </a:lnTo>
                  <a:lnTo>
                    <a:pt x="88" y="22"/>
                  </a:lnTo>
                  <a:lnTo>
                    <a:pt x="79" y="25"/>
                  </a:lnTo>
                  <a:lnTo>
                    <a:pt x="74" y="25"/>
                  </a:lnTo>
                  <a:lnTo>
                    <a:pt x="71" y="25"/>
                  </a:lnTo>
                  <a:lnTo>
                    <a:pt x="66" y="25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0" y="30"/>
                  </a:lnTo>
                  <a:lnTo>
                    <a:pt x="57" y="30"/>
                  </a:lnTo>
                  <a:lnTo>
                    <a:pt x="55" y="30"/>
                  </a:lnTo>
                  <a:lnTo>
                    <a:pt x="55" y="33"/>
                  </a:lnTo>
                  <a:lnTo>
                    <a:pt x="52" y="33"/>
                  </a:lnTo>
                  <a:lnTo>
                    <a:pt x="46" y="33"/>
                  </a:lnTo>
                  <a:lnTo>
                    <a:pt x="44" y="38"/>
                  </a:lnTo>
                  <a:lnTo>
                    <a:pt x="38" y="41"/>
                  </a:lnTo>
                  <a:lnTo>
                    <a:pt x="33" y="47"/>
                  </a:lnTo>
                  <a:lnTo>
                    <a:pt x="27" y="52"/>
                  </a:lnTo>
                  <a:lnTo>
                    <a:pt x="25" y="55"/>
                  </a:lnTo>
                  <a:lnTo>
                    <a:pt x="19" y="60"/>
                  </a:lnTo>
                  <a:lnTo>
                    <a:pt x="14" y="66"/>
                  </a:lnTo>
                  <a:lnTo>
                    <a:pt x="8" y="69"/>
                  </a:lnTo>
                  <a:lnTo>
                    <a:pt x="8" y="77"/>
                  </a:lnTo>
                  <a:lnTo>
                    <a:pt x="8" y="82"/>
                  </a:lnTo>
                  <a:lnTo>
                    <a:pt x="8" y="91"/>
                  </a:lnTo>
                  <a:lnTo>
                    <a:pt x="5" y="99"/>
                  </a:lnTo>
                  <a:lnTo>
                    <a:pt x="5" y="107"/>
                  </a:lnTo>
                  <a:lnTo>
                    <a:pt x="3" y="115"/>
                  </a:lnTo>
                  <a:lnTo>
                    <a:pt x="3" y="123"/>
                  </a:lnTo>
                  <a:lnTo>
                    <a:pt x="0" y="129"/>
                  </a:lnTo>
                  <a:lnTo>
                    <a:pt x="3" y="143"/>
                  </a:lnTo>
                  <a:lnTo>
                    <a:pt x="3" y="154"/>
                  </a:lnTo>
                  <a:lnTo>
                    <a:pt x="5" y="167"/>
                  </a:lnTo>
                  <a:lnTo>
                    <a:pt x="8" y="181"/>
                  </a:lnTo>
                  <a:lnTo>
                    <a:pt x="8" y="192"/>
                  </a:lnTo>
                  <a:lnTo>
                    <a:pt x="11" y="206"/>
                  </a:lnTo>
                  <a:lnTo>
                    <a:pt x="11" y="217"/>
                  </a:lnTo>
                  <a:lnTo>
                    <a:pt x="14" y="230"/>
                  </a:lnTo>
                  <a:lnTo>
                    <a:pt x="25" y="230"/>
                  </a:lnTo>
                  <a:lnTo>
                    <a:pt x="35" y="236"/>
                  </a:lnTo>
                  <a:lnTo>
                    <a:pt x="46" y="239"/>
                  </a:lnTo>
                  <a:lnTo>
                    <a:pt x="57" y="247"/>
                  </a:lnTo>
                  <a:lnTo>
                    <a:pt x="79" y="261"/>
                  </a:lnTo>
                  <a:lnTo>
                    <a:pt x="101" y="277"/>
                  </a:lnTo>
                  <a:lnTo>
                    <a:pt x="112" y="285"/>
                  </a:lnTo>
                  <a:lnTo>
                    <a:pt x="126" y="291"/>
                  </a:lnTo>
                  <a:lnTo>
                    <a:pt x="137" y="296"/>
                  </a:lnTo>
                  <a:lnTo>
                    <a:pt x="151" y="299"/>
                  </a:lnTo>
                  <a:lnTo>
                    <a:pt x="164" y="299"/>
                  </a:lnTo>
                  <a:lnTo>
                    <a:pt x="181" y="296"/>
                  </a:lnTo>
                  <a:lnTo>
                    <a:pt x="197" y="291"/>
                  </a:lnTo>
                  <a:lnTo>
                    <a:pt x="214" y="283"/>
                  </a:lnTo>
                  <a:lnTo>
                    <a:pt x="216" y="272"/>
                  </a:lnTo>
                  <a:lnTo>
                    <a:pt x="216" y="261"/>
                  </a:lnTo>
                  <a:lnTo>
                    <a:pt x="216" y="252"/>
                  </a:lnTo>
                  <a:lnTo>
                    <a:pt x="216" y="244"/>
                  </a:lnTo>
                  <a:lnTo>
                    <a:pt x="216" y="233"/>
                  </a:lnTo>
                  <a:lnTo>
                    <a:pt x="216" y="222"/>
                  </a:lnTo>
                  <a:lnTo>
                    <a:pt x="214" y="211"/>
                  </a:lnTo>
                  <a:lnTo>
                    <a:pt x="211" y="200"/>
                  </a:lnTo>
                  <a:lnTo>
                    <a:pt x="205" y="198"/>
                  </a:lnTo>
                  <a:lnTo>
                    <a:pt x="200" y="195"/>
                  </a:lnTo>
                  <a:lnTo>
                    <a:pt x="194" y="192"/>
                  </a:lnTo>
                  <a:lnTo>
                    <a:pt x="189" y="189"/>
                  </a:lnTo>
                  <a:lnTo>
                    <a:pt x="183" y="184"/>
                  </a:lnTo>
                  <a:lnTo>
                    <a:pt x="181" y="181"/>
                  </a:lnTo>
                  <a:lnTo>
                    <a:pt x="175" y="178"/>
                  </a:lnTo>
                  <a:lnTo>
                    <a:pt x="172" y="176"/>
                  </a:lnTo>
                  <a:lnTo>
                    <a:pt x="175" y="154"/>
                  </a:lnTo>
                  <a:lnTo>
                    <a:pt x="186" y="129"/>
                  </a:lnTo>
                  <a:lnTo>
                    <a:pt x="200" y="99"/>
                  </a:lnTo>
                  <a:lnTo>
                    <a:pt x="211" y="69"/>
                  </a:lnTo>
                  <a:lnTo>
                    <a:pt x="214" y="55"/>
                  </a:lnTo>
                  <a:lnTo>
                    <a:pt x="216" y="44"/>
                  </a:lnTo>
                  <a:lnTo>
                    <a:pt x="216" y="30"/>
                  </a:lnTo>
                  <a:lnTo>
                    <a:pt x="216" y="19"/>
                  </a:lnTo>
                  <a:lnTo>
                    <a:pt x="211" y="11"/>
                  </a:lnTo>
                  <a:lnTo>
                    <a:pt x="203" y="5"/>
                  </a:lnTo>
                  <a:lnTo>
                    <a:pt x="189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959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145200" y="7116480"/>
              <a:ext cx="62640" cy="77400"/>
            </a:xfrm>
            <a:custGeom>
              <a:avLst/>
              <a:gdLst/>
              <a:ahLst/>
              <a:rect l="l" t="t" r="r" b="b"/>
              <a:pathLst>
                <a:path w="134" h="186">
                  <a:moveTo>
                    <a:pt x="107" y="0"/>
                  </a:moveTo>
                  <a:lnTo>
                    <a:pt x="82" y="16"/>
                  </a:lnTo>
                  <a:lnTo>
                    <a:pt x="79" y="16"/>
                  </a:lnTo>
                  <a:lnTo>
                    <a:pt x="77" y="16"/>
                  </a:lnTo>
                  <a:lnTo>
                    <a:pt x="74" y="16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6" y="13"/>
                  </a:lnTo>
                  <a:lnTo>
                    <a:pt x="63" y="13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2" y="16"/>
                  </a:lnTo>
                  <a:lnTo>
                    <a:pt x="49" y="16"/>
                  </a:lnTo>
                  <a:lnTo>
                    <a:pt x="47" y="16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8" y="19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5" y="52"/>
                  </a:lnTo>
                  <a:lnTo>
                    <a:pt x="3" y="57"/>
                  </a:lnTo>
                  <a:lnTo>
                    <a:pt x="3" y="63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8" y="145"/>
                  </a:lnTo>
                  <a:lnTo>
                    <a:pt x="22" y="148"/>
                  </a:lnTo>
                  <a:lnTo>
                    <a:pt x="36" y="156"/>
                  </a:lnTo>
                  <a:lnTo>
                    <a:pt x="49" y="164"/>
                  </a:lnTo>
                  <a:lnTo>
                    <a:pt x="63" y="175"/>
                  </a:lnTo>
                  <a:lnTo>
                    <a:pt x="77" y="183"/>
                  </a:lnTo>
                  <a:lnTo>
                    <a:pt x="93" y="186"/>
                  </a:lnTo>
                  <a:lnTo>
                    <a:pt x="101" y="186"/>
                  </a:lnTo>
                  <a:lnTo>
                    <a:pt x="112" y="186"/>
                  </a:lnTo>
                  <a:lnTo>
                    <a:pt x="123" y="183"/>
                  </a:lnTo>
                  <a:lnTo>
                    <a:pt x="134" y="178"/>
                  </a:lnTo>
                  <a:lnTo>
                    <a:pt x="134" y="170"/>
                  </a:lnTo>
                  <a:lnTo>
                    <a:pt x="134" y="164"/>
                  </a:lnTo>
                  <a:lnTo>
                    <a:pt x="134" y="159"/>
                  </a:lnTo>
                  <a:lnTo>
                    <a:pt x="134" y="153"/>
                  </a:lnTo>
                  <a:lnTo>
                    <a:pt x="134" y="148"/>
                  </a:lnTo>
                  <a:lnTo>
                    <a:pt x="134" y="140"/>
                  </a:lnTo>
                  <a:lnTo>
                    <a:pt x="134" y="134"/>
                  </a:lnTo>
                  <a:lnTo>
                    <a:pt x="131" y="126"/>
                  </a:lnTo>
                  <a:lnTo>
                    <a:pt x="129" y="126"/>
                  </a:lnTo>
                  <a:lnTo>
                    <a:pt x="123" y="123"/>
                  </a:lnTo>
                  <a:lnTo>
                    <a:pt x="121" y="120"/>
                  </a:lnTo>
                  <a:lnTo>
                    <a:pt x="118" y="118"/>
                  </a:lnTo>
                  <a:lnTo>
                    <a:pt x="115" y="118"/>
                  </a:lnTo>
                  <a:lnTo>
                    <a:pt x="112" y="115"/>
                  </a:lnTo>
                  <a:lnTo>
                    <a:pt x="110" y="112"/>
                  </a:lnTo>
                  <a:lnTo>
                    <a:pt x="107" y="109"/>
                  </a:lnTo>
                  <a:lnTo>
                    <a:pt x="110" y="96"/>
                  </a:lnTo>
                  <a:lnTo>
                    <a:pt x="115" y="82"/>
                  </a:lnTo>
                  <a:lnTo>
                    <a:pt x="123" y="63"/>
                  </a:lnTo>
                  <a:lnTo>
                    <a:pt x="131" y="44"/>
                  </a:lnTo>
                  <a:lnTo>
                    <a:pt x="134" y="27"/>
                  </a:lnTo>
                  <a:lnTo>
                    <a:pt x="134" y="13"/>
                  </a:lnTo>
                  <a:lnTo>
                    <a:pt x="131" y="8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99a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26680" y="7327080"/>
              <a:ext cx="187200" cy="249120"/>
            </a:xfrm>
            <a:custGeom>
              <a:avLst/>
              <a:gdLst/>
              <a:ahLst/>
              <a:rect l="l" t="t" r="r" b="b"/>
              <a:pathLst>
                <a:path w="400" h="598">
                  <a:moveTo>
                    <a:pt x="113" y="71"/>
                  </a:moveTo>
                  <a:lnTo>
                    <a:pt x="233" y="126"/>
                  </a:lnTo>
                  <a:lnTo>
                    <a:pt x="354" y="151"/>
                  </a:lnTo>
                  <a:lnTo>
                    <a:pt x="376" y="557"/>
                  </a:lnTo>
                  <a:lnTo>
                    <a:pt x="400" y="598"/>
                  </a:lnTo>
                  <a:lnTo>
                    <a:pt x="299" y="590"/>
                  </a:lnTo>
                  <a:lnTo>
                    <a:pt x="167" y="535"/>
                  </a:lnTo>
                  <a:lnTo>
                    <a:pt x="156" y="524"/>
                  </a:lnTo>
                  <a:lnTo>
                    <a:pt x="156" y="524"/>
                  </a:lnTo>
                  <a:lnTo>
                    <a:pt x="156" y="521"/>
                  </a:lnTo>
                  <a:lnTo>
                    <a:pt x="156" y="521"/>
                  </a:lnTo>
                  <a:lnTo>
                    <a:pt x="156" y="518"/>
                  </a:lnTo>
                  <a:lnTo>
                    <a:pt x="156" y="518"/>
                  </a:lnTo>
                  <a:lnTo>
                    <a:pt x="156" y="518"/>
                  </a:lnTo>
                  <a:lnTo>
                    <a:pt x="156" y="516"/>
                  </a:lnTo>
                  <a:lnTo>
                    <a:pt x="156" y="516"/>
                  </a:lnTo>
                  <a:lnTo>
                    <a:pt x="167" y="510"/>
                  </a:lnTo>
                  <a:lnTo>
                    <a:pt x="181" y="510"/>
                  </a:lnTo>
                  <a:lnTo>
                    <a:pt x="195" y="507"/>
                  </a:lnTo>
                  <a:lnTo>
                    <a:pt x="208" y="507"/>
                  </a:lnTo>
                  <a:lnTo>
                    <a:pt x="222" y="505"/>
                  </a:lnTo>
                  <a:lnTo>
                    <a:pt x="233" y="499"/>
                  </a:lnTo>
                  <a:lnTo>
                    <a:pt x="244" y="494"/>
                  </a:lnTo>
                  <a:lnTo>
                    <a:pt x="250" y="483"/>
                  </a:lnTo>
                  <a:lnTo>
                    <a:pt x="263" y="483"/>
                  </a:lnTo>
                  <a:lnTo>
                    <a:pt x="274" y="480"/>
                  </a:lnTo>
                  <a:lnTo>
                    <a:pt x="282" y="477"/>
                  </a:lnTo>
                  <a:lnTo>
                    <a:pt x="291" y="472"/>
                  </a:lnTo>
                  <a:lnTo>
                    <a:pt x="304" y="461"/>
                  </a:lnTo>
                  <a:lnTo>
                    <a:pt x="313" y="444"/>
                  </a:lnTo>
                  <a:lnTo>
                    <a:pt x="318" y="400"/>
                  </a:lnTo>
                  <a:lnTo>
                    <a:pt x="313" y="351"/>
                  </a:lnTo>
                  <a:lnTo>
                    <a:pt x="299" y="302"/>
                  </a:lnTo>
                  <a:lnTo>
                    <a:pt x="285" y="255"/>
                  </a:lnTo>
                  <a:lnTo>
                    <a:pt x="274" y="216"/>
                  </a:lnTo>
                  <a:lnTo>
                    <a:pt x="269" y="197"/>
                  </a:lnTo>
                  <a:lnTo>
                    <a:pt x="255" y="195"/>
                  </a:lnTo>
                  <a:lnTo>
                    <a:pt x="239" y="192"/>
                  </a:lnTo>
                  <a:lnTo>
                    <a:pt x="222" y="186"/>
                  </a:lnTo>
                  <a:lnTo>
                    <a:pt x="203" y="178"/>
                  </a:lnTo>
                  <a:lnTo>
                    <a:pt x="184" y="170"/>
                  </a:lnTo>
                  <a:lnTo>
                    <a:pt x="165" y="162"/>
                  </a:lnTo>
                  <a:lnTo>
                    <a:pt x="151" y="153"/>
                  </a:lnTo>
                  <a:lnTo>
                    <a:pt x="137" y="148"/>
                  </a:lnTo>
                  <a:lnTo>
                    <a:pt x="137" y="140"/>
                  </a:lnTo>
                  <a:lnTo>
                    <a:pt x="134" y="137"/>
                  </a:lnTo>
                  <a:lnTo>
                    <a:pt x="129" y="134"/>
                  </a:lnTo>
                  <a:lnTo>
                    <a:pt x="123" y="134"/>
                  </a:lnTo>
                  <a:lnTo>
                    <a:pt x="118" y="131"/>
                  </a:lnTo>
                  <a:lnTo>
                    <a:pt x="110" y="126"/>
                  </a:lnTo>
                  <a:lnTo>
                    <a:pt x="104" y="123"/>
                  </a:lnTo>
                  <a:lnTo>
                    <a:pt x="99" y="120"/>
                  </a:lnTo>
                  <a:lnTo>
                    <a:pt x="96" y="115"/>
                  </a:lnTo>
                  <a:lnTo>
                    <a:pt x="82" y="115"/>
                  </a:lnTo>
                  <a:lnTo>
                    <a:pt x="71" y="112"/>
                  </a:lnTo>
                  <a:lnTo>
                    <a:pt x="60" y="109"/>
                  </a:lnTo>
                  <a:lnTo>
                    <a:pt x="49" y="107"/>
                  </a:lnTo>
                  <a:lnTo>
                    <a:pt x="39" y="101"/>
                  </a:lnTo>
                  <a:lnTo>
                    <a:pt x="28" y="96"/>
                  </a:lnTo>
                  <a:lnTo>
                    <a:pt x="17" y="90"/>
                  </a:lnTo>
                  <a:lnTo>
                    <a:pt x="8" y="82"/>
                  </a:lnTo>
                  <a:lnTo>
                    <a:pt x="0" y="0"/>
                  </a:lnTo>
                  <a:lnTo>
                    <a:pt x="91" y="24"/>
                  </a:lnTo>
                  <a:lnTo>
                    <a:pt x="113" y="71"/>
                  </a:lnTo>
                  <a:close/>
                </a:path>
              </a:pathLst>
            </a:custGeom>
            <a:solidFill>
              <a:srgbClr val="ccb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114240" y="7363440"/>
              <a:ext cx="263160" cy="266760"/>
            </a:xfrm>
            <a:custGeom>
              <a:avLst/>
              <a:gdLst/>
              <a:ahLst/>
              <a:rect l="l" t="t" r="r" b="b"/>
              <a:pathLst>
                <a:path w="562" h="640">
                  <a:moveTo>
                    <a:pt x="556" y="591"/>
                  </a:moveTo>
                  <a:lnTo>
                    <a:pt x="526" y="607"/>
                  </a:lnTo>
                  <a:lnTo>
                    <a:pt x="359" y="640"/>
                  </a:lnTo>
                  <a:lnTo>
                    <a:pt x="214" y="629"/>
                  </a:lnTo>
                  <a:lnTo>
                    <a:pt x="184" y="599"/>
                  </a:lnTo>
                  <a:lnTo>
                    <a:pt x="184" y="582"/>
                  </a:lnTo>
                  <a:lnTo>
                    <a:pt x="222" y="582"/>
                  </a:lnTo>
                  <a:lnTo>
                    <a:pt x="233" y="574"/>
                  </a:lnTo>
                  <a:lnTo>
                    <a:pt x="192" y="544"/>
                  </a:lnTo>
                  <a:lnTo>
                    <a:pt x="104" y="536"/>
                  </a:lnTo>
                  <a:lnTo>
                    <a:pt x="55" y="503"/>
                  </a:lnTo>
                  <a:lnTo>
                    <a:pt x="17" y="431"/>
                  </a:lnTo>
                  <a:lnTo>
                    <a:pt x="17" y="429"/>
                  </a:lnTo>
                  <a:lnTo>
                    <a:pt x="17" y="429"/>
                  </a:lnTo>
                  <a:lnTo>
                    <a:pt x="17" y="429"/>
                  </a:lnTo>
                  <a:lnTo>
                    <a:pt x="17" y="429"/>
                  </a:lnTo>
                  <a:lnTo>
                    <a:pt x="17" y="429"/>
                  </a:lnTo>
                  <a:lnTo>
                    <a:pt x="19" y="429"/>
                  </a:lnTo>
                  <a:lnTo>
                    <a:pt x="19" y="429"/>
                  </a:lnTo>
                  <a:lnTo>
                    <a:pt x="19" y="429"/>
                  </a:lnTo>
                  <a:lnTo>
                    <a:pt x="19" y="429"/>
                  </a:lnTo>
                  <a:lnTo>
                    <a:pt x="33" y="434"/>
                  </a:lnTo>
                  <a:lnTo>
                    <a:pt x="47" y="440"/>
                  </a:lnTo>
                  <a:lnTo>
                    <a:pt x="60" y="445"/>
                  </a:lnTo>
                  <a:lnTo>
                    <a:pt x="77" y="451"/>
                  </a:lnTo>
                  <a:lnTo>
                    <a:pt x="93" y="459"/>
                  </a:lnTo>
                  <a:lnTo>
                    <a:pt x="107" y="467"/>
                  </a:lnTo>
                  <a:lnTo>
                    <a:pt x="121" y="475"/>
                  </a:lnTo>
                  <a:lnTo>
                    <a:pt x="132" y="484"/>
                  </a:lnTo>
                  <a:lnTo>
                    <a:pt x="140" y="486"/>
                  </a:lnTo>
                  <a:lnTo>
                    <a:pt x="154" y="489"/>
                  </a:lnTo>
                  <a:lnTo>
                    <a:pt x="167" y="492"/>
                  </a:lnTo>
                  <a:lnTo>
                    <a:pt x="187" y="495"/>
                  </a:lnTo>
                  <a:lnTo>
                    <a:pt x="203" y="495"/>
                  </a:lnTo>
                  <a:lnTo>
                    <a:pt x="217" y="495"/>
                  </a:lnTo>
                  <a:lnTo>
                    <a:pt x="222" y="495"/>
                  </a:lnTo>
                  <a:lnTo>
                    <a:pt x="228" y="492"/>
                  </a:lnTo>
                  <a:lnTo>
                    <a:pt x="230" y="489"/>
                  </a:lnTo>
                  <a:lnTo>
                    <a:pt x="230" y="484"/>
                  </a:lnTo>
                  <a:lnTo>
                    <a:pt x="250" y="484"/>
                  </a:lnTo>
                  <a:lnTo>
                    <a:pt x="252" y="478"/>
                  </a:lnTo>
                  <a:lnTo>
                    <a:pt x="255" y="470"/>
                  </a:lnTo>
                  <a:lnTo>
                    <a:pt x="258" y="467"/>
                  </a:lnTo>
                  <a:lnTo>
                    <a:pt x="263" y="464"/>
                  </a:lnTo>
                  <a:lnTo>
                    <a:pt x="277" y="462"/>
                  </a:lnTo>
                  <a:lnTo>
                    <a:pt x="296" y="462"/>
                  </a:lnTo>
                  <a:lnTo>
                    <a:pt x="313" y="467"/>
                  </a:lnTo>
                  <a:lnTo>
                    <a:pt x="329" y="473"/>
                  </a:lnTo>
                  <a:lnTo>
                    <a:pt x="343" y="481"/>
                  </a:lnTo>
                  <a:lnTo>
                    <a:pt x="351" y="492"/>
                  </a:lnTo>
                  <a:lnTo>
                    <a:pt x="345" y="495"/>
                  </a:lnTo>
                  <a:lnTo>
                    <a:pt x="340" y="503"/>
                  </a:lnTo>
                  <a:lnTo>
                    <a:pt x="334" y="508"/>
                  </a:lnTo>
                  <a:lnTo>
                    <a:pt x="329" y="514"/>
                  </a:lnTo>
                  <a:lnTo>
                    <a:pt x="324" y="519"/>
                  </a:lnTo>
                  <a:lnTo>
                    <a:pt x="318" y="525"/>
                  </a:lnTo>
                  <a:lnTo>
                    <a:pt x="313" y="527"/>
                  </a:lnTo>
                  <a:lnTo>
                    <a:pt x="307" y="527"/>
                  </a:lnTo>
                  <a:lnTo>
                    <a:pt x="304" y="530"/>
                  </a:lnTo>
                  <a:lnTo>
                    <a:pt x="304" y="536"/>
                  </a:lnTo>
                  <a:lnTo>
                    <a:pt x="302" y="544"/>
                  </a:lnTo>
                  <a:lnTo>
                    <a:pt x="302" y="549"/>
                  </a:lnTo>
                  <a:lnTo>
                    <a:pt x="299" y="558"/>
                  </a:lnTo>
                  <a:lnTo>
                    <a:pt x="299" y="563"/>
                  </a:lnTo>
                  <a:lnTo>
                    <a:pt x="299" y="569"/>
                  </a:lnTo>
                  <a:lnTo>
                    <a:pt x="299" y="571"/>
                  </a:lnTo>
                  <a:lnTo>
                    <a:pt x="307" y="571"/>
                  </a:lnTo>
                  <a:lnTo>
                    <a:pt x="307" y="574"/>
                  </a:lnTo>
                  <a:lnTo>
                    <a:pt x="307" y="580"/>
                  </a:lnTo>
                  <a:lnTo>
                    <a:pt x="310" y="585"/>
                  </a:lnTo>
                  <a:lnTo>
                    <a:pt x="313" y="591"/>
                  </a:lnTo>
                  <a:lnTo>
                    <a:pt x="315" y="596"/>
                  </a:lnTo>
                  <a:lnTo>
                    <a:pt x="315" y="602"/>
                  </a:lnTo>
                  <a:lnTo>
                    <a:pt x="318" y="607"/>
                  </a:lnTo>
                  <a:lnTo>
                    <a:pt x="318" y="610"/>
                  </a:lnTo>
                  <a:lnTo>
                    <a:pt x="348" y="610"/>
                  </a:lnTo>
                  <a:lnTo>
                    <a:pt x="378" y="607"/>
                  </a:lnTo>
                  <a:lnTo>
                    <a:pt x="406" y="604"/>
                  </a:lnTo>
                  <a:lnTo>
                    <a:pt x="436" y="604"/>
                  </a:lnTo>
                  <a:lnTo>
                    <a:pt x="466" y="599"/>
                  </a:lnTo>
                  <a:lnTo>
                    <a:pt x="496" y="596"/>
                  </a:lnTo>
                  <a:lnTo>
                    <a:pt x="526" y="593"/>
                  </a:lnTo>
                  <a:lnTo>
                    <a:pt x="556" y="591"/>
                  </a:lnTo>
                  <a:close/>
                  <a:moveTo>
                    <a:pt x="0" y="105"/>
                  </a:moveTo>
                  <a:lnTo>
                    <a:pt x="0" y="97"/>
                  </a:lnTo>
                  <a:lnTo>
                    <a:pt x="0" y="72"/>
                  </a:lnTo>
                  <a:lnTo>
                    <a:pt x="318" y="55"/>
                  </a:lnTo>
                  <a:lnTo>
                    <a:pt x="535" y="9"/>
                  </a:lnTo>
                  <a:lnTo>
                    <a:pt x="559" y="0"/>
                  </a:lnTo>
                  <a:lnTo>
                    <a:pt x="562" y="102"/>
                  </a:lnTo>
                  <a:lnTo>
                    <a:pt x="496" y="105"/>
                  </a:lnTo>
                  <a:lnTo>
                    <a:pt x="428" y="113"/>
                  </a:lnTo>
                  <a:lnTo>
                    <a:pt x="356" y="119"/>
                  </a:lnTo>
                  <a:lnTo>
                    <a:pt x="282" y="127"/>
                  </a:lnTo>
                  <a:lnTo>
                    <a:pt x="208" y="129"/>
                  </a:lnTo>
                  <a:lnTo>
                    <a:pt x="134" y="129"/>
                  </a:lnTo>
                  <a:lnTo>
                    <a:pt x="102" y="127"/>
                  </a:lnTo>
                  <a:lnTo>
                    <a:pt x="66" y="121"/>
                  </a:lnTo>
                  <a:lnTo>
                    <a:pt x="33" y="11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ccb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38720" y="7428960"/>
              <a:ext cx="152640" cy="115200"/>
            </a:xfrm>
            <a:custGeom>
              <a:avLst/>
              <a:gdLst/>
              <a:ahLst/>
              <a:rect l="l" t="t" r="r" b="b"/>
              <a:pathLst>
                <a:path w="326" h="277">
                  <a:moveTo>
                    <a:pt x="315" y="66"/>
                  </a:moveTo>
                  <a:lnTo>
                    <a:pt x="285" y="22"/>
                  </a:lnTo>
                  <a:lnTo>
                    <a:pt x="263" y="19"/>
                  </a:lnTo>
                  <a:lnTo>
                    <a:pt x="233" y="14"/>
                  </a:lnTo>
                  <a:lnTo>
                    <a:pt x="198" y="8"/>
                  </a:lnTo>
                  <a:lnTo>
                    <a:pt x="162" y="3"/>
                  </a:lnTo>
                  <a:lnTo>
                    <a:pt x="126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63" y="8"/>
                  </a:lnTo>
                  <a:lnTo>
                    <a:pt x="52" y="14"/>
                  </a:lnTo>
                  <a:lnTo>
                    <a:pt x="41" y="22"/>
                  </a:lnTo>
                  <a:lnTo>
                    <a:pt x="22" y="47"/>
                  </a:lnTo>
                  <a:lnTo>
                    <a:pt x="8" y="74"/>
                  </a:lnTo>
                  <a:lnTo>
                    <a:pt x="0" y="99"/>
                  </a:lnTo>
                  <a:lnTo>
                    <a:pt x="0" y="121"/>
                  </a:lnTo>
                  <a:lnTo>
                    <a:pt x="3" y="145"/>
                  </a:lnTo>
                  <a:lnTo>
                    <a:pt x="8" y="165"/>
                  </a:lnTo>
                  <a:lnTo>
                    <a:pt x="19" y="184"/>
                  </a:lnTo>
                  <a:lnTo>
                    <a:pt x="36" y="203"/>
                  </a:lnTo>
                  <a:lnTo>
                    <a:pt x="52" y="220"/>
                  </a:lnTo>
                  <a:lnTo>
                    <a:pt x="72" y="233"/>
                  </a:lnTo>
                  <a:lnTo>
                    <a:pt x="93" y="247"/>
                  </a:lnTo>
                  <a:lnTo>
                    <a:pt x="115" y="258"/>
                  </a:lnTo>
                  <a:lnTo>
                    <a:pt x="140" y="266"/>
                  </a:lnTo>
                  <a:lnTo>
                    <a:pt x="165" y="272"/>
                  </a:lnTo>
                  <a:lnTo>
                    <a:pt x="187" y="277"/>
                  </a:lnTo>
                  <a:lnTo>
                    <a:pt x="211" y="277"/>
                  </a:lnTo>
                  <a:lnTo>
                    <a:pt x="211" y="266"/>
                  </a:lnTo>
                  <a:lnTo>
                    <a:pt x="217" y="255"/>
                  </a:lnTo>
                  <a:lnTo>
                    <a:pt x="225" y="247"/>
                  </a:lnTo>
                  <a:lnTo>
                    <a:pt x="233" y="236"/>
                  </a:lnTo>
                  <a:lnTo>
                    <a:pt x="258" y="214"/>
                  </a:lnTo>
                  <a:lnTo>
                    <a:pt x="282" y="189"/>
                  </a:lnTo>
                  <a:lnTo>
                    <a:pt x="293" y="178"/>
                  </a:lnTo>
                  <a:lnTo>
                    <a:pt x="304" y="165"/>
                  </a:lnTo>
                  <a:lnTo>
                    <a:pt x="313" y="151"/>
                  </a:lnTo>
                  <a:lnTo>
                    <a:pt x="321" y="134"/>
                  </a:lnTo>
                  <a:lnTo>
                    <a:pt x="326" y="118"/>
                  </a:lnTo>
                  <a:lnTo>
                    <a:pt x="326" y="101"/>
                  </a:lnTo>
                  <a:lnTo>
                    <a:pt x="324" y="85"/>
                  </a:lnTo>
                  <a:lnTo>
                    <a:pt x="315" y="66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47360" y="7436880"/>
              <a:ext cx="131040" cy="98280"/>
            </a:xfrm>
            <a:custGeom>
              <a:avLst/>
              <a:gdLst/>
              <a:ahLst/>
              <a:rect l="l" t="t" r="r" b="b"/>
              <a:pathLst>
                <a:path w="280" h="236">
                  <a:moveTo>
                    <a:pt x="272" y="55"/>
                  </a:moveTo>
                  <a:lnTo>
                    <a:pt x="269" y="50"/>
                  </a:lnTo>
                  <a:lnTo>
                    <a:pt x="263" y="47"/>
                  </a:lnTo>
                  <a:lnTo>
                    <a:pt x="261" y="41"/>
                  </a:lnTo>
                  <a:lnTo>
                    <a:pt x="258" y="36"/>
                  </a:lnTo>
                  <a:lnTo>
                    <a:pt x="255" y="30"/>
                  </a:lnTo>
                  <a:lnTo>
                    <a:pt x="253" y="28"/>
                  </a:lnTo>
                  <a:lnTo>
                    <a:pt x="247" y="22"/>
                  </a:lnTo>
                  <a:lnTo>
                    <a:pt x="244" y="17"/>
                  </a:lnTo>
                  <a:lnTo>
                    <a:pt x="225" y="17"/>
                  </a:lnTo>
                  <a:lnTo>
                    <a:pt x="200" y="11"/>
                  </a:lnTo>
                  <a:lnTo>
                    <a:pt x="170" y="6"/>
                  </a:lnTo>
                  <a:lnTo>
                    <a:pt x="140" y="3"/>
                  </a:lnTo>
                  <a:lnTo>
                    <a:pt x="107" y="0"/>
                  </a:lnTo>
                  <a:lnTo>
                    <a:pt x="80" y="0"/>
                  </a:lnTo>
                  <a:lnTo>
                    <a:pt x="66" y="3"/>
                  </a:lnTo>
                  <a:lnTo>
                    <a:pt x="55" y="6"/>
                  </a:lnTo>
                  <a:lnTo>
                    <a:pt x="47" y="11"/>
                  </a:lnTo>
                  <a:lnTo>
                    <a:pt x="39" y="17"/>
                  </a:lnTo>
                  <a:lnTo>
                    <a:pt x="22" y="41"/>
                  </a:lnTo>
                  <a:lnTo>
                    <a:pt x="9" y="63"/>
                  </a:lnTo>
                  <a:lnTo>
                    <a:pt x="3" y="82"/>
                  </a:lnTo>
                  <a:lnTo>
                    <a:pt x="0" y="104"/>
                  </a:lnTo>
                  <a:lnTo>
                    <a:pt x="3" y="124"/>
                  </a:lnTo>
                  <a:lnTo>
                    <a:pt x="11" y="140"/>
                  </a:lnTo>
                  <a:lnTo>
                    <a:pt x="20" y="157"/>
                  </a:lnTo>
                  <a:lnTo>
                    <a:pt x="33" y="173"/>
                  </a:lnTo>
                  <a:lnTo>
                    <a:pt x="47" y="187"/>
                  </a:lnTo>
                  <a:lnTo>
                    <a:pt x="63" y="198"/>
                  </a:lnTo>
                  <a:lnTo>
                    <a:pt x="83" y="209"/>
                  </a:lnTo>
                  <a:lnTo>
                    <a:pt x="102" y="220"/>
                  </a:lnTo>
                  <a:lnTo>
                    <a:pt x="121" y="225"/>
                  </a:lnTo>
                  <a:lnTo>
                    <a:pt x="143" y="231"/>
                  </a:lnTo>
                  <a:lnTo>
                    <a:pt x="162" y="233"/>
                  </a:lnTo>
                  <a:lnTo>
                    <a:pt x="181" y="236"/>
                  </a:lnTo>
                  <a:lnTo>
                    <a:pt x="181" y="225"/>
                  </a:lnTo>
                  <a:lnTo>
                    <a:pt x="187" y="217"/>
                  </a:lnTo>
                  <a:lnTo>
                    <a:pt x="192" y="209"/>
                  </a:lnTo>
                  <a:lnTo>
                    <a:pt x="200" y="201"/>
                  </a:lnTo>
                  <a:lnTo>
                    <a:pt x="220" y="181"/>
                  </a:lnTo>
                  <a:lnTo>
                    <a:pt x="242" y="162"/>
                  </a:lnTo>
                  <a:lnTo>
                    <a:pt x="253" y="151"/>
                  </a:lnTo>
                  <a:lnTo>
                    <a:pt x="261" y="140"/>
                  </a:lnTo>
                  <a:lnTo>
                    <a:pt x="269" y="126"/>
                  </a:lnTo>
                  <a:lnTo>
                    <a:pt x="274" y="115"/>
                  </a:lnTo>
                  <a:lnTo>
                    <a:pt x="280" y="102"/>
                  </a:lnTo>
                  <a:lnTo>
                    <a:pt x="280" y="85"/>
                  </a:lnTo>
                  <a:lnTo>
                    <a:pt x="277" y="72"/>
                  </a:lnTo>
                  <a:lnTo>
                    <a:pt x="272" y="55"/>
                  </a:lnTo>
                  <a:close/>
                </a:path>
              </a:pathLst>
            </a:custGeom>
            <a:solidFill>
              <a:srgbClr val="f7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157800" y="7443720"/>
              <a:ext cx="108000" cy="81000"/>
            </a:xfrm>
            <a:custGeom>
              <a:avLst/>
              <a:gdLst/>
              <a:ahLst/>
              <a:rect l="l" t="t" r="r" b="b"/>
              <a:pathLst>
                <a:path w="231" h="195">
                  <a:moveTo>
                    <a:pt x="222" y="46"/>
                  </a:moveTo>
                  <a:lnTo>
                    <a:pt x="220" y="44"/>
                  </a:lnTo>
                  <a:lnTo>
                    <a:pt x="217" y="38"/>
                  </a:lnTo>
                  <a:lnTo>
                    <a:pt x="214" y="35"/>
                  </a:lnTo>
                  <a:lnTo>
                    <a:pt x="211" y="33"/>
                  </a:lnTo>
                  <a:lnTo>
                    <a:pt x="209" y="27"/>
                  </a:lnTo>
                  <a:lnTo>
                    <a:pt x="206" y="24"/>
                  </a:lnTo>
                  <a:lnTo>
                    <a:pt x="203" y="19"/>
                  </a:lnTo>
                  <a:lnTo>
                    <a:pt x="200" y="16"/>
                  </a:lnTo>
                  <a:lnTo>
                    <a:pt x="184" y="16"/>
                  </a:lnTo>
                  <a:lnTo>
                    <a:pt x="165" y="11"/>
                  </a:lnTo>
                  <a:lnTo>
                    <a:pt x="140" y="8"/>
                  </a:lnTo>
                  <a:lnTo>
                    <a:pt x="115" y="2"/>
                  </a:lnTo>
                  <a:lnTo>
                    <a:pt x="88" y="0"/>
                  </a:lnTo>
                  <a:lnTo>
                    <a:pt x="66" y="2"/>
                  </a:lnTo>
                  <a:lnTo>
                    <a:pt x="55" y="2"/>
                  </a:lnTo>
                  <a:lnTo>
                    <a:pt x="47" y="5"/>
                  </a:lnTo>
                  <a:lnTo>
                    <a:pt x="39" y="11"/>
                  </a:lnTo>
                  <a:lnTo>
                    <a:pt x="31" y="16"/>
                  </a:lnTo>
                  <a:lnTo>
                    <a:pt x="17" y="35"/>
                  </a:lnTo>
                  <a:lnTo>
                    <a:pt x="9" y="52"/>
                  </a:lnTo>
                  <a:lnTo>
                    <a:pt x="3" y="71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9" y="118"/>
                  </a:lnTo>
                  <a:lnTo>
                    <a:pt x="17" y="131"/>
                  </a:lnTo>
                  <a:lnTo>
                    <a:pt x="25" y="142"/>
                  </a:lnTo>
                  <a:lnTo>
                    <a:pt x="39" y="156"/>
                  </a:lnTo>
                  <a:lnTo>
                    <a:pt x="52" y="164"/>
                  </a:lnTo>
                  <a:lnTo>
                    <a:pt x="66" y="175"/>
                  </a:lnTo>
                  <a:lnTo>
                    <a:pt x="83" y="181"/>
                  </a:lnTo>
                  <a:lnTo>
                    <a:pt x="99" y="186"/>
                  </a:lnTo>
                  <a:lnTo>
                    <a:pt x="115" y="192"/>
                  </a:lnTo>
                  <a:lnTo>
                    <a:pt x="132" y="195"/>
                  </a:lnTo>
                  <a:lnTo>
                    <a:pt x="148" y="195"/>
                  </a:lnTo>
                  <a:lnTo>
                    <a:pt x="151" y="189"/>
                  </a:lnTo>
                  <a:lnTo>
                    <a:pt x="154" y="181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81" y="151"/>
                  </a:lnTo>
                  <a:lnTo>
                    <a:pt x="200" y="134"/>
                  </a:lnTo>
                  <a:lnTo>
                    <a:pt x="214" y="115"/>
                  </a:lnTo>
                  <a:lnTo>
                    <a:pt x="225" y="96"/>
                  </a:lnTo>
                  <a:lnTo>
                    <a:pt x="231" y="85"/>
                  </a:lnTo>
                  <a:lnTo>
                    <a:pt x="231" y="74"/>
                  </a:lnTo>
                  <a:lnTo>
                    <a:pt x="228" y="60"/>
                  </a:lnTo>
                  <a:lnTo>
                    <a:pt x="222" y="46"/>
                  </a:lnTo>
                  <a:close/>
                </a:path>
              </a:pathLst>
            </a:custGeom>
            <a:solidFill>
              <a:srgbClr val="f9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68240" y="7451640"/>
              <a:ext cx="84600" cy="64080"/>
            </a:xfrm>
            <a:custGeom>
              <a:avLst/>
              <a:gdLst/>
              <a:ahLst/>
              <a:rect l="l" t="t" r="r" b="b"/>
              <a:pathLst>
                <a:path w="181" h="154">
                  <a:moveTo>
                    <a:pt x="176" y="36"/>
                  </a:moveTo>
                  <a:lnTo>
                    <a:pt x="173" y="33"/>
                  </a:lnTo>
                  <a:lnTo>
                    <a:pt x="170" y="30"/>
                  </a:lnTo>
                  <a:lnTo>
                    <a:pt x="167" y="27"/>
                  </a:lnTo>
                  <a:lnTo>
                    <a:pt x="167" y="25"/>
                  </a:lnTo>
                  <a:lnTo>
                    <a:pt x="165" y="22"/>
                  </a:lnTo>
                  <a:lnTo>
                    <a:pt x="162" y="19"/>
                  </a:lnTo>
                  <a:lnTo>
                    <a:pt x="159" y="16"/>
                  </a:lnTo>
                  <a:lnTo>
                    <a:pt x="156" y="14"/>
                  </a:lnTo>
                  <a:lnTo>
                    <a:pt x="146" y="11"/>
                  </a:lnTo>
                  <a:lnTo>
                    <a:pt x="129" y="8"/>
                  </a:lnTo>
                  <a:lnTo>
                    <a:pt x="110" y="5"/>
                  </a:lnTo>
                  <a:lnTo>
                    <a:pt x="91" y="3"/>
                  </a:lnTo>
                  <a:lnTo>
                    <a:pt x="69" y="0"/>
                  </a:lnTo>
                  <a:lnTo>
                    <a:pt x="52" y="0"/>
                  </a:lnTo>
                  <a:lnTo>
                    <a:pt x="36" y="5"/>
                  </a:lnTo>
                  <a:lnTo>
                    <a:pt x="25" y="14"/>
                  </a:lnTo>
                  <a:lnTo>
                    <a:pt x="14" y="27"/>
                  </a:lnTo>
                  <a:lnTo>
                    <a:pt x="6" y="41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3" y="79"/>
                  </a:lnTo>
                  <a:lnTo>
                    <a:pt x="6" y="93"/>
                  </a:lnTo>
                  <a:lnTo>
                    <a:pt x="11" y="104"/>
                  </a:lnTo>
                  <a:lnTo>
                    <a:pt x="19" y="112"/>
                  </a:lnTo>
                  <a:lnTo>
                    <a:pt x="41" y="129"/>
                  </a:lnTo>
                  <a:lnTo>
                    <a:pt x="66" y="143"/>
                  </a:lnTo>
                  <a:lnTo>
                    <a:pt x="91" y="151"/>
                  </a:lnTo>
                  <a:lnTo>
                    <a:pt x="115" y="154"/>
                  </a:lnTo>
                  <a:lnTo>
                    <a:pt x="121" y="143"/>
                  </a:lnTo>
                  <a:lnTo>
                    <a:pt x="129" y="132"/>
                  </a:lnTo>
                  <a:lnTo>
                    <a:pt x="143" y="118"/>
                  </a:lnTo>
                  <a:lnTo>
                    <a:pt x="156" y="104"/>
                  </a:lnTo>
                  <a:lnTo>
                    <a:pt x="167" y="90"/>
                  </a:lnTo>
                  <a:lnTo>
                    <a:pt x="178" y="74"/>
                  </a:lnTo>
                  <a:lnTo>
                    <a:pt x="178" y="66"/>
                  </a:lnTo>
                  <a:lnTo>
                    <a:pt x="181" y="57"/>
                  </a:lnTo>
                  <a:lnTo>
                    <a:pt x="178" y="46"/>
                  </a:lnTo>
                  <a:lnTo>
                    <a:pt x="176" y="36"/>
                  </a:lnTo>
                  <a:close/>
                </a:path>
              </a:pathLst>
            </a:custGeom>
            <a:solidFill>
              <a:srgbClr val="fbe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78320" y="7459560"/>
              <a:ext cx="61560" cy="46800"/>
            </a:xfrm>
            <a:custGeom>
              <a:avLst/>
              <a:gdLst/>
              <a:ahLst/>
              <a:rect l="l" t="t" r="r" b="b"/>
              <a:pathLst>
                <a:path w="132" h="113">
                  <a:moveTo>
                    <a:pt x="126" y="27"/>
                  </a:moveTo>
                  <a:lnTo>
                    <a:pt x="126" y="25"/>
                  </a:lnTo>
                  <a:lnTo>
                    <a:pt x="124" y="22"/>
                  </a:lnTo>
                  <a:lnTo>
                    <a:pt x="121" y="19"/>
                  </a:lnTo>
                  <a:lnTo>
                    <a:pt x="121" y="17"/>
                  </a:lnTo>
                  <a:lnTo>
                    <a:pt x="118" y="17"/>
                  </a:lnTo>
                  <a:lnTo>
                    <a:pt x="118" y="14"/>
                  </a:lnTo>
                  <a:lnTo>
                    <a:pt x="115" y="11"/>
                  </a:lnTo>
                  <a:lnTo>
                    <a:pt x="115" y="8"/>
                  </a:lnTo>
                  <a:lnTo>
                    <a:pt x="104" y="8"/>
                  </a:lnTo>
                  <a:lnTo>
                    <a:pt x="93" y="6"/>
                  </a:lnTo>
                  <a:lnTo>
                    <a:pt x="80" y="3"/>
                  </a:lnTo>
                  <a:lnTo>
                    <a:pt x="66" y="3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5" y="3"/>
                  </a:lnTo>
                  <a:lnTo>
                    <a:pt x="17" y="8"/>
                  </a:lnTo>
                  <a:lnTo>
                    <a:pt x="8" y="19"/>
                  </a:lnTo>
                  <a:lnTo>
                    <a:pt x="3" y="30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3" y="66"/>
                  </a:lnTo>
                  <a:lnTo>
                    <a:pt x="8" y="74"/>
                  </a:lnTo>
                  <a:lnTo>
                    <a:pt x="14" y="82"/>
                  </a:lnTo>
                  <a:lnTo>
                    <a:pt x="28" y="93"/>
                  </a:lnTo>
                  <a:lnTo>
                    <a:pt x="47" y="104"/>
                  </a:lnTo>
                  <a:lnTo>
                    <a:pt x="66" y="110"/>
                  </a:lnTo>
                  <a:lnTo>
                    <a:pt x="85" y="113"/>
                  </a:lnTo>
                  <a:lnTo>
                    <a:pt x="88" y="104"/>
                  </a:lnTo>
                  <a:lnTo>
                    <a:pt x="93" y="96"/>
                  </a:lnTo>
                  <a:lnTo>
                    <a:pt x="102" y="85"/>
                  </a:lnTo>
                  <a:lnTo>
                    <a:pt x="113" y="77"/>
                  </a:lnTo>
                  <a:lnTo>
                    <a:pt x="121" y="66"/>
                  </a:lnTo>
                  <a:lnTo>
                    <a:pt x="129" y="55"/>
                  </a:lnTo>
                  <a:lnTo>
                    <a:pt x="129" y="49"/>
                  </a:lnTo>
                  <a:lnTo>
                    <a:pt x="132" y="41"/>
                  </a:lnTo>
                  <a:lnTo>
                    <a:pt x="129" y="33"/>
                  </a:lnTo>
                  <a:lnTo>
                    <a:pt x="126" y="27"/>
                  </a:lnTo>
                  <a:close/>
                </a:path>
              </a:pathLst>
            </a:custGeom>
            <a:solidFill>
              <a:srgbClr val="fde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88760" y="7467480"/>
              <a:ext cx="37440" cy="28440"/>
            </a:xfrm>
            <a:custGeom>
              <a:avLst/>
              <a:gdLst/>
              <a:ahLst/>
              <a:rect l="l" t="t" r="r" b="b"/>
              <a:pathLst>
                <a:path w="80" h="69">
                  <a:moveTo>
                    <a:pt x="80" y="17"/>
                  </a:moveTo>
                  <a:lnTo>
                    <a:pt x="71" y="6"/>
                  </a:lnTo>
                  <a:lnTo>
                    <a:pt x="66" y="6"/>
                  </a:lnTo>
                  <a:lnTo>
                    <a:pt x="58" y="3"/>
                  </a:lnTo>
                  <a:lnTo>
                    <a:pt x="49" y="3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3" y="41"/>
                  </a:lnTo>
                  <a:lnTo>
                    <a:pt x="8" y="52"/>
                  </a:lnTo>
                  <a:lnTo>
                    <a:pt x="17" y="58"/>
                  </a:lnTo>
                  <a:lnTo>
                    <a:pt x="28" y="63"/>
                  </a:lnTo>
                  <a:lnTo>
                    <a:pt x="41" y="69"/>
                  </a:lnTo>
                  <a:lnTo>
                    <a:pt x="52" y="69"/>
                  </a:lnTo>
                  <a:lnTo>
                    <a:pt x="55" y="63"/>
                  </a:lnTo>
                  <a:lnTo>
                    <a:pt x="58" y="58"/>
                  </a:lnTo>
                  <a:lnTo>
                    <a:pt x="63" y="52"/>
                  </a:lnTo>
                  <a:lnTo>
                    <a:pt x="69" y="47"/>
                  </a:lnTo>
                  <a:lnTo>
                    <a:pt x="77" y="41"/>
                  </a:lnTo>
                  <a:lnTo>
                    <a:pt x="80" y="33"/>
                  </a:lnTo>
                  <a:lnTo>
                    <a:pt x="80" y="25"/>
                  </a:lnTo>
                  <a:lnTo>
                    <a:pt x="80" y="17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292800" y="7524000"/>
              <a:ext cx="105120" cy="79920"/>
            </a:xfrm>
            <a:custGeom>
              <a:avLst/>
              <a:gdLst/>
              <a:ahLst/>
              <a:rect l="l" t="t" r="r" b="b"/>
              <a:pathLst>
                <a:path w="225" h="192">
                  <a:moveTo>
                    <a:pt x="186" y="38"/>
                  </a:moveTo>
                  <a:lnTo>
                    <a:pt x="167" y="19"/>
                  </a:lnTo>
                  <a:lnTo>
                    <a:pt x="148" y="5"/>
                  </a:lnTo>
                  <a:lnTo>
                    <a:pt x="129" y="0"/>
                  </a:lnTo>
                  <a:lnTo>
                    <a:pt x="107" y="0"/>
                  </a:lnTo>
                  <a:lnTo>
                    <a:pt x="88" y="5"/>
                  </a:lnTo>
                  <a:lnTo>
                    <a:pt x="71" y="13"/>
                  </a:lnTo>
                  <a:lnTo>
                    <a:pt x="52" y="24"/>
                  </a:lnTo>
                  <a:lnTo>
                    <a:pt x="38" y="41"/>
                  </a:lnTo>
                  <a:lnTo>
                    <a:pt x="25" y="57"/>
                  </a:lnTo>
                  <a:lnTo>
                    <a:pt x="14" y="77"/>
                  </a:lnTo>
                  <a:lnTo>
                    <a:pt x="6" y="96"/>
                  </a:lnTo>
                  <a:lnTo>
                    <a:pt x="3" y="118"/>
                  </a:lnTo>
                  <a:lnTo>
                    <a:pt x="0" y="140"/>
                  </a:lnTo>
                  <a:lnTo>
                    <a:pt x="6" y="159"/>
                  </a:lnTo>
                  <a:lnTo>
                    <a:pt x="11" y="175"/>
                  </a:lnTo>
                  <a:lnTo>
                    <a:pt x="25" y="192"/>
                  </a:lnTo>
                  <a:lnTo>
                    <a:pt x="58" y="192"/>
                  </a:lnTo>
                  <a:lnTo>
                    <a:pt x="90" y="189"/>
                  </a:lnTo>
                  <a:lnTo>
                    <a:pt x="123" y="186"/>
                  </a:lnTo>
                  <a:lnTo>
                    <a:pt x="156" y="175"/>
                  </a:lnTo>
                  <a:lnTo>
                    <a:pt x="170" y="170"/>
                  </a:lnTo>
                  <a:lnTo>
                    <a:pt x="184" y="162"/>
                  </a:lnTo>
                  <a:lnTo>
                    <a:pt x="195" y="153"/>
                  </a:lnTo>
                  <a:lnTo>
                    <a:pt x="206" y="142"/>
                  </a:lnTo>
                  <a:lnTo>
                    <a:pt x="214" y="132"/>
                  </a:lnTo>
                  <a:lnTo>
                    <a:pt x="219" y="115"/>
                  </a:lnTo>
                  <a:lnTo>
                    <a:pt x="222" y="99"/>
                  </a:lnTo>
                  <a:lnTo>
                    <a:pt x="225" y="79"/>
                  </a:lnTo>
                  <a:lnTo>
                    <a:pt x="186" y="38"/>
                  </a:lnTo>
                  <a:close/>
                </a:path>
              </a:pathLst>
            </a:custGeom>
            <a:solidFill>
              <a:srgbClr val="f5da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299280" y="7527240"/>
              <a:ext cx="88200" cy="68760"/>
            </a:xfrm>
            <a:custGeom>
              <a:avLst/>
              <a:gdLst/>
              <a:ahLst/>
              <a:rect l="l" t="t" r="r" b="b"/>
              <a:pathLst>
                <a:path w="189" h="165">
                  <a:moveTo>
                    <a:pt x="159" y="33"/>
                  </a:moveTo>
                  <a:lnTo>
                    <a:pt x="142" y="16"/>
                  </a:lnTo>
                  <a:lnTo>
                    <a:pt x="126" y="5"/>
                  </a:lnTo>
                  <a:lnTo>
                    <a:pt x="107" y="0"/>
                  </a:lnTo>
                  <a:lnTo>
                    <a:pt x="90" y="0"/>
                  </a:lnTo>
                  <a:lnTo>
                    <a:pt x="74" y="3"/>
                  </a:lnTo>
                  <a:lnTo>
                    <a:pt x="57" y="11"/>
                  </a:lnTo>
                  <a:lnTo>
                    <a:pt x="44" y="22"/>
                  </a:lnTo>
                  <a:lnTo>
                    <a:pt x="30" y="36"/>
                  </a:lnTo>
                  <a:lnTo>
                    <a:pt x="19" y="49"/>
                  </a:lnTo>
                  <a:lnTo>
                    <a:pt x="11" y="66"/>
                  </a:lnTo>
                  <a:lnTo>
                    <a:pt x="5" y="82"/>
                  </a:lnTo>
                  <a:lnTo>
                    <a:pt x="0" y="102"/>
                  </a:lnTo>
                  <a:lnTo>
                    <a:pt x="0" y="118"/>
                  </a:lnTo>
                  <a:lnTo>
                    <a:pt x="3" y="134"/>
                  </a:lnTo>
                  <a:lnTo>
                    <a:pt x="8" y="151"/>
                  </a:lnTo>
                  <a:lnTo>
                    <a:pt x="19" y="165"/>
                  </a:lnTo>
                  <a:lnTo>
                    <a:pt x="46" y="165"/>
                  </a:lnTo>
                  <a:lnTo>
                    <a:pt x="76" y="162"/>
                  </a:lnTo>
                  <a:lnTo>
                    <a:pt x="104" y="159"/>
                  </a:lnTo>
                  <a:lnTo>
                    <a:pt x="131" y="151"/>
                  </a:lnTo>
                  <a:lnTo>
                    <a:pt x="142" y="145"/>
                  </a:lnTo>
                  <a:lnTo>
                    <a:pt x="153" y="140"/>
                  </a:lnTo>
                  <a:lnTo>
                    <a:pt x="164" y="132"/>
                  </a:lnTo>
                  <a:lnTo>
                    <a:pt x="172" y="121"/>
                  </a:lnTo>
                  <a:lnTo>
                    <a:pt x="181" y="113"/>
                  </a:lnTo>
                  <a:lnTo>
                    <a:pt x="186" y="99"/>
                  </a:lnTo>
                  <a:lnTo>
                    <a:pt x="189" y="85"/>
                  </a:lnTo>
                  <a:lnTo>
                    <a:pt x="189" y="69"/>
                  </a:lnTo>
                  <a:lnTo>
                    <a:pt x="186" y="63"/>
                  </a:lnTo>
                  <a:lnTo>
                    <a:pt x="181" y="60"/>
                  </a:lnTo>
                  <a:lnTo>
                    <a:pt x="178" y="55"/>
                  </a:lnTo>
                  <a:lnTo>
                    <a:pt x="172" y="49"/>
                  </a:lnTo>
                  <a:lnTo>
                    <a:pt x="170" y="47"/>
                  </a:lnTo>
                  <a:lnTo>
                    <a:pt x="167" y="41"/>
                  </a:lnTo>
                  <a:lnTo>
                    <a:pt x="161" y="36"/>
                  </a:lnTo>
                  <a:lnTo>
                    <a:pt x="159" y="33"/>
                  </a:lnTo>
                  <a:close/>
                </a:path>
              </a:pathLst>
            </a:custGeom>
            <a:solidFill>
              <a:srgbClr val="f7d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04320" y="7530480"/>
              <a:ext cx="74160" cy="56160"/>
            </a:xfrm>
            <a:custGeom>
              <a:avLst/>
              <a:gdLst/>
              <a:ahLst/>
              <a:rect l="l" t="t" r="r" b="b"/>
              <a:pathLst>
                <a:path w="159" h="135">
                  <a:moveTo>
                    <a:pt x="131" y="28"/>
                  </a:moveTo>
                  <a:lnTo>
                    <a:pt x="118" y="14"/>
                  </a:lnTo>
                  <a:lnTo>
                    <a:pt x="104" y="6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3" y="3"/>
                  </a:lnTo>
                  <a:lnTo>
                    <a:pt x="49" y="8"/>
                  </a:lnTo>
                  <a:lnTo>
                    <a:pt x="38" y="19"/>
                  </a:lnTo>
                  <a:lnTo>
                    <a:pt x="27" y="28"/>
                  </a:lnTo>
                  <a:lnTo>
                    <a:pt x="19" y="41"/>
                  </a:lnTo>
                  <a:lnTo>
                    <a:pt x="11" y="55"/>
                  </a:lnTo>
                  <a:lnTo>
                    <a:pt x="5" y="69"/>
                  </a:lnTo>
                  <a:lnTo>
                    <a:pt x="2" y="83"/>
                  </a:lnTo>
                  <a:lnTo>
                    <a:pt x="0" y="96"/>
                  </a:lnTo>
                  <a:lnTo>
                    <a:pt x="2" y="113"/>
                  </a:lnTo>
                  <a:lnTo>
                    <a:pt x="8" y="124"/>
                  </a:lnTo>
                  <a:lnTo>
                    <a:pt x="19" y="135"/>
                  </a:lnTo>
                  <a:lnTo>
                    <a:pt x="41" y="135"/>
                  </a:lnTo>
                  <a:lnTo>
                    <a:pt x="63" y="135"/>
                  </a:lnTo>
                  <a:lnTo>
                    <a:pt x="87" y="129"/>
                  </a:lnTo>
                  <a:lnTo>
                    <a:pt x="109" y="124"/>
                  </a:lnTo>
                  <a:lnTo>
                    <a:pt x="129" y="116"/>
                  </a:lnTo>
                  <a:lnTo>
                    <a:pt x="142" y="102"/>
                  </a:lnTo>
                  <a:lnTo>
                    <a:pt x="150" y="91"/>
                  </a:lnTo>
                  <a:lnTo>
                    <a:pt x="153" y="83"/>
                  </a:lnTo>
                  <a:lnTo>
                    <a:pt x="156" y="72"/>
                  </a:lnTo>
                  <a:lnTo>
                    <a:pt x="159" y="58"/>
                  </a:lnTo>
                  <a:lnTo>
                    <a:pt x="153" y="52"/>
                  </a:lnTo>
                  <a:lnTo>
                    <a:pt x="150" y="50"/>
                  </a:lnTo>
                  <a:lnTo>
                    <a:pt x="148" y="47"/>
                  </a:lnTo>
                  <a:lnTo>
                    <a:pt x="145" y="41"/>
                  </a:lnTo>
                  <a:lnTo>
                    <a:pt x="142" y="39"/>
                  </a:lnTo>
                  <a:lnTo>
                    <a:pt x="137" y="33"/>
                  </a:lnTo>
                  <a:lnTo>
                    <a:pt x="134" y="3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f9e2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10440" y="7534080"/>
              <a:ext cx="57960" cy="45000"/>
            </a:xfrm>
            <a:custGeom>
              <a:avLst/>
              <a:gdLst/>
              <a:ahLst/>
              <a:rect l="l" t="t" r="r" b="b"/>
              <a:pathLst>
                <a:path w="124" h="108">
                  <a:moveTo>
                    <a:pt x="102" y="22"/>
                  </a:moveTo>
                  <a:lnTo>
                    <a:pt x="91" y="11"/>
                  </a:lnTo>
                  <a:lnTo>
                    <a:pt x="83" y="3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0" y="3"/>
                  </a:lnTo>
                  <a:lnTo>
                    <a:pt x="39" y="9"/>
                  </a:lnTo>
                  <a:lnTo>
                    <a:pt x="31" y="14"/>
                  </a:lnTo>
                  <a:lnTo>
                    <a:pt x="20" y="22"/>
                  </a:lnTo>
                  <a:lnTo>
                    <a:pt x="14" y="33"/>
                  </a:lnTo>
                  <a:lnTo>
                    <a:pt x="9" y="44"/>
                  </a:lnTo>
                  <a:lnTo>
                    <a:pt x="3" y="55"/>
                  </a:lnTo>
                  <a:lnTo>
                    <a:pt x="0" y="66"/>
                  </a:lnTo>
                  <a:lnTo>
                    <a:pt x="0" y="77"/>
                  </a:lnTo>
                  <a:lnTo>
                    <a:pt x="3" y="88"/>
                  </a:lnTo>
                  <a:lnTo>
                    <a:pt x="6" y="99"/>
                  </a:lnTo>
                  <a:lnTo>
                    <a:pt x="14" y="108"/>
                  </a:lnTo>
                  <a:lnTo>
                    <a:pt x="31" y="108"/>
                  </a:lnTo>
                  <a:lnTo>
                    <a:pt x="50" y="105"/>
                  </a:lnTo>
                  <a:lnTo>
                    <a:pt x="69" y="102"/>
                  </a:lnTo>
                  <a:lnTo>
                    <a:pt x="85" y="99"/>
                  </a:lnTo>
                  <a:lnTo>
                    <a:pt x="99" y="91"/>
                  </a:lnTo>
                  <a:lnTo>
                    <a:pt x="113" y="80"/>
                  </a:lnTo>
                  <a:lnTo>
                    <a:pt x="118" y="72"/>
                  </a:lnTo>
                  <a:lnTo>
                    <a:pt x="121" y="64"/>
                  </a:lnTo>
                  <a:lnTo>
                    <a:pt x="124" y="55"/>
                  </a:lnTo>
                  <a:lnTo>
                    <a:pt x="124" y="44"/>
                  </a:lnTo>
                  <a:lnTo>
                    <a:pt x="121" y="42"/>
                  </a:lnTo>
                  <a:lnTo>
                    <a:pt x="118" y="39"/>
                  </a:lnTo>
                  <a:lnTo>
                    <a:pt x="116" y="36"/>
                  </a:lnTo>
                  <a:lnTo>
                    <a:pt x="113" y="33"/>
                  </a:lnTo>
                  <a:lnTo>
                    <a:pt x="110" y="31"/>
                  </a:lnTo>
                  <a:lnTo>
                    <a:pt x="107" y="28"/>
                  </a:lnTo>
                  <a:lnTo>
                    <a:pt x="105" y="25"/>
                  </a:lnTo>
                  <a:lnTo>
                    <a:pt x="102" y="22"/>
                  </a:lnTo>
                  <a:close/>
                </a:path>
              </a:pathLst>
            </a:custGeom>
            <a:solidFill>
              <a:srgbClr val="fbe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316920" y="7537680"/>
              <a:ext cx="41040" cy="3204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4" y="16"/>
                  </a:moveTo>
                  <a:lnTo>
                    <a:pt x="66" y="8"/>
                  </a:lnTo>
                  <a:lnTo>
                    <a:pt x="58" y="2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28" y="5"/>
                  </a:lnTo>
                  <a:lnTo>
                    <a:pt x="14" y="16"/>
                  </a:lnTo>
                  <a:lnTo>
                    <a:pt x="3" y="30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3" y="71"/>
                  </a:lnTo>
                  <a:lnTo>
                    <a:pt x="8" y="77"/>
                  </a:lnTo>
                  <a:lnTo>
                    <a:pt x="22" y="77"/>
                  </a:lnTo>
                  <a:lnTo>
                    <a:pt x="36" y="77"/>
                  </a:lnTo>
                  <a:lnTo>
                    <a:pt x="47" y="74"/>
                  </a:lnTo>
                  <a:lnTo>
                    <a:pt x="60" y="71"/>
                  </a:lnTo>
                  <a:lnTo>
                    <a:pt x="71" y="66"/>
                  </a:lnTo>
                  <a:lnTo>
                    <a:pt x="80" y="57"/>
                  </a:lnTo>
                  <a:lnTo>
                    <a:pt x="85" y="46"/>
                  </a:lnTo>
                  <a:lnTo>
                    <a:pt x="88" y="33"/>
                  </a:lnTo>
                  <a:lnTo>
                    <a:pt x="85" y="30"/>
                  </a:lnTo>
                  <a:lnTo>
                    <a:pt x="85" y="27"/>
                  </a:lnTo>
                  <a:lnTo>
                    <a:pt x="82" y="27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7" y="19"/>
                  </a:lnTo>
                  <a:lnTo>
                    <a:pt x="74" y="16"/>
                  </a:lnTo>
                  <a:lnTo>
                    <a:pt x="74" y="16"/>
                  </a:lnTo>
                  <a:close/>
                </a:path>
              </a:pathLst>
            </a:custGeom>
            <a:solidFill>
              <a:srgbClr val="fde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322320" y="7540920"/>
              <a:ext cx="25560" cy="201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47" y="11"/>
                  </a:moveTo>
                  <a:lnTo>
                    <a:pt x="38" y="3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8" y="11"/>
                  </a:lnTo>
                  <a:lnTo>
                    <a:pt x="3" y="19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6" y="49"/>
                  </a:lnTo>
                  <a:lnTo>
                    <a:pt x="14" y="49"/>
                  </a:lnTo>
                  <a:lnTo>
                    <a:pt x="22" y="49"/>
                  </a:lnTo>
                  <a:lnTo>
                    <a:pt x="30" y="47"/>
                  </a:lnTo>
                  <a:lnTo>
                    <a:pt x="38" y="44"/>
                  </a:lnTo>
                  <a:lnTo>
                    <a:pt x="47" y="41"/>
                  </a:lnTo>
                  <a:lnTo>
                    <a:pt x="52" y="36"/>
                  </a:lnTo>
                  <a:lnTo>
                    <a:pt x="55" y="30"/>
                  </a:lnTo>
                  <a:lnTo>
                    <a:pt x="55" y="22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ffe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223320" y="7642800"/>
              <a:ext cx="228600" cy="222840"/>
            </a:xfrm>
            <a:custGeom>
              <a:avLst/>
              <a:gdLst/>
              <a:ahLst/>
              <a:rect l="l" t="t" r="r" b="b"/>
              <a:pathLst>
                <a:path w="488" h="535">
                  <a:moveTo>
                    <a:pt x="110" y="137"/>
                  </a:moveTo>
                  <a:lnTo>
                    <a:pt x="47" y="162"/>
                  </a:lnTo>
                  <a:lnTo>
                    <a:pt x="38" y="168"/>
                  </a:lnTo>
                  <a:lnTo>
                    <a:pt x="38" y="176"/>
                  </a:lnTo>
                  <a:lnTo>
                    <a:pt x="63" y="192"/>
                  </a:lnTo>
                  <a:lnTo>
                    <a:pt x="173" y="192"/>
                  </a:lnTo>
                  <a:lnTo>
                    <a:pt x="173" y="195"/>
                  </a:lnTo>
                  <a:lnTo>
                    <a:pt x="175" y="198"/>
                  </a:lnTo>
                  <a:lnTo>
                    <a:pt x="178" y="201"/>
                  </a:lnTo>
                  <a:lnTo>
                    <a:pt x="178" y="203"/>
                  </a:lnTo>
                  <a:lnTo>
                    <a:pt x="181" y="206"/>
                  </a:lnTo>
                  <a:lnTo>
                    <a:pt x="181" y="209"/>
                  </a:lnTo>
                  <a:lnTo>
                    <a:pt x="184" y="212"/>
                  </a:lnTo>
                  <a:lnTo>
                    <a:pt x="186" y="214"/>
                  </a:lnTo>
                  <a:lnTo>
                    <a:pt x="181" y="220"/>
                  </a:lnTo>
                  <a:lnTo>
                    <a:pt x="175" y="225"/>
                  </a:lnTo>
                  <a:lnTo>
                    <a:pt x="167" y="234"/>
                  </a:lnTo>
                  <a:lnTo>
                    <a:pt x="162" y="245"/>
                  </a:lnTo>
                  <a:lnTo>
                    <a:pt x="154" y="255"/>
                  </a:lnTo>
                  <a:lnTo>
                    <a:pt x="145" y="264"/>
                  </a:lnTo>
                  <a:lnTo>
                    <a:pt x="140" y="269"/>
                  </a:lnTo>
                  <a:lnTo>
                    <a:pt x="134" y="269"/>
                  </a:lnTo>
                  <a:lnTo>
                    <a:pt x="137" y="280"/>
                  </a:lnTo>
                  <a:lnTo>
                    <a:pt x="137" y="291"/>
                  </a:lnTo>
                  <a:lnTo>
                    <a:pt x="140" y="305"/>
                  </a:lnTo>
                  <a:lnTo>
                    <a:pt x="143" y="316"/>
                  </a:lnTo>
                  <a:lnTo>
                    <a:pt x="145" y="330"/>
                  </a:lnTo>
                  <a:lnTo>
                    <a:pt x="145" y="341"/>
                  </a:lnTo>
                  <a:lnTo>
                    <a:pt x="148" y="349"/>
                  </a:lnTo>
                  <a:lnTo>
                    <a:pt x="148" y="357"/>
                  </a:lnTo>
                  <a:lnTo>
                    <a:pt x="162" y="371"/>
                  </a:lnTo>
                  <a:lnTo>
                    <a:pt x="167" y="374"/>
                  </a:lnTo>
                  <a:lnTo>
                    <a:pt x="175" y="376"/>
                  </a:lnTo>
                  <a:lnTo>
                    <a:pt x="184" y="382"/>
                  </a:lnTo>
                  <a:lnTo>
                    <a:pt x="192" y="390"/>
                  </a:lnTo>
                  <a:lnTo>
                    <a:pt x="197" y="398"/>
                  </a:lnTo>
                  <a:lnTo>
                    <a:pt x="206" y="404"/>
                  </a:lnTo>
                  <a:lnTo>
                    <a:pt x="211" y="412"/>
                  </a:lnTo>
                  <a:lnTo>
                    <a:pt x="217" y="415"/>
                  </a:lnTo>
                  <a:lnTo>
                    <a:pt x="219" y="423"/>
                  </a:lnTo>
                  <a:lnTo>
                    <a:pt x="225" y="434"/>
                  </a:lnTo>
                  <a:lnTo>
                    <a:pt x="236" y="442"/>
                  </a:lnTo>
                  <a:lnTo>
                    <a:pt x="247" y="450"/>
                  </a:lnTo>
                  <a:lnTo>
                    <a:pt x="260" y="459"/>
                  </a:lnTo>
                  <a:lnTo>
                    <a:pt x="271" y="467"/>
                  </a:lnTo>
                  <a:lnTo>
                    <a:pt x="282" y="475"/>
                  </a:lnTo>
                  <a:lnTo>
                    <a:pt x="291" y="483"/>
                  </a:lnTo>
                  <a:lnTo>
                    <a:pt x="302" y="483"/>
                  </a:lnTo>
                  <a:lnTo>
                    <a:pt x="310" y="481"/>
                  </a:lnTo>
                  <a:lnTo>
                    <a:pt x="318" y="478"/>
                  </a:lnTo>
                  <a:lnTo>
                    <a:pt x="329" y="478"/>
                  </a:lnTo>
                  <a:lnTo>
                    <a:pt x="337" y="475"/>
                  </a:lnTo>
                  <a:lnTo>
                    <a:pt x="345" y="472"/>
                  </a:lnTo>
                  <a:lnTo>
                    <a:pt x="354" y="472"/>
                  </a:lnTo>
                  <a:lnTo>
                    <a:pt x="359" y="470"/>
                  </a:lnTo>
                  <a:lnTo>
                    <a:pt x="362" y="470"/>
                  </a:lnTo>
                  <a:lnTo>
                    <a:pt x="362" y="470"/>
                  </a:lnTo>
                  <a:lnTo>
                    <a:pt x="365" y="467"/>
                  </a:lnTo>
                  <a:lnTo>
                    <a:pt x="367" y="464"/>
                  </a:lnTo>
                  <a:lnTo>
                    <a:pt x="367" y="461"/>
                  </a:lnTo>
                  <a:lnTo>
                    <a:pt x="370" y="459"/>
                  </a:lnTo>
                  <a:lnTo>
                    <a:pt x="373" y="453"/>
                  </a:lnTo>
                  <a:lnTo>
                    <a:pt x="373" y="453"/>
                  </a:lnTo>
                  <a:lnTo>
                    <a:pt x="378" y="450"/>
                  </a:lnTo>
                  <a:lnTo>
                    <a:pt x="384" y="448"/>
                  </a:lnTo>
                  <a:lnTo>
                    <a:pt x="389" y="445"/>
                  </a:lnTo>
                  <a:lnTo>
                    <a:pt x="395" y="439"/>
                  </a:lnTo>
                  <a:lnTo>
                    <a:pt x="400" y="434"/>
                  </a:lnTo>
                  <a:lnTo>
                    <a:pt x="406" y="428"/>
                  </a:lnTo>
                  <a:lnTo>
                    <a:pt x="411" y="423"/>
                  </a:lnTo>
                  <a:lnTo>
                    <a:pt x="417" y="420"/>
                  </a:lnTo>
                  <a:lnTo>
                    <a:pt x="417" y="420"/>
                  </a:lnTo>
                  <a:lnTo>
                    <a:pt x="417" y="417"/>
                  </a:lnTo>
                  <a:lnTo>
                    <a:pt x="419" y="417"/>
                  </a:lnTo>
                  <a:lnTo>
                    <a:pt x="419" y="415"/>
                  </a:lnTo>
                  <a:lnTo>
                    <a:pt x="419" y="412"/>
                  </a:lnTo>
                  <a:lnTo>
                    <a:pt x="419" y="412"/>
                  </a:lnTo>
                  <a:lnTo>
                    <a:pt x="422" y="409"/>
                  </a:lnTo>
                  <a:lnTo>
                    <a:pt x="422" y="409"/>
                  </a:lnTo>
                  <a:lnTo>
                    <a:pt x="436" y="409"/>
                  </a:lnTo>
                  <a:lnTo>
                    <a:pt x="447" y="401"/>
                  </a:lnTo>
                  <a:lnTo>
                    <a:pt x="447" y="385"/>
                  </a:lnTo>
                  <a:lnTo>
                    <a:pt x="436" y="376"/>
                  </a:lnTo>
                  <a:lnTo>
                    <a:pt x="441" y="365"/>
                  </a:lnTo>
                  <a:lnTo>
                    <a:pt x="444" y="357"/>
                  </a:lnTo>
                  <a:lnTo>
                    <a:pt x="447" y="346"/>
                  </a:lnTo>
                  <a:lnTo>
                    <a:pt x="452" y="338"/>
                  </a:lnTo>
                  <a:lnTo>
                    <a:pt x="458" y="330"/>
                  </a:lnTo>
                  <a:lnTo>
                    <a:pt x="460" y="319"/>
                  </a:lnTo>
                  <a:lnTo>
                    <a:pt x="466" y="310"/>
                  </a:lnTo>
                  <a:lnTo>
                    <a:pt x="471" y="302"/>
                  </a:lnTo>
                  <a:lnTo>
                    <a:pt x="474" y="302"/>
                  </a:lnTo>
                  <a:lnTo>
                    <a:pt x="477" y="302"/>
                  </a:lnTo>
                  <a:lnTo>
                    <a:pt x="480" y="302"/>
                  </a:lnTo>
                  <a:lnTo>
                    <a:pt x="480" y="302"/>
                  </a:lnTo>
                  <a:lnTo>
                    <a:pt x="482" y="302"/>
                  </a:lnTo>
                  <a:lnTo>
                    <a:pt x="485" y="302"/>
                  </a:lnTo>
                  <a:lnTo>
                    <a:pt x="485" y="302"/>
                  </a:lnTo>
                  <a:lnTo>
                    <a:pt x="488" y="302"/>
                  </a:lnTo>
                  <a:lnTo>
                    <a:pt x="485" y="426"/>
                  </a:lnTo>
                  <a:lnTo>
                    <a:pt x="469" y="503"/>
                  </a:lnTo>
                  <a:lnTo>
                    <a:pt x="411" y="535"/>
                  </a:lnTo>
                  <a:lnTo>
                    <a:pt x="334" y="535"/>
                  </a:lnTo>
                  <a:lnTo>
                    <a:pt x="126" y="448"/>
                  </a:lnTo>
                  <a:lnTo>
                    <a:pt x="71" y="448"/>
                  </a:lnTo>
                  <a:lnTo>
                    <a:pt x="55" y="272"/>
                  </a:lnTo>
                  <a:lnTo>
                    <a:pt x="6" y="39"/>
                  </a:lnTo>
                  <a:lnTo>
                    <a:pt x="19" y="47"/>
                  </a:lnTo>
                  <a:lnTo>
                    <a:pt x="30" y="52"/>
                  </a:lnTo>
                  <a:lnTo>
                    <a:pt x="44" y="61"/>
                  </a:lnTo>
                  <a:lnTo>
                    <a:pt x="60" y="66"/>
                  </a:lnTo>
                  <a:lnTo>
                    <a:pt x="74" y="72"/>
                  </a:lnTo>
                  <a:lnTo>
                    <a:pt x="88" y="74"/>
                  </a:lnTo>
                  <a:lnTo>
                    <a:pt x="101" y="77"/>
                  </a:lnTo>
                  <a:lnTo>
                    <a:pt x="110" y="77"/>
                  </a:lnTo>
                  <a:lnTo>
                    <a:pt x="112" y="83"/>
                  </a:lnTo>
                  <a:lnTo>
                    <a:pt x="115" y="85"/>
                  </a:lnTo>
                  <a:lnTo>
                    <a:pt x="121" y="88"/>
                  </a:lnTo>
                  <a:lnTo>
                    <a:pt x="123" y="91"/>
                  </a:lnTo>
                  <a:lnTo>
                    <a:pt x="129" y="94"/>
                  </a:lnTo>
                  <a:lnTo>
                    <a:pt x="132" y="96"/>
                  </a:lnTo>
                  <a:lnTo>
                    <a:pt x="137" y="99"/>
                  </a:lnTo>
                  <a:lnTo>
                    <a:pt x="143" y="102"/>
                  </a:lnTo>
                  <a:lnTo>
                    <a:pt x="140" y="105"/>
                  </a:lnTo>
                  <a:lnTo>
                    <a:pt x="140" y="107"/>
                  </a:lnTo>
                  <a:lnTo>
                    <a:pt x="137" y="113"/>
                  </a:lnTo>
                  <a:lnTo>
                    <a:pt x="137" y="116"/>
                  </a:lnTo>
                  <a:lnTo>
                    <a:pt x="134" y="118"/>
                  </a:lnTo>
                  <a:lnTo>
                    <a:pt x="134" y="121"/>
                  </a:lnTo>
                  <a:lnTo>
                    <a:pt x="134" y="124"/>
                  </a:lnTo>
                  <a:lnTo>
                    <a:pt x="134" y="126"/>
                  </a:lnTo>
                  <a:lnTo>
                    <a:pt x="110" y="137"/>
                  </a:lnTo>
                  <a:close/>
                  <a:moveTo>
                    <a:pt x="0" y="6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87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327360" y="7613280"/>
              <a:ext cx="126720" cy="167040"/>
            </a:xfrm>
            <a:custGeom>
              <a:avLst/>
              <a:gdLst/>
              <a:ahLst/>
              <a:rect l="l" t="t" r="r" b="b"/>
              <a:pathLst>
                <a:path w="271" h="401">
                  <a:moveTo>
                    <a:pt x="44" y="263"/>
                  </a:moveTo>
                  <a:lnTo>
                    <a:pt x="134" y="263"/>
                  </a:lnTo>
                  <a:lnTo>
                    <a:pt x="49" y="329"/>
                  </a:lnTo>
                  <a:lnTo>
                    <a:pt x="49" y="321"/>
                  </a:lnTo>
                  <a:lnTo>
                    <a:pt x="49" y="313"/>
                  </a:lnTo>
                  <a:lnTo>
                    <a:pt x="49" y="305"/>
                  </a:lnTo>
                  <a:lnTo>
                    <a:pt x="49" y="296"/>
                  </a:lnTo>
                  <a:lnTo>
                    <a:pt x="47" y="288"/>
                  </a:lnTo>
                  <a:lnTo>
                    <a:pt x="47" y="280"/>
                  </a:lnTo>
                  <a:lnTo>
                    <a:pt x="44" y="272"/>
                  </a:lnTo>
                  <a:lnTo>
                    <a:pt x="44" y="263"/>
                  </a:lnTo>
                  <a:close/>
                  <a:moveTo>
                    <a:pt x="77" y="362"/>
                  </a:moveTo>
                  <a:lnTo>
                    <a:pt x="238" y="239"/>
                  </a:lnTo>
                  <a:lnTo>
                    <a:pt x="238" y="222"/>
                  </a:lnTo>
                  <a:lnTo>
                    <a:pt x="225" y="208"/>
                  </a:lnTo>
                  <a:lnTo>
                    <a:pt x="38" y="230"/>
                  </a:lnTo>
                  <a:lnTo>
                    <a:pt x="38" y="225"/>
                  </a:lnTo>
                  <a:lnTo>
                    <a:pt x="36" y="217"/>
                  </a:lnTo>
                  <a:lnTo>
                    <a:pt x="36" y="208"/>
                  </a:lnTo>
                  <a:lnTo>
                    <a:pt x="33" y="203"/>
                  </a:lnTo>
                  <a:lnTo>
                    <a:pt x="30" y="195"/>
                  </a:lnTo>
                  <a:lnTo>
                    <a:pt x="30" y="189"/>
                  </a:lnTo>
                  <a:lnTo>
                    <a:pt x="27" y="181"/>
                  </a:lnTo>
                  <a:lnTo>
                    <a:pt x="27" y="176"/>
                  </a:lnTo>
                  <a:lnTo>
                    <a:pt x="112" y="121"/>
                  </a:lnTo>
                  <a:lnTo>
                    <a:pt x="225" y="8"/>
                  </a:lnTo>
                  <a:lnTo>
                    <a:pt x="271" y="233"/>
                  </a:lnTo>
                  <a:lnTo>
                    <a:pt x="269" y="294"/>
                  </a:lnTo>
                  <a:lnTo>
                    <a:pt x="260" y="310"/>
                  </a:lnTo>
                  <a:lnTo>
                    <a:pt x="252" y="326"/>
                  </a:lnTo>
                  <a:lnTo>
                    <a:pt x="244" y="343"/>
                  </a:lnTo>
                  <a:lnTo>
                    <a:pt x="233" y="357"/>
                  </a:lnTo>
                  <a:lnTo>
                    <a:pt x="219" y="370"/>
                  </a:lnTo>
                  <a:lnTo>
                    <a:pt x="206" y="381"/>
                  </a:lnTo>
                  <a:lnTo>
                    <a:pt x="192" y="390"/>
                  </a:lnTo>
                  <a:lnTo>
                    <a:pt x="175" y="398"/>
                  </a:lnTo>
                  <a:lnTo>
                    <a:pt x="156" y="401"/>
                  </a:lnTo>
                  <a:lnTo>
                    <a:pt x="140" y="401"/>
                  </a:lnTo>
                  <a:lnTo>
                    <a:pt x="126" y="398"/>
                  </a:lnTo>
                  <a:lnTo>
                    <a:pt x="115" y="395"/>
                  </a:lnTo>
                  <a:lnTo>
                    <a:pt x="104" y="387"/>
                  </a:lnTo>
                  <a:lnTo>
                    <a:pt x="96" y="379"/>
                  </a:lnTo>
                  <a:lnTo>
                    <a:pt x="85" y="370"/>
                  </a:lnTo>
                  <a:lnTo>
                    <a:pt x="77" y="362"/>
                  </a:lnTo>
                  <a:close/>
                  <a:moveTo>
                    <a:pt x="0" y="63"/>
                  </a:moveTo>
                  <a:lnTo>
                    <a:pt x="80" y="41"/>
                  </a:lnTo>
                  <a:lnTo>
                    <a:pt x="167" y="0"/>
                  </a:lnTo>
                  <a:lnTo>
                    <a:pt x="33" y="137"/>
                  </a:lnTo>
                  <a:lnTo>
                    <a:pt x="19" y="143"/>
                  </a:lnTo>
                  <a:lnTo>
                    <a:pt x="16" y="132"/>
                  </a:lnTo>
                  <a:lnTo>
                    <a:pt x="14" y="121"/>
                  </a:lnTo>
                  <a:lnTo>
                    <a:pt x="11" y="112"/>
                  </a:lnTo>
                  <a:lnTo>
                    <a:pt x="11" y="101"/>
                  </a:lnTo>
                  <a:lnTo>
                    <a:pt x="8" y="90"/>
                  </a:lnTo>
                  <a:lnTo>
                    <a:pt x="6" y="82"/>
                  </a:lnTo>
                  <a:lnTo>
                    <a:pt x="3" y="7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1b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2560" y="7752960"/>
              <a:ext cx="417240" cy="102960"/>
            </a:xfrm>
            <a:custGeom>
              <a:avLst/>
              <a:gdLst/>
              <a:ahLst/>
              <a:rect l="l" t="t" r="r" b="b"/>
              <a:pathLst>
                <a:path w="891" h="247">
                  <a:moveTo>
                    <a:pt x="803" y="0"/>
                  </a:moveTo>
                  <a:lnTo>
                    <a:pt x="877" y="0"/>
                  </a:lnTo>
                  <a:lnTo>
                    <a:pt x="891" y="167"/>
                  </a:lnTo>
                  <a:lnTo>
                    <a:pt x="891" y="184"/>
                  </a:lnTo>
                  <a:lnTo>
                    <a:pt x="836" y="217"/>
                  </a:lnTo>
                  <a:lnTo>
                    <a:pt x="787" y="233"/>
                  </a:lnTo>
                  <a:lnTo>
                    <a:pt x="669" y="217"/>
                  </a:lnTo>
                  <a:lnTo>
                    <a:pt x="411" y="247"/>
                  </a:lnTo>
                  <a:lnTo>
                    <a:pt x="173" y="233"/>
                  </a:lnTo>
                  <a:lnTo>
                    <a:pt x="30" y="162"/>
                  </a:lnTo>
                  <a:lnTo>
                    <a:pt x="0" y="121"/>
                  </a:lnTo>
                  <a:lnTo>
                    <a:pt x="0" y="96"/>
                  </a:lnTo>
                  <a:lnTo>
                    <a:pt x="9" y="99"/>
                  </a:lnTo>
                  <a:lnTo>
                    <a:pt x="17" y="104"/>
                  </a:lnTo>
                  <a:lnTo>
                    <a:pt x="25" y="110"/>
                  </a:lnTo>
                  <a:lnTo>
                    <a:pt x="33" y="115"/>
                  </a:lnTo>
                  <a:lnTo>
                    <a:pt x="39" y="121"/>
                  </a:lnTo>
                  <a:lnTo>
                    <a:pt x="47" y="126"/>
                  </a:lnTo>
                  <a:lnTo>
                    <a:pt x="52" y="131"/>
                  </a:lnTo>
                  <a:lnTo>
                    <a:pt x="58" y="137"/>
                  </a:lnTo>
                  <a:lnTo>
                    <a:pt x="63" y="137"/>
                  </a:lnTo>
                  <a:lnTo>
                    <a:pt x="72" y="137"/>
                  </a:lnTo>
                  <a:lnTo>
                    <a:pt x="74" y="148"/>
                  </a:lnTo>
                  <a:lnTo>
                    <a:pt x="83" y="156"/>
                  </a:lnTo>
                  <a:lnTo>
                    <a:pt x="93" y="164"/>
                  </a:lnTo>
                  <a:lnTo>
                    <a:pt x="107" y="170"/>
                  </a:lnTo>
                  <a:lnTo>
                    <a:pt x="121" y="178"/>
                  </a:lnTo>
                  <a:lnTo>
                    <a:pt x="135" y="184"/>
                  </a:lnTo>
                  <a:lnTo>
                    <a:pt x="146" y="189"/>
                  </a:lnTo>
                  <a:lnTo>
                    <a:pt x="151" y="195"/>
                  </a:lnTo>
                  <a:lnTo>
                    <a:pt x="214" y="197"/>
                  </a:lnTo>
                  <a:lnTo>
                    <a:pt x="280" y="203"/>
                  </a:lnTo>
                  <a:lnTo>
                    <a:pt x="346" y="208"/>
                  </a:lnTo>
                  <a:lnTo>
                    <a:pt x="411" y="214"/>
                  </a:lnTo>
                  <a:lnTo>
                    <a:pt x="477" y="217"/>
                  </a:lnTo>
                  <a:lnTo>
                    <a:pt x="540" y="214"/>
                  </a:lnTo>
                  <a:lnTo>
                    <a:pt x="570" y="211"/>
                  </a:lnTo>
                  <a:lnTo>
                    <a:pt x="600" y="206"/>
                  </a:lnTo>
                  <a:lnTo>
                    <a:pt x="631" y="197"/>
                  </a:lnTo>
                  <a:lnTo>
                    <a:pt x="658" y="189"/>
                  </a:lnTo>
                  <a:lnTo>
                    <a:pt x="658" y="181"/>
                  </a:lnTo>
                  <a:lnTo>
                    <a:pt x="672" y="175"/>
                  </a:lnTo>
                  <a:lnTo>
                    <a:pt x="688" y="164"/>
                  </a:lnTo>
                  <a:lnTo>
                    <a:pt x="704" y="153"/>
                  </a:lnTo>
                  <a:lnTo>
                    <a:pt x="724" y="140"/>
                  </a:lnTo>
                  <a:lnTo>
                    <a:pt x="740" y="126"/>
                  </a:lnTo>
                  <a:lnTo>
                    <a:pt x="757" y="118"/>
                  </a:lnTo>
                  <a:lnTo>
                    <a:pt x="773" y="110"/>
                  </a:lnTo>
                  <a:lnTo>
                    <a:pt x="787" y="107"/>
                  </a:lnTo>
                  <a:lnTo>
                    <a:pt x="789" y="104"/>
                  </a:lnTo>
                  <a:lnTo>
                    <a:pt x="792" y="101"/>
                  </a:lnTo>
                  <a:lnTo>
                    <a:pt x="795" y="99"/>
                  </a:lnTo>
                  <a:lnTo>
                    <a:pt x="798" y="93"/>
                  </a:lnTo>
                  <a:lnTo>
                    <a:pt x="803" y="90"/>
                  </a:lnTo>
                  <a:lnTo>
                    <a:pt x="806" y="88"/>
                  </a:lnTo>
                  <a:lnTo>
                    <a:pt x="811" y="85"/>
                  </a:lnTo>
                  <a:lnTo>
                    <a:pt x="814" y="82"/>
                  </a:lnTo>
                  <a:lnTo>
                    <a:pt x="814" y="57"/>
                  </a:lnTo>
                  <a:lnTo>
                    <a:pt x="806" y="57"/>
                  </a:lnTo>
                  <a:lnTo>
                    <a:pt x="800" y="33"/>
                  </a:lnTo>
                  <a:lnTo>
                    <a:pt x="776" y="33"/>
                  </a:lnTo>
                  <a:lnTo>
                    <a:pt x="776" y="27"/>
                  </a:lnTo>
                  <a:lnTo>
                    <a:pt x="776" y="24"/>
                  </a:lnTo>
                  <a:lnTo>
                    <a:pt x="778" y="19"/>
                  </a:lnTo>
                  <a:lnTo>
                    <a:pt x="778" y="16"/>
                  </a:lnTo>
                  <a:lnTo>
                    <a:pt x="778" y="13"/>
                  </a:lnTo>
                  <a:lnTo>
                    <a:pt x="781" y="11"/>
                  </a:lnTo>
                  <a:lnTo>
                    <a:pt x="781" y="8"/>
                  </a:lnTo>
                  <a:lnTo>
                    <a:pt x="781" y="5"/>
                  </a:lnTo>
                  <a:lnTo>
                    <a:pt x="784" y="5"/>
                  </a:lnTo>
                  <a:lnTo>
                    <a:pt x="787" y="5"/>
                  </a:lnTo>
                  <a:lnTo>
                    <a:pt x="789" y="5"/>
                  </a:lnTo>
                  <a:lnTo>
                    <a:pt x="792" y="5"/>
                  </a:lnTo>
                  <a:lnTo>
                    <a:pt x="795" y="2"/>
                  </a:lnTo>
                  <a:lnTo>
                    <a:pt x="798" y="2"/>
                  </a:lnTo>
                  <a:lnTo>
                    <a:pt x="800" y="2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5f4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24240" y="7886880"/>
              <a:ext cx="477720" cy="165960"/>
            </a:xfrm>
            <a:custGeom>
              <a:avLst/>
              <a:gdLst/>
              <a:ahLst/>
              <a:rect l="l" t="t" r="r" b="b"/>
              <a:pathLst>
                <a:path w="1020" h="398">
                  <a:moveTo>
                    <a:pt x="1020" y="0"/>
                  </a:moveTo>
                  <a:lnTo>
                    <a:pt x="1020" y="30"/>
                  </a:lnTo>
                  <a:lnTo>
                    <a:pt x="981" y="85"/>
                  </a:lnTo>
                  <a:lnTo>
                    <a:pt x="853" y="159"/>
                  </a:lnTo>
                  <a:lnTo>
                    <a:pt x="685" y="189"/>
                  </a:lnTo>
                  <a:lnTo>
                    <a:pt x="573" y="263"/>
                  </a:lnTo>
                  <a:lnTo>
                    <a:pt x="480" y="335"/>
                  </a:lnTo>
                  <a:lnTo>
                    <a:pt x="368" y="381"/>
                  </a:lnTo>
                  <a:lnTo>
                    <a:pt x="258" y="398"/>
                  </a:lnTo>
                  <a:lnTo>
                    <a:pt x="72" y="343"/>
                  </a:lnTo>
                  <a:lnTo>
                    <a:pt x="17" y="294"/>
                  </a:lnTo>
                  <a:lnTo>
                    <a:pt x="0" y="272"/>
                  </a:lnTo>
                  <a:lnTo>
                    <a:pt x="0" y="236"/>
                  </a:lnTo>
                  <a:lnTo>
                    <a:pt x="3" y="239"/>
                  </a:lnTo>
                  <a:lnTo>
                    <a:pt x="6" y="241"/>
                  </a:lnTo>
                  <a:lnTo>
                    <a:pt x="9" y="244"/>
                  </a:lnTo>
                  <a:lnTo>
                    <a:pt x="14" y="247"/>
                  </a:lnTo>
                  <a:lnTo>
                    <a:pt x="17" y="250"/>
                  </a:lnTo>
                  <a:lnTo>
                    <a:pt x="20" y="252"/>
                  </a:lnTo>
                  <a:lnTo>
                    <a:pt x="25" y="252"/>
                  </a:lnTo>
                  <a:lnTo>
                    <a:pt x="31" y="255"/>
                  </a:lnTo>
                  <a:lnTo>
                    <a:pt x="33" y="258"/>
                  </a:lnTo>
                  <a:lnTo>
                    <a:pt x="39" y="263"/>
                  </a:lnTo>
                  <a:lnTo>
                    <a:pt x="47" y="269"/>
                  </a:lnTo>
                  <a:lnTo>
                    <a:pt x="55" y="272"/>
                  </a:lnTo>
                  <a:lnTo>
                    <a:pt x="66" y="274"/>
                  </a:lnTo>
                  <a:lnTo>
                    <a:pt x="74" y="277"/>
                  </a:lnTo>
                  <a:lnTo>
                    <a:pt x="80" y="280"/>
                  </a:lnTo>
                  <a:lnTo>
                    <a:pt x="85" y="280"/>
                  </a:lnTo>
                  <a:lnTo>
                    <a:pt x="102" y="291"/>
                  </a:lnTo>
                  <a:lnTo>
                    <a:pt x="121" y="299"/>
                  </a:lnTo>
                  <a:lnTo>
                    <a:pt x="143" y="305"/>
                  </a:lnTo>
                  <a:lnTo>
                    <a:pt x="165" y="310"/>
                  </a:lnTo>
                  <a:lnTo>
                    <a:pt x="187" y="313"/>
                  </a:lnTo>
                  <a:lnTo>
                    <a:pt x="209" y="316"/>
                  </a:lnTo>
                  <a:lnTo>
                    <a:pt x="225" y="321"/>
                  </a:lnTo>
                  <a:lnTo>
                    <a:pt x="236" y="329"/>
                  </a:lnTo>
                  <a:lnTo>
                    <a:pt x="258" y="327"/>
                  </a:lnTo>
                  <a:lnTo>
                    <a:pt x="283" y="324"/>
                  </a:lnTo>
                  <a:lnTo>
                    <a:pt x="305" y="318"/>
                  </a:lnTo>
                  <a:lnTo>
                    <a:pt x="326" y="310"/>
                  </a:lnTo>
                  <a:lnTo>
                    <a:pt x="368" y="291"/>
                  </a:lnTo>
                  <a:lnTo>
                    <a:pt x="409" y="269"/>
                  </a:lnTo>
                  <a:lnTo>
                    <a:pt x="450" y="247"/>
                  </a:lnTo>
                  <a:lnTo>
                    <a:pt x="488" y="228"/>
                  </a:lnTo>
                  <a:lnTo>
                    <a:pt x="507" y="222"/>
                  </a:lnTo>
                  <a:lnTo>
                    <a:pt x="524" y="217"/>
                  </a:lnTo>
                  <a:lnTo>
                    <a:pt x="543" y="211"/>
                  </a:lnTo>
                  <a:lnTo>
                    <a:pt x="559" y="211"/>
                  </a:lnTo>
                  <a:lnTo>
                    <a:pt x="565" y="198"/>
                  </a:lnTo>
                  <a:lnTo>
                    <a:pt x="576" y="187"/>
                  </a:lnTo>
                  <a:lnTo>
                    <a:pt x="592" y="173"/>
                  </a:lnTo>
                  <a:lnTo>
                    <a:pt x="617" y="159"/>
                  </a:lnTo>
                  <a:lnTo>
                    <a:pt x="674" y="134"/>
                  </a:lnTo>
                  <a:lnTo>
                    <a:pt x="746" y="110"/>
                  </a:lnTo>
                  <a:lnTo>
                    <a:pt x="817" y="88"/>
                  </a:lnTo>
                  <a:lnTo>
                    <a:pt x="883" y="69"/>
                  </a:lnTo>
                  <a:lnTo>
                    <a:pt x="935" y="58"/>
                  </a:lnTo>
                  <a:lnTo>
                    <a:pt x="965" y="55"/>
                  </a:lnTo>
                  <a:lnTo>
                    <a:pt x="973" y="41"/>
                  </a:lnTo>
                  <a:lnTo>
                    <a:pt x="976" y="38"/>
                  </a:lnTo>
                  <a:lnTo>
                    <a:pt x="981" y="36"/>
                  </a:lnTo>
                  <a:lnTo>
                    <a:pt x="987" y="33"/>
                  </a:lnTo>
                  <a:lnTo>
                    <a:pt x="995" y="27"/>
                  </a:lnTo>
                  <a:lnTo>
                    <a:pt x="1001" y="22"/>
                  </a:lnTo>
                  <a:lnTo>
                    <a:pt x="1006" y="14"/>
                  </a:lnTo>
                  <a:lnTo>
                    <a:pt x="1014" y="8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5f40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4080" y="7729920"/>
              <a:ext cx="155520" cy="93600"/>
            </a:xfrm>
            <a:custGeom>
              <a:avLst/>
              <a:gdLst/>
              <a:ahLst/>
              <a:rect l="l" t="t" r="r" b="b"/>
              <a:pathLst>
                <a:path w="332" h="225">
                  <a:moveTo>
                    <a:pt x="0" y="77"/>
                  </a:moveTo>
                  <a:lnTo>
                    <a:pt x="5" y="63"/>
                  </a:lnTo>
                  <a:lnTo>
                    <a:pt x="85" y="0"/>
                  </a:lnTo>
                  <a:lnTo>
                    <a:pt x="181" y="0"/>
                  </a:lnTo>
                  <a:lnTo>
                    <a:pt x="268" y="25"/>
                  </a:lnTo>
                  <a:lnTo>
                    <a:pt x="285" y="25"/>
                  </a:lnTo>
                  <a:lnTo>
                    <a:pt x="326" y="143"/>
                  </a:lnTo>
                  <a:lnTo>
                    <a:pt x="332" y="148"/>
                  </a:lnTo>
                  <a:lnTo>
                    <a:pt x="332" y="156"/>
                  </a:lnTo>
                  <a:lnTo>
                    <a:pt x="329" y="162"/>
                  </a:lnTo>
                  <a:lnTo>
                    <a:pt x="329" y="170"/>
                  </a:lnTo>
                  <a:lnTo>
                    <a:pt x="326" y="178"/>
                  </a:lnTo>
                  <a:lnTo>
                    <a:pt x="323" y="184"/>
                  </a:lnTo>
                  <a:lnTo>
                    <a:pt x="321" y="189"/>
                  </a:lnTo>
                  <a:lnTo>
                    <a:pt x="318" y="195"/>
                  </a:lnTo>
                  <a:lnTo>
                    <a:pt x="315" y="200"/>
                  </a:lnTo>
                  <a:lnTo>
                    <a:pt x="301" y="208"/>
                  </a:lnTo>
                  <a:lnTo>
                    <a:pt x="285" y="217"/>
                  </a:lnTo>
                  <a:lnTo>
                    <a:pt x="266" y="222"/>
                  </a:lnTo>
                  <a:lnTo>
                    <a:pt x="244" y="225"/>
                  </a:lnTo>
                  <a:lnTo>
                    <a:pt x="222" y="225"/>
                  </a:lnTo>
                  <a:lnTo>
                    <a:pt x="200" y="225"/>
                  </a:lnTo>
                  <a:lnTo>
                    <a:pt x="175" y="222"/>
                  </a:lnTo>
                  <a:lnTo>
                    <a:pt x="151" y="217"/>
                  </a:lnTo>
                  <a:lnTo>
                    <a:pt x="104" y="206"/>
                  </a:lnTo>
                  <a:lnTo>
                    <a:pt x="60" y="186"/>
                  </a:lnTo>
                  <a:lnTo>
                    <a:pt x="41" y="176"/>
                  </a:lnTo>
                  <a:lnTo>
                    <a:pt x="25" y="165"/>
                  </a:lnTo>
                  <a:lnTo>
                    <a:pt x="11" y="154"/>
                  </a:lnTo>
                  <a:lnTo>
                    <a:pt x="3" y="143"/>
                  </a:lnTo>
                  <a:lnTo>
                    <a:pt x="3" y="134"/>
                  </a:lnTo>
                  <a:lnTo>
                    <a:pt x="3" y="126"/>
                  </a:lnTo>
                  <a:lnTo>
                    <a:pt x="3" y="118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8b5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35960" y="7729920"/>
              <a:ext cx="132120" cy="8100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0" y="66"/>
                  </a:moveTo>
                  <a:lnTo>
                    <a:pt x="0" y="66"/>
                  </a:lnTo>
                  <a:lnTo>
                    <a:pt x="0" y="63"/>
                  </a:lnTo>
                  <a:lnTo>
                    <a:pt x="2" y="63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5" y="57"/>
                  </a:lnTo>
                  <a:lnTo>
                    <a:pt x="5" y="55"/>
                  </a:lnTo>
                  <a:lnTo>
                    <a:pt x="13" y="49"/>
                  </a:lnTo>
                  <a:lnTo>
                    <a:pt x="22" y="41"/>
                  </a:lnTo>
                  <a:lnTo>
                    <a:pt x="30" y="36"/>
                  </a:lnTo>
                  <a:lnTo>
                    <a:pt x="38" y="27"/>
                  </a:lnTo>
                  <a:lnTo>
                    <a:pt x="46" y="22"/>
                  </a:lnTo>
                  <a:lnTo>
                    <a:pt x="57" y="14"/>
                  </a:lnTo>
                  <a:lnTo>
                    <a:pt x="65" y="8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4" y="0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4" y="3"/>
                  </a:lnTo>
                  <a:lnTo>
                    <a:pt x="172" y="5"/>
                  </a:lnTo>
                  <a:lnTo>
                    <a:pt x="183" y="8"/>
                  </a:lnTo>
                  <a:lnTo>
                    <a:pt x="191" y="11"/>
                  </a:lnTo>
                  <a:lnTo>
                    <a:pt x="200" y="14"/>
                  </a:lnTo>
                  <a:lnTo>
                    <a:pt x="211" y="16"/>
                  </a:lnTo>
                  <a:lnTo>
                    <a:pt x="219" y="19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33" y="22"/>
                  </a:lnTo>
                  <a:lnTo>
                    <a:pt x="233" y="22"/>
                  </a:lnTo>
                  <a:lnTo>
                    <a:pt x="235" y="22"/>
                  </a:lnTo>
                  <a:lnTo>
                    <a:pt x="238" y="22"/>
                  </a:lnTo>
                  <a:lnTo>
                    <a:pt x="238" y="22"/>
                  </a:lnTo>
                  <a:lnTo>
                    <a:pt x="241" y="22"/>
                  </a:lnTo>
                  <a:lnTo>
                    <a:pt x="241" y="22"/>
                  </a:lnTo>
                  <a:lnTo>
                    <a:pt x="246" y="36"/>
                  </a:lnTo>
                  <a:lnTo>
                    <a:pt x="249" y="46"/>
                  </a:lnTo>
                  <a:lnTo>
                    <a:pt x="254" y="60"/>
                  </a:lnTo>
                  <a:lnTo>
                    <a:pt x="260" y="71"/>
                  </a:lnTo>
                  <a:lnTo>
                    <a:pt x="263" y="85"/>
                  </a:lnTo>
                  <a:lnTo>
                    <a:pt x="268" y="99"/>
                  </a:lnTo>
                  <a:lnTo>
                    <a:pt x="271" y="110"/>
                  </a:lnTo>
                  <a:lnTo>
                    <a:pt x="276" y="123"/>
                  </a:lnTo>
                  <a:lnTo>
                    <a:pt x="276" y="123"/>
                  </a:lnTo>
                  <a:lnTo>
                    <a:pt x="276" y="123"/>
                  </a:lnTo>
                  <a:lnTo>
                    <a:pt x="279" y="123"/>
                  </a:lnTo>
                  <a:lnTo>
                    <a:pt x="279" y="126"/>
                  </a:lnTo>
                  <a:lnTo>
                    <a:pt x="279" y="126"/>
                  </a:lnTo>
                  <a:lnTo>
                    <a:pt x="279" y="126"/>
                  </a:lnTo>
                  <a:lnTo>
                    <a:pt x="282" y="126"/>
                  </a:lnTo>
                  <a:lnTo>
                    <a:pt x="282" y="126"/>
                  </a:lnTo>
                  <a:lnTo>
                    <a:pt x="282" y="134"/>
                  </a:lnTo>
                  <a:lnTo>
                    <a:pt x="279" y="140"/>
                  </a:lnTo>
                  <a:lnTo>
                    <a:pt x="279" y="145"/>
                  </a:lnTo>
                  <a:lnTo>
                    <a:pt x="276" y="151"/>
                  </a:lnTo>
                  <a:lnTo>
                    <a:pt x="276" y="156"/>
                  </a:lnTo>
                  <a:lnTo>
                    <a:pt x="274" y="162"/>
                  </a:lnTo>
                  <a:lnTo>
                    <a:pt x="271" y="167"/>
                  </a:lnTo>
                  <a:lnTo>
                    <a:pt x="265" y="170"/>
                  </a:lnTo>
                  <a:lnTo>
                    <a:pt x="254" y="181"/>
                  </a:lnTo>
                  <a:lnTo>
                    <a:pt x="241" y="186"/>
                  </a:lnTo>
                  <a:lnTo>
                    <a:pt x="224" y="192"/>
                  </a:lnTo>
                  <a:lnTo>
                    <a:pt x="208" y="195"/>
                  </a:lnTo>
                  <a:lnTo>
                    <a:pt x="189" y="195"/>
                  </a:lnTo>
                  <a:lnTo>
                    <a:pt x="170" y="192"/>
                  </a:lnTo>
                  <a:lnTo>
                    <a:pt x="148" y="192"/>
                  </a:lnTo>
                  <a:lnTo>
                    <a:pt x="128" y="186"/>
                  </a:lnTo>
                  <a:lnTo>
                    <a:pt x="87" y="176"/>
                  </a:lnTo>
                  <a:lnTo>
                    <a:pt x="52" y="162"/>
                  </a:lnTo>
                  <a:lnTo>
                    <a:pt x="35" y="151"/>
                  </a:lnTo>
                  <a:lnTo>
                    <a:pt x="22" y="143"/>
                  </a:lnTo>
                  <a:lnTo>
                    <a:pt x="11" y="134"/>
                  </a:lnTo>
                  <a:lnTo>
                    <a:pt x="2" y="123"/>
                  </a:lnTo>
                  <a:lnTo>
                    <a:pt x="2" y="115"/>
                  </a:lnTo>
                  <a:lnTo>
                    <a:pt x="2" y="110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916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47120" y="7731360"/>
              <a:ext cx="109080" cy="66240"/>
            </a:xfrm>
            <a:custGeom>
              <a:avLst/>
              <a:gdLst/>
              <a:ahLst/>
              <a:rect l="l" t="t" r="r" b="b"/>
              <a:pathLst>
                <a:path w="233" h="159">
                  <a:moveTo>
                    <a:pt x="0" y="54"/>
                  </a:moveTo>
                  <a:lnTo>
                    <a:pt x="0" y="52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6" y="46"/>
                  </a:lnTo>
                  <a:lnTo>
                    <a:pt x="11" y="41"/>
                  </a:lnTo>
                  <a:lnTo>
                    <a:pt x="19" y="35"/>
                  </a:lnTo>
                  <a:lnTo>
                    <a:pt x="25" y="27"/>
                  </a:lnTo>
                  <a:lnTo>
                    <a:pt x="33" y="22"/>
                  </a:lnTo>
                  <a:lnTo>
                    <a:pt x="39" y="16"/>
                  </a:lnTo>
                  <a:lnTo>
                    <a:pt x="47" y="11"/>
                  </a:lnTo>
                  <a:lnTo>
                    <a:pt x="55" y="5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3" y="5"/>
                  </a:lnTo>
                  <a:lnTo>
                    <a:pt x="151" y="5"/>
                  </a:lnTo>
                  <a:lnTo>
                    <a:pt x="159" y="8"/>
                  </a:lnTo>
                  <a:lnTo>
                    <a:pt x="165" y="11"/>
                  </a:lnTo>
                  <a:lnTo>
                    <a:pt x="173" y="13"/>
                  </a:lnTo>
                  <a:lnTo>
                    <a:pt x="181" y="16"/>
                  </a:lnTo>
                  <a:lnTo>
                    <a:pt x="189" y="16"/>
                  </a:lnTo>
                  <a:lnTo>
                    <a:pt x="189" y="16"/>
                  </a:lnTo>
                  <a:lnTo>
                    <a:pt x="192" y="16"/>
                  </a:lnTo>
                  <a:lnTo>
                    <a:pt x="192" y="16"/>
                  </a:lnTo>
                  <a:lnTo>
                    <a:pt x="195" y="16"/>
                  </a:lnTo>
                  <a:lnTo>
                    <a:pt x="195" y="16"/>
                  </a:lnTo>
                  <a:lnTo>
                    <a:pt x="198" y="16"/>
                  </a:lnTo>
                  <a:lnTo>
                    <a:pt x="198" y="16"/>
                  </a:lnTo>
                  <a:lnTo>
                    <a:pt x="200" y="16"/>
                  </a:lnTo>
                  <a:lnTo>
                    <a:pt x="203" y="27"/>
                  </a:lnTo>
                  <a:lnTo>
                    <a:pt x="206" y="38"/>
                  </a:lnTo>
                  <a:lnTo>
                    <a:pt x="211" y="49"/>
                  </a:lnTo>
                  <a:lnTo>
                    <a:pt x="214" y="60"/>
                  </a:lnTo>
                  <a:lnTo>
                    <a:pt x="217" y="68"/>
                  </a:lnTo>
                  <a:lnTo>
                    <a:pt x="222" y="79"/>
                  </a:lnTo>
                  <a:lnTo>
                    <a:pt x="225" y="90"/>
                  </a:lnTo>
                  <a:lnTo>
                    <a:pt x="228" y="101"/>
                  </a:lnTo>
                  <a:lnTo>
                    <a:pt x="228" y="101"/>
                  </a:lnTo>
                  <a:lnTo>
                    <a:pt x="230" y="101"/>
                  </a:lnTo>
                  <a:lnTo>
                    <a:pt x="230" y="101"/>
                  </a:lnTo>
                  <a:lnTo>
                    <a:pt x="230" y="101"/>
                  </a:lnTo>
                  <a:lnTo>
                    <a:pt x="230" y="101"/>
                  </a:lnTo>
                  <a:lnTo>
                    <a:pt x="230" y="104"/>
                  </a:lnTo>
                  <a:lnTo>
                    <a:pt x="233" y="104"/>
                  </a:lnTo>
                  <a:lnTo>
                    <a:pt x="233" y="104"/>
                  </a:lnTo>
                  <a:lnTo>
                    <a:pt x="233" y="109"/>
                  </a:lnTo>
                  <a:lnTo>
                    <a:pt x="230" y="115"/>
                  </a:lnTo>
                  <a:lnTo>
                    <a:pt x="230" y="120"/>
                  </a:lnTo>
                  <a:lnTo>
                    <a:pt x="230" y="123"/>
                  </a:lnTo>
                  <a:lnTo>
                    <a:pt x="228" y="129"/>
                  </a:lnTo>
                  <a:lnTo>
                    <a:pt x="225" y="134"/>
                  </a:lnTo>
                  <a:lnTo>
                    <a:pt x="222" y="137"/>
                  </a:lnTo>
                  <a:lnTo>
                    <a:pt x="219" y="140"/>
                  </a:lnTo>
                  <a:lnTo>
                    <a:pt x="211" y="148"/>
                  </a:lnTo>
                  <a:lnTo>
                    <a:pt x="200" y="153"/>
                  </a:lnTo>
                  <a:lnTo>
                    <a:pt x="187" y="156"/>
                  </a:lnTo>
                  <a:lnTo>
                    <a:pt x="173" y="159"/>
                  </a:lnTo>
                  <a:lnTo>
                    <a:pt x="140" y="159"/>
                  </a:lnTo>
                  <a:lnTo>
                    <a:pt x="107" y="153"/>
                  </a:lnTo>
                  <a:lnTo>
                    <a:pt x="74" y="145"/>
                  </a:lnTo>
                  <a:lnTo>
                    <a:pt x="44" y="131"/>
                  </a:lnTo>
                  <a:lnTo>
                    <a:pt x="19" y="118"/>
                  </a:lnTo>
                  <a:lnTo>
                    <a:pt x="3" y="101"/>
                  </a:lnTo>
                  <a:lnTo>
                    <a:pt x="3" y="96"/>
                  </a:lnTo>
                  <a:lnTo>
                    <a:pt x="3" y="90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767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58640" y="7732080"/>
              <a:ext cx="86040" cy="51480"/>
            </a:xfrm>
            <a:custGeom>
              <a:avLst/>
              <a:gdLst/>
              <a:ahLst/>
              <a:rect l="l" t="t" r="r" b="b"/>
              <a:pathLst>
                <a:path w="184" h="124">
                  <a:moveTo>
                    <a:pt x="0" y="41"/>
                  </a:moveTo>
                  <a:lnTo>
                    <a:pt x="0" y="41"/>
                  </a:lnTo>
                  <a:lnTo>
                    <a:pt x="0" y="41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8" y="31"/>
                  </a:lnTo>
                  <a:lnTo>
                    <a:pt x="14" y="28"/>
                  </a:lnTo>
                  <a:lnTo>
                    <a:pt x="19" y="22"/>
                  </a:lnTo>
                  <a:lnTo>
                    <a:pt x="25" y="17"/>
                  </a:lnTo>
                  <a:lnTo>
                    <a:pt x="30" y="14"/>
                  </a:lnTo>
                  <a:lnTo>
                    <a:pt x="36" y="9"/>
                  </a:lnTo>
                  <a:lnTo>
                    <a:pt x="41" y="3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2" y="3"/>
                  </a:lnTo>
                  <a:lnTo>
                    <a:pt x="118" y="6"/>
                  </a:lnTo>
                  <a:lnTo>
                    <a:pt x="123" y="6"/>
                  </a:lnTo>
                  <a:lnTo>
                    <a:pt x="131" y="9"/>
                  </a:lnTo>
                  <a:lnTo>
                    <a:pt x="137" y="11"/>
                  </a:lnTo>
                  <a:lnTo>
                    <a:pt x="142" y="11"/>
                  </a:lnTo>
                  <a:lnTo>
                    <a:pt x="148" y="14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53" y="14"/>
                  </a:lnTo>
                  <a:lnTo>
                    <a:pt x="153" y="14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56" y="14"/>
                  </a:lnTo>
                  <a:lnTo>
                    <a:pt x="159" y="22"/>
                  </a:lnTo>
                  <a:lnTo>
                    <a:pt x="162" y="31"/>
                  </a:lnTo>
                  <a:lnTo>
                    <a:pt x="164" y="39"/>
                  </a:lnTo>
                  <a:lnTo>
                    <a:pt x="167" y="47"/>
                  </a:lnTo>
                  <a:lnTo>
                    <a:pt x="170" y="55"/>
                  </a:lnTo>
                  <a:lnTo>
                    <a:pt x="173" y="63"/>
                  </a:lnTo>
                  <a:lnTo>
                    <a:pt x="175" y="72"/>
                  </a:lnTo>
                  <a:lnTo>
                    <a:pt x="178" y="80"/>
                  </a:lnTo>
                  <a:lnTo>
                    <a:pt x="181" y="80"/>
                  </a:lnTo>
                  <a:lnTo>
                    <a:pt x="181" y="80"/>
                  </a:lnTo>
                  <a:lnTo>
                    <a:pt x="181" y="80"/>
                  </a:lnTo>
                  <a:lnTo>
                    <a:pt x="181" y="80"/>
                  </a:lnTo>
                  <a:lnTo>
                    <a:pt x="181" y="80"/>
                  </a:lnTo>
                  <a:lnTo>
                    <a:pt x="181" y="80"/>
                  </a:lnTo>
                  <a:lnTo>
                    <a:pt x="184" y="80"/>
                  </a:lnTo>
                  <a:lnTo>
                    <a:pt x="184" y="83"/>
                  </a:lnTo>
                  <a:lnTo>
                    <a:pt x="184" y="85"/>
                  </a:lnTo>
                  <a:lnTo>
                    <a:pt x="181" y="91"/>
                  </a:lnTo>
                  <a:lnTo>
                    <a:pt x="181" y="94"/>
                  </a:lnTo>
                  <a:lnTo>
                    <a:pt x="181" y="96"/>
                  </a:lnTo>
                  <a:lnTo>
                    <a:pt x="178" y="102"/>
                  </a:lnTo>
                  <a:lnTo>
                    <a:pt x="178" y="105"/>
                  </a:lnTo>
                  <a:lnTo>
                    <a:pt x="175" y="107"/>
                  </a:lnTo>
                  <a:lnTo>
                    <a:pt x="173" y="110"/>
                  </a:lnTo>
                  <a:lnTo>
                    <a:pt x="167" y="116"/>
                  </a:lnTo>
                  <a:lnTo>
                    <a:pt x="156" y="121"/>
                  </a:lnTo>
                  <a:lnTo>
                    <a:pt x="148" y="124"/>
                  </a:lnTo>
                  <a:lnTo>
                    <a:pt x="134" y="124"/>
                  </a:lnTo>
                  <a:lnTo>
                    <a:pt x="110" y="124"/>
                  </a:lnTo>
                  <a:lnTo>
                    <a:pt x="82" y="121"/>
                  </a:lnTo>
                  <a:lnTo>
                    <a:pt x="57" y="113"/>
                  </a:lnTo>
                  <a:lnTo>
                    <a:pt x="33" y="102"/>
                  </a:lnTo>
                  <a:lnTo>
                    <a:pt x="14" y="91"/>
                  </a:lnTo>
                  <a:lnTo>
                    <a:pt x="3" y="80"/>
                  </a:lnTo>
                  <a:lnTo>
                    <a:pt x="3" y="74"/>
                  </a:lnTo>
                  <a:lnTo>
                    <a:pt x="3" y="69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d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70520" y="7733160"/>
              <a:ext cx="62640" cy="37800"/>
            </a:xfrm>
            <a:custGeom>
              <a:avLst/>
              <a:gdLst/>
              <a:ahLst/>
              <a:rect l="l" t="t" r="r" b="b"/>
              <a:pathLst>
                <a:path w="134" h="91">
                  <a:moveTo>
                    <a:pt x="0" y="30"/>
                  </a:moveTo>
                  <a:lnTo>
                    <a:pt x="0" y="30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8" y="22"/>
                  </a:lnTo>
                  <a:lnTo>
                    <a:pt x="11" y="19"/>
                  </a:lnTo>
                  <a:lnTo>
                    <a:pt x="13" y="14"/>
                  </a:lnTo>
                  <a:lnTo>
                    <a:pt x="19" y="11"/>
                  </a:lnTo>
                  <a:lnTo>
                    <a:pt x="22" y="8"/>
                  </a:lnTo>
                  <a:lnTo>
                    <a:pt x="27" y="6"/>
                  </a:lnTo>
                  <a:lnTo>
                    <a:pt x="30" y="3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3"/>
                  </a:lnTo>
                  <a:lnTo>
                    <a:pt x="90" y="3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2" y="8"/>
                  </a:lnTo>
                  <a:lnTo>
                    <a:pt x="115" y="8"/>
                  </a:lnTo>
                  <a:lnTo>
                    <a:pt x="115" y="8"/>
                  </a:lnTo>
                  <a:lnTo>
                    <a:pt x="117" y="14"/>
                  </a:lnTo>
                  <a:lnTo>
                    <a:pt x="117" y="19"/>
                  </a:lnTo>
                  <a:lnTo>
                    <a:pt x="120" y="28"/>
                  </a:lnTo>
                  <a:lnTo>
                    <a:pt x="123" y="33"/>
                  </a:lnTo>
                  <a:lnTo>
                    <a:pt x="123" y="38"/>
                  </a:lnTo>
                  <a:lnTo>
                    <a:pt x="126" y="44"/>
                  </a:lnTo>
                  <a:lnTo>
                    <a:pt x="128" y="49"/>
                  </a:lnTo>
                  <a:lnTo>
                    <a:pt x="131" y="55"/>
                  </a:lnTo>
                  <a:lnTo>
                    <a:pt x="131" y="58"/>
                  </a:lnTo>
                  <a:lnTo>
                    <a:pt x="131" y="58"/>
                  </a:lnTo>
                  <a:lnTo>
                    <a:pt x="131" y="58"/>
                  </a:lnTo>
                  <a:lnTo>
                    <a:pt x="131" y="58"/>
                  </a:lnTo>
                  <a:lnTo>
                    <a:pt x="131" y="58"/>
                  </a:lnTo>
                  <a:lnTo>
                    <a:pt x="131" y="58"/>
                  </a:lnTo>
                  <a:lnTo>
                    <a:pt x="131" y="58"/>
                  </a:lnTo>
                  <a:lnTo>
                    <a:pt x="134" y="58"/>
                  </a:lnTo>
                  <a:lnTo>
                    <a:pt x="134" y="60"/>
                  </a:lnTo>
                  <a:lnTo>
                    <a:pt x="131" y="63"/>
                  </a:lnTo>
                  <a:lnTo>
                    <a:pt x="131" y="66"/>
                  </a:lnTo>
                  <a:lnTo>
                    <a:pt x="131" y="69"/>
                  </a:lnTo>
                  <a:lnTo>
                    <a:pt x="131" y="71"/>
                  </a:lnTo>
                  <a:lnTo>
                    <a:pt x="128" y="74"/>
                  </a:lnTo>
                  <a:lnTo>
                    <a:pt x="128" y="77"/>
                  </a:lnTo>
                  <a:lnTo>
                    <a:pt x="126" y="80"/>
                  </a:lnTo>
                  <a:lnTo>
                    <a:pt x="115" y="85"/>
                  </a:lnTo>
                  <a:lnTo>
                    <a:pt x="98" y="91"/>
                  </a:lnTo>
                  <a:lnTo>
                    <a:pt x="79" y="91"/>
                  </a:lnTo>
                  <a:lnTo>
                    <a:pt x="60" y="85"/>
                  </a:lnTo>
                  <a:lnTo>
                    <a:pt x="41" y="80"/>
                  </a:lnTo>
                  <a:lnTo>
                    <a:pt x="24" y="74"/>
                  </a:lnTo>
                  <a:lnTo>
                    <a:pt x="11" y="66"/>
                  </a:lnTo>
                  <a:lnTo>
                    <a:pt x="2" y="58"/>
                  </a:lnTo>
                  <a:lnTo>
                    <a:pt x="2" y="52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36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81680" y="7733160"/>
              <a:ext cx="39600" cy="2412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0" y="19"/>
                  </a:moveTo>
                  <a:lnTo>
                    <a:pt x="3" y="17"/>
                  </a:lnTo>
                  <a:lnTo>
                    <a:pt x="22" y="0"/>
                  </a:lnTo>
                  <a:lnTo>
                    <a:pt x="47" y="0"/>
                  </a:lnTo>
                  <a:lnTo>
                    <a:pt x="69" y="6"/>
                  </a:lnTo>
                  <a:lnTo>
                    <a:pt x="72" y="6"/>
                  </a:lnTo>
                  <a:lnTo>
                    <a:pt x="82" y="36"/>
                  </a:lnTo>
                  <a:lnTo>
                    <a:pt x="85" y="38"/>
                  </a:lnTo>
                  <a:lnTo>
                    <a:pt x="82" y="38"/>
                  </a:lnTo>
                  <a:lnTo>
                    <a:pt x="82" y="41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2" y="55"/>
                  </a:lnTo>
                  <a:lnTo>
                    <a:pt x="63" y="58"/>
                  </a:lnTo>
                  <a:lnTo>
                    <a:pt x="50" y="58"/>
                  </a:lnTo>
                  <a:lnTo>
                    <a:pt x="39" y="55"/>
                  </a:lnTo>
                  <a:lnTo>
                    <a:pt x="28" y="52"/>
                  </a:lnTo>
                  <a:lnTo>
                    <a:pt x="17" y="47"/>
                  </a:lnTo>
                  <a:lnTo>
                    <a:pt x="8" y="4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97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34680" y="7916400"/>
              <a:ext cx="174600" cy="98280"/>
            </a:xfrm>
            <a:custGeom>
              <a:avLst/>
              <a:gdLst/>
              <a:ahLst/>
              <a:rect l="l" t="t" r="r" b="b"/>
              <a:pathLst>
                <a:path w="373" h="236">
                  <a:moveTo>
                    <a:pt x="0" y="143"/>
                  </a:moveTo>
                  <a:lnTo>
                    <a:pt x="187" y="0"/>
                  </a:lnTo>
                  <a:lnTo>
                    <a:pt x="274" y="8"/>
                  </a:lnTo>
                  <a:lnTo>
                    <a:pt x="307" y="14"/>
                  </a:lnTo>
                  <a:lnTo>
                    <a:pt x="329" y="14"/>
                  </a:lnTo>
                  <a:lnTo>
                    <a:pt x="354" y="96"/>
                  </a:lnTo>
                  <a:lnTo>
                    <a:pt x="373" y="113"/>
                  </a:lnTo>
                  <a:lnTo>
                    <a:pt x="370" y="121"/>
                  </a:lnTo>
                  <a:lnTo>
                    <a:pt x="367" y="132"/>
                  </a:lnTo>
                  <a:lnTo>
                    <a:pt x="365" y="140"/>
                  </a:lnTo>
                  <a:lnTo>
                    <a:pt x="359" y="148"/>
                  </a:lnTo>
                  <a:lnTo>
                    <a:pt x="357" y="157"/>
                  </a:lnTo>
                  <a:lnTo>
                    <a:pt x="354" y="165"/>
                  </a:lnTo>
                  <a:lnTo>
                    <a:pt x="351" y="173"/>
                  </a:lnTo>
                  <a:lnTo>
                    <a:pt x="348" y="179"/>
                  </a:lnTo>
                  <a:lnTo>
                    <a:pt x="340" y="195"/>
                  </a:lnTo>
                  <a:lnTo>
                    <a:pt x="326" y="206"/>
                  </a:lnTo>
                  <a:lnTo>
                    <a:pt x="313" y="217"/>
                  </a:lnTo>
                  <a:lnTo>
                    <a:pt x="296" y="225"/>
                  </a:lnTo>
                  <a:lnTo>
                    <a:pt x="280" y="231"/>
                  </a:lnTo>
                  <a:lnTo>
                    <a:pt x="261" y="234"/>
                  </a:lnTo>
                  <a:lnTo>
                    <a:pt x="239" y="236"/>
                  </a:lnTo>
                  <a:lnTo>
                    <a:pt x="220" y="236"/>
                  </a:lnTo>
                  <a:lnTo>
                    <a:pt x="176" y="231"/>
                  </a:lnTo>
                  <a:lnTo>
                    <a:pt x="135" y="220"/>
                  </a:lnTo>
                  <a:lnTo>
                    <a:pt x="99" y="209"/>
                  </a:lnTo>
                  <a:lnTo>
                    <a:pt x="69" y="192"/>
                  </a:lnTo>
                  <a:lnTo>
                    <a:pt x="61" y="187"/>
                  </a:lnTo>
                  <a:lnTo>
                    <a:pt x="52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8" y="165"/>
                  </a:lnTo>
                  <a:lnTo>
                    <a:pt x="20" y="159"/>
                  </a:lnTo>
                  <a:lnTo>
                    <a:pt x="11" y="151"/>
                  </a:lnTo>
                  <a:lnTo>
                    <a:pt x="6" y="146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3" y="143"/>
                  </a:lnTo>
                  <a:lnTo>
                    <a:pt x="3" y="143"/>
                  </a:lnTo>
                  <a:lnTo>
                    <a:pt x="3" y="143"/>
                  </a:lnTo>
                  <a:lnTo>
                    <a:pt x="3" y="143"/>
                  </a:lnTo>
                  <a:lnTo>
                    <a:pt x="3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b5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050160" y="7917480"/>
              <a:ext cx="147240" cy="83160"/>
            </a:xfrm>
            <a:custGeom>
              <a:avLst/>
              <a:gdLst/>
              <a:ahLst/>
              <a:rect l="l" t="t" r="r" b="b"/>
              <a:pathLst>
                <a:path w="315" h="200">
                  <a:moveTo>
                    <a:pt x="0" y="121"/>
                  </a:moveTo>
                  <a:lnTo>
                    <a:pt x="19" y="104"/>
                  </a:lnTo>
                  <a:lnTo>
                    <a:pt x="39" y="91"/>
                  </a:lnTo>
                  <a:lnTo>
                    <a:pt x="58" y="74"/>
                  </a:lnTo>
                  <a:lnTo>
                    <a:pt x="77" y="60"/>
                  </a:lnTo>
                  <a:lnTo>
                    <a:pt x="96" y="44"/>
                  </a:lnTo>
                  <a:lnTo>
                    <a:pt x="118" y="30"/>
                  </a:lnTo>
                  <a:lnTo>
                    <a:pt x="137" y="14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6" y="0"/>
                  </a:lnTo>
                  <a:lnTo>
                    <a:pt x="184" y="3"/>
                  </a:lnTo>
                  <a:lnTo>
                    <a:pt x="192" y="3"/>
                  </a:lnTo>
                  <a:lnTo>
                    <a:pt x="203" y="3"/>
                  </a:lnTo>
                  <a:lnTo>
                    <a:pt x="211" y="5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33" y="8"/>
                  </a:lnTo>
                  <a:lnTo>
                    <a:pt x="239" y="8"/>
                  </a:lnTo>
                  <a:lnTo>
                    <a:pt x="241" y="8"/>
                  </a:lnTo>
                  <a:lnTo>
                    <a:pt x="244" y="8"/>
                  </a:lnTo>
                  <a:lnTo>
                    <a:pt x="247" y="11"/>
                  </a:lnTo>
                  <a:lnTo>
                    <a:pt x="252" y="11"/>
                  </a:lnTo>
                  <a:lnTo>
                    <a:pt x="255" y="11"/>
                  </a:lnTo>
                  <a:lnTo>
                    <a:pt x="258" y="11"/>
                  </a:lnTo>
                  <a:lnTo>
                    <a:pt x="261" y="11"/>
                  </a:lnTo>
                  <a:lnTo>
                    <a:pt x="263" y="11"/>
                  </a:lnTo>
                  <a:lnTo>
                    <a:pt x="266" y="11"/>
                  </a:lnTo>
                  <a:lnTo>
                    <a:pt x="269" y="11"/>
                  </a:lnTo>
                  <a:lnTo>
                    <a:pt x="271" y="11"/>
                  </a:lnTo>
                  <a:lnTo>
                    <a:pt x="274" y="11"/>
                  </a:lnTo>
                  <a:lnTo>
                    <a:pt x="274" y="11"/>
                  </a:lnTo>
                  <a:lnTo>
                    <a:pt x="277" y="11"/>
                  </a:lnTo>
                  <a:lnTo>
                    <a:pt x="280" y="22"/>
                  </a:lnTo>
                  <a:lnTo>
                    <a:pt x="282" y="30"/>
                  </a:lnTo>
                  <a:lnTo>
                    <a:pt x="285" y="38"/>
                  </a:lnTo>
                  <a:lnTo>
                    <a:pt x="288" y="47"/>
                  </a:lnTo>
                  <a:lnTo>
                    <a:pt x="291" y="55"/>
                  </a:lnTo>
                  <a:lnTo>
                    <a:pt x="293" y="63"/>
                  </a:lnTo>
                  <a:lnTo>
                    <a:pt x="296" y="71"/>
                  </a:lnTo>
                  <a:lnTo>
                    <a:pt x="299" y="80"/>
                  </a:lnTo>
                  <a:lnTo>
                    <a:pt x="302" y="82"/>
                  </a:lnTo>
                  <a:lnTo>
                    <a:pt x="302" y="85"/>
                  </a:lnTo>
                  <a:lnTo>
                    <a:pt x="304" y="85"/>
                  </a:lnTo>
                  <a:lnTo>
                    <a:pt x="307" y="88"/>
                  </a:lnTo>
                  <a:lnTo>
                    <a:pt x="310" y="91"/>
                  </a:lnTo>
                  <a:lnTo>
                    <a:pt x="310" y="91"/>
                  </a:lnTo>
                  <a:lnTo>
                    <a:pt x="313" y="93"/>
                  </a:lnTo>
                  <a:lnTo>
                    <a:pt x="315" y="93"/>
                  </a:lnTo>
                  <a:lnTo>
                    <a:pt x="313" y="102"/>
                  </a:lnTo>
                  <a:lnTo>
                    <a:pt x="310" y="110"/>
                  </a:lnTo>
                  <a:lnTo>
                    <a:pt x="307" y="118"/>
                  </a:lnTo>
                  <a:lnTo>
                    <a:pt x="304" y="126"/>
                  </a:lnTo>
                  <a:lnTo>
                    <a:pt x="302" y="134"/>
                  </a:lnTo>
                  <a:lnTo>
                    <a:pt x="299" y="140"/>
                  </a:lnTo>
                  <a:lnTo>
                    <a:pt x="296" y="145"/>
                  </a:lnTo>
                  <a:lnTo>
                    <a:pt x="293" y="151"/>
                  </a:lnTo>
                  <a:lnTo>
                    <a:pt x="285" y="165"/>
                  </a:lnTo>
                  <a:lnTo>
                    <a:pt x="277" y="176"/>
                  </a:lnTo>
                  <a:lnTo>
                    <a:pt x="263" y="184"/>
                  </a:lnTo>
                  <a:lnTo>
                    <a:pt x="250" y="189"/>
                  </a:lnTo>
                  <a:lnTo>
                    <a:pt x="236" y="195"/>
                  </a:lnTo>
                  <a:lnTo>
                    <a:pt x="219" y="198"/>
                  </a:lnTo>
                  <a:lnTo>
                    <a:pt x="200" y="200"/>
                  </a:lnTo>
                  <a:lnTo>
                    <a:pt x="184" y="200"/>
                  </a:lnTo>
                  <a:lnTo>
                    <a:pt x="148" y="195"/>
                  </a:lnTo>
                  <a:lnTo>
                    <a:pt x="113" y="187"/>
                  </a:lnTo>
                  <a:lnTo>
                    <a:pt x="82" y="176"/>
                  </a:lnTo>
                  <a:lnTo>
                    <a:pt x="58" y="165"/>
                  </a:lnTo>
                  <a:lnTo>
                    <a:pt x="50" y="159"/>
                  </a:lnTo>
                  <a:lnTo>
                    <a:pt x="41" y="154"/>
                  </a:lnTo>
                  <a:lnTo>
                    <a:pt x="36" y="148"/>
                  </a:lnTo>
                  <a:lnTo>
                    <a:pt x="28" y="145"/>
                  </a:lnTo>
                  <a:lnTo>
                    <a:pt x="22" y="140"/>
                  </a:lnTo>
                  <a:lnTo>
                    <a:pt x="14" y="134"/>
                  </a:lnTo>
                  <a:lnTo>
                    <a:pt x="8" y="129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916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064200" y="7918920"/>
              <a:ext cx="122040" cy="68040"/>
            </a:xfrm>
            <a:custGeom>
              <a:avLst/>
              <a:gdLst/>
              <a:ahLst/>
              <a:rect l="l" t="t" r="r" b="b"/>
              <a:pathLst>
                <a:path w="261" h="164">
                  <a:moveTo>
                    <a:pt x="0" y="99"/>
                  </a:moveTo>
                  <a:lnTo>
                    <a:pt x="17" y="85"/>
                  </a:lnTo>
                  <a:lnTo>
                    <a:pt x="33" y="74"/>
                  </a:lnTo>
                  <a:lnTo>
                    <a:pt x="50" y="60"/>
                  </a:lnTo>
                  <a:lnTo>
                    <a:pt x="66" y="49"/>
                  </a:lnTo>
                  <a:lnTo>
                    <a:pt x="80" y="35"/>
                  </a:lnTo>
                  <a:lnTo>
                    <a:pt x="96" y="24"/>
                  </a:lnTo>
                  <a:lnTo>
                    <a:pt x="113" y="11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9" y="2"/>
                  </a:lnTo>
                  <a:lnTo>
                    <a:pt x="167" y="2"/>
                  </a:lnTo>
                  <a:lnTo>
                    <a:pt x="176" y="2"/>
                  </a:lnTo>
                  <a:lnTo>
                    <a:pt x="184" y="5"/>
                  </a:lnTo>
                  <a:lnTo>
                    <a:pt x="189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200" y="5"/>
                  </a:lnTo>
                  <a:lnTo>
                    <a:pt x="203" y="8"/>
                  </a:lnTo>
                  <a:lnTo>
                    <a:pt x="206" y="8"/>
                  </a:lnTo>
                  <a:lnTo>
                    <a:pt x="209" y="8"/>
                  </a:lnTo>
                  <a:lnTo>
                    <a:pt x="211" y="8"/>
                  </a:lnTo>
                  <a:lnTo>
                    <a:pt x="214" y="11"/>
                  </a:lnTo>
                  <a:lnTo>
                    <a:pt x="217" y="11"/>
                  </a:lnTo>
                  <a:lnTo>
                    <a:pt x="217" y="11"/>
                  </a:lnTo>
                  <a:lnTo>
                    <a:pt x="220" y="11"/>
                  </a:lnTo>
                  <a:lnTo>
                    <a:pt x="222" y="11"/>
                  </a:lnTo>
                  <a:lnTo>
                    <a:pt x="222" y="11"/>
                  </a:lnTo>
                  <a:lnTo>
                    <a:pt x="225" y="11"/>
                  </a:lnTo>
                  <a:lnTo>
                    <a:pt x="228" y="11"/>
                  </a:lnTo>
                  <a:lnTo>
                    <a:pt x="231" y="11"/>
                  </a:lnTo>
                  <a:lnTo>
                    <a:pt x="231" y="16"/>
                  </a:lnTo>
                  <a:lnTo>
                    <a:pt x="233" y="24"/>
                  </a:lnTo>
                  <a:lnTo>
                    <a:pt x="236" y="30"/>
                  </a:lnTo>
                  <a:lnTo>
                    <a:pt x="239" y="38"/>
                  </a:lnTo>
                  <a:lnTo>
                    <a:pt x="241" y="44"/>
                  </a:lnTo>
                  <a:lnTo>
                    <a:pt x="241" y="52"/>
                  </a:lnTo>
                  <a:lnTo>
                    <a:pt x="244" y="60"/>
                  </a:lnTo>
                  <a:lnTo>
                    <a:pt x="247" y="66"/>
                  </a:lnTo>
                  <a:lnTo>
                    <a:pt x="247" y="68"/>
                  </a:lnTo>
                  <a:lnTo>
                    <a:pt x="250" y="68"/>
                  </a:lnTo>
                  <a:lnTo>
                    <a:pt x="252" y="71"/>
                  </a:lnTo>
                  <a:lnTo>
                    <a:pt x="252" y="71"/>
                  </a:lnTo>
                  <a:lnTo>
                    <a:pt x="255" y="74"/>
                  </a:lnTo>
                  <a:lnTo>
                    <a:pt x="258" y="74"/>
                  </a:lnTo>
                  <a:lnTo>
                    <a:pt x="258" y="77"/>
                  </a:lnTo>
                  <a:lnTo>
                    <a:pt x="261" y="77"/>
                  </a:lnTo>
                  <a:lnTo>
                    <a:pt x="258" y="85"/>
                  </a:lnTo>
                  <a:lnTo>
                    <a:pt x="255" y="90"/>
                  </a:lnTo>
                  <a:lnTo>
                    <a:pt x="255" y="99"/>
                  </a:lnTo>
                  <a:lnTo>
                    <a:pt x="252" y="104"/>
                  </a:lnTo>
                  <a:lnTo>
                    <a:pt x="250" y="110"/>
                  </a:lnTo>
                  <a:lnTo>
                    <a:pt x="247" y="115"/>
                  </a:lnTo>
                  <a:lnTo>
                    <a:pt x="244" y="121"/>
                  </a:lnTo>
                  <a:lnTo>
                    <a:pt x="244" y="123"/>
                  </a:lnTo>
                  <a:lnTo>
                    <a:pt x="236" y="134"/>
                  </a:lnTo>
                  <a:lnTo>
                    <a:pt x="228" y="145"/>
                  </a:lnTo>
                  <a:lnTo>
                    <a:pt x="220" y="151"/>
                  </a:lnTo>
                  <a:lnTo>
                    <a:pt x="206" y="156"/>
                  </a:lnTo>
                  <a:lnTo>
                    <a:pt x="181" y="162"/>
                  </a:lnTo>
                  <a:lnTo>
                    <a:pt x="151" y="164"/>
                  </a:lnTo>
                  <a:lnTo>
                    <a:pt x="121" y="162"/>
                  </a:lnTo>
                  <a:lnTo>
                    <a:pt x="94" y="153"/>
                  </a:lnTo>
                  <a:lnTo>
                    <a:pt x="69" y="145"/>
                  </a:lnTo>
                  <a:lnTo>
                    <a:pt x="47" y="134"/>
                  </a:lnTo>
                  <a:lnTo>
                    <a:pt x="41" y="131"/>
                  </a:lnTo>
                  <a:lnTo>
                    <a:pt x="36" y="126"/>
                  </a:lnTo>
                  <a:lnTo>
                    <a:pt x="30" y="123"/>
                  </a:lnTo>
                  <a:lnTo>
                    <a:pt x="25" y="118"/>
                  </a:lnTo>
                  <a:lnTo>
                    <a:pt x="20" y="115"/>
                  </a:lnTo>
                  <a:lnTo>
                    <a:pt x="14" y="110"/>
                  </a:lnTo>
                  <a:lnTo>
                    <a:pt x="9" y="107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0" y="101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9767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78240" y="7919640"/>
              <a:ext cx="96480" cy="53640"/>
            </a:xfrm>
            <a:custGeom>
              <a:avLst/>
              <a:gdLst/>
              <a:ahLst/>
              <a:rect l="l" t="t" r="r" b="b"/>
              <a:pathLst>
                <a:path w="206" h="129">
                  <a:moveTo>
                    <a:pt x="0" y="77"/>
                  </a:moveTo>
                  <a:lnTo>
                    <a:pt x="14" y="69"/>
                  </a:lnTo>
                  <a:lnTo>
                    <a:pt x="28" y="58"/>
                  </a:lnTo>
                  <a:lnTo>
                    <a:pt x="39" y="47"/>
                  </a:lnTo>
                  <a:lnTo>
                    <a:pt x="53" y="39"/>
                  </a:lnTo>
                  <a:lnTo>
                    <a:pt x="64" y="28"/>
                  </a:lnTo>
                  <a:lnTo>
                    <a:pt x="77" y="20"/>
                  </a:lnTo>
                  <a:lnTo>
                    <a:pt x="91" y="9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2" y="3"/>
                  </a:lnTo>
                  <a:lnTo>
                    <a:pt x="137" y="3"/>
                  </a:lnTo>
                  <a:lnTo>
                    <a:pt x="146" y="3"/>
                  </a:lnTo>
                  <a:lnTo>
                    <a:pt x="151" y="3"/>
                  </a:lnTo>
                  <a:lnTo>
                    <a:pt x="154" y="3"/>
                  </a:lnTo>
                  <a:lnTo>
                    <a:pt x="154" y="6"/>
                  </a:lnTo>
                  <a:lnTo>
                    <a:pt x="157" y="6"/>
                  </a:lnTo>
                  <a:lnTo>
                    <a:pt x="159" y="6"/>
                  </a:lnTo>
                  <a:lnTo>
                    <a:pt x="162" y="6"/>
                  </a:lnTo>
                  <a:lnTo>
                    <a:pt x="165" y="6"/>
                  </a:lnTo>
                  <a:lnTo>
                    <a:pt x="168" y="9"/>
                  </a:lnTo>
                  <a:lnTo>
                    <a:pt x="168" y="9"/>
                  </a:lnTo>
                  <a:lnTo>
                    <a:pt x="170" y="9"/>
                  </a:lnTo>
                  <a:lnTo>
                    <a:pt x="173" y="9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6" y="9"/>
                  </a:lnTo>
                  <a:lnTo>
                    <a:pt x="179" y="9"/>
                  </a:lnTo>
                  <a:lnTo>
                    <a:pt x="179" y="9"/>
                  </a:lnTo>
                  <a:lnTo>
                    <a:pt x="181" y="9"/>
                  </a:lnTo>
                  <a:lnTo>
                    <a:pt x="184" y="14"/>
                  </a:lnTo>
                  <a:lnTo>
                    <a:pt x="184" y="20"/>
                  </a:lnTo>
                  <a:lnTo>
                    <a:pt x="187" y="25"/>
                  </a:lnTo>
                  <a:lnTo>
                    <a:pt x="187" y="31"/>
                  </a:lnTo>
                  <a:lnTo>
                    <a:pt x="190" y="36"/>
                  </a:lnTo>
                  <a:lnTo>
                    <a:pt x="192" y="42"/>
                  </a:lnTo>
                  <a:lnTo>
                    <a:pt x="192" y="47"/>
                  </a:lnTo>
                  <a:lnTo>
                    <a:pt x="195" y="53"/>
                  </a:lnTo>
                  <a:lnTo>
                    <a:pt x="195" y="53"/>
                  </a:lnTo>
                  <a:lnTo>
                    <a:pt x="198" y="55"/>
                  </a:lnTo>
                  <a:lnTo>
                    <a:pt x="198" y="55"/>
                  </a:lnTo>
                  <a:lnTo>
                    <a:pt x="201" y="55"/>
                  </a:lnTo>
                  <a:lnTo>
                    <a:pt x="201" y="58"/>
                  </a:lnTo>
                  <a:lnTo>
                    <a:pt x="203" y="58"/>
                  </a:lnTo>
                  <a:lnTo>
                    <a:pt x="203" y="61"/>
                  </a:lnTo>
                  <a:lnTo>
                    <a:pt x="206" y="61"/>
                  </a:lnTo>
                  <a:lnTo>
                    <a:pt x="203" y="66"/>
                  </a:lnTo>
                  <a:lnTo>
                    <a:pt x="203" y="72"/>
                  </a:lnTo>
                  <a:lnTo>
                    <a:pt x="201" y="77"/>
                  </a:lnTo>
                  <a:lnTo>
                    <a:pt x="198" y="83"/>
                  </a:lnTo>
                  <a:lnTo>
                    <a:pt x="198" y="86"/>
                  </a:lnTo>
                  <a:lnTo>
                    <a:pt x="195" y="91"/>
                  </a:lnTo>
                  <a:lnTo>
                    <a:pt x="192" y="94"/>
                  </a:lnTo>
                  <a:lnTo>
                    <a:pt x="192" y="99"/>
                  </a:lnTo>
                  <a:lnTo>
                    <a:pt x="187" y="108"/>
                  </a:lnTo>
                  <a:lnTo>
                    <a:pt x="181" y="113"/>
                  </a:lnTo>
                  <a:lnTo>
                    <a:pt x="173" y="119"/>
                  </a:lnTo>
                  <a:lnTo>
                    <a:pt x="165" y="124"/>
                  </a:lnTo>
                  <a:lnTo>
                    <a:pt x="143" y="129"/>
                  </a:lnTo>
                  <a:lnTo>
                    <a:pt x="121" y="129"/>
                  </a:lnTo>
                  <a:lnTo>
                    <a:pt x="96" y="127"/>
                  </a:lnTo>
                  <a:lnTo>
                    <a:pt x="74" y="121"/>
                  </a:lnTo>
                  <a:lnTo>
                    <a:pt x="55" y="113"/>
                  </a:lnTo>
                  <a:lnTo>
                    <a:pt x="39" y="105"/>
                  </a:lnTo>
                  <a:lnTo>
                    <a:pt x="33" y="102"/>
                  </a:lnTo>
                  <a:lnTo>
                    <a:pt x="28" y="99"/>
                  </a:lnTo>
                  <a:lnTo>
                    <a:pt x="25" y="97"/>
                  </a:lnTo>
                  <a:lnTo>
                    <a:pt x="20" y="94"/>
                  </a:lnTo>
                  <a:lnTo>
                    <a:pt x="17" y="91"/>
                  </a:lnTo>
                  <a:lnTo>
                    <a:pt x="11" y="88"/>
                  </a:lnTo>
                  <a:lnTo>
                    <a:pt x="6" y="83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9d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093720" y="7921080"/>
              <a:ext cx="69120" cy="39240"/>
            </a:xfrm>
            <a:custGeom>
              <a:avLst/>
              <a:gdLst/>
              <a:ahLst/>
              <a:rect l="l" t="t" r="r" b="b"/>
              <a:pathLst>
                <a:path w="148" h="94">
                  <a:moveTo>
                    <a:pt x="0" y="55"/>
                  </a:moveTo>
                  <a:lnTo>
                    <a:pt x="9" y="50"/>
                  </a:lnTo>
                  <a:lnTo>
                    <a:pt x="17" y="41"/>
                  </a:lnTo>
                  <a:lnTo>
                    <a:pt x="28" y="36"/>
                  </a:lnTo>
                  <a:lnTo>
                    <a:pt x="36" y="28"/>
                  </a:lnTo>
                  <a:lnTo>
                    <a:pt x="44" y="19"/>
                  </a:lnTo>
                  <a:lnTo>
                    <a:pt x="55" y="14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3"/>
                  </a:lnTo>
                  <a:lnTo>
                    <a:pt x="107" y="3"/>
                  </a:lnTo>
                  <a:lnTo>
                    <a:pt x="110" y="3"/>
                  </a:lnTo>
                  <a:lnTo>
                    <a:pt x="110" y="3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5" y="3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4" y="6"/>
                  </a:lnTo>
                  <a:lnTo>
                    <a:pt x="124" y="6"/>
                  </a:lnTo>
                  <a:lnTo>
                    <a:pt x="126" y="6"/>
                  </a:lnTo>
                  <a:lnTo>
                    <a:pt x="126" y="6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32" y="8"/>
                  </a:lnTo>
                  <a:lnTo>
                    <a:pt x="132" y="14"/>
                  </a:lnTo>
                  <a:lnTo>
                    <a:pt x="135" y="17"/>
                  </a:lnTo>
                  <a:lnTo>
                    <a:pt x="135" y="22"/>
                  </a:lnTo>
                  <a:lnTo>
                    <a:pt x="137" y="25"/>
                  </a:lnTo>
                  <a:lnTo>
                    <a:pt x="137" y="30"/>
                  </a:lnTo>
                  <a:lnTo>
                    <a:pt x="137" y="33"/>
                  </a:lnTo>
                  <a:lnTo>
                    <a:pt x="140" y="39"/>
                  </a:lnTo>
                  <a:lnTo>
                    <a:pt x="140" y="39"/>
                  </a:lnTo>
                  <a:lnTo>
                    <a:pt x="143" y="39"/>
                  </a:lnTo>
                  <a:lnTo>
                    <a:pt x="143" y="39"/>
                  </a:lnTo>
                  <a:lnTo>
                    <a:pt x="143" y="41"/>
                  </a:lnTo>
                  <a:lnTo>
                    <a:pt x="146" y="41"/>
                  </a:lnTo>
                  <a:lnTo>
                    <a:pt x="146" y="41"/>
                  </a:lnTo>
                  <a:lnTo>
                    <a:pt x="146" y="44"/>
                  </a:lnTo>
                  <a:lnTo>
                    <a:pt x="148" y="44"/>
                  </a:lnTo>
                  <a:lnTo>
                    <a:pt x="146" y="47"/>
                  </a:lnTo>
                  <a:lnTo>
                    <a:pt x="146" y="52"/>
                  </a:lnTo>
                  <a:lnTo>
                    <a:pt x="143" y="55"/>
                  </a:lnTo>
                  <a:lnTo>
                    <a:pt x="143" y="58"/>
                  </a:lnTo>
                  <a:lnTo>
                    <a:pt x="140" y="63"/>
                  </a:lnTo>
                  <a:lnTo>
                    <a:pt x="140" y="66"/>
                  </a:lnTo>
                  <a:lnTo>
                    <a:pt x="140" y="69"/>
                  </a:lnTo>
                  <a:lnTo>
                    <a:pt x="137" y="72"/>
                  </a:lnTo>
                  <a:lnTo>
                    <a:pt x="129" y="83"/>
                  </a:lnTo>
                  <a:lnTo>
                    <a:pt x="118" y="88"/>
                  </a:lnTo>
                  <a:lnTo>
                    <a:pt x="102" y="94"/>
                  </a:lnTo>
                  <a:lnTo>
                    <a:pt x="85" y="94"/>
                  </a:lnTo>
                  <a:lnTo>
                    <a:pt x="69" y="91"/>
                  </a:lnTo>
                  <a:lnTo>
                    <a:pt x="52" y="88"/>
                  </a:lnTo>
                  <a:lnTo>
                    <a:pt x="39" y="83"/>
                  </a:lnTo>
                  <a:lnTo>
                    <a:pt x="25" y="77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17" y="69"/>
                  </a:lnTo>
                  <a:lnTo>
                    <a:pt x="14" y="69"/>
                  </a:lnTo>
                  <a:lnTo>
                    <a:pt x="9" y="66"/>
                  </a:lnTo>
                  <a:lnTo>
                    <a:pt x="6" y="63"/>
                  </a:lnTo>
                  <a:lnTo>
                    <a:pt x="3" y="6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a36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108120" y="7922160"/>
              <a:ext cx="43560" cy="2376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0" y="36"/>
                  </a:moveTo>
                  <a:lnTo>
                    <a:pt x="46" y="0"/>
                  </a:lnTo>
                  <a:lnTo>
                    <a:pt x="68" y="0"/>
                  </a:lnTo>
                  <a:lnTo>
                    <a:pt x="76" y="3"/>
                  </a:lnTo>
                  <a:lnTo>
                    <a:pt x="82" y="3"/>
                  </a:lnTo>
                  <a:lnTo>
                    <a:pt x="87" y="22"/>
                  </a:lnTo>
                  <a:lnTo>
                    <a:pt x="93" y="27"/>
                  </a:lnTo>
                  <a:lnTo>
                    <a:pt x="90" y="30"/>
                  </a:lnTo>
                  <a:lnTo>
                    <a:pt x="90" y="33"/>
                  </a:lnTo>
                  <a:lnTo>
                    <a:pt x="90" y="33"/>
                  </a:lnTo>
                  <a:lnTo>
                    <a:pt x="90" y="36"/>
                  </a:lnTo>
                  <a:lnTo>
                    <a:pt x="87" y="38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4" y="44"/>
                  </a:lnTo>
                  <a:lnTo>
                    <a:pt x="82" y="49"/>
                  </a:lnTo>
                  <a:lnTo>
                    <a:pt x="73" y="55"/>
                  </a:lnTo>
                  <a:lnTo>
                    <a:pt x="63" y="58"/>
                  </a:lnTo>
                  <a:lnTo>
                    <a:pt x="54" y="58"/>
                  </a:lnTo>
                  <a:lnTo>
                    <a:pt x="43" y="58"/>
                  </a:lnTo>
                  <a:lnTo>
                    <a:pt x="32" y="55"/>
                  </a:lnTo>
                  <a:lnTo>
                    <a:pt x="24" y="52"/>
                  </a:lnTo>
                  <a:lnTo>
                    <a:pt x="16" y="47"/>
                  </a:lnTo>
                  <a:lnTo>
                    <a:pt x="13" y="47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8" y="41"/>
                  </a:lnTo>
                  <a:lnTo>
                    <a:pt x="5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a97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653000" y="8070120"/>
              <a:ext cx="843120" cy="375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222120" y="4229280"/>
            <a:ext cx="6496200" cy="815760"/>
            <a:chOff x="222120" y="4229280"/>
            <a:chExt cx="6496200" cy="815760"/>
          </a:xfrm>
        </p:grpSpPr>
        <p:sp>
          <p:nvSpPr>
            <p:cNvPr id="1427" name=""/>
            <p:cNvSpPr/>
            <p:nvPr/>
          </p:nvSpPr>
          <p:spPr>
            <a:xfrm>
              <a:off x="222120" y="4404240"/>
              <a:ext cx="6496200" cy="640800"/>
            </a:xfrm>
            <a:custGeom>
              <a:avLst/>
              <a:gdLst/>
              <a:ahLst/>
              <a:rect l="l" t="t" r="r" b="b"/>
              <a:pathLst>
                <a:path w="9586" h="1044">
                  <a:moveTo>
                    <a:pt x="4793" y="1044"/>
                  </a:moveTo>
                  <a:lnTo>
                    <a:pt x="4752" y="1044"/>
                  </a:lnTo>
                  <a:lnTo>
                    <a:pt x="4731" y="1044"/>
                  </a:lnTo>
                  <a:lnTo>
                    <a:pt x="4710" y="1044"/>
                  </a:lnTo>
                  <a:lnTo>
                    <a:pt x="4669" y="1044"/>
                  </a:lnTo>
                  <a:lnTo>
                    <a:pt x="4649" y="1044"/>
                  </a:lnTo>
                  <a:lnTo>
                    <a:pt x="4628" y="1044"/>
                  </a:lnTo>
                  <a:lnTo>
                    <a:pt x="4608" y="1044"/>
                  </a:lnTo>
                  <a:lnTo>
                    <a:pt x="4587" y="1044"/>
                  </a:lnTo>
                  <a:lnTo>
                    <a:pt x="4546" y="1044"/>
                  </a:lnTo>
                  <a:lnTo>
                    <a:pt x="4505" y="1044"/>
                  </a:lnTo>
                  <a:lnTo>
                    <a:pt x="4484" y="1044"/>
                  </a:lnTo>
                  <a:lnTo>
                    <a:pt x="4422" y="1044"/>
                  </a:lnTo>
                  <a:lnTo>
                    <a:pt x="4381" y="1044"/>
                  </a:lnTo>
                  <a:lnTo>
                    <a:pt x="4299" y="1044"/>
                  </a:lnTo>
                  <a:lnTo>
                    <a:pt x="4237" y="1044"/>
                  </a:lnTo>
                  <a:lnTo>
                    <a:pt x="4134" y="1044"/>
                  </a:lnTo>
                  <a:lnTo>
                    <a:pt x="4073" y="1035"/>
                  </a:lnTo>
                  <a:lnTo>
                    <a:pt x="4011" y="1031"/>
                  </a:lnTo>
                  <a:lnTo>
                    <a:pt x="3949" y="1027"/>
                  </a:lnTo>
                  <a:lnTo>
                    <a:pt x="3888" y="1019"/>
                  </a:lnTo>
                  <a:lnTo>
                    <a:pt x="3826" y="1010"/>
                  </a:lnTo>
                  <a:lnTo>
                    <a:pt x="3764" y="1006"/>
                  </a:lnTo>
                  <a:lnTo>
                    <a:pt x="3723" y="998"/>
                  </a:lnTo>
                  <a:lnTo>
                    <a:pt x="3682" y="989"/>
                  </a:lnTo>
                  <a:lnTo>
                    <a:pt x="3641" y="981"/>
                  </a:lnTo>
                  <a:lnTo>
                    <a:pt x="3620" y="973"/>
                  </a:lnTo>
                  <a:lnTo>
                    <a:pt x="3579" y="964"/>
                  </a:lnTo>
                  <a:lnTo>
                    <a:pt x="3558" y="960"/>
                  </a:lnTo>
                  <a:lnTo>
                    <a:pt x="3538" y="948"/>
                  </a:lnTo>
                  <a:lnTo>
                    <a:pt x="3517" y="939"/>
                  </a:lnTo>
                  <a:lnTo>
                    <a:pt x="3517" y="931"/>
                  </a:lnTo>
                  <a:lnTo>
                    <a:pt x="3517" y="923"/>
                  </a:lnTo>
                  <a:lnTo>
                    <a:pt x="3497" y="919"/>
                  </a:lnTo>
                  <a:lnTo>
                    <a:pt x="3456" y="914"/>
                  </a:lnTo>
                  <a:lnTo>
                    <a:pt x="3414" y="914"/>
                  </a:lnTo>
                  <a:lnTo>
                    <a:pt x="3353" y="914"/>
                  </a:lnTo>
                  <a:lnTo>
                    <a:pt x="3270" y="914"/>
                  </a:lnTo>
                  <a:lnTo>
                    <a:pt x="3188" y="914"/>
                  </a:lnTo>
                  <a:lnTo>
                    <a:pt x="3085" y="914"/>
                  </a:lnTo>
                  <a:lnTo>
                    <a:pt x="2962" y="919"/>
                  </a:lnTo>
                  <a:lnTo>
                    <a:pt x="2818" y="923"/>
                  </a:lnTo>
                  <a:lnTo>
                    <a:pt x="2694" y="927"/>
                  </a:lnTo>
                  <a:lnTo>
                    <a:pt x="2550" y="931"/>
                  </a:lnTo>
                  <a:lnTo>
                    <a:pt x="2386" y="939"/>
                  </a:lnTo>
                  <a:lnTo>
                    <a:pt x="2242" y="944"/>
                  </a:lnTo>
                  <a:lnTo>
                    <a:pt x="2077" y="948"/>
                  </a:lnTo>
                  <a:lnTo>
                    <a:pt x="1913" y="956"/>
                  </a:lnTo>
                  <a:lnTo>
                    <a:pt x="1748" y="964"/>
                  </a:lnTo>
                  <a:lnTo>
                    <a:pt x="1584" y="969"/>
                  </a:lnTo>
                  <a:lnTo>
                    <a:pt x="1419" y="977"/>
                  </a:lnTo>
                  <a:lnTo>
                    <a:pt x="1254" y="985"/>
                  </a:lnTo>
                  <a:lnTo>
                    <a:pt x="1110" y="989"/>
                  </a:lnTo>
                  <a:lnTo>
                    <a:pt x="966" y="998"/>
                  </a:lnTo>
                  <a:lnTo>
                    <a:pt x="802" y="1006"/>
                  </a:lnTo>
                  <a:lnTo>
                    <a:pt x="678" y="1010"/>
                  </a:lnTo>
                  <a:lnTo>
                    <a:pt x="534" y="1015"/>
                  </a:lnTo>
                  <a:lnTo>
                    <a:pt x="432" y="1023"/>
                  </a:lnTo>
                  <a:lnTo>
                    <a:pt x="329" y="1027"/>
                  </a:lnTo>
                  <a:lnTo>
                    <a:pt x="226" y="1031"/>
                  </a:lnTo>
                  <a:lnTo>
                    <a:pt x="144" y="1035"/>
                  </a:lnTo>
                  <a:lnTo>
                    <a:pt x="82" y="1040"/>
                  </a:lnTo>
                  <a:lnTo>
                    <a:pt x="41" y="1044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0" y="860"/>
                  </a:lnTo>
                  <a:lnTo>
                    <a:pt x="0" y="718"/>
                  </a:lnTo>
                  <a:lnTo>
                    <a:pt x="0" y="49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1" y="67"/>
                  </a:lnTo>
                  <a:lnTo>
                    <a:pt x="61" y="67"/>
                  </a:lnTo>
                  <a:lnTo>
                    <a:pt x="123" y="63"/>
                  </a:lnTo>
                  <a:lnTo>
                    <a:pt x="205" y="63"/>
                  </a:lnTo>
                  <a:lnTo>
                    <a:pt x="288" y="59"/>
                  </a:lnTo>
                  <a:lnTo>
                    <a:pt x="370" y="55"/>
                  </a:lnTo>
                  <a:lnTo>
                    <a:pt x="473" y="55"/>
                  </a:lnTo>
                  <a:lnTo>
                    <a:pt x="596" y="50"/>
                  </a:lnTo>
                  <a:lnTo>
                    <a:pt x="720" y="46"/>
                  </a:lnTo>
                  <a:lnTo>
                    <a:pt x="843" y="42"/>
                  </a:lnTo>
                  <a:lnTo>
                    <a:pt x="987" y="42"/>
                  </a:lnTo>
                  <a:lnTo>
                    <a:pt x="1131" y="38"/>
                  </a:lnTo>
                  <a:lnTo>
                    <a:pt x="1275" y="34"/>
                  </a:lnTo>
                  <a:lnTo>
                    <a:pt x="1419" y="29"/>
                  </a:lnTo>
                  <a:lnTo>
                    <a:pt x="1584" y="25"/>
                  </a:lnTo>
                  <a:lnTo>
                    <a:pt x="1728" y="21"/>
                  </a:lnTo>
                  <a:lnTo>
                    <a:pt x="1872" y="21"/>
                  </a:lnTo>
                  <a:lnTo>
                    <a:pt x="2036" y="17"/>
                  </a:lnTo>
                  <a:lnTo>
                    <a:pt x="2180" y="13"/>
                  </a:lnTo>
                  <a:lnTo>
                    <a:pt x="2345" y="13"/>
                  </a:lnTo>
                  <a:lnTo>
                    <a:pt x="2489" y="9"/>
                  </a:lnTo>
                  <a:lnTo>
                    <a:pt x="2612" y="4"/>
                  </a:lnTo>
                  <a:lnTo>
                    <a:pt x="2756" y="4"/>
                  </a:lnTo>
                  <a:lnTo>
                    <a:pt x="2880" y="4"/>
                  </a:lnTo>
                  <a:lnTo>
                    <a:pt x="3003" y="0"/>
                  </a:lnTo>
                  <a:lnTo>
                    <a:pt x="3106" y="0"/>
                  </a:lnTo>
                  <a:lnTo>
                    <a:pt x="3209" y="0"/>
                  </a:lnTo>
                  <a:lnTo>
                    <a:pt x="3291" y="0"/>
                  </a:lnTo>
                  <a:lnTo>
                    <a:pt x="3373" y="0"/>
                  </a:lnTo>
                  <a:lnTo>
                    <a:pt x="3435" y="4"/>
                  </a:lnTo>
                  <a:lnTo>
                    <a:pt x="3497" y="4"/>
                  </a:lnTo>
                  <a:lnTo>
                    <a:pt x="3579" y="13"/>
                  </a:lnTo>
                  <a:lnTo>
                    <a:pt x="3641" y="17"/>
                  </a:lnTo>
                  <a:lnTo>
                    <a:pt x="3682" y="25"/>
                  </a:lnTo>
                  <a:lnTo>
                    <a:pt x="3723" y="34"/>
                  </a:lnTo>
                  <a:lnTo>
                    <a:pt x="3744" y="42"/>
                  </a:lnTo>
                  <a:lnTo>
                    <a:pt x="3785" y="55"/>
                  </a:lnTo>
                  <a:lnTo>
                    <a:pt x="3805" y="63"/>
                  </a:lnTo>
                  <a:lnTo>
                    <a:pt x="3826" y="71"/>
                  </a:lnTo>
                  <a:lnTo>
                    <a:pt x="3826" y="84"/>
                  </a:lnTo>
                  <a:lnTo>
                    <a:pt x="3846" y="92"/>
                  </a:lnTo>
                  <a:lnTo>
                    <a:pt x="3888" y="100"/>
                  </a:lnTo>
                  <a:lnTo>
                    <a:pt x="3908" y="109"/>
                  </a:lnTo>
                  <a:lnTo>
                    <a:pt x="3949" y="117"/>
                  </a:lnTo>
                  <a:lnTo>
                    <a:pt x="3990" y="121"/>
                  </a:lnTo>
                  <a:lnTo>
                    <a:pt x="4073" y="130"/>
                  </a:lnTo>
                  <a:lnTo>
                    <a:pt x="4134" y="130"/>
                  </a:lnTo>
                  <a:lnTo>
                    <a:pt x="4176" y="130"/>
                  </a:lnTo>
                  <a:lnTo>
                    <a:pt x="4217" y="130"/>
                  </a:lnTo>
                  <a:lnTo>
                    <a:pt x="4237" y="130"/>
                  </a:lnTo>
                  <a:lnTo>
                    <a:pt x="4258" y="130"/>
                  </a:lnTo>
                  <a:lnTo>
                    <a:pt x="4278" y="130"/>
                  </a:lnTo>
                  <a:lnTo>
                    <a:pt x="4320" y="130"/>
                  </a:lnTo>
                  <a:lnTo>
                    <a:pt x="4340" y="130"/>
                  </a:lnTo>
                  <a:lnTo>
                    <a:pt x="4361" y="130"/>
                  </a:lnTo>
                  <a:lnTo>
                    <a:pt x="4381" y="130"/>
                  </a:lnTo>
                  <a:lnTo>
                    <a:pt x="4422" y="130"/>
                  </a:lnTo>
                  <a:lnTo>
                    <a:pt x="4464" y="130"/>
                  </a:lnTo>
                  <a:lnTo>
                    <a:pt x="4505" y="130"/>
                  </a:lnTo>
                  <a:lnTo>
                    <a:pt x="4566" y="130"/>
                  </a:lnTo>
                  <a:lnTo>
                    <a:pt x="4628" y="130"/>
                  </a:lnTo>
                  <a:lnTo>
                    <a:pt x="4710" y="134"/>
                  </a:lnTo>
                  <a:lnTo>
                    <a:pt x="4793" y="134"/>
                  </a:lnTo>
                  <a:lnTo>
                    <a:pt x="4834" y="134"/>
                  </a:lnTo>
                  <a:lnTo>
                    <a:pt x="4875" y="134"/>
                  </a:lnTo>
                  <a:lnTo>
                    <a:pt x="4896" y="134"/>
                  </a:lnTo>
                  <a:lnTo>
                    <a:pt x="4916" y="134"/>
                  </a:lnTo>
                  <a:lnTo>
                    <a:pt x="4937" y="134"/>
                  </a:lnTo>
                  <a:lnTo>
                    <a:pt x="4957" y="134"/>
                  </a:lnTo>
                  <a:lnTo>
                    <a:pt x="4998" y="134"/>
                  </a:lnTo>
                  <a:lnTo>
                    <a:pt x="5019" y="134"/>
                  </a:lnTo>
                  <a:lnTo>
                    <a:pt x="5040" y="134"/>
                  </a:lnTo>
                  <a:lnTo>
                    <a:pt x="5081" y="134"/>
                  </a:lnTo>
                  <a:lnTo>
                    <a:pt x="5122" y="134"/>
                  </a:lnTo>
                  <a:lnTo>
                    <a:pt x="5163" y="134"/>
                  </a:lnTo>
                  <a:lnTo>
                    <a:pt x="5225" y="134"/>
                  </a:lnTo>
                  <a:lnTo>
                    <a:pt x="5286" y="134"/>
                  </a:lnTo>
                  <a:lnTo>
                    <a:pt x="5348" y="134"/>
                  </a:lnTo>
                  <a:lnTo>
                    <a:pt x="5451" y="134"/>
                  </a:lnTo>
                  <a:lnTo>
                    <a:pt x="5533" y="130"/>
                  </a:lnTo>
                  <a:lnTo>
                    <a:pt x="5595" y="125"/>
                  </a:lnTo>
                  <a:lnTo>
                    <a:pt x="5636" y="117"/>
                  </a:lnTo>
                  <a:lnTo>
                    <a:pt x="5677" y="113"/>
                  </a:lnTo>
                  <a:lnTo>
                    <a:pt x="5718" y="105"/>
                  </a:lnTo>
                  <a:lnTo>
                    <a:pt x="5739" y="92"/>
                  </a:lnTo>
                  <a:lnTo>
                    <a:pt x="5760" y="84"/>
                  </a:lnTo>
                  <a:lnTo>
                    <a:pt x="5780" y="75"/>
                  </a:lnTo>
                  <a:lnTo>
                    <a:pt x="5801" y="67"/>
                  </a:lnTo>
                  <a:lnTo>
                    <a:pt x="5821" y="55"/>
                  </a:lnTo>
                  <a:lnTo>
                    <a:pt x="5842" y="46"/>
                  </a:lnTo>
                  <a:lnTo>
                    <a:pt x="5862" y="34"/>
                  </a:lnTo>
                  <a:lnTo>
                    <a:pt x="5904" y="25"/>
                  </a:lnTo>
                  <a:lnTo>
                    <a:pt x="5965" y="21"/>
                  </a:lnTo>
                  <a:lnTo>
                    <a:pt x="6027" y="13"/>
                  </a:lnTo>
                  <a:lnTo>
                    <a:pt x="6089" y="9"/>
                  </a:lnTo>
                  <a:lnTo>
                    <a:pt x="6150" y="4"/>
                  </a:lnTo>
                  <a:lnTo>
                    <a:pt x="6212" y="4"/>
                  </a:lnTo>
                  <a:lnTo>
                    <a:pt x="6294" y="4"/>
                  </a:lnTo>
                  <a:lnTo>
                    <a:pt x="6377" y="4"/>
                  </a:lnTo>
                  <a:lnTo>
                    <a:pt x="6480" y="4"/>
                  </a:lnTo>
                  <a:lnTo>
                    <a:pt x="6582" y="4"/>
                  </a:lnTo>
                  <a:lnTo>
                    <a:pt x="6706" y="4"/>
                  </a:lnTo>
                  <a:lnTo>
                    <a:pt x="6829" y="4"/>
                  </a:lnTo>
                  <a:lnTo>
                    <a:pt x="6973" y="9"/>
                  </a:lnTo>
                  <a:lnTo>
                    <a:pt x="7117" y="9"/>
                  </a:lnTo>
                  <a:lnTo>
                    <a:pt x="7261" y="13"/>
                  </a:lnTo>
                  <a:lnTo>
                    <a:pt x="7405" y="17"/>
                  </a:lnTo>
                  <a:lnTo>
                    <a:pt x="7549" y="17"/>
                  </a:lnTo>
                  <a:lnTo>
                    <a:pt x="7714" y="21"/>
                  </a:lnTo>
                  <a:lnTo>
                    <a:pt x="7858" y="25"/>
                  </a:lnTo>
                  <a:lnTo>
                    <a:pt x="8022" y="29"/>
                  </a:lnTo>
                  <a:lnTo>
                    <a:pt x="8166" y="29"/>
                  </a:lnTo>
                  <a:lnTo>
                    <a:pt x="8310" y="34"/>
                  </a:lnTo>
                  <a:lnTo>
                    <a:pt x="8475" y="38"/>
                  </a:lnTo>
                  <a:lnTo>
                    <a:pt x="8598" y="42"/>
                  </a:lnTo>
                  <a:lnTo>
                    <a:pt x="8742" y="46"/>
                  </a:lnTo>
                  <a:lnTo>
                    <a:pt x="8866" y="50"/>
                  </a:lnTo>
                  <a:lnTo>
                    <a:pt x="8989" y="50"/>
                  </a:lnTo>
                  <a:lnTo>
                    <a:pt x="9113" y="55"/>
                  </a:lnTo>
                  <a:lnTo>
                    <a:pt x="9216" y="59"/>
                  </a:lnTo>
                  <a:lnTo>
                    <a:pt x="9298" y="59"/>
                  </a:lnTo>
                  <a:lnTo>
                    <a:pt x="9380" y="63"/>
                  </a:lnTo>
                  <a:lnTo>
                    <a:pt x="9462" y="67"/>
                  </a:lnTo>
                  <a:lnTo>
                    <a:pt x="9504" y="67"/>
                  </a:lnTo>
                  <a:lnTo>
                    <a:pt x="9565" y="67"/>
                  </a:lnTo>
                  <a:lnTo>
                    <a:pt x="9586" y="67"/>
                  </a:lnTo>
                  <a:lnTo>
                    <a:pt x="9586" y="71"/>
                  </a:lnTo>
                  <a:lnTo>
                    <a:pt x="9586" y="251"/>
                  </a:lnTo>
                  <a:lnTo>
                    <a:pt x="9586" y="393"/>
                  </a:lnTo>
                  <a:lnTo>
                    <a:pt x="9586" y="618"/>
                  </a:lnTo>
                  <a:lnTo>
                    <a:pt x="9586" y="1044"/>
                  </a:lnTo>
                  <a:lnTo>
                    <a:pt x="9586" y="1044"/>
                  </a:lnTo>
                  <a:lnTo>
                    <a:pt x="9565" y="1044"/>
                  </a:lnTo>
                  <a:lnTo>
                    <a:pt x="9504" y="1040"/>
                  </a:lnTo>
                  <a:lnTo>
                    <a:pt x="9442" y="1035"/>
                  </a:lnTo>
                  <a:lnTo>
                    <a:pt x="9360" y="1031"/>
                  </a:lnTo>
                  <a:lnTo>
                    <a:pt x="9277" y="1031"/>
                  </a:lnTo>
                  <a:lnTo>
                    <a:pt x="9154" y="1023"/>
                  </a:lnTo>
                  <a:lnTo>
                    <a:pt x="9051" y="1019"/>
                  </a:lnTo>
                  <a:lnTo>
                    <a:pt x="8928" y="1010"/>
                  </a:lnTo>
                  <a:lnTo>
                    <a:pt x="8784" y="1006"/>
                  </a:lnTo>
                  <a:lnTo>
                    <a:pt x="8640" y="998"/>
                  </a:lnTo>
                  <a:lnTo>
                    <a:pt x="8475" y="994"/>
                  </a:lnTo>
                  <a:lnTo>
                    <a:pt x="8331" y="985"/>
                  </a:lnTo>
                  <a:lnTo>
                    <a:pt x="8166" y="977"/>
                  </a:lnTo>
                  <a:lnTo>
                    <a:pt x="8002" y="973"/>
                  </a:lnTo>
                  <a:lnTo>
                    <a:pt x="7837" y="964"/>
                  </a:lnTo>
                  <a:lnTo>
                    <a:pt x="7673" y="956"/>
                  </a:lnTo>
                  <a:lnTo>
                    <a:pt x="7508" y="952"/>
                  </a:lnTo>
                  <a:lnTo>
                    <a:pt x="7344" y="944"/>
                  </a:lnTo>
                  <a:lnTo>
                    <a:pt x="7200" y="939"/>
                  </a:lnTo>
                  <a:lnTo>
                    <a:pt x="7035" y="931"/>
                  </a:lnTo>
                  <a:lnTo>
                    <a:pt x="6891" y="927"/>
                  </a:lnTo>
                  <a:lnTo>
                    <a:pt x="6747" y="923"/>
                  </a:lnTo>
                  <a:lnTo>
                    <a:pt x="6624" y="919"/>
                  </a:lnTo>
                  <a:lnTo>
                    <a:pt x="6521" y="914"/>
                  </a:lnTo>
                  <a:lnTo>
                    <a:pt x="6397" y="914"/>
                  </a:lnTo>
                  <a:lnTo>
                    <a:pt x="6315" y="914"/>
                  </a:lnTo>
                  <a:lnTo>
                    <a:pt x="6233" y="914"/>
                  </a:lnTo>
                  <a:lnTo>
                    <a:pt x="6171" y="914"/>
                  </a:lnTo>
                  <a:lnTo>
                    <a:pt x="6109" y="914"/>
                  </a:lnTo>
                  <a:lnTo>
                    <a:pt x="6089" y="919"/>
                  </a:lnTo>
                  <a:lnTo>
                    <a:pt x="6089" y="923"/>
                  </a:lnTo>
                  <a:lnTo>
                    <a:pt x="6089" y="931"/>
                  </a:lnTo>
                  <a:lnTo>
                    <a:pt x="6068" y="944"/>
                  </a:lnTo>
                  <a:lnTo>
                    <a:pt x="6048" y="952"/>
                  </a:lnTo>
                  <a:lnTo>
                    <a:pt x="6027" y="960"/>
                  </a:lnTo>
                  <a:lnTo>
                    <a:pt x="6006" y="969"/>
                  </a:lnTo>
                  <a:lnTo>
                    <a:pt x="5986" y="977"/>
                  </a:lnTo>
                  <a:lnTo>
                    <a:pt x="5945" y="985"/>
                  </a:lnTo>
                  <a:lnTo>
                    <a:pt x="5904" y="989"/>
                  </a:lnTo>
                  <a:lnTo>
                    <a:pt x="5862" y="998"/>
                  </a:lnTo>
                  <a:lnTo>
                    <a:pt x="5821" y="1006"/>
                  </a:lnTo>
                  <a:lnTo>
                    <a:pt x="5760" y="1010"/>
                  </a:lnTo>
                  <a:lnTo>
                    <a:pt x="5698" y="1019"/>
                  </a:lnTo>
                  <a:lnTo>
                    <a:pt x="5657" y="1027"/>
                  </a:lnTo>
                  <a:lnTo>
                    <a:pt x="5595" y="1031"/>
                  </a:lnTo>
                  <a:lnTo>
                    <a:pt x="5513" y="1040"/>
                  </a:lnTo>
                  <a:lnTo>
                    <a:pt x="5451" y="1044"/>
                  </a:lnTo>
                  <a:lnTo>
                    <a:pt x="5410" y="1044"/>
                  </a:lnTo>
                  <a:lnTo>
                    <a:pt x="5369" y="1044"/>
                  </a:lnTo>
                  <a:lnTo>
                    <a:pt x="5348" y="1044"/>
                  </a:lnTo>
                  <a:lnTo>
                    <a:pt x="5328" y="1044"/>
                  </a:lnTo>
                  <a:lnTo>
                    <a:pt x="5307" y="1044"/>
                  </a:lnTo>
                  <a:lnTo>
                    <a:pt x="5286" y="1044"/>
                  </a:lnTo>
                  <a:lnTo>
                    <a:pt x="5266" y="1044"/>
                  </a:lnTo>
                  <a:lnTo>
                    <a:pt x="5225" y="1044"/>
                  </a:lnTo>
                  <a:lnTo>
                    <a:pt x="5204" y="1044"/>
                  </a:lnTo>
                  <a:lnTo>
                    <a:pt x="5163" y="1044"/>
                  </a:lnTo>
                  <a:lnTo>
                    <a:pt x="5122" y="1044"/>
                  </a:lnTo>
                  <a:lnTo>
                    <a:pt x="5081" y="1044"/>
                  </a:lnTo>
                  <a:lnTo>
                    <a:pt x="5019" y="1044"/>
                  </a:lnTo>
                  <a:lnTo>
                    <a:pt x="4957" y="1044"/>
                  </a:lnTo>
                  <a:lnTo>
                    <a:pt x="4896" y="1044"/>
                  </a:lnTo>
                  <a:lnTo>
                    <a:pt x="4793" y="10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470040" y="4321440"/>
              <a:ext cx="319248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80"/>
                  </a:lnTo>
                  <a:lnTo>
                    <a:pt x="41" y="267"/>
                  </a:lnTo>
                  <a:lnTo>
                    <a:pt x="82" y="251"/>
                  </a:lnTo>
                  <a:lnTo>
                    <a:pt x="144" y="234"/>
                  </a:lnTo>
                  <a:lnTo>
                    <a:pt x="205" y="213"/>
                  </a:lnTo>
                  <a:lnTo>
                    <a:pt x="288" y="197"/>
                  </a:lnTo>
                  <a:lnTo>
                    <a:pt x="370" y="180"/>
                  </a:lnTo>
                  <a:lnTo>
                    <a:pt x="452" y="159"/>
                  </a:lnTo>
                  <a:lnTo>
                    <a:pt x="555" y="142"/>
                  </a:lnTo>
                  <a:lnTo>
                    <a:pt x="658" y="126"/>
                  </a:lnTo>
                  <a:lnTo>
                    <a:pt x="781" y="105"/>
                  </a:lnTo>
                  <a:lnTo>
                    <a:pt x="884" y="88"/>
                  </a:lnTo>
                  <a:lnTo>
                    <a:pt x="1008" y="71"/>
                  </a:lnTo>
                  <a:lnTo>
                    <a:pt x="1152" y="55"/>
                  </a:lnTo>
                  <a:lnTo>
                    <a:pt x="1296" y="42"/>
                  </a:lnTo>
                  <a:lnTo>
                    <a:pt x="1440" y="30"/>
                  </a:lnTo>
                  <a:lnTo>
                    <a:pt x="1604" y="21"/>
                  </a:lnTo>
                  <a:lnTo>
                    <a:pt x="1748" y="13"/>
                  </a:lnTo>
                  <a:lnTo>
                    <a:pt x="1913" y="5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5"/>
                  </a:lnTo>
                  <a:lnTo>
                    <a:pt x="2633" y="9"/>
                  </a:lnTo>
                  <a:lnTo>
                    <a:pt x="2818" y="17"/>
                  </a:lnTo>
                  <a:lnTo>
                    <a:pt x="3024" y="30"/>
                  </a:lnTo>
                  <a:lnTo>
                    <a:pt x="3209" y="42"/>
                  </a:lnTo>
                  <a:lnTo>
                    <a:pt x="3415" y="63"/>
                  </a:lnTo>
                  <a:lnTo>
                    <a:pt x="3620" y="88"/>
                  </a:lnTo>
                  <a:lnTo>
                    <a:pt x="3826" y="117"/>
                  </a:lnTo>
                  <a:lnTo>
                    <a:pt x="4052" y="146"/>
                  </a:lnTo>
                  <a:lnTo>
                    <a:pt x="4258" y="184"/>
                  </a:lnTo>
                  <a:lnTo>
                    <a:pt x="4484" y="230"/>
                  </a:lnTo>
                  <a:lnTo>
                    <a:pt x="4690" y="276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5"/>
                  </a:lnTo>
                  <a:lnTo>
                    <a:pt x="4052" y="977"/>
                  </a:lnTo>
                  <a:lnTo>
                    <a:pt x="3847" y="944"/>
                  </a:lnTo>
                  <a:lnTo>
                    <a:pt x="3641" y="919"/>
                  </a:lnTo>
                  <a:lnTo>
                    <a:pt x="3435" y="894"/>
                  </a:lnTo>
                  <a:lnTo>
                    <a:pt x="3229" y="873"/>
                  </a:lnTo>
                  <a:lnTo>
                    <a:pt x="3024" y="856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1"/>
                  </a:lnTo>
                  <a:lnTo>
                    <a:pt x="2283" y="831"/>
                  </a:lnTo>
                  <a:lnTo>
                    <a:pt x="2098" y="831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8"/>
                  </a:lnTo>
                  <a:lnTo>
                    <a:pt x="1460" y="856"/>
                  </a:lnTo>
                  <a:lnTo>
                    <a:pt x="1296" y="869"/>
                  </a:lnTo>
                  <a:lnTo>
                    <a:pt x="1172" y="885"/>
                  </a:lnTo>
                  <a:lnTo>
                    <a:pt x="1028" y="898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8"/>
                  </a:lnTo>
                  <a:lnTo>
                    <a:pt x="555" y="969"/>
                  </a:lnTo>
                  <a:lnTo>
                    <a:pt x="452" y="985"/>
                  </a:lnTo>
                  <a:lnTo>
                    <a:pt x="370" y="1006"/>
                  </a:lnTo>
                  <a:lnTo>
                    <a:pt x="288" y="1023"/>
                  </a:lnTo>
                  <a:lnTo>
                    <a:pt x="205" y="1040"/>
                  </a:lnTo>
                  <a:lnTo>
                    <a:pt x="144" y="1056"/>
                  </a:lnTo>
                  <a:lnTo>
                    <a:pt x="82" y="1077"/>
                  </a:lnTo>
                  <a:lnTo>
                    <a:pt x="41" y="1090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470040" y="4275000"/>
              <a:ext cx="319248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80"/>
                  </a:lnTo>
                  <a:lnTo>
                    <a:pt x="41" y="263"/>
                  </a:lnTo>
                  <a:lnTo>
                    <a:pt x="82" y="250"/>
                  </a:lnTo>
                  <a:lnTo>
                    <a:pt x="144" y="234"/>
                  </a:lnTo>
                  <a:lnTo>
                    <a:pt x="205" y="217"/>
                  </a:lnTo>
                  <a:lnTo>
                    <a:pt x="288" y="196"/>
                  </a:lnTo>
                  <a:lnTo>
                    <a:pt x="370" y="180"/>
                  </a:lnTo>
                  <a:lnTo>
                    <a:pt x="452" y="159"/>
                  </a:lnTo>
                  <a:lnTo>
                    <a:pt x="555" y="142"/>
                  </a:lnTo>
                  <a:lnTo>
                    <a:pt x="658" y="121"/>
                  </a:lnTo>
                  <a:lnTo>
                    <a:pt x="781" y="104"/>
                  </a:lnTo>
                  <a:lnTo>
                    <a:pt x="884" y="88"/>
                  </a:lnTo>
                  <a:lnTo>
                    <a:pt x="1008" y="71"/>
                  </a:lnTo>
                  <a:lnTo>
                    <a:pt x="1152" y="54"/>
                  </a:lnTo>
                  <a:lnTo>
                    <a:pt x="1296" y="42"/>
                  </a:lnTo>
                  <a:lnTo>
                    <a:pt x="1440" y="29"/>
                  </a:lnTo>
                  <a:lnTo>
                    <a:pt x="1604" y="21"/>
                  </a:lnTo>
                  <a:lnTo>
                    <a:pt x="1748" y="13"/>
                  </a:lnTo>
                  <a:lnTo>
                    <a:pt x="1913" y="4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0"/>
                  </a:lnTo>
                  <a:lnTo>
                    <a:pt x="2633" y="8"/>
                  </a:lnTo>
                  <a:lnTo>
                    <a:pt x="2818" y="17"/>
                  </a:lnTo>
                  <a:lnTo>
                    <a:pt x="3024" y="29"/>
                  </a:lnTo>
                  <a:lnTo>
                    <a:pt x="3209" y="42"/>
                  </a:lnTo>
                  <a:lnTo>
                    <a:pt x="3415" y="63"/>
                  </a:lnTo>
                  <a:lnTo>
                    <a:pt x="3620" y="88"/>
                  </a:lnTo>
                  <a:lnTo>
                    <a:pt x="3826" y="113"/>
                  </a:lnTo>
                  <a:lnTo>
                    <a:pt x="4052" y="146"/>
                  </a:lnTo>
                  <a:lnTo>
                    <a:pt x="4258" y="184"/>
                  </a:lnTo>
                  <a:lnTo>
                    <a:pt x="4484" y="230"/>
                  </a:lnTo>
                  <a:lnTo>
                    <a:pt x="4690" y="276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4"/>
                  </a:lnTo>
                  <a:lnTo>
                    <a:pt x="4052" y="977"/>
                  </a:lnTo>
                  <a:lnTo>
                    <a:pt x="3847" y="943"/>
                  </a:lnTo>
                  <a:lnTo>
                    <a:pt x="3641" y="914"/>
                  </a:lnTo>
                  <a:lnTo>
                    <a:pt x="3435" y="893"/>
                  </a:lnTo>
                  <a:lnTo>
                    <a:pt x="3229" y="872"/>
                  </a:lnTo>
                  <a:lnTo>
                    <a:pt x="3024" y="856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1"/>
                  </a:lnTo>
                  <a:lnTo>
                    <a:pt x="2283" y="826"/>
                  </a:lnTo>
                  <a:lnTo>
                    <a:pt x="2098" y="831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7"/>
                  </a:lnTo>
                  <a:lnTo>
                    <a:pt x="1460" y="860"/>
                  </a:lnTo>
                  <a:lnTo>
                    <a:pt x="1296" y="868"/>
                  </a:lnTo>
                  <a:lnTo>
                    <a:pt x="1172" y="885"/>
                  </a:lnTo>
                  <a:lnTo>
                    <a:pt x="1028" y="897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8"/>
                  </a:lnTo>
                  <a:lnTo>
                    <a:pt x="555" y="968"/>
                  </a:lnTo>
                  <a:lnTo>
                    <a:pt x="452" y="985"/>
                  </a:lnTo>
                  <a:lnTo>
                    <a:pt x="370" y="1006"/>
                  </a:lnTo>
                  <a:lnTo>
                    <a:pt x="288" y="1023"/>
                  </a:lnTo>
                  <a:lnTo>
                    <a:pt x="205" y="1039"/>
                  </a:lnTo>
                  <a:lnTo>
                    <a:pt x="144" y="1060"/>
                  </a:lnTo>
                  <a:lnTo>
                    <a:pt x="82" y="1073"/>
                  </a:lnTo>
                  <a:lnTo>
                    <a:pt x="41" y="1089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470040" y="4229280"/>
              <a:ext cx="319248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79"/>
                  </a:lnTo>
                  <a:lnTo>
                    <a:pt x="41" y="267"/>
                  </a:lnTo>
                  <a:lnTo>
                    <a:pt x="82" y="250"/>
                  </a:lnTo>
                  <a:lnTo>
                    <a:pt x="144" y="233"/>
                  </a:lnTo>
                  <a:lnTo>
                    <a:pt x="205" y="213"/>
                  </a:lnTo>
                  <a:lnTo>
                    <a:pt x="288" y="196"/>
                  </a:lnTo>
                  <a:lnTo>
                    <a:pt x="370" y="179"/>
                  </a:lnTo>
                  <a:lnTo>
                    <a:pt x="452" y="158"/>
                  </a:lnTo>
                  <a:lnTo>
                    <a:pt x="555" y="142"/>
                  </a:lnTo>
                  <a:lnTo>
                    <a:pt x="658" y="121"/>
                  </a:lnTo>
                  <a:lnTo>
                    <a:pt x="781" y="104"/>
                  </a:lnTo>
                  <a:lnTo>
                    <a:pt x="884" y="87"/>
                  </a:lnTo>
                  <a:lnTo>
                    <a:pt x="1008" y="71"/>
                  </a:lnTo>
                  <a:lnTo>
                    <a:pt x="1152" y="54"/>
                  </a:lnTo>
                  <a:lnTo>
                    <a:pt x="1296" y="41"/>
                  </a:lnTo>
                  <a:lnTo>
                    <a:pt x="1440" y="29"/>
                  </a:lnTo>
                  <a:lnTo>
                    <a:pt x="1604" y="21"/>
                  </a:lnTo>
                  <a:lnTo>
                    <a:pt x="1748" y="12"/>
                  </a:lnTo>
                  <a:lnTo>
                    <a:pt x="1913" y="4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0"/>
                  </a:lnTo>
                  <a:lnTo>
                    <a:pt x="2633" y="8"/>
                  </a:lnTo>
                  <a:lnTo>
                    <a:pt x="2818" y="16"/>
                  </a:lnTo>
                  <a:lnTo>
                    <a:pt x="3024" y="25"/>
                  </a:lnTo>
                  <a:lnTo>
                    <a:pt x="3209" y="41"/>
                  </a:lnTo>
                  <a:lnTo>
                    <a:pt x="3415" y="62"/>
                  </a:lnTo>
                  <a:lnTo>
                    <a:pt x="3620" y="83"/>
                  </a:lnTo>
                  <a:lnTo>
                    <a:pt x="3826" y="112"/>
                  </a:lnTo>
                  <a:lnTo>
                    <a:pt x="4052" y="146"/>
                  </a:lnTo>
                  <a:lnTo>
                    <a:pt x="4258" y="183"/>
                  </a:lnTo>
                  <a:lnTo>
                    <a:pt x="4484" y="229"/>
                  </a:lnTo>
                  <a:lnTo>
                    <a:pt x="4690" y="275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4"/>
                  </a:lnTo>
                  <a:lnTo>
                    <a:pt x="4052" y="976"/>
                  </a:lnTo>
                  <a:lnTo>
                    <a:pt x="3847" y="943"/>
                  </a:lnTo>
                  <a:lnTo>
                    <a:pt x="3641" y="914"/>
                  </a:lnTo>
                  <a:lnTo>
                    <a:pt x="3435" y="889"/>
                  </a:lnTo>
                  <a:lnTo>
                    <a:pt x="3229" y="872"/>
                  </a:lnTo>
                  <a:lnTo>
                    <a:pt x="3024" y="855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0"/>
                  </a:lnTo>
                  <a:lnTo>
                    <a:pt x="2283" y="826"/>
                  </a:lnTo>
                  <a:lnTo>
                    <a:pt x="2098" y="830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7"/>
                  </a:lnTo>
                  <a:lnTo>
                    <a:pt x="1460" y="855"/>
                  </a:lnTo>
                  <a:lnTo>
                    <a:pt x="1296" y="868"/>
                  </a:lnTo>
                  <a:lnTo>
                    <a:pt x="1172" y="880"/>
                  </a:lnTo>
                  <a:lnTo>
                    <a:pt x="1028" y="897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7"/>
                  </a:lnTo>
                  <a:lnTo>
                    <a:pt x="555" y="968"/>
                  </a:lnTo>
                  <a:lnTo>
                    <a:pt x="452" y="985"/>
                  </a:lnTo>
                  <a:lnTo>
                    <a:pt x="370" y="1001"/>
                  </a:lnTo>
                  <a:lnTo>
                    <a:pt x="288" y="1022"/>
                  </a:lnTo>
                  <a:lnTo>
                    <a:pt x="205" y="1039"/>
                  </a:lnTo>
                  <a:lnTo>
                    <a:pt x="144" y="1056"/>
                  </a:lnTo>
                  <a:lnTo>
                    <a:pt x="82" y="1077"/>
                  </a:lnTo>
                  <a:lnTo>
                    <a:pt x="41" y="1089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1240" y="4324320"/>
              <a:ext cx="319248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79"/>
                  </a:lnTo>
                  <a:lnTo>
                    <a:pt x="4670" y="267"/>
                  </a:lnTo>
                  <a:lnTo>
                    <a:pt x="4608" y="250"/>
                  </a:lnTo>
                  <a:lnTo>
                    <a:pt x="4567" y="233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79"/>
                  </a:lnTo>
                  <a:lnTo>
                    <a:pt x="4259" y="158"/>
                  </a:lnTo>
                  <a:lnTo>
                    <a:pt x="4156" y="141"/>
                  </a:lnTo>
                  <a:lnTo>
                    <a:pt x="4053" y="125"/>
                  </a:lnTo>
                  <a:lnTo>
                    <a:pt x="3930" y="104"/>
                  </a:lnTo>
                  <a:lnTo>
                    <a:pt x="3806" y="87"/>
                  </a:lnTo>
                  <a:lnTo>
                    <a:pt x="3683" y="70"/>
                  </a:lnTo>
                  <a:lnTo>
                    <a:pt x="3559" y="58"/>
                  </a:lnTo>
                  <a:lnTo>
                    <a:pt x="3415" y="41"/>
                  </a:lnTo>
                  <a:lnTo>
                    <a:pt x="3271" y="29"/>
                  </a:lnTo>
                  <a:lnTo>
                    <a:pt x="3107" y="20"/>
                  </a:lnTo>
                  <a:lnTo>
                    <a:pt x="2963" y="12"/>
                  </a:lnTo>
                  <a:lnTo>
                    <a:pt x="2798" y="4"/>
                  </a:lnTo>
                  <a:lnTo>
                    <a:pt x="2613" y="4"/>
                  </a:lnTo>
                  <a:lnTo>
                    <a:pt x="2448" y="0"/>
                  </a:lnTo>
                  <a:lnTo>
                    <a:pt x="2263" y="4"/>
                  </a:lnTo>
                  <a:lnTo>
                    <a:pt x="2078" y="8"/>
                  </a:lnTo>
                  <a:lnTo>
                    <a:pt x="1872" y="16"/>
                  </a:lnTo>
                  <a:lnTo>
                    <a:pt x="1687" y="29"/>
                  </a:lnTo>
                  <a:lnTo>
                    <a:pt x="1502" y="41"/>
                  </a:lnTo>
                  <a:lnTo>
                    <a:pt x="1276" y="62"/>
                  </a:lnTo>
                  <a:lnTo>
                    <a:pt x="1091" y="87"/>
                  </a:lnTo>
                  <a:lnTo>
                    <a:pt x="864" y="116"/>
                  </a:lnTo>
                  <a:lnTo>
                    <a:pt x="659" y="146"/>
                  </a:lnTo>
                  <a:lnTo>
                    <a:pt x="453" y="183"/>
                  </a:lnTo>
                  <a:lnTo>
                    <a:pt x="227" y="229"/>
                  </a:lnTo>
                  <a:lnTo>
                    <a:pt x="0" y="275"/>
                  </a:lnTo>
                  <a:lnTo>
                    <a:pt x="0" y="1106"/>
                  </a:lnTo>
                  <a:lnTo>
                    <a:pt x="206" y="1060"/>
                  </a:lnTo>
                  <a:lnTo>
                    <a:pt x="432" y="1014"/>
                  </a:lnTo>
                  <a:lnTo>
                    <a:pt x="659" y="976"/>
                  </a:lnTo>
                  <a:lnTo>
                    <a:pt x="864" y="943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2"/>
                  </a:lnTo>
                  <a:lnTo>
                    <a:pt x="1667" y="855"/>
                  </a:lnTo>
                  <a:lnTo>
                    <a:pt x="1872" y="843"/>
                  </a:lnTo>
                  <a:lnTo>
                    <a:pt x="2058" y="834"/>
                  </a:lnTo>
                  <a:lnTo>
                    <a:pt x="2243" y="830"/>
                  </a:lnTo>
                  <a:lnTo>
                    <a:pt x="2428" y="830"/>
                  </a:lnTo>
                  <a:lnTo>
                    <a:pt x="2592" y="830"/>
                  </a:lnTo>
                  <a:lnTo>
                    <a:pt x="2778" y="834"/>
                  </a:lnTo>
                  <a:lnTo>
                    <a:pt x="2942" y="838"/>
                  </a:lnTo>
                  <a:lnTo>
                    <a:pt x="3107" y="847"/>
                  </a:lnTo>
                  <a:lnTo>
                    <a:pt x="3251" y="859"/>
                  </a:lnTo>
                  <a:lnTo>
                    <a:pt x="3395" y="868"/>
                  </a:lnTo>
                  <a:lnTo>
                    <a:pt x="3539" y="884"/>
                  </a:lnTo>
                  <a:lnTo>
                    <a:pt x="3683" y="897"/>
                  </a:lnTo>
                  <a:lnTo>
                    <a:pt x="3806" y="914"/>
                  </a:lnTo>
                  <a:lnTo>
                    <a:pt x="3930" y="930"/>
                  </a:lnTo>
                  <a:lnTo>
                    <a:pt x="4053" y="951"/>
                  </a:lnTo>
                  <a:lnTo>
                    <a:pt x="4156" y="968"/>
                  </a:lnTo>
                  <a:lnTo>
                    <a:pt x="4238" y="985"/>
                  </a:lnTo>
                  <a:lnTo>
                    <a:pt x="4341" y="1005"/>
                  </a:lnTo>
                  <a:lnTo>
                    <a:pt x="4423" y="1022"/>
                  </a:lnTo>
                  <a:lnTo>
                    <a:pt x="4485" y="1043"/>
                  </a:lnTo>
                  <a:lnTo>
                    <a:pt x="4567" y="1060"/>
                  </a:lnTo>
                  <a:lnTo>
                    <a:pt x="4608" y="1076"/>
                  </a:lnTo>
                  <a:lnTo>
                    <a:pt x="4670" y="1093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91240" y="4277520"/>
              <a:ext cx="319248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80"/>
                  </a:lnTo>
                  <a:lnTo>
                    <a:pt x="4670" y="267"/>
                  </a:lnTo>
                  <a:lnTo>
                    <a:pt x="4608" y="251"/>
                  </a:lnTo>
                  <a:lnTo>
                    <a:pt x="4567" y="234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80"/>
                  </a:lnTo>
                  <a:lnTo>
                    <a:pt x="4259" y="163"/>
                  </a:lnTo>
                  <a:lnTo>
                    <a:pt x="4156" y="142"/>
                  </a:lnTo>
                  <a:lnTo>
                    <a:pt x="4053" y="121"/>
                  </a:lnTo>
                  <a:lnTo>
                    <a:pt x="3930" y="105"/>
                  </a:lnTo>
                  <a:lnTo>
                    <a:pt x="3806" y="88"/>
                  </a:lnTo>
                  <a:lnTo>
                    <a:pt x="3683" y="71"/>
                  </a:lnTo>
                  <a:lnTo>
                    <a:pt x="3559" y="59"/>
                  </a:lnTo>
                  <a:lnTo>
                    <a:pt x="3415" y="42"/>
                  </a:lnTo>
                  <a:lnTo>
                    <a:pt x="3271" y="29"/>
                  </a:lnTo>
                  <a:lnTo>
                    <a:pt x="3107" y="21"/>
                  </a:lnTo>
                  <a:lnTo>
                    <a:pt x="2963" y="13"/>
                  </a:lnTo>
                  <a:lnTo>
                    <a:pt x="2798" y="9"/>
                  </a:lnTo>
                  <a:lnTo>
                    <a:pt x="2613" y="0"/>
                  </a:lnTo>
                  <a:lnTo>
                    <a:pt x="2448" y="0"/>
                  </a:lnTo>
                  <a:lnTo>
                    <a:pt x="2263" y="0"/>
                  </a:lnTo>
                  <a:lnTo>
                    <a:pt x="2078" y="9"/>
                  </a:lnTo>
                  <a:lnTo>
                    <a:pt x="1872" y="17"/>
                  </a:lnTo>
                  <a:lnTo>
                    <a:pt x="1687" y="29"/>
                  </a:lnTo>
                  <a:lnTo>
                    <a:pt x="1502" y="42"/>
                  </a:lnTo>
                  <a:lnTo>
                    <a:pt x="1276" y="63"/>
                  </a:lnTo>
                  <a:lnTo>
                    <a:pt x="1091" y="88"/>
                  </a:lnTo>
                  <a:lnTo>
                    <a:pt x="864" y="113"/>
                  </a:lnTo>
                  <a:lnTo>
                    <a:pt x="659" y="150"/>
                  </a:lnTo>
                  <a:lnTo>
                    <a:pt x="453" y="188"/>
                  </a:lnTo>
                  <a:lnTo>
                    <a:pt x="227" y="230"/>
                  </a:lnTo>
                  <a:lnTo>
                    <a:pt x="0" y="276"/>
                  </a:lnTo>
                  <a:lnTo>
                    <a:pt x="0" y="1106"/>
                  </a:lnTo>
                  <a:lnTo>
                    <a:pt x="206" y="1060"/>
                  </a:lnTo>
                  <a:lnTo>
                    <a:pt x="432" y="1014"/>
                  </a:lnTo>
                  <a:lnTo>
                    <a:pt x="659" y="977"/>
                  </a:lnTo>
                  <a:lnTo>
                    <a:pt x="864" y="944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3"/>
                  </a:lnTo>
                  <a:lnTo>
                    <a:pt x="1667" y="856"/>
                  </a:lnTo>
                  <a:lnTo>
                    <a:pt x="1872" y="848"/>
                  </a:lnTo>
                  <a:lnTo>
                    <a:pt x="2058" y="835"/>
                  </a:lnTo>
                  <a:lnTo>
                    <a:pt x="2243" y="831"/>
                  </a:lnTo>
                  <a:lnTo>
                    <a:pt x="2428" y="831"/>
                  </a:lnTo>
                  <a:lnTo>
                    <a:pt x="2592" y="831"/>
                  </a:lnTo>
                  <a:lnTo>
                    <a:pt x="2778" y="835"/>
                  </a:lnTo>
                  <a:lnTo>
                    <a:pt x="2942" y="839"/>
                  </a:lnTo>
                  <a:lnTo>
                    <a:pt x="3107" y="848"/>
                  </a:lnTo>
                  <a:lnTo>
                    <a:pt x="3251" y="856"/>
                  </a:lnTo>
                  <a:lnTo>
                    <a:pt x="3395" y="873"/>
                  </a:lnTo>
                  <a:lnTo>
                    <a:pt x="3539" y="885"/>
                  </a:lnTo>
                  <a:lnTo>
                    <a:pt x="3683" y="898"/>
                  </a:lnTo>
                  <a:lnTo>
                    <a:pt x="3806" y="914"/>
                  </a:lnTo>
                  <a:lnTo>
                    <a:pt x="3930" y="931"/>
                  </a:lnTo>
                  <a:lnTo>
                    <a:pt x="4053" y="948"/>
                  </a:lnTo>
                  <a:lnTo>
                    <a:pt x="4156" y="969"/>
                  </a:lnTo>
                  <a:lnTo>
                    <a:pt x="4238" y="985"/>
                  </a:lnTo>
                  <a:lnTo>
                    <a:pt x="4341" y="1006"/>
                  </a:lnTo>
                  <a:lnTo>
                    <a:pt x="4423" y="1023"/>
                  </a:lnTo>
                  <a:lnTo>
                    <a:pt x="4485" y="1044"/>
                  </a:lnTo>
                  <a:lnTo>
                    <a:pt x="4567" y="1060"/>
                  </a:lnTo>
                  <a:lnTo>
                    <a:pt x="4608" y="1077"/>
                  </a:lnTo>
                  <a:lnTo>
                    <a:pt x="4670" y="1090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91240" y="4231440"/>
              <a:ext cx="319248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80"/>
                  </a:lnTo>
                  <a:lnTo>
                    <a:pt x="4670" y="267"/>
                  </a:lnTo>
                  <a:lnTo>
                    <a:pt x="4608" y="250"/>
                  </a:lnTo>
                  <a:lnTo>
                    <a:pt x="4567" y="234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79"/>
                  </a:lnTo>
                  <a:lnTo>
                    <a:pt x="4259" y="159"/>
                  </a:lnTo>
                  <a:lnTo>
                    <a:pt x="4156" y="142"/>
                  </a:lnTo>
                  <a:lnTo>
                    <a:pt x="4053" y="125"/>
                  </a:lnTo>
                  <a:lnTo>
                    <a:pt x="3930" y="104"/>
                  </a:lnTo>
                  <a:lnTo>
                    <a:pt x="3806" y="88"/>
                  </a:lnTo>
                  <a:lnTo>
                    <a:pt x="3683" y="71"/>
                  </a:lnTo>
                  <a:lnTo>
                    <a:pt x="3559" y="54"/>
                  </a:lnTo>
                  <a:lnTo>
                    <a:pt x="3415" y="42"/>
                  </a:lnTo>
                  <a:lnTo>
                    <a:pt x="3271" y="29"/>
                  </a:lnTo>
                  <a:lnTo>
                    <a:pt x="3107" y="21"/>
                  </a:lnTo>
                  <a:lnTo>
                    <a:pt x="2963" y="12"/>
                  </a:lnTo>
                  <a:lnTo>
                    <a:pt x="2798" y="4"/>
                  </a:lnTo>
                  <a:lnTo>
                    <a:pt x="2613" y="0"/>
                  </a:lnTo>
                  <a:lnTo>
                    <a:pt x="2448" y="0"/>
                  </a:lnTo>
                  <a:lnTo>
                    <a:pt x="2263" y="4"/>
                  </a:lnTo>
                  <a:lnTo>
                    <a:pt x="2078" y="8"/>
                  </a:lnTo>
                  <a:lnTo>
                    <a:pt x="1872" y="17"/>
                  </a:lnTo>
                  <a:lnTo>
                    <a:pt x="1687" y="29"/>
                  </a:lnTo>
                  <a:lnTo>
                    <a:pt x="1502" y="42"/>
                  </a:lnTo>
                  <a:lnTo>
                    <a:pt x="1276" y="63"/>
                  </a:lnTo>
                  <a:lnTo>
                    <a:pt x="1091" y="88"/>
                  </a:lnTo>
                  <a:lnTo>
                    <a:pt x="864" y="113"/>
                  </a:lnTo>
                  <a:lnTo>
                    <a:pt x="659" y="146"/>
                  </a:lnTo>
                  <a:lnTo>
                    <a:pt x="453" y="184"/>
                  </a:lnTo>
                  <a:lnTo>
                    <a:pt x="227" y="229"/>
                  </a:lnTo>
                  <a:lnTo>
                    <a:pt x="0" y="275"/>
                  </a:lnTo>
                  <a:lnTo>
                    <a:pt x="0" y="1106"/>
                  </a:lnTo>
                  <a:lnTo>
                    <a:pt x="206" y="1056"/>
                  </a:lnTo>
                  <a:lnTo>
                    <a:pt x="432" y="1014"/>
                  </a:lnTo>
                  <a:lnTo>
                    <a:pt x="659" y="977"/>
                  </a:lnTo>
                  <a:lnTo>
                    <a:pt x="864" y="943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2"/>
                  </a:lnTo>
                  <a:lnTo>
                    <a:pt x="1667" y="856"/>
                  </a:lnTo>
                  <a:lnTo>
                    <a:pt x="1872" y="843"/>
                  </a:lnTo>
                  <a:lnTo>
                    <a:pt x="2058" y="835"/>
                  </a:lnTo>
                  <a:lnTo>
                    <a:pt x="2243" y="831"/>
                  </a:lnTo>
                  <a:lnTo>
                    <a:pt x="2428" y="831"/>
                  </a:lnTo>
                  <a:lnTo>
                    <a:pt x="2592" y="831"/>
                  </a:lnTo>
                  <a:lnTo>
                    <a:pt x="2778" y="835"/>
                  </a:lnTo>
                  <a:lnTo>
                    <a:pt x="2942" y="839"/>
                  </a:lnTo>
                  <a:lnTo>
                    <a:pt x="3107" y="847"/>
                  </a:lnTo>
                  <a:lnTo>
                    <a:pt x="3251" y="856"/>
                  </a:lnTo>
                  <a:lnTo>
                    <a:pt x="3395" y="868"/>
                  </a:lnTo>
                  <a:lnTo>
                    <a:pt x="3539" y="885"/>
                  </a:lnTo>
                  <a:lnTo>
                    <a:pt x="3683" y="897"/>
                  </a:lnTo>
                  <a:lnTo>
                    <a:pt x="3806" y="914"/>
                  </a:lnTo>
                  <a:lnTo>
                    <a:pt x="3930" y="931"/>
                  </a:lnTo>
                  <a:lnTo>
                    <a:pt x="4053" y="947"/>
                  </a:lnTo>
                  <a:lnTo>
                    <a:pt x="4156" y="968"/>
                  </a:lnTo>
                  <a:lnTo>
                    <a:pt x="4238" y="985"/>
                  </a:lnTo>
                  <a:lnTo>
                    <a:pt x="4341" y="1006"/>
                  </a:lnTo>
                  <a:lnTo>
                    <a:pt x="4423" y="1023"/>
                  </a:lnTo>
                  <a:lnTo>
                    <a:pt x="4485" y="1039"/>
                  </a:lnTo>
                  <a:lnTo>
                    <a:pt x="4567" y="1056"/>
                  </a:lnTo>
                  <a:lnTo>
                    <a:pt x="4608" y="1073"/>
                  </a:lnTo>
                  <a:lnTo>
                    <a:pt x="4670" y="1093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476280" y="4356000"/>
            <a:ext cx="5977080" cy="314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قرأ الكلمات التالية وضع دائرة حول الحرف الممدود بالأ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" descr=""/>
          <p:cNvPicPr/>
          <p:nvPr/>
        </p:nvPicPr>
        <p:blipFill>
          <a:blip r:embed="rId1"/>
          <a:stretch/>
        </p:blipFill>
        <p:spPr>
          <a:xfrm>
            <a:off x="109440" y="0"/>
            <a:ext cx="6748560" cy="9144000"/>
          </a:xfrm>
          <a:prstGeom prst="rect">
            <a:avLst/>
          </a:prstGeom>
          <a:ln w="0">
            <a:noFill/>
          </a:ln>
        </p:spPr>
      </p:pic>
      <p:sp>
        <p:nvSpPr>
          <p:cNvPr id="1436" name=""/>
          <p:cNvSpPr/>
          <p:nvPr/>
        </p:nvSpPr>
        <p:spPr>
          <a:xfrm>
            <a:off x="5919840" y="1042920"/>
            <a:ext cx="93816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127920" y="2384280"/>
            <a:ext cx="7300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024600" y="3151080"/>
            <a:ext cx="83340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لِم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919840" y="1712880"/>
            <a:ext cx="93816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اح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024600" y="3821040"/>
            <a:ext cx="833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102120" y="1187280"/>
            <a:ext cx="833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ع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102120" y="2446200"/>
            <a:ext cx="83340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ل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102120" y="3166920"/>
            <a:ext cx="8334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ا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997360" y="1817640"/>
            <a:ext cx="9381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02120" y="3797280"/>
            <a:ext cx="8334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م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514760" y="900000"/>
            <a:ext cx="1458720" cy="3362040"/>
            <a:chOff x="4514760" y="900000"/>
            <a:chExt cx="1458720" cy="3362040"/>
          </a:xfrm>
        </p:grpSpPr>
        <p:grpSp>
          <p:nvGrpSpPr>
            <p:cNvPr id="1447" name=""/>
            <p:cNvGrpSpPr/>
            <p:nvPr/>
          </p:nvGrpSpPr>
          <p:grpSpPr>
            <a:xfrm>
              <a:off x="4514760" y="2235600"/>
              <a:ext cx="1458720" cy="690840"/>
              <a:chOff x="4514760" y="2235600"/>
              <a:chExt cx="1458720" cy="690840"/>
            </a:xfrm>
          </p:grpSpPr>
          <p:sp>
            <p:nvSpPr>
              <p:cNvPr id="1448" name=""/>
              <p:cNvSpPr/>
              <p:nvPr/>
            </p:nvSpPr>
            <p:spPr>
              <a:xfrm>
                <a:off x="4514760" y="2235600"/>
                <a:ext cx="108756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68120" y="2356920"/>
                <a:ext cx="130536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4514760" y="2903400"/>
              <a:ext cx="1458720" cy="690840"/>
              <a:chOff x="4514760" y="2903400"/>
              <a:chExt cx="1458720" cy="690840"/>
            </a:xfrm>
          </p:grpSpPr>
          <p:sp>
            <p:nvSpPr>
              <p:cNvPr id="1451" name=""/>
              <p:cNvSpPr/>
              <p:nvPr/>
            </p:nvSpPr>
            <p:spPr>
              <a:xfrm>
                <a:off x="4514760" y="2903400"/>
                <a:ext cx="108756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68120" y="3024720"/>
                <a:ext cx="130536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4514760" y="3571200"/>
              <a:ext cx="1458720" cy="690840"/>
              <a:chOff x="4514760" y="3571200"/>
              <a:chExt cx="1458720" cy="690840"/>
            </a:xfrm>
          </p:grpSpPr>
          <p:sp>
            <p:nvSpPr>
              <p:cNvPr id="1454" name=""/>
              <p:cNvSpPr/>
              <p:nvPr/>
            </p:nvSpPr>
            <p:spPr>
              <a:xfrm>
                <a:off x="4514760" y="3571200"/>
                <a:ext cx="108756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668120" y="3692520"/>
                <a:ext cx="130536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4514760" y="1567800"/>
              <a:ext cx="1458720" cy="690840"/>
              <a:chOff x="4514760" y="1567800"/>
              <a:chExt cx="1458720" cy="690840"/>
            </a:xfrm>
          </p:grpSpPr>
          <p:sp>
            <p:nvSpPr>
              <p:cNvPr id="1457" name=""/>
              <p:cNvSpPr/>
              <p:nvPr/>
            </p:nvSpPr>
            <p:spPr>
              <a:xfrm>
                <a:off x="4514760" y="1567800"/>
                <a:ext cx="108756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668120" y="1689120"/>
                <a:ext cx="130536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4514760" y="900000"/>
              <a:ext cx="1458720" cy="690840"/>
              <a:chOff x="4514760" y="900000"/>
              <a:chExt cx="1458720" cy="690840"/>
            </a:xfrm>
          </p:grpSpPr>
          <p:sp>
            <p:nvSpPr>
              <p:cNvPr id="1460" name=""/>
              <p:cNvSpPr/>
              <p:nvPr/>
            </p:nvSpPr>
            <p:spPr>
              <a:xfrm>
                <a:off x="4514760" y="900000"/>
                <a:ext cx="108756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668120" y="1021320"/>
                <a:ext cx="130536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2" name=""/>
          <p:cNvGrpSpPr/>
          <p:nvPr/>
        </p:nvGrpSpPr>
        <p:grpSpPr>
          <a:xfrm>
            <a:off x="1700280" y="1004760"/>
            <a:ext cx="1458360" cy="3362040"/>
            <a:chOff x="1700280" y="1004760"/>
            <a:chExt cx="1458360" cy="3362040"/>
          </a:xfrm>
        </p:grpSpPr>
        <p:grpSp>
          <p:nvGrpSpPr>
            <p:cNvPr id="1463" name=""/>
            <p:cNvGrpSpPr/>
            <p:nvPr/>
          </p:nvGrpSpPr>
          <p:grpSpPr>
            <a:xfrm>
              <a:off x="1700280" y="2340360"/>
              <a:ext cx="1458360" cy="690840"/>
              <a:chOff x="1700280" y="2340360"/>
              <a:chExt cx="1458360" cy="690840"/>
            </a:xfrm>
          </p:grpSpPr>
          <p:sp>
            <p:nvSpPr>
              <p:cNvPr id="1464" name=""/>
              <p:cNvSpPr/>
              <p:nvPr/>
            </p:nvSpPr>
            <p:spPr>
              <a:xfrm>
                <a:off x="1700280" y="2340360"/>
                <a:ext cx="108720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853640" y="2461680"/>
                <a:ext cx="130500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700280" y="3008160"/>
              <a:ext cx="1458360" cy="690840"/>
              <a:chOff x="1700280" y="3008160"/>
              <a:chExt cx="1458360" cy="690840"/>
            </a:xfrm>
          </p:grpSpPr>
          <p:sp>
            <p:nvSpPr>
              <p:cNvPr id="1467" name=""/>
              <p:cNvSpPr/>
              <p:nvPr/>
            </p:nvSpPr>
            <p:spPr>
              <a:xfrm>
                <a:off x="1700280" y="3008160"/>
                <a:ext cx="108720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853640" y="3129480"/>
                <a:ext cx="130500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700280" y="3675960"/>
              <a:ext cx="1458360" cy="690840"/>
              <a:chOff x="1700280" y="3675960"/>
              <a:chExt cx="1458360" cy="690840"/>
            </a:xfrm>
          </p:grpSpPr>
          <p:sp>
            <p:nvSpPr>
              <p:cNvPr id="1470" name=""/>
              <p:cNvSpPr/>
              <p:nvPr/>
            </p:nvSpPr>
            <p:spPr>
              <a:xfrm>
                <a:off x="1700280" y="3675960"/>
                <a:ext cx="108720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853640" y="3797280"/>
                <a:ext cx="130500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1700280" y="1672560"/>
              <a:ext cx="1458360" cy="690840"/>
              <a:chOff x="1700280" y="1672560"/>
              <a:chExt cx="1458360" cy="690840"/>
            </a:xfrm>
          </p:grpSpPr>
          <p:sp>
            <p:nvSpPr>
              <p:cNvPr id="1473" name=""/>
              <p:cNvSpPr/>
              <p:nvPr/>
            </p:nvSpPr>
            <p:spPr>
              <a:xfrm>
                <a:off x="1700280" y="1672560"/>
                <a:ext cx="108720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853640" y="1793880"/>
                <a:ext cx="130500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1700280" y="1004760"/>
              <a:ext cx="1458360" cy="690840"/>
              <a:chOff x="1700280" y="1004760"/>
              <a:chExt cx="1458360" cy="690840"/>
            </a:xfrm>
          </p:grpSpPr>
          <p:sp>
            <p:nvSpPr>
              <p:cNvPr id="1476" name=""/>
              <p:cNvSpPr/>
              <p:nvPr/>
            </p:nvSpPr>
            <p:spPr>
              <a:xfrm>
                <a:off x="1700280" y="1004760"/>
                <a:ext cx="1087200" cy="485640"/>
              </a:xfrm>
              <a:custGeom>
                <a:avLst/>
                <a:gdLst/>
                <a:ahLst/>
                <a:rect l="l" t="t" r="r" b="b"/>
                <a:pathLst>
                  <a:path w="4889" h="2917">
                    <a:moveTo>
                      <a:pt x="2206" y="0"/>
                    </a:moveTo>
                    <a:lnTo>
                      <a:pt x="2139" y="5"/>
                    </a:lnTo>
                    <a:lnTo>
                      <a:pt x="2070" y="13"/>
                    </a:lnTo>
                    <a:lnTo>
                      <a:pt x="2006" y="30"/>
                    </a:lnTo>
                    <a:lnTo>
                      <a:pt x="1944" y="53"/>
                    </a:lnTo>
                    <a:lnTo>
                      <a:pt x="1888" y="81"/>
                    </a:lnTo>
                    <a:lnTo>
                      <a:pt x="1833" y="112"/>
                    </a:lnTo>
                    <a:lnTo>
                      <a:pt x="1780" y="151"/>
                    </a:lnTo>
                    <a:lnTo>
                      <a:pt x="1733" y="201"/>
                    </a:lnTo>
                    <a:lnTo>
                      <a:pt x="1693" y="252"/>
                    </a:lnTo>
                    <a:lnTo>
                      <a:pt x="1654" y="311"/>
                    </a:lnTo>
                    <a:lnTo>
                      <a:pt x="1621" y="380"/>
                    </a:lnTo>
                    <a:lnTo>
                      <a:pt x="1593" y="451"/>
                    </a:lnTo>
                    <a:lnTo>
                      <a:pt x="1570" y="527"/>
                    </a:lnTo>
                    <a:lnTo>
                      <a:pt x="1554" y="610"/>
                    </a:lnTo>
                    <a:lnTo>
                      <a:pt x="1546" y="703"/>
                    </a:lnTo>
                    <a:lnTo>
                      <a:pt x="1543" y="798"/>
                    </a:lnTo>
                    <a:lnTo>
                      <a:pt x="1470" y="747"/>
                    </a:lnTo>
                    <a:lnTo>
                      <a:pt x="1398" y="714"/>
                    </a:lnTo>
                    <a:lnTo>
                      <a:pt x="1323" y="706"/>
                    </a:lnTo>
                    <a:lnTo>
                      <a:pt x="1251" y="711"/>
                    </a:lnTo>
                    <a:lnTo>
                      <a:pt x="1185" y="734"/>
                    </a:lnTo>
                    <a:lnTo>
                      <a:pt x="1121" y="770"/>
                    </a:lnTo>
                    <a:lnTo>
                      <a:pt x="1061" y="818"/>
                    </a:lnTo>
                    <a:lnTo>
                      <a:pt x="1010" y="874"/>
                    </a:lnTo>
                    <a:lnTo>
                      <a:pt x="969" y="938"/>
                    </a:lnTo>
                    <a:lnTo>
                      <a:pt x="934" y="1007"/>
                    </a:lnTo>
                    <a:lnTo>
                      <a:pt x="910" y="1078"/>
                    </a:lnTo>
                    <a:lnTo>
                      <a:pt x="902" y="1150"/>
                    </a:lnTo>
                    <a:lnTo>
                      <a:pt x="907" y="1217"/>
                    </a:lnTo>
                    <a:lnTo>
                      <a:pt x="926" y="1285"/>
                    </a:lnTo>
                    <a:lnTo>
                      <a:pt x="962" y="1346"/>
                    </a:lnTo>
                    <a:lnTo>
                      <a:pt x="1013" y="1400"/>
                    </a:lnTo>
                    <a:lnTo>
                      <a:pt x="902" y="1400"/>
                    </a:lnTo>
                    <a:lnTo>
                      <a:pt x="798" y="1408"/>
                    </a:lnTo>
                    <a:lnTo>
                      <a:pt x="695" y="1417"/>
                    </a:lnTo>
                    <a:lnTo>
                      <a:pt x="600" y="1433"/>
                    </a:lnTo>
                    <a:lnTo>
                      <a:pt x="513" y="1453"/>
                    </a:lnTo>
                    <a:lnTo>
                      <a:pt x="428" y="1476"/>
                    </a:lnTo>
                    <a:lnTo>
                      <a:pt x="354" y="1509"/>
                    </a:lnTo>
                    <a:lnTo>
                      <a:pt x="282" y="1548"/>
                    </a:lnTo>
                    <a:lnTo>
                      <a:pt x="218" y="1593"/>
                    </a:lnTo>
                    <a:lnTo>
                      <a:pt x="163" y="1640"/>
                    </a:lnTo>
                    <a:lnTo>
                      <a:pt x="115" y="1700"/>
                    </a:lnTo>
                    <a:lnTo>
                      <a:pt x="76" y="1769"/>
                    </a:lnTo>
                    <a:lnTo>
                      <a:pt x="43" y="1839"/>
                    </a:lnTo>
                    <a:lnTo>
                      <a:pt x="20" y="1923"/>
                    </a:lnTo>
                    <a:lnTo>
                      <a:pt x="4" y="2015"/>
                    </a:lnTo>
                    <a:lnTo>
                      <a:pt x="0" y="2114"/>
                    </a:lnTo>
                    <a:lnTo>
                      <a:pt x="7" y="2214"/>
                    </a:lnTo>
                    <a:lnTo>
                      <a:pt x="28" y="2310"/>
                    </a:lnTo>
                    <a:lnTo>
                      <a:pt x="63" y="2390"/>
                    </a:lnTo>
                    <a:lnTo>
                      <a:pt x="112" y="2466"/>
                    </a:lnTo>
                    <a:lnTo>
                      <a:pt x="167" y="2530"/>
                    </a:lnTo>
                    <a:lnTo>
                      <a:pt x="230" y="2581"/>
                    </a:lnTo>
                    <a:lnTo>
                      <a:pt x="299" y="2621"/>
                    </a:lnTo>
                    <a:lnTo>
                      <a:pt x="374" y="2654"/>
                    </a:lnTo>
                    <a:lnTo>
                      <a:pt x="449" y="2668"/>
                    </a:lnTo>
                    <a:lnTo>
                      <a:pt x="528" y="2677"/>
                    </a:lnTo>
                    <a:lnTo>
                      <a:pt x="603" y="2673"/>
                    </a:lnTo>
                    <a:lnTo>
                      <a:pt x="684" y="2657"/>
                    </a:lnTo>
                    <a:lnTo>
                      <a:pt x="756" y="2626"/>
                    </a:lnTo>
                    <a:lnTo>
                      <a:pt x="823" y="2581"/>
                    </a:lnTo>
                    <a:lnTo>
                      <a:pt x="885" y="2525"/>
                    </a:lnTo>
                    <a:lnTo>
                      <a:pt x="938" y="2453"/>
                    </a:lnTo>
                    <a:lnTo>
                      <a:pt x="977" y="2562"/>
                    </a:lnTo>
                    <a:lnTo>
                      <a:pt x="1038" y="2654"/>
                    </a:lnTo>
                    <a:lnTo>
                      <a:pt x="1116" y="2733"/>
                    </a:lnTo>
                    <a:lnTo>
                      <a:pt x="1208" y="2800"/>
                    </a:lnTo>
                    <a:lnTo>
                      <a:pt x="1316" y="2853"/>
                    </a:lnTo>
                    <a:lnTo>
                      <a:pt x="1431" y="2889"/>
                    </a:lnTo>
                    <a:lnTo>
                      <a:pt x="1551" y="2909"/>
                    </a:lnTo>
                    <a:lnTo>
                      <a:pt x="1677" y="2917"/>
                    </a:lnTo>
                    <a:lnTo>
                      <a:pt x="1800" y="2909"/>
                    </a:lnTo>
                    <a:lnTo>
                      <a:pt x="1924" y="2889"/>
                    </a:lnTo>
                    <a:lnTo>
                      <a:pt x="2039" y="2848"/>
                    </a:lnTo>
                    <a:lnTo>
                      <a:pt x="2146" y="2793"/>
                    </a:lnTo>
                    <a:lnTo>
                      <a:pt x="2246" y="2726"/>
                    </a:lnTo>
                    <a:lnTo>
                      <a:pt x="2329" y="2637"/>
                    </a:lnTo>
                    <a:lnTo>
                      <a:pt x="2393" y="2539"/>
                    </a:lnTo>
                    <a:lnTo>
                      <a:pt x="2441" y="2418"/>
                    </a:lnTo>
                    <a:lnTo>
                      <a:pt x="2488" y="2517"/>
                    </a:lnTo>
                    <a:lnTo>
                      <a:pt x="2547" y="2609"/>
                    </a:lnTo>
                    <a:lnTo>
                      <a:pt x="2614" y="2690"/>
                    </a:lnTo>
                    <a:lnTo>
                      <a:pt x="2695" y="2752"/>
                    </a:lnTo>
                    <a:lnTo>
                      <a:pt x="2778" y="2808"/>
                    </a:lnTo>
                    <a:lnTo>
                      <a:pt x="2870" y="2853"/>
                    </a:lnTo>
                    <a:lnTo>
                      <a:pt x="2965" y="2881"/>
                    </a:lnTo>
                    <a:lnTo>
                      <a:pt x="3060" y="2892"/>
                    </a:lnTo>
                    <a:lnTo>
                      <a:pt x="3160" y="2889"/>
                    </a:lnTo>
                    <a:lnTo>
                      <a:pt x="3258" y="2869"/>
                    </a:lnTo>
                    <a:lnTo>
                      <a:pt x="3358" y="2833"/>
                    </a:lnTo>
                    <a:lnTo>
                      <a:pt x="3458" y="2780"/>
                    </a:lnTo>
                    <a:lnTo>
                      <a:pt x="3550" y="2710"/>
                    </a:lnTo>
                    <a:lnTo>
                      <a:pt x="3637" y="2617"/>
                    </a:lnTo>
                    <a:lnTo>
                      <a:pt x="3721" y="2511"/>
                    </a:lnTo>
                    <a:lnTo>
                      <a:pt x="3796" y="2379"/>
                    </a:lnTo>
                    <a:lnTo>
                      <a:pt x="3844" y="2474"/>
                    </a:lnTo>
                    <a:lnTo>
                      <a:pt x="3903" y="2553"/>
                    </a:lnTo>
                    <a:lnTo>
                      <a:pt x="3971" y="2613"/>
                    </a:lnTo>
                    <a:lnTo>
                      <a:pt x="4050" y="2654"/>
                    </a:lnTo>
                    <a:lnTo>
                      <a:pt x="4130" y="2682"/>
                    </a:lnTo>
                    <a:lnTo>
                      <a:pt x="4217" y="2690"/>
                    </a:lnTo>
                    <a:lnTo>
                      <a:pt x="4304" y="2685"/>
                    </a:lnTo>
                    <a:lnTo>
                      <a:pt x="4396" y="2665"/>
                    </a:lnTo>
                    <a:lnTo>
                      <a:pt x="4479" y="2632"/>
                    </a:lnTo>
                    <a:lnTo>
                      <a:pt x="4563" y="2589"/>
                    </a:lnTo>
                    <a:lnTo>
                      <a:pt x="4642" y="2530"/>
                    </a:lnTo>
                    <a:lnTo>
                      <a:pt x="4714" y="2458"/>
                    </a:lnTo>
                    <a:lnTo>
                      <a:pt x="4774" y="2379"/>
                    </a:lnTo>
                    <a:lnTo>
                      <a:pt x="4825" y="2287"/>
                    </a:lnTo>
                    <a:lnTo>
                      <a:pt x="4861" y="2186"/>
                    </a:lnTo>
                    <a:lnTo>
                      <a:pt x="4884" y="2080"/>
                    </a:lnTo>
                    <a:lnTo>
                      <a:pt x="4889" y="1976"/>
                    </a:lnTo>
                    <a:lnTo>
                      <a:pt x="4873" y="1879"/>
                    </a:lnTo>
                    <a:lnTo>
                      <a:pt x="4842" y="1788"/>
                    </a:lnTo>
                    <a:lnTo>
                      <a:pt x="4794" y="1704"/>
                    </a:lnTo>
                    <a:lnTo>
                      <a:pt x="4733" y="1629"/>
                    </a:lnTo>
                    <a:lnTo>
                      <a:pt x="4661" y="1561"/>
                    </a:lnTo>
                    <a:lnTo>
                      <a:pt x="4583" y="1500"/>
                    </a:lnTo>
                    <a:lnTo>
                      <a:pt x="4499" y="1453"/>
                    </a:lnTo>
                    <a:lnTo>
                      <a:pt x="4407" y="1413"/>
                    </a:lnTo>
                    <a:lnTo>
                      <a:pt x="4317" y="1385"/>
                    </a:lnTo>
                    <a:lnTo>
                      <a:pt x="4225" y="1369"/>
                    </a:lnTo>
                    <a:lnTo>
                      <a:pt x="4134" y="1361"/>
                    </a:lnTo>
                    <a:lnTo>
                      <a:pt x="4047" y="1369"/>
                    </a:lnTo>
                    <a:lnTo>
                      <a:pt x="3966" y="1389"/>
                    </a:lnTo>
                    <a:lnTo>
                      <a:pt x="3896" y="1425"/>
                    </a:lnTo>
                    <a:lnTo>
                      <a:pt x="3832" y="1472"/>
                    </a:lnTo>
                    <a:lnTo>
                      <a:pt x="3816" y="1321"/>
                    </a:lnTo>
                    <a:lnTo>
                      <a:pt x="3791" y="1190"/>
                    </a:lnTo>
                    <a:lnTo>
                      <a:pt x="3752" y="1078"/>
                    </a:lnTo>
                    <a:lnTo>
                      <a:pt x="3701" y="982"/>
                    </a:lnTo>
                    <a:lnTo>
                      <a:pt x="3640" y="907"/>
                    </a:lnTo>
                    <a:lnTo>
                      <a:pt x="3578" y="842"/>
                    </a:lnTo>
                    <a:lnTo>
                      <a:pt x="3506" y="795"/>
                    </a:lnTo>
                    <a:lnTo>
                      <a:pt x="3426" y="759"/>
                    </a:lnTo>
                    <a:lnTo>
                      <a:pt x="3347" y="739"/>
                    </a:lnTo>
                    <a:lnTo>
                      <a:pt x="3267" y="722"/>
                    </a:lnTo>
                    <a:lnTo>
                      <a:pt x="3188" y="719"/>
                    </a:lnTo>
                    <a:lnTo>
                      <a:pt x="3108" y="727"/>
                    </a:lnTo>
                    <a:lnTo>
                      <a:pt x="3032" y="734"/>
                    </a:lnTo>
                    <a:lnTo>
                      <a:pt x="2960" y="755"/>
                    </a:lnTo>
                    <a:lnTo>
                      <a:pt x="2898" y="775"/>
                    </a:lnTo>
                    <a:lnTo>
                      <a:pt x="2842" y="798"/>
                    </a:lnTo>
                    <a:lnTo>
                      <a:pt x="2842" y="727"/>
                    </a:lnTo>
                    <a:lnTo>
                      <a:pt x="2834" y="655"/>
                    </a:lnTo>
                    <a:lnTo>
                      <a:pt x="2821" y="582"/>
                    </a:lnTo>
                    <a:lnTo>
                      <a:pt x="2803" y="512"/>
                    </a:lnTo>
                    <a:lnTo>
                      <a:pt x="2778" y="444"/>
                    </a:lnTo>
                    <a:lnTo>
                      <a:pt x="2750" y="375"/>
                    </a:lnTo>
                    <a:lnTo>
                      <a:pt x="2714" y="311"/>
                    </a:lnTo>
                    <a:lnTo>
                      <a:pt x="2675" y="257"/>
                    </a:lnTo>
                    <a:lnTo>
                      <a:pt x="2631" y="201"/>
                    </a:lnTo>
                    <a:lnTo>
                      <a:pt x="2580" y="151"/>
                    </a:lnTo>
                    <a:lnTo>
                      <a:pt x="2527" y="109"/>
                    </a:lnTo>
                    <a:lnTo>
                      <a:pt x="2468" y="73"/>
                    </a:lnTo>
                    <a:lnTo>
                      <a:pt x="2408" y="41"/>
                    </a:lnTo>
                    <a:lnTo>
                      <a:pt x="2346" y="22"/>
                    </a:lnTo>
                    <a:lnTo>
                      <a:pt x="2277" y="5"/>
                    </a:lnTo>
                    <a:lnTo>
                      <a:pt x="2206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853640" y="1126080"/>
                <a:ext cx="1305000" cy="569520"/>
              </a:xfrm>
              <a:custGeom>
                <a:avLst/>
                <a:gdLst/>
                <a:ahLst/>
                <a:rect l="l" t="t" r="r" b="b"/>
                <a:pathLst>
                  <a:path w="4643" h="2769">
                    <a:moveTo>
                      <a:pt x="2095" y="0"/>
                    </a:moveTo>
                    <a:lnTo>
                      <a:pt x="1964" y="13"/>
                    </a:lnTo>
                    <a:lnTo>
                      <a:pt x="1846" y="50"/>
                    </a:lnTo>
                    <a:lnTo>
                      <a:pt x="1738" y="109"/>
                    </a:lnTo>
                    <a:lnTo>
                      <a:pt x="1647" y="193"/>
                    </a:lnTo>
                    <a:lnTo>
                      <a:pt x="1570" y="301"/>
                    </a:lnTo>
                    <a:lnTo>
                      <a:pt x="1511" y="428"/>
                    </a:lnTo>
                    <a:lnTo>
                      <a:pt x="1475" y="584"/>
                    </a:lnTo>
                    <a:lnTo>
                      <a:pt x="1464" y="759"/>
                    </a:lnTo>
                    <a:lnTo>
                      <a:pt x="1397" y="711"/>
                    </a:lnTo>
                    <a:lnTo>
                      <a:pt x="1325" y="680"/>
                    </a:lnTo>
                    <a:lnTo>
                      <a:pt x="1257" y="671"/>
                    </a:lnTo>
                    <a:lnTo>
                      <a:pt x="1190" y="676"/>
                    </a:lnTo>
                    <a:lnTo>
                      <a:pt x="1126" y="699"/>
                    </a:lnTo>
                    <a:lnTo>
                      <a:pt x="1062" y="731"/>
                    </a:lnTo>
                    <a:lnTo>
                      <a:pt x="1012" y="775"/>
                    </a:lnTo>
                    <a:lnTo>
                      <a:pt x="959" y="831"/>
                    </a:lnTo>
                    <a:lnTo>
                      <a:pt x="920" y="892"/>
                    </a:lnTo>
                    <a:lnTo>
                      <a:pt x="887" y="954"/>
                    </a:lnTo>
                    <a:lnTo>
                      <a:pt x="867" y="1022"/>
                    </a:lnTo>
                    <a:lnTo>
                      <a:pt x="856" y="1091"/>
                    </a:lnTo>
                    <a:lnTo>
                      <a:pt x="859" y="1158"/>
                    </a:lnTo>
                    <a:lnTo>
                      <a:pt x="879" y="1223"/>
                    </a:lnTo>
                    <a:lnTo>
                      <a:pt x="912" y="1279"/>
                    </a:lnTo>
                    <a:lnTo>
                      <a:pt x="962" y="1330"/>
                    </a:lnTo>
                    <a:lnTo>
                      <a:pt x="859" y="1330"/>
                    </a:lnTo>
                    <a:lnTo>
                      <a:pt x="761" y="1338"/>
                    </a:lnTo>
                    <a:lnTo>
                      <a:pt x="664" y="1346"/>
                    </a:lnTo>
                    <a:lnTo>
                      <a:pt x="574" y="1361"/>
                    </a:lnTo>
                    <a:lnTo>
                      <a:pt x="490" y="1377"/>
                    </a:lnTo>
                    <a:lnTo>
                      <a:pt x="410" y="1405"/>
                    </a:lnTo>
                    <a:lnTo>
                      <a:pt x="335" y="1433"/>
                    </a:lnTo>
                    <a:lnTo>
                      <a:pt x="267" y="1469"/>
                    </a:lnTo>
                    <a:lnTo>
                      <a:pt x="208" y="1509"/>
                    </a:lnTo>
                    <a:lnTo>
                      <a:pt x="156" y="1561"/>
                    </a:lnTo>
                    <a:lnTo>
                      <a:pt x="108" y="1617"/>
                    </a:lnTo>
                    <a:lnTo>
                      <a:pt x="72" y="1677"/>
                    </a:lnTo>
                    <a:lnTo>
                      <a:pt x="41" y="1747"/>
                    </a:lnTo>
                    <a:lnTo>
                      <a:pt x="22" y="1828"/>
                    </a:lnTo>
                    <a:lnTo>
                      <a:pt x="5" y="1915"/>
                    </a:lnTo>
                    <a:lnTo>
                      <a:pt x="0" y="2012"/>
                    </a:lnTo>
                    <a:lnTo>
                      <a:pt x="9" y="2108"/>
                    </a:lnTo>
                    <a:lnTo>
                      <a:pt x="28" y="2195"/>
                    </a:lnTo>
                    <a:lnTo>
                      <a:pt x="61" y="2275"/>
                    </a:lnTo>
                    <a:lnTo>
                      <a:pt x="104" y="2343"/>
                    </a:lnTo>
                    <a:lnTo>
                      <a:pt x="156" y="2402"/>
                    </a:lnTo>
                    <a:lnTo>
                      <a:pt x="220" y="2455"/>
                    </a:lnTo>
                    <a:lnTo>
                      <a:pt x="284" y="2494"/>
                    </a:lnTo>
                    <a:lnTo>
                      <a:pt x="354" y="2522"/>
                    </a:lnTo>
                    <a:lnTo>
                      <a:pt x="426" y="2539"/>
                    </a:lnTo>
                    <a:lnTo>
                      <a:pt x="502" y="2545"/>
                    </a:lnTo>
                    <a:lnTo>
                      <a:pt x="577" y="2542"/>
                    </a:lnTo>
                    <a:lnTo>
                      <a:pt x="649" y="2525"/>
                    </a:lnTo>
                    <a:lnTo>
                      <a:pt x="717" y="2494"/>
                    </a:lnTo>
                    <a:lnTo>
                      <a:pt x="784" y="2455"/>
                    </a:lnTo>
                    <a:lnTo>
                      <a:pt x="839" y="2402"/>
                    </a:lnTo>
                    <a:lnTo>
                      <a:pt x="892" y="2335"/>
                    </a:lnTo>
                    <a:lnTo>
                      <a:pt x="931" y="2435"/>
                    </a:lnTo>
                    <a:lnTo>
                      <a:pt x="987" y="2522"/>
                    </a:lnTo>
                    <a:lnTo>
                      <a:pt x="1062" y="2598"/>
                    </a:lnTo>
                    <a:lnTo>
                      <a:pt x="1154" y="2662"/>
                    </a:lnTo>
                    <a:lnTo>
                      <a:pt x="1252" y="2710"/>
                    </a:lnTo>
                    <a:lnTo>
                      <a:pt x="1361" y="2741"/>
                    </a:lnTo>
                    <a:lnTo>
                      <a:pt x="1475" y="2766"/>
                    </a:lnTo>
                    <a:lnTo>
                      <a:pt x="1595" y="2769"/>
                    </a:lnTo>
                    <a:lnTo>
                      <a:pt x="1715" y="2766"/>
                    </a:lnTo>
                    <a:lnTo>
                      <a:pt x="1829" y="2741"/>
                    </a:lnTo>
                    <a:lnTo>
                      <a:pt x="1941" y="2706"/>
                    </a:lnTo>
                    <a:lnTo>
                      <a:pt x="2044" y="2654"/>
                    </a:lnTo>
                    <a:lnTo>
                      <a:pt x="2136" y="2590"/>
                    </a:lnTo>
                    <a:lnTo>
                      <a:pt x="2211" y="2506"/>
                    </a:lnTo>
                    <a:lnTo>
                      <a:pt x="2275" y="2410"/>
                    </a:lnTo>
                    <a:lnTo>
                      <a:pt x="2318" y="2298"/>
                    </a:lnTo>
                    <a:lnTo>
                      <a:pt x="2365" y="2396"/>
                    </a:lnTo>
                    <a:lnTo>
                      <a:pt x="2423" y="2478"/>
                    </a:lnTo>
                    <a:lnTo>
                      <a:pt x="2485" y="2553"/>
                    </a:lnTo>
                    <a:lnTo>
                      <a:pt x="2560" y="2618"/>
                    </a:lnTo>
                    <a:lnTo>
                      <a:pt x="2641" y="2670"/>
                    </a:lnTo>
                    <a:lnTo>
                      <a:pt x="2727" y="2710"/>
                    </a:lnTo>
                    <a:lnTo>
                      <a:pt x="2816" y="2738"/>
                    </a:lnTo>
                    <a:lnTo>
                      <a:pt x="2911" y="2749"/>
                    </a:lnTo>
                    <a:lnTo>
                      <a:pt x="3003" y="2746"/>
                    </a:lnTo>
                    <a:lnTo>
                      <a:pt x="3098" y="2729"/>
                    </a:lnTo>
                    <a:lnTo>
                      <a:pt x="3193" y="2693"/>
                    </a:lnTo>
                    <a:lnTo>
                      <a:pt x="3285" y="2646"/>
                    </a:lnTo>
                    <a:lnTo>
                      <a:pt x="3372" y="2578"/>
                    </a:lnTo>
                    <a:lnTo>
                      <a:pt x="3455" y="2491"/>
                    </a:lnTo>
                    <a:lnTo>
                      <a:pt x="3534" y="2387"/>
                    </a:lnTo>
                    <a:lnTo>
                      <a:pt x="3606" y="2264"/>
                    </a:lnTo>
                    <a:lnTo>
                      <a:pt x="3650" y="2354"/>
                    </a:lnTo>
                    <a:lnTo>
                      <a:pt x="3709" y="2427"/>
                    </a:lnTo>
                    <a:lnTo>
                      <a:pt x="3773" y="2483"/>
                    </a:lnTo>
                    <a:lnTo>
                      <a:pt x="3845" y="2522"/>
                    </a:lnTo>
                    <a:lnTo>
                      <a:pt x="3924" y="2545"/>
                    </a:lnTo>
                    <a:lnTo>
                      <a:pt x="4007" y="2558"/>
                    </a:lnTo>
                    <a:lnTo>
                      <a:pt x="4091" y="2553"/>
                    </a:lnTo>
                    <a:lnTo>
                      <a:pt x="4175" y="2534"/>
                    </a:lnTo>
                    <a:lnTo>
                      <a:pt x="4258" y="2502"/>
                    </a:lnTo>
                    <a:lnTo>
                      <a:pt x="4337" y="2458"/>
                    </a:lnTo>
                    <a:lnTo>
                      <a:pt x="4409" y="2402"/>
                    </a:lnTo>
                    <a:lnTo>
                      <a:pt x="4476" y="2335"/>
                    </a:lnTo>
                    <a:lnTo>
                      <a:pt x="4537" y="2259"/>
                    </a:lnTo>
                    <a:lnTo>
                      <a:pt x="4584" y="2175"/>
                    </a:lnTo>
                    <a:lnTo>
                      <a:pt x="4620" y="2080"/>
                    </a:lnTo>
                    <a:lnTo>
                      <a:pt x="4640" y="1976"/>
                    </a:lnTo>
                    <a:lnTo>
                      <a:pt x="4643" y="1881"/>
                    </a:lnTo>
                    <a:lnTo>
                      <a:pt x="4629" y="1788"/>
                    </a:lnTo>
                    <a:lnTo>
                      <a:pt x="4596" y="1701"/>
                    </a:lnTo>
                    <a:lnTo>
                      <a:pt x="4552" y="1621"/>
                    </a:lnTo>
                    <a:lnTo>
                      <a:pt x="4496" y="1548"/>
                    </a:lnTo>
                    <a:lnTo>
                      <a:pt x="4429" y="1486"/>
                    </a:lnTo>
                    <a:lnTo>
                      <a:pt x="4353" y="1430"/>
                    </a:lnTo>
                    <a:lnTo>
                      <a:pt x="4275" y="1381"/>
                    </a:lnTo>
                    <a:lnTo>
                      <a:pt x="4186" y="1346"/>
                    </a:lnTo>
                    <a:lnTo>
                      <a:pt x="4102" y="1318"/>
                    </a:lnTo>
                    <a:lnTo>
                      <a:pt x="4016" y="1302"/>
                    </a:lnTo>
                    <a:lnTo>
                      <a:pt x="3929" y="1298"/>
                    </a:lnTo>
                    <a:lnTo>
                      <a:pt x="3845" y="1306"/>
                    </a:lnTo>
                    <a:lnTo>
                      <a:pt x="3770" y="1321"/>
                    </a:lnTo>
                    <a:lnTo>
                      <a:pt x="3701" y="1354"/>
                    </a:lnTo>
                    <a:lnTo>
                      <a:pt x="3642" y="1402"/>
                    </a:lnTo>
                    <a:lnTo>
                      <a:pt x="3630" y="1259"/>
                    </a:lnTo>
                    <a:lnTo>
                      <a:pt x="3603" y="1134"/>
                    </a:lnTo>
                    <a:lnTo>
                      <a:pt x="3562" y="1027"/>
                    </a:lnTo>
                    <a:lnTo>
                      <a:pt x="3514" y="935"/>
                    </a:lnTo>
                    <a:lnTo>
                      <a:pt x="3460" y="864"/>
                    </a:lnTo>
                    <a:lnTo>
                      <a:pt x="3396" y="803"/>
                    </a:lnTo>
                    <a:lnTo>
                      <a:pt x="3327" y="755"/>
                    </a:lnTo>
                    <a:lnTo>
                      <a:pt x="3257" y="724"/>
                    </a:lnTo>
                    <a:lnTo>
                      <a:pt x="3181" y="699"/>
                    </a:lnTo>
                    <a:lnTo>
                      <a:pt x="3104" y="688"/>
                    </a:lnTo>
                    <a:lnTo>
                      <a:pt x="3026" y="683"/>
                    </a:lnTo>
                    <a:lnTo>
                      <a:pt x="2954" y="688"/>
                    </a:lnTo>
                    <a:lnTo>
                      <a:pt x="2883" y="699"/>
                    </a:lnTo>
                    <a:lnTo>
                      <a:pt x="2816" y="716"/>
                    </a:lnTo>
                    <a:lnTo>
                      <a:pt x="2752" y="736"/>
                    </a:lnTo>
                    <a:lnTo>
                      <a:pt x="2700" y="759"/>
                    </a:lnTo>
                    <a:lnTo>
                      <a:pt x="2691" y="619"/>
                    </a:lnTo>
                    <a:lnTo>
                      <a:pt x="2660" y="484"/>
                    </a:lnTo>
                    <a:lnTo>
                      <a:pt x="2609" y="357"/>
                    </a:lnTo>
                    <a:lnTo>
                      <a:pt x="2541" y="240"/>
                    </a:lnTo>
                    <a:lnTo>
                      <a:pt x="2450" y="145"/>
                    </a:lnTo>
                    <a:lnTo>
                      <a:pt x="2346" y="69"/>
                    </a:lnTo>
                    <a:lnTo>
                      <a:pt x="2228" y="17"/>
                    </a:lnTo>
                    <a:lnTo>
                      <a:pt x="20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8" name=""/>
          <p:cNvGrpSpPr/>
          <p:nvPr/>
        </p:nvGrpSpPr>
        <p:grpSpPr>
          <a:xfrm>
            <a:off x="544680" y="219240"/>
            <a:ext cx="5797440" cy="815760"/>
            <a:chOff x="544680" y="219240"/>
            <a:chExt cx="5797440" cy="815760"/>
          </a:xfrm>
        </p:grpSpPr>
        <p:sp>
          <p:nvSpPr>
            <p:cNvPr id="1479" name=""/>
            <p:cNvSpPr/>
            <p:nvPr/>
          </p:nvSpPr>
          <p:spPr>
            <a:xfrm>
              <a:off x="544680" y="394200"/>
              <a:ext cx="5797440" cy="640800"/>
            </a:xfrm>
            <a:custGeom>
              <a:avLst/>
              <a:gdLst/>
              <a:ahLst/>
              <a:rect l="l" t="t" r="r" b="b"/>
              <a:pathLst>
                <a:path w="9586" h="1044">
                  <a:moveTo>
                    <a:pt x="4793" y="1044"/>
                  </a:moveTo>
                  <a:lnTo>
                    <a:pt x="4752" y="1044"/>
                  </a:lnTo>
                  <a:lnTo>
                    <a:pt x="4731" y="1044"/>
                  </a:lnTo>
                  <a:lnTo>
                    <a:pt x="4710" y="1044"/>
                  </a:lnTo>
                  <a:lnTo>
                    <a:pt x="4669" y="1044"/>
                  </a:lnTo>
                  <a:lnTo>
                    <a:pt x="4649" y="1044"/>
                  </a:lnTo>
                  <a:lnTo>
                    <a:pt x="4628" y="1044"/>
                  </a:lnTo>
                  <a:lnTo>
                    <a:pt x="4608" y="1044"/>
                  </a:lnTo>
                  <a:lnTo>
                    <a:pt x="4587" y="1044"/>
                  </a:lnTo>
                  <a:lnTo>
                    <a:pt x="4546" y="1044"/>
                  </a:lnTo>
                  <a:lnTo>
                    <a:pt x="4505" y="1044"/>
                  </a:lnTo>
                  <a:lnTo>
                    <a:pt x="4484" y="1044"/>
                  </a:lnTo>
                  <a:lnTo>
                    <a:pt x="4422" y="1044"/>
                  </a:lnTo>
                  <a:lnTo>
                    <a:pt x="4381" y="1044"/>
                  </a:lnTo>
                  <a:lnTo>
                    <a:pt x="4299" y="1044"/>
                  </a:lnTo>
                  <a:lnTo>
                    <a:pt x="4237" y="1044"/>
                  </a:lnTo>
                  <a:lnTo>
                    <a:pt x="4134" y="1044"/>
                  </a:lnTo>
                  <a:lnTo>
                    <a:pt x="4073" y="1035"/>
                  </a:lnTo>
                  <a:lnTo>
                    <a:pt x="4011" y="1031"/>
                  </a:lnTo>
                  <a:lnTo>
                    <a:pt x="3949" y="1027"/>
                  </a:lnTo>
                  <a:lnTo>
                    <a:pt x="3888" y="1019"/>
                  </a:lnTo>
                  <a:lnTo>
                    <a:pt x="3826" y="1010"/>
                  </a:lnTo>
                  <a:lnTo>
                    <a:pt x="3764" y="1006"/>
                  </a:lnTo>
                  <a:lnTo>
                    <a:pt x="3723" y="998"/>
                  </a:lnTo>
                  <a:lnTo>
                    <a:pt x="3682" y="989"/>
                  </a:lnTo>
                  <a:lnTo>
                    <a:pt x="3641" y="981"/>
                  </a:lnTo>
                  <a:lnTo>
                    <a:pt x="3620" y="973"/>
                  </a:lnTo>
                  <a:lnTo>
                    <a:pt x="3579" y="964"/>
                  </a:lnTo>
                  <a:lnTo>
                    <a:pt x="3558" y="960"/>
                  </a:lnTo>
                  <a:lnTo>
                    <a:pt x="3538" y="948"/>
                  </a:lnTo>
                  <a:lnTo>
                    <a:pt x="3517" y="939"/>
                  </a:lnTo>
                  <a:lnTo>
                    <a:pt x="3517" y="931"/>
                  </a:lnTo>
                  <a:lnTo>
                    <a:pt x="3517" y="923"/>
                  </a:lnTo>
                  <a:lnTo>
                    <a:pt x="3497" y="919"/>
                  </a:lnTo>
                  <a:lnTo>
                    <a:pt x="3456" y="914"/>
                  </a:lnTo>
                  <a:lnTo>
                    <a:pt x="3414" y="914"/>
                  </a:lnTo>
                  <a:lnTo>
                    <a:pt x="3353" y="914"/>
                  </a:lnTo>
                  <a:lnTo>
                    <a:pt x="3270" y="914"/>
                  </a:lnTo>
                  <a:lnTo>
                    <a:pt x="3188" y="914"/>
                  </a:lnTo>
                  <a:lnTo>
                    <a:pt x="3085" y="914"/>
                  </a:lnTo>
                  <a:lnTo>
                    <a:pt x="2962" y="919"/>
                  </a:lnTo>
                  <a:lnTo>
                    <a:pt x="2818" y="923"/>
                  </a:lnTo>
                  <a:lnTo>
                    <a:pt x="2694" y="927"/>
                  </a:lnTo>
                  <a:lnTo>
                    <a:pt x="2550" y="931"/>
                  </a:lnTo>
                  <a:lnTo>
                    <a:pt x="2386" y="939"/>
                  </a:lnTo>
                  <a:lnTo>
                    <a:pt x="2242" y="944"/>
                  </a:lnTo>
                  <a:lnTo>
                    <a:pt x="2077" y="948"/>
                  </a:lnTo>
                  <a:lnTo>
                    <a:pt x="1913" y="956"/>
                  </a:lnTo>
                  <a:lnTo>
                    <a:pt x="1748" y="964"/>
                  </a:lnTo>
                  <a:lnTo>
                    <a:pt x="1584" y="969"/>
                  </a:lnTo>
                  <a:lnTo>
                    <a:pt x="1419" y="977"/>
                  </a:lnTo>
                  <a:lnTo>
                    <a:pt x="1254" y="985"/>
                  </a:lnTo>
                  <a:lnTo>
                    <a:pt x="1110" y="989"/>
                  </a:lnTo>
                  <a:lnTo>
                    <a:pt x="966" y="998"/>
                  </a:lnTo>
                  <a:lnTo>
                    <a:pt x="802" y="1006"/>
                  </a:lnTo>
                  <a:lnTo>
                    <a:pt x="678" y="1010"/>
                  </a:lnTo>
                  <a:lnTo>
                    <a:pt x="534" y="1015"/>
                  </a:lnTo>
                  <a:lnTo>
                    <a:pt x="432" y="1023"/>
                  </a:lnTo>
                  <a:lnTo>
                    <a:pt x="329" y="1027"/>
                  </a:lnTo>
                  <a:lnTo>
                    <a:pt x="226" y="1031"/>
                  </a:lnTo>
                  <a:lnTo>
                    <a:pt x="144" y="1035"/>
                  </a:lnTo>
                  <a:lnTo>
                    <a:pt x="82" y="1040"/>
                  </a:lnTo>
                  <a:lnTo>
                    <a:pt x="41" y="1044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0" y="860"/>
                  </a:lnTo>
                  <a:lnTo>
                    <a:pt x="0" y="718"/>
                  </a:lnTo>
                  <a:lnTo>
                    <a:pt x="0" y="49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1" y="67"/>
                  </a:lnTo>
                  <a:lnTo>
                    <a:pt x="61" y="67"/>
                  </a:lnTo>
                  <a:lnTo>
                    <a:pt x="123" y="63"/>
                  </a:lnTo>
                  <a:lnTo>
                    <a:pt x="205" y="63"/>
                  </a:lnTo>
                  <a:lnTo>
                    <a:pt x="288" y="59"/>
                  </a:lnTo>
                  <a:lnTo>
                    <a:pt x="370" y="55"/>
                  </a:lnTo>
                  <a:lnTo>
                    <a:pt x="473" y="55"/>
                  </a:lnTo>
                  <a:lnTo>
                    <a:pt x="596" y="50"/>
                  </a:lnTo>
                  <a:lnTo>
                    <a:pt x="720" y="46"/>
                  </a:lnTo>
                  <a:lnTo>
                    <a:pt x="843" y="42"/>
                  </a:lnTo>
                  <a:lnTo>
                    <a:pt x="987" y="42"/>
                  </a:lnTo>
                  <a:lnTo>
                    <a:pt x="1131" y="38"/>
                  </a:lnTo>
                  <a:lnTo>
                    <a:pt x="1275" y="34"/>
                  </a:lnTo>
                  <a:lnTo>
                    <a:pt x="1419" y="29"/>
                  </a:lnTo>
                  <a:lnTo>
                    <a:pt x="1584" y="25"/>
                  </a:lnTo>
                  <a:lnTo>
                    <a:pt x="1728" y="21"/>
                  </a:lnTo>
                  <a:lnTo>
                    <a:pt x="1872" y="21"/>
                  </a:lnTo>
                  <a:lnTo>
                    <a:pt x="2036" y="17"/>
                  </a:lnTo>
                  <a:lnTo>
                    <a:pt x="2180" y="13"/>
                  </a:lnTo>
                  <a:lnTo>
                    <a:pt x="2345" y="13"/>
                  </a:lnTo>
                  <a:lnTo>
                    <a:pt x="2489" y="9"/>
                  </a:lnTo>
                  <a:lnTo>
                    <a:pt x="2612" y="4"/>
                  </a:lnTo>
                  <a:lnTo>
                    <a:pt x="2756" y="4"/>
                  </a:lnTo>
                  <a:lnTo>
                    <a:pt x="2880" y="4"/>
                  </a:lnTo>
                  <a:lnTo>
                    <a:pt x="3003" y="0"/>
                  </a:lnTo>
                  <a:lnTo>
                    <a:pt x="3106" y="0"/>
                  </a:lnTo>
                  <a:lnTo>
                    <a:pt x="3209" y="0"/>
                  </a:lnTo>
                  <a:lnTo>
                    <a:pt x="3291" y="0"/>
                  </a:lnTo>
                  <a:lnTo>
                    <a:pt x="3373" y="0"/>
                  </a:lnTo>
                  <a:lnTo>
                    <a:pt x="3435" y="4"/>
                  </a:lnTo>
                  <a:lnTo>
                    <a:pt x="3497" y="4"/>
                  </a:lnTo>
                  <a:lnTo>
                    <a:pt x="3579" y="13"/>
                  </a:lnTo>
                  <a:lnTo>
                    <a:pt x="3641" y="17"/>
                  </a:lnTo>
                  <a:lnTo>
                    <a:pt x="3682" y="25"/>
                  </a:lnTo>
                  <a:lnTo>
                    <a:pt x="3723" y="34"/>
                  </a:lnTo>
                  <a:lnTo>
                    <a:pt x="3744" y="42"/>
                  </a:lnTo>
                  <a:lnTo>
                    <a:pt x="3785" y="55"/>
                  </a:lnTo>
                  <a:lnTo>
                    <a:pt x="3805" y="63"/>
                  </a:lnTo>
                  <a:lnTo>
                    <a:pt x="3826" y="71"/>
                  </a:lnTo>
                  <a:lnTo>
                    <a:pt x="3826" y="84"/>
                  </a:lnTo>
                  <a:lnTo>
                    <a:pt x="3846" y="92"/>
                  </a:lnTo>
                  <a:lnTo>
                    <a:pt x="3888" y="100"/>
                  </a:lnTo>
                  <a:lnTo>
                    <a:pt x="3908" y="109"/>
                  </a:lnTo>
                  <a:lnTo>
                    <a:pt x="3949" y="117"/>
                  </a:lnTo>
                  <a:lnTo>
                    <a:pt x="3990" y="121"/>
                  </a:lnTo>
                  <a:lnTo>
                    <a:pt x="4073" y="130"/>
                  </a:lnTo>
                  <a:lnTo>
                    <a:pt x="4134" y="130"/>
                  </a:lnTo>
                  <a:lnTo>
                    <a:pt x="4176" y="130"/>
                  </a:lnTo>
                  <a:lnTo>
                    <a:pt x="4217" y="130"/>
                  </a:lnTo>
                  <a:lnTo>
                    <a:pt x="4237" y="130"/>
                  </a:lnTo>
                  <a:lnTo>
                    <a:pt x="4258" y="130"/>
                  </a:lnTo>
                  <a:lnTo>
                    <a:pt x="4278" y="130"/>
                  </a:lnTo>
                  <a:lnTo>
                    <a:pt x="4320" y="130"/>
                  </a:lnTo>
                  <a:lnTo>
                    <a:pt x="4340" y="130"/>
                  </a:lnTo>
                  <a:lnTo>
                    <a:pt x="4361" y="130"/>
                  </a:lnTo>
                  <a:lnTo>
                    <a:pt x="4381" y="130"/>
                  </a:lnTo>
                  <a:lnTo>
                    <a:pt x="4422" y="130"/>
                  </a:lnTo>
                  <a:lnTo>
                    <a:pt x="4464" y="130"/>
                  </a:lnTo>
                  <a:lnTo>
                    <a:pt x="4505" y="130"/>
                  </a:lnTo>
                  <a:lnTo>
                    <a:pt x="4566" y="130"/>
                  </a:lnTo>
                  <a:lnTo>
                    <a:pt x="4628" y="130"/>
                  </a:lnTo>
                  <a:lnTo>
                    <a:pt x="4710" y="134"/>
                  </a:lnTo>
                  <a:lnTo>
                    <a:pt x="4793" y="134"/>
                  </a:lnTo>
                  <a:lnTo>
                    <a:pt x="4834" y="134"/>
                  </a:lnTo>
                  <a:lnTo>
                    <a:pt x="4875" y="134"/>
                  </a:lnTo>
                  <a:lnTo>
                    <a:pt x="4896" y="134"/>
                  </a:lnTo>
                  <a:lnTo>
                    <a:pt x="4916" y="134"/>
                  </a:lnTo>
                  <a:lnTo>
                    <a:pt x="4937" y="134"/>
                  </a:lnTo>
                  <a:lnTo>
                    <a:pt x="4957" y="134"/>
                  </a:lnTo>
                  <a:lnTo>
                    <a:pt x="4998" y="134"/>
                  </a:lnTo>
                  <a:lnTo>
                    <a:pt x="5019" y="134"/>
                  </a:lnTo>
                  <a:lnTo>
                    <a:pt x="5040" y="134"/>
                  </a:lnTo>
                  <a:lnTo>
                    <a:pt x="5081" y="134"/>
                  </a:lnTo>
                  <a:lnTo>
                    <a:pt x="5122" y="134"/>
                  </a:lnTo>
                  <a:lnTo>
                    <a:pt x="5163" y="134"/>
                  </a:lnTo>
                  <a:lnTo>
                    <a:pt x="5225" y="134"/>
                  </a:lnTo>
                  <a:lnTo>
                    <a:pt x="5286" y="134"/>
                  </a:lnTo>
                  <a:lnTo>
                    <a:pt x="5348" y="134"/>
                  </a:lnTo>
                  <a:lnTo>
                    <a:pt x="5451" y="134"/>
                  </a:lnTo>
                  <a:lnTo>
                    <a:pt x="5533" y="130"/>
                  </a:lnTo>
                  <a:lnTo>
                    <a:pt x="5595" y="125"/>
                  </a:lnTo>
                  <a:lnTo>
                    <a:pt x="5636" y="117"/>
                  </a:lnTo>
                  <a:lnTo>
                    <a:pt x="5677" y="113"/>
                  </a:lnTo>
                  <a:lnTo>
                    <a:pt x="5718" y="105"/>
                  </a:lnTo>
                  <a:lnTo>
                    <a:pt x="5739" y="92"/>
                  </a:lnTo>
                  <a:lnTo>
                    <a:pt x="5760" y="84"/>
                  </a:lnTo>
                  <a:lnTo>
                    <a:pt x="5780" y="75"/>
                  </a:lnTo>
                  <a:lnTo>
                    <a:pt x="5801" y="67"/>
                  </a:lnTo>
                  <a:lnTo>
                    <a:pt x="5821" y="55"/>
                  </a:lnTo>
                  <a:lnTo>
                    <a:pt x="5842" y="46"/>
                  </a:lnTo>
                  <a:lnTo>
                    <a:pt x="5862" y="34"/>
                  </a:lnTo>
                  <a:lnTo>
                    <a:pt x="5904" y="25"/>
                  </a:lnTo>
                  <a:lnTo>
                    <a:pt x="5965" y="21"/>
                  </a:lnTo>
                  <a:lnTo>
                    <a:pt x="6027" y="13"/>
                  </a:lnTo>
                  <a:lnTo>
                    <a:pt x="6089" y="9"/>
                  </a:lnTo>
                  <a:lnTo>
                    <a:pt x="6150" y="4"/>
                  </a:lnTo>
                  <a:lnTo>
                    <a:pt x="6212" y="4"/>
                  </a:lnTo>
                  <a:lnTo>
                    <a:pt x="6294" y="4"/>
                  </a:lnTo>
                  <a:lnTo>
                    <a:pt x="6377" y="4"/>
                  </a:lnTo>
                  <a:lnTo>
                    <a:pt x="6480" y="4"/>
                  </a:lnTo>
                  <a:lnTo>
                    <a:pt x="6582" y="4"/>
                  </a:lnTo>
                  <a:lnTo>
                    <a:pt x="6706" y="4"/>
                  </a:lnTo>
                  <a:lnTo>
                    <a:pt x="6829" y="4"/>
                  </a:lnTo>
                  <a:lnTo>
                    <a:pt x="6973" y="9"/>
                  </a:lnTo>
                  <a:lnTo>
                    <a:pt x="7117" y="9"/>
                  </a:lnTo>
                  <a:lnTo>
                    <a:pt x="7261" y="13"/>
                  </a:lnTo>
                  <a:lnTo>
                    <a:pt x="7405" y="17"/>
                  </a:lnTo>
                  <a:lnTo>
                    <a:pt x="7549" y="17"/>
                  </a:lnTo>
                  <a:lnTo>
                    <a:pt x="7714" y="21"/>
                  </a:lnTo>
                  <a:lnTo>
                    <a:pt x="7858" y="25"/>
                  </a:lnTo>
                  <a:lnTo>
                    <a:pt x="8022" y="29"/>
                  </a:lnTo>
                  <a:lnTo>
                    <a:pt x="8166" y="29"/>
                  </a:lnTo>
                  <a:lnTo>
                    <a:pt x="8310" y="34"/>
                  </a:lnTo>
                  <a:lnTo>
                    <a:pt x="8475" y="38"/>
                  </a:lnTo>
                  <a:lnTo>
                    <a:pt x="8598" y="42"/>
                  </a:lnTo>
                  <a:lnTo>
                    <a:pt x="8742" y="46"/>
                  </a:lnTo>
                  <a:lnTo>
                    <a:pt x="8866" y="50"/>
                  </a:lnTo>
                  <a:lnTo>
                    <a:pt x="8989" y="50"/>
                  </a:lnTo>
                  <a:lnTo>
                    <a:pt x="9113" y="55"/>
                  </a:lnTo>
                  <a:lnTo>
                    <a:pt x="9216" y="59"/>
                  </a:lnTo>
                  <a:lnTo>
                    <a:pt x="9298" y="59"/>
                  </a:lnTo>
                  <a:lnTo>
                    <a:pt x="9380" y="63"/>
                  </a:lnTo>
                  <a:lnTo>
                    <a:pt x="9462" y="67"/>
                  </a:lnTo>
                  <a:lnTo>
                    <a:pt x="9504" y="67"/>
                  </a:lnTo>
                  <a:lnTo>
                    <a:pt x="9565" y="67"/>
                  </a:lnTo>
                  <a:lnTo>
                    <a:pt x="9586" y="67"/>
                  </a:lnTo>
                  <a:lnTo>
                    <a:pt x="9586" y="71"/>
                  </a:lnTo>
                  <a:lnTo>
                    <a:pt x="9586" y="251"/>
                  </a:lnTo>
                  <a:lnTo>
                    <a:pt x="9586" y="393"/>
                  </a:lnTo>
                  <a:lnTo>
                    <a:pt x="9586" y="618"/>
                  </a:lnTo>
                  <a:lnTo>
                    <a:pt x="9586" y="1044"/>
                  </a:lnTo>
                  <a:lnTo>
                    <a:pt x="9586" y="1044"/>
                  </a:lnTo>
                  <a:lnTo>
                    <a:pt x="9565" y="1044"/>
                  </a:lnTo>
                  <a:lnTo>
                    <a:pt x="9504" y="1040"/>
                  </a:lnTo>
                  <a:lnTo>
                    <a:pt x="9442" y="1035"/>
                  </a:lnTo>
                  <a:lnTo>
                    <a:pt x="9360" y="1031"/>
                  </a:lnTo>
                  <a:lnTo>
                    <a:pt x="9277" y="1031"/>
                  </a:lnTo>
                  <a:lnTo>
                    <a:pt x="9154" y="1023"/>
                  </a:lnTo>
                  <a:lnTo>
                    <a:pt x="9051" y="1019"/>
                  </a:lnTo>
                  <a:lnTo>
                    <a:pt x="8928" y="1010"/>
                  </a:lnTo>
                  <a:lnTo>
                    <a:pt x="8784" y="1006"/>
                  </a:lnTo>
                  <a:lnTo>
                    <a:pt x="8640" y="998"/>
                  </a:lnTo>
                  <a:lnTo>
                    <a:pt x="8475" y="994"/>
                  </a:lnTo>
                  <a:lnTo>
                    <a:pt x="8331" y="985"/>
                  </a:lnTo>
                  <a:lnTo>
                    <a:pt x="8166" y="977"/>
                  </a:lnTo>
                  <a:lnTo>
                    <a:pt x="8002" y="973"/>
                  </a:lnTo>
                  <a:lnTo>
                    <a:pt x="7837" y="964"/>
                  </a:lnTo>
                  <a:lnTo>
                    <a:pt x="7673" y="956"/>
                  </a:lnTo>
                  <a:lnTo>
                    <a:pt x="7508" y="952"/>
                  </a:lnTo>
                  <a:lnTo>
                    <a:pt x="7344" y="944"/>
                  </a:lnTo>
                  <a:lnTo>
                    <a:pt x="7200" y="939"/>
                  </a:lnTo>
                  <a:lnTo>
                    <a:pt x="7035" y="931"/>
                  </a:lnTo>
                  <a:lnTo>
                    <a:pt x="6891" y="927"/>
                  </a:lnTo>
                  <a:lnTo>
                    <a:pt x="6747" y="923"/>
                  </a:lnTo>
                  <a:lnTo>
                    <a:pt x="6624" y="919"/>
                  </a:lnTo>
                  <a:lnTo>
                    <a:pt x="6521" y="914"/>
                  </a:lnTo>
                  <a:lnTo>
                    <a:pt x="6397" y="914"/>
                  </a:lnTo>
                  <a:lnTo>
                    <a:pt x="6315" y="914"/>
                  </a:lnTo>
                  <a:lnTo>
                    <a:pt x="6233" y="914"/>
                  </a:lnTo>
                  <a:lnTo>
                    <a:pt x="6171" y="914"/>
                  </a:lnTo>
                  <a:lnTo>
                    <a:pt x="6109" y="914"/>
                  </a:lnTo>
                  <a:lnTo>
                    <a:pt x="6089" y="919"/>
                  </a:lnTo>
                  <a:lnTo>
                    <a:pt x="6089" y="923"/>
                  </a:lnTo>
                  <a:lnTo>
                    <a:pt x="6089" y="931"/>
                  </a:lnTo>
                  <a:lnTo>
                    <a:pt x="6068" y="944"/>
                  </a:lnTo>
                  <a:lnTo>
                    <a:pt x="6048" y="952"/>
                  </a:lnTo>
                  <a:lnTo>
                    <a:pt x="6027" y="960"/>
                  </a:lnTo>
                  <a:lnTo>
                    <a:pt x="6006" y="969"/>
                  </a:lnTo>
                  <a:lnTo>
                    <a:pt x="5986" y="977"/>
                  </a:lnTo>
                  <a:lnTo>
                    <a:pt x="5945" y="985"/>
                  </a:lnTo>
                  <a:lnTo>
                    <a:pt x="5904" y="989"/>
                  </a:lnTo>
                  <a:lnTo>
                    <a:pt x="5862" y="998"/>
                  </a:lnTo>
                  <a:lnTo>
                    <a:pt x="5821" y="1006"/>
                  </a:lnTo>
                  <a:lnTo>
                    <a:pt x="5760" y="1010"/>
                  </a:lnTo>
                  <a:lnTo>
                    <a:pt x="5698" y="1019"/>
                  </a:lnTo>
                  <a:lnTo>
                    <a:pt x="5657" y="1027"/>
                  </a:lnTo>
                  <a:lnTo>
                    <a:pt x="5595" y="1031"/>
                  </a:lnTo>
                  <a:lnTo>
                    <a:pt x="5513" y="1040"/>
                  </a:lnTo>
                  <a:lnTo>
                    <a:pt x="5451" y="1044"/>
                  </a:lnTo>
                  <a:lnTo>
                    <a:pt x="5410" y="1044"/>
                  </a:lnTo>
                  <a:lnTo>
                    <a:pt x="5369" y="1044"/>
                  </a:lnTo>
                  <a:lnTo>
                    <a:pt x="5348" y="1044"/>
                  </a:lnTo>
                  <a:lnTo>
                    <a:pt x="5328" y="1044"/>
                  </a:lnTo>
                  <a:lnTo>
                    <a:pt x="5307" y="1044"/>
                  </a:lnTo>
                  <a:lnTo>
                    <a:pt x="5286" y="1044"/>
                  </a:lnTo>
                  <a:lnTo>
                    <a:pt x="5266" y="1044"/>
                  </a:lnTo>
                  <a:lnTo>
                    <a:pt x="5225" y="1044"/>
                  </a:lnTo>
                  <a:lnTo>
                    <a:pt x="5204" y="1044"/>
                  </a:lnTo>
                  <a:lnTo>
                    <a:pt x="5163" y="1044"/>
                  </a:lnTo>
                  <a:lnTo>
                    <a:pt x="5122" y="1044"/>
                  </a:lnTo>
                  <a:lnTo>
                    <a:pt x="5081" y="1044"/>
                  </a:lnTo>
                  <a:lnTo>
                    <a:pt x="5019" y="1044"/>
                  </a:lnTo>
                  <a:lnTo>
                    <a:pt x="4957" y="1044"/>
                  </a:lnTo>
                  <a:lnTo>
                    <a:pt x="4896" y="1044"/>
                  </a:lnTo>
                  <a:lnTo>
                    <a:pt x="4793" y="1044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43400" y="311400"/>
              <a:ext cx="284904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80"/>
                  </a:lnTo>
                  <a:lnTo>
                    <a:pt x="41" y="267"/>
                  </a:lnTo>
                  <a:lnTo>
                    <a:pt x="82" y="251"/>
                  </a:lnTo>
                  <a:lnTo>
                    <a:pt x="144" y="234"/>
                  </a:lnTo>
                  <a:lnTo>
                    <a:pt x="205" y="213"/>
                  </a:lnTo>
                  <a:lnTo>
                    <a:pt x="288" y="197"/>
                  </a:lnTo>
                  <a:lnTo>
                    <a:pt x="370" y="180"/>
                  </a:lnTo>
                  <a:lnTo>
                    <a:pt x="452" y="159"/>
                  </a:lnTo>
                  <a:lnTo>
                    <a:pt x="555" y="142"/>
                  </a:lnTo>
                  <a:lnTo>
                    <a:pt x="658" y="126"/>
                  </a:lnTo>
                  <a:lnTo>
                    <a:pt x="781" y="105"/>
                  </a:lnTo>
                  <a:lnTo>
                    <a:pt x="884" y="88"/>
                  </a:lnTo>
                  <a:lnTo>
                    <a:pt x="1008" y="71"/>
                  </a:lnTo>
                  <a:lnTo>
                    <a:pt x="1152" y="55"/>
                  </a:lnTo>
                  <a:lnTo>
                    <a:pt x="1296" y="42"/>
                  </a:lnTo>
                  <a:lnTo>
                    <a:pt x="1440" y="30"/>
                  </a:lnTo>
                  <a:lnTo>
                    <a:pt x="1604" y="21"/>
                  </a:lnTo>
                  <a:lnTo>
                    <a:pt x="1748" y="13"/>
                  </a:lnTo>
                  <a:lnTo>
                    <a:pt x="1913" y="5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5"/>
                  </a:lnTo>
                  <a:lnTo>
                    <a:pt x="2633" y="9"/>
                  </a:lnTo>
                  <a:lnTo>
                    <a:pt x="2818" y="17"/>
                  </a:lnTo>
                  <a:lnTo>
                    <a:pt x="3024" y="30"/>
                  </a:lnTo>
                  <a:lnTo>
                    <a:pt x="3209" y="42"/>
                  </a:lnTo>
                  <a:lnTo>
                    <a:pt x="3415" y="63"/>
                  </a:lnTo>
                  <a:lnTo>
                    <a:pt x="3620" y="88"/>
                  </a:lnTo>
                  <a:lnTo>
                    <a:pt x="3826" y="117"/>
                  </a:lnTo>
                  <a:lnTo>
                    <a:pt x="4052" y="146"/>
                  </a:lnTo>
                  <a:lnTo>
                    <a:pt x="4258" y="184"/>
                  </a:lnTo>
                  <a:lnTo>
                    <a:pt x="4484" y="230"/>
                  </a:lnTo>
                  <a:lnTo>
                    <a:pt x="4690" y="276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5"/>
                  </a:lnTo>
                  <a:lnTo>
                    <a:pt x="4052" y="977"/>
                  </a:lnTo>
                  <a:lnTo>
                    <a:pt x="3847" y="944"/>
                  </a:lnTo>
                  <a:lnTo>
                    <a:pt x="3641" y="919"/>
                  </a:lnTo>
                  <a:lnTo>
                    <a:pt x="3435" y="894"/>
                  </a:lnTo>
                  <a:lnTo>
                    <a:pt x="3229" y="873"/>
                  </a:lnTo>
                  <a:lnTo>
                    <a:pt x="3024" y="856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1"/>
                  </a:lnTo>
                  <a:lnTo>
                    <a:pt x="2283" y="831"/>
                  </a:lnTo>
                  <a:lnTo>
                    <a:pt x="2098" y="831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8"/>
                  </a:lnTo>
                  <a:lnTo>
                    <a:pt x="1460" y="856"/>
                  </a:lnTo>
                  <a:lnTo>
                    <a:pt x="1296" y="869"/>
                  </a:lnTo>
                  <a:lnTo>
                    <a:pt x="1172" y="885"/>
                  </a:lnTo>
                  <a:lnTo>
                    <a:pt x="1028" y="898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8"/>
                  </a:lnTo>
                  <a:lnTo>
                    <a:pt x="555" y="969"/>
                  </a:lnTo>
                  <a:lnTo>
                    <a:pt x="452" y="985"/>
                  </a:lnTo>
                  <a:lnTo>
                    <a:pt x="370" y="1006"/>
                  </a:lnTo>
                  <a:lnTo>
                    <a:pt x="288" y="1023"/>
                  </a:lnTo>
                  <a:lnTo>
                    <a:pt x="205" y="1040"/>
                  </a:lnTo>
                  <a:lnTo>
                    <a:pt x="144" y="1056"/>
                  </a:lnTo>
                  <a:lnTo>
                    <a:pt x="82" y="1077"/>
                  </a:lnTo>
                  <a:lnTo>
                    <a:pt x="41" y="1090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43400" y="264960"/>
              <a:ext cx="284904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80"/>
                  </a:lnTo>
                  <a:lnTo>
                    <a:pt x="41" y="263"/>
                  </a:lnTo>
                  <a:lnTo>
                    <a:pt x="82" y="250"/>
                  </a:lnTo>
                  <a:lnTo>
                    <a:pt x="144" y="234"/>
                  </a:lnTo>
                  <a:lnTo>
                    <a:pt x="205" y="217"/>
                  </a:lnTo>
                  <a:lnTo>
                    <a:pt x="288" y="196"/>
                  </a:lnTo>
                  <a:lnTo>
                    <a:pt x="370" y="180"/>
                  </a:lnTo>
                  <a:lnTo>
                    <a:pt x="452" y="159"/>
                  </a:lnTo>
                  <a:lnTo>
                    <a:pt x="555" y="142"/>
                  </a:lnTo>
                  <a:lnTo>
                    <a:pt x="658" y="121"/>
                  </a:lnTo>
                  <a:lnTo>
                    <a:pt x="781" y="104"/>
                  </a:lnTo>
                  <a:lnTo>
                    <a:pt x="884" y="88"/>
                  </a:lnTo>
                  <a:lnTo>
                    <a:pt x="1008" y="71"/>
                  </a:lnTo>
                  <a:lnTo>
                    <a:pt x="1152" y="54"/>
                  </a:lnTo>
                  <a:lnTo>
                    <a:pt x="1296" y="42"/>
                  </a:lnTo>
                  <a:lnTo>
                    <a:pt x="1440" y="29"/>
                  </a:lnTo>
                  <a:lnTo>
                    <a:pt x="1604" y="21"/>
                  </a:lnTo>
                  <a:lnTo>
                    <a:pt x="1748" y="13"/>
                  </a:lnTo>
                  <a:lnTo>
                    <a:pt x="1913" y="4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0"/>
                  </a:lnTo>
                  <a:lnTo>
                    <a:pt x="2633" y="8"/>
                  </a:lnTo>
                  <a:lnTo>
                    <a:pt x="2818" y="17"/>
                  </a:lnTo>
                  <a:lnTo>
                    <a:pt x="3024" y="29"/>
                  </a:lnTo>
                  <a:lnTo>
                    <a:pt x="3209" y="42"/>
                  </a:lnTo>
                  <a:lnTo>
                    <a:pt x="3415" y="63"/>
                  </a:lnTo>
                  <a:lnTo>
                    <a:pt x="3620" y="88"/>
                  </a:lnTo>
                  <a:lnTo>
                    <a:pt x="3826" y="113"/>
                  </a:lnTo>
                  <a:lnTo>
                    <a:pt x="4052" y="146"/>
                  </a:lnTo>
                  <a:lnTo>
                    <a:pt x="4258" y="184"/>
                  </a:lnTo>
                  <a:lnTo>
                    <a:pt x="4484" y="230"/>
                  </a:lnTo>
                  <a:lnTo>
                    <a:pt x="4690" y="276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4"/>
                  </a:lnTo>
                  <a:lnTo>
                    <a:pt x="4052" y="977"/>
                  </a:lnTo>
                  <a:lnTo>
                    <a:pt x="3847" y="943"/>
                  </a:lnTo>
                  <a:lnTo>
                    <a:pt x="3641" y="914"/>
                  </a:lnTo>
                  <a:lnTo>
                    <a:pt x="3435" y="893"/>
                  </a:lnTo>
                  <a:lnTo>
                    <a:pt x="3229" y="872"/>
                  </a:lnTo>
                  <a:lnTo>
                    <a:pt x="3024" y="856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1"/>
                  </a:lnTo>
                  <a:lnTo>
                    <a:pt x="2283" y="826"/>
                  </a:lnTo>
                  <a:lnTo>
                    <a:pt x="2098" y="831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7"/>
                  </a:lnTo>
                  <a:lnTo>
                    <a:pt x="1460" y="860"/>
                  </a:lnTo>
                  <a:lnTo>
                    <a:pt x="1296" y="868"/>
                  </a:lnTo>
                  <a:lnTo>
                    <a:pt x="1172" y="885"/>
                  </a:lnTo>
                  <a:lnTo>
                    <a:pt x="1028" y="897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8"/>
                  </a:lnTo>
                  <a:lnTo>
                    <a:pt x="555" y="968"/>
                  </a:lnTo>
                  <a:lnTo>
                    <a:pt x="452" y="985"/>
                  </a:lnTo>
                  <a:lnTo>
                    <a:pt x="370" y="1006"/>
                  </a:lnTo>
                  <a:lnTo>
                    <a:pt x="288" y="1023"/>
                  </a:lnTo>
                  <a:lnTo>
                    <a:pt x="205" y="1039"/>
                  </a:lnTo>
                  <a:lnTo>
                    <a:pt x="144" y="1060"/>
                  </a:lnTo>
                  <a:lnTo>
                    <a:pt x="82" y="1073"/>
                  </a:lnTo>
                  <a:lnTo>
                    <a:pt x="41" y="1089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43400" y="219240"/>
              <a:ext cx="284904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79"/>
                  </a:lnTo>
                  <a:lnTo>
                    <a:pt x="41" y="267"/>
                  </a:lnTo>
                  <a:lnTo>
                    <a:pt x="82" y="250"/>
                  </a:lnTo>
                  <a:lnTo>
                    <a:pt x="144" y="233"/>
                  </a:lnTo>
                  <a:lnTo>
                    <a:pt x="205" y="213"/>
                  </a:lnTo>
                  <a:lnTo>
                    <a:pt x="288" y="196"/>
                  </a:lnTo>
                  <a:lnTo>
                    <a:pt x="370" y="179"/>
                  </a:lnTo>
                  <a:lnTo>
                    <a:pt x="452" y="158"/>
                  </a:lnTo>
                  <a:lnTo>
                    <a:pt x="555" y="142"/>
                  </a:lnTo>
                  <a:lnTo>
                    <a:pt x="658" y="121"/>
                  </a:lnTo>
                  <a:lnTo>
                    <a:pt x="781" y="104"/>
                  </a:lnTo>
                  <a:lnTo>
                    <a:pt x="884" y="87"/>
                  </a:lnTo>
                  <a:lnTo>
                    <a:pt x="1008" y="71"/>
                  </a:lnTo>
                  <a:lnTo>
                    <a:pt x="1152" y="54"/>
                  </a:lnTo>
                  <a:lnTo>
                    <a:pt x="1296" y="41"/>
                  </a:lnTo>
                  <a:lnTo>
                    <a:pt x="1440" y="29"/>
                  </a:lnTo>
                  <a:lnTo>
                    <a:pt x="1604" y="21"/>
                  </a:lnTo>
                  <a:lnTo>
                    <a:pt x="1748" y="12"/>
                  </a:lnTo>
                  <a:lnTo>
                    <a:pt x="1913" y="4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0"/>
                  </a:lnTo>
                  <a:lnTo>
                    <a:pt x="2633" y="8"/>
                  </a:lnTo>
                  <a:lnTo>
                    <a:pt x="2818" y="16"/>
                  </a:lnTo>
                  <a:lnTo>
                    <a:pt x="3024" y="25"/>
                  </a:lnTo>
                  <a:lnTo>
                    <a:pt x="3209" y="41"/>
                  </a:lnTo>
                  <a:lnTo>
                    <a:pt x="3415" y="62"/>
                  </a:lnTo>
                  <a:lnTo>
                    <a:pt x="3620" y="83"/>
                  </a:lnTo>
                  <a:lnTo>
                    <a:pt x="3826" y="112"/>
                  </a:lnTo>
                  <a:lnTo>
                    <a:pt x="4052" y="146"/>
                  </a:lnTo>
                  <a:lnTo>
                    <a:pt x="4258" y="183"/>
                  </a:lnTo>
                  <a:lnTo>
                    <a:pt x="4484" y="229"/>
                  </a:lnTo>
                  <a:lnTo>
                    <a:pt x="4690" y="275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4"/>
                  </a:lnTo>
                  <a:lnTo>
                    <a:pt x="4052" y="976"/>
                  </a:lnTo>
                  <a:lnTo>
                    <a:pt x="3847" y="943"/>
                  </a:lnTo>
                  <a:lnTo>
                    <a:pt x="3641" y="914"/>
                  </a:lnTo>
                  <a:lnTo>
                    <a:pt x="3435" y="889"/>
                  </a:lnTo>
                  <a:lnTo>
                    <a:pt x="3229" y="872"/>
                  </a:lnTo>
                  <a:lnTo>
                    <a:pt x="3024" y="855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0"/>
                  </a:lnTo>
                  <a:lnTo>
                    <a:pt x="2283" y="826"/>
                  </a:lnTo>
                  <a:lnTo>
                    <a:pt x="2098" y="830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7"/>
                  </a:lnTo>
                  <a:lnTo>
                    <a:pt x="1460" y="855"/>
                  </a:lnTo>
                  <a:lnTo>
                    <a:pt x="1296" y="868"/>
                  </a:lnTo>
                  <a:lnTo>
                    <a:pt x="1172" y="880"/>
                  </a:lnTo>
                  <a:lnTo>
                    <a:pt x="1028" y="897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7"/>
                  </a:lnTo>
                  <a:lnTo>
                    <a:pt x="555" y="968"/>
                  </a:lnTo>
                  <a:lnTo>
                    <a:pt x="452" y="985"/>
                  </a:lnTo>
                  <a:lnTo>
                    <a:pt x="370" y="1001"/>
                  </a:lnTo>
                  <a:lnTo>
                    <a:pt x="288" y="1022"/>
                  </a:lnTo>
                  <a:lnTo>
                    <a:pt x="205" y="1039"/>
                  </a:lnTo>
                  <a:lnTo>
                    <a:pt x="144" y="1056"/>
                  </a:lnTo>
                  <a:lnTo>
                    <a:pt x="82" y="1077"/>
                  </a:lnTo>
                  <a:lnTo>
                    <a:pt x="41" y="1089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6240" y="314280"/>
              <a:ext cx="284904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79"/>
                  </a:lnTo>
                  <a:lnTo>
                    <a:pt x="4670" y="267"/>
                  </a:lnTo>
                  <a:lnTo>
                    <a:pt x="4608" y="250"/>
                  </a:lnTo>
                  <a:lnTo>
                    <a:pt x="4567" y="233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79"/>
                  </a:lnTo>
                  <a:lnTo>
                    <a:pt x="4259" y="158"/>
                  </a:lnTo>
                  <a:lnTo>
                    <a:pt x="4156" y="141"/>
                  </a:lnTo>
                  <a:lnTo>
                    <a:pt x="4053" y="125"/>
                  </a:lnTo>
                  <a:lnTo>
                    <a:pt x="3930" y="104"/>
                  </a:lnTo>
                  <a:lnTo>
                    <a:pt x="3806" y="87"/>
                  </a:lnTo>
                  <a:lnTo>
                    <a:pt x="3683" y="70"/>
                  </a:lnTo>
                  <a:lnTo>
                    <a:pt x="3559" y="58"/>
                  </a:lnTo>
                  <a:lnTo>
                    <a:pt x="3415" y="41"/>
                  </a:lnTo>
                  <a:lnTo>
                    <a:pt x="3271" y="29"/>
                  </a:lnTo>
                  <a:lnTo>
                    <a:pt x="3107" y="20"/>
                  </a:lnTo>
                  <a:lnTo>
                    <a:pt x="2963" y="12"/>
                  </a:lnTo>
                  <a:lnTo>
                    <a:pt x="2798" y="4"/>
                  </a:lnTo>
                  <a:lnTo>
                    <a:pt x="2613" y="4"/>
                  </a:lnTo>
                  <a:lnTo>
                    <a:pt x="2448" y="0"/>
                  </a:lnTo>
                  <a:lnTo>
                    <a:pt x="2263" y="4"/>
                  </a:lnTo>
                  <a:lnTo>
                    <a:pt x="2078" y="8"/>
                  </a:lnTo>
                  <a:lnTo>
                    <a:pt x="1872" y="16"/>
                  </a:lnTo>
                  <a:lnTo>
                    <a:pt x="1687" y="29"/>
                  </a:lnTo>
                  <a:lnTo>
                    <a:pt x="1502" y="41"/>
                  </a:lnTo>
                  <a:lnTo>
                    <a:pt x="1276" y="62"/>
                  </a:lnTo>
                  <a:lnTo>
                    <a:pt x="1091" y="87"/>
                  </a:lnTo>
                  <a:lnTo>
                    <a:pt x="864" y="116"/>
                  </a:lnTo>
                  <a:lnTo>
                    <a:pt x="659" y="146"/>
                  </a:lnTo>
                  <a:lnTo>
                    <a:pt x="453" y="183"/>
                  </a:lnTo>
                  <a:lnTo>
                    <a:pt x="227" y="229"/>
                  </a:lnTo>
                  <a:lnTo>
                    <a:pt x="0" y="275"/>
                  </a:lnTo>
                  <a:lnTo>
                    <a:pt x="0" y="1106"/>
                  </a:lnTo>
                  <a:lnTo>
                    <a:pt x="206" y="1060"/>
                  </a:lnTo>
                  <a:lnTo>
                    <a:pt x="432" y="1014"/>
                  </a:lnTo>
                  <a:lnTo>
                    <a:pt x="659" y="976"/>
                  </a:lnTo>
                  <a:lnTo>
                    <a:pt x="864" y="943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2"/>
                  </a:lnTo>
                  <a:lnTo>
                    <a:pt x="1667" y="855"/>
                  </a:lnTo>
                  <a:lnTo>
                    <a:pt x="1872" y="843"/>
                  </a:lnTo>
                  <a:lnTo>
                    <a:pt x="2058" y="834"/>
                  </a:lnTo>
                  <a:lnTo>
                    <a:pt x="2243" y="830"/>
                  </a:lnTo>
                  <a:lnTo>
                    <a:pt x="2428" y="830"/>
                  </a:lnTo>
                  <a:lnTo>
                    <a:pt x="2592" y="830"/>
                  </a:lnTo>
                  <a:lnTo>
                    <a:pt x="2778" y="834"/>
                  </a:lnTo>
                  <a:lnTo>
                    <a:pt x="2942" y="838"/>
                  </a:lnTo>
                  <a:lnTo>
                    <a:pt x="3107" y="847"/>
                  </a:lnTo>
                  <a:lnTo>
                    <a:pt x="3251" y="859"/>
                  </a:lnTo>
                  <a:lnTo>
                    <a:pt x="3395" y="868"/>
                  </a:lnTo>
                  <a:lnTo>
                    <a:pt x="3539" y="884"/>
                  </a:lnTo>
                  <a:lnTo>
                    <a:pt x="3683" y="897"/>
                  </a:lnTo>
                  <a:lnTo>
                    <a:pt x="3806" y="914"/>
                  </a:lnTo>
                  <a:lnTo>
                    <a:pt x="3930" y="930"/>
                  </a:lnTo>
                  <a:lnTo>
                    <a:pt x="4053" y="951"/>
                  </a:lnTo>
                  <a:lnTo>
                    <a:pt x="4156" y="968"/>
                  </a:lnTo>
                  <a:lnTo>
                    <a:pt x="4238" y="985"/>
                  </a:lnTo>
                  <a:lnTo>
                    <a:pt x="4341" y="1005"/>
                  </a:lnTo>
                  <a:lnTo>
                    <a:pt x="4423" y="1022"/>
                  </a:lnTo>
                  <a:lnTo>
                    <a:pt x="4485" y="1043"/>
                  </a:lnTo>
                  <a:lnTo>
                    <a:pt x="4567" y="1060"/>
                  </a:lnTo>
                  <a:lnTo>
                    <a:pt x="4608" y="1076"/>
                  </a:lnTo>
                  <a:lnTo>
                    <a:pt x="4670" y="1093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06240" y="267480"/>
              <a:ext cx="284904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80"/>
                  </a:lnTo>
                  <a:lnTo>
                    <a:pt x="4670" y="267"/>
                  </a:lnTo>
                  <a:lnTo>
                    <a:pt x="4608" y="251"/>
                  </a:lnTo>
                  <a:lnTo>
                    <a:pt x="4567" y="234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80"/>
                  </a:lnTo>
                  <a:lnTo>
                    <a:pt x="4259" y="163"/>
                  </a:lnTo>
                  <a:lnTo>
                    <a:pt x="4156" y="142"/>
                  </a:lnTo>
                  <a:lnTo>
                    <a:pt x="4053" y="121"/>
                  </a:lnTo>
                  <a:lnTo>
                    <a:pt x="3930" y="105"/>
                  </a:lnTo>
                  <a:lnTo>
                    <a:pt x="3806" y="88"/>
                  </a:lnTo>
                  <a:lnTo>
                    <a:pt x="3683" y="71"/>
                  </a:lnTo>
                  <a:lnTo>
                    <a:pt x="3559" y="59"/>
                  </a:lnTo>
                  <a:lnTo>
                    <a:pt x="3415" y="42"/>
                  </a:lnTo>
                  <a:lnTo>
                    <a:pt x="3271" y="29"/>
                  </a:lnTo>
                  <a:lnTo>
                    <a:pt x="3107" y="21"/>
                  </a:lnTo>
                  <a:lnTo>
                    <a:pt x="2963" y="13"/>
                  </a:lnTo>
                  <a:lnTo>
                    <a:pt x="2798" y="9"/>
                  </a:lnTo>
                  <a:lnTo>
                    <a:pt x="2613" y="0"/>
                  </a:lnTo>
                  <a:lnTo>
                    <a:pt x="2448" y="0"/>
                  </a:lnTo>
                  <a:lnTo>
                    <a:pt x="2263" y="0"/>
                  </a:lnTo>
                  <a:lnTo>
                    <a:pt x="2078" y="9"/>
                  </a:lnTo>
                  <a:lnTo>
                    <a:pt x="1872" y="17"/>
                  </a:lnTo>
                  <a:lnTo>
                    <a:pt x="1687" y="29"/>
                  </a:lnTo>
                  <a:lnTo>
                    <a:pt x="1502" y="42"/>
                  </a:lnTo>
                  <a:lnTo>
                    <a:pt x="1276" y="63"/>
                  </a:lnTo>
                  <a:lnTo>
                    <a:pt x="1091" y="88"/>
                  </a:lnTo>
                  <a:lnTo>
                    <a:pt x="864" y="113"/>
                  </a:lnTo>
                  <a:lnTo>
                    <a:pt x="659" y="150"/>
                  </a:lnTo>
                  <a:lnTo>
                    <a:pt x="453" y="188"/>
                  </a:lnTo>
                  <a:lnTo>
                    <a:pt x="227" y="230"/>
                  </a:lnTo>
                  <a:lnTo>
                    <a:pt x="0" y="276"/>
                  </a:lnTo>
                  <a:lnTo>
                    <a:pt x="0" y="1106"/>
                  </a:lnTo>
                  <a:lnTo>
                    <a:pt x="206" y="1060"/>
                  </a:lnTo>
                  <a:lnTo>
                    <a:pt x="432" y="1014"/>
                  </a:lnTo>
                  <a:lnTo>
                    <a:pt x="659" y="977"/>
                  </a:lnTo>
                  <a:lnTo>
                    <a:pt x="864" y="944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3"/>
                  </a:lnTo>
                  <a:lnTo>
                    <a:pt x="1667" y="856"/>
                  </a:lnTo>
                  <a:lnTo>
                    <a:pt x="1872" y="848"/>
                  </a:lnTo>
                  <a:lnTo>
                    <a:pt x="2058" y="835"/>
                  </a:lnTo>
                  <a:lnTo>
                    <a:pt x="2243" y="831"/>
                  </a:lnTo>
                  <a:lnTo>
                    <a:pt x="2428" y="831"/>
                  </a:lnTo>
                  <a:lnTo>
                    <a:pt x="2592" y="831"/>
                  </a:lnTo>
                  <a:lnTo>
                    <a:pt x="2778" y="835"/>
                  </a:lnTo>
                  <a:lnTo>
                    <a:pt x="2942" y="839"/>
                  </a:lnTo>
                  <a:lnTo>
                    <a:pt x="3107" y="848"/>
                  </a:lnTo>
                  <a:lnTo>
                    <a:pt x="3251" y="856"/>
                  </a:lnTo>
                  <a:lnTo>
                    <a:pt x="3395" y="873"/>
                  </a:lnTo>
                  <a:lnTo>
                    <a:pt x="3539" y="885"/>
                  </a:lnTo>
                  <a:lnTo>
                    <a:pt x="3683" y="898"/>
                  </a:lnTo>
                  <a:lnTo>
                    <a:pt x="3806" y="914"/>
                  </a:lnTo>
                  <a:lnTo>
                    <a:pt x="3930" y="931"/>
                  </a:lnTo>
                  <a:lnTo>
                    <a:pt x="4053" y="948"/>
                  </a:lnTo>
                  <a:lnTo>
                    <a:pt x="4156" y="969"/>
                  </a:lnTo>
                  <a:lnTo>
                    <a:pt x="4238" y="985"/>
                  </a:lnTo>
                  <a:lnTo>
                    <a:pt x="4341" y="1006"/>
                  </a:lnTo>
                  <a:lnTo>
                    <a:pt x="4423" y="1023"/>
                  </a:lnTo>
                  <a:lnTo>
                    <a:pt x="4485" y="1044"/>
                  </a:lnTo>
                  <a:lnTo>
                    <a:pt x="4567" y="1060"/>
                  </a:lnTo>
                  <a:lnTo>
                    <a:pt x="4608" y="1077"/>
                  </a:lnTo>
                  <a:lnTo>
                    <a:pt x="4670" y="1090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06240" y="221400"/>
              <a:ext cx="284904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80"/>
                  </a:lnTo>
                  <a:lnTo>
                    <a:pt x="4670" y="267"/>
                  </a:lnTo>
                  <a:lnTo>
                    <a:pt x="4608" y="250"/>
                  </a:lnTo>
                  <a:lnTo>
                    <a:pt x="4567" y="234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79"/>
                  </a:lnTo>
                  <a:lnTo>
                    <a:pt x="4259" y="159"/>
                  </a:lnTo>
                  <a:lnTo>
                    <a:pt x="4156" y="142"/>
                  </a:lnTo>
                  <a:lnTo>
                    <a:pt x="4053" y="125"/>
                  </a:lnTo>
                  <a:lnTo>
                    <a:pt x="3930" y="104"/>
                  </a:lnTo>
                  <a:lnTo>
                    <a:pt x="3806" y="88"/>
                  </a:lnTo>
                  <a:lnTo>
                    <a:pt x="3683" y="71"/>
                  </a:lnTo>
                  <a:lnTo>
                    <a:pt x="3559" y="54"/>
                  </a:lnTo>
                  <a:lnTo>
                    <a:pt x="3415" y="42"/>
                  </a:lnTo>
                  <a:lnTo>
                    <a:pt x="3271" y="29"/>
                  </a:lnTo>
                  <a:lnTo>
                    <a:pt x="3107" y="21"/>
                  </a:lnTo>
                  <a:lnTo>
                    <a:pt x="2963" y="12"/>
                  </a:lnTo>
                  <a:lnTo>
                    <a:pt x="2798" y="4"/>
                  </a:lnTo>
                  <a:lnTo>
                    <a:pt x="2613" y="0"/>
                  </a:lnTo>
                  <a:lnTo>
                    <a:pt x="2448" y="0"/>
                  </a:lnTo>
                  <a:lnTo>
                    <a:pt x="2263" y="4"/>
                  </a:lnTo>
                  <a:lnTo>
                    <a:pt x="2078" y="8"/>
                  </a:lnTo>
                  <a:lnTo>
                    <a:pt x="1872" y="17"/>
                  </a:lnTo>
                  <a:lnTo>
                    <a:pt x="1687" y="29"/>
                  </a:lnTo>
                  <a:lnTo>
                    <a:pt x="1502" y="42"/>
                  </a:lnTo>
                  <a:lnTo>
                    <a:pt x="1276" y="63"/>
                  </a:lnTo>
                  <a:lnTo>
                    <a:pt x="1091" y="88"/>
                  </a:lnTo>
                  <a:lnTo>
                    <a:pt x="864" y="113"/>
                  </a:lnTo>
                  <a:lnTo>
                    <a:pt x="659" y="146"/>
                  </a:lnTo>
                  <a:lnTo>
                    <a:pt x="453" y="184"/>
                  </a:lnTo>
                  <a:lnTo>
                    <a:pt x="227" y="229"/>
                  </a:lnTo>
                  <a:lnTo>
                    <a:pt x="0" y="275"/>
                  </a:lnTo>
                  <a:lnTo>
                    <a:pt x="0" y="1106"/>
                  </a:lnTo>
                  <a:lnTo>
                    <a:pt x="206" y="1056"/>
                  </a:lnTo>
                  <a:lnTo>
                    <a:pt x="432" y="1014"/>
                  </a:lnTo>
                  <a:lnTo>
                    <a:pt x="659" y="977"/>
                  </a:lnTo>
                  <a:lnTo>
                    <a:pt x="864" y="943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2"/>
                  </a:lnTo>
                  <a:lnTo>
                    <a:pt x="1667" y="856"/>
                  </a:lnTo>
                  <a:lnTo>
                    <a:pt x="1872" y="843"/>
                  </a:lnTo>
                  <a:lnTo>
                    <a:pt x="2058" y="835"/>
                  </a:lnTo>
                  <a:lnTo>
                    <a:pt x="2243" y="831"/>
                  </a:lnTo>
                  <a:lnTo>
                    <a:pt x="2428" y="831"/>
                  </a:lnTo>
                  <a:lnTo>
                    <a:pt x="2592" y="831"/>
                  </a:lnTo>
                  <a:lnTo>
                    <a:pt x="2778" y="835"/>
                  </a:lnTo>
                  <a:lnTo>
                    <a:pt x="2942" y="839"/>
                  </a:lnTo>
                  <a:lnTo>
                    <a:pt x="3107" y="847"/>
                  </a:lnTo>
                  <a:lnTo>
                    <a:pt x="3251" y="856"/>
                  </a:lnTo>
                  <a:lnTo>
                    <a:pt x="3395" y="868"/>
                  </a:lnTo>
                  <a:lnTo>
                    <a:pt x="3539" y="885"/>
                  </a:lnTo>
                  <a:lnTo>
                    <a:pt x="3683" y="897"/>
                  </a:lnTo>
                  <a:lnTo>
                    <a:pt x="3806" y="914"/>
                  </a:lnTo>
                  <a:lnTo>
                    <a:pt x="3930" y="931"/>
                  </a:lnTo>
                  <a:lnTo>
                    <a:pt x="4053" y="947"/>
                  </a:lnTo>
                  <a:lnTo>
                    <a:pt x="4156" y="968"/>
                  </a:lnTo>
                  <a:lnTo>
                    <a:pt x="4238" y="985"/>
                  </a:lnTo>
                  <a:lnTo>
                    <a:pt x="4341" y="1006"/>
                  </a:lnTo>
                  <a:lnTo>
                    <a:pt x="4423" y="1023"/>
                  </a:lnTo>
                  <a:lnTo>
                    <a:pt x="4485" y="1039"/>
                  </a:lnTo>
                  <a:lnTo>
                    <a:pt x="4567" y="1056"/>
                  </a:lnTo>
                  <a:lnTo>
                    <a:pt x="4608" y="1073"/>
                  </a:lnTo>
                  <a:lnTo>
                    <a:pt x="4670" y="1093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1197000" y="324000"/>
            <a:ext cx="4764240" cy="420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تب الحروف الممدودة بالألف في الغيمة المقاب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2395440" y="4883040"/>
            <a:ext cx="3810240" cy="816120"/>
            <a:chOff x="2395440" y="4883040"/>
            <a:chExt cx="3810240" cy="816120"/>
          </a:xfrm>
        </p:grpSpPr>
        <p:sp>
          <p:nvSpPr>
            <p:cNvPr id="1488" name=""/>
            <p:cNvSpPr/>
            <p:nvPr/>
          </p:nvSpPr>
          <p:spPr>
            <a:xfrm>
              <a:off x="2395440" y="5058000"/>
              <a:ext cx="3810240" cy="641160"/>
            </a:xfrm>
            <a:custGeom>
              <a:avLst/>
              <a:gdLst/>
              <a:ahLst/>
              <a:rect l="l" t="t" r="r" b="b"/>
              <a:pathLst>
                <a:path w="9586" h="1044">
                  <a:moveTo>
                    <a:pt x="4793" y="1044"/>
                  </a:moveTo>
                  <a:lnTo>
                    <a:pt x="4752" y="1044"/>
                  </a:lnTo>
                  <a:lnTo>
                    <a:pt x="4731" y="1044"/>
                  </a:lnTo>
                  <a:lnTo>
                    <a:pt x="4710" y="1044"/>
                  </a:lnTo>
                  <a:lnTo>
                    <a:pt x="4669" y="1044"/>
                  </a:lnTo>
                  <a:lnTo>
                    <a:pt x="4649" y="1044"/>
                  </a:lnTo>
                  <a:lnTo>
                    <a:pt x="4628" y="1044"/>
                  </a:lnTo>
                  <a:lnTo>
                    <a:pt x="4608" y="1044"/>
                  </a:lnTo>
                  <a:lnTo>
                    <a:pt x="4587" y="1044"/>
                  </a:lnTo>
                  <a:lnTo>
                    <a:pt x="4546" y="1044"/>
                  </a:lnTo>
                  <a:lnTo>
                    <a:pt x="4505" y="1044"/>
                  </a:lnTo>
                  <a:lnTo>
                    <a:pt x="4484" y="1044"/>
                  </a:lnTo>
                  <a:lnTo>
                    <a:pt x="4422" y="1044"/>
                  </a:lnTo>
                  <a:lnTo>
                    <a:pt x="4381" y="1044"/>
                  </a:lnTo>
                  <a:lnTo>
                    <a:pt x="4299" y="1044"/>
                  </a:lnTo>
                  <a:lnTo>
                    <a:pt x="4237" y="1044"/>
                  </a:lnTo>
                  <a:lnTo>
                    <a:pt x="4134" y="1044"/>
                  </a:lnTo>
                  <a:lnTo>
                    <a:pt x="4073" y="1035"/>
                  </a:lnTo>
                  <a:lnTo>
                    <a:pt x="4011" y="1031"/>
                  </a:lnTo>
                  <a:lnTo>
                    <a:pt x="3949" y="1027"/>
                  </a:lnTo>
                  <a:lnTo>
                    <a:pt x="3888" y="1019"/>
                  </a:lnTo>
                  <a:lnTo>
                    <a:pt x="3826" y="1010"/>
                  </a:lnTo>
                  <a:lnTo>
                    <a:pt x="3764" y="1006"/>
                  </a:lnTo>
                  <a:lnTo>
                    <a:pt x="3723" y="998"/>
                  </a:lnTo>
                  <a:lnTo>
                    <a:pt x="3682" y="989"/>
                  </a:lnTo>
                  <a:lnTo>
                    <a:pt x="3641" y="981"/>
                  </a:lnTo>
                  <a:lnTo>
                    <a:pt x="3620" y="973"/>
                  </a:lnTo>
                  <a:lnTo>
                    <a:pt x="3579" y="964"/>
                  </a:lnTo>
                  <a:lnTo>
                    <a:pt x="3558" y="960"/>
                  </a:lnTo>
                  <a:lnTo>
                    <a:pt x="3538" y="948"/>
                  </a:lnTo>
                  <a:lnTo>
                    <a:pt x="3517" y="939"/>
                  </a:lnTo>
                  <a:lnTo>
                    <a:pt x="3517" y="931"/>
                  </a:lnTo>
                  <a:lnTo>
                    <a:pt x="3517" y="923"/>
                  </a:lnTo>
                  <a:lnTo>
                    <a:pt x="3497" y="919"/>
                  </a:lnTo>
                  <a:lnTo>
                    <a:pt x="3456" y="914"/>
                  </a:lnTo>
                  <a:lnTo>
                    <a:pt x="3414" y="914"/>
                  </a:lnTo>
                  <a:lnTo>
                    <a:pt x="3353" y="914"/>
                  </a:lnTo>
                  <a:lnTo>
                    <a:pt x="3270" y="914"/>
                  </a:lnTo>
                  <a:lnTo>
                    <a:pt x="3188" y="914"/>
                  </a:lnTo>
                  <a:lnTo>
                    <a:pt x="3085" y="914"/>
                  </a:lnTo>
                  <a:lnTo>
                    <a:pt x="2962" y="919"/>
                  </a:lnTo>
                  <a:lnTo>
                    <a:pt x="2818" y="923"/>
                  </a:lnTo>
                  <a:lnTo>
                    <a:pt x="2694" y="927"/>
                  </a:lnTo>
                  <a:lnTo>
                    <a:pt x="2550" y="931"/>
                  </a:lnTo>
                  <a:lnTo>
                    <a:pt x="2386" y="939"/>
                  </a:lnTo>
                  <a:lnTo>
                    <a:pt x="2242" y="944"/>
                  </a:lnTo>
                  <a:lnTo>
                    <a:pt x="2077" y="948"/>
                  </a:lnTo>
                  <a:lnTo>
                    <a:pt x="1913" y="956"/>
                  </a:lnTo>
                  <a:lnTo>
                    <a:pt x="1748" y="964"/>
                  </a:lnTo>
                  <a:lnTo>
                    <a:pt x="1584" y="969"/>
                  </a:lnTo>
                  <a:lnTo>
                    <a:pt x="1419" y="977"/>
                  </a:lnTo>
                  <a:lnTo>
                    <a:pt x="1254" y="985"/>
                  </a:lnTo>
                  <a:lnTo>
                    <a:pt x="1110" y="989"/>
                  </a:lnTo>
                  <a:lnTo>
                    <a:pt x="966" y="998"/>
                  </a:lnTo>
                  <a:lnTo>
                    <a:pt x="802" y="1006"/>
                  </a:lnTo>
                  <a:lnTo>
                    <a:pt x="678" y="1010"/>
                  </a:lnTo>
                  <a:lnTo>
                    <a:pt x="534" y="1015"/>
                  </a:lnTo>
                  <a:lnTo>
                    <a:pt x="432" y="1023"/>
                  </a:lnTo>
                  <a:lnTo>
                    <a:pt x="329" y="1027"/>
                  </a:lnTo>
                  <a:lnTo>
                    <a:pt x="226" y="1031"/>
                  </a:lnTo>
                  <a:lnTo>
                    <a:pt x="144" y="1035"/>
                  </a:lnTo>
                  <a:lnTo>
                    <a:pt x="82" y="1040"/>
                  </a:lnTo>
                  <a:lnTo>
                    <a:pt x="41" y="1044"/>
                  </a:lnTo>
                  <a:lnTo>
                    <a:pt x="0" y="1044"/>
                  </a:lnTo>
                  <a:lnTo>
                    <a:pt x="0" y="1044"/>
                  </a:lnTo>
                  <a:lnTo>
                    <a:pt x="0" y="860"/>
                  </a:lnTo>
                  <a:lnTo>
                    <a:pt x="0" y="718"/>
                  </a:lnTo>
                  <a:lnTo>
                    <a:pt x="0" y="49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1" y="67"/>
                  </a:lnTo>
                  <a:lnTo>
                    <a:pt x="61" y="67"/>
                  </a:lnTo>
                  <a:lnTo>
                    <a:pt x="123" y="63"/>
                  </a:lnTo>
                  <a:lnTo>
                    <a:pt x="205" y="63"/>
                  </a:lnTo>
                  <a:lnTo>
                    <a:pt x="288" y="59"/>
                  </a:lnTo>
                  <a:lnTo>
                    <a:pt x="370" y="55"/>
                  </a:lnTo>
                  <a:lnTo>
                    <a:pt x="473" y="55"/>
                  </a:lnTo>
                  <a:lnTo>
                    <a:pt x="596" y="50"/>
                  </a:lnTo>
                  <a:lnTo>
                    <a:pt x="720" y="46"/>
                  </a:lnTo>
                  <a:lnTo>
                    <a:pt x="843" y="42"/>
                  </a:lnTo>
                  <a:lnTo>
                    <a:pt x="987" y="42"/>
                  </a:lnTo>
                  <a:lnTo>
                    <a:pt x="1131" y="38"/>
                  </a:lnTo>
                  <a:lnTo>
                    <a:pt x="1275" y="34"/>
                  </a:lnTo>
                  <a:lnTo>
                    <a:pt x="1419" y="29"/>
                  </a:lnTo>
                  <a:lnTo>
                    <a:pt x="1584" y="25"/>
                  </a:lnTo>
                  <a:lnTo>
                    <a:pt x="1728" y="21"/>
                  </a:lnTo>
                  <a:lnTo>
                    <a:pt x="1872" y="21"/>
                  </a:lnTo>
                  <a:lnTo>
                    <a:pt x="2036" y="17"/>
                  </a:lnTo>
                  <a:lnTo>
                    <a:pt x="2180" y="13"/>
                  </a:lnTo>
                  <a:lnTo>
                    <a:pt x="2345" y="13"/>
                  </a:lnTo>
                  <a:lnTo>
                    <a:pt x="2489" y="9"/>
                  </a:lnTo>
                  <a:lnTo>
                    <a:pt x="2612" y="4"/>
                  </a:lnTo>
                  <a:lnTo>
                    <a:pt x="2756" y="4"/>
                  </a:lnTo>
                  <a:lnTo>
                    <a:pt x="2880" y="4"/>
                  </a:lnTo>
                  <a:lnTo>
                    <a:pt x="3003" y="0"/>
                  </a:lnTo>
                  <a:lnTo>
                    <a:pt x="3106" y="0"/>
                  </a:lnTo>
                  <a:lnTo>
                    <a:pt x="3209" y="0"/>
                  </a:lnTo>
                  <a:lnTo>
                    <a:pt x="3291" y="0"/>
                  </a:lnTo>
                  <a:lnTo>
                    <a:pt x="3373" y="0"/>
                  </a:lnTo>
                  <a:lnTo>
                    <a:pt x="3435" y="4"/>
                  </a:lnTo>
                  <a:lnTo>
                    <a:pt x="3497" y="4"/>
                  </a:lnTo>
                  <a:lnTo>
                    <a:pt x="3579" y="13"/>
                  </a:lnTo>
                  <a:lnTo>
                    <a:pt x="3641" y="17"/>
                  </a:lnTo>
                  <a:lnTo>
                    <a:pt x="3682" y="25"/>
                  </a:lnTo>
                  <a:lnTo>
                    <a:pt x="3723" y="34"/>
                  </a:lnTo>
                  <a:lnTo>
                    <a:pt x="3744" y="42"/>
                  </a:lnTo>
                  <a:lnTo>
                    <a:pt x="3785" y="55"/>
                  </a:lnTo>
                  <a:lnTo>
                    <a:pt x="3805" y="63"/>
                  </a:lnTo>
                  <a:lnTo>
                    <a:pt x="3826" y="71"/>
                  </a:lnTo>
                  <a:lnTo>
                    <a:pt x="3826" y="84"/>
                  </a:lnTo>
                  <a:lnTo>
                    <a:pt x="3846" y="92"/>
                  </a:lnTo>
                  <a:lnTo>
                    <a:pt x="3888" y="100"/>
                  </a:lnTo>
                  <a:lnTo>
                    <a:pt x="3908" y="109"/>
                  </a:lnTo>
                  <a:lnTo>
                    <a:pt x="3949" y="117"/>
                  </a:lnTo>
                  <a:lnTo>
                    <a:pt x="3990" y="121"/>
                  </a:lnTo>
                  <a:lnTo>
                    <a:pt x="4073" y="130"/>
                  </a:lnTo>
                  <a:lnTo>
                    <a:pt x="4134" y="130"/>
                  </a:lnTo>
                  <a:lnTo>
                    <a:pt x="4176" y="130"/>
                  </a:lnTo>
                  <a:lnTo>
                    <a:pt x="4217" y="130"/>
                  </a:lnTo>
                  <a:lnTo>
                    <a:pt x="4237" y="130"/>
                  </a:lnTo>
                  <a:lnTo>
                    <a:pt x="4258" y="130"/>
                  </a:lnTo>
                  <a:lnTo>
                    <a:pt x="4278" y="130"/>
                  </a:lnTo>
                  <a:lnTo>
                    <a:pt x="4320" y="130"/>
                  </a:lnTo>
                  <a:lnTo>
                    <a:pt x="4340" y="130"/>
                  </a:lnTo>
                  <a:lnTo>
                    <a:pt x="4361" y="130"/>
                  </a:lnTo>
                  <a:lnTo>
                    <a:pt x="4381" y="130"/>
                  </a:lnTo>
                  <a:lnTo>
                    <a:pt x="4422" y="130"/>
                  </a:lnTo>
                  <a:lnTo>
                    <a:pt x="4464" y="130"/>
                  </a:lnTo>
                  <a:lnTo>
                    <a:pt x="4505" y="130"/>
                  </a:lnTo>
                  <a:lnTo>
                    <a:pt x="4566" y="130"/>
                  </a:lnTo>
                  <a:lnTo>
                    <a:pt x="4628" y="130"/>
                  </a:lnTo>
                  <a:lnTo>
                    <a:pt x="4710" y="134"/>
                  </a:lnTo>
                  <a:lnTo>
                    <a:pt x="4793" y="134"/>
                  </a:lnTo>
                  <a:lnTo>
                    <a:pt x="4834" y="134"/>
                  </a:lnTo>
                  <a:lnTo>
                    <a:pt x="4875" y="134"/>
                  </a:lnTo>
                  <a:lnTo>
                    <a:pt x="4896" y="134"/>
                  </a:lnTo>
                  <a:lnTo>
                    <a:pt x="4916" y="134"/>
                  </a:lnTo>
                  <a:lnTo>
                    <a:pt x="4937" y="134"/>
                  </a:lnTo>
                  <a:lnTo>
                    <a:pt x="4957" y="134"/>
                  </a:lnTo>
                  <a:lnTo>
                    <a:pt x="4998" y="134"/>
                  </a:lnTo>
                  <a:lnTo>
                    <a:pt x="5019" y="134"/>
                  </a:lnTo>
                  <a:lnTo>
                    <a:pt x="5040" y="134"/>
                  </a:lnTo>
                  <a:lnTo>
                    <a:pt x="5081" y="134"/>
                  </a:lnTo>
                  <a:lnTo>
                    <a:pt x="5122" y="134"/>
                  </a:lnTo>
                  <a:lnTo>
                    <a:pt x="5163" y="134"/>
                  </a:lnTo>
                  <a:lnTo>
                    <a:pt x="5225" y="134"/>
                  </a:lnTo>
                  <a:lnTo>
                    <a:pt x="5286" y="134"/>
                  </a:lnTo>
                  <a:lnTo>
                    <a:pt x="5348" y="134"/>
                  </a:lnTo>
                  <a:lnTo>
                    <a:pt x="5451" y="134"/>
                  </a:lnTo>
                  <a:lnTo>
                    <a:pt x="5533" y="130"/>
                  </a:lnTo>
                  <a:lnTo>
                    <a:pt x="5595" y="125"/>
                  </a:lnTo>
                  <a:lnTo>
                    <a:pt x="5636" y="117"/>
                  </a:lnTo>
                  <a:lnTo>
                    <a:pt x="5677" y="113"/>
                  </a:lnTo>
                  <a:lnTo>
                    <a:pt x="5718" y="105"/>
                  </a:lnTo>
                  <a:lnTo>
                    <a:pt x="5739" y="92"/>
                  </a:lnTo>
                  <a:lnTo>
                    <a:pt x="5760" y="84"/>
                  </a:lnTo>
                  <a:lnTo>
                    <a:pt x="5780" y="75"/>
                  </a:lnTo>
                  <a:lnTo>
                    <a:pt x="5801" y="67"/>
                  </a:lnTo>
                  <a:lnTo>
                    <a:pt x="5821" y="55"/>
                  </a:lnTo>
                  <a:lnTo>
                    <a:pt x="5842" y="46"/>
                  </a:lnTo>
                  <a:lnTo>
                    <a:pt x="5862" y="34"/>
                  </a:lnTo>
                  <a:lnTo>
                    <a:pt x="5904" y="25"/>
                  </a:lnTo>
                  <a:lnTo>
                    <a:pt x="5965" y="21"/>
                  </a:lnTo>
                  <a:lnTo>
                    <a:pt x="6027" y="13"/>
                  </a:lnTo>
                  <a:lnTo>
                    <a:pt x="6089" y="9"/>
                  </a:lnTo>
                  <a:lnTo>
                    <a:pt x="6150" y="4"/>
                  </a:lnTo>
                  <a:lnTo>
                    <a:pt x="6212" y="4"/>
                  </a:lnTo>
                  <a:lnTo>
                    <a:pt x="6294" y="4"/>
                  </a:lnTo>
                  <a:lnTo>
                    <a:pt x="6377" y="4"/>
                  </a:lnTo>
                  <a:lnTo>
                    <a:pt x="6480" y="4"/>
                  </a:lnTo>
                  <a:lnTo>
                    <a:pt x="6582" y="4"/>
                  </a:lnTo>
                  <a:lnTo>
                    <a:pt x="6706" y="4"/>
                  </a:lnTo>
                  <a:lnTo>
                    <a:pt x="6829" y="4"/>
                  </a:lnTo>
                  <a:lnTo>
                    <a:pt x="6973" y="9"/>
                  </a:lnTo>
                  <a:lnTo>
                    <a:pt x="7117" y="9"/>
                  </a:lnTo>
                  <a:lnTo>
                    <a:pt x="7261" y="13"/>
                  </a:lnTo>
                  <a:lnTo>
                    <a:pt x="7405" y="17"/>
                  </a:lnTo>
                  <a:lnTo>
                    <a:pt x="7549" y="17"/>
                  </a:lnTo>
                  <a:lnTo>
                    <a:pt x="7714" y="21"/>
                  </a:lnTo>
                  <a:lnTo>
                    <a:pt x="7858" y="25"/>
                  </a:lnTo>
                  <a:lnTo>
                    <a:pt x="8022" y="29"/>
                  </a:lnTo>
                  <a:lnTo>
                    <a:pt x="8166" y="29"/>
                  </a:lnTo>
                  <a:lnTo>
                    <a:pt x="8310" y="34"/>
                  </a:lnTo>
                  <a:lnTo>
                    <a:pt x="8475" y="38"/>
                  </a:lnTo>
                  <a:lnTo>
                    <a:pt x="8598" y="42"/>
                  </a:lnTo>
                  <a:lnTo>
                    <a:pt x="8742" y="46"/>
                  </a:lnTo>
                  <a:lnTo>
                    <a:pt x="8866" y="50"/>
                  </a:lnTo>
                  <a:lnTo>
                    <a:pt x="8989" y="50"/>
                  </a:lnTo>
                  <a:lnTo>
                    <a:pt x="9113" y="55"/>
                  </a:lnTo>
                  <a:lnTo>
                    <a:pt x="9216" y="59"/>
                  </a:lnTo>
                  <a:lnTo>
                    <a:pt x="9298" y="59"/>
                  </a:lnTo>
                  <a:lnTo>
                    <a:pt x="9380" y="63"/>
                  </a:lnTo>
                  <a:lnTo>
                    <a:pt x="9462" y="67"/>
                  </a:lnTo>
                  <a:lnTo>
                    <a:pt x="9504" y="67"/>
                  </a:lnTo>
                  <a:lnTo>
                    <a:pt x="9565" y="67"/>
                  </a:lnTo>
                  <a:lnTo>
                    <a:pt x="9586" y="67"/>
                  </a:lnTo>
                  <a:lnTo>
                    <a:pt x="9586" y="71"/>
                  </a:lnTo>
                  <a:lnTo>
                    <a:pt x="9586" y="251"/>
                  </a:lnTo>
                  <a:lnTo>
                    <a:pt x="9586" y="393"/>
                  </a:lnTo>
                  <a:lnTo>
                    <a:pt x="9586" y="618"/>
                  </a:lnTo>
                  <a:lnTo>
                    <a:pt x="9586" y="1044"/>
                  </a:lnTo>
                  <a:lnTo>
                    <a:pt x="9586" y="1044"/>
                  </a:lnTo>
                  <a:lnTo>
                    <a:pt x="9565" y="1044"/>
                  </a:lnTo>
                  <a:lnTo>
                    <a:pt x="9504" y="1040"/>
                  </a:lnTo>
                  <a:lnTo>
                    <a:pt x="9442" y="1035"/>
                  </a:lnTo>
                  <a:lnTo>
                    <a:pt x="9360" y="1031"/>
                  </a:lnTo>
                  <a:lnTo>
                    <a:pt x="9277" y="1031"/>
                  </a:lnTo>
                  <a:lnTo>
                    <a:pt x="9154" y="1023"/>
                  </a:lnTo>
                  <a:lnTo>
                    <a:pt x="9051" y="1019"/>
                  </a:lnTo>
                  <a:lnTo>
                    <a:pt x="8928" y="1010"/>
                  </a:lnTo>
                  <a:lnTo>
                    <a:pt x="8784" y="1006"/>
                  </a:lnTo>
                  <a:lnTo>
                    <a:pt x="8640" y="998"/>
                  </a:lnTo>
                  <a:lnTo>
                    <a:pt x="8475" y="994"/>
                  </a:lnTo>
                  <a:lnTo>
                    <a:pt x="8331" y="985"/>
                  </a:lnTo>
                  <a:lnTo>
                    <a:pt x="8166" y="977"/>
                  </a:lnTo>
                  <a:lnTo>
                    <a:pt x="8002" y="973"/>
                  </a:lnTo>
                  <a:lnTo>
                    <a:pt x="7837" y="964"/>
                  </a:lnTo>
                  <a:lnTo>
                    <a:pt x="7673" y="956"/>
                  </a:lnTo>
                  <a:lnTo>
                    <a:pt x="7508" y="952"/>
                  </a:lnTo>
                  <a:lnTo>
                    <a:pt x="7344" y="944"/>
                  </a:lnTo>
                  <a:lnTo>
                    <a:pt x="7200" y="939"/>
                  </a:lnTo>
                  <a:lnTo>
                    <a:pt x="7035" y="931"/>
                  </a:lnTo>
                  <a:lnTo>
                    <a:pt x="6891" y="927"/>
                  </a:lnTo>
                  <a:lnTo>
                    <a:pt x="6747" y="923"/>
                  </a:lnTo>
                  <a:lnTo>
                    <a:pt x="6624" y="919"/>
                  </a:lnTo>
                  <a:lnTo>
                    <a:pt x="6521" y="914"/>
                  </a:lnTo>
                  <a:lnTo>
                    <a:pt x="6397" y="914"/>
                  </a:lnTo>
                  <a:lnTo>
                    <a:pt x="6315" y="914"/>
                  </a:lnTo>
                  <a:lnTo>
                    <a:pt x="6233" y="914"/>
                  </a:lnTo>
                  <a:lnTo>
                    <a:pt x="6171" y="914"/>
                  </a:lnTo>
                  <a:lnTo>
                    <a:pt x="6109" y="914"/>
                  </a:lnTo>
                  <a:lnTo>
                    <a:pt x="6089" y="919"/>
                  </a:lnTo>
                  <a:lnTo>
                    <a:pt x="6089" y="923"/>
                  </a:lnTo>
                  <a:lnTo>
                    <a:pt x="6089" y="931"/>
                  </a:lnTo>
                  <a:lnTo>
                    <a:pt x="6068" y="944"/>
                  </a:lnTo>
                  <a:lnTo>
                    <a:pt x="6048" y="952"/>
                  </a:lnTo>
                  <a:lnTo>
                    <a:pt x="6027" y="960"/>
                  </a:lnTo>
                  <a:lnTo>
                    <a:pt x="6006" y="969"/>
                  </a:lnTo>
                  <a:lnTo>
                    <a:pt x="5986" y="977"/>
                  </a:lnTo>
                  <a:lnTo>
                    <a:pt x="5945" y="985"/>
                  </a:lnTo>
                  <a:lnTo>
                    <a:pt x="5904" y="989"/>
                  </a:lnTo>
                  <a:lnTo>
                    <a:pt x="5862" y="998"/>
                  </a:lnTo>
                  <a:lnTo>
                    <a:pt x="5821" y="1006"/>
                  </a:lnTo>
                  <a:lnTo>
                    <a:pt x="5760" y="1010"/>
                  </a:lnTo>
                  <a:lnTo>
                    <a:pt x="5698" y="1019"/>
                  </a:lnTo>
                  <a:lnTo>
                    <a:pt x="5657" y="1027"/>
                  </a:lnTo>
                  <a:lnTo>
                    <a:pt x="5595" y="1031"/>
                  </a:lnTo>
                  <a:lnTo>
                    <a:pt x="5513" y="1040"/>
                  </a:lnTo>
                  <a:lnTo>
                    <a:pt x="5451" y="1044"/>
                  </a:lnTo>
                  <a:lnTo>
                    <a:pt x="5410" y="1044"/>
                  </a:lnTo>
                  <a:lnTo>
                    <a:pt x="5369" y="1044"/>
                  </a:lnTo>
                  <a:lnTo>
                    <a:pt x="5348" y="1044"/>
                  </a:lnTo>
                  <a:lnTo>
                    <a:pt x="5328" y="1044"/>
                  </a:lnTo>
                  <a:lnTo>
                    <a:pt x="5307" y="1044"/>
                  </a:lnTo>
                  <a:lnTo>
                    <a:pt x="5286" y="1044"/>
                  </a:lnTo>
                  <a:lnTo>
                    <a:pt x="5266" y="1044"/>
                  </a:lnTo>
                  <a:lnTo>
                    <a:pt x="5225" y="1044"/>
                  </a:lnTo>
                  <a:lnTo>
                    <a:pt x="5204" y="1044"/>
                  </a:lnTo>
                  <a:lnTo>
                    <a:pt x="5163" y="1044"/>
                  </a:lnTo>
                  <a:lnTo>
                    <a:pt x="5122" y="1044"/>
                  </a:lnTo>
                  <a:lnTo>
                    <a:pt x="5081" y="1044"/>
                  </a:lnTo>
                  <a:lnTo>
                    <a:pt x="5019" y="1044"/>
                  </a:lnTo>
                  <a:lnTo>
                    <a:pt x="4957" y="1044"/>
                  </a:lnTo>
                  <a:lnTo>
                    <a:pt x="4896" y="1044"/>
                  </a:lnTo>
                  <a:lnTo>
                    <a:pt x="4793" y="104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300560" y="4975200"/>
              <a:ext cx="187236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80"/>
                  </a:lnTo>
                  <a:lnTo>
                    <a:pt x="41" y="267"/>
                  </a:lnTo>
                  <a:lnTo>
                    <a:pt x="82" y="251"/>
                  </a:lnTo>
                  <a:lnTo>
                    <a:pt x="144" y="234"/>
                  </a:lnTo>
                  <a:lnTo>
                    <a:pt x="205" y="213"/>
                  </a:lnTo>
                  <a:lnTo>
                    <a:pt x="288" y="197"/>
                  </a:lnTo>
                  <a:lnTo>
                    <a:pt x="370" y="180"/>
                  </a:lnTo>
                  <a:lnTo>
                    <a:pt x="452" y="159"/>
                  </a:lnTo>
                  <a:lnTo>
                    <a:pt x="555" y="142"/>
                  </a:lnTo>
                  <a:lnTo>
                    <a:pt x="658" y="126"/>
                  </a:lnTo>
                  <a:lnTo>
                    <a:pt x="781" y="105"/>
                  </a:lnTo>
                  <a:lnTo>
                    <a:pt x="884" y="88"/>
                  </a:lnTo>
                  <a:lnTo>
                    <a:pt x="1008" y="71"/>
                  </a:lnTo>
                  <a:lnTo>
                    <a:pt x="1152" y="55"/>
                  </a:lnTo>
                  <a:lnTo>
                    <a:pt x="1296" y="42"/>
                  </a:lnTo>
                  <a:lnTo>
                    <a:pt x="1440" y="30"/>
                  </a:lnTo>
                  <a:lnTo>
                    <a:pt x="1604" y="21"/>
                  </a:lnTo>
                  <a:lnTo>
                    <a:pt x="1748" y="13"/>
                  </a:lnTo>
                  <a:lnTo>
                    <a:pt x="1913" y="5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5"/>
                  </a:lnTo>
                  <a:lnTo>
                    <a:pt x="2633" y="9"/>
                  </a:lnTo>
                  <a:lnTo>
                    <a:pt x="2818" y="17"/>
                  </a:lnTo>
                  <a:lnTo>
                    <a:pt x="3024" y="30"/>
                  </a:lnTo>
                  <a:lnTo>
                    <a:pt x="3209" y="42"/>
                  </a:lnTo>
                  <a:lnTo>
                    <a:pt x="3415" y="63"/>
                  </a:lnTo>
                  <a:lnTo>
                    <a:pt x="3620" y="88"/>
                  </a:lnTo>
                  <a:lnTo>
                    <a:pt x="3826" y="117"/>
                  </a:lnTo>
                  <a:lnTo>
                    <a:pt x="4052" y="146"/>
                  </a:lnTo>
                  <a:lnTo>
                    <a:pt x="4258" y="184"/>
                  </a:lnTo>
                  <a:lnTo>
                    <a:pt x="4484" y="230"/>
                  </a:lnTo>
                  <a:lnTo>
                    <a:pt x="4690" y="276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5"/>
                  </a:lnTo>
                  <a:lnTo>
                    <a:pt x="4052" y="977"/>
                  </a:lnTo>
                  <a:lnTo>
                    <a:pt x="3847" y="944"/>
                  </a:lnTo>
                  <a:lnTo>
                    <a:pt x="3641" y="919"/>
                  </a:lnTo>
                  <a:lnTo>
                    <a:pt x="3435" y="894"/>
                  </a:lnTo>
                  <a:lnTo>
                    <a:pt x="3229" y="873"/>
                  </a:lnTo>
                  <a:lnTo>
                    <a:pt x="3024" y="856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1"/>
                  </a:lnTo>
                  <a:lnTo>
                    <a:pt x="2283" y="831"/>
                  </a:lnTo>
                  <a:lnTo>
                    <a:pt x="2098" y="831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8"/>
                  </a:lnTo>
                  <a:lnTo>
                    <a:pt x="1460" y="856"/>
                  </a:lnTo>
                  <a:lnTo>
                    <a:pt x="1296" y="869"/>
                  </a:lnTo>
                  <a:lnTo>
                    <a:pt x="1172" y="885"/>
                  </a:lnTo>
                  <a:lnTo>
                    <a:pt x="1028" y="898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8"/>
                  </a:lnTo>
                  <a:lnTo>
                    <a:pt x="555" y="969"/>
                  </a:lnTo>
                  <a:lnTo>
                    <a:pt x="452" y="985"/>
                  </a:lnTo>
                  <a:lnTo>
                    <a:pt x="370" y="1006"/>
                  </a:lnTo>
                  <a:lnTo>
                    <a:pt x="288" y="1023"/>
                  </a:lnTo>
                  <a:lnTo>
                    <a:pt x="205" y="1040"/>
                  </a:lnTo>
                  <a:lnTo>
                    <a:pt x="144" y="1056"/>
                  </a:lnTo>
                  <a:lnTo>
                    <a:pt x="82" y="1077"/>
                  </a:lnTo>
                  <a:lnTo>
                    <a:pt x="41" y="1090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300560" y="4929120"/>
              <a:ext cx="187236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80"/>
                  </a:lnTo>
                  <a:lnTo>
                    <a:pt x="41" y="263"/>
                  </a:lnTo>
                  <a:lnTo>
                    <a:pt x="82" y="250"/>
                  </a:lnTo>
                  <a:lnTo>
                    <a:pt x="144" y="234"/>
                  </a:lnTo>
                  <a:lnTo>
                    <a:pt x="205" y="217"/>
                  </a:lnTo>
                  <a:lnTo>
                    <a:pt x="288" y="196"/>
                  </a:lnTo>
                  <a:lnTo>
                    <a:pt x="370" y="180"/>
                  </a:lnTo>
                  <a:lnTo>
                    <a:pt x="452" y="159"/>
                  </a:lnTo>
                  <a:lnTo>
                    <a:pt x="555" y="142"/>
                  </a:lnTo>
                  <a:lnTo>
                    <a:pt x="658" y="121"/>
                  </a:lnTo>
                  <a:lnTo>
                    <a:pt x="781" y="104"/>
                  </a:lnTo>
                  <a:lnTo>
                    <a:pt x="884" y="88"/>
                  </a:lnTo>
                  <a:lnTo>
                    <a:pt x="1008" y="71"/>
                  </a:lnTo>
                  <a:lnTo>
                    <a:pt x="1152" y="54"/>
                  </a:lnTo>
                  <a:lnTo>
                    <a:pt x="1296" y="42"/>
                  </a:lnTo>
                  <a:lnTo>
                    <a:pt x="1440" y="29"/>
                  </a:lnTo>
                  <a:lnTo>
                    <a:pt x="1604" y="21"/>
                  </a:lnTo>
                  <a:lnTo>
                    <a:pt x="1748" y="13"/>
                  </a:lnTo>
                  <a:lnTo>
                    <a:pt x="1913" y="4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0"/>
                  </a:lnTo>
                  <a:lnTo>
                    <a:pt x="2633" y="8"/>
                  </a:lnTo>
                  <a:lnTo>
                    <a:pt x="2818" y="17"/>
                  </a:lnTo>
                  <a:lnTo>
                    <a:pt x="3024" y="29"/>
                  </a:lnTo>
                  <a:lnTo>
                    <a:pt x="3209" y="42"/>
                  </a:lnTo>
                  <a:lnTo>
                    <a:pt x="3415" y="63"/>
                  </a:lnTo>
                  <a:lnTo>
                    <a:pt x="3620" y="88"/>
                  </a:lnTo>
                  <a:lnTo>
                    <a:pt x="3826" y="113"/>
                  </a:lnTo>
                  <a:lnTo>
                    <a:pt x="4052" y="146"/>
                  </a:lnTo>
                  <a:lnTo>
                    <a:pt x="4258" y="184"/>
                  </a:lnTo>
                  <a:lnTo>
                    <a:pt x="4484" y="230"/>
                  </a:lnTo>
                  <a:lnTo>
                    <a:pt x="4690" y="276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4"/>
                  </a:lnTo>
                  <a:lnTo>
                    <a:pt x="4052" y="977"/>
                  </a:lnTo>
                  <a:lnTo>
                    <a:pt x="3847" y="943"/>
                  </a:lnTo>
                  <a:lnTo>
                    <a:pt x="3641" y="914"/>
                  </a:lnTo>
                  <a:lnTo>
                    <a:pt x="3435" y="893"/>
                  </a:lnTo>
                  <a:lnTo>
                    <a:pt x="3229" y="872"/>
                  </a:lnTo>
                  <a:lnTo>
                    <a:pt x="3024" y="856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1"/>
                  </a:lnTo>
                  <a:lnTo>
                    <a:pt x="2283" y="826"/>
                  </a:lnTo>
                  <a:lnTo>
                    <a:pt x="2098" y="831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7"/>
                  </a:lnTo>
                  <a:lnTo>
                    <a:pt x="1460" y="860"/>
                  </a:lnTo>
                  <a:lnTo>
                    <a:pt x="1296" y="868"/>
                  </a:lnTo>
                  <a:lnTo>
                    <a:pt x="1172" y="885"/>
                  </a:lnTo>
                  <a:lnTo>
                    <a:pt x="1028" y="897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8"/>
                  </a:lnTo>
                  <a:lnTo>
                    <a:pt x="555" y="968"/>
                  </a:lnTo>
                  <a:lnTo>
                    <a:pt x="452" y="985"/>
                  </a:lnTo>
                  <a:lnTo>
                    <a:pt x="370" y="1006"/>
                  </a:lnTo>
                  <a:lnTo>
                    <a:pt x="288" y="1023"/>
                  </a:lnTo>
                  <a:lnTo>
                    <a:pt x="205" y="1039"/>
                  </a:lnTo>
                  <a:lnTo>
                    <a:pt x="144" y="1060"/>
                  </a:lnTo>
                  <a:lnTo>
                    <a:pt x="82" y="1073"/>
                  </a:lnTo>
                  <a:lnTo>
                    <a:pt x="41" y="1089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00560" y="4883040"/>
              <a:ext cx="187236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0" y="1106"/>
                  </a:moveTo>
                  <a:lnTo>
                    <a:pt x="0" y="279"/>
                  </a:lnTo>
                  <a:lnTo>
                    <a:pt x="41" y="267"/>
                  </a:lnTo>
                  <a:lnTo>
                    <a:pt x="82" y="250"/>
                  </a:lnTo>
                  <a:lnTo>
                    <a:pt x="144" y="233"/>
                  </a:lnTo>
                  <a:lnTo>
                    <a:pt x="205" y="213"/>
                  </a:lnTo>
                  <a:lnTo>
                    <a:pt x="288" y="196"/>
                  </a:lnTo>
                  <a:lnTo>
                    <a:pt x="370" y="179"/>
                  </a:lnTo>
                  <a:lnTo>
                    <a:pt x="452" y="158"/>
                  </a:lnTo>
                  <a:lnTo>
                    <a:pt x="555" y="142"/>
                  </a:lnTo>
                  <a:lnTo>
                    <a:pt x="658" y="121"/>
                  </a:lnTo>
                  <a:lnTo>
                    <a:pt x="781" y="104"/>
                  </a:lnTo>
                  <a:lnTo>
                    <a:pt x="884" y="87"/>
                  </a:lnTo>
                  <a:lnTo>
                    <a:pt x="1008" y="71"/>
                  </a:lnTo>
                  <a:lnTo>
                    <a:pt x="1152" y="54"/>
                  </a:lnTo>
                  <a:lnTo>
                    <a:pt x="1296" y="41"/>
                  </a:lnTo>
                  <a:lnTo>
                    <a:pt x="1440" y="29"/>
                  </a:lnTo>
                  <a:lnTo>
                    <a:pt x="1604" y="21"/>
                  </a:lnTo>
                  <a:lnTo>
                    <a:pt x="1748" y="12"/>
                  </a:lnTo>
                  <a:lnTo>
                    <a:pt x="1913" y="4"/>
                  </a:lnTo>
                  <a:lnTo>
                    <a:pt x="2098" y="0"/>
                  </a:lnTo>
                  <a:lnTo>
                    <a:pt x="2263" y="0"/>
                  </a:lnTo>
                  <a:lnTo>
                    <a:pt x="2448" y="0"/>
                  </a:lnTo>
                  <a:lnTo>
                    <a:pt x="2633" y="8"/>
                  </a:lnTo>
                  <a:lnTo>
                    <a:pt x="2818" y="16"/>
                  </a:lnTo>
                  <a:lnTo>
                    <a:pt x="3024" y="25"/>
                  </a:lnTo>
                  <a:lnTo>
                    <a:pt x="3209" y="41"/>
                  </a:lnTo>
                  <a:lnTo>
                    <a:pt x="3415" y="62"/>
                  </a:lnTo>
                  <a:lnTo>
                    <a:pt x="3620" y="83"/>
                  </a:lnTo>
                  <a:lnTo>
                    <a:pt x="3826" y="112"/>
                  </a:lnTo>
                  <a:lnTo>
                    <a:pt x="4052" y="146"/>
                  </a:lnTo>
                  <a:lnTo>
                    <a:pt x="4258" y="183"/>
                  </a:lnTo>
                  <a:lnTo>
                    <a:pt x="4484" y="229"/>
                  </a:lnTo>
                  <a:lnTo>
                    <a:pt x="4690" y="275"/>
                  </a:lnTo>
                  <a:lnTo>
                    <a:pt x="4711" y="1106"/>
                  </a:lnTo>
                  <a:lnTo>
                    <a:pt x="4484" y="1056"/>
                  </a:lnTo>
                  <a:lnTo>
                    <a:pt x="4279" y="1014"/>
                  </a:lnTo>
                  <a:lnTo>
                    <a:pt x="4052" y="976"/>
                  </a:lnTo>
                  <a:lnTo>
                    <a:pt x="3847" y="943"/>
                  </a:lnTo>
                  <a:lnTo>
                    <a:pt x="3641" y="914"/>
                  </a:lnTo>
                  <a:lnTo>
                    <a:pt x="3435" y="889"/>
                  </a:lnTo>
                  <a:lnTo>
                    <a:pt x="3229" y="872"/>
                  </a:lnTo>
                  <a:lnTo>
                    <a:pt x="3024" y="855"/>
                  </a:lnTo>
                  <a:lnTo>
                    <a:pt x="2839" y="843"/>
                  </a:lnTo>
                  <a:lnTo>
                    <a:pt x="2653" y="835"/>
                  </a:lnTo>
                  <a:lnTo>
                    <a:pt x="2468" y="830"/>
                  </a:lnTo>
                  <a:lnTo>
                    <a:pt x="2283" y="826"/>
                  </a:lnTo>
                  <a:lnTo>
                    <a:pt x="2098" y="830"/>
                  </a:lnTo>
                  <a:lnTo>
                    <a:pt x="1933" y="835"/>
                  </a:lnTo>
                  <a:lnTo>
                    <a:pt x="1769" y="839"/>
                  </a:lnTo>
                  <a:lnTo>
                    <a:pt x="1604" y="847"/>
                  </a:lnTo>
                  <a:lnTo>
                    <a:pt x="1460" y="855"/>
                  </a:lnTo>
                  <a:lnTo>
                    <a:pt x="1296" y="868"/>
                  </a:lnTo>
                  <a:lnTo>
                    <a:pt x="1172" y="880"/>
                  </a:lnTo>
                  <a:lnTo>
                    <a:pt x="1028" y="897"/>
                  </a:lnTo>
                  <a:lnTo>
                    <a:pt x="905" y="914"/>
                  </a:lnTo>
                  <a:lnTo>
                    <a:pt x="781" y="931"/>
                  </a:lnTo>
                  <a:lnTo>
                    <a:pt x="658" y="947"/>
                  </a:lnTo>
                  <a:lnTo>
                    <a:pt x="555" y="968"/>
                  </a:lnTo>
                  <a:lnTo>
                    <a:pt x="452" y="985"/>
                  </a:lnTo>
                  <a:lnTo>
                    <a:pt x="370" y="1001"/>
                  </a:lnTo>
                  <a:lnTo>
                    <a:pt x="288" y="1022"/>
                  </a:lnTo>
                  <a:lnTo>
                    <a:pt x="205" y="1039"/>
                  </a:lnTo>
                  <a:lnTo>
                    <a:pt x="144" y="1056"/>
                  </a:lnTo>
                  <a:lnTo>
                    <a:pt x="82" y="1077"/>
                  </a:lnTo>
                  <a:lnTo>
                    <a:pt x="41" y="1089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435760" y="4978080"/>
              <a:ext cx="187236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79"/>
                  </a:lnTo>
                  <a:lnTo>
                    <a:pt x="4670" y="267"/>
                  </a:lnTo>
                  <a:lnTo>
                    <a:pt x="4608" y="250"/>
                  </a:lnTo>
                  <a:lnTo>
                    <a:pt x="4567" y="233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79"/>
                  </a:lnTo>
                  <a:lnTo>
                    <a:pt x="4259" y="158"/>
                  </a:lnTo>
                  <a:lnTo>
                    <a:pt x="4156" y="141"/>
                  </a:lnTo>
                  <a:lnTo>
                    <a:pt x="4053" y="125"/>
                  </a:lnTo>
                  <a:lnTo>
                    <a:pt x="3930" y="104"/>
                  </a:lnTo>
                  <a:lnTo>
                    <a:pt x="3806" y="87"/>
                  </a:lnTo>
                  <a:lnTo>
                    <a:pt x="3683" y="70"/>
                  </a:lnTo>
                  <a:lnTo>
                    <a:pt x="3559" y="58"/>
                  </a:lnTo>
                  <a:lnTo>
                    <a:pt x="3415" y="41"/>
                  </a:lnTo>
                  <a:lnTo>
                    <a:pt x="3271" y="29"/>
                  </a:lnTo>
                  <a:lnTo>
                    <a:pt x="3107" y="20"/>
                  </a:lnTo>
                  <a:lnTo>
                    <a:pt x="2963" y="12"/>
                  </a:lnTo>
                  <a:lnTo>
                    <a:pt x="2798" y="4"/>
                  </a:lnTo>
                  <a:lnTo>
                    <a:pt x="2613" y="4"/>
                  </a:lnTo>
                  <a:lnTo>
                    <a:pt x="2448" y="0"/>
                  </a:lnTo>
                  <a:lnTo>
                    <a:pt x="2263" y="4"/>
                  </a:lnTo>
                  <a:lnTo>
                    <a:pt x="2078" y="8"/>
                  </a:lnTo>
                  <a:lnTo>
                    <a:pt x="1872" y="16"/>
                  </a:lnTo>
                  <a:lnTo>
                    <a:pt x="1687" y="29"/>
                  </a:lnTo>
                  <a:lnTo>
                    <a:pt x="1502" y="41"/>
                  </a:lnTo>
                  <a:lnTo>
                    <a:pt x="1276" y="62"/>
                  </a:lnTo>
                  <a:lnTo>
                    <a:pt x="1091" y="87"/>
                  </a:lnTo>
                  <a:lnTo>
                    <a:pt x="864" y="116"/>
                  </a:lnTo>
                  <a:lnTo>
                    <a:pt x="659" y="146"/>
                  </a:lnTo>
                  <a:lnTo>
                    <a:pt x="453" y="183"/>
                  </a:lnTo>
                  <a:lnTo>
                    <a:pt x="227" y="229"/>
                  </a:lnTo>
                  <a:lnTo>
                    <a:pt x="0" y="275"/>
                  </a:lnTo>
                  <a:lnTo>
                    <a:pt x="0" y="1106"/>
                  </a:lnTo>
                  <a:lnTo>
                    <a:pt x="206" y="1060"/>
                  </a:lnTo>
                  <a:lnTo>
                    <a:pt x="432" y="1014"/>
                  </a:lnTo>
                  <a:lnTo>
                    <a:pt x="659" y="976"/>
                  </a:lnTo>
                  <a:lnTo>
                    <a:pt x="864" y="943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2"/>
                  </a:lnTo>
                  <a:lnTo>
                    <a:pt x="1667" y="855"/>
                  </a:lnTo>
                  <a:lnTo>
                    <a:pt x="1872" y="843"/>
                  </a:lnTo>
                  <a:lnTo>
                    <a:pt x="2058" y="834"/>
                  </a:lnTo>
                  <a:lnTo>
                    <a:pt x="2243" y="830"/>
                  </a:lnTo>
                  <a:lnTo>
                    <a:pt x="2428" y="830"/>
                  </a:lnTo>
                  <a:lnTo>
                    <a:pt x="2592" y="830"/>
                  </a:lnTo>
                  <a:lnTo>
                    <a:pt x="2778" y="834"/>
                  </a:lnTo>
                  <a:lnTo>
                    <a:pt x="2942" y="838"/>
                  </a:lnTo>
                  <a:lnTo>
                    <a:pt x="3107" y="847"/>
                  </a:lnTo>
                  <a:lnTo>
                    <a:pt x="3251" y="859"/>
                  </a:lnTo>
                  <a:lnTo>
                    <a:pt x="3395" y="868"/>
                  </a:lnTo>
                  <a:lnTo>
                    <a:pt x="3539" y="884"/>
                  </a:lnTo>
                  <a:lnTo>
                    <a:pt x="3683" y="897"/>
                  </a:lnTo>
                  <a:lnTo>
                    <a:pt x="3806" y="914"/>
                  </a:lnTo>
                  <a:lnTo>
                    <a:pt x="3930" y="930"/>
                  </a:lnTo>
                  <a:lnTo>
                    <a:pt x="4053" y="951"/>
                  </a:lnTo>
                  <a:lnTo>
                    <a:pt x="4156" y="968"/>
                  </a:lnTo>
                  <a:lnTo>
                    <a:pt x="4238" y="985"/>
                  </a:lnTo>
                  <a:lnTo>
                    <a:pt x="4341" y="1005"/>
                  </a:lnTo>
                  <a:lnTo>
                    <a:pt x="4423" y="1022"/>
                  </a:lnTo>
                  <a:lnTo>
                    <a:pt x="4485" y="1043"/>
                  </a:lnTo>
                  <a:lnTo>
                    <a:pt x="4567" y="1060"/>
                  </a:lnTo>
                  <a:lnTo>
                    <a:pt x="4608" y="1076"/>
                  </a:lnTo>
                  <a:lnTo>
                    <a:pt x="4670" y="1093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435760" y="4931280"/>
              <a:ext cx="187236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80"/>
                  </a:lnTo>
                  <a:lnTo>
                    <a:pt x="4670" y="267"/>
                  </a:lnTo>
                  <a:lnTo>
                    <a:pt x="4608" y="251"/>
                  </a:lnTo>
                  <a:lnTo>
                    <a:pt x="4567" y="234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80"/>
                  </a:lnTo>
                  <a:lnTo>
                    <a:pt x="4259" y="163"/>
                  </a:lnTo>
                  <a:lnTo>
                    <a:pt x="4156" y="142"/>
                  </a:lnTo>
                  <a:lnTo>
                    <a:pt x="4053" y="121"/>
                  </a:lnTo>
                  <a:lnTo>
                    <a:pt x="3930" y="105"/>
                  </a:lnTo>
                  <a:lnTo>
                    <a:pt x="3806" y="88"/>
                  </a:lnTo>
                  <a:lnTo>
                    <a:pt x="3683" y="71"/>
                  </a:lnTo>
                  <a:lnTo>
                    <a:pt x="3559" y="59"/>
                  </a:lnTo>
                  <a:lnTo>
                    <a:pt x="3415" y="42"/>
                  </a:lnTo>
                  <a:lnTo>
                    <a:pt x="3271" y="29"/>
                  </a:lnTo>
                  <a:lnTo>
                    <a:pt x="3107" y="21"/>
                  </a:lnTo>
                  <a:lnTo>
                    <a:pt x="2963" y="13"/>
                  </a:lnTo>
                  <a:lnTo>
                    <a:pt x="2798" y="9"/>
                  </a:lnTo>
                  <a:lnTo>
                    <a:pt x="2613" y="0"/>
                  </a:lnTo>
                  <a:lnTo>
                    <a:pt x="2448" y="0"/>
                  </a:lnTo>
                  <a:lnTo>
                    <a:pt x="2263" y="0"/>
                  </a:lnTo>
                  <a:lnTo>
                    <a:pt x="2078" y="9"/>
                  </a:lnTo>
                  <a:lnTo>
                    <a:pt x="1872" y="17"/>
                  </a:lnTo>
                  <a:lnTo>
                    <a:pt x="1687" y="29"/>
                  </a:lnTo>
                  <a:lnTo>
                    <a:pt x="1502" y="42"/>
                  </a:lnTo>
                  <a:lnTo>
                    <a:pt x="1276" y="63"/>
                  </a:lnTo>
                  <a:lnTo>
                    <a:pt x="1091" y="88"/>
                  </a:lnTo>
                  <a:lnTo>
                    <a:pt x="864" y="113"/>
                  </a:lnTo>
                  <a:lnTo>
                    <a:pt x="659" y="150"/>
                  </a:lnTo>
                  <a:lnTo>
                    <a:pt x="453" y="188"/>
                  </a:lnTo>
                  <a:lnTo>
                    <a:pt x="227" y="230"/>
                  </a:lnTo>
                  <a:lnTo>
                    <a:pt x="0" y="276"/>
                  </a:lnTo>
                  <a:lnTo>
                    <a:pt x="0" y="1106"/>
                  </a:lnTo>
                  <a:lnTo>
                    <a:pt x="206" y="1060"/>
                  </a:lnTo>
                  <a:lnTo>
                    <a:pt x="432" y="1014"/>
                  </a:lnTo>
                  <a:lnTo>
                    <a:pt x="659" y="977"/>
                  </a:lnTo>
                  <a:lnTo>
                    <a:pt x="864" y="944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3"/>
                  </a:lnTo>
                  <a:lnTo>
                    <a:pt x="1667" y="856"/>
                  </a:lnTo>
                  <a:lnTo>
                    <a:pt x="1872" y="848"/>
                  </a:lnTo>
                  <a:lnTo>
                    <a:pt x="2058" y="835"/>
                  </a:lnTo>
                  <a:lnTo>
                    <a:pt x="2243" y="831"/>
                  </a:lnTo>
                  <a:lnTo>
                    <a:pt x="2428" y="831"/>
                  </a:lnTo>
                  <a:lnTo>
                    <a:pt x="2592" y="831"/>
                  </a:lnTo>
                  <a:lnTo>
                    <a:pt x="2778" y="835"/>
                  </a:lnTo>
                  <a:lnTo>
                    <a:pt x="2942" y="839"/>
                  </a:lnTo>
                  <a:lnTo>
                    <a:pt x="3107" y="848"/>
                  </a:lnTo>
                  <a:lnTo>
                    <a:pt x="3251" y="856"/>
                  </a:lnTo>
                  <a:lnTo>
                    <a:pt x="3395" y="873"/>
                  </a:lnTo>
                  <a:lnTo>
                    <a:pt x="3539" y="885"/>
                  </a:lnTo>
                  <a:lnTo>
                    <a:pt x="3683" y="898"/>
                  </a:lnTo>
                  <a:lnTo>
                    <a:pt x="3806" y="914"/>
                  </a:lnTo>
                  <a:lnTo>
                    <a:pt x="3930" y="931"/>
                  </a:lnTo>
                  <a:lnTo>
                    <a:pt x="4053" y="948"/>
                  </a:lnTo>
                  <a:lnTo>
                    <a:pt x="4156" y="969"/>
                  </a:lnTo>
                  <a:lnTo>
                    <a:pt x="4238" y="985"/>
                  </a:lnTo>
                  <a:lnTo>
                    <a:pt x="4341" y="1006"/>
                  </a:lnTo>
                  <a:lnTo>
                    <a:pt x="4423" y="1023"/>
                  </a:lnTo>
                  <a:lnTo>
                    <a:pt x="4485" y="1044"/>
                  </a:lnTo>
                  <a:lnTo>
                    <a:pt x="4567" y="1060"/>
                  </a:lnTo>
                  <a:lnTo>
                    <a:pt x="4608" y="1077"/>
                  </a:lnTo>
                  <a:lnTo>
                    <a:pt x="4670" y="1090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435760" y="4885200"/>
              <a:ext cx="1872360" cy="645480"/>
            </a:xfrm>
            <a:custGeom>
              <a:avLst/>
              <a:gdLst/>
              <a:ahLst/>
              <a:rect l="l" t="t" r="r" b="b"/>
              <a:pathLst>
                <a:path w="4711" h="1106">
                  <a:moveTo>
                    <a:pt x="4711" y="1106"/>
                  </a:moveTo>
                  <a:lnTo>
                    <a:pt x="4711" y="280"/>
                  </a:lnTo>
                  <a:lnTo>
                    <a:pt x="4670" y="267"/>
                  </a:lnTo>
                  <a:lnTo>
                    <a:pt x="4608" y="250"/>
                  </a:lnTo>
                  <a:lnTo>
                    <a:pt x="4567" y="234"/>
                  </a:lnTo>
                  <a:lnTo>
                    <a:pt x="4506" y="217"/>
                  </a:lnTo>
                  <a:lnTo>
                    <a:pt x="4423" y="196"/>
                  </a:lnTo>
                  <a:lnTo>
                    <a:pt x="4341" y="179"/>
                  </a:lnTo>
                  <a:lnTo>
                    <a:pt x="4259" y="159"/>
                  </a:lnTo>
                  <a:lnTo>
                    <a:pt x="4156" y="142"/>
                  </a:lnTo>
                  <a:lnTo>
                    <a:pt x="4053" y="125"/>
                  </a:lnTo>
                  <a:lnTo>
                    <a:pt x="3930" y="104"/>
                  </a:lnTo>
                  <a:lnTo>
                    <a:pt x="3806" y="88"/>
                  </a:lnTo>
                  <a:lnTo>
                    <a:pt x="3683" y="71"/>
                  </a:lnTo>
                  <a:lnTo>
                    <a:pt x="3559" y="54"/>
                  </a:lnTo>
                  <a:lnTo>
                    <a:pt x="3415" y="42"/>
                  </a:lnTo>
                  <a:lnTo>
                    <a:pt x="3271" y="29"/>
                  </a:lnTo>
                  <a:lnTo>
                    <a:pt x="3107" y="21"/>
                  </a:lnTo>
                  <a:lnTo>
                    <a:pt x="2963" y="12"/>
                  </a:lnTo>
                  <a:lnTo>
                    <a:pt x="2798" y="4"/>
                  </a:lnTo>
                  <a:lnTo>
                    <a:pt x="2613" y="0"/>
                  </a:lnTo>
                  <a:lnTo>
                    <a:pt x="2448" y="0"/>
                  </a:lnTo>
                  <a:lnTo>
                    <a:pt x="2263" y="4"/>
                  </a:lnTo>
                  <a:lnTo>
                    <a:pt x="2078" y="8"/>
                  </a:lnTo>
                  <a:lnTo>
                    <a:pt x="1872" y="17"/>
                  </a:lnTo>
                  <a:lnTo>
                    <a:pt x="1687" y="29"/>
                  </a:lnTo>
                  <a:lnTo>
                    <a:pt x="1502" y="42"/>
                  </a:lnTo>
                  <a:lnTo>
                    <a:pt x="1276" y="63"/>
                  </a:lnTo>
                  <a:lnTo>
                    <a:pt x="1091" y="88"/>
                  </a:lnTo>
                  <a:lnTo>
                    <a:pt x="864" y="113"/>
                  </a:lnTo>
                  <a:lnTo>
                    <a:pt x="659" y="146"/>
                  </a:lnTo>
                  <a:lnTo>
                    <a:pt x="453" y="184"/>
                  </a:lnTo>
                  <a:lnTo>
                    <a:pt x="227" y="229"/>
                  </a:lnTo>
                  <a:lnTo>
                    <a:pt x="0" y="275"/>
                  </a:lnTo>
                  <a:lnTo>
                    <a:pt x="0" y="1106"/>
                  </a:lnTo>
                  <a:lnTo>
                    <a:pt x="206" y="1056"/>
                  </a:lnTo>
                  <a:lnTo>
                    <a:pt x="432" y="1014"/>
                  </a:lnTo>
                  <a:lnTo>
                    <a:pt x="659" y="977"/>
                  </a:lnTo>
                  <a:lnTo>
                    <a:pt x="864" y="943"/>
                  </a:lnTo>
                  <a:lnTo>
                    <a:pt x="1070" y="914"/>
                  </a:lnTo>
                  <a:lnTo>
                    <a:pt x="1276" y="893"/>
                  </a:lnTo>
                  <a:lnTo>
                    <a:pt x="1482" y="872"/>
                  </a:lnTo>
                  <a:lnTo>
                    <a:pt x="1667" y="856"/>
                  </a:lnTo>
                  <a:lnTo>
                    <a:pt x="1872" y="843"/>
                  </a:lnTo>
                  <a:lnTo>
                    <a:pt x="2058" y="835"/>
                  </a:lnTo>
                  <a:lnTo>
                    <a:pt x="2243" y="831"/>
                  </a:lnTo>
                  <a:lnTo>
                    <a:pt x="2428" y="831"/>
                  </a:lnTo>
                  <a:lnTo>
                    <a:pt x="2592" y="831"/>
                  </a:lnTo>
                  <a:lnTo>
                    <a:pt x="2778" y="835"/>
                  </a:lnTo>
                  <a:lnTo>
                    <a:pt x="2942" y="839"/>
                  </a:lnTo>
                  <a:lnTo>
                    <a:pt x="3107" y="847"/>
                  </a:lnTo>
                  <a:lnTo>
                    <a:pt x="3251" y="856"/>
                  </a:lnTo>
                  <a:lnTo>
                    <a:pt x="3395" y="868"/>
                  </a:lnTo>
                  <a:lnTo>
                    <a:pt x="3539" y="885"/>
                  </a:lnTo>
                  <a:lnTo>
                    <a:pt x="3683" y="897"/>
                  </a:lnTo>
                  <a:lnTo>
                    <a:pt x="3806" y="914"/>
                  </a:lnTo>
                  <a:lnTo>
                    <a:pt x="3930" y="931"/>
                  </a:lnTo>
                  <a:lnTo>
                    <a:pt x="4053" y="947"/>
                  </a:lnTo>
                  <a:lnTo>
                    <a:pt x="4156" y="968"/>
                  </a:lnTo>
                  <a:lnTo>
                    <a:pt x="4238" y="985"/>
                  </a:lnTo>
                  <a:lnTo>
                    <a:pt x="4341" y="1006"/>
                  </a:lnTo>
                  <a:lnTo>
                    <a:pt x="4423" y="1023"/>
                  </a:lnTo>
                  <a:lnTo>
                    <a:pt x="4485" y="1039"/>
                  </a:lnTo>
                  <a:lnTo>
                    <a:pt x="4567" y="1056"/>
                  </a:lnTo>
                  <a:lnTo>
                    <a:pt x="4608" y="1073"/>
                  </a:lnTo>
                  <a:lnTo>
                    <a:pt x="4670" y="1093"/>
                  </a:lnTo>
                  <a:lnTo>
                    <a:pt x="4711" y="11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2722680" y="4987800"/>
            <a:ext cx="3063600" cy="316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كتب اسم الصورة بالحرف الممد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26880" y="8352000"/>
            <a:ext cx="119700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176560" y="8352000"/>
            <a:ext cx="119844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809880" y="8352000"/>
            <a:ext cx="119700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36680" y="8352000"/>
            <a:ext cx="1087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ـ......ط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176560" y="8352000"/>
            <a:ext cx="1089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ثــُعـ......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917880" y="8352000"/>
            <a:ext cx="1089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َ.....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6880" y="6775560"/>
            <a:ext cx="119700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176560" y="6775560"/>
            <a:ext cx="119844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809880" y="6775560"/>
            <a:ext cx="119700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36680" y="6775560"/>
            <a:ext cx="1087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ــُـ......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917880" y="6775560"/>
            <a:ext cx="1089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ـِــ......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176560" y="6775560"/>
            <a:ext cx="1089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...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8" name="" descr=""/>
          <p:cNvPicPr/>
          <p:nvPr/>
        </p:nvPicPr>
        <p:blipFill>
          <a:blip r:embed="rId2"/>
          <a:stretch/>
        </p:blipFill>
        <p:spPr>
          <a:xfrm flipH="1">
            <a:off x="5225760" y="6354720"/>
            <a:ext cx="1414440" cy="231300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89000" y="2340000"/>
            <a:ext cx="1780920" cy="247320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4"/>
          <a:stretch/>
        </p:blipFill>
        <p:spPr>
          <a:xfrm>
            <a:off x="2503440" y="5724360"/>
            <a:ext cx="762120" cy="946440"/>
          </a:xfrm>
          <a:prstGeom prst="rect">
            <a:avLst/>
          </a:prstGeom>
          <a:ln w="0">
            <a:noFill/>
          </a:ln>
        </p:spPr>
      </p:pic>
      <p:grpSp>
        <p:nvGrpSpPr>
          <p:cNvPr id="1511" name=""/>
          <p:cNvGrpSpPr/>
          <p:nvPr/>
        </p:nvGrpSpPr>
        <p:grpSpPr>
          <a:xfrm>
            <a:off x="544680" y="7405560"/>
            <a:ext cx="869760" cy="865440"/>
            <a:chOff x="544680" y="7405560"/>
            <a:chExt cx="869760" cy="865440"/>
          </a:xfrm>
        </p:grpSpPr>
        <p:sp>
          <p:nvSpPr>
            <p:cNvPr id="1512" name=""/>
            <p:cNvSpPr/>
            <p:nvPr/>
          </p:nvSpPr>
          <p:spPr>
            <a:xfrm>
              <a:off x="857880" y="7508880"/>
              <a:ext cx="543600" cy="581400"/>
            </a:xfrm>
            <a:custGeom>
              <a:avLst/>
              <a:gdLst/>
              <a:ahLst/>
              <a:rect l="l" t="t" r="r" b="b"/>
              <a:pathLst>
                <a:path w="10463" h="9210">
                  <a:moveTo>
                    <a:pt x="2786" y="545"/>
                  </a:moveTo>
                  <a:lnTo>
                    <a:pt x="2822" y="527"/>
                  </a:lnTo>
                  <a:lnTo>
                    <a:pt x="2921" y="491"/>
                  </a:lnTo>
                  <a:lnTo>
                    <a:pt x="3085" y="429"/>
                  </a:lnTo>
                  <a:lnTo>
                    <a:pt x="3305" y="357"/>
                  </a:lnTo>
                  <a:lnTo>
                    <a:pt x="3577" y="272"/>
                  </a:lnTo>
                  <a:lnTo>
                    <a:pt x="3876" y="193"/>
                  </a:lnTo>
                  <a:lnTo>
                    <a:pt x="4212" y="121"/>
                  </a:lnTo>
                  <a:lnTo>
                    <a:pt x="4585" y="63"/>
                  </a:lnTo>
                  <a:lnTo>
                    <a:pt x="4965" y="18"/>
                  </a:lnTo>
                  <a:lnTo>
                    <a:pt x="5367" y="0"/>
                  </a:lnTo>
                  <a:lnTo>
                    <a:pt x="5764" y="18"/>
                  </a:lnTo>
                  <a:lnTo>
                    <a:pt x="6175" y="72"/>
                  </a:lnTo>
                  <a:lnTo>
                    <a:pt x="6566" y="175"/>
                  </a:lnTo>
                  <a:lnTo>
                    <a:pt x="6946" y="326"/>
                  </a:lnTo>
                  <a:lnTo>
                    <a:pt x="7312" y="536"/>
                  </a:lnTo>
                  <a:lnTo>
                    <a:pt x="7638" y="808"/>
                  </a:lnTo>
                  <a:lnTo>
                    <a:pt x="7674" y="817"/>
                  </a:lnTo>
                  <a:lnTo>
                    <a:pt x="7773" y="844"/>
                  </a:lnTo>
                  <a:lnTo>
                    <a:pt x="7929" y="900"/>
                  </a:lnTo>
                  <a:lnTo>
                    <a:pt x="8129" y="972"/>
                  </a:lnTo>
                  <a:lnTo>
                    <a:pt x="8365" y="1080"/>
                  </a:lnTo>
                  <a:lnTo>
                    <a:pt x="8628" y="1217"/>
                  </a:lnTo>
                  <a:lnTo>
                    <a:pt x="8902" y="1381"/>
                  </a:lnTo>
                  <a:lnTo>
                    <a:pt x="9183" y="1579"/>
                  </a:lnTo>
                  <a:lnTo>
                    <a:pt x="9455" y="1815"/>
                  </a:lnTo>
                  <a:lnTo>
                    <a:pt x="9718" y="2096"/>
                  </a:lnTo>
                  <a:lnTo>
                    <a:pt x="9955" y="2416"/>
                  </a:lnTo>
                  <a:lnTo>
                    <a:pt x="10164" y="2787"/>
                  </a:lnTo>
                  <a:lnTo>
                    <a:pt x="10317" y="3196"/>
                  </a:lnTo>
                  <a:lnTo>
                    <a:pt x="10427" y="3660"/>
                  </a:lnTo>
                  <a:lnTo>
                    <a:pt x="10463" y="4177"/>
                  </a:lnTo>
                  <a:lnTo>
                    <a:pt x="10436" y="4747"/>
                  </a:lnTo>
                  <a:lnTo>
                    <a:pt x="10427" y="4783"/>
                  </a:lnTo>
                  <a:lnTo>
                    <a:pt x="10400" y="4891"/>
                  </a:lnTo>
                  <a:lnTo>
                    <a:pt x="10365" y="5055"/>
                  </a:lnTo>
                  <a:lnTo>
                    <a:pt x="10299" y="5273"/>
                  </a:lnTo>
                  <a:lnTo>
                    <a:pt x="10218" y="5525"/>
                  </a:lnTo>
                  <a:lnTo>
                    <a:pt x="10128" y="5815"/>
                  </a:lnTo>
                  <a:lnTo>
                    <a:pt x="10009" y="6123"/>
                  </a:lnTo>
                  <a:lnTo>
                    <a:pt x="9874" y="6452"/>
                  </a:lnTo>
                  <a:lnTo>
                    <a:pt x="9718" y="6778"/>
                  </a:lnTo>
                  <a:lnTo>
                    <a:pt x="9545" y="7103"/>
                  </a:lnTo>
                  <a:lnTo>
                    <a:pt x="9347" y="7411"/>
                  </a:lnTo>
                  <a:lnTo>
                    <a:pt x="9129" y="7703"/>
                  </a:lnTo>
                  <a:lnTo>
                    <a:pt x="8893" y="7957"/>
                  </a:lnTo>
                  <a:lnTo>
                    <a:pt x="8628" y="8173"/>
                  </a:lnTo>
                  <a:lnTo>
                    <a:pt x="8347" y="8337"/>
                  </a:lnTo>
                  <a:lnTo>
                    <a:pt x="8037" y="8436"/>
                  </a:lnTo>
                  <a:lnTo>
                    <a:pt x="8019" y="8457"/>
                  </a:lnTo>
                  <a:lnTo>
                    <a:pt x="7947" y="8502"/>
                  </a:lnTo>
                  <a:lnTo>
                    <a:pt x="7839" y="8573"/>
                  </a:lnTo>
                  <a:lnTo>
                    <a:pt x="7692" y="8663"/>
                  </a:lnTo>
                  <a:lnTo>
                    <a:pt x="7492" y="8765"/>
                  </a:lnTo>
                  <a:lnTo>
                    <a:pt x="7255" y="8863"/>
                  </a:lnTo>
                  <a:lnTo>
                    <a:pt x="6982" y="8965"/>
                  </a:lnTo>
                  <a:lnTo>
                    <a:pt x="6665" y="9055"/>
                  </a:lnTo>
                  <a:lnTo>
                    <a:pt x="6303" y="9127"/>
                  </a:lnTo>
                  <a:lnTo>
                    <a:pt x="5902" y="9180"/>
                  </a:lnTo>
                  <a:lnTo>
                    <a:pt x="5465" y="9210"/>
                  </a:lnTo>
                  <a:lnTo>
                    <a:pt x="4992" y="9198"/>
                  </a:lnTo>
                  <a:lnTo>
                    <a:pt x="4475" y="9145"/>
                  </a:lnTo>
                  <a:lnTo>
                    <a:pt x="3921" y="9037"/>
                  </a:lnTo>
                  <a:lnTo>
                    <a:pt x="3322" y="8881"/>
                  </a:lnTo>
                  <a:lnTo>
                    <a:pt x="2694" y="8663"/>
                  </a:lnTo>
                  <a:lnTo>
                    <a:pt x="2667" y="8654"/>
                  </a:lnTo>
                  <a:lnTo>
                    <a:pt x="2586" y="8618"/>
                  </a:lnTo>
                  <a:lnTo>
                    <a:pt x="2467" y="8564"/>
                  </a:lnTo>
                  <a:lnTo>
                    <a:pt x="2305" y="8484"/>
                  </a:lnTo>
                  <a:lnTo>
                    <a:pt x="2113" y="8373"/>
                  </a:lnTo>
                  <a:lnTo>
                    <a:pt x="1906" y="8229"/>
                  </a:lnTo>
                  <a:lnTo>
                    <a:pt x="1670" y="8056"/>
                  </a:lnTo>
                  <a:lnTo>
                    <a:pt x="1434" y="7847"/>
                  </a:lnTo>
                  <a:lnTo>
                    <a:pt x="1189" y="7602"/>
                  </a:lnTo>
                  <a:lnTo>
                    <a:pt x="951" y="7321"/>
                  </a:lnTo>
                  <a:lnTo>
                    <a:pt x="727" y="6995"/>
                  </a:lnTo>
                  <a:lnTo>
                    <a:pt x="527" y="6630"/>
                  </a:lnTo>
                  <a:lnTo>
                    <a:pt x="344" y="6224"/>
                  </a:lnTo>
                  <a:lnTo>
                    <a:pt x="198" y="5770"/>
                  </a:lnTo>
                  <a:lnTo>
                    <a:pt x="90" y="5264"/>
                  </a:lnTo>
                  <a:lnTo>
                    <a:pt x="27" y="4711"/>
                  </a:lnTo>
                  <a:lnTo>
                    <a:pt x="18" y="4684"/>
                  </a:lnTo>
                  <a:lnTo>
                    <a:pt x="9" y="4592"/>
                  </a:lnTo>
                  <a:lnTo>
                    <a:pt x="0" y="4457"/>
                  </a:lnTo>
                  <a:lnTo>
                    <a:pt x="0" y="4266"/>
                  </a:lnTo>
                  <a:lnTo>
                    <a:pt x="9" y="4048"/>
                  </a:lnTo>
                  <a:lnTo>
                    <a:pt x="45" y="3784"/>
                  </a:lnTo>
                  <a:lnTo>
                    <a:pt x="99" y="3495"/>
                  </a:lnTo>
                  <a:lnTo>
                    <a:pt x="189" y="3187"/>
                  </a:lnTo>
                  <a:lnTo>
                    <a:pt x="317" y="2859"/>
                  </a:lnTo>
                  <a:lnTo>
                    <a:pt x="482" y="2515"/>
                  </a:lnTo>
                  <a:lnTo>
                    <a:pt x="706" y="2171"/>
                  </a:lnTo>
                  <a:lnTo>
                    <a:pt x="982" y="1824"/>
                  </a:lnTo>
                  <a:lnTo>
                    <a:pt x="1326" y="1480"/>
                  </a:lnTo>
                  <a:lnTo>
                    <a:pt x="1735" y="1154"/>
                  </a:lnTo>
                  <a:lnTo>
                    <a:pt x="2220" y="835"/>
                  </a:lnTo>
                  <a:lnTo>
                    <a:pt x="2786" y="545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78920" y="7643880"/>
              <a:ext cx="204480" cy="417600"/>
            </a:xfrm>
            <a:custGeom>
              <a:avLst/>
              <a:gdLst/>
              <a:ahLst/>
              <a:rect l="l" t="t" r="r" b="b"/>
              <a:pathLst>
                <a:path w="3935" h="6612">
                  <a:moveTo>
                    <a:pt x="564" y="0"/>
                  </a:moveTo>
                  <a:lnTo>
                    <a:pt x="609" y="36"/>
                  </a:lnTo>
                  <a:lnTo>
                    <a:pt x="744" y="153"/>
                  </a:lnTo>
                  <a:lnTo>
                    <a:pt x="945" y="326"/>
                  </a:lnTo>
                  <a:lnTo>
                    <a:pt x="1208" y="571"/>
                  </a:lnTo>
                  <a:lnTo>
                    <a:pt x="1507" y="861"/>
                  </a:lnTo>
                  <a:lnTo>
                    <a:pt x="1846" y="1205"/>
                  </a:lnTo>
                  <a:lnTo>
                    <a:pt x="2190" y="1588"/>
                  </a:lnTo>
                  <a:lnTo>
                    <a:pt x="2543" y="2006"/>
                  </a:lnTo>
                  <a:lnTo>
                    <a:pt x="2882" y="2448"/>
                  </a:lnTo>
                  <a:lnTo>
                    <a:pt x="3199" y="2920"/>
                  </a:lnTo>
                  <a:lnTo>
                    <a:pt x="3480" y="3399"/>
                  </a:lnTo>
                  <a:lnTo>
                    <a:pt x="3699" y="3889"/>
                  </a:lnTo>
                  <a:lnTo>
                    <a:pt x="3854" y="4387"/>
                  </a:lnTo>
                  <a:lnTo>
                    <a:pt x="3935" y="4878"/>
                  </a:lnTo>
                  <a:lnTo>
                    <a:pt x="3917" y="5359"/>
                  </a:lnTo>
                  <a:lnTo>
                    <a:pt x="3789" y="5822"/>
                  </a:lnTo>
                  <a:lnTo>
                    <a:pt x="3771" y="5831"/>
                  </a:lnTo>
                  <a:lnTo>
                    <a:pt x="3717" y="5867"/>
                  </a:lnTo>
                  <a:lnTo>
                    <a:pt x="3627" y="5912"/>
                  </a:lnTo>
                  <a:lnTo>
                    <a:pt x="3516" y="5984"/>
                  </a:lnTo>
                  <a:lnTo>
                    <a:pt x="3372" y="6059"/>
                  </a:lnTo>
                  <a:lnTo>
                    <a:pt x="3217" y="6139"/>
                  </a:lnTo>
                  <a:lnTo>
                    <a:pt x="3043" y="6220"/>
                  </a:lnTo>
                  <a:lnTo>
                    <a:pt x="2864" y="6301"/>
                  </a:lnTo>
                  <a:lnTo>
                    <a:pt x="2662" y="6385"/>
                  </a:lnTo>
                  <a:lnTo>
                    <a:pt x="2471" y="6465"/>
                  </a:lnTo>
                  <a:lnTo>
                    <a:pt x="2271" y="6519"/>
                  </a:lnTo>
                  <a:lnTo>
                    <a:pt x="2082" y="6576"/>
                  </a:lnTo>
                  <a:lnTo>
                    <a:pt x="1900" y="6603"/>
                  </a:lnTo>
                  <a:lnTo>
                    <a:pt x="1726" y="6612"/>
                  </a:lnTo>
                  <a:lnTo>
                    <a:pt x="1573" y="6594"/>
                  </a:lnTo>
                  <a:lnTo>
                    <a:pt x="1436" y="6546"/>
                  </a:lnTo>
                  <a:lnTo>
                    <a:pt x="1244" y="6456"/>
                  </a:lnTo>
                  <a:lnTo>
                    <a:pt x="1155" y="6420"/>
                  </a:lnTo>
                  <a:lnTo>
                    <a:pt x="1137" y="6420"/>
                  </a:lnTo>
                  <a:lnTo>
                    <a:pt x="1172" y="6447"/>
                  </a:lnTo>
                  <a:lnTo>
                    <a:pt x="1244" y="6501"/>
                  </a:lnTo>
                  <a:lnTo>
                    <a:pt x="1319" y="6546"/>
                  </a:lnTo>
                  <a:lnTo>
                    <a:pt x="1382" y="6585"/>
                  </a:lnTo>
                  <a:lnTo>
                    <a:pt x="1409" y="6603"/>
                  </a:lnTo>
                  <a:lnTo>
                    <a:pt x="1427" y="6555"/>
                  </a:lnTo>
                  <a:lnTo>
                    <a:pt x="1463" y="6420"/>
                  </a:lnTo>
                  <a:lnTo>
                    <a:pt x="1516" y="6211"/>
                  </a:lnTo>
                  <a:lnTo>
                    <a:pt x="1573" y="5930"/>
                  </a:lnTo>
                  <a:lnTo>
                    <a:pt x="1636" y="5595"/>
                  </a:lnTo>
                  <a:lnTo>
                    <a:pt x="1690" y="5204"/>
                  </a:lnTo>
                  <a:lnTo>
                    <a:pt x="1726" y="4767"/>
                  </a:lnTo>
                  <a:lnTo>
                    <a:pt x="1735" y="4308"/>
                  </a:lnTo>
                  <a:lnTo>
                    <a:pt x="1717" y="3817"/>
                  </a:lnTo>
                  <a:lnTo>
                    <a:pt x="1654" y="3309"/>
                  </a:lnTo>
                  <a:lnTo>
                    <a:pt x="1546" y="2803"/>
                  </a:lnTo>
                  <a:lnTo>
                    <a:pt x="1382" y="2295"/>
                  </a:lnTo>
                  <a:lnTo>
                    <a:pt x="1155" y="1788"/>
                  </a:lnTo>
                  <a:lnTo>
                    <a:pt x="855" y="1307"/>
                  </a:lnTo>
                  <a:lnTo>
                    <a:pt x="472" y="861"/>
                  </a:lnTo>
                  <a:lnTo>
                    <a:pt x="0" y="443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08000" y="7553160"/>
              <a:ext cx="101520" cy="63720"/>
            </a:xfrm>
            <a:custGeom>
              <a:avLst/>
              <a:gdLst/>
              <a:ahLst/>
              <a:rect l="l" t="t" r="r" b="b"/>
              <a:pathLst>
                <a:path w="1954" h="1007">
                  <a:moveTo>
                    <a:pt x="1954" y="673"/>
                  </a:moveTo>
                  <a:lnTo>
                    <a:pt x="1954" y="664"/>
                  </a:lnTo>
                  <a:lnTo>
                    <a:pt x="1936" y="643"/>
                  </a:lnTo>
                  <a:lnTo>
                    <a:pt x="1918" y="607"/>
                  </a:lnTo>
                  <a:lnTo>
                    <a:pt x="1880" y="562"/>
                  </a:lnTo>
                  <a:lnTo>
                    <a:pt x="1835" y="517"/>
                  </a:lnTo>
                  <a:lnTo>
                    <a:pt x="1772" y="463"/>
                  </a:lnTo>
                  <a:lnTo>
                    <a:pt x="1691" y="400"/>
                  </a:lnTo>
                  <a:lnTo>
                    <a:pt x="1590" y="335"/>
                  </a:lnTo>
                  <a:lnTo>
                    <a:pt x="1482" y="272"/>
                  </a:lnTo>
                  <a:lnTo>
                    <a:pt x="1345" y="209"/>
                  </a:lnTo>
                  <a:lnTo>
                    <a:pt x="1183" y="155"/>
                  </a:lnTo>
                  <a:lnTo>
                    <a:pt x="1000" y="108"/>
                  </a:lnTo>
                  <a:lnTo>
                    <a:pt x="790" y="63"/>
                  </a:lnTo>
                  <a:lnTo>
                    <a:pt x="554" y="27"/>
                  </a:lnTo>
                  <a:lnTo>
                    <a:pt x="290" y="9"/>
                  </a:lnTo>
                  <a:lnTo>
                    <a:pt x="0" y="0"/>
                  </a:lnTo>
                  <a:lnTo>
                    <a:pt x="1799" y="1007"/>
                  </a:lnTo>
                  <a:lnTo>
                    <a:pt x="1954" y="67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99360" y="7625880"/>
              <a:ext cx="122040" cy="239400"/>
            </a:xfrm>
            <a:custGeom>
              <a:avLst/>
              <a:gdLst/>
              <a:ahLst/>
              <a:rect l="l" t="t" r="r" b="b"/>
              <a:pathLst>
                <a:path w="2347" h="3791">
                  <a:moveTo>
                    <a:pt x="2347" y="156"/>
                  </a:moveTo>
                  <a:lnTo>
                    <a:pt x="2320" y="173"/>
                  </a:lnTo>
                  <a:lnTo>
                    <a:pt x="2244" y="236"/>
                  </a:lnTo>
                  <a:lnTo>
                    <a:pt x="2136" y="329"/>
                  </a:lnTo>
                  <a:lnTo>
                    <a:pt x="1999" y="455"/>
                  </a:lnTo>
                  <a:lnTo>
                    <a:pt x="1828" y="619"/>
                  </a:lnTo>
                  <a:lnTo>
                    <a:pt x="1637" y="810"/>
                  </a:lnTo>
                  <a:lnTo>
                    <a:pt x="1437" y="1028"/>
                  </a:lnTo>
                  <a:lnTo>
                    <a:pt x="1227" y="1262"/>
                  </a:lnTo>
                  <a:lnTo>
                    <a:pt x="1017" y="1525"/>
                  </a:lnTo>
                  <a:lnTo>
                    <a:pt x="811" y="1809"/>
                  </a:lnTo>
                  <a:lnTo>
                    <a:pt x="619" y="2108"/>
                  </a:lnTo>
                  <a:lnTo>
                    <a:pt x="436" y="2424"/>
                  </a:lnTo>
                  <a:lnTo>
                    <a:pt x="292" y="2750"/>
                  </a:lnTo>
                  <a:lnTo>
                    <a:pt x="164" y="3096"/>
                  </a:lnTo>
                  <a:lnTo>
                    <a:pt x="83" y="3438"/>
                  </a:lnTo>
                  <a:lnTo>
                    <a:pt x="47" y="3791"/>
                  </a:lnTo>
                  <a:lnTo>
                    <a:pt x="38" y="3764"/>
                  </a:lnTo>
                  <a:lnTo>
                    <a:pt x="29" y="3692"/>
                  </a:lnTo>
                  <a:lnTo>
                    <a:pt x="18" y="3584"/>
                  </a:lnTo>
                  <a:lnTo>
                    <a:pt x="0" y="3429"/>
                  </a:lnTo>
                  <a:lnTo>
                    <a:pt x="0" y="3249"/>
                  </a:lnTo>
                  <a:lnTo>
                    <a:pt x="9" y="3022"/>
                  </a:lnTo>
                  <a:lnTo>
                    <a:pt x="29" y="2777"/>
                  </a:lnTo>
                  <a:lnTo>
                    <a:pt x="83" y="2514"/>
                  </a:lnTo>
                  <a:lnTo>
                    <a:pt x="155" y="2224"/>
                  </a:lnTo>
                  <a:lnTo>
                    <a:pt x="254" y="1924"/>
                  </a:lnTo>
                  <a:lnTo>
                    <a:pt x="400" y="1608"/>
                  </a:lnTo>
                  <a:lnTo>
                    <a:pt x="584" y="1291"/>
                  </a:lnTo>
                  <a:lnTo>
                    <a:pt x="811" y="963"/>
                  </a:lnTo>
                  <a:lnTo>
                    <a:pt x="1083" y="637"/>
                  </a:lnTo>
                  <a:lnTo>
                    <a:pt x="1419" y="320"/>
                  </a:lnTo>
                  <a:lnTo>
                    <a:pt x="1810" y="0"/>
                  </a:lnTo>
                  <a:lnTo>
                    <a:pt x="1810" y="21"/>
                  </a:lnTo>
                  <a:lnTo>
                    <a:pt x="1828" y="57"/>
                  </a:lnTo>
                  <a:lnTo>
                    <a:pt x="1855" y="111"/>
                  </a:lnTo>
                  <a:lnTo>
                    <a:pt x="1909" y="156"/>
                  </a:lnTo>
                  <a:lnTo>
                    <a:pt x="1972" y="200"/>
                  </a:lnTo>
                  <a:lnTo>
                    <a:pt x="2073" y="218"/>
                  </a:lnTo>
                  <a:lnTo>
                    <a:pt x="2190" y="209"/>
                  </a:lnTo>
                  <a:lnTo>
                    <a:pt x="2347" y="1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24120" y="7692120"/>
              <a:ext cx="483120" cy="397800"/>
            </a:xfrm>
            <a:custGeom>
              <a:avLst/>
              <a:gdLst/>
              <a:ahLst/>
              <a:rect l="l" t="t" r="r" b="b"/>
              <a:pathLst>
                <a:path w="9299" h="6301">
                  <a:moveTo>
                    <a:pt x="9281" y="1053"/>
                  </a:moveTo>
                  <a:lnTo>
                    <a:pt x="9254" y="817"/>
                  </a:lnTo>
                  <a:lnTo>
                    <a:pt x="9200" y="562"/>
                  </a:lnTo>
                  <a:lnTo>
                    <a:pt x="9128" y="290"/>
                  </a:lnTo>
                  <a:lnTo>
                    <a:pt x="9027" y="0"/>
                  </a:lnTo>
                  <a:lnTo>
                    <a:pt x="9036" y="63"/>
                  </a:lnTo>
                  <a:lnTo>
                    <a:pt x="9045" y="225"/>
                  </a:lnTo>
                  <a:lnTo>
                    <a:pt x="9036" y="461"/>
                  </a:lnTo>
                  <a:lnTo>
                    <a:pt x="9000" y="714"/>
                  </a:lnTo>
                  <a:lnTo>
                    <a:pt x="8919" y="968"/>
                  </a:lnTo>
                  <a:lnTo>
                    <a:pt x="8773" y="1178"/>
                  </a:lnTo>
                  <a:lnTo>
                    <a:pt x="8554" y="1298"/>
                  </a:lnTo>
                  <a:lnTo>
                    <a:pt x="8237" y="1298"/>
                  </a:lnTo>
                  <a:lnTo>
                    <a:pt x="8237" y="1334"/>
                  </a:lnTo>
                  <a:lnTo>
                    <a:pt x="8228" y="1441"/>
                  </a:lnTo>
                  <a:lnTo>
                    <a:pt x="8210" y="1614"/>
                  </a:lnTo>
                  <a:lnTo>
                    <a:pt x="8192" y="1832"/>
                  </a:lnTo>
                  <a:lnTo>
                    <a:pt x="8147" y="2095"/>
                  </a:lnTo>
                  <a:lnTo>
                    <a:pt x="8093" y="2392"/>
                  </a:lnTo>
                  <a:lnTo>
                    <a:pt x="8009" y="2718"/>
                  </a:lnTo>
                  <a:lnTo>
                    <a:pt x="7911" y="3055"/>
                  </a:lnTo>
                  <a:lnTo>
                    <a:pt x="7773" y="3399"/>
                  </a:lnTo>
                  <a:lnTo>
                    <a:pt x="7621" y="3751"/>
                  </a:lnTo>
                  <a:lnTo>
                    <a:pt x="7428" y="4089"/>
                  </a:lnTo>
                  <a:lnTo>
                    <a:pt x="7201" y="4406"/>
                  </a:lnTo>
                  <a:lnTo>
                    <a:pt x="6929" y="4696"/>
                  </a:lnTo>
                  <a:lnTo>
                    <a:pt x="6621" y="4950"/>
                  </a:lnTo>
                  <a:lnTo>
                    <a:pt x="6264" y="5159"/>
                  </a:lnTo>
                  <a:lnTo>
                    <a:pt x="5867" y="5315"/>
                  </a:lnTo>
                  <a:lnTo>
                    <a:pt x="5840" y="5323"/>
                  </a:lnTo>
                  <a:lnTo>
                    <a:pt x="5764" y="5359"/>
                  </a:lnTo>
                  <a:lnTo>
                    <a:pt x="5647" y="5404"/>
                  </a:lnTo>
                  <a:lnTo>
                    <a:pt x="5483" y="5458"/>
                  </a:lnTo>
                  <a:lnTo>
                    <a:pt x="5265" y="5512"/>
                  </a:lnTo>
                  <a:lnTo>
                    <a:pt x="5011" y="5569"/>
                  </a:lnTo>
                  <a:lnTo>
                    <a:pt x="4702" y="5614"/>
                  </a:lnTo>
                  <a:lnTo>
                    <a:pt x="4358" y="5640"/>
                  </a:lnTo>
                  <a:lnTo>
                    <a:pt x="3957" y="5649"/>
                  </a:lnTo>
                  <a:lnTo>
                    <a:pt x="3522" y="5623"/>
                  </a:lnTo>
                  <a:lnTo>
                    <a:pt x="3041" y="5569"/>
                  </a:lnTo>
                  <a:lnTo>
                    <a:pt x="2514" y="5476"/>
                  </a:lnTo>
                  <a:lnTo>
                    <a:pt x="1948" y="5332"/>
                  </a:lnTo>
                  <a:lnTo>
                    <a:pt x="1341" y="5141"/>
                  </a:lnTo>
                  <a:lnTo>
                    <a:pt x="688" y="4887"/>
                  </a:lnTo>
                  <a:lnTo>
                    <a:pt x="0" y="4570"/>
                  </a:lnTo>
                  <a:lnTo>
                    <a:pt x="18" y="4597"/>
                  </a:lnTo>
                  <a:lnTo>
                    <a:pt x="72" y="4669"/>
                  </a:lnTo>
                  <a:lnTo>
                    <a:pt x="162" y="4777"/>
                  </a:lnTo>
                  <a:lnTo>
                    <a:pt x="290" y="4914"/>
                  </a:lnTo>
                  <a:lnTo>
                    <a:pt x="463" y="5078"/>
                  </a:lnTo>
                  <a:lnTo>
                    <a:pt x="670" y="5258"/>
                  </a:lnTo>
                  <a:lnTo>
                    <a:pt x="913" y="5440"/>
                  </a:lnTo>
                  <a:lnTo>
                    <a:pt x="1213" y="5623"/>
                  </a:lnTo>
                  <a:lnTo>
                    <a:pt x="1550" y="5805"/>
                  </a:lnTo>
                  <a:lnTo>
                    <a:pt x="1930" y="5966"/>
                  </a:lnTo>
                  <a:lnTo>
                    <a:pt x="2359" y="6104"/>
                  </a:lnTo>
                  <a:lnTo>
                    <a:pt x="2832" y="6212"/>
                  </a:lnTo>
                  <a:lnTo>
                    <a:pt x="3358" y="6275"/>
                  </a:lnTo>
                  <a:lnTo>
                    <a:pt x="3930" y="6301"/>
                  </a:lnTo>
                  <a:lnTo>
                    <a:pt x="4549" y="6266"/>
                  </a:lnTo>
                  <a:lnTo>
                    <a:pt x="5220" y="6176"/>
                  </a:lnTo>
                  <a:lnTo>
                    <a:pt x="5256" y="6176"/>
                  </a:lnTo>
                  <a:lnTo>
                    <a:pt x="5366" y="6158"/>
                  </a:lnTo>
                  <a:lnTo>
                    <a:pt x="5541" y="6131"/>
                  </a:lnTo>
                  <a:lnTo>
                    <a:pt x="5755" y="6086"/>
                  </a:lnTo>
                  <a:lnTo>
                    <a:pt x="6019" y="6011"/>
                  </a:lnTo>
                  <a:lnTo>
                    <a:pt x="6312" y="5922"/>
                  </a:lnTo>
                  <a:lnTo>
                    <a:pt x="6630" y="5793"/>
                  </a:lnTo>
                  <a:lnTo>
                    <a:pt x="6956" y="5632"/>
                  </a:lnTo>
                  <a:lnTo>
                    <a:pt x="7291" y="5431"/>
                  </a:lnTo>
                  <a:lnTo>
                    <a:pt x="7621" y="5186"/>
                  </a:lnTo>
                  <a:lnTo>
                    <a:pt x="7929" y="4896"/>
                  </a:lnTo>
                  <a:lnTo>
                    <a:pt x="8210" y="4561"/>
                  </a:lnTo>
                  <a:lnTo>
                    <a:pt x="8464" y="4161"/>
                  </a:lnTo>
                  <a:lnTo>
                    <a:pt x="8674" y="3706"/>
                  </a:lnTo>
                  <a:lnTo>
                    <a:pt x="8829" y="3190"/>
                  </a:lnTo>
                  <a:lnTo>
                    <a:pt x="8919" y="2601"/>
                  </a:lnTo>
                  <a:lnTo>
                    <a:pt x="8937" y="2583"/>
                  </a:lnTo>
                  <a:lnTo>
                    <a:pt x="8991" y="2511"/>
                  </a:lnTo>
                  <a:lnTo>
                    <a:pt x="9063" y="2401"/>
                  </a:lnTo>
                  <a:lnTo>
                    <a:pt x="9146" y="2239"/>
                  </a:lnTo>
                  <a:lnTo>
                    <a:pt x="9218" y="2032"/>
                  </a:lnTo>
                  <a:lnTo>
                    <a:pt x="9281" y="1760"/>
                  </a:lnTo>
                  <a:lnTo>
                    <a:pt x="9299" y="1432"/>
                  </a:lnTo>
                  <a:lnTo>
                    <a:pt x="9281" y="105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2200" y="7503120"/>
              <a:ext cx="552240" cy="591480"/>
            </a:xfrm>
            <a:custGeom>
              <a:avLst/>
              <a:gdLst/>
              <a:ahLst/>
              <a:rect l="l" t="t" r="r" b="b"/>
              <a:pathLst>
                <a:path w="10627" h="9370">
                  <a:moveTo>
                    <a:pt x="54" y="4808"/>
                  </a:moveTo>
                  <a:lnTo>
                    <a:pt x="45" y="4781"/>
                  </a:lnTo>
                  <a:lnTo>
                    <a:pt x="36" y="4689"/>
                  </a:lnTo>
                  <a:lnTo>
                    <a:pt x="18" y="4554"/>
                  </a:lnTo>
                  <a:lnTo>
                    <a:pt x="0" y="4363"/>
                  </a:lnTo>
                  <a:lnTo>
                    <a:pt x="0" y="4145"/>
                  </a:lnTo>
                  <a:lnTo>
                    <a:pt x="9" y="3881"/>
                  </a:lnTo>
                  <a:lnTo>
                    <a:pt x="54" y="3601"/>
                  </a:lnTo>
                  <a:lnTo>
                    <a:pt x="117" y="3293"/>
                  </a:lnTo>
                  <a:lnTo>
                    <a:pt x="227" y="2976"/>
                  </a:lnTo>
                  <a:lnTo>
                    <a:pt x="371" y="2639"/>
                  </a:lnTo>
                  <a:lnTo>
                    <a:pt x="571" y="2304"/>
                  </a:lnTo>
                  <a:lnTo>
                    <a:pt x="834" y="1969"/>
                  </a:lnTo>
                  <a:lnTo>
                    <a:pt x="1155" y="1649"/>
                  </a:lnTo>
                  <a:lnTo>
                    <a:pt x="1544" y="1332"/>
                  </a:lnTo>
                  <a:lnTo>
                    <a:pt x="2008" y="1042"/>
                  </a:lnTo>
                  <a:lnTo>
                    <a:pt x="2559" y="779"/>
                  </a:lnTo>
                  <a:lnTo>
                    <a:pt x="2586" y="761"/>
                  </a:lnTo>
                  <a:lnTo>
                    <a:pt x="2678" y="708"/>
                  </a:lnTo>
                  <a:lnTo>
                    <a:pt x="2813" y="624"/>
                  </a:lnTo>
                  <a:lnTo>
                    <a:pt x="2995" y="526"/>
                  </a:lnTo>
                  <a:lnTo>
                    <a:pt x="3233" y="414"/>
                  </a:lnTo>
                  <a:lnTo>
                    <a:pt x="3514" y="308"/>
                  </a:lnTo>
                  <a:lnTo>
                    <a:pt x="3831" y="200"/>
                  </a:lnTo>
                  <a:lnTo>
                    <a:pt x="4176" y="106"/>
                  </a:lnTo>
                  <a:lnTo>
                    <a:pt x="4567" y="36"/>
                  </a:lnTo>
                  <a:lnTo>
                    <a:pt x="4987" y="0"/>
                  </a:lnTo>
                  <a:lnTo>
                    <a:pt x="5420" y="0"/>
                  </a:lnTo>
                  <a:lnTo>
                    <a:pt x="5893" y="45"/>
                  </a:lnTo>
                  <a:lnTo>
                    <a:pt x="6375" y="133"/>
                  </a:lnTo>
                  <a:lnTo>
                    <a:pt x="6874" y="299"/>
                  </a:lnTo>
                  <a:lnTo>
                    <a:pt x="7393" y="526"/>
                  </a:lnTo>
                  <a:lnTo>
                    <a:pt x="7920" y="833"/>
                  </a:lnTo>
                  <a:lnTo>
                    <a:pt x="7947" y="842"/>
                  </a:lnTo>
                  <a:lnTo>
                    <a:pt x="8030" y="869"/>
                  </a:lnTo>
                  <a:lnTo>
                    <a:pt x="8156" y="923"/>
                  </a:lnTo>
                  <a:lnTo>
                    <a:pt x="8320" y="997"/>
                  </a:lnTo>
                  <a:lnTo>
                    <a:pt x="8521" y="1096"/>
                  </a:lnTo>
                  <a:lnTo>
                    <a:pt x="8736" y="1215"/>
                  </a:lnTo>
                  <a:lnTo>
                    <a:pt x="8973" y="1368"/>
                  </a:lnTo>
                  <a:lnTo>
                    <a:pt x="9218" y="1541"/>
                  </a:lnTo>
                  <a:lnTo>
                    <a:pt x="9464" y="1742"/>
                  </a:lnTo>
                  <a:lnTo>
                    <a:pt x="9700" y="1969"/>
                  </a:lnTo>
                  <a:lnTo>
                    <a:pt x="9928" y="2223"/>
                  </a:lnTo>
                  <a:lnTo>
                    <a:pt x="10137" y="2504"/>
                  </a:lnTo>
                  <a:lnTo>
                    <a:pt x="10319" y="2821"/>
                  </a:lnTo>
                  <a:lnTo>
                    <a:pt x="10463" y="3174"/>
                  </a:lnTo>
                  <a:lnTo>
                    <a:pt x="10566" y="3547"/>
                  </a:lnTo>
                  <a:lnTo>
                    <a:pt x="10620" y="3962"/>
                  </a:lnTo>
                  <a:lnTo>
                    <a:pt x="10627" y="4145"/>
                  </a:lnTo>
                  <a:lnTo>
                    <a:pt x="10620" y="4328"/>
                  </a:lnTo>
                  <a:lnTo>
                    <a:pt x="10602" y="4519"/>
                  </a:lnTo>
                  <a:lnTo>
                    <a:pt x="10584" y="4716"/>
                  </a:lnTo>
                  <a:lnTo>
                    <a:pt x="10548" y="4925"/>
                  </a:lnTo>
                  <a:lnTo>
                    <a:pt x="10490" y="5134"/>
                  </a:lnTo>
                  <a:lnTo>
                    <a:pt x="10427" y="5352"/>
                  </a:lnTo>
                  <a:lnTo>
                    <a:pt x="10355" y="5568"/>
                  </a:lnTo>
                  <a:lnTo>
                    <a:pt x="10346" y="5604"/>
                  </a:lnTo>
                  <a:lnTo>
                    <a:pt x="10328" y="5712"/>
                  </a:lnTo>
                  <a:lnTo>
                    <a:pt x="10293" y="5885"/>
                  </a:lnTo>
                  <a:lnTo>
                    <a:pt x="10236" y="6112"/>
                  </a:lnTo>
                  <a:lnTo>
                    <a:pt x="10146" y="6375"/>
                  </a:lnTo>
                  <a:lnTo>
                    <a:pt x="10029" y="6673"/>
                  </a:lnTo>
                  <a:lnTo>
                    <a:pt x="9865" y="6999"/>
                  </a:lnTo>
                  <a:lnTo>
                    <a:pt x="9664" y="7337"/>
                  </a:lnTo>
                  <a:lnTo>
                    <a:pt x="9419" y="7672"/>
                  </a:lnTo>
                  <a:lnTo>
                    <a:pt x="9111" y="8007"/>
                  </a:lnTo>
                  <a:lnTo>
                    <a:pt x="8758" y="8326"/>
                  </a:lnTo>
                  <a:lnTo>
                    <a:pt x="8329" y="8617"/>
                  </a:lnTo>
                  <a:lnTo>
                    <a:pt x="7839" y="8880"/>
                  </a:lnTo>
                  <a:lnTo>
                    <a:pt x="7285" y="9089"/>
                  </a:lnTo>
                  <a:lnTo>
                    <a:pt x="6638" y="9251"/>
                  </a:lnTo>
                  <a:lnTo>
                    <a:pt x="5920" y="9352"/>
                  </a:lnTo>
                  <a:lnTo>
                    <a:pt x="5857" y="9361"/>
                  </a:lnTo>
                  <a:lnTo>
                    <a:pt x="5674" y="9370"/>
                  </a:lnTo>
                  <a:lnTo>
                    <a:pt x="5402" y="9370"/>
                  </a:lnTo>
                  <a:lnTo>
                    <a:pt x="5040" y="9361"/>
                  </a:lnTo>
                  <a:lnTo>
                    <a:pt x="4603" y="9334"/>
                  </a:lnTo>
                  <a:lnTo>
                    <a:pt x="4122" y="9269"/>
                  </a:lnTo>
                  <a:lnTo>
                    <a:pt x="3603" y="9170"/>
                  </a:lnTo>
                  <a:lnTo>
                    <a:pt x="3076" y="9023"/>
                  </a:lnTo>
                  <a:lnTo>
                    <a:pt x="2532" y="8817"/>
                  </a:lnTo>
                  <a:lnTo>
                    <a:pt x="2017" y="8545"/>
                  </a:lnTo>
                  <a:lnTo>
                    <a:pt x="1526" y="8198"/>
                  </a:lnTo>
                  <a:lnTo>
                    <a:pt x="1072" y="7762"/>
                  </a:lnTo>
                  <a:lnTo>
                    <a:pt x="691" y="7244"/>
                  </a:lnTo>
                  <a:lnTo>
                    <a:pt x="380" y="6619"/>
                  </a:lnTo>
                  <a:lnTo>
                    <a:pt x="174" y="5885"/>
                  </a:lnTo>
                  <a:lnTo>
                    <a:pt x="72" y="5035"/>
                  </a:lnTo>
                  <a:lnTo>
                    <a:pt x="81" y="5080"/>
                  </a:lnTo>
                  <a:lnTo>
                    <a:pt x="99" y="5224"/>
                  </a:lnTo>
                  <a:lnTo>
                    <a:pt x="147" y="5440"/>
                  </a:lnTo>
                  <a:lnTo>
                    <a:pt x="218" y="5721"/>
                  </a:lnTo>
                  <a:lnTo>
                    <a:pt x="326" y="6049"/>
                  </a:lnTo>
                  <a:lnTo>
                    <a:pt x="482" y="6419"/>
                  </a:lnTo>
                  <a:lnTo>
                    <a:pt x="682" y="6812"/>
                  </a:lnTo>
                  <a:lnTo>
                    <a:pt x="946" y="7208"/>
                  </a:lnTo>
                  <a:lnTo>
                    <a:pt x="1272" y="7609"/>
                  </a:lnTo>
                  <a:lnTo>
                    <a:pt x="1672" y="7989"/>
                  </a:lnTo>
                  <a:lnTo>
                    <a:pt x="2139" y="8344"/>
                  </a:lnTo>
                  <a:lnTo>
                    <a:pt x="2705" y="8652"/>
                  </a:lnTo>
                  <a:lnTo>
                    <a:pt x="3358" y="8898"/>
                  </a:lnTo>
                  <a:lnTo>
                    <a:pt x="4122" y="9080"/>
                  </a:lnTo>
                  <a:lnTo>
                    <a:pt x="4987" y="9170"/>
                  </a:lnTo>
                  <a:lnTo>
                    <a:pt x="5959" y="9170"/>
                  </a:lnTo>
                  <a:lnTo>
                    <a:pt x="5995" y="9170"/>
                  </a:lnTo>
                  <a:lnTo>
                    <a:pt x="6103" y="9161"/>
                  </a:lnTo>
                  <a:lnTo>
                    <a:pt x="6276" y="9143"/>
                  </a:lnTo>
                  <a:lnTo>
                    <a:pt x="6503" y="9116"/>
                  </a:lnTo>
                  <a:lnTo>
                    <a:pt x="6775" y="9062"/>
                  </a:lnTo>
                  <a:lnTo>
                    <a:pt x="7085" y="8978"/>
                  </a:lnTo>
                  <a:lnTo>
                    <a:pt x="7411" y="8871"/>
                  </a:lnTo>
                  <a:lnTo>
                    <a:pt x="7767" y="8724"/>
                  </a:lnTo>
                  <a:lnTo>
                    <a:pt x="8120" y="8533"/>
                  </a:lnTo>
                  <a:lnTo>
                    <a:pt x="8482" y="8300"/>
                  </a:lnTo>
                  <a:lnTo>
                    <a:pt x="8830" y="8007"/>
                  </a:lnTo>
                  <a:lnTo>
                    <a:pt x="9156" y="7663"/>
                  </a:lnTo>
                  <a:lnTo>
                    <a:pt x="9455" y="7253"/>
                  </a:lnTo>
                  <a:lnTo>
                    <a:pt x="9727" y="6776"/>
                  </a:lnTo>
                  <a:lnTo>
                    <a:pt x="9946" y="6220"/>
                  </a:lnTo>
                  <a:lnTo>
                    <a:pt x="10110" y="5595"/>
                  </a:lnTo>
                  <a:lnTo>
                    <a:pt x="10128" y="5559"/>
                  </a:lnTo>
                  <a:lnTo>
                    <a:pt x="10164" y="5457"/>
                  </a:lnTo>
                  <a:lnTo>
                    <a:pt x="10218" y="5298"/>
                  </a:lnTo>
                  <a:lnTo>
                    <a:pt x="10275" y="5080"/>
                  </a:lnTo>
                  <a:lnTo>
                    <a:pt x="10328" y="4817"/>
                  </a:lnTo>
                  <a:lnTo>
                    <a:pt x="10364" y="4519"/>
                  </a:lnTo>
                  <a:lnTo>
                    <a:pt x="10382" y="4181"/>
                  </a:lnTo>
                  <a:lnTo>
                    <a:pt x="10364" y="3829"/>
                  </a:lnTo>
                  <a:lnTo>
                    <a:pt x="10302" y="3455"/>
                  </a:lnTo>
                  <a:lnTo>
                    <a:pt x="10182" y="3075"/>
                  </a:lnTo>
                  <a:lnTo>
                    <a:pt x="10009" y="2693"/>
                  </a:lnTo>
                  <a:lnTo>
                    <a:pt x="9754" y="2322"/>
                  </a:lnTo>
                  <a:lnTo>
                    <a:pt x="9428" y="1960"/>
                  </a:lnTo>
                  <a:lnTo>
                    <a:pt x="9003" y="1613"/>
                  </a:lnTo>
                  <a:lnTo>
                    <a:pt x="8482" y="1305"/>
                  </a:lnTo>
                  <a:lnTo>
                    <a:pt x="7848" y="1024"/>
                  </a:lnTo>
                  <a:lnTo>
                    <a:pt x="7821" y="1006"/>
                  </a:lnTo>
                  <a:lnTo>
                    <a:pt x="7728" y="952"/>
                  </a:lnTo>
                  <a:lnTo>
                    <a:pt x="7593" y="869"/>
                  </a:lnTo>
                  <a:lnTo>
                    <a:pt x="7411" y="770"/>
                  </a:lnTo>
                  <a:lnTo>
                    <a:pt x="7183" y="651"/>
                  </a:lnTo>
                  <a:lnTo>
                    <a:pt x="6910" y="544"/>
                  </a:lnTo>
                  <a:lnTo>
                    <a:pt x="6593" y="423"/>
                  </a:lnTo>
                  <a:lnTo>
                    <a:pt x="6249" y="335"/>
                  </a:lnTo>
                  <a:lnTo>
                    <a:pt x="5875" y="254"/>
                  </a:lnTo>
                  <a:lnTo>
                    <a:pt x="5468" y="209"/>
                  </a:lnTo>
                  <a:lnTo>
                    <a:pt x="5040" y="191"/>
                  </a:lnTo>
                  <a:lnTo>
                    <a:pt x="4585" y="227"/>
                  </a:lnTo>
                  <a:lnTo>
                    <a:pt x="4122" y="308"/>
                  </a:lnTo>
                  <a:lnTo>
                    <a:pt x="3639" y="454"/>
                  </a:lnTo>
                  <a:lnTo>
                    <a:pt x="3148" y="660"/>
                  </a:lnTo>
                  <a:lnTo>
                    <a:pt x="2649" y="952"/>
                  </a:lnTo>
                  <a:lnTo>
                    <a:pt x="2622" y="961"/>
                  </a:lnTo>
                  <a:lnTo>
                    <a:pt x="2541" y="979"/>
                  </a:lnTo>
                  <a:lnTo>
                    <a:pt x="2415" y="1024"/>
                  </a:lnTo>
                  <a:lnTo>
                    <a:pt x="2242" y="1087"/>
                  </a:lnTo>
                  <a:lnTo>
                    <a:pt x="2050" y="1177"/>
                  </a:lnTo>
                  <a:lnTo>
                    <a:pt x="1834" y="1296"/>
                  </a:lnTo>
                  <a:lnTo>
                    <a:pt x="1598" y="1452"/>
                  </a:lnTo>
                  <a:lnTo>
                    <a:pt x="1353" y="1640"/>
                  </a:lnTo>
                  <a:lnTo>
                    <a:pt x="1117" y="1867"/>
                  </a:lnTo>
                  <a:lnTo>
                    <a:pt x="879" y="2139"/>
                  </a:lnTo>
                  <a:lnTo>
                    <a:pt x="664" y="2447"/>
                  </a:lnTo>
                  <a:lnTo>
                    <a:pt x="464" y="2812"/>
                  </a:lnTo>
                  <a:lnTo>
                    <a:pt x="299" y="3230"/>
                  </a:lnTo>
                  <a:lnTo>
                    <a:pt x="174" y="3690"/>
                  </a:lnTo>
                  <a:lnTo>
                    <a:pt x="81" y="4216"/>
                  </a:lnTo>
                  <a:lnTo>
                    <a:pt x="54" y="48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999360" y="7635960"/>
              <a:ext cx="92160" cy="229320"/>
            </a:xfrm>
            <a:custGeom>
              <a:avLst/>
              <a:gdLst/>
              <a:ahLst/>
              <a:rect l="l" t="t" r="r" b="b"/>
              <a:pathLst>
                <a:path w="1772" h="3635">
                  <a:moveTo>
                    <a:pt x="1772" y="0"/>
                  </a:moveTo>
                  <a:lnTo>
                    <a:pt x="1745" y="9"/>
                  </a:lnTo>
                  <a:lnTo>
                    <a:pt x="1682" y="53"/>
                  </a:lnTo>
                  <a:lnTo>
                    <a:pt x="1583" y="119"/>
                  </a:lnTo>
                  <a:lnTo>
                    <a:pt x="1446" y="218"/>
                  </a:lnTo>
                  <a:lnTo>
                    <a:pt x="1293" y="334"/>
                  </a:lnTo>
                  <a:lnTo>
                    <a:pt x="1119" y="490"/>
                  </a:lnTo>
                  <a:lnTo>
                    <a:pt x="936" y="663"/>
                  </a:lnTo>
                  <a:lnTo>
                    <a:pt x="754" y="872"/>
                  </a:lnTo>
                  <a:lnTo>
                    <a:pt x="584" y="1106"/>
                  </a:lnTo>
                  <a:lnTo>
                    <a:pt x="409" y="1381"/>
                  </a:lnTo>
                  <a:lnTo>
                    <a:pt x="263" y="1680"/>
                  </a:lnTo>
                  <a:lnTo>
                    <a:pt x="146" y="2006"/>
                  </a:lnTo>
                  <a:lnTo>
                    <a:pt x="56" y="2367"/>
                  </a:lnTo>
                  <a:lnTo>
                    <a:pt x="0" y="2758"/>
                  </a:lnTo>
                  <a:lnTo>
                    <a:pt x="0" y="3186"/>
                  </a:lnTo>
                  <a:lnTo>
                    <a:pt x="47" y="3635"/>
                  </a:lnTo>
                  <a:lnTo>
                    <a:pt x="47" y="3608"/>
                  </a:lnTo>
                  <a:lnTo>
                    <a:pt x="38" y="3536"/>
                  </a:lnTo>
                  <a:lnTo>
                    <a:pt x="29" y="3428"/>
                  </a:lnTo>
                  <a:lnTo>
                    <a:pt x="29" y="3273"/>
                  </a:lnTo>
                  <a:lnTo>
                    <a:pt x="38" y="3093"/>
                  </a:lnTo>
                  <a:lnTo>
                    <a:pt x="56" y="2875"/>
                  </a:lnTo>
                  <a:lnTo>
                    <a:pt x="92" y="2641"/>
                  </a:lnTo>
                  <a:lnTo>
                    <a:pt x="146" y="2376"/>
                  </a:lnTo>
                  <a:lnTo>
                    <a:pt x="227" y="2094"/>
                  </a:lnTo>
                  <a:lnTo>
                    <a:pt x="337" y="1804"/>
                  </a:lnTo>
                  <a:lnTo>
                    <a:pt x="472" y="1497"/>
                  </a:lnTo>
                  <a:lnTo>
                    <a:pt x="646" y="1189"/>
                  </a:lnTo>
                  <a:lnTo>
                    <a:pt x="865" y="890"/>
                  </a:lnTo>
                  <a:lnTo>
                    <a:pt x="1119" y="580"/>
                  </a:lnTo>
                  <a:lnTo>
                    <a:pt x="1419" y="281"/>
                  </a:lnTo>
                  <a:lnTo>
                    <a:pt x="17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55240" y="7629480"/>
              <a:ext cx="218520" cy="216720"/>
            </a:xfrm>
            <a:custGeom>
              <a:avLst/>
              <a:gdLst/>
              <a:ahLst/>
              <a:rect l="l" t="t" r="r" b="b"/>
              <a:pathLst>
                <a:path w="4208" h="3435">
                  <a:moveTo>
                    <a:pt x="0" y="0"/>
                  </a:moveTo>
                  <a:lnTo>
                    <a:pt x="35" y="0"/>
                  </a:lnTo>
                  <a:lnTo>
                    <a:pt x="137" y="0"/>
                  </a:lnTo>
                  <a:lnTo>
                    <a:pt x="299" y="9"/>
                  </a:lnTo>
                  <a:lnTo>
                    <a:pt x="518" y="27"/>
                  </a:lnTo>
                  <a:lnTo>
                    <a:pt x="781" y="72"/>
                  </a:lnTo>
                  <a:lnTo>
                    <a:pt x="1071" y="134"/>
                  </a:lnTo>
                  <a:lnTo>
                    <a:pt x="1392" y="236"/>
                  </a:lnTo>
                  <a:lnTo>
                    <a:pt x="1736" y="371"/>
                  </a:lnTo>
                  <a:lnTo>
                    <a:pt x="2089" y="544"/>
                  </a:lnTo>
                  <a:lnTo>
                    <a:pt x="2445" y="771"/>
                  </a:lnTo>
                  <a:lnTo>
                    <a:pt x="2798" y="1043"/>
                  </a:lnTo>
                  <a:lnTo>
                    <a:pt x="3137" y="1378"/>
                  </a:lnTo>
                  <a:lnTo>
                    <a:pt x="3454" y="1788"/>
                  </a:lnTo>
                  <a:lnTo>
                    <a:pt x="3744" y="2260"/>
                  </a:lnTo>
                  <a:lnTo>
                    <a:pt x="3998" y="2803"/>
                  </a:lnTo>
                  <a:lnTo>
                    <a:pt x="4208" y="3435"/>
                  </a:lnTo>
                  <a:lnTo>
                    <a:pt x="4199" y="3399"/>
                  </a:lnTo>
                  <a:lnTo>
                    <a:pt x="4181" y="3311"/>
                  </a:lnTo>
                  <a:lnTo>
                    <a:pt x="4136" y="3156"/>
                  </a:lnTo>
                  <a:lnTo>
                    <a:pt x="4061" y="2965"/>
                  </a:lnTo>
                  <a:lnTo>
                    <a:pt x="3971" y="2729"/>
                  </a:lnTo>
                  <a:lnTo>
                    <a:pt x="3843" y="2466"/>
                  </a:lnTo>
                  <a:lnTo>
                    <a:pt x="3681" y="2184"/>
                  </a:lnTo>
                  <a:lnTo>
                    <a:pt x="3481" y="1885"/>
                  </a:lnTo>
                  <a:lnTo>
                    <a:pt x="3235" y="1587"/>
                  </a:lnTo>
                  <a:lnTo>
                    <a:pt x="2944" y="1279"/>
                  </a:lnTo>
                  <a:lnTo>
                    <a:pt x="2598" y="998"/>
                  </a:lnTo>
                  <a:lnTo>
                    <a:pt x="2200" y="726"/>
                  </a:lnTo>
                  <a:lnTo>
                    <a:pt x="1745" y="481"/>
                  </a:lnTo>
                  <a:lnTo>
                    <a:pt x="1235" y="272"/>
                  </a:lnTo>
                  <a:lnTo>
                    <a:pt x="655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135440" y="7559640"/>
              <a:ext cx="125280" cy="31320"/>
            </a:xfrm>
            <a:custGeom>
              <a:avLst/>
              <a:gdLst/>
              <a:ahLst/>
              <a:rect l="l" t="t" r="r" b="b"/>
              <a:pathLst>
                <a:path w="2415" h="499">
                  <a:moveTo>
                    <a:pt x="0" y="499"/>
                  </a:moveTo>
                  <a:lnTo>
                    <a:pt x="18" y="490"/>
                  </a:lnTo>
                  <a:lnTo>
                    <a:pt x="54" y="472"/>
                  </a:lnTo>
                  <a:lnTo>
                    <a:pt x="125" y="445"/>
                  </a:lnTo>
                  <a:lnTo>
                    <a:pt x="218" y="409"/>
                  </a:lnTo>
                  <a:lnTo>
                    <a:pt x="335" y="364"/>
                  </a:lnTo>
                  <a:lnTo>
                    <a:pt x="463" y="319"/>
                  </a:lnTo>
                  <a:lnTo>
                    <a:pt x="616" y="263"/>
                  </a:lnTo>
                  <a:lnTo>
                    <a:pt x="781" y="209"/>
                  </a:lnTo>
                  <a:lnTo>
                    <a:pt x="963" y="164"/>
                  </a:lnTo>
                  <a:lnTo>
                    <a:pt x="1152" y="119"/>
                  </a:lnTo>
                  <a:lnTo>
                    <a:pt x="1352" y="74"/>
                  </a:lnTo>
                  <a:lnTo>
                    <a:pt x="1561" y="36"/>
                  </a:lnTo>
                  <a:lnTo>
                    <a:pt x="1772" y="18"/>
                  </a:lnTo>
                  <a:lnTo>
                    <a:pt x="1990" y="0"/>
                  </a:lnTo>
                  <a:lnTo>
                    <a:pt x="2196" y="0"/>
                  </a:lnTo>
                  <a:lnTo>
                    <a:pt x="2415" y="9"/>
                  </a:lnTo>
                  <a:lnTo>
                    <a:pt x="2397" y="9"/>
                  </a:lnTo>
                  <a:lnTo>
                    <a:pt x="2334" y="18"/>
                  </a:lnTo>
                  <a:lnTo>
                    <a:pt x="2235" y="36"/>
                  </a:lnTo>
                  <a:lnTo>
                    <a:pt x="2107" y="56"/>
                  </a:lnTo>
                  <a:lnTo>
                    <a:pt x="1951" y="83"/>
                  </a:lnTo>
                  <a:lnTo>
                    <a:pt x="1781" y="110"/>
                  </a:lnTo>
                  <a:lnTo>
                    <a:pt x="1588" y="137"/>
                  </a:lnTo>
                  <a:lnTo>
                    <a:pt x="1388" y="173"/>
                  </a:lnTo>
                  <a:lnTo>
                    <a:pt x="1179" y="209"/>
                  </a:lnTo>
                  <a:lnTo>
                    <a:pt x="972" y="245"/>
                  </a:lnTo>
                  <a:lnTo>
                    <a:pt x="772" y="290"/>
                  </a:lnTo>
                  <a:lnTo>
                    <a:pt x="580" y="328"/>
                  </a:lnTo>
                  <a:lnTo>
                    <a:pt x="397" y="373"/>
                  </a:lnTo>
                  <a:lnTo>
                    <a:pt x="245" y="418"/>
                  </a:lnTo>
                  <a:lnTo>
                    <a:pt x="107" y="454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08000" y="7553160"/>
              <a:ext cx="81720" cy="43920"/>
            </a:xfrm>
            <a:custGeom>
              <a:avLst/>
              <a:gdLst/>
              <a:ahLst/>
              <a:rect l="l" t="t" r="r" b="b"/>
              <a:pathLst>
                <a:path w="1581" h="699">
                  <a:moveTo>
                    <a:pt x="1581" y="699"/>
                  </a:moveTo>
                  <a:lnTo>
                    <a:pt x="1572" y="690"/>
                  </a:lnTo>
                  <a:lnTo>
                    <a:pt x="1545" y="681"/>
                  </a:lnTo>
                  <a:lnTo>
                    <a:pt x="1509" y="655"/>
                  </a:lnTo>
                  <a:lnTo>
                    <a:pt x="1455" y="616"/>
                  </a:lnTo>
                  <a:lnTo>
                    <a:pt x="1392" y="571"/>
                  </a:lnTo>
                  <a:lnTo>
                    <a:pt x="1309" y="526"/>
                  </a:lnTo>
                  <a:lnTo>
                    <a:pt x="1219" y="472"/>
                  </a:lnTo>
                  <a:lnTo>
                    <a:pt x="1116" y="418"/>
                  </a:lnTo>
                  <a:lnTo>
                    <a:pt x="1000" y="362"/>
                  </a:lnTo>
                  <a:lnTo>
                    <a:pt x="883" y="308"/>
                  </a:lnTo>
                  <a:lnTo>
                    <a:pt x="746" y="245"/>
                  </a:lnTo>
                  <a:lnTo>
                    <a:pt x="608" y="191"/>
                  </a:lnTo>
                  <a:lnTo>
                    <a:pt x="464" y="135"/>
                  </a:lnTo>
                  <a:lnTo>
                    <a:pt x="317" y="81"/>
                  </a:lnTo>
                  <a:lnTo>
                    <a:pt x="164" y="36"/>
                  </a:lnTo>
                  <a:lnTo>
                    <a:pt x="0" y="0"/>
                  </a:lnTo>
                  <a:lnTo>
                    <a:pt x="1581" y="6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56880" y="7405560"/>
              <a:ext cx="393120" cy="330480"/>
            </a:xfrm>
            <a:custGeom>
              <a:avLst/>
              <a:gdLst/>
              <a:ahLst/>
              <a:rect l="l" t="t" r="r" b="b"/>
              <a:pathLst>
                <a:path w="7567" h="5233">
                  <a:moveTo>
                    <a:pt x="3269" y="3013"/>
                  </a:moveTo>
                  <a:lnTo>
                    <a:pt x="3287" y="2983"/>
                  </a:lnTo>
                  <a:lnTo>
                    <a:pt x="3341" y="2902"/>
                  </a:lnTo>
                  <a:lnTo>
                    <a:pt x="3425" y="2758"/>
                  </a:lnTo>
                  <a:lnTo>
                    <a:pt x="3514" y="2531"/>
                  </a:lnTo>
                  <a:lnTo>
                    <a:pt x="3595" y="2212"/>
                  </a:lnTo>
                  <a:lnTo>
                    <a:pt x="3670" y="1788"/>
                  </a:lnTo>
                  <a:lnTo>
                    <a:pt x="3715" y="1253"/>
                  </a:lnTo>
                  <a:lnTo>
                    <a:pt x="3724" y="589"/>
                  </a:lnTo>
                  <a:lnTo>
                    <a:pt x="3751" y="580"/>
                  </a:lnTo>
                  <a:lnTo>
                    <a:pt x="3814" y="562"/>
                  </a:lnTo>
                  <a:lnTo>
                    <a:pt x="3915" y="517"/>
                  </a:lnTo>
                  <a:lnTo>
                    <a:pt x="4032" y="463"/>
                  </a:lnTo>
                  <a:lnTo>
                    <a:pt x="4152" y="380"/>
                  </a:lnTo>
                  <a:lnTo>
                    <a:pt x="4260" y="281"/>
                  </a:lnTo>
                  <a:lnTo>
                    <a:pt x="4350" y="153"/>
                  </a:lnTo>
                  <a:lnTo>
                    <a:pt x="4397" y="0"/>
                  </a:lnTo>
                  <a:lnTo>
                    <a:pt x="4368" y="27"/>
                  </a:lnTo>
                  <a:lnTo>
                    <a:pt x="4287" y="90"/>
                  </a:lnTo>
                  <a:lnTo>
                    <a:pt x="4161" y="170"/>
                  </a:lnTo>
                  <a:lnTo>
                    <a:pt x="4005" y="272"/>
                  </a:lnTo>
                  <a:lnTo>
                    <a:pt x="3822" y="380"/>
                  </a:lnTo>
                  <a:lnTo>
                    <a:pt x="3634" y="463"/>
                  </a:lnTo>
                  <a:lnTo>
                    <a:pt x="3452" y="526"/>
                  </a:lnTo>
                  <a:lnTo>
                    <a:pt x="3269" y="553"/>
                  </a:lnTo>
                  <a:lnTo>
                    <a:pt x="3278" y="643"/>
                  </a:lnTo>
                  <a:lnTo>
                    <a:pt x="3287" y="870"/>
                  </a:lnTo>
                  <a:lnTo>
                    <a:pt x="3305" y="1214"/>
                  </a:lnTo>
                  <a:lnTo>
                    <a:pt x="3296" y="1614"/>
                  </a:lnTo>
                  <a:lnTo>
                    <a:pt x="3269" y="2042"/>
                  </a:lnTo>
                  <a:lnTo>
                    <a:pt x="3206" y="2439"/>
                  </a:lnTo>
                  <a:lnTo>
                    <a:pt x="3095" y="2776"/>
                  </a:lnTo>
                  <a:lnTo>
                    <a:pt x="2933" y="3013"/>
                  </a:lnTo>
                  <a:lnTo>
                    <a:pt x="2924" y="3013"/>
                  </a:lnTo>
                  <a:lnTo>
                    <a:pt x="2888" y="3021"/>
                  </a:lnTo>
                  <a:lnTo>
                    <a:pt x="2832" y="3039"/>
                  </a:lnTo>
                  <a:lnTo>
                    <a:pt x="2751" y="3048"/>
                  </a:lnTo>
                  <a:lnTo>
                    <a:pt x="2661" y="3057"/>
                  </a:lnTo>
                  <a:lnTo>
                    <a:pt x="2542" y="3066"/>
                  </a:lnTo>
                  <a:lnTo>
                    <a:pt x="2416" y="3057"/>
                  </a:lnTo>
                  <a:lnTo>
                    <a:pt x="2261" y="3039"/>
                  </a:lnTo>
                  <a:lnTo>
                    <a:pt x="2095" y="3013"/>
                  </a:lnTo>
                  <a:lnTo>
                    <a:pt x="1916" y="2956"/>
                  </a:lnTo>
                  <a:lnTo>
                    <a:pt x="1725" y="2884"/>
                  </a:lnTo>
                  <a:lnTo>
                    <a:pt x="1524" y="2794"/>
                  </a:lnTo>
                  <a:lnTo>
                    <a:pt x="1305" y="2675"/>
                  </a:lnTo>
                  <a:lnTo>
                    <a:pt x="1078" y="2522"/>
                  </a:lnTo>
                  <a:lnTo>
                    <a:pt x="844" y="2340"/>
                  </a:lnTo>
                  <a:lnTo>
                    <a:pt x="599" y="2122"/>
                  </a:lnTo>
                  <a:lnTo>
                    <a:pt x="608" y="2140"/>
                  </a:lnTo>
                  <a:lnTo>
                    <a:pt x="653" y="2176"/>
                  </a:lnTo>
                  <a:lnTo>
                    <a:pt x="707" y="2229"/>
                  </a:lnTo>
                  <a:lnTo>
                    <a:pt x="788" y="2313"/>
                  </a:lnTo>
                  <a:lnTo>
                    <a:pt x="898" y="2403"/>
                  </a:lnTo>
                  <a:lnTo>
                    <a:pt x="1015" y="2504"/>
                  </a:lnTo>
                  <a:lnTo>
                    <a:pt x="1152" y="2612"/>
                  </a:lnTo>
                  <a:lnTo>
                    <a:pt x="1296" y="2720"/>
                  </a:lnTo>
                  <a:lnTo>
                    <a:pt x="1461" y="2830"/>
                  </a:lnTo>
                  <a:lnTo>
                    <a:pt x="1644" y="2929"/>
                  </a:lnTo>
                  <a:lnTo>
                    <a:pt x="1823" y="3030"/>
                  </a:lnTo>
                  <a:lnTo>
                    <a:pt x="2015" y="3111"/>
                  </a:lnTo>
                  <a:lnTo>
                    <a:pt x="2207" y="3174"/>
                  </a:lnTo>
                  <a:lnTo>
                    <a:pt x="2407" y="3219"/>
                  </a:lnTo>
                  <a:lnTo>
                    <a:pt x="2616" y="3249"/>
                  </a:lnTo>
                  <a:lnTo>
                    <a:pt x="2814" y="3237"/>
                  </a:lnTo>
                  <a:lnTo>
                    <a:pt x="2796" y="3249"/>
                  </a:lnTo>
                  <a:lnTo>
                    <a:pt x="2760" y="3285"/>
                  </a:lnTo>
                  <a:lnTo>
                    <a:pt x="2688" y="3339"/>
                  </a:lnTo>
                  <a:lnTo>
                    <a:pt x="2596" y="3410"/>
                  </a:lnTo>
                  <a:lnTo>
                    <a:pt x="2479" y="3503"/>
                  </a:lnTo>
                  <a:lnTo>
                    <a:pt x="2342" y="3593"/>
                  </a:lnTo>
                  <a:lnTo>
                    <a:pt x="2189" y="3691"/>
                  </a:lnTo>
                  <a:lnTo>
                    <a:pt x="2015" y="3802"/>
                  </a:lnTo>
                  <a:lnTo>
                    <a:pt x="1832" y="3910"/>
                  </a:lnTo>
                  <a:lnTo>
                    <a:pt x="1635" y="4011"/>
                  </a:lnTo>
                  <a:lnTo>
                    <a:pt x="1425" y="4110"/>
                  </a:lnTo>
                  <a:lnTo>
                    <a:pt x="1197" y="4191"/>
                  </a:lnTo>
                  <a:lnTo>
                    <a:pt x="970" y="4274"/>
                  </a:lnTo>
                  <a:lnTo>
                    <a:pt x="743" y="4328"/>
                  </a:lnTo>
                  <a:lnTo>
                    <a:pt x="498" y="4373"/>
                  </a:lnTo>
                  <a:lnTo>
                    <a:pt x="261" y="4391"/>
                  </a:lnTo>
                  <a:lnTo>
                    <a:pt x="216" y="4472"/>
                  </a:lnTo>
                  <a:lnTo>
                    <a:pt x="138" y="4672"/>
                  </a:lnTo>
                  <a:lnTo>
                    <a:pt x="45" y="4953"/>
                  </a:lnTo>
                  <a:lnTo>
                    <a:pt x="0" y="5233"/>
                  </a:lnTo>
                  <a:lnTo>
                    <a:pt x="0" y="5215"/>
                  </a:lnTo>
                  <a:lnTo>
                    <a:pt x="18" y="5153"/>
                  </a:lnTo>
                  <a:lnTo>
                    <a:pt x="45" y="5064"/>
                  </a:lnTo>
                  <a:lnTo>
                    <a:pt x="103" y="4953"/>
                  </a:lnTo>
                  <a:lnTo>
                    <a:pt x="183" y="4845"/>
                  </a:lnTo>
                  <a:lnTo>
                    <a:pt x="296" y="4726"/>
                  </a:lnTo>
                  <a:lnTo>
                    <a:pt x="462" y="4618"/>
                  </a:lnTo>
                  <a:lnTo>
                    <a:pt x="680" y="4537"/>
                  </a:lnTo>
                  <a:lnTo>
                    <a:pt x="698" y="4528"/>
                  </a:lnTo>
                  <a:lnTo>
                    <a:pt x="761" y="4499"/>
                  </a:lnTo>
                  <a:lnTo>
                    <a:pt x="862" y="4454"/>
                  </a:lnTo>
                  <a:lnTo>
                    <a:pt x="997" y="4400"/>
                  </a:lnTo>
                  <a:lnTo>
                    <a:pt x="1152" y="4328"/>
                  </a:lnTo>
                  <a:lnTo>
                    <a:pt x="1323" y="4245"/>
                  </a:lnTo>
                  <a:lnTo>
                    <a:pt x="1515" y="4164"/>
                  </a:lnTo>
                  <a:lnTo>
                    <a:pt x="1716" y="4065"/>
                  </a:lnTo>
                  <a:lnTo>
                    <a:pt x="1916" y="3973"/>
                  </a:lnTo>
                  <a:lnTo>
                    <a:pt x="2117" y="3874"/>
                  </a:lnTo>
                  <a:lnTo>
                    <a:pt x="2306" y="3775"/>
                  </a:lnTo>
                  <a:lnTo>
                    <a:pt x="2488" y="3673"/>
                  </a:lnTo>
                  <a:lnTo>
                    <a:pt x="2643" y="3584"/>
                  </a:lnTo>
                  <a:lnTo>
                    <a:pt x="2787" y="3491"/>
                  </a:lnTo>
                  <a:lnTo>
                    <a:pt x="2897" y="3419"/>
                  </a:lnTo>
                  <a:lnTo>
                    <a:pt x="2969" y="3347"/>
                  </a:lnTo>
                  <a:lnTo>
                    <a:pt x="3014" y="3356"/>
                  </a:lnTo>
                  <a:lnTo>
                    <a:pt x="3153" y="3401"/>
                  </a:lnTo>
                  <a:lnTo>
                    <a:pt x="3341" y="3482"/>
                  </a:lnTo>
                  <a:lnTo>
                    <a:pt x="3568" y="3611"/>
                  </a:lnTo>
                  <a:lnTo>
                    <a:pt x="3814" y="3784"/>
                  </a:lnTo>
                  <a:lnTo>
                    <a:pt x="4050" y="4011"/>
                  </a:lnTo>
                  <a:lnTo>
                    <a:pt x="4251" y="4301"/>
                  </a:lnTo>
                  <a:lnTo>
                    <a:pt x="4397" y="4654"/>
                  </a:lnTo>
                  <a:lnTo>
                    <a:pt x="4406" y="4663"/>
                  </a:lnTo>
                  <a:lnTo>
                    <a:pt x="4424" y="4699"/>
                  </a:lnTo>
                  <a:lnTo>
                    <a:pt x="4469" y="4735"/>
                  </a:lnTo>
                  <a:lnTo>
                    <a:pt x="4550" y="4782"/>
                  </a:lnTo>
                  <a:lnTo>
                    <a:pt x="4669" y="4827"/>
                  </a:lnTo>
                  <a:lnTo>
                    <a:pt x="4840" y="4854"/>
                  </a:lnTo>
                  <a:lnTo>
                    <a:pt x="5076" y="4863"/>
                  </a:lnTo>
                  <a:lnTo>
                    <a:pt x="5376" y="4836"/>
                  </a:lnTo>
                  <a:lnTo>
                    <a:pt x="5349" y="4836"/>
                  </a:lnTo>
                  <a:lnTo>
                    <a:pt x="5277" y="4836"/>
                  </a:lnTo>
                  <a:lnTo>
                    <a:pt x="5161" y="4818"/>
                  </a:lnTo>
                  <a:lnTo>
                    <a:pt x="5022" y="4791"/>
                  </a:lnTo>
                  <a:lnTo>
                    <a:pt x="4876" y="4744"/>
                  </a:lnTo>
                  <a:lnTo>
                    <a:pt x="4732" y="4663"/>
                  </a:lnTo>
                  <a:lnTo>
                    <a:pt x="4595" y="4546"/>
                  </a:lnTo>
                  <a:lnTo>
                    <a:pt x="4478" y="4391"/>
                  </a:lnTo>
                  <a:lnTo>
                    <a:pt x="4487" y="4364"/>
                  </a:lnTo>
                  <a:lnTo>
                    <a:pt x="4496" y="4274"/>
                  </a:lnTo>
                  <a:lnTo>
                    <a:pt x="4496" y="4146"/>
                  </a:lnTo>
                  <a:lnTo>
                    <a:pt x="4451" y="3990"/>
                  </a:lnTo>
                  <a:lnTo>
                    <a:pt x="4350" y="3811"/>
                  </a:lnTo>
                  <a:lnTo>
                    <a:pt x="4161" y="3629"/>
                  </a:lnTo>
                  <a:lnTo>
                    <a:pt x="3876" y="3437"/>
                  </a:lnTo>
                  <a:lnTo>
                    <a:pt x="3461" y="3267"/>
                  </a:lnTo>
                  <a:lnTo>
                    <a:pt x="3488" y="3276"/>
                  </a:lnTo>
                  <a:lnTo>
                    <a:pt x="3550" y="3285"/>
                  </a:lnTo>
                  <a:lnTo>
                    <a:pt x="3652" y="3303"/>
                  </a:lnTo>
                  <a:lnTo>
                    <a:pt x="3796" y="3330"/>
                  </a:lnTo>
                  <a:lnTo>
                    <a:pt x="3960" y="3347"/>
                  </a:lnTo>
                  <a:lnTo>
                    <a:pt x="4161" y="3365"/>
                  </a:lnTo>
                  <a:lnTo>
                    <a:pt x="4368" y="3383"/>
                  </a:lnTo>
                  <a:lnTo>
                    <a:pt x="4604" y="3392"/>
                  </a:lnTo>
                  <a:lnTo>
                    <a:pt x="4840" y="3383"/>
                  </a:lnTo>
                  <a:lnTo>
                    <a:pt x="5085" y="3365"/>
                  </a:lnTo>
                  <a:lnTo>
                    <a:pt x="5340" y="3330"/>
                  </a:lnTo>
                  <a:lnTo>
                    <a:pt x="5594" y="3267"/>
                  </a:lnTo>
                  <a:lnTo>
                    <a:pt x="5831" y="3192"/>
                  </a:lnTo>
                  <a:lnTo>
                    <a:pt x="6068" y="3084"/>
                  </a:lnTo>
                  <a:lnTo>
                    <a:pt x="6277" y="2947"/>
                  </a:lnTo>
                  <a:lnTo>
                    <a:pt x="6477" y="2785"/>
                  </a:lnTo>
                  <a:lnTo>
                    <a:pt x="6504" y="2758"/>
                  </a:lnTo>
                  <a:lnTo>
                    <a:pt x="6576" y="2675"/>
                  </a:lnTo>
                  <a:lnTo>
                    <a:pt x="6696" y="2567"/>
                  </a:lnTo>
                  <a:lnTo>
                    <a:pt x="6839" y="2457"/>
                  </a:lnTo>
                  <a:lnTo>
                    <a:pt x="7005" y="2349"/>
                  </a:lnTo>
                  <a:lnTo>
                    <a:pt x="7187" y="2269"/>
                  </a:lnTo>
                  <a:lnTo>
                    <a:pt x="7375" y="2229"/>
                  </a:lnTo>
                  <a:lnTo>
                    <a:pt x="7567" y="2269"/>
                  </a:lnTo>
                  <a:lnTo>
                    <a:pt x="7558" y="2260"/>
                  </a:lnTo>
                  <a:lnTo>
                    <a:pt x="7549" y="2251"/>
                  </a:lnTo>
                  <a:lnTo>
                    <a:pt x="7522" y="2229"/>
                  </a:lnTo>
                  <a:lnTo>
                    <a:pt x="7486" y="2212"/>
                  </a:lnTo>
                  <a:lnTo>
                    <a:pt x="7441" y="2194"/>
                  </a:lnTo>
                  <a:lnTo>
                    <a:pt x="7375" y="2176"/>
                  </a:lnTo>
                  <a:lnTo>
                    <a:pt x="7313" y="2167"/>
                  </a:lnTo>
                  <a:lnTo>
                    <a:pt x="7232" y="2167"/>
                  </a:lnTo>
                  <a:lnTo>
                    <a:pt x="7130" y="2176"/>
                  </a:lnTo>
                  <a:lnTo>
                    <a:pt x="7023" y="2194"/>
                  </a:lnTo>
                  <a:lnTo>
                    <a:pt x="6902" y="2242"/>
                  </a:lnTo>
                  <a:lnTo>
                    <a:pt x="6767" y="2295"/>
                  </a:lnTo>
                  <a:lnTo>
                    <a:pt x="6621" y="2376"/>
                  </a:lnTo>
                  <a:lnTo>
                    <a:pt x="6459" y="2484"/>
                  </a:lnTo>
                  <a:lnTo>
                    <a:pt x="6286" y="2621"/>
                  </a:lnTo>
                  <a:lnTo>
                    <a:pt x="6095" y="2785"/>
                  </a:lnTo>
                  <a:lnTo>
                    <a:pt x="6077" y="2794"/>
                  </a:lnTo>
                  <a:lnTo>
                    <a:pt x="6041" y="2821"/>
                  </a:lnTo>
                  <a:lnTo>
                    <a:pt x="5978" y="2857"/>
                  </a:lnTo>
                  <a:lnTo>
                    <a:pt x="5876" y="2902"/>
                  </a:lnTo>
                  <a:lnTo>
                    <a:pt x="5768" y="2956"/>
                  </a:lnTo>
                  <a:lnTo>
                    <a:pt x="5630" y="3013"/>
                  </a:lnTo>
                  <a:lnTo>
                    <a:pt x="5469" y="3066"/>
                  </a:lnTo>
                  <a:lnTo>
                    <a:pt x="5286" y="3120"/>
                  </a:lnTo>
                  <a:lnTo>
                    <a:pt x="5085" y="3165"/>
                  </a:lnTo>
                  <a:lnTo>
                    <a:pt x="4876" y="3201"/>
                  </a:lnTo>
                  <a:lnTo>
                    <a:pt x="4642" y="3219"/>
                  </a:lnTo>
                  <a:lnTo>
                    <a:pt x="4397" y="3228"/>
                  </a:lnTo>
                  <a:lnTo>
                    <a:pt x="4134" y="3210"/>
                  </a:lnTo>
                  <a:lnTo>
                    <a:pt x="3849" y="3174"/>
                  </a:lnTo>
                  <a:lnTo>
                    <a:pt x="3568" y="3111"/>
                  </a:lnTo>
                  <a:lnTo>
                    <a:pt x="3269" y="301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04680" y="7623720"/>
              <a:ext cx="55800" cy="279720"/>
            </a:xfrm>
            <a:custGeom>
              <a:avLst/>
              <a:gdLst/>
              <a:ahLst/>
              <a:rect l="l" t="t" r="r" b="b"/>
              <a:pathLst>
                <a:path w="1080" h="4427">
                  <a:moveTo>
                    <a:pt x="1080" y="0"/>
                  </a:moveTo>
                  <a:lnTo>
                    <a:pt x="1062" y="18"/>
                  </a:lnTo>
                  <a:lnTo>
                    <a:pt x="999" y="75"/>
                  </a:lnTo>
                  <a:lnTo>
                    <a:pt x="909" y="156"/>
                  </a:lnTo>
                  <a:lnTo>
                    <a:pt x="790" y="281"/>
                  </a:lnTo>
                  <a:lnTo>
                    <a:pt x="664" y="437"/>
                  </a:lnTo>
                  <a:lnTo>
                    <a:pt x="527" y="628"/>
                  </a:lnTo>
                  <a:lnTo>
                    <a:pt x="392" y="855"/>
                  </a:lnTo>
                  <a:lnTo>
                    <a:pt x="264" y="1109"/>
                  </a:lnTo>
                  <a:lnTo>
                    <a:pt x="156" y="1408"/>
                  </a:lnTo>
                  <a:lnTo>
                    <a:pt x="62" y="1734"/>
                  </a:lnTo>
                  <a:lnTo>
                    <a:pt x="8" y="2099"/>
                  </a:lnTo>
                  <a:lnTo>
                    <a:pt x="0" y="2496"/>
                  </a:lnTo>
                  <a:lnTo>
                    <a:pt x="35" y="2932"/>
                  </a:lnTo>
                  <a:lnTo>
                    <a:pt x="129" y="3395"/>
                  </a:lnTo>
                  <a:lnTo>
                    <a:pt x="291" y="3892"/>
                  </a:lnTo>
                  <a:lnTo>
                    <a:pt x="518" y="4427"/>
                  </a:lnTo>
                  <a:lnTo>
                    <a:pt x="855" y="4427"/>
                  </a:lnTo>
                  <a:lnTo>
                    <a:pt x="808" y="4355"/>
                  </a:lnTo>
                  <a:lnTo>
                    <a:pt x="709" y="4128"/>
                  </a:lnTo>
                  <a:lnTo>
                    <a:pt x="592" y="3764"/>
                  </a:lnTo>
                  <a:lnTo>
                    <a:pt x="491" y="3258"/>
                  </a:lnTo>
                  <a:lnTo>
                    <a:pt x="446" y="2624"/>
                  </a:lnTo>
                  <a:lnTo>
                    <a:pt x="509" y="1872"/>
                  </a:lnTo>
                  <a:lnTo>
                    <a:pt x="700" y="990"/>
                  </a:lnTo>
                  <a:lnTo>
                    <a:pt x="1080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30400" y="7405560"/>
              <a:ext cx="55080" cy="188280"/>
            </a:xfrm>
            <a:custGeom>
              <a:avLst/>
              <a:gdLst/>
              <a:ahLst/>
              <a:rect l="l" t="t" r="r" b="b"/>
              <a:pathLst>
                <a:path w="1065" h="2983">
                  <a:moveTo>
                    <a:pt x="0" y="2983"/>
                  </a:moveTo>
                  <a:lnTo>
                    <a:pt x="18" y="2929"/>
                  </a:lnTo>
                  <a:lnTo>
                    <a:pt x="84" y="2785"/>
                  </a:lnTo>
                  <a:lnTo>
                    <a:pt x="156" y="2558"/>
                  </a:lnTo>
                  <a:lnTo>
                    <a:pt x="245" y="2260"/>
                  </a:lnTo>
                  <a:lnTo>
                    <a:pt x="329" y="1904"/>
                  </a:lnTo>
                  <a:lnTo>
                    <a:pt x="383" y="1498"/>
                  </a:lnTo>
                  <a:lnTo>
                    <a:pt x="410" y="1061"/>
                  </a:lnTo>
                  <a:lnTo>
                    <a:pt x="392" y="589"/>
                  </a:lnTo>
                  <a:lnTo>
                    <a:pt x="419" y="580"/>
                  </a:lnTo>
                  <a:lnTo>
                    <a:pt x="482" y="562"/>
                  </a:lnTo>
                  <a:lnTo>
                    <a:pt x="583" y="526"/>
                  </a:lnTo>
                  <a:lnTo>
                    <a:pt x="700" y="472"/>
                  </a:lnTo>
                  <a:lnTo>
                    <a:pt x="820" y="398"/>
                  </a:lnTo>
                  <a:lnTo>
                    <a:pt x="928" y="299"/>
                  </a:lnTo>
                  <a:lnTo>
                    <a:pt x="1009" y="161"/>
                  </a:lnTo>
                  <a:lnTo>
                    <a:pt x="1065" y="0"/>
                  </a:lnTo>
                  <a:lnTo>
                    <a:pt x="1065" y="18"/>
                  </a:lnTo>
                  <a:lnTo>
                    <a:pt x="1065" y="81"/>
                  </a:lnTo>
                  <a:lnTo>
                    <a:pt x="1056" y="170"/>
                  </a:lnTo>
                  <a:lnTo>
                    <a:pt x="1027" y="272"/>
                  </a:lnTo>
                  <a:lnTo>
                    <a:pt x="973" y="389"/>
                  </a:lnTo>
                  <a:lnTo>
                    <a:pt x="874" y="508"/>
                  </a:lnTo>
                  <a:lnTo>
                    <a:pt x="736" y="607"/>
                  </a:lnTo>
                  <a:lnTo>
                    <a:pt x="535" y="688"/>
                  </a:lnTo>
                  <a:lnTo>
                    <a:pt x="526" y="771"/>
                  </a:lnTo>
                  <a:lnTo>
                    <a:pt x="508" y="1007"/>
                  </a:lnTo>
                  <a:lnTo>
                    <a:pt x="473" y="1333"/>
                  </a:lnTo>
                  <a:lnTo>
                    <a:pt x="419" y="1712"/>
                  </a:lnTo>
                  <a:lnTo>
                    <a:pt x="347" y="2122"/>
                  </a:lnTo>
                  <a:lnTo>
                    <a:pt x="254" y="2495"/>
                  </a:lnTo>
                  <a:lnTo>
                    <a:pt x="138" y="2794"/>
                  </a:lnTo>
                  <a:lnTo>
                    <a:pt x="0" y="29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30400" y="7538400"/>
              <a:ext cx="225720" cy="85680"/>
            </a:xfrm>
            <a:custGeom>
              <a:avLst/>
              <a:gdLst/>
              <a:ahLst/>
              <a:rect l="l" t="t" r="r" b="b"/>
              <a:pathLst>
                <a:path w="4354" h="1360">
                  <a:moveTo>
                    <a:pt x="0" y="879"/>
                  </a:moveTo>
                  <a:lnTo>
                    <a:pt x="18" y="891"/>
                  </a:lnTo>
                  <a:lnTo>
                    <a:pt x="66" y="909"/>
                  </a:lnTo>
                  <a:lnTo>
                    <a:pt x="147" y="944"/>
                  </a:lnTo>
                  <a:lnTo>
                    <a:pt x="254" y="980"/>
                  </a:lnTo>
                  <a:lnTo>
                    <a:pt x="392" y="1025"/>
                  </a:lnTo>
                  <a:lnTo>
                    <a:pt x="556" y="1061"/>
                  </a:lnTo>
                  <a:lnTo>
                    <a:pt x="736" y="1097"/>
                  </a:lnTo>
                  <a:lnTo>
                    <a:pt x="937" y="1115"/>
                  </a:lnTo>
                  <a:lnTo>
                    <a:pt x="1155" y="1133"/>
                  </a:lnTo>
                  <a:lnTo>
                    <a:pt x="1391" y="1124"/>
                  </a:lnTo>
                  <a:lnTo>
                    <a:pt x="1636" y="1088"/>
                  </a:lnTo>
                  <a:lnTo>
                    <a:pt x="1901" y="1034"/>
                  </a:lnTo>
                  <a:lnTo>
                    <a:pt x="2164" y="944"/>
                  </a:lnTo>
                  <a:lnTo>
                    <a:pt x="2436" y="825"/>
                  </a:lnTo>
                  <a:lnTo>
                    <a:pt x="2718" y="663"/>
                  </a:lnTo>
                  <a:lnTo>
                    <a:pt x="2999" y="463"/>
                  </a:lnTo>
                  <a:lnTo>
                    <a:pt x="3026" y="436"/>
                  </a:lnTo>
                  <a:lnTo>
                    <a:pt x="3118" y="371"/>
                  </a:lnTo>
                  <a:lnTo>
                    <a:pt x="3244" y="281"/>
                  </a:lnTo>
                  <a:lnTo>
                    <a:pt x="3408" y="191"/>
                  </a:lnTo>
                  <a:lnTo>
                    <a:pt x="3601" y="117"/>
                  </a:lnTo>
                  <a:lnTo>
                    <a:pt x="3807" y="72"/>
                  </a:lnTo>
                  <a:lnTo>
                    <a:pt x="4017" y="81"/>
                  </a:lnTo>
                  <a:lnTo>
                    <a:pt x="4235" y="165"/>
                  </a:lnTo>
                  <a:lnTo>
                    <a:pt x="4208" y="156"/>
                  </a:lnTo>
                  <a:lnTo>
                    <a:pt x="4136" y="147"/>
                  </a:lnTo>
                  <a:lnTo>
                    <a:pt x="4017" y="156"/>
                  </a:lnTo>
                  <a:lnTo>
                    <a:pt x="3864" y="182"/>
                  </a:lnTo>
                  <a:lnTo>
                    <a:pt x="3673" y="254"/>
                  </a:lnTo>
                  <a:lnTo>
                    <a:pt x="3462" y="380"/>
                  </a:lnTo>
                  <a:lnTo>
                    <a:pt x="3226" y="571"/>
                  </a:lnTo>
                  <a:lnTo>
                    <a:pt x="2972" y="852"/>
                  </a:lnTo>
                  <a:lnTo>
                    <a:pt x="2963" y="861"/>
                  </a:lnTo>
                  <a:lnTo>
                    <a:pt x="2936" y="879"/>
                  </a:lnTo>
                  <a:lnTo>
                    <a:pt x="2891" y="917"/>
                  </a:lnTo>
                  <a:lnTo>
                    <a:pt x="2826" y="962"/>
                  </a:lnTo>
                  <a:lnTo>
                    <a:pt x="2736" y="1007"/>
                  </a:lnTo>
                  <a:lnTo>
                    <a:pt x="2628" y="1061"/>
                  </a:lnTo>
                  <a:lnTo>
                    <a:pt x="2499" y="1106"/>
                  </a:lnTo>
                  <a:lnTo>
                    <a:pt x="2346" y="1163"/>
                  </a:lnTo>
                  <a:lnTo>
                    <a:pt x="2173" y="1208"/>
                  </a:lnTo>
                  <a:lnTo>
                    <a:pt x="1981" y="1252"/>
                  </a:lnTo>
                  <a:lnTo>
                    <a:pt x="1753" y="1279"/>
                  </a:lnTo>
                  <a:lnTo>
                    <a:pt x="1508" y="1297"/>
                  </a:lnTo>
                  <a:lnTo>
                    <a:pt x="1245" y="1297"/>
                  </a:lnTo>
                  <a:lnTo>
                    <a:pt x="946" y="1288"/>
                  </a:lnTo>
                  <a:lnTo>
                    <a:pt x="619" y="1252"/>
                  </a:lnTo>
                  <a:lnTo>
                    <a:pt x="272" y="1199"/>
                  </a:lnTo>
                  <a:lnTo>
                    <a:pt x="290" y="1208"/>
                  </a:lnTo>
                  <a:lnTo>
                    <a:pt x="347" y="1217"/>
                  </a:lnTo>
                  <a:lnTo>
                    <a:pt x="437" y="1243"/>
                  </a:lnTo>
                  <a:lnTo>
                    <a:pt x="556" y="1270"/>
                  </a:lnTo>
                  <a:lnTo>
                    <a:pt x="700" y="1297"/>
                  </a:lnTo>
                  <a:lnTo>
                    <a:pt x="865" y="1324"/>
                  </a:lnTo>
                  <a:lnTo>
                    <a:pt x="1056" y="1342"/>
                  </a:lnTo>
                  <a:lnTo>
                    <a:pt x="1254" y="1351"/>
                  </a:lnTo>
                  <a:lnTo>
                    <a:pt x="1472" y="1360"/>
                  </a:lnTo>
                  <a:lnTo>
                    <a:pt x="1708" y="1342"/>
                  </a:lnTo>
                  <a:lnTo>
                    <a:pt x="1945" y="1315"/>
                  </a:lnTo>
                  <a:lnTo>
                    <a:pt x="2191" y="1270"/>
                  </a:lnTo>
                  <a:lnTo>
                    <a:pt x="2427" y="1199"/>
                  </a:lnTo>
                  <a:lnTo>
                    <a:pt x="2673" y="1106"/>
                  </a:lnTo>
                  <a:lnTo>
                    <a:pt x="2918" y="980"/>
                  </a:lnTo>
                  <a:lnTo>
                    <a:pt x="3145" y="825"/>
                  </a:lnTo>
                  <a:lnTo>
                    <a:pt x="3172" y="789"/>
                  </a:lnTo>
                  <a:lnTo>
                    <a:pt x="3244" y="708"/>
                  </a:lnTo>
                  <a:lnTo>
                    <a:pt x="3355" y="589"/>
                  </a:lnTo>
                  <a:lnTo>
                    <a:pt x="3507" y="463"/>
                  </a:lnTo>
                  <a:lnTo>
                    <a:pt x="3691" y="335"/>
                  </a:lnTo>
                  <a:lnTo>
                    <a:pt x="3891" y="245"/>
                  </a:lnTo>
                  <a:lnTo>
                    <a:pt x="4118" y="209"/>
                  </a:lnTo>
                  <a:lnTo>
                    <a:pt x="4354" y="236"/>
                  </a:lnTo>
                  <a:lnTo>
                    <a:pt x="4343" y="209"/>
                  </a:lnTo>
                  <a:lnTo>
                    <a:pt x="4307" y="156"/>
                  </a:lnTo>
                  <a:lnTo>
                    <a:pt x="4235" y="81"/>
                  </a:lnTo>
                  <a:lnTo>
                    <a:pt x="4118" y="27"/>
                  </a:lnTo>
                  <a:lnTo>
                    <a:pt x="3945" y="0"/>
                  </a:lnTo>
                  <a:lnTo>
                    <a:pt x="3708" y="27"/>
                  </a:lnTo>
                  <a:lnTo>
                    <a:pt x="3408" y="125"/>
                  </a:lnTo>
                  <a:lnTo>
                    <a:pt x="3026" y="335"/>
                  </a:lnTo>
                  <a:lnTo>
                    <a:pt x="3017" y="344"/>
                  </a:lnTo>
                  <a:lnTo>
                    <a:pt x="2981" y="380"/>
                  </a:lnTo>
                  <a:lnTo>
                    <a:pt x="2918" y="436"/>
                  </a:lnTo>
                  <a:lnTo>
                    <a:pt x="2826" y="508"/>
                  </a:lnTo>
                  <a:lnTo>
                    <a:pt x="2718" y="580"/>
                  </a:lnTo>
                  <a:lnTo>
                    <a:pt x="2583" y="663"/>
                  </a:lnTo>
                  <a:lnTo>
                    <a:pt x="2427" y="744"/>
                  </a:lnTo>
                  <a:lnTo>
                    <a:pt x="2245" y="825"/>
                  </a:lnTo>
                  <a:lnTo>
                    <a:pt x="2044" y="909"/>
                  </a:lnTo>
                  <a:lnTo>
                    <a:pt x="1820" y="971"/>
                  </a:lnTo>
                  <a:lnTo>
                    <a:pt x="1575" y="1016"/>
                  </a:lnTo>
                  <a:lnTo>
                    <a:pt x="1299" y="1043"/>
                  </a:lnTo>
                  <a:lnTo>
                    <a:pt x="1009" y="1052"/>
                  </a:lnTo>
                  <a:lnTo>
                    <a:pt x="691" y="1025"/>
                  </a:lnTo>
                  <a:lnTo>
                    <a:pt x="356" y="971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56880" y="7616880"/>
              <a:ext cx="154080" cy="118800"/>
            </a:xfrm>
            <a:custGeom>
              <a:avLst/>
              <a:gdLst/>
              <a:ahLst/>
              <a:rect l="l" t="t" r="r" b="b"/>
              <a:pathLst>
                <a:path w="2969" h="1886">
                  <a:moveTo>
                    <a:pt x="2969" y="0"/>
                  </a:moveTo>
                  <a:lnTo>
                    <a:pt x="2951" y="9"/>
                  </a:lnTo>
                  <a:lnTo>
                    <a:pt x="2906" y="45"/>
                  </a:lnTo>
                  <a:lnTo>
                    <a:pt x="2823" y="90"/>
                  </a:lnTo>
                  <a:lnTo>
                    <a:pt x="2715" y="156"/>
                  </a:lnTo>
                  <a:lnTo>
                    <a:pt x="2587" y="237"/>
                  </a:lnTo>
                  <a:lnTo>
                    <a:pt x="2443" y="326"/>
                  </a:lnTo>
                  <a:lnTo>
                    <a:pt x="2270" y="428"/>
                  </a:lnTo>
                  <a:lnTo>
                    <a:pt x="2095" y="527"/>
                  </a:lnTo>
                  <a:lnTo>
                    <a:pt x="1898" y="634"/>
                  </a:lnTo>
                  <a:lnTo>
                    <a:pt x="1698" y="745"/>
                  </a:lnTo>
                  <a:lnTo>
                    <a:pt x="1497" y="844"/>
                  </a:lnTo>
                  <a:lnTo>
                    <a:pt x="1287" y="954"/>
                  </a:lnTo>
                  <a:lnTo>
                    <a:pt x="1087" y="1044"/>
                  </a:lnTo>
                  <a:lnTo>
                    <a:pt x="889" y="1125"/>
                  </a:lnTo>
                  <a:lnTo>
                    <a:pt x="689" y="1199"/>
                  </a:lnTo>
                  <a:lnTo>
                    <a:pt x="507" y="1262"/>
                  </a:lnTo>
                  <a:lnTo>
                    <a:pt x="489" y="1271"/>
                  </a:lnTo>
                  <a:lnTo>
                    <a:pt x="435" y="1307"/>
                  </a:lnTo>
                  <a:lnTo>
                    <a:pt x="354" y="1361"/>
                  </a:lnTo>
                  <a:lnTo>
                    <a:pt x="270" y="1435"/>
                  </a:lnTo>
                  <a:lnTo>
                    <a:pt x="174" y="1525"/>
                  </a:lnTo>
                  <a:lnTo>
                    <a:pt x="94" y="1624"/>
                  </a:lnTo>
                  <a:lnTo>
                    <a:pt x="36" y="1752"/>
                  </a:lnTo>
                  <a:lnTo>
                    <a:pt x="0" y="1886"/>
                  </a:lnTo>
                  <a:lnTo>
                    <a:pt x="9" y="1868"/>
                  </a:lnTo>
                  <a:lnTo>
                    <a:pt x="45" y="1806"/>
                  </a:lnTo>
                  <a:lnTo>
                    <a:pt x="103" y="1726"/>
                  </a:lnTo>
                  <a:lnTo>
                    <a:pt x="174" y="1633"/>
                  </a:lnTo>
                  <a:lnTo>
                    <a:pt x="252" y="1534"/>
                  </a:lnTo>
                  <a:lnTo>
                    <a:pt x="345" y="1444"/>
                  </a:lnTo>
                  <a:lnTo>
                    <a:pt x="444" y="1370"/>
                  </a:lnTo>
                  <a:lnTo>
                    <a:pt x="543" y="1325"/>
                  </a:lnTo>
                  <a:lnTo>
                    <a:pt x="570" y="1316"/>
                  </a:lnTo>
                  <a:lnTo>
                    <a:pt x="635" y="1289"/>
                  </a:lnTo>
                  <a:lnTo>
                    <a:pt x="743" y="1235"/>
                  </a:lnTo>
                  <a:lnTo>
                    <a:pt x="880" y="1181"/>
                  </a:lnTo>
                  <a:lnTo>
                    <a:pt x="1051" y="1098"/>
                  </a:lnTo>
                  <a:lnTo>
                    <a:pt x="1233" y="1017"/>
                  </a:lnTo>
                  <a:lnTo>
                    <a:pt x="1443" y="918"/>
                  </a:lnTo>
                  <a:lnTo>
                    <a:pt x="1653" y="817"/>
                  </a:lnTo>
                  <a:lnTo>
                    <a:pt x="1871" y="709"/>
                  </a:lnTo>
                  <a:lnTo>
                    <a:pt x="2077" y="599"/>
                  </a:lnTo>
                  <a:lnTo>
                    <a:pt x="2279" y="491"/>
                  </a:lnTo>
                  <a:lnTo>
                    <a:pt x="2470" y="380"/>
                  </a:lnTo>
                  <a:lnTo>
                    <a:pt x="2643" y="273"/>
                  </a:lnTo>
                  <a:lnTo>
                    <a:pt x="2787" y="174"/>
                  </a:lnTo>
                  <a:lnTo>
                    <a:pt x="2897" y="81"/>
                  </a:lnTo>
                  <a:lnTo>
                    <a:pt x="29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88200" y="7539480"/>
              <a:ext cx="110160" cy="73800"/>
            </a:xfrm>
            <a:custGeom>
              <a:avLst/>
              <a:gdLst/>
              <a:ahLst/>
              <a:rect l="l" t="t" r="r" b="b"/>
              <a:pathLst>
                <a:path w="2125" h="1172">
                  <a:moveTo>
                    <a:pt x="2125" y="1127"/>
                  </a:moveTo>
                  <a:lnTo>
                    <a:pt x="2116" y="1127"/>
                  </a:lnTo>
                  <a:lnTo>
                    <a:pt x="2080" y="1127"/>
                  </a:lnTo>
                  <a:lnTo>
                    <a:pt x="2026" y="1127"/>
                  </a:lnTo>
                  <a:lnTo>
                    <a:pt x="1952" y="1115"/>
                  </a:lnTo>
                  <a:lnTo>
                    <a:pt x="1853" y="1106"/>
                  </a:lnTo>
                  <a:lnTo>
                    <a:pt x="1743" y="1088"/>
                  </a:lnTo>
                  <a:lnTo>
                    <a:pt x="1617" y="1052"/>
                  </a:lnTo>
                  <a:lnTo>
                    <a:pt x="1478" y="1007"/>
                  </a:lnTo>
                  <a:lnTo>
                    <a:pt x="1326" y="953"/>
                  </a:lnTo>
                  <a:lnTo>
                    <a:pt x="1161" y="882"/>
                  </a:lnTo>
                  <a:lnTo>
                    <a:pt x="979" y="789"/>
                  </a:lnTo>
                  <a:lnTo>
                    <a:pt x="800" y="681"/>
                  </a:lnTo>
                  <a:lnTo>
                    <a:pt x="607" y="544"/>
                  </a:lnTo>
                  <a:lnTo>
                    <a:pt x="407" y="391"/>
                  </a:lnTo>
                  <a:lnTo>
                    <a:pt x="207" y="209"/>
                  </a:lnTo>
                  <a:lnTo>
                    <a:pt x="0" y="0"/>
                  </a:lnTo>
                  <a:lnTo>
                    <a:pt x="9" y="18"/>
                  </a:lnTo>
                  <a:lnTo>
                    <a:pt x="54" y="63"/>
                  </a:lnTo>
                  <a:lnTo>
                    <a:pt x="117" y="138"/>
                  </a:lnTo>
                  <a:lnTo>
                    <a:pt x="198" y="227"/>
                  </a:lnTo>
                  <a:lnTo>
                    <a:pt x="308" y="326"/>
                  </a:lnTo>
                  <a:lnTo>
                    <a:pt x="425" y="445"/>
                  </a:lnTo>
                  <a:lnTo>
                    <a:pt x="562" y="562"/>
                  </a:lnTo>
                  <a:lnTo>
                    <a:pt x="706" y="690"/>
                  </a:lnTo>
                  <a:lnTo>
                    <a:pt x="871" y="807"/>
                  </a:lnTo>
                  <a:lnTo>
                    <a:pt x="1045" y="917"/>
                  </a:lnTo>
                  <a:lnTo>
                    <a:pt x="1215" y="1016"/>
                  </a:lnTo>
                  <a:lnTo>
                    <a:pt x="1398" y="1088"/>
                  </a:lnTo>
                  <a:lnTo>
                    <a:pt x="1581" y="1145"/>
                  </a:lnTo>
                  <a:lnTo>
                    <a:pt x="1763" y="1172"/>
                  </a:lnTo>
                  <a:lnTo>
                    <a:pt x="1943" y="1172"/>
                  </a:lnTo>
                  <a:lnTo>
                    <a:pt x="2125" y="1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44680" y="7584120"/>
              <a:ext cx="631800" cy="681480"/>
            </a:xfrm>
            <a:custGeom>
              <a:avLst/>
              <a:gdLst/>
              <a:ahLst/>
              <a:rect l="l" t="t" r="r" b="b"/>
              <a:pathLst>
                <a:path w="12164" h="10794">
                  <a:moveTo>
                    <a:pt x="0" y="5177"/>
                  </a:moveTo>
                  <a:lnTo>
                    <a:pt x="0" y="4998"/>
                  </a:lnTo>
                  <a:lnTo>
                    <a:pt x="9" y="4798"/>
                  </a:lnTo>
                  <a:lnTo>
                    <a:pt x="27" y="4562"/>
                  </a:lnTo>
                  <a:lnTo>
                    <a:pt x="72" y="4299"/>
                  </a:lnTo>
                  <a:lnTo>
                    <a:pt x="126" y="4029"/>
                  </a:lnTo>
                  <a:lnTo>
                    <a:pt x="218" y="3730"/>
                  </a:lnTo>
                  <a:lnTo>
                    <a:pt x="326" y="3429"/>
                  </a:lnTo>
                  <a:lnTo>
                    <a:pt x="473" y="3112"/>
                  </a:lnTo>
                  <a:lnTo>
                    <a:pt x="653" y="2787"/>
                  </a:lnTo>
                  <a:lnTo>
                    <a:pt x="871" y="2461"/>
                  </a:lnTo>
                  <a:lnTo>
                    <a:pt x="1143" y="2132"/>
                  </a:lnTo>
                  <a:lnTo>
                    <a:pt x="1455" y="1815"/>
                  </a:lnTo>
                  <a:lnTo>
                    <a:pt x="1817" y="1498"/>
                  </a:lnTo>
                  <a:lnTo>
                    <a:pt x="2236" y="1199"/>
                  </a:lnTo>
                  <a:lnTo>
                    <a:pt x="2709" y="906"/>
                  </a:lnTo>
                  <a:lnTo>
                    <a:pt x="3245" y="634"/>
                  </a:lnTo>
                  <a:lnTo>
                    <a:pt x="3290" y="616"/>
                  </a:lnTo>
                  <a:lnTo>
                    <a:pt x="3406" y="571"/>
                  </a:lnTo>
                  <a:lnTo>
                    <a:pt x="3598" y="500"/>
                  </a:lnTo>
                  <a:lnTo>
                    <a:pt x="3852" y="407"/>
                  </a:lnTo>
                  <a:lnTo>
                    <a:pt x="4160" y="317"/>
                  </a:lnTo>
                  <a:lnTo>
                    <a:pt x="4517" y="227"/>
                  </a:lnTo>
                  <a:lnTo>
                    <a:pt x="4905" y="135"/>
                  </a:lnTo>
                  <a:lnTo>
                    <a:pt x="5334" y="63"/>
                  </a:lnTo>
                  <a:lnTo>
                    <a:pt x="5779" y="18"/>
                  </a:lnTo>
                  <a:lnTo>
                    <a:pt x="6241" y="0"/>
                  </a:lnTo>
                  <a:lnTo>
                    <a:pt x="6713" y="18"/>
                  </a:lnTo>
                  <a:lnTo>
                    <a:pt x="7178" y="81"/>
                  </a:lnTo>
                  <a:lnTo>
                    <a:pt x="7641" y="200"/>
                  </a:lnTo>
                  <a:lnTo>
                    <a:pt x="8087" y="380"/>
                  </a:lnTo>
                  <a:lnTo>
                    <a:pt x="8501" y="625"/>
                  </a:lnTo>
                  <a:lnTo>
                    <a:pt x="8883" y="945"/>
                  </a:lnTo>
                  <a:lnTo>
                    <a:pt x="8928" y="954"/>
                  </a:lnTo>
                  <a:lnTo>
                    <a:pt x="9038" y="990"/>
                  </a:lnTo>
                  <a:lnTo>
                    <a:pt x="9218" y="1053"/>
                  </a:lnTo>
                  <a:lnTo>
                    <a:pt x="9455" y="1134"/>
                  </a:lnTo>
                  <a:lnTo>
                    <a:pt x="9718" y="1262"/>
                  </a:lnTo>
                  <a:lnTo>
                    <a:pt x="10026" y="1415"/>
                  </a:lnTo>
                  <a:lnTo>
                    <a:pt x="10347" y="1615"/>
                  </a:lnTo>
                  <a:lnTo>
                    <a:pt x="10673" y="1851"/>
                  </a:lnTo>
                  <a:lnTo>
                    <a:pt x="10990" y="2123"/>
                  </a:lnTo>
                  <a:lnTo>
                    <a:pt x="11290" y="2452"/>
                  </a:lnTo>
                  <a:lnTo>
                    <a:pt x="11562" y="2832"/>
                  </a:lnTo>
                  <a:lnTo>
                    <a:pt x="11798" y="3258"/>
                  </a:lnTo>
                  <a:lnTo>
                    <a:pt x="11990" y="3748"/>
                  </a:lnTo>
                  <a:lnTo>
                    <a:pt x="12110" y="4290"/>
                  </a:lnTo>
                  <a:lnTo>
                    <a:pt x="12164" y="4888"/>
                  </a:lnTo>
                  <a:lnTo>
                    <a:pt x="12128" y="5561"/>
                  </a:lnTo>
                  <a:lnTo>
                    <a:pt x="12119" y="5604"/>
                  </a:lnTo>
                  <a:lnTo>
                    <a:pt x="12092" y="5734"/>
                  </a:lnTo>
                  <a:lnTo>
                    <a:pt x="12035" y="5921"/>
                  </a:lnTo>
                  <a:lnTo>
                    <a:pt x="11972" y="6176"/>
                  </a:lnTo>
                  <a:lnTo>
                    <a:pt x="11882" y="6475"/>
                  </a:lnTo>
                  <a:lnTo>
                    <a:pt x="11762" y="6821"/>
                  </a:lnTo>
                  <a:lnTo>
                    <a:pt x="11628" y="7183"/>
                  </a:lnTo>
                  <a:lnTo>
                    <a:pt x="11472" y="7566"/>
                  </a:lnTo>
                  <a:lnTo>
                    <a:pt x="11290" y="7955"/>
                  </a:lnTo>
                  <a:lnTo>
                    <a:pt x="11093" y="8337"/>
                  </a:lnTo>
                  <a:lnTo>
                    <a:pt x="10864" y="8699"/>
                  </a:lnTo>
                  <a:lnTo>
                    <a:pt x="10610" y="9037"/>
                  </a:lnTo>
                  <a:lnTo>
                    <a:pt x="10329" y="9336"/>
                  </a:lnTo>
                  <a:lnTo>
                    <a:pt x="10026" y="9589"/>
                  </a:lnTo>
                  <a:lnTo>
                    <a:pt x="9700" y="9777"/>
                  </a:lnTo>
                  <a:lnTo>
                    <a:pt x="9348" y="9897"/>
                  </a:lnTo>
                  <a:lnTo>
                    <a:pt x="9339" y="9906"/>
                  </a:lnTo>
                  <a:lnTo>
                    <a:pt x="9321" y="9915"/>
                  </a:lnTo>
                  <a:lnTo>
                    <a:pt x="9294" y="9942"/>
                  </a:lnTo>
                  <a:lnTo>
                    <a:pt x="9245" y="9969"/>
                  </a:lnTo>
                  <a:lnTo>
                    <a:pt x="9182" y="10014"/>
                  </a:lnTo>
                  <a:lnTo>
                    <a:pt x="9119" y="10061"/>
                  </a:lnTo>
                  <a:lnTo>
                    <a:pt x="9038" y="10106"/>
                  </a:lnTo>
                  <a:lnTo>
                    <a:pt x="8937" y="10160"/>
                  </a:lnTo>
                  <a:lnTo>
                    <a:pt x="8838" y="10214"/>
                  </a:lnTo>
                  <a:lnTo>
                    <a:pt x="8719" y="10277"/>
                  </a:lnTo>
                  <a:lnTo>
                    <a:pt x="8584" y="10333"/>
                  </a:lnTo>
                  <a:lnTo>
                    <a:pt x="8438" y="10396"/>
                  </a:lnTo>
                  <a:lnTo>
                    <a:pt x="8285" y="10450"/>
                  </a:lnTo>
                  <a:lnTo>
                    <a:pt x="8123" y="10513"/>
                  </a:lnTo>
                  <a:lnTo>
                    <a:pt x="7940" y="10569"/>
                  </a:lnTo>
                  <a:lnTo>
                    <a:pt x="7749" y="10614"/>
                  </a:lnTo>
                  <a:lnTo>
                    <a:pt x="7551" y="10668"/>
                  </a:lnTo>
                  <a:lnTo>
                    <a:pt x="7333" y="10704"/>
                  </a:lnTo>
                  <a:lnTo>
                    <a:pt x="7106" y="10740"/>
                  </a:lnTo>
                  <a:lnTo>
                    <a:pt x="6869" y="10767"/>
                  </a:lnTo>
                  <a:lnTo>
                    <a:pt x="6623" y="10785"/>
                  </a:lnTo>
                  <a:lnTo>
                    <a:pt x="6360" y="10794"/>
                  </a:lnTo>
                  <a:lnTo>
                    <a:pt x="6088" y="10794"/>
                  </a:lnTo>
                  <a:lnTo>
                    <a:pt x="5806" y="10776"/>
                  </a:lnTo>
                  <a:lnTo>
                    <a:pt x="5507" y="10758"/>
                  </a:lnTo>
                  <a:lnTo>
                    <a:pt x="5204" y="10722"/>
                  </a:lnTo>
                  <a:lnTo>
                    <a:pt x="4887" y="10668"/>
                  </a:lnTo>
                  <a:lnTo>
                    <a:pt x="4561" y="10596"/>
                  </a:lnTo>
                  <a:lnTo>
                    <a:pt x="4214" y="10513"/>
                  </a:lnTo>
                  <a:lnTo>
                    <a:pt x="3870" y="10414"/>
                  </a:lnTo>
                  <a:lnTo>
                    <a:pt x="3508" y="10297"/>
                  </a:lnTo>
                  <a:lnTo>
                    <a:pt x="3133" y="10160"/>
                  </a:lnTo>
                  <a:lnTo>
                    <a:pt x="3097" y="10151"/>
                  </a:lnTo>
                  <a:lnTo>
                    <a:pt x="3008" y="10106"/>
                  </a:lnTo>
                  <a:lnTo>
                    <a:pt x="2870" y="10043"/>
                  </a:lnTo>
                  <a:lnTo>
                    <a:pt x="2679" y="9942"/>
                  </a:lnTo>
                  <a:lnTo>
                    <a:pt x="2463" y="9816"/>
                  </a:lnTo>
                  <a:lnTo>
                    <a:pt x="2209" y="9652"/>
                  </a:lnTo>
                  <a:lnTo>
                    <a:pt x="1945" y="9442"/>
                  </a:lnTo>
                  <a:lnTo>
                    <a:pt x="1670" y="9197"/>
                  </a:lnTo>
                  <a:lnTo>
                    <a:pt x="1388" y="8916"/>
                  </a:lnTo>
                  <a:lnTo>
                    <a:pt x="1107" y="8582"/>
                  </a:lnTo>
                  <a:lnTo>
                    <a:pt x="853" y="8200"/>
                  </a:lnTo>
                  <a:lnTo>
                    <a:pt x="608" y="7775"/>
                  </a:lnTo>
                  <a:lnTo>
                    <a:pt x="398" y="7294"/>
                  </a:lnTo>
                  <a:lnTo>
                    <a:pt x="236" y="6767"/>
                  </a:lnTo>
                  <a:lnTo>
                    <a:pt x="108" y="6167"/>
                  </a:lnTo>
                  <a:lnTo>
                    <a:pt x="36" y="5525"/>
                  </a:lnTo>
                  <a:lnTo>
                    <a:pt x="36" y="5498"/>
                  </a:lnTo>
                  <a:lnTo>
                    <a:pt x="18" y="5431"/>
                  </a:lnTo>
                  <a:lnTo>
                    <a:pt x="9" y="5323"/>
                  </a:lnTo>
                  <a:lnTo>
                    <a:pt x="0" y="5177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18920" y="7635960"/>
              <a:ext cx="118440" cy="74520"/>
            </a:xfrm>
            <a:custGeom>
              <a:avLst/>
              <a:gdLst/>
              <a:ahLst/>
              <a:rect l="l" t="t" r="r" b="b"/>
              <a:pathLst>
                <a:path w="2280" h="1180">
                  <a:moveTo>
                    <a:pt x="2280" y="780"/>
                  </a:moveTo>
                  <a:lnTo>
                    <a:pt x="2280" y="771"/>
                  </a:lnTo>
                  <a:lnTo>
                    <a:pt x="2262" y="744"/>
                  </a:lnTo>
                  <a:lnTo>
                    <a:pt x="2235" y="708"/>
                  </a:lnTo>
                  <a:lnTo>
                    <a:pt x="2199" y="663"/>
                  </a:lnTo>
                  <a:lnTo>
                    <a:pt x="2136" y="598"/>
                  </a:lnTo>
                  <a:lnTo>
                    <a:pt x="2062" y="535"/>
                  </a:lnTo>
                  <a:lnTo>
                    <a:pt x="1972" y="463"/>
                  </a:lnTo>
                  <a:lnTo>
                    <a:pt x="1860" y="391"/>
                  </a:lnTo>
                  <a:lnTo>
                    <a:pt x="1727" y="317"/>
                  </a:lnTo>
                  <a:lnTo>
                    <a:pt x="1570" y="245"/>
                  </a:lnTo>
                  <a:lnTo>
                    <a:pt x="1382" y="182"/>
                  </a:lnTo>
                  <a:lnTo>
                    <a:pt x="1173" y="119"/>
                  </a:lnTo>
                  <a:lnTo>
                    <a:pt x="927" y="71"/>
                  </a:lnTo>
                  <a:lnTo>
                    <a:pt x="654" y="35"/>
                  </a:lnTo>
                  <a:lnTo>
                    <a:pt x="344" y="9"/>
                  </a:lnTo>
                  <a:lnTo>
                    <a:pt x="0" y="0"/>
                  </a:lnTo>
                  <a:lnTo>
                    <a:pt x="2098" y="1180"/>
                  </a:lnTo>
                  <a:lnTo>
                    <a:pt x="2280" y="7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09200" y="7720560"/>
              <a:ext cx="141480" cy="281160"/>
            </a:xfrm>
            <a:custGeom>
              <a:avLst/>
              <a:gdLst/>
              <a:ahLst/>
              <a:rect l="l" t="t" r="r" b="b"/>
              <a:pathLst>
                <a:path w="2727" h="4453">
                  <a:moveTo>
                    <a:pt x="2727" y="173"/>
                  </a:moveTo>
                  <a:lnTo>
                    <a:pt x="2700" y="200"/>
                  </a:lnTo>
                  <a:lnTo>
                    <a:pt x="2619" y="262"/>
                  </a:lnTo>
                  <a:lnTo>
                    <a:pt x="2491" y="383"/>
                  </a:lnTo>
                  <a:lnTo>
                    <a:pt x="2320" y="525"/>
                  </a:lnTo>
                  <a:lnTo>
                    <a:pt x="2129" y="717"/>
                  </a:lnTo>
                  <a:lnTo>
                    <a:pt x="1902" y="944"/>
                  </a:lnTo>
                  <a:lnTo>
                    <a:pt x="1665" y="1198"/>
                  </a:lnTo>
                  <a:lnTo>
                    <a:pt x="1419" y="1479"/>
                  </a:lnTo>
                  <a:lnTo>
                    <a:pt x="1174" y="1787"/>
                  </a:lnTo>
                  <a:lnTo>
                    <a:pt x="937" y="2122"/>
                  </a:lnTo>
                  <a:lnTo>
                    <a:pt x="710" y="2475"/>
                  </a:lnTo>
                  <a:lnTo>
                    <a:pt x="510" y="2848"/>
                  </a:lnTo>
                  <a:lnTo>
                    <a:pt x="330" y="3227"/>
                  </a:lnTo>
                  <a:lnTo>
                    <a:pt x="193" y="3629"/>
                  </a:lnTo>
                  <a:lnTo>
                    <a:pt x="103" y="4035"/>
                  </a:lnTo>
                  <a:lnTo>
                    <a:pt x="58" y="4453"/>
                  </a:lnTo>
                  <a:lnTo>
                    <a:pt x="49" y="4426"/>
                  </a:lnTo>
                  <a:lnTo>
                    <a:pt x="40" y="4345"/>
                  </a:lnTo>
                  <a:lnTo>
                    <a:pt x="18" y="4208"/>
                  </a:lnTo>
                  <a:lnTo>
                    <a:pt x="0" y="4026"/>
                  </a:lnTo>
                  <a:lnTo>
                    <a:pt x="0" y="3807"/>
                  </a:lnTo>
                  <a:lnTo>
                    <a:pt x="9" y="3553"/>
                  </a:lnTo>
                  <a:lnTo>
                    <a:pt x="40" y="3263"/>
                  </a:lnTo>
                  <a:lnTo>
                    <a:pt x="94" y="2947"/>
                  </a:lnTo>
                  <a:lnTo>
                    <a:pt x="175" y="2612"/>
                  </a:lnTo>
                  <a:lnTo>
                    <a:pt x="303" y="2257"/>
                  </a:lnTo>
                  <a:lnTo>
                    <a:pt x="465" y="1888"/>
                  </a:lnTo>
                  <a:lnTo>
                    <a:pt x="674" y="1515"/>
                  </a:lnTo>
                  <a:lnTo>
                    <a:pt x="937" y="1126"/>
                  </a:lnTo>
                  <a:lnTo>
                    <a:pt x="1264" y="743"/>
                  </a:lnTo>
                  <a:lnTo>
                    <a:pt x="1656" y="374"/>
                  </a:lnTo>
                  <a:lnTo>
                    <a:pt x="2111" y="0"/>
                  </a:lnTo>
                  <a:lnTo>
                    <a:pt x="2120" y="18"/>
                  </a:lnTo>
                  <a:lnTo>
                    <a:pt x="2129" y="66"/>
                  </a:lnTo>
                  <a:lnTo>
                    <a:pt x="2165" y="128"/>
                  </a:lnTo>
                  <a:lnTo>
                    <a:pt x="2219" y="182"/>
                  </a:lnTo>
                  <a:lnTo>
                    <a:pt x="2300" y="235"/>
                  </a:lnTo>
                  <a:lnTo>
                    <a:pt x="2410" y="253"/>
                  </a:lnTo>
                  <a:lnTo>
                    <a:pt x="2545" y="244"/>
                  </a:lnTo>
                  <a:lnTo>
                    <a:pt x="2727" y="17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21000" y="7797960"/>
              <a:ext cx="561240" cy="467280"/>
            </a:xfrm>
            <a:custGeom>
              <a:avLst/>
              <a:gdLst/>
              <a:ahLst/>
              <a:rect l="l" t="t" r="r" b="b"/>
              <a:pathLst>
                <a:path w="10808" h="7401">
                  <a:moveTo>
                    <a:pt x="10490" y="0"/>
                  </a:moveTo>
                  <a:lnTo>
                    <a:pt x="10499" y="74"/>
                  </a:lnTo>
                  <a:lnTo>
                    <a:pt x="10508" y="272"/>
                  </a:lnTo>
                  <a:lnTo>
                    <a:pt x="10499" y="544"/>
                  </a:lnTo>
                  <a:lnTo>
                    <a:pt x="10454" y="843"/>
                  </a:lnTo>
                  <a:lnTo>
                    <a:pt x="10364" y="1142"/>
                  </a:lnTo>
                  <a:lnTo>
                    <a:pt x="10200" y="1387"/>
                  </a:lnTo>
                  <a:lnTo>
                    <a:pt x="9937" y="1531"/>
                  </a:lnTo>
                  <a:lnTo>
                    <a:pt x="9571" y="1531"/>
                  </a:lnTo>
                  <a:lnTo>
                    <a:pt x="9571" y="1575"/>
                  </a:lnTo>
                  <a:lnTo>
                    <a:pt x="9562" y="1704"/>
                  </a:lnTo>
                  <a:lnTo>
                    <a:pt x="9544" y="1904"/>
                  </a:lnTo>
                  <a:lnTo>
                    <a:pt x="9517" y="2159"/>
                  </a:lnTo>
                  <a:lnTo>
                    <a:pt x="9463" y="2466"/>
                  </a:lnTo>
                  <a:lnTo>
                    <a:pt x="9400" y="2819"/>
                  </a:lnTo>
                  <a:lnTo>
                    <a:pt x="9308" y="3201"/>
                  </a:lnTo>
                  <a:lnTo>
                    <a:pt x="9191" y="3599"/>
                  </a:lnTo>
                  <a:lnTo>
                    <a:pt x="9036" y="4008"/>
                  </a:lnTo>
                  <a:lnTo>
                    <a:pt x="8856" y="4418"/>
                  </a:lnTo>
                  <a:lnTo>
                    <a:pt x="8638" y="4807"/>
                  </a:lnTo>
                  <a:lnTo>
                    <a:pt x="8374" y="5180"/>
                  </a:lnTo>
                  <a:lnTo>
                    <a:pt x="8066" y="5524"/>
                  </a:lnTo>
                  <a:lnTo>
                    <a:pt x="7700" y="5822"/>
                  </a:lnTo>
                  <a:lnTo>
                    <a:pt x="7291" y="6067"/>
                  </a:lnTo>
                  <a:lnTo>
                    <a:pt x="6830" y="6250"/>
                  </a:lnTo>
                  <a:lnTo>
                    <a:pt x="6821" y="6250"/>
                  </a:lnTo>
                  <a:lnTo>
                    <a:pt x="6803" y="6268"/>
                  </a:lnTo>
                  <a:lnTo>
                    <a:pt x="6763" y="6277"/>
                  </a:lnTo>
                  <a:lnTo>
                    <a:pt x="6719" y="6304"/>
                  </a:lnTo>
                  <a:lnTo>
                    <a:pt x="6659" y="6331"/>
                  </a:lnTo>
                  <a:lnTo>
                    <a:pt x="6579" y="6357"/>
                  </a:lnTo>
                  <a:lnTo>
                    <a:pt x="6485" y="6384"/>
                  </a:lnTo>
                  <a:lnTo>
                    <a:pt x="6386" y="6423"/>
                  </a:lnTo>
                  <a:lnTo>
                    <a:pt x="6267" y="6450"/>
                  </a:lnTo>
                  <a:lnTo>
                    <a:pt x="6141" y="6486"/>
                  </a:lnTo>
                  <a:lnTo>
                    <a:pt x="5995" y="6522"/>
                  </a:lnTo>
                  <a:lnTo>
                    <a:pt x="5833" y="6549"/>
                  </a:lnTo>
                  <a:lnTo>
                    <a:pt x="5669" y="6576"/>
                  </a:lnTo>
                  <a:lnTo>
                    <a:pt x="5476" y="6594"/>
                  </a:lnTo>
                  <a:lnTo>
                    <a:pt x="5288" y="6612"/>
                  </a:lnTo>
                  <a:lnTo>
                    <a:pt x="5079" y="6630"/>
                  </a:lnTo>
                  <a:lnTo>
                    <a:pt x="4851" y="6639"/>
                  </a:lnTo>
                  <a:lnTo>
                    <a:pt x="4615" y="6639"/>
                  </a:lnTo>
                  <a:lnTo>
                    <a:pt x="4369" y="6630"/>
                  </a:lnTo>
                  <a:lnTo>
                    <a:pt x="4106" y="6612"/>
                  </a:lnTo>
                  <a:lnTo>
                    <a:pt x="3834" y="6585"/>
                  </a:lnTo>
                  <a:lnTo>
                    <a:pt x="3544" y="6540"/>
                  </a:lnTo>
                  <a:lnTo>
                    <a:pt x="3241" y="6495"/>
                  </a:lnTo>
                  <a:lnTo>
                    <a:pt x="2933" y="6432"/>
                  </a:lnTo>
                  <a:lnTo>
                    <a:pt x="2606" y="6348"/>
                  </a:lnTo>
                  <a:lnTo>
                    <a:pt x="2271" y="6259"/>
                  </a:lnTo>
                  <a:lnTo>
                    <a:pt x="1925" y="6161"/>
                  </a:lnTo>
                  <a:lnTo>
                    <a:pt x="1562" y="6031"/>
                  </a:lnTo>
                  <a:lnTo>
                    <a:pt x="1188" y="5898"/>
                  </a:lnTo>
                  <a:lnTo>
                    <a:pt x="808" y="5741"/>
                  </a:lnTo>
                  <a:lnTo>
                    <a:pt x="407" y="5559"/>
                  </a:lnTo>
                  <a:lnTo>
                    <a:pt x="0" y="5368"/>
                  </a:lnTo>
                  <a:lnTo>
                    <a:pt x="9" y="5377"/>
                  </a:lnTo>
                  <a:lnTo>
                    <a:pt x="18" y="5398"/>
                  </a:lnTo>
                  <a:lnTo>
                    <a:pt x="45" y="5434"/>
                  </a:lnTo>
                  <a:lnTo>
                    <a:pt x="81" y="5479"/>
                  </a:lnTo>
                  <a:lnTo>
                    <a:pt x="126" y="5541"/>
                  </a:lnTo>
                  <a:lnTo>
                    <a:pt x="188" y="5613"/>
                  </a:lnTo>
                  <a:lnTo>
                    <a:pt x="263" y="5689"/>
                  </a:lnTo>
                  <a:lnTo>
                    <a:pt x="344" y="5777"/>
                  </a:lnTo>
                  <a:lnTo>
                    <a:pt x="434" y="5867"/>
                  </a:lnTo>
                  <a:lnTo>
                    <a:pt x="535" y="5970"/>
                  </a:lnTo>
                  <a:lnTo>
                    <a:pt x="652" y="6067"/>
                  </a:lnTo>
                  <a:lnTo>
                    <a:pt x="781" y="6170"/>
                  </a:lnTo>
                  <a:lnTo>
                    <a:pt x="925" y="6277"/>
                  </a:lnTo>
                  <a:lnTo>
                    <a:pt x="1071" y="6384"/>
                  </a:lnTo>
                  <a:lnTo>
                    <a:pt x="1245" y="6495"/>
                  </a:lnTo>
                  <a:lnTo>
                    <a:pt x="1415" y="6603"/>
                  </a:lnTo>
                  <a:lnTo>
                    <a:pt x="1607" y="6713"/>
                  </a:lnTo>
                  <a:lnTo>
                    <a:pt x="1808" y="6812"/>
                  </a:lnTo>
                  <a:lnTo>
                    <a:pt x="2026" y="6913"/>
                  </a:lnTo>
                  <a:lnTo>
                    <a:pt x="2253" y="7003"/>
                  </a:lnTo>
                  <a:lnTo>
                    <a:pt x="2498" y="7084"/>
                  </a:lnTo>
                  <a:lnTo>
                    <a:pt x="2753" y="7167"/>
                  </a:lnTo>
                  <a:lnTo>
                    <a:pt x="3026" y="7230"/>
                  </a:lnTo>
                  <a:lnTo>
                    <a:pt x="3307" y="7293"/>
                  </a:lnTo>
                  <a:lnTo>
                    <a:pt x="3607" y="7338"/>
                  </a:lnTo>
                  <a:lnTo>
                    <a:pt x="3915" y="7374"/>
                  </a:lnTo>
                  <a:lnTo>
                    <a:pt x="4241" y="7392"/>
                  </a:lnTo>
                  <a:lnTo>
                    <a:pt x="4579" y="7401"/>
                  </a:lnTo>
                  <a:lnTo>
                    <a:pt x="4932" y="7392"/>
                  </a:lnTo>
                  <a:lnTo>
                    <a:pt x="5306" y="7365"/>
                  </a:lnTo>
                  <a:lnTo>
                    <a:pt x="5687" y="7320"/>
                  </a:lnTo>
                  <a:lnTo>
                    <a:pt x="6087" y="7257"/>
                  </a:lnTo>
                  <a:lnTo>
                    <a:pt x="6132" y="7257"/>
                  </a:lnTo>
                  <a:lnTo>
                    <a:pt x="6258" y="7239"/>
                  </a:lnTo>
                  <a:lnTo>
                    <a:pt x="6449" y="7203"/>
                  </a:lnTo>
                  <a:lnTo>
                    <a:pt x="6701" y="7147"/>
                  </a:lnTo>
                  <a:lnTo>
                    <a:pt x="7001" y="7066"/>
                  </a:lnTo>
                  <a:lnTo>
                    <a:pt x="7347" y="6958"/>
                  </a:lnTo>
                  <a:lnTo>
                    <a:pt x="7709" y="6803"/>
                  </a:lnTo>
                  <a:lnTo>
                    <a:pt x="8093" y="6612"/>
                  </a:lnTo>
                  <a:lnTo>
                    <a:pt x="8473" y="6375"/>
                  </a:lnTo>
                  <a:lnTo>
                    <a:pt x="8856" y="6094"/>
                  </a:lnTo>
                  <a:lnTo>
                    <a:pt x="9209" y="5750"/>
                  </a:lnTo>
                  <a:lnTo>
                    <a:pt x="9544" y="5350"/>
                  </a:lnTo>
                  <a:lnTo>
                    <a:pt x="9835" y="4890"/>
                  </a:lnTo>
                  <a:lnTo>
                    <a:pt x="10080" y="4352"/>
                  </a:lnTo>
                  <a:lnTo>
                    <a:pt x="10254" y="3745"/>
                  </a:lnTo>
                  <a:lnTo>
                    <a:pt x="10364" y="3055"/>
                  </a:lnTo>
                  <a:lnTo>
                    <a:pt x="10400" y="3019"/>
                  </a:lnTo>
                  <a:lnTo>
                    <a:pt x="10490" y="2893"/>
                  </a:lnTo>
                  <a:lnTo>
                    <a:pt x="10610" y="2675"/>
                  </a:lnTo>
                  <a:lnTo>
                    <a:pt x="10727" y="2368"/>
                  </a:lnTo>
                  <a:lnTo>
                    <a:pt x="10799" y="1948"/>
                  </a:lnTo>
                  <a:lnTo>
                    <a:pt x="10808" y="1414"/>
                  </a:lnTo>
                  <a:lnTo>
                    <a:pt x="10709" y="769"/>
                  </a:lnTo>
                  <a:lnTo>
                    <a:pt x="1049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49720" y="7576200"/>
              <a:ext cx="640800" cy="694800"/>
            </a:xfrm>
            <a:custGeom>
              <a:avLst/>
              <a:gdLst/>
              <a:ahLst/>
              <a:rect l="l" t="t" r="r" b="b"/>
              <a:pathLst>
                <a:path w="12337" h="11005">
                  <a:moveTo>
                    <a:pt x="65" y="5653"/>
                  </a:moveTo>
                  <a:lnTo>
                    <a:pt x="54" y="5626"/>
                  </a:lnTo>
                  <a:lnTo>
                    <a:pt x="45" y="5532"/>
                  </a:lnTo>
                  <a:lnTo>
                    <a:pt x="27" y="5399"/>
                  </a:lnTo>
                  <a:lnTo>
                    <a:pt x="9" y="5216"/>
                  </a:lnTo>
                  <a:lnTo>
                    <a:pt x="0" y="5025"/>
                  </a:lnTo>
                  <a:lnTo>
                    <a:pt x="0" y="4816"/>
                  </a:lnTo>
                  <a:lnTo>
                    <a:pt x="18" y="4580"/>
                  </a:lnTo>
                  <a:lnTo>
                    <a:pt x="45" y="4325"/>
                  </a:lnTo>
                  <a:lnTo>
                    <a:pt x="92" y="4056"/>
                  </a:lnTo>
                  <a:lnTo>
                    <a:pt x="173" y="3775"/>
                  </a:lnTo>
                  <a:lnTo>
                    <a:pt x="272" y="3476"/>
                  </a:lnTo>
                  <a:lnTo>
                    <a:pt x="401" y="3177"/>
                  </a:lnTo>
                  <a:lnTo>
                    <a:pt x="563" y="2870"/>
                  </a:lnTo>
                  <a:lnTo>
                    <a:pt x="763" y="2567"/>
                  </a:lnTo>
                  <a:lnTo>
                    <a:pt x="1008" y="2269"/>
                  </a:lnTo>
                  <a:lnTo>
                    <a:pt x="1298" y="1970"/>
                  </a:lnTo>
                  <a:lnTo>
                    <a:pt x="1637" y="1689"/>
                  </a:lnTo>
                  <a:lnTo>
                    <a:pt x="2026" y="1417"/>
                  </a:lnTo>
                  <a:lnTo>
                    <a:pt x="2472" y="1154"/>
                  </a:lnTo>
                  <a:lnTo>
                    <a:pt x="2972" y="918"/>
                  </a:lnTo>
                  <a:lnTo>
                    <a:pt x="2981" y="909"/>
                  </a:lnTo>
                  <a:lnTo>
                    <a:pt x="3007" y="891"/>
                  </a:lnTo>
                  <a:lnTo>
                    <a:pt x="3043" y="864"/>
                  </a:lnTo>
                  <a:lnTo>
                    <a:pt x="3110" y="828"/>
                  </a:lnTo>
                  <a:lnTo>
                    <a:pt x="3182" y="789"/>
                  </a:lnTo>
                  <a:lnTo>
                    <a:pt x="3263" y="735"/>
                  </a:lnTo>
                  <a:lnTo>
                    <a:pt x="3373" y="681"/>
                  </a:lnTo>
                  <a:lnTo>
                    <a:pt x="3481" y="619"/>
                  </a:lnTo>
                  <a:lnTo>
                    <a:pt x="3618" y="556"/>
                  </a:lnTo>
                  <a:lnTo>
                    <a:pt x="3753" y="490"/>
                  </a:lnTo>
                  <a:lnTo>
                    <a:pt x="3908" y="427"/>
                  </a:lnTo>
                  <a:lnTo>
                    <a:pt x="4079" y="364"/>
                  </a:lnTo>
                  <a:lnTo>
                    <a:pt x="4262" y="302"/>
                  </a:lnTo>
                  <a:lnTo>
                    <a:pt x="4444" y="236"/>
                  </a:lnTo>
                  <a:lnTo>
                    <a:pt x="4645" y="182"/>
                  </a:lnTo>
                  <a:lnTo>
                    <a:pt x="4860" y="137"/>
                  </a:lnTo>
                  <a:lnTo>
                    <a:pt x="5078" y="92"/>
                  </a:lnTo>
                  <a:lnTo>
                    <a:pt x="5307" y="56"/>
                  </a:lnTo>
                  <a:lnTo>
                    <a:pt x="5543" y="27"/>
                  </a:lnTo>
                  <a:lnTo>
                    <a:pt x="5788" y="9"/>
                  </a:lnTo>
                  <a:lnTo>
                    <a:pt x="6043" y="0"/>
                  </a:lnTo>
                  <a:lnTo>
                    <a:pt x="6306" y="0"/>
                  </a:lnTo>
                  <a:lnTo>
                    <a:pt x="6569" y="18"/>
                  </a:lnTo>
                  <a:lnTo>
                    <a:pt x="6850" y="56"/>
                  </a:lnTo>
                  <a:lnTo>
                    <a:pt x="7124" y="101"/>
                  </a:lnTo>
                  <a:lnTo>
                    <a:pt x="7416" y="173"/>
                  </a:lnTo>
                  <a:lnTo>
                    <a:pt x="7706" y="254"/>
                  </a:lnTo>
                  <a:lnTo>
                    <a:pt x="7997" y="355"/>
                  </a:lnTo>
                  <a:lnTo>
                    <a:pt x="8294" y="481"/>
                  </a:lnTo>
                  <a:lnTo>
                    <a:pt x="8593" y="628"/>
                  </a:lnTo>
                  <a:lnTo>
                    <a:pt x="8892" y="801"/>
                  </a:lnTo>
                  <a:lnTo>
                    <a:pt x="9204" y="989"/>
                  </a:lnTo>
                  <a:lnTo>
                    <a:pt x="9249" y="1007"/>
                  </a:lnTo>
                  <a:lnTo>
                    <a:pt x="9383" y="1064"/>
                  </a:lnTo>
                  <a:lnTo>
                    <a:pt x="9592" y="1145"/>
                  </a:lnTo>
                  <a:lnTo>
                    <a:pt x="9856" y="1271"/>
                  </a:lnTo>
                  <a:lnTo>
                    <a:pt x="10156" y="1444"/>
                  </a:lnTo>
                  <a:lnTo>
                    <a:pt x="10493" y="1653"/>
                  </a:lnTo>
                  <a:lnTo>
                    <a:pt x="10828" y="1907"/>
                  </a:lnTo>
                  <a:lnTo>
                    <a:pt x="11173" y="2215"/>
                  </a:lnTo>
                  <a:lnTo>
                    <a:pt x="11502" y="2558"/>
                  </a:lnTo>
                  <a:lnTo>
                    <a:pt x="11792" y="2969"/>
                  </a:lnTo>
                  <a:lnTo>
                    <a:pt x="12038" y="3422"/>
                  </a:lnTo>
                  <a:lnTo>
                    <a:pt x="12218" y="3930"/>
                  </a:lnTo>
                  <a:lnTo>
                    <a:pt x="12319" y="4490"/>
                  </a:lnTo>
                  <a:lnTo>
                    <a:pt x="12337" y="5108"/>
                  </a:lnTo>
                  <a:lnTo>
                    <a:pt x="12247" y="5795"/>
                  </a:lnTo>
                  <a:lnTo>
                    <a:pt x="12029" y="6540"/>
                  </a:lnTo>
                  <a:lnTo>
                    <a:pt x="12020" y="6585"/>
                  </a:lnTo>
                  <a:lnTo>
                    <a:pt x="12002" y="6713"/>
                  </a:lnTo>
                  <a:lnTo>
                    <a:pt x="11954" y="6913"/>
                  </a:lnTo>
                  <a:lnTo>
                    <a:pt x="11891" y="7176"/>
                  </a:lnTo>
                  <a:lnTo>
                    <a:pt x="11783" y="7493"/>
                  </a:lnTo>
                  <a:lnTo>
                    <a:pt x="11646" y="7837"/>
                  </a:lnTo>
                  <a:lnTo>
                    <a:pt x="11463" y="8220"/>
                  </a:lnTo>
                  <a:lnTo>
                    <a:pt x="11230" y="8609"/>
                  </a:lnTo>
                  <a:lnTo>
                    <a:pt x="10936" y="9009"/>
                  </a:lnTo>
                  <a:lnTo>
                    <a:pt x="10592" y="9410"/>
                  </a:lnTo>
                  <a:lnTo>
                    <a:pt x="10174" y="9780"/>
                  </a:lnTo>
                  <a:lnTo>
                    <a:pt x="9682" y="10124"/>
                  </a:lnTo>
                  <a:lnTo>
                    <a:pt x="9110" y="10425"/>
                  </a:lnTo>
                  <a:lnTo>
                    <a:pt x="8467" y="10679"/>
                  </a:lnTo>
                  <a:lnTo>
                    <a:pt x="7724" y="10868"/>
                  </a:lnTo>
                  <a:lnTo>
                    <a:pt x="6886" y="10987"/>
                  </a:lnTo>
                  <a:lnTo>
                    <a:pt x="6868" y="10987"/>
                  </a:lnTo>
                  <a:lnTo>
                    <a:pt x="6815" y="10996"/>
                  </a:lnTo>
                  <a:lnTo>
                    <a:pt x="6725" y="10996"/>
                  </a:lnTo>
                  <a:lnTo>
                    <a:pt x="6605" y="11005"/>
                  </a:lnTo>
                  <a:lnTo>
                    <a:pt x="6453" y="11005"/>
                  </a:lnTo>
                  <a:lnTo>
                    <a:pt x="6279" y="11005"/>
                  </a:lnTo>
                  <a:lnTo>
                    <a:pt x="6079" y="11005"/>
                  </a:lnTo>
                  <a:lnTo>
                    <a:pt x="5860" y="10996"/>
                  </a:lnTo>
                  <a:lnTo>
                    <a:pt x="5615" y="10987"/>
                  </a:lnTo>
                  <a:lnTo>
                    <a:pt x="5361" y="10961"/>
                  </a:lnTo>
                  <a:lnTo>
                    <a:pt x="5078" y="10934"/>
                  </a:lnTo>
                  <a:lnTo>
                    <a:pt x="4797" y="10895"/>
                  </a:lnTo>
                  <a:lnTo>
                    <a:pt x="4498" y="10841"/>
                  </a:lnTo>
                  <a:lnTo>
                    <a:pt x="4199" y="10769"/>
                  </a:lnTo>
                  <a:lnTo>
                    <a:pt x="3890" y="10697"/>
                  </a:lnTo>
                  <a:lnTo>
                    <a:pt x="3571" y="10596"/>
                  </a:lnTo>
                  <a:lnTo>
                    <a:pt x="3263" y="10488"/>
                  </a:lnTo>
                  <a:lnTo>
                    <a:pt x="2945" y="10351"/>
                  </a:lnTo>
                  <a:lnTo>
                    <a:pt x="2646" y="10207"/>
                  </a:lnTo>
                  <a:lnTo>
                    <a:pt x="2335" y="10034"/>
                  </a:lnTo>
                  <a:lnTo>
                    <a:pt x="2044" y="9843"/>
                  </a:lnTo>
                  <a:lnTo>
                    <a:pt x="1763" y="9624"/>
                  </a:lnTo>
                  <a:lnTo>
                    <a:pt x="1500" y="9388"/>
                  </a:lnTo>
                  <a:lnTo>
                    <a:pt x="1244" y="9125"/>
                  </a:lnTo>
                  <a:lnTo>
                    <a:pt x="1008" y="8827"/>
                  </a:lnTo>
                  <a:lnTo>
                    <a:pt x="799" y="8510"/>
                  </a:lnTo>
                  <a:lnTo>
                    <a:pt x="610" y="8157"/>
                  </a:lnTo>
                  <a:lnTo>
                    <a:pt x="446" y="7775"/>
                  </a:lnTo>
                  <a:lnTo>
                    <a:pt x="308" y="7365"/>
                  </a:lnTo>
                  <a:lnTo>
                    <a:pt x="200" y="6913"/>
                  </a:lnTo>
                  <a:lnTo>
                    <a:pt x="119" y="6432"/>
                  </a:lnTo>
                  <a:lnTo>
                    <a:pt x="83" y="5916"/>
                  </a:lnTo>
                  <a:lnTo>
                    <a:pt x="83" y="5933"/>
                  </a:lnTo>
                  <a:lnTo>
                    <a:pt x="92" y="5969"/>
                  </a:lnTo>
                  <a:lnTo>
                    <a:pt x="101" y="6041"/>
                  </a:lnTo>
                  <a:lnTo>
                    <a:pt x="110" y="6142"/>
                  </a:lnTo>
                  <a:lnTo>
                    <a:pt x="137" y="6250"/>
                  </a:lnTo>
                  <a:lnTo>
                    <a:pt x="164" y="6396"/>
                  </a:lnTo>
                  <a:lnTo>
                    <a:pt x="200" y="6549"/>
                  </a:lnTo>
                  <a:lnTo>
                    <a:pt x="245" y="6722"/>
                  </a:lnTo>
                  <a:lnTo>
                    <a:pt x="308" y="6913"/>
                  </a:lnTo>
                  <a:lnTo>
                    <a:pt x="374" y="7111"/>
                  </a:lnTo>
                  <a:lnTo>
                    <a:pt x="455" y="7320"/>
                  </a:lnTo>
                  <a:lnTo>
                    <a:pt x="554" y="7538"/>
                  </a:lnTo>
                  <a:lnTo>
                    <a:pt x="664" y="7766"/>
                  </a:lnTo>
                  <a:lnTo>
                    <a:pt x="790" y="8002"/>
                  </a:lnTo>
                  <a:lnTo>
                    <a:pt x="936" y="8238"/>
                  </a:lnTo>
                  <a:lnTo>
                    <a:pt x="1102" y="8474"/>
                  </a:lnTo>
                  <a:lnTo>
                    <a:pt x="1271" y="8710"/>
                  </a:lnTo>
                  <a:lnTo>
                    <a:pt x="1473" y="8937"/>
                  </a:lnTo>
                  <a:lnTo>
                    <a:pt x="1700" y="9165"/>
                  </a:lnTo>
                  <a:lnTo>
                    <a:pt x="1936" y="9379"/>
                  </a:lnTo>
                  <a:lnTo>
                    <a:pt x="2209" y="9597"/>
                  </a:lnTo>
                  <a:lnTo>
                    <a:pt x="2490" y="9798"/>
                  </a:lnTo>
                  <a:lnTo>
                    <a:pt x="2807" y="9980"/>
                  </a:lnTo>
                  <a:lnTo>
                    <a:pt x="3155" y="10151"/>
                  </a:lnTo>
                  <a:lnTo>
                    <a:pt x="3517" y="10315"/>
                  </a:lnTo>
                  <a:lnTo>
                    <a:pt x="3917" y="10452"/>
                  </a:lnTo>
                  <a:lnTo>
                    <a:pt x="4334" y="10569"/>
                  </a:lnTo>
                  <a:lnTo>
                    <a:pt x="4788" y="10659"/>
                  </a:lnTo>
                  <a:lnTo>
                    <a:pt x="5280" y="10733"/>
                  </a:lnTo>
                  <a:lnTo>
                    <a:pt x="5797" y="10769"/>
                  </a:lnTo>
                  <a:lnTo>
                    <a:pt x="6351" y="10787"/>
                  </a:lnTo>
                  <a:lnTo>
                    <a:pt x="6935" y="10769"/>
                  </a:lnTo>
                  <a:lnTo>
                    <a:pt x="6980" y="10769"/>
                  </a:lnTo>
                  <a:lnTo>
                    <a:pt x="7106" y="10760"/>
                  </a:lnTo>
                  <a:lnTo>
                    <a:pt x="7306" y="10742"/>
                  </a:lnTo>
                  <a:lnTo>
                    <a:pt x="7569" y="10706"/>
                  </a:lnTo>
                  <a:lnTo>
                    <a:pt x="7877" y="10641"/>
                  </a:lnTo>
                  <a:lnTo>
                    <a:pt x="8231" y="10551"/>
                  </a:lnTo>
                  <a:lnTo>
                    <a:pt x="8611" y="10414"/>
                  </a:lnTo>
                  <a:lnTo>
                    <a:pt x="9020" y="10243"/>
                  </a:lnTo>
                  <a:lnTo>
                    <a:pt x="9440" y="10025"/>
                  </a:lnTo>
                  <a:lnTo>
                    <a:pt x="9847" y="9744"/>
                  </a:lnTo>
                  <a:lnTo>
                    <a:pt x="10257" y="9410"/>
                  </a:lnTo>
                  <a:lnTo>
                    <a:pt x="10637" y="9000"/>
                  </a:lnTo>
                  <a:lnTo>
                    <a:pt x="10985" y="8519"/>
                  </a:lnTo>
                  <a:lnTo>
                    <a:pt x="11293" y="7957"/>
                  </a:lnTo>
                  <a:lnTo>
                    <a:pt x="11547" y="7302"/>
                  </a:lnTo>
                  <a:lnTo>
                    <a:pt x="11738" y="6567"/>
                  </a:lnTo>
                  <a:lnTo>
                    <a:pt x="11756" y="6522"/>
                  </a:lnTo>
                  <a:lnTo>
                    <a:pt x="11801" y="6405"/>
                  </a:lnTo>
                  <a:lnTo>
                    <a:pt x="11864" y="6214"/>
                  </a:lnTo>
                  <a:lnTo>
                    <a:pt x="11927" y="5960"/>
                  </a:lnTo>
                  <a:lnTo>
                    <a:pt x="11993" y="5653"/>
                  </a:lnTo>
                  <a:lnTo>
                    <a:pt x="12038" y="5296"/>
                  </a:lnTo>
                  <a:lnTo>
                    <a:pt x="12056" y="4908"/>
                  </a:lnTo>
                  <a:lnTo>
                    <a:pt x="12038" y="4490"/>
                  </a:lnTo>
                  <a:lnTo>
                    <a:pt x="11963" y="4056"/>
                  </a:lnTo>
                  <a:lnTo>
                    <a:pt x="11828" y="3613"/>
                  </a:lnTo>
                  <a:lnTo>
                    <a:pt x="11628" y="3169"/>
                  </a:lnTo>
                  <a:lnTo>
                    <a:pt x="11338" y="2722"/>
                  </a:lnTo>
                  <a:lnTo>
                    <a:pt x="10945" y="2296"/>
                  </a:lnTo>
                  <a:lnTo>
                    <a:pt x="10466" y="1898"/>
                  </a:lnTo>
                  <a:lnTo>
                    <a:pt x="9856" y="1534"/>
                  </a:lnTo>
                  <a:lnTo>
                    <a:pt x="9119" y="1208"/>
                  </a:lnTo>
                  <a:lnTo>
                    <a:pt x="9110" y="1199"/>
                  </a:lnTo>
                  <a:lnTo>
                    <a:pt x="9083" y="1181"/>
                  </a:lnTo>
                  <a:lnTo>
                    <a:pt x="9047" y="1154"/>
                  </a:lnTo>
                  <a:lnTo>
                    <a:pt x="8984" y="1118"/>
                  </a:lnTo>
                  <a:lnTo>
                    <a:pt x="8919" y="1073"/>
                  </a:lnTo>
                  <a:lnTo>
                    <a:pt x="8829" y="1025"/>
                  </a:lnTo>
                  <a:lnTo>
                    <a:pt x="8730" y="962"/>
                  </a:lnTo>
                  <a:lnTo>
                    <a:pt x="8611" y="909"/>
                  </a:lnTo>
                  <a:lnTo>
                    <a:pt x="8485" y="846"/>
                  </a:lnTo>
                  <a:lnTo>
                    <a:pt x="8348" y="771"/>
                  </a:lnTo>
                  <a:lnTo>
                    <a:pt x="8195" y="708"/>
                  </a:lnTo>
                  <a:lnTo>
                    <a:pt x="8033" y="637"/>
                  </a:lnTo>
                  <a:lnTo>
                    <a:pt x="7850" y="574"/>
                  </a:lnTo>
                  <a:lnTo>
                    <a:pt x="7670" y="508"/>
                  </a:lnTo>
                  <a:lnTo>
                    <a:pt x="7470" y="445"/>
                  </a:lnTo>
                  <a:lnTo>
                    <a:pt x="7270" y="391"/>
                  </a:lnTo>
                  <a:lnTo>
                    <a:pt x="7052" y="346"/>
                  </a:lnTo>
                  <a:lnTo>
                    <a:pt x="6833" y="302"/>
                  </a:lnTo>
                  <a:lnTo>
                    <a:pt x="6596" y="272"/>
                  </a:lnTo>
                  <a:lnTo>
                    <a:pt x="6360" y="245"/>
                  </a:lnTo>
                  <a:lnTo>
                    <a:pt x="6115" y="227"/>
                  </a:lnTo>
                  <a:lnTo>
                    <a:pt x="5860" y="227"/>
                  </a:lnTo>
                  <a:lnTo>
                    <a:pt x="5597" y="236"/>
                  </a:lnTo>
                  <a:lnTo>
                    <a:pt x="5334" y="263"/>
                  </a:lnTo>
                  <a:lnTo>
                    <a:pt x="5071" y="311"/>
                  </a:lnTo>
                  <a:lnTo>
                    <a:pt x="4788" y="364"/>
                  </a:lnTo>
                  <a:lnTo>
                    <a:pt x="4516" y="436"/>
                  </a:lnTo>
                  <a:lnTo>
                    <a:pt x="4235" y="535"/>
                  </a:lnTo>
                  <a:lnTo>
                    <a:pt x="3944" y="645"/>
                  </a:lnTo>
                  <a:lnTo>
                    <a:pt x="3663" y="780"/>
                  </a:lnTo>
                  <a:lnTo>
                    <a:pt x="3373" y="936"/>
                  </a:lnTo>
                  <a:lnTo>
                    <a:pt x="3079" y="1118"/>
                  </a:lnTo>
                  <a:lnTo>
                    <a:pt x="3043" y="1127"/>
                  </a:lnTo>
                  <a:lnTo>
                    <a:pt x="2954" y="1154"/>
                  </a:lnTo>
                  <a:lnTo>
                    <a:pt x="2798" y="1199"/>
                  </a:lnTo>
                  <a:lnTo>
                    <a:pt x="2610" y="1279"/>
                  </a:lnTo>
                  <a:lnTo>
                    <a:pt x="2382" y="1390"/>
                  </a:lnTo>
                  <a:lnTo>
                    <a:pt x="2128" y="1525"/>
                  </a:lnTo>
                  <a:lnTo>
                    <a:pt x="1855" y="1707"/>
                  </a:lnTo>
                  <a:lnTo>
                    <a:pt x="1571" y="1925"/>
                  </a:lnTo>
                  <a:lnTo>
                    <a:pt x="1289" y="2197"/>
                  </a:lnTo>
                  <a:lnTo>
                    <a:pt x="1017" y="2513"/>
                  </a:lnTo>
                  <a:lnTo>
                    <a:pt x="763" y="2879"/>
                  </a:lnTo>
                  <a:lnTo>
                    <a:pt x="536" y="3303"/>
                  </a:lnTo>
                  <a:lnTo>
                    <a:pt x="347" y="3793"/>
                  </a:lnTo>
                  <a:lnTo>
                    <a:pt x="191" y="4346"/>
                  </a:lnTo>
                  <a:lnTo>
                    <a:pt x="101" y="4962"/>
                  </a:lnTo>
                  <a:lnTo>
                    <a:pt x="65" y="5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09200" y="7731360"/>
              <a:ext cx="107280" cy="270000"/>
            </a:xfrm>
            <a:custGeom>
              <a:avLst/>
              <a:gdLst/>
              <a:ahLst/>
              <a:rect l="l" t="t" r="r" b="b"/>
              <a:pathLst>
                <a:path w="2066" h="4280">
                  <a:moveTo>
                    <a:pt x="2066" y="0"/>
                  </a:moveTo>
                  <a:lnTo>
                    <a:pt x="2035" y="18"/>
                  </a:lnTo>
                  <a:lnTo>
                    <a:pt x="1956" y="62"/>
                  </a:lnTo>
                  <a:lnTo>
                    <a:pt x="1839" y="147"/>
                  </a:lnTo>
                  <a:lnTo>
                    <a:pt x="1682" y="253"/>
                  </a:lnTo>
                  <a:lnTo>
                    <a:pt x="1500" y="401"/>
                  </a:lnTo>
                  <a:lnTo>
                    <a:pt x="1303" y="570"/>
                  </a:lnTo>
                  <a:lnTo>
                    <a:pt x="1093" y="780"/>
                  </a:lnTo>
                  <a:lnTo>
                    <a:pt x="883" y="1025"/>
                  </a:lnTo>
                  <a:lnTo>
                    <a:pt x="674" y="1306"/>
                  </a:lnTo>
                  <a:lnTo>
                    <a:pt x="483" y="1623"/>
                  </a:lnTo>
                  <a:lnTo>
                    <a:pt x="312" y="1976"/>
                  </a:lnTo>
                  <a:lnTo>
                    <a:pt x="166" y="2356"/>
                  </a:lnTo>
                  <a:lnTo>
                    <a:pt x="67" y="2783"/>
                  </a:lnTo>
                  <a:lnTo>
                    <a:pt x="0" y="3247"/>
                  </a:lnTo>
                  <a:lnTo>
                    <a:pt x="0" y="3745"/>
                  </a:lnTo>
                  <a:lnTo>
                    <a:pt x="58" y="4280"/>
                  </a:lnTo>
                  <a:lnTo>
                    <a:pt x="58" y="4253"/>
                  </a:lnTo>
                  <a:lnTo>
                    <a:pt x="49" y="4172"/>
                  </a:lnTo>
                  <a:lnTo>
                    <a:pt x="40" y="4035"/>
                  </a:lnTo>
                  <a:lnTo>
                    <a:pt x="40" y="3853"/>
                  </a:lnTo>
                  <a:lnTo>
                    <a:pt x="49" y="3634"/>
                  </a:lnTo>
                  <a:lnTo>
                    <a:pt x="67" y="3389"/>
                  </a:lnTo>
                  <a:lnTo>
                    <a:pt x="112" y="3099"/>
                  </a:lnTo>
                  <a:lnTo>
                    <a:pt x="175" y="2792"/>
                  </a:lnTo>
                  <a:lnTo>
                    <a:pt x="264" y="2466"/>
                  </a:lnTo>
                  <a:lnTo>
                    <a:pt x="393" y="2120"/>
                  </a:lnTo>
                  <a:lnTo>
                    <a:pt x="557" y="1767"/>
                  </a:lnTo>
                  <a:lnTo>
                    <a:pt x="755" y="1407"/>
                  </a:lnTo>
                  <a:lnTo>
                    <a:pt x="1000" y="1043"/>
                  </a:lnTo>
                  <a:lnTo>
                    <a:pt x="1303" y="691"/>
                  </a:lnTo>
                  <a:lnTo>
                    <a:pt x="1656" y="334"/>
                  </a:lnTo>
                  <a:lnTo>
                    <a:pt x="20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90640" y="7723800"/>
              <a:ext cx="252720" cy="255960"/>
            </a:xfrm>
            <a:custGeom>
              <a:avLst/>
              <a:gdLst/>
              <a:ahLst/>
              <a:rect l="l" t="t" r="r" b="b"/>
              <a:pathLst>
                <a:path w="4867" h="4052">
                  <a:moveTo>
                    <a:pt x="0" y="0"/>
                  </a:moveTo>
                  <a:lnTo>
                    <a:pt x="45" y="0"/>
                  </a:lnTo>
                  <a:lnTo>
                    <a:pt x="165" y="0"/>
                  </a:lnTo>
                  <a:lnTo>
                    <a:pt x="357" y="9"/>
                  </a:lnTo>
                  <a:lnTo>
                    <a:pt x="602" y="36"/>
                  </a:lnTo>
                  <a:lnTo>
                    <a:pt x="901" y="89"/>
                  </a:lnTo>
                  <a:lnTo>
                    <a:pt x="1245" y="169"/>
                  </a:lnTo>
                  <a:lnTo>
                    <a:pt x="1617" y="281"/>
                  </a:lnTo>
                  <a:lnTo>
                    <a:pt x="2006" y="441"/>
                  </a:lnTo>
                  <a:lnTo>
                    <a:pt x="2415" y="651"/>
                  </a:lnTo>
                  <a:lnTo>
                    <a:pt x="2823" y="914"/>
                  </a:lnTo>
                  <a:lnTo>
                    <a:pt x="3233" y="1242"/>
                  </a:lnTo>
                  <a:lnTo>
                    <a:pt x="3632" y="1640"/>
                  </a:lnTo>
                  <a:lnTo>
                    <a:pt x="3996" y="2110"/>
                  </a:lnTo>
                  <a:lnTo>
                    <a:pt x="4331" y="2663"/>
                  </a:lnTo>
                  <a:lnTo>
                    <a:pt x="4622" y="3309"/>
                  </a:lnTo>
                  <a:lnTo>
                    <a:pt x="4867" y="4052"/>
                  </a:lnTo>
                  <a:lnTo>
                    <a:pt x="4858" y="4014"/>
                  </a:lnTo>
                  <a:lnTo>
                    <a:pt x="4831" y="3897"/>
                  </a:lnTo>
                  <a:lnTo>
                    <a:pt x="4778" y="3723"/>
                  </a:lnTo>
                  <a:lnTo>
                    <a:pt x="4706" y="3487"/>
                  </a:lnTo>
                  <a:lnTo>
                    <a:pt x="4595" y="3215"/>
                  </a:lnTo>
                  <a:lnTo>
                    <a:pt x="4443" y="2908"/>
                  </a:lnTo>
                  <a:lnTo>
                    <a:pt x="4259" y="2573"/>
                  </a:lnTo>
                  <a:lnTo>
                    <a:pt x="4023" y="2218"/>
                  </a:lnTo>
                  <a:lnTo>
                    <a:pt x="3742" y="1867"/>
                  </a:lnTo>
                  <a:lnTo>
                    <a:pt x="3398" y="1514"/>
                  </a:lnTo>
                  <a:lnTo>
                    <a:pt x="3006" y="1168"/>
                  </a:lnTo>
                  <a:lnTo>
                    <a:pt x="2541" y="851"/>
                  </a:lnTo>
                  <a:lnTo>
                    <a:pt x="2024" y="571"/>
                  </a:lnTo>
                  <a:lnTo>
                    <a:pt x="1428" y="326"/>
                  </a:lnTo>
                  <a:lnTo>
                    <a:pt x="755" y="1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67240" y="7642800"/>
              <a:ext cx="145440" cy="36360"/>
            </a:xfrm>
            <a:custGeom>
              <a:avLst/>
              <a:gdLst/>
              <a:ahLst/>
              <a:rect l="l" t="t" r="r" b="b"/>
              <a:pathLst>
                <a:path w="2804" h="580">
                  <a:moveTo>
                    <a:pt x="0" y="580"/>
                  </a:moveTo>
                  <a:lnTo>
                    <a:pt x="18" y="571"/>
                  </a:lnTo>
                  <a:lnTo>
                    <a:pt x="66" y="553"/>
                  </a:lnTo>
                  <a:lnTo>
                    <a:pt x="146" y="517"/>
                  </a:lnTo>
                  <a:lnTo>
                    <a:pt x="254" y="470"/>
                  </a:lnTo>
                  <a:lnTo>
                    <a:pt x="383" y="425"/>
                  </a:lnTo>
                  <a:lnTo>
                    <a:pt x="547" y="362"/>
                  </a:lnTo>
                  <a:lnTo>
                    <a:pt x="718" y="308"/>
                  </a:lnTo>
                  <a:lnTo>
                    <a:pt x="910" y="242"/>
                  </a:lnTo>
                  <a:lnTo>
                    <a:pt x="1119" y="189"/>
                  </a:lnTo>
                  <a:lnTo>
                    <a:pt x="1346" y="135"/>
                  </a:lnTo>
                  <a:lnTo>
                    <a:pt x="1573" y="90"/>
                  </a:lnTo>
                  <a:lnTo>
                    <a:pt x="1820" y="45"/>
                  </a:lnTo>
                  <a:lnTo>
                    <a:pt x="2062" y="18"/>
                  </a:lnTo>
                  <a:lnTo>
                    <a:pt x="2305" y="0"/>
                  </a:lnTo>
                  <a:lnTo>
                    <a:pt x="2559" y="0"/>
                  </a:lnTo>
                  <a:lnTo>
                    <a:pt x="2804" y="18"/>
                  </a:lnTo>
                  <a:lnTo>
                    <a:pt x="2777" y="18"/>
                  </a:lnTo>
                  <a:lnTo>
                    <a:pt x="2705" y="36"/>
                  </a:lnTo>
                  <a:lnTo>
                    <a:pt x="2597" y="45"/>
                  </a:lnTo>
                  <a:lnTo>
                    <a:pt x="2442" y="72"/>
                  </a:lnTo>
                  <a:lnTo>
                    <a:pt x="2269" y="99"/>
                  </a:lnTo>
                  <a:lnTo>
                    <a:pt x="2062" y="126"/>
                  </a:lnTo>
                  <a:lnTo>
                    <a:pt x="1847" y="162"/>
                  </a:lnTo>
                  <a:lnTo>
                    <a:pt x="1609" y="207"/>
                  </a:lnTo>
                  <a:lnTo>
                    <a:pt x="1373" y="254"/>
                  </a:lnTo>
                  <a:lnTo>
                    <a:pt x="1137" y="299"/>
                  </a:lnTo>
                  <a:lnTo>
                    <a:pt x="901" y="344"/>
                  </a:lnTo>
                  <a:lnTo>
                    <a:pt x="673" y="389"/>
                  </a:lnTo>
                  <a:lnTo>
                    <a:pt x="463" y="434"/>
                  </a:lnTo>
                  <a:lnTo>
                    <a:pt x="281" y="488"/>
                  </a:lnTo>
                  <a:lnTo>
                    <a:pt x="128" y="535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18920" y="7635960"/>
              <a:ext cx="95400" cy="51480"/>
            </a:xfrm>
            <a:custGeom>
              <a:avLst/>
              <a:gdLst/>
              <a:ahLst/>
              <a:rect l="l" t="t" r="r" b="b"/>
              <a:pathLst>
                <a:path w="1842" h="816">
                  <a:moveTo>
                    <a:pt x="1842" y="816"/>
                  </a:moveTo>
                  <a:lnTo>
                    <a:pt x="1833" y="807"/>
                  </a:lnTo>
                  <a:lnTo>
                    <a:pt x="1808" y="789"/>
                  </a:lnTo>
                  <a:lnTo>
                    <a:pt x="1763" y="762"/>
                  </a:lnTo>
                  <a:lnTo>
                    <a:pt x="1700" y="717"/>
                  </a:lnTo>
                  <a:lnTo>
                    <a:pt x="1615" y="672"/>
                  </a:lnTo>
                  <a:lnTo>
                    <a:pt x="1525" y="618"/>
                  </a:lnTo>
                  <a:lnTo>
                    <a:pt x="1418" y="553"/>
                  </a:lnTo>
                  <a:lnTo>
                    <a:pt x="1298" y="490"/>
                  </a:lnTo>
                  <a:lnTo>
                    <a:pt x="1173" y="427"/>
                  </a:lnTo>
                  <a:lnTo>
                    <a:pt x="1026" y="352"/>
                  </a:lnTo>
                  <a:lnTo>
                    <a:pt x="873" y="290"/>
                  </a:lnTo>
                  <a:lnTo>
                    <a:pt x="717" y="218"/>
                  </a:lnTo>
                  <a:lnTo>
                    <a:pt x="544" y="155"/>
                  </a:lnTo>
                  <a:lnTo>
                    <a:pt x="373" y="98"/>
                  </a:lnTo>
                  <a:lnTo>
                    <a:pt x="191" y="44"/>
                  </a:lnTo>
                  <a:lnTo>
                    <a:pt x="0" y="0"/>
                  </a:lnTo>
                  <a:lnTo>
                    <a:pt x="1842" y="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59880" y="7461720"/>
              <a:ext cx="456120" cy="387720"/>
            </a:xfrm>
            <a:custGeom>
              <a:avLst/>
              <a:gdLst/>
              <a:ahLst/>
              <a:rect l="l" t="t" r="r" b="b"/>
              <a:pathLst>
                <a:path w="8781" h="6148">
                  <a:moveTo>
                    <a:pt x="3807" y="3539"/>
                  </a:moveTo>
                  <a:lnTo>
                    <a:pt x="3834" y="3512"/>
                  </a:lnTo>
                  <a:lnTo>
                    <a:pt x="3897" y="3413"/>
                  </a:lnTo>
                  <a:lnTo>
                    <a:pt x="3987" y="3240"/>
                  </a:lnTo>
                  <a:lnTo>
                    <a:pt x="4088" y="2977"/>
                  </a:lnTo>
                  <a:lnTo>
                    <a:pt x="4187" y="2594"/>
                  </a:lnTo>
                  <a:lnTo>
                    <a:pt x="4268" y="2107"/>
                  </a:lnTo>
                  <a:lnTo>
                    <a:pt x="4325" y="1479"/>
                  </a:lnTo>
                  <a:lnTo>
                    <a:pt x="4334" y="700"/>
                  </a:lnTo>
                  <a:lnTo>
                    <a:pt x="4361" y="691"/>
                  </a:lnTo>
                  <a:lnTo>
                    <a:pt x="4441" y="664"/>
                  </a:lnTo>
                  <a:lnTo>
                    <a:pt x="4561" y="619"/>
                  </a:lnTo>
                  <a:lnTo>
                    <a:pt x="4696" y="543"/>
                  </a:lnTo>
                  <a:lnTo>
                    <a:pt x="4834" y="454"/>
                  </a:lnTo>
                  <a:lnTo>
                    <a:pt x="4960" y="326"/>
                  </a:lnTo>
                  <a:lnTo>
                    <a:pt x="5061" y="182"/>
                  </a:lnTo>
                  <a:lnTo>
                    <a:pt x="5124" y="0"/>
                  </a:lnTo>
                  <a:lnTo>
                    <a:pt x="5088" y="27"/>
                  </a:lnTo>
                  <a:lnTo>
                    <a:pt x="4996" y="101"/>
                  </a:lnTo>
                  <a:lnTo>
                    <a:pt x="4843" y="209"/>
                  </a:lnTo>
                  <a:lnTo>
                    <a:pt x="4660" y="326"/>
                  </a:lnTo>
                  <a:lnTo>
                    <a:pt x="4450" y="445"/>
                  </a:lnTo>
                  <a:lnTo>
                    <a:pt x="4232" y="552"/>
                  </a:lnTo>
                  <a:lnTo>
                    <a:pt x="4014" y="628"/>
                  </a:lnTo>
                  <a:lnTo>
                    <a:pt x="3807" y="655"/>
                  </a:lnTo>
                  <a:lnTo>
                    <a:pt x="3816" y="752"/>
                  </a:lnTo>
                  <a:lnTo>
                    <a:pt x="3834" y="1033"/>
                  </a:lnTo>
                  <a:lnTo>
                    <a:pt x="3843" y="1434"/>
                  </a:lnTo>
                  <a:lnTo>
                    <a:pt x="3843" y="1906"/>
                  </a:lnTo>
                  <a:lnTo>
                    <a:pt x="3807" y="2397"/>
                  </a:lnTo>
                  <a:lnTo>
                    <a:pt x="3732" y="2869"/>
                  </a:lnTo>
                  <a:lnTo>
                    <a:pt x="3606" y="3267"/>
                  </a:lnTo>
                  <a:lnTo>
                    <a:pt x="3415" y="3539"/>
                  </a:lnTo>
                  <a:lnTo>
                    <a:pt x="3397" y="3548"/>
                  </a:lnTo>
                  <a:lnTo>
                    <a:pt x="3361" y="3557"/>
                  </a:lnTo>
                  <a:lnTo>
                    <a:pt x="3298" y="3566"/>
                  </a:lnTo>
                  <a:lnTo>
                    <a:pt x="3206" y="3584"/>
                  </a:lnTo>
                  <a:lnTo>
                    <a:pt x="3098" y="3593"/>
                  </a:lnTo>
                  <a:lnTo>
                    <a:pt x="2959" y="3602"/>
                  </a:lnTo>
                  <a:lnTo>
                    <a:pt x="2808" y="3593"/>
                  </a:lnTo>
                  <a:lnTo>
                    <a:pt x="2633" y="3575"/>
                  </a:lnTo>
                  <a:lnTo>
                    <a:pt x="2442" y="3539"/>
                  </a:lnTo>
                  <a:lnTo>
                    <a:pt x="2233" y="3476"/>
                  </a:lnTo>
                  <a:lnTo>
                    <a:pt x="2008" y="3395"/>
                  </a:lnTo>
                  <a:lnTo>
                    <a:pt x="1771" y="3285"/>
                  </a:lnTo>
                  <a:lnTo>
                    <a:pt x="1517" y="3150"/>
                  </a:lnTo>
                  <a:lnTo>
                    <a:pt x="1254" y="2968"/>
                  </a:lnTo>
                  <a:lnTo>
                    <a:pt x="978" y="2750"/>
                  </a:lnTo>
                  <a:lnTo>
                    <a:pt x="697" y="2495"/>
                  </a:lnTo>
                  <a:lnTo>
                    <a:pt x="715" y="2513"/>
                  </a:lnTo>
                  <a:lnTo>
                    <a:pt x="763" y="2558"/>
                  </a:lnTo>
                  <a:lnTo>
                    <a:pt x="826" y="2633"/>
                  </a:lnTo>
                  <a:lnTo>
                    <a:pt x="924" y="2723"/>
                  </a:lnTo>
                  <a:lnTo>
                    <a:pt x="1045" y="2821"/>
                  </a:lnTo>
                  <a:lnTo>
                    <a:pt x="1180" y="2950"/>
                  </a:lnTo>
                  <a:lnTo>
                    <a:pt x="1344" y="3067"/>
                  </a:lnTo>
                  <a:lnTo>
                    <a:pt x="1517" y="3204"/>
                  </a:lnTo>
                  <a:lnTo>
                    <a:pt x="1706" y="3330"/>
                  </a:lnTo>
                  <a:lnTo>
                    <a:pt x="1906" y="3449"/>
                  </a:lnTo>
                  <a:lnTo>
                    <a:pt x="2125" y="3557"/>
                  </a:lnTo>
                  <a:lnTo>
                    <a:pt x="2343" y="3658"/>
                  </a:lnTo>
                  <a:lnTo>
                    <a:pt x="2571" y="3730"/>
                  </a:lnTo>
                  <a:lnTo>
                    <a:pt x="2808" y="3784"/>
                  </a:lnTo>
                  <a:lnTo>
                    <a:pt x="3044" y="3811"/>
                  </a:lnTo>
                  <a:lnTo>
                    <a:pt x="3280" y="3802"/>
                  </a:lnTo>
                  <a:lnTo>
                    <a:pt x="3260" y="3820"/>
                  </a:lnTo>
                  <a:lnTo>
                    <a:pt x="3215" y="3856"/>
                  </a:lnTo>
                  <a:lnTo>
                    <a:pt x="3134" y="3921"/>
                  </a:lnTo>
                  <a:lnTo>
                    <a:pt x="3026" y="4011"/>
                  </a:lnTo>
                  <a:lnTo>
                    <a:pt x="2889" y="4110"/>
                  </a:lnTo>
                  <a:lnTo>
                    <a:pt x="2732" y="4220"/>
                  </a:lnTo>
                  <a:lnTo>
                    <a:pt x="2553" y="4336"/>
                  </a:lnTo>
                  <a:lnTo>
                    <a:pt x="2352" y="4466"/>
                  </a:lnTo>
                  <a:lnTo>
                    <a:pt x="2134" y="4581"/>
                  </a:lnTo>
                  <a:lnTo>
                    <a:pt x="1906" y="4711"/>
                  </a:lnTo>
                  <a:lnTo>
                    <a:pt x="1661" y="4818"/>
                  </a:lnTo>
                  <a:lnTo>
                    <a:pt x="1398" y="4929"/>
                  </a:lnTo>
                  <a:lnTo>
                    <a:pt x="1135" y="5009"/>
                  </a:lnTo>
                  <a:lnTo>
                    <a:pt x="862" y="5081"/>
                  </a:lnTo>
                  <a:lnTo>
                    <a:pt x="589" y="5135"/>
                  </a:lnTo>
                  <a:lnTo>
                    <a:pt x="308" y="5156"/>
                  </a:lnTo>
                  <a:lnTo>
                    <a:pt x="299" y="5182"/>
                  </a:lnTo>
                  <a:lnTo>
                    <a:pt x="263" y="5245"/>
                  </a:lnTo>
                  <a:lnTo>
                    <a:pt x="207" y="5353"/>
                  </a:lnTo>
                  <a:lnTo>
                    <a:pt x="153" y="5490"/>
                  </a:lnTo>
                  <a:lnTo>
                    <a:pt x="99" y="5643"/>
                  </a:lnTo>
                  <a:lnTo>
                    <a:pt x="45" y="5816"/>
                  </a:lnTo>
                  <a:lnTo>
                    <a:pt x="9" y="5980"/>
                  </a:lnTo>
                  <a:lnTo>
                    <a:pt x="0" y="6148"/>
                  </a:lnTo>
                  <a:lnTo>
                    <a:pt x="0" y="6121"/>
                  </a:lnTo>
                  <a:lnTo>
                    <a:pt x="18" y="6050"/>
                  </a:lnTo>
                  <a:lnTo>
                    <a:pt x="54" y="5953"/>
                  </a:lnTo>
                  <a:lnTo>
                    <a:pt x="117" y="5816"/>
                  </a:lnTo>
                  <a:lnTo>
                    <a:pt x="207" y="5681"/>
                  </a:lnTo>
                  <a:lnTo>
                    <a:pt x="353" y="5544"/>
                  </a:lnTo>
                  <a:lnTo>
                    <a:pt x="544" y="5427"/>
                  </a:lnTo>
                  <a:lnTo>
                    <a:pt x="790" y="5326"/>
                  </a:lnTo>
                  <a:lnTo>
                    <a:pt x="817" y="5317"/>
                  </a:lnTo>
                  <a:lnTo>
                    <a:pt x="888" y="5281"/>
                  </a:lnTo>
                  <a:lnTo>
                    <a:pt x="1009" y="5227"/>
                  </a:lnTo>
                  <a:lnTo>
                    <a:pt x="1153" y="5165"/>
                  </a:lnTo>
                  <a:lnTo>
                    <a:pt x="1335" y="5081"/>
                  </a:lnTo>
                  <a:lnTo>
                    <a:pt x="1544" y="4991"/>
                  </a:lnTo>
                  <a:lnTo>
                    <a:pt x="1762" y="4880"/>
                  </a:lnTo>
                  <a:lnTo>
                    <a:pt x="1987" y="4774"/>
                  </a:lnTo>
                  <a:lnTo>
                    <a:pt x="2224" y="4666"/>
                  </a:lnTo>
                  <a:lnTo>
                    <a:pt x="2460" y="4545"/>
                  </a:lnTo>
                  <a:lnTo>
                    <a:pt x="2687" y="4430"/>
                  </a:lnTo>
                  <a:lnTo>
                    <a:pt x="2898" y="4319"/>
                  </a:lnTo>
                  <a:lnTo>
                    <a:pt x="3080" y="4211"/>
                  </a:lnTo>
                  <a:lnTo>
                    <a:pt x="3242" y="4110"/>
                  </a:lnTo>
                  <a:lnTo>
                    <a:pt x="3370" y="4020"/>
                  </a:lnTo>
                  <a:lnTo>
                    <a:pt x="3460" y="3939"/>
                  </a:lnTo>
                  <a:lnTo>
                    <a:pt x="3478" y="3939"/>
                  </a:lnTo>
                  <a:lnTo>
                    <a:pt x="3514" y="3957"/>
                  </a:lnTo>
                  <a:lnTo>
                    <a:pt x="3588" y="3975"/>
                  </a:lnTo>
                  <a:lnTo>
                    <a:pt x="3669" y="4002"/>
                  </a:lnTo>
                  <a:lnTo>
                    <a:pt x="3780" y="4047"/>
                  </a:lnTo>
                  <a:lnTo>
                    <a:pt x="3897" y="4092"/>
                  </a:lnTo>
                  <a:lnTo>
                    <a:pt x="4023" y="4158"/>
                  </a:lnTo>
                  <a:lnTo>
                    <a:pt x="4160" y="4238"/>
                  </a:lnTo>
                  <a:lnTo>
                    <a:pt x="4298" y="4327"/>
                  </a:lnTo>
                  <a:lnTo>
                    <a:pt x="4441" y="4439"/>
                  </a:lnTo>
                  <a:lnTo>
                    <a:pt x="4579" y="4554"/>
                  </a:lnTo>
                  <a:lnTo>
                    <a:pt x="4714" y="4702"/>
                  </a:lnTo>
                  <a:lnTo>
                    <a:pt x="4843" y="4853"/>
                  </a:lnTo>
                  <a:lnTo>
                    <a:pt x="4951" y="5036"/>
                  </a:lnTo>
                  <a:lnTo>
                    <a:pt x="5052" y="5236"/>
                  </a:lnTo>
                  <a:lnTo>
                    <a:pt x="5124" y="5454"/>
                  </a:lnTo>
                  <a:lnTo>
                    <a:pt x="5133" y="5472"/>
                  </a:lnTo>
                  <a:lnTo>
                    <a:pt x="5151" y="5508"/>
                  </a:lnTo>
                  <a:lnTo>
                    <a:pt x="5205" y="5562"/>
                  </a:lnTo>
                  <a:lnTo>
                    <a:pt x="5297" y="5616"/>
                  </a:lnTo>
                  <a:lnTo>
                    <a:pt x="5432" y="5663"/>
                  </a:lnTo>
                  <a:lnTo>
                    <a:pt x="5641" y="5699"/>
                  </a:lnTo>
                  <a:lnTo>
                    <a:pt x="5905" y="5699"/>
                  </a:lnTo>
                  <a:lnTo>
                    <a:pt x="6256" y="5672"/>
                  </a:lnTo>
                  <a:lnTo>
                    <a:pt x="6220" y="5672"/>
                  </a:lnTo>
                  <a:lnTo>
                    <a:pt x="6139" y="5672"/>
                  </a:lnTo>
                  <a:lnTo>
                    <a:pt x="6001" y="5654"/>
                  </a:lnTo>
                  <a:lnTo>
                    <a:pt x="5851" y="5625"/>
                  </a:lnTo>
                  <a:lnTo>
                    <a:pt x="5677" y="5562"/>
                  </a:lnTo>
                  <a:lnTo>
                    <a:pt x="5495" y="5472"/>
                  </a:lnTo>
                  <a:lnTo>
                    <a:pt x="5342" y="5335"/>
                  </a:lnTo>
                  <a:lnTo>
                    <a:pt x="5205" y="5156"/>
                  </a:lnTo>
                  <a:lnTo>
                    <a:pt x="5205" y="5147"/>
                  </a:lnTo>
                  <a:lnTo>
                    <a:pt x="5214" y="5117"/>
                  </a:lnTo>
                  <a:lnTo>
                    <a:pt x="5223" y="5072"/>
                  </a:lnTo>
                  <a:lnTo>
                    <a:pt x="5232" y="5018"/>
                  </a:lnTo>
                  <a:lnTo>
                    <a:pt x="5232" y="4956"/>
                  </a:lnTo>
                  <a:lnTo>
                    <a:pt x="5223" y="4871"/>
                  </a:lnTo>
                  <a:lnTo>
                    <a:pt x="5214" y="4783"/>
                  </a:lnTo>
                  <a:lnTo>
                    <a:pt x="5178" y="4684"/>
                  </a:lnTo>
                  <a:lnTo>
                    <a:pt x="5133" y="4581"/>
                  </a:lnTo>
                  <a:lnTo>
                    <a:pt x="5061" y="4475"/>
                  </a:lnTo>
                  <a:lnTo>
                    <a:pt x="4969" y="4363"/>
                  </a:lnTo>
                  <a:lnTo>
                    <a:pt x="4843" y="4256"/>
                  </a:lnTo>
                  <a:lnTo>
                    <a:pt x="4696" y="4149"/>
                  </a:lnTo>
                  <a:lnTo>
                    <a:pt x="4513" y="4038"/>
                  </a:lnTo>
                  <a:lnTo>
                    <a:pt x="4289" y="3939"/>
                  </a:lnTo>
                  <a:lnTo>
                    <a:pt x="4035" y="3838"/>
                  </a:lnTo>
                  <a:lnTo>
                    <a:pt x="4062" y="3847"/>
                  </a:lnTo>
                  <a:lnTo>
                    <a:pt x="4133" y="3856"/>
                  </a:lnTo>
                  <a:lnTo>
                    <a:pt x="4259" y="3885"/>
                  </a:lnTo>
                  <a:lnTo>
                    <a:pt x="4414" y="3912"/>
                  </a:lnTo>
                  <a:lnTo>
                    <a:pt x="4615" y="3939"/>
                  </a:lnTo>
                  <a:lnTo>
                    <a:pt x="4843" y="3957"/>
                  </a:lnTo>
                  <a:lnTo>
                    <a:pt x="5088" y="3975"/>
                  </a:lnTo>
                  <a:lnTo>
                    <a:pt x="5351" y="3984"/>
                  </a:lnTo>
                  <a:lnTo>
                    <a:pt x="5632" y="3975"/>
                  </a:lnTo>
                  <a:lnTo>
                    <a:pt x="5923" y="3957"/>
                  </a:lnTo>
                  <a:lnTo>
                    <a:pt x="6211" y="3912"/>
                  </a:lnTo>
                  <a:lnTo>
                    <a:pt x="6501" y="3838"/>
                  </a:lnTo>
                  <a:lnTo>
                    <a:pt x="6782" y="3748"/>
                  </a:lnTo>
                  <a:lnTo>
                    <a:pt x="7045" y="3631"/>
                  </a:lnTo>
                  <a:lnTo>
                    <a:pt x="7300" y="3467"/>
                  </a:lnTo>
                  <a:lnTo>
                    <a:pt x="7527" y="3276"/>
                  </a:lnTo>
                  <a:lnTo>
                    <a:pt x="7554" y="3240"/>
                  </a:lnTo>
                  <a:lnTo>
                    <a:pt x="7647" y="3150"/>
                  </a:lnTo>
                  <a:lnTo>
                    <a:pt x="7773" y="3022"/>
                  </a:lnTo>
                  <a:lnTo>
                    <a:pt x="7947" y="2887"/>
                  </a:lnTo>
                  <a:lnTo>
                    <a:pt x="8138" y="2768"/>
                  </a:lnTo>
                  <a:lnTo>
                    <a:pt x="8347" y="2669"/>
                  </a:lnTo>
                  <a:lnTo>
                    <a:pt x="8563" y="2633"/>
                  </a:lnTo>
                  <a:lnTo>
                    <a:pt x="8781" y="2669"/>
                  </a:lnTo>
                  <a:lnTo>
                    <a:pt x="8772" y="2660"/>
                  </a:lnTo>
                  <a:lnTo>
                    <a:pt x="8754" y="2651"/>
                  </a:lnTo>
                  <a:lnTo>
                    <a:pt x="8727" y="2624"/>
                  </a:lnTo>
                  <a:lnTo>
                    <a:pt x="8691" y="2603"/>
                  </a:lnTo>
                  <a:lnTo>
                    <a:pt x="8637" y="2576"/>
                  </a:lnTo>
                  <a:lnTo>
                    <a:pt x="8563" y="2558"/>
                  </a:lnTo>
                  <a:lnTo>
                    <a:pt x="8482" y="2549"/>
                  </a:lnTo>
                  <a:lnTo>
                    <a:pt x="8392" y="2549"/>
                  </a:lnTo>
                  <a:lnTo>
                    <a:pt x="8282" y="2558"/>
                  </a:lnTo>
                  <a:lnTo>
                    <a:pt x="8156" y="2585"/>
                  </a:lnTo>
                  <a:lnTo>
                    <a:pt x="8019" y="2633"/>
                  </a:lnTo>
                  <a:lnTo>
                    <a:pt x="7866" y="2705"/>
                  </a:lnTo>
                  <a:lnTo>
                    <a:pt x="7692" y="2794"/>
                  </a:lnTo>
                  <a:lnTo>
                    <a:pt x="7509" y="2923"/>
                  </a:lnTo>
                  <a:lnTo>
                    <a:pt x="7300" y="3085"/>
                  </a:lnTo>
                  <a:lnTo>
                    <a:pt x="7085" y="3276"/>
                  </a:lnTo>
                  <a:lnTo>
                    <a:pt x="7063" y="3285"/>
                  </a:lnTo>
                  <a:lnTo>
                    <a:pt x="7018" y="3312"/>
                  </a:lnTo>
                  <a:lnTo>
                    <a:pt x="6937" y="3357"/>
                  </a:lnTo>
                  <a:lnTo>
                    <a:pt x="6838" y="3413"/>
                  </a:lnTo>
                  <a:lnTo>
                    <a:pt x="6701" y="3476"/>
                  </a:lnTo>
                  <a:lnTo>
                    <a:pt x="6537" y="3539"/>
                  </a:lnTo>
                  <a:lnTo>
                    <a:pt x="6357" y="3602"/>
                  </a:lnTo>
                  <a:lnTo>
                    <a:pt x="6148" y="3667"/>
                  </a:lnTo>
                  <a:lnTo>
                    <a:pt x="5923" y="3721"/>
                  </a:lnTo>
                  <a:lnTo>
                    <a:pt x="5668" y="3757"/>
                  </a:lnTo>
                  <a:lnTo>
                    <a:pt x="5396" y="3784"/>
                  </a:lnTo>
                  <a:lnTo>
                    <a:pt x="5115" y="3793"/>
                  </a:lnTo>
                  <a:lnTo>
                    <a:pt x="4807" y="3775"/>
                  </a:lnTo>
                  <a:lnTo>
                    <a:pt x="4486" y="3730"/>
                  </a:lnTo>
                  <a:lnTo>
                    <a:pt x="4151" y="3649"/>
                  </a:lnTo>
                  <a:lnTo>
                    <a:pt x="3807" y="35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98680" y="7717680"/>
              <a:ext cx="65520" cy="328320"/>
            </a:xfrm>
            <a:custGeom>
              <a:avLst/>
              <a:gdLst/>
              <a:ahLst/>
              <a:rect l="l" t="t" r="r" b="b"/>
              <a:pathLst>
                <a:path w="1264" h="5198">
                  <a:moveTo>
                    <a:pt x="1264" y="0"/>
                  </a:moveTo>
                  <a:lnTo>
                    <a:pt x="1210" y="45"/>
                  </a:lnTo>
                  <a:lnTo>
                    <a:pt x="1063" y="182"/>
                  </a:lnTo>
                  <a:lnTo>
                    <a:pt x="863" y="401"/>
                  </a:lnTo>
                  <a:lnTo>
                    <a:pt x="626" y="718"/>
                  </a:lnTo>
                  <a:lnTo>
                    <a:pt x="402" y="1118"/>
                  </a:lnTo>
                  <a:lnTo>
                    <a:pt x="193" y="1607"/>
                  </a:lnTo>
                  <a:lnTo>
                    <a:pt x="54" y="2185"/>
                  </a:lnTo>
                  <a:lnTo>
                    <a:pt x="0" y="2845"/>
                  </a:lnTo>
                  <a:lnTo>
                    <a:pt x="9" y="3099"/>
                  </a:lnTo>
                  <a:lnTo>
                    <a:pt x="36" y="3375"/>
                  </a:lnTo>
                  <a:lnTo>
                    <a:pt x="81" y="3647"/>
                  </a:lnTo>
                  <a:lnTo>
                    <a:pt x="148" y="3936"/>
                  </a:lnTo>
                  <a:lnTo>
                    <a:pt x="229" y="4235"/>
                  </a:lnTo>
                  <a:lnTo>
                    <a:pt x="326" y="4543"/>
                  </a:lnTo>
                  <a:lnTo>
                    <a:pt x="456" y="4860"/>
                  </a:lnTo>
                  <a:lnTo>
                    <a:pt x="599" y="5198"/>
                  </a:lnTo>
                  <a:lnTo>
                    <a:pt x="1000" y="5198"/>
                  </a:lnTo>
                  <a:lnTo>
                    <a:pt x="991" y="5180"/>
                  </a:lnTo>
                  <a:lnTo>
                    <a:pt x="955" y="5105"/>
                  </a:lnTo>
                  <a:lnTo>
                    <a:pt x="901" y="4997"/>
                  </a:lnTo>
                  <a:lnTo>
                    <a:pt x="827" y="4842"/>
                  </a:lnTo>
                  <a:lnTo>
                    <a:pt x="764" y="4653"/>
                  </a:lnTo>
                  <a:lnTo>
                    <a:pt x="692" y="4417"/>
                  </a:lnTo>
                  <a:lnTo>
                    <a:pt x="626" y="4145"/>
                  </a:lnTo>
                  <a:lnTo>
                    <a:pt x="573" y="3825"/>
                  </a:lnTo>
                  <a:lnTo>
                    <a:pt x="537" y="3474"/>
                  </a:lnTo>
                  <a:lnTo>
                    <a:pt x="528" y="3081"/>
                  </a:lnTo>
                  <a:lnTo>
                    <a:pt x="546" y="2657"/>
                  </a:lnTo>
                  <a:lnTo>
                    <a:pt x="591" y="2194"/>
                  </a:lnTo>
                  <a:lnTo>
                    <a:pt x="683" y="1697"/>
                  </a:lnTo>
                  <a:lnTo>
                    <a:pt x="827" y="1171"/>
                  </a:lnTo>
                  <a:lnTo>
                    <a:pt x="1018" y="601"/>
                  </a:lnTo>
                  <a:lnTo>
                    <a:pt x="1264" y="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61840" y="7461720"/>
              <a:ext cx="64080" cy="221400"/>
            </a:xfrm>
            <a:custGeom>
              <a:avLst/>
              <a:gdLst/>
              <a:ahLst/>
              <a:rect l="l" t="t" r="r" b="b"/>
              <a:pathLst>
                <a:path w="1236" h="3512">
                  <a:moveTo>
                    <a:pt x="0" y="3512"/>
                  </a:moveTo>
                  <a:lnTo>
                    <a:pt x="27" y="3449"/>
                  </a:lnTo>
                  <a:lnTo>
                    <a:pt x="90" y="3285"/>
                  </a:lnTo>
                  <a:lnTo>
                    <a:pt x="183" y="3013"/>
                  </a:lnTo>
                  <a:lnTo>
                    <a:pt x="281" y="2660"/>
                  </a:lnTo>
                  <a:lnTo>
                    <a:pt x="371" y="2241"/>
                  </a:lnTo>
                  <a:lnTo>
                    <a:pt x="446" y="1769"/>
                  </a:lnTo>
                  <a:lnTo>
                    <a:pt x="473" y="1243"/>
                  </a:lnTo>
                  <a:lnTo>
                    <a:pt x="446" y="700"/>
                  </a:lnTo>
                  <a:lnTo>
                    <a:pt x="473" y="691"/>
                  </a:lnTo>
                  <a:lnTo>
                    <a:pt x="553" y="673"/>
                  </a:lnTo>
                  <a:lnTo>
                    <a:pt x="664" y="628"/>
                  </a:lnTo>
                  <a:lnTo>
                    <a:pt x="799" y="561"/>
                  </a:lnTo>
                  <a:lnTo>
                    <a:pt x="937" y="472"/>
                  </a:lnTo>
                  <a:lnTo>
                    <a:pt x="1063" y="356"/>
                  </a:lnTo>
                  <a:lnTo>
                    <a:pt x="1173" y="191"/>
                  </a:lnTo>
                  <a:lnTo>
                    <a:pt x="1236" y="0"/>
                  </a:lnTo>
                  <a:lnTo>
                    <a:pt x="1236" y="27"/>
                  </a:lnTo>
                  <a:lnTo>
                    <a:pt x="1236" y="101"/>
                  </a:lnTo>
                  <a:lnTo>
                    <a:pt x="1227" y="200"/>
                  </a:lnTo>
                  <a:lnTo>
                    <a:pt x="1191" y="326"/>
                  </a:lnTo>
                  <a:lnTo>
                    <a:pt x="1126" y="472"/>
                  </a:lnTo>
                  <a:lnTo>
                    <a:pt x="1018" y="610"/>
                  </a:lnTo>
                  <a:lnTo>
                    <a:pt x="843" y="726"/>
                  </a:lnTo>
                  <a:lnTo>
                    <a:pt x="616" y="824"/>
                  </a:lnTo>
                  <a:lnTo>
                    <a:pt x="607" y="927"/>
                  </a:lnTo>
                  <a:lnTo>
                    <a:pt x="580" y="1190"/>
                  </a:lnTo>
                  <a:lnTo>
                    <a:pt x="544" y="1578"/>
                  </a:lnTo>
                  <a:lnTo>
                    <a:pt x="482" y="2023"/>
                  </a:lnTo>
                  <a:lnTo>
                    <a:pt x="389" y="2495"/>
                  </a:lnTo>
                  <a:lnTo>
                    <a:pt x="290" y="2932"/>
                  </a:lnTo>
                  <a:lnTo>
                    <a:pt x="156" y="3285"/>
                  </a:lnTo>
                  <a:lnTo>
                    <a:pt x="0" y="3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61840" y="7617960"/>
              <a:ext cx="261720" cy="100800"/>
            </a:xfrm>
            <a:custGeom>
              <a:avLst/>
              <a:gdLst/>
              <a:ahLst/>
              <a:rect l="l" t="t" r="r" b="b"/>
              <a:pathLst>
                <a:path w="5040" h="1597">
                  <a:moveTo>
                    <a:pt x="0" y="1035"/>
                  </a:moveTo>
                  <a:lnTo>
                    <a:pt x="18" y="1044"/>
                  </a:lnTo>
                  <a:lnTo>
                    <a:pt x="81" y="1071"/>
                  </a:lnTo>
                  <a:lnTo>
                    <a:pt x="174" y="1107"/>
                  </a:lnTo>
                  <a:lnTo>
                    <a:pt x="299" y="1154"/>
                  </a:lnTo>
                  <a:lnTo>
                    <a:pt x="455" y="1199"/>
                  </a:lnTo>
                  <a:lnTo>
                    <a:pt x="643" y="1253"/>
                  </a:lnTo>
                  <a:lnTo>
                    <a:pt x="852" y="1289"/>
                  </a:lnTo>
                  <a:lnTo>
                    <a:pt x="1090" y="1316"/>
                  </a:lnTo>
                  <a:lnTo>
                    <a:pt x="1335" y="1325"/>
                  </a:lnTo>
                  <a:lnTo>
                    <a:pt x="1607" y="1316"/>
                  </a:lnTo>
                  <a:lnTo>
                    <a:pt x="1897" y="1280"/>
                  </a:lnTo>
                  <a:lnTo>
                    <a:pt x="2197" y="1208"/>
                  </a:lnTo>
                  <a:lnTo>
                    <a:pt x="2505" y="1107"/>
                  </a:lnTo>
                  <a:lnTo>
                    <a:pt x="2822" y="972"/>
                  </a:lnTo>
                  <a:lnTo>
                    <a:pt x="3148" y="781"/>
                  </a:lnTo>
                  <a:lnTo>
                    <a:pt x="3478" y="545"/>
                  </a:lnTo>
                  <a:lnTo>
                    <a:pt x="3514" y="518"/>
                  </a:lnTo>
                  <a:lnTo>
                    <a:pt x="3612" y="437"/>
                  </a:lnTo>
                  <a:lnTo>
                    <a:pt x="3759" y="335"/>
                  </a:lnTo>
                  <a:lnTo>
                    <a:pt x="3951" y="228"/>
                  </a:lnTo>
                  <a:lnTo>
                    <a:pt x="4167" y="138"/>
                  </a:lnTo>
                  <a:lnTo>
                    <a:pt x="4403" y="81"/>
                  </a:lnTo>
                  <a:lnTo>
                    <a:pt x="4648" y="99"/>
                  </a:lnTo>
                  <a:lnTo>
                    <a:pt x="4893" y="192"/>
                  </a:lnTo>
                  <a:lnTo>
                    <a:pt x="4884" y="192"/>
                  </a:lnTo>
                  <a:lnTo>
                    <a:pt x="4866" y="183"/>
                  </a:lnTo>
                  <a:lnTo>
                    <a:pt x="4830" y="183"/>
                  </a:lnTo>
                  <a:lnTo>
                    <a:pt x="4776" y="174"/>
                  </a:lnTo>
                  <a:lnTo>
                    <a:pt x="4722" y="174"/>
                  </a:lnTo>
                  <a:lnTo>
                    <a:pt x="4648" y="183"/>
                  </a:lnTo>
                  <a:lnTo>
                    <a:pt x="4558" y="192"/>
                  </a:lnTo>
                  <a:lnTo>
                    <a:pt x="4468" y="210"/>
                  </a:lnTo>
                  <a:lnTo>
                    <a:pt x="4367" y="246"/>
                  </a:lnTo>
                  <a:lnTo>
                    <a:pt x="4250" y="299"/>
                  </a:lnTo>
                  <a:lnTo>
                    <a:pt x="4131" y="362"/>
                  </a:lnTo>
                  <a:lnTo>
                    <a:pt x="4005" y="446"/>
                  </a:lnTo>
                  <a:lnTo>
                    <a:pt x="3867" y="545"/>
                  </a:lnTo>
                  <a:lnTo>
                    <a:pt x="3732" y="673"/>
                  </a:lnTo>
                  <a:lnTo>
                    <a:pt x="3585" y="826"/>
                  </a:lnTo>
                  <a:lnTo>
                    <a:pt x="3442" y="999"/>
                  </a:lnTo>
                  <a:lnTo>
                    <a:pt x="3433" y="1008"/>
                  </a:lnTo>
                  <a:lnTo>
                    <a:pt x="3394" y="1035"/>
                  </a:lnTo>
                  <a:lnTo>
                    <a:pt x="3340" y="1071"/>
                  </a:lnTo>
                  <a:lnTo>
                    <a:pt x="3268" y="1116"/>
                  </a:lnTo>
                  <a:lnTo>
                    <a:pt x="3166" y="1181"/>
                  </a:lnTo>
                  <a:lnTo>
                    <a:pt x="3040" y="1235"/>
                  </a:lnTo>
                  <a:lnTo>
                    <a:pt x="2885" y="1298"/>
                  </a:lnTo>
                  <a:lnTo>
                    <a:pt x="2714" y="1361"/>
                  </a:lnTo>
                  <a:lnTo>
                    <a:pt x="2514" y="1417"/>
                  </a:lnTo>
                  <a:lnTo>
                    <a:pt x="2287" y="1462"/>
                  </a:lnTo>
                  <a:lnTo>
                    <a:pt x="2026" y="1498"/>
                  </a:lnTo>
                  <a:lnTo>
                    <a:pt x="1744" y="1516"/>
                  </a:lnTo>
                  <a:lnTo>
                    <a:pt x="1436" y="1525"/>
                  </a:lnTo>
                  <a:lnTo>
                    <a:pt x="1090" y="1507"/>
                  </a:lnTo>
                  <a:lnTo>
                    <a:pt x="718" y="1471"/>
                  </a:lnTo>
                  <a:lnTo>
                    <a:pt x="308" y="1408"/>
                  </a:lnTo>
                  <a:lnTo>
                    <a:pt x="326" y="1417"/>
                  </a:lnTo>
                  <a:lnTo>
                    <a:pt x="389" y="1435"/>
                  </a:lnTo>
                  <a:lnTo>
                    <a:pt x="500" y="1462"/>
                  </a:lnTo>
                  <a:lnTo>
                    <a:pt x="634" y="1489"/>
                  </a:lnTo>
                  <a:lnTo>
                    <a:pt x="799" y="1525"/>
                  </a:lnTo>
                  <a:lnTo>
                    <a:pt x="1000" y="1552"/>
                  </a:lnTo>
                  <a:lnTo>
                    <a:pt x="1218" y="1579"/>
                  </a:lnTo>
                  <a:lnTo>
                    <a:pt x="1454" y="1588"/>
                  </a:lnTo>
                  <a:lnTo>
                    <a:pt x="1708" y="1597"/>
                  </a:lnTo>
                  <a:lnTo>
                    <a:pt x="1972" y="1579"/>
                  </a:lnTo>
                  <a:lnTo>
                    <a:pt x="2251" y="1543"/>
                  </a:lnTo>
                  <a:lnTo>
                    <a:pt x="2532" y="1489"/>
                  </a:lnTo>
                  <a:lnTo>
                    <a:pt x="2813" y="1408"/>
                  </a:lnTo>
                  <a:lnTo>
                    <a:pt x="3094" y="1298"/>
                  </a:lnTo>
                  <a:lnTo>
                    <a:pt x="3376" y="1154"/>
                  </a:lnTo>
                  <a:lnTo>
                    <a:pt x="3639" y="972"/>
                  </a:lnTo>
                  <a:lnTo>
                    <a:pt x="3666" y="936"/>
                  </a:lnTo>
                  <a:lnTo>
                    <a:pt x="3750" y="826"/>
                  </a:lnTo>
                  <a:lnTo>
                    <a:pt x="3885" y="691"/>
                  </a:lnTo>
                  <a:lnTo>
                    <a:pt x="4059" y="536"/>
                  </a:lnTo>
                  <a:lnTo>
                    <a:pt x="4268" y="401"/>
                  </a:lnTo>
                  <a:lnTo>
                    <a:pt x="4504" y="291"/>
                  </a:lnTo>
                  <a:lnTo>
                    <a:pt x="4767" y="246"/>
                  </a:lnTo>
                  <a:lnTo>
                    <a:pt x="5040" y="282"/>
                  </a:lnTo>
                  <a:lnTo>
                    <a:pt x="5040" y="273"/>
                  </a:lnTo>
                  <a:lnTo>
                    <a:pt x="5031" y="255"/>
                  </a:lnTo>
                  <a:lnTo>
                    <a:pt x="5013" y="219"/>
                  </a:lnTo>
                  <a:lnTo>
                    <a:pt x="4987" y="183"/>
                  </a:lnTo>
                  <a:lnTo>
                    <a:pt x="4947" y="147"/>
                  </a:lnTo>
                  <a:lnTo>
                    <a:pt x="4893" y="99"/>
                  </a:lnTo>
                  <a:lnTo>
                    <a:pt x="4830" y="63"/>
                  </a:lnTo>
                  <a:lnTo>
                    <a:pt x="4758" y="27"/>
                  </a:lnTo>
                  <a:lnTo>
                    <a:pt x="4666" y="9"/>
                  </a:lnTo>
                  <a:lnTo>
                    <a:pt x="4558" y="0"/>
                  </a:lnTo>
                  <a:lnTo>
                    <a:pt x="4439" y="0"/>
                  </a:lnTo>
                  <a:lnTo>
                    <a:pt x="4295" y="27"/>
                  </a:lnTo>
                  <a:lnTo>
                    <a:pt x="4131" y="72"/>
                  </a:lnTo>
                  <a:lnTo>
                    <a:pt x="3942" y="156"/>
                  </a:lnTo>
                  <a:lnTo>
                    <a:pt x="3732" y="255"/>
                  </a:lnTo>
                  <a:lnTo>
                    <a:pt x="3505" y="392"/>
                  </a:lnTo>
                  <a:lnTo>
                    <a:pt x="3487" y="410"/>
                  </a:lnTo>
                  <a:lnTo>
                    <a:pt x="3451" y="446"/>
                  </a:lnTo>
                  <a:lnTo>
                    <a:pt x="3376" y="509"/>
                  </a:lnTo>
                  <a:lnTo>
                    <a:pt x="3277" y="590"/>
                  </a:lnTo>
                  <a:lnTo>
                    <a:pt x="3148" y="682"/>
                  </a:lnTo>
                  <a:lnTo>
                    <a:pt x="2995" y="772"/>
                  </a:lnTo>
                  <a:lnTo>
                    <a:pt x="2804" y="871"/>
                  </a:lnTo>
                  <a:lnTo>
                    <a:pt x="2595" y="972"/>
                  </a:lnTo>
                  <a:lnTo>
                    <a:pt x="2359" y="1053"/>
                  </a:lnTo>
                  <a:lnTo>
                    <a:pt x="2104" y="1125"/>
                  </a:lnTo>
                  <a:lnTo>
                    <a:pt x="1816" y="1190"/>
                  </a:lnTo>
                  <a:lnTo>
                    <a:pt x="1499" y="1226"/>
                  </a:lnTo>
                  <a:lnTo>
                    <a:pt x="1164" y="1226"/>
                  </a:lnTo>
                  <a:lnTo>
                    <a:pt x="799" y="1199"/>
                  </a:lnTo>
                  <a:lnTo>
                    <a:pt x="410" y="1143"/>
                  </a:lnTo>
                  <a:lnTo>
                    <a:pt x="0" y="10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59880" y="7710480"/>
              <a:ext cx="179640" cy="138960"/>
            </a:xfrm>
            <a:custGeom>
              <a:avLst/>
              <a:gdLst/>
              <a:ahLst/>
              <a:rect l="l" t="t" r="r" b="b"/>
              <a:pathLst>
                <a:path w="3460" h="2209">
                  <a:moveTo>
                    <a:pt x="3460" y="0"/>
                  </a:moveTo>
                  <a:lnTo>
                    <a:pt x="3442" y="9"/>
                  </a:lnTo>
                  <a:lnTo>
                    <a:pt x="3379" y="54"/>
                  </a:lnTo>
                  <a:lnTo>
                    <a:pt x="3289" y="108"/>
                  </a:lnTo>
                  <a:lnTo>
                    <a:pt x="3161" y="180"/>
                  </a:lnTo>
                  <a:lnTo>
                    <a:pt x="3017" y="272"/>
                  </a:lnTo>
                  <a:lnTo>
                    <a:pt x="2844" y="380"/>
                  </a:lnTo>
                  <a:lnTo>
                    <a:pt x="2642" y="500"/>
                  </a:lnTo>
                  <a:lnTo>
                    <a:pt x="2433" y="615"/>
                  </a:lnTo>
                  <a:lnTo>
                    <a:pt x="2206" y="736"/>
                  </a:lnTo>
                  <a:lnTo>
                    <a:pt x="1969" y="861"/>
                  </a:lnTo>
                  <a:lnTo>
                    <a:pt x="1733" y="990"/>
                  </a:lnTo>
                  <a:lnTo>
                    <a:pt x="1499" y="1097"/>
                  </a:lnTo>
                  <a:lnTo>
                    <a:pt x="1254" y="1217"/>
                  </a:lnTo>
                  <a:lnTo>
                    <a:pt x="1018" y="1306"/>
                  </a:lnTo>
                  <a:lnTo>
                    <a:pt x="799" y="1396"/>
                  </a:lnTo>
                  <a:lnTo>
                    <a:pt x="580" y="1461"/>
                  </a:lnTo>
                  <a:lnTo>
                    <a:pt x="553" y="1479"/>
                  </a:lnTo>
                  <a:lnTo>
                    <a:pt x="500" y="1515"/>
                  </a:lnTo>
                  <a:lnTo>
                    <a:pt x="407" y="1578"/>
                  </a:lnTo>
                  <a:lnTo>
                    <a:pt x="308" y="1668"/>
                  </a:lnTo>
                  <a:lnTo>
                    <a:pt x="198" y="1778"/>
                  </a:lnTo>
                  <a:lnTo>
                    <a:pt x="108" y="1904"/>
                  </a:lnTo>
                  <a:lnTo>
                    <a:pt x="36" y="2050"/>
                  </a:lnTo>
                  <a:lnTo>
                    <a:pt x="0" y="2209"/>
                  </a:lnTo>
                  <a:lnTo>
                    <a:pt x="18" y="2182"/>
                  </a:lnTo>
                  <a:lnTo>
                    <a:pt x="54" y="2120"/>
                  </a:lnTo>
                  <a:lnTo>
                    <a:pt x="117" y="2023"/>
                  </a:lnTo>
                  <a:lnTo>
                    <a:pt x="198" y="1904"/>
                  </a:lnTo>
                  <a:lnTo>
                    <a:pt x="299" y="1787"/>
                  </a:lnTo>
                  <a:lnTo>
                    <a:pt x="407" y="1677"/>
                  </a:lnTo>
                  <a:lnTo>
                    <a:pt x="518" y="1596"/>
                  </a:lnTo>
                  <a:lnTo>
                    <a:pt x="634" y="1542"/>
                  </a:lnTo>
                  <a:lnTo>
                    <a:pt x="661" y="1533"/>
                  </a:lnTo>
                  <a:lnTo>
                    <a:pt x="745" y="1497"/>
                  </a:lnTo>
                  <a:lnTo>
                    <a:pt x="870" y="1441"/>
                  </a:lnTo>
                  <a:lnTo>
                    <a:pt x="1027" y="1369"/>
                  </a:lnTo>
                  <a:lnTo>
                    <a:pt x="1224" y="1279"/>
                  </a:lnTo>
                  <a:lnTo>
                    <a:pt x="1443" y="1178"/>
                  </a:lnTo>
                  <a:lnTo>
                    <a:pt x="1679" y="1061"/>
                  </a:lnTo>
                  <a:lnTo>
                    <a:pt x="1924" y="941"/>
                  </a:lnTo>
                  <a:lnTo>
                    <a:pt x="2170" y="817"/>
                  </a:lnTo>
                  <a:lnTo>
                    <a:pt x="2415" y="687"/>
                  </a:lnTo>
                  <a:lnTo>
                    <a:pt x="2651" y="563"/>
                  </a:lnTo>
                  <a:lnTo>
                    <a:pt x="2880" y="433"/>
                  </a:lnTo>
                  <a:lnTo>
                    <a:pt x="3080" y="317"/>
                  </a:lnTo>
                  <a:lnTo>
                    <a:pt x="3242" y="201"/>
                  </a:lnTo>
                  <a:lnTo>
                    <a:pt x="3370" y="90"/>
                  </a:lnTo>
                  <a:lnTo>
                    <a:pt x="34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95880" y="7619040"/>
              <a:ext cx="128880" cy="87120"/>
            </a:xfrm>
            <a:custGeom>
              <a:avLst/>
              <a:gdLst/>
              <a:ahLst/>
              <a:rect l="l" t="t" r="r" b="b"/>
              <a:pathLst>
                <a:path w="2482" h="1379">
                  <a:moveTo>
                    <a:pt x="2482" y="1325"/>
                  </a:moveTo>
                  <a:lnTo>
                    <a:pt x="2464" y="1325"/>
                  </a:lnTo>
                  <a:lnTo>
                    <a:pt x="2428" y="1325"/>
                  </a:lnTo>
                  <a:lnTo>
                    <a:pt x="2365" y="1325"/>
                  </a:lnTo>
                  <a:lnTo>
                    <a:pt x="2271" y="1316"/>
                  </a:lnTo>
                  <a:lnTo>
                    <a:pt x="2165" y="1298"/>
                  </a:lnTo>
                  <a:lnTo>
                    <a:pt x="2035" y="1280"/>
                  </a:lnTo>
                  <a:lnTo>
                    <a:pt x="1892" y="1244"/>
                  </a:lnTo>
                  <a:lnTo>
                    <a:pt x="1718" y="1190"/>
                  </a:lnTo>
                  <a:lnTo>
                    <a:pt x="1545" y="1125"/>
                  </a:lnTo>
                  <a:lnTo>
                    <a:pt x="1347" y="1035"/>
                  </a:lnTo>
                  <a:lnTo>
                    <a:pt x="1146" y="936"/>
                  </a:lnTo>
                  <a:lnTo>
                    <a:pt x="928" y="799"/>
                  </a:lnTo>
                  <a:lnTo>
                    <a:pt x="710" y="646"/>
                  </a:lnTo>
                  <a:lnTo>
                    <a:pt x="474" y="464"/>
                  </a:lnTo>
                  <a:lnTo>
                    <a:pt x="236" y="246"/>
                  </a:lnTo>
                  <a:lnTo>
                    <a:pt x="0" y="0"/>
                  </a:lnTo>
                  <a:lnTo>
                    <a:pt x="18" y="18"/>
                  </a:lnTo>
                  <a:lnTo>
                    <a:pt x="66" y="72"/>
                  </a:lnTo>
                  <a:lnTo>
                    <a:pt x="138" y="156"/>
                  </a:lnTo>
                  <a:lnTo>
                    <a:pt x="236" y="264"/>
                  </a:lnTo>
                  <a:lnTo>
                    <a:pt x="357" y="383"/>
                  </a:lnTo>
                  <a:lnTo>
                    <a:pt x="491" y="518"/>
                  </a:lnTo>
                  <a:lnTo>
                    <a:pt x="656" y="664"/>
                  </a:lnTo>
                  <a:lnTo>
                    <a:pt x="829" y="808"/>
                  </a:lnTo>
                  <a:lnTo>
                    <a:pt x="1018" y="945"/>
                  </a:lnTo>
                  <a:lnTo>
                    <a:pt x="1209" y="1071"/>
                  </a:lnTo>
                  <a:lnTo>
                    <a:pt x="1419" y="1190"/>
                  </a:lnTo>
                  <a:lnTo>
                    <a:pt x="1628" y="1280"/>
                  </a:lnTo>
                  <a:lnTo>
                    <a:pt x="1847" y="1343"/>
                  </a:lnTo>
                  <a:lnTo>
                    <a:pt x="2066" y="1379"/>
                  </a:lnTo>
                  <a:lnTo>
                    <a:pt x="2271" y="1370"/>
                  </a:lnTo>
                  <a:lnTo>
                    <a:pt x="2482" y="1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38320" y="8007480"/>
              <a:ext cx="92880" cy="79920"/>
            </a:xfrm>
            <a:custGeom>
              <a:avLst/>
              <a:gdLst/>
              <a:ahLst/>
              <a:rect l="l" t="t" r="r" b="b"/>
              <a:pathLst>
                <a:path w="1789" h="1271">
                  <a:moveTo>
                    <a:pt x="616" y="0"/>
                  </a:moveTo>
                  <a:lnTo>
                    <a:pt x="634" y="56"/>
                  </a:lnTo>
                  <a:lnTo>
                    <a:pt x="691" y="182"/>
                  </a:lnTo>
                  <a:lnTo>
                    <a:pt x="781" y="364"/>
                  </a:lnTo>
                  <a:lnTo>
                    <a:pt x="909" y="565"/>
                  </a:lnTo>
                  <a:lnTo>
                    <a:pt x="1071" y="753"/>
                  </a:lnTo>
                  <a:lnTo>
                    <a:pt x="1271" y="909"/>
                  </a:lnTo>
                  <a:lnTo>
                    <a:pt x="1507" y="998"/>
                  </a:lnTo>
                  <a:lnTo>
                    <a:pt x="1789" y="980"/>
                  </a:lnTo>
                  <a:lnTo>
                    <a:pt x="1772" y="980"/>
                  </a:lnTo>
                  <a:lnTo>
                    <a:pt x="1727" y="998"/>
                  </a:lnTo>
                  <a:lnTo>
                    <a:pt x="1642" y="1016"/>
                  </a:lnTo>
                  <a:lnTo>
                    <a:pt x="1543" y="1034"/>
                  </a:lnTo>
                  <a:lnTo>
                    <a:pt x="1428" y="1064"/>
                  </a:lnTo>
                  <a:lnTo>
                    <a:pt x="1289" y="1091"/>
                  </a:lnTo>
                  <a:lnTo>
                    <a:pt x="1143" y="1118"/>
                  </a:lnTo>
                  <a:lnTo>
                    <a:pt x="990" y="1145"/>
                  </a:lnTo>
                  <a:lnTo>
                    <a:pt x="835" y="1181"/>
                  </a:lnTo>
                  <a:lnTo>
                    <a:pt x="682" y="1208"/>
                  </a:lnTo>
                  <a:lnTo>
                    <a:pt x="535" y="1226"/>
                  </a:lnTo>
                  <a:lnTo>
                    <a:pt x="388" y="1253"/>
                  </a:lnTo>
                  <a:lnTo>
                    <a:pt x="263" y="1262"/>
                  </a:lnTo>
                  <a:lnTo>
                    <a:pt x="155" y="1271"/>
                  </a:lnTo>
                  <a:lnTo>
                    <a:pt x="62" y="1271"/>
                  </a:lnTo>
                  <a:lnTo>
                    <a:pt x="0" y="126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4" name="" descr=""/>
          <p:cNvPicPr/>
          <p:nvPr/>
        </p:nvPicPr>
        <p:blipFill>
          <a:blip r:embed="rId5"/>
          <a:stretch/>
        </p:blipFill>
        <p:spPr>
          <a:xfrm>
            <a:off x="2176560" y="7405560"/>
            <a:ext cx="1198440" cy="102564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6"/>
          <a:stretch/>
        </p:blipFill>
        <p:spPr>
          <a:xfrm>
            <a:off x="3919680" y="7324560"/>
            <a:ext cx="1087200" cy="970200"/>
          </a:xfrm>
          <a:prstGeom prst="rect">
            <a:avLst/>
          </a:prstGeom>
          <a:ln w="0">
            <a:noFill/>
          </a:ln>
        </p:spPr>
      </p:pic>
      <p:grpSp>
        <p:nvGrpSpPr>
          <p:cNvPr id="1546" name=""/>
          <p:cNvGrpSpPr/>
          <p:nvPr/>
        </p:nvGrpSpPr>
        <p:grpSpPr>
          <a:xfrm>
            <a:off x="434880" y="5780160"/>
            <a:ext cx="1052280" cy="893520"/>
            <a:chOff x="434880" y="5780160"/>
            <a:chExt cx="1052280" cy="893520"/>
          </a:xfrm>
        </p:grpSpPr>
        <p:pic>
          <p:nvPicPr>
            <p:cNvPr id="1547" name="" descr=""/>
            <p:cNvPicPr/>
            <p:nvPr/>
          </p:nvPicPr>
          <p:blipFill>
            <a:blip r:embed="rId7"/>
            <a:stretch/>
          </p:blipFill>
          <p:spPr>
            <a:xfrm>
              <a:off x="434880" y="5780160"/>
              <a:ext cx="582840" cy="59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8"/>
            <a:stretch/>
          </p:blipFill>
          <p:spPr>
            <a:xfrm flipH="1">
              <a:off x="920520" y="5780160"/>
              <a:ext cx="566640" cy="52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9"/>
            <a:stretch/>
          </p:blipFill>
          <p:spPr>
            <a:xfrm>
              <a:off x="677520" y="6073920"/>
              <a:ext cx="582840" cy="5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0" name=""/>
          <p:cNvGrpSpPr/>
          <p:nvPr/>
        </p:nvGrpSpPr>
        <p:grpSpPr>
          <a:xfrm>
            <a:off x="3919680" y="5780160"/>
            <a:ext cx="1197000" cy="945720"/>
            <a:chOff x="3919680" y="5780160"/>
            <a:chExt cx="1197000" cy="945720"/>
          </a:xfrm>
        </p:grpSpPr>
        <p:pic>
          <p:nvPicPr>
            <p:cNvPr id="1551" name="" descr=""/>
            <p:cNvPicPr/>
            <p:nvPr/>
          </p:nvPicPr>
          <p:blipFill>
            <a:blip r:embed="rId10"/>
            <a:stretch/>
          </p:blipFill>
          <p:spPr>
            <a:xfrm>
              <a:off x="4231800" y="5780160"/>
              <a:ext cx="52056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11"/>
            <a:stretch/>
          </p:blipFill>
          <p:spPr>
            <a:xfrm>
              <a:off x="3919680" y="5984640"/>
              <a:ext cx="57240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12"/>
            <a:stretch/>
          </p:blipFill>
          <p:spPr>
            <a:xfrm>
              <a:off x="4544280" y="5984640"/>
              <a:ext cx="572400" cy="74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22:49Z</dcterms:created>
  <dc:creator>sa</dc:creator>
  <dc:description/>
  <dc:language>en-US</dc:language>
  <cp:lastModifiedBy>صعوبات</cp:lastModifiedBy>
  <dcterms:modified xsi:type="dcterms:W3CDTF">2008-10-11T20:35:32Z</dcterms:modified>
  <cp:revision>4</cp:revision>
  <dc:subject/>
  <dc:title>الشريحة 1</dc:title>
</cp:coreProperties>
</file>